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E30-5BB8-4FC8-9443-C8AA6A9C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779-0965-4F51-8E1D-1FBA6750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B06E-F833-4947-8F58-9E51407B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A0D-7C08-420F-84E2-3A5B7468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F2C-6A9A-4204-AA93-18628A69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194-4077-48EE-80D8-3BF8E6B3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5FF-92EC-42CB-B68E-ECBA9CF9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4DD-4312-4EA3-BB57-B9B26096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21D-918B-47DF-AFE4-ABC4E97C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B374-DE19-4BE8-AB2A-07DCC1CB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D140-EB0E-4616-AB28-55FB83A6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4BE-6C76-423E-BF20-8E1C3B85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1D8A-CC23-4AD1-8F21-D83C41D08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52480" y="1619280"/>
            <a:ext cx="7086600" cy="4476600"/>
            <a:chOff x="1752480" y="1619280"/>
            <a:chExt cx="7086600" cy="4476600"/>
          </a:xfrm>
        </p:grpSpPr>
        <p:sp>
          <p:nvSpPr>
            <p:cNvPr id="42" name="未知"/>
            <p:cNvSpPr/>
            <p:nvPr/>
          </p:nvSpPr>
          <p:spPr>
            <a:xfrm>
              <a:off x="1752480" y="205740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172200" y="3581280"/>
              <a:ext cx="2666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0876400">
              <a:off x="4002120" y="50482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933720" y="382896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54240" y="383868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71880" y="385452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64040" y="389880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349520" y="4456080"/>
              <a:ext cx="876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0826600">
              <a:off x="2158920" y="443844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082600" y="3448080"/>
              <a:ext cx="1371240" cy="1441080"/>
              <a:chOff x="2082600" y="3448080"/>
              <a:chExt cx="1371240" cy="1441080"/>
            </a:xfrm>
          </p:grpSpPr>
          <p:sp>
            <p:nvSpPr>
              <p:cNvPr id="52" name=""/>
              <p:cNvSpPr/>
              <p:nvPr/>
            </p:nvSpPr>
            <p:spPr>
              <a:xfrm>
                <a:off x="2082600" y="34480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100600" y="345636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113560" y="34696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185200" y="350640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362320" y="3954240"/>
                <a:ext cx="7754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1981080" y="26830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57400" y="207648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70000" y="208116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81160" y="209232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35160" y="21178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52520" y="2425680"/>
              <a:ext cx="654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47920" y="21528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70320" y="16192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79680" y="16225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86160" y="16286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22520" y="164772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40160" y="1843200"/>
              <a:ext cx="547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89120" y="6310440"/>
            <a:ext cx="80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60360" y="14209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55000" y="40464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箭头素材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9919-CB3A-4B14-8C09-33B6E69016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6T02:34:50Z</dcterms:created>
  <dc:creator>Administrator</dc:creator>
  <dc:description/>
  <dc:language>en-US</dc:language>
  <cp:lastModifiedBy/>
  <dcterms:modified xsi:type="dcterms:W3CDTF">2015-07-10T00:59:0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