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tif" ContentType="image/tif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B2F8-C4BB-4F6D-B377-B6197590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04A0-7773-4312-A1E4-B03CED67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A93F-A978-46FC-A983-8443E507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9C4A-A29C-4B17-BCF9-33A6AF68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876-63E1-4891-9585-1B4A34E6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E44-484D-40CB-A99C-9EF260C5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8B14-2C3D-4FDC-A6D4-3643D1D4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C46B-6074-4D4E-B793-44E17970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E904-C358-46A3-A3EA-7EDCEE5D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47E5-7FF5-4F45-ABF7-418EFA69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DCE4-0819-4560-9AE5-F53EDCA0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5E29-A90E-4577-8606-AF384BB7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D40B-1F50-473E-8D52-50006096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C3C0-6BD1-4AE0-A244-A2BAA542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6017-7091-458F-8C12-0D42AB11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DFDA-7DEA-4DF6-93E7-08082EA4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E34A-831E-4E21-A7E2-E5223280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60CB-A1D3-4B06-97BA-2A047E2B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0FF1-277B-4B12-BD97-A4ADBA33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0F9-635B-4855-8265-D74D5FCE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0E1C-06DD-4EC1-B14F-053C70B7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C1F74B-BDD5-4EEB-B372-44452D9BAE7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8160DD-BE29-4B7F-8CEC-BDAB19ED2CA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04E857-ED01-4787-9871-173E65EAF15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DBA59C-688E-4D11-9047-31BB6BE8367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2F9A40-0B6F-46C7-A36A-5479E4EF00E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54966F-A7EF-42FC-9F81-9CCFB8B61B1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DA388C-1542-4D59-8800-EC243AD8BD6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81EAB9-99D5-4A56-9905-3142B5DFCA0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F4BE5A-92C8-477E-8787-029AD494C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E8D-7390-4383-9EDE-6DE3723A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64B6E7-49D6-40D1-A956-18BB4A8BE7A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3B584D-097D-4071-AF18-4C93B9DE589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358126-5C9F-461F-AB15-D3A98FC05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B64-005D-4603-BC01-64B48D8A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0F4-04B1-4148-9887-07F2AFDE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3F02-E1C6-47B4-8E35-C6CC8ED847E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D5C9-486B-4941-ADB5-E23A009239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395280" y="0"/>
            <a:ext cx="8353440" cy="1241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8280" y="305640"/>
            <a:ext cx="8249760" cy="30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395280" y="5616720"/>
            <a:ext cx="8353440" cy="12412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395280" y="6310440"/>
            <a:ext cx="8137440" cy="1440"/>
            <a:chOff x="395280" y="6310440"/>
            <a:chExt cx="8137440" cy="1440"/>
          </a:xfrm>
        </p:grpSpPr>
        <p:sp>
          <p:nvSpPr>
            <p:cNvPr id="45" name="Line 4"/>
            <p:cNvSpPr/>
            <p:nvPr/>
          </p:nvSpPr>
          <p:spPr>
            <a:xfrm>
              <a:off x="395280" y="6310440"/>
              <a:ext cx="8137440" cy="1440"/>
            </a:xfrm>
            <a:prstGeom prst="line">
              <a:avLst/>
            </a:prstGeom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395280" y="6310440"/>
              <a:ext cx="8137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877080" y="5877000"/>
            <a:ext cx="1440000" cy="830160"/>
            <a:chOff x="6877080" y="5877000"/>
            <a:chExt cx="1440000" cy="830160"/>
          </a:xfrm>
        </p:grpSpPr>
        <p:sp>
          <p:nvSpPr>
            <p:cNvPr id="48" name="AutoShape 6"/>
            <p:cNvSpPr/>
            <p:nvPr/>
          </p:nvSpPr>
          <p:spPr>
            <a:xfrm>
              <a:off x="6877080" y="5877000"/>
              <a:ext cx="1440000" cy="830160"/>
            </a:xfrm>
            <a:prstGeom prst="roundRect">
              <a:avLst>
                <a:gd name="adj" fmla="val 8653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7" descr=""/>
            <p:cNvPicPr/>
            <p:nvPr/>
          </p:nvPicPr>
          <p:blipFill>
            <a:blip r:embed="rId4"/>
            <a:stretch/>
          </p:blipFill>
          <p:spPr>
            <a:xfrm>
              <a:off x="6971400" y="6044040"/>
              <a:ext cx="1204920" cy="5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AutoShape 8"/>
          <p:cNvSpPr/>
          <p:nvPr/>
        </p:nvSpPr>
        <p:spPr>
          <a:xfrm>
            <a:off x="395280" y="6129360"/>
            <a:ext cx="6229440" cy="35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Making PowerPoint work ha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5"/>
          <a:stretch/>
        </p:blipFill>
        <p:spPr>
          <a:xfrm>
            <a:off x="8604360" y="6200640"/>
            <a:ext cx="257040" cy="209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395280" y="0"/>
            <a:ext cx="8353440" cy="1241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8280" y="305640"/>
            <a:ext cx="8249760" cy="30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395280" y="5616720"/>
            <a:ext cx="8353440" cy="124128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395280" y="6310440"/>
            <a:ext cx="8137440" cy="1440"/>
            <a:chOff x="395280" y="6310440"/>
            <a:chExt cx="8137440" cy="1440"/>
          </a:xfrm>
        </p:grpSpPr>
        <p:sp>
          <p:nvSpPr>
            <p:cNvPr id="93" name="Line 4"/>
            <p:cNvSpPr/>
            <p:nvPr/>
          </p:nvSpPr>
          <p:spPr>
            <a:xfrm>
              <a:off x="395280" y="6310440"/>
              <a:ext cx="8137440" cy="1440"/>
            </a:xfrm>
            <a:prstGeom prst="line">
              <a:avLst/>
            </a:prstGeom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395280" y="6310440"/>
              <a:ext cx="8137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877080" y="5877000"/>
            <a:ext cx="1440000" cy="830160"/>
            <a:chOff x="6877080" y="5877000"/>
            <a:chExt cx="1440000" cy="830160"/>
          </a:xfrm>
        </p:grpSpPr>
        <p:sp>
          <p:nvSpPr>
            <p:cNvPr id="96" name="AutoShape 6"/>
            <p:cNvSpPr/>
            <p:nvPr/>
          </p:nvSpPr>
          <p:spPr>
            <a:xfrm>
              <a:off x="6877080" y="5877000"/>
              <a:ext cx="1440000" cy="830160"/>
            </a:xfrm>
            <a:prstGeom prst="roundRect">
              <a:avLst>
                <a:gd name="adj" fmla="val 8653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7" descr=""/>
            <p:cNvPicPr/>
            <p:nvPr/>
          </p:nvPicPr>
          <p:blipFill>
            <a:blip r:embed="rId4"/>
            <a:stretch/>
          </p:blipFill>
          <p:spPr>
            <a:xfrm>
              <a:off x="6971400" y="6044040"/>
              <a:ext cx="1204920" cy="5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AutoShape 8"/>
          <p:cNvSpPr/>
          <p:nvPr/>
        </p:nvSpPr>
        <p:spPr>
          <a:xfrm>
            <a:off x="395280" y="6129360"/>
            <a:ext cx="6229440" cy="35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Making PowerPoint work ha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5"/>
          <a:stretch/>
        </p:blipFill>
        <p:spPr>
          <a:xfrm>
            <a:off x="8604360" y="6200640"/>
            <a:ext cx="257040" cy="209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395280" y="0"/>
            <a:ext cx="8353440" cy="1241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8280" y="305640"/>
            <a:ext cx="8249760" cy="30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3"/>
          <a:stretch/>
        </p:blipFill>
        <p:spPr>
          <a:xfrm>
            <a:off x="395280" y="5616720"/>
            <a:ext cx="8353440" cy="124128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395280" y="6310440"/>
            <a:ext cx="8137440" cy="1440"/>
            <a:chOff x="395280" y="6310440"/>
            <a:chExt cx="8137440" cy="1440"/>
          </a:xfrm>
        </p:grpSpPr>
        <p:sp>
          <p:nvSpPr>
            <p:cNvPr id="141" name="Line 4"/>
            <p:cNvSpPr/>
            <p:nvPr/>
          </p:nvSpPr>
          <p:spPr>
            <a:xfrm>
              <a:off x="395280" y="6310440"/>
              <a:ext cx="8137440" cy="1440"/>
            </a:xfrm>
            <a:prstGeom prst="line">
              <a:avLst/>
            </a:prstGeom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395280" y="6310440"/>
              <a:ext cx="8137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877080" y="5877000"/>
            <a:ext cx="1440000" cy="830160"/>
            <a:chOff x="6877080" y="5877000"/>
            <a:chExt cx="1440000" cy="830160"/>
          </a:xfrm>
        </p:grpSpPr>
        <p:sp>
          <p:nvSpPr>
            <p:cNvPr id="144" name="AutoShape 6"/>
            <p:cNvSpPr/>
            <p:nvPr/>
          </p:nvSpPr>
          <p:spPr>
            <a:xfrm>
              <a:off x="6877080" y="5877000"/>
              <a:ext cx="1440000" cy="830160"/>
            </a:xfrm>
            <a:prstGeom prst="roundRect">
              <a:avLst>
                <a:gd name="adj" fmla="val 8653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7" descr=""/>
            <p:cNvPicPr/>
            <p:nvPr/>
          </p:nvPicPr>
          <p:blipFill>
            <a:blip r:embed="rId4"/>
            <a:stretch/>
          </p:blipFill>
          <p:spPr>
            <a:xfrm>
              <a:off x="6971400" y="6044040"/>
              <a:ext cx="1204920" cy="5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AutoShape 8"/>
          <p:cNvSpPr/>
          <p:nvPr/>
        </p:nvSpPr>
        <p:spPr>
          <a:xfrm>
            <a:off x="395280" y="6129360"/>
            <a:ext cx="6229440" cy="35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Making PowerPoint work ha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5"/>
          <a:stretch/>
        </p:blipFill>
        <p:spPr>
          <a:xfrm>
            <a:off x="8604360" y="6200640"/>
            <a:ext cx="257040" cy="2095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203C-37A2-41C7-A815-92DDF0C59B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533520"/>
            <a:ext cx="9144000" cy="961920"/>
          </a:xfrm>
          <a:prstGeom prst="rect">
            <a:avLst/>
          </a:prstGeom>
          <a:solidFill>
            <a:srgbClr val="c0c0c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8910720" y="533520"/>
            <a:ext cx="233280" cy="961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4200" y="560520"/>
            <a:ext cx="8623440" cy="828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214200" y="1600200"/>
            <a:ext cx="8623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>
              <a:spcBef>
                <a:spcPts val="400"/>
              </a:spcBef>
              <a:spcAft>
                <a:spcPts val="1599"/>
              </a:spcAft>
              <a:buClr>
                <a:srgbClr val="ff9933"/>
              </a:buClr>
              <a:buSzPct val="25000"/>
              <a:buFont typeface="Arial"/>
              <a:buChar char="•"/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9933"/>
              </a:solidFill>
              <a:latin typeface="Arial"/>
            </a:endParaRPr>
          </a:p>
          <a:p>
            <a:pPr lvl="1" marL="272880" indent="-271440">
              <a:spcBef>
                <a:spcPts val="400"/>
              </a:spcBef>
              <a:spcAft>
                <a:spcPts val="1599"/>
              </a:spcAft>
              <a:buClr>
                <a:srgbClr val="808080"/>
              </a:buClr>
              <a:buSzPct val="25000"/>
              <a:buFont typeface="Wingdings" charset="2"/>
              <a:buChar char=""/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9933"/>
              </a:solidFill>
              <a:latin typeface="Arial"/>
            </a:endParaRPr>
          </a:p>
          <a:p>
            <a:pPr lvl="2" marL="531720" indent="-255600">
              <a:spcBef>
                <a:spcPts val="400"/>
              </a:spcBef>
              <a:spcAft>
                <a:spcPts val="1599"/>
              </a:spcAft>
              <a:buClr>
                <a:srgbClr val="808080"/>
              </a:buClr>
              <a:buSzPct val="25000"/>
              <a:buFont typeface="Arial"/>
              <a:buChar char="−"/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9933"/>
              </a:solidFill>
              <a:latin typeface="Arial"/>
            </a:endParaRPr>
          </a:p>
          <a:p>
            <a:pPr lvl="3" marL="819000" indent="-285480">
              <a:spcBef>
                <a:spcPts val="400"/>
              </a:spcBef>
              <a:spcAft>
                <a:spcPts val="1599"/>
              </a:spcAft>
              <a:buClr>
                <a:srgbClr val="808080"/>
              </a:buClr>
              <a:buSzPct val="25000"/>
              <a:buFont typeface="Arial"/>
              <a:buChar char="−"/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9933"/>
              </a:solidFill>
              <a:latin typeface="Arial"/>
            </a:endParaRPr>
          </a:p>
          <a:p>
            <a:pPr lvl="4" marL="1173240" indent="-351000">
              <a:spcBef>
                <a:spcPts val="400"/>
              </a:spcBef>
              <a:spcAft>
                <a:spcPts val="1599"/>
              </a:spcAft>
              <a:buClr>
                <a:srgbClr val="808080"/>
              </a:buClr>
              <a:buSzPct val="25000"/>
              <a:buFont typeface="Arial"/>
              <a:buChar char="−"/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9933"/>
              </a:solidFill>
              <a:latin typeface="Arial"/>
            </a:endParaRPr>
          </a:p>
          <a:p>
            <a:pPr lvl="5" marL="1173240" indent="-351000">
              <a:spcBef>
                <a:spcPts val="400"/>
              </a:spcBef>
              <a:spcAft>
                <a:spcPts val="1599"/>
              </a:spcAft>
              <a:buClr>
                <a:srgbClr val="000000"/>
              </a:buClr>
              <a:buSzPct val="25000"/>
              <a:buFont typeface="Arial"/>
              <a:buChar char="−"/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9933"/>
              </a:solidFill>
              <a:latin typeface="Arial"/>
            </a:endParaRPr>
          </a:p>
          <a:p>
            <a:pPr lvl="6" marL="1173240" indent="-351000">
              <a:spcBef>
                <a:spcPts val="400"/>
              </a:spcBef>
              <a:spcAft>
                <a:spcPts val="1599"/>
              </a:spcAft>
              <a:buClr>
                <a:srgbClr val="000000"/>
              </a:buClr>
              <a:buSzPct val="25000"/>
              <a:buFont typeface="Arial"/>
              <a:buChar char="−"/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7"/>
          </p:nvPr>
        </p:nvSpPr>
        <p:spPr>
          <a:xfrm>
            <a:off x="6703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A01C-BEFE-47A4-863C-6D91388069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8910720" y="533520"/>
            <a:ext cx="233280" cy="961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6672240" y="533520"/>
            <a:ext cx="2471760" cy="961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t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26" descr=""/>
          <p:cNvPicPr/>
          <p:nvPr/>
        </p:nvPicPr>
        <p:blipFill>
          <a:blip r:embed="rId2"/>
          <a:stretch/>
        </p:blipFill>
        <p:spPr>
          <a:xfrm>
            <a:off x="7054920" y="-17640"/>
            <a:ext cx="2104920" cy="1602000"/>
          </a:xfrm>
          <a:prstGeom prst="rect">
            <a:avLst/>
          </a:prstGeom>
          <a:ln w="0">
            <a:noFill/>
          </a:ln>
        </p:spPr>
      </p:pic>
      <p:sp>
        <p:nvSpPr>
          <p:cNvPr id="271" name="矩形 15"/>
          <p:cNvSpPr/>
          <p:nvPr/>
        </p:nvSpPr>
        <p:spPr>
          <a:xfrm>
            <a:off x="-9360" y="-6480"/>
            <a:ext cx="3043080" cy="2284560"/>
          </a:xfrm>
          <a:prstGeom prst="rect">
            <a:avLst/>
          </a:prstGeom>
          <a:solidFill>
            <a:srgbClr val="0070c0">
              <a:alpha val="69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6"/>
          <p:cNvSpPr/>
          <p:nvPr/>
        </p:nvSpPr>
        <p:spPr>
          <a:xfrm>
            <a:off x="3043080" y="-6480"/>
            <a:ext cx="3044880" cy="2284560"/>
          </a:xfrm>
          <a:prstGeom prst="rect">
            <a:avLst/>
          </a:prstGeom>
          <a:solidFill>
            <a:srgbClr val="0070c0">
              <a:alpha val="69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7"/>
          <p:cNvSpPr/>
          <p:nvPr/>
        </p:nvSpPr>
        <p:spPr>
          <a:xfrm>
            <a:off x="6099120" y="-6480"/>
            <a:ext cx="3044880" cy="2284560"/>
          </a:xfrm>
          <a:prstGeom prst="rect">
            <a:avLst/>
          </a:prstGeom>
          <a:solidFill>
            <a:srgbClr val="0070c0">
              <a:alpha val="69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8"/>
          <p:cNvSpPr/>
          <p:nvPr/>
        </p:nvSpPr>
        <p:spPr>
          <a:xfrm>
            <a:off x="-9360" y="2281320"/>
            <a:ext cx="3043080" cy="2286000"/>
          </a:xfrm>
          <a:prstGeom prst="rect">
            <a:avLst/>
          </a:prstGeom>
          <a:solidFill>
            <a:srgbClr val="0070c0">
              <a:alpha val="69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20"/>
          <p:cNvSpPr/>
          <p:nvPr/>
        </p:nvSpPr>
        <p:spPr>
          <a:xfrm>
            <a:off x="6099120" y="2281320"/>
            <a:ext cx="3044880" cy="2286000"/>
          </a:xfrm>
          <a:prstGeom prst="rect">
            <a:avLst/>
          </a:prstGeom>
          <a:solidFill>
            <a:srgbClr val="0070c0">
              <a:alpha val="69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1"/>
          <p:cNvSpPr/>
          <p:nvPr/>
        </p:nvSpPr>
        <p:spPr>
          <a:xfrm>
            <a:off x="-9360" y="4572000"/>
            <a:ext cx="3043080" cy="2286000"/>
          </a:xfrm>
          <a:prstGeom prst="rect">
            <a:avLst/>
          </a:prstGeom>
          <a:solidFill>
            <a:srgbClr val="0070c0">
              <a:alpha val="69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2"/>
          <p:cNvSpPr/>
          <p:nvPr/>
        </p:nvSpPr>
        <p:spPr>
          <a:xfrm>
            <a:off x="3043080" y="4572000"/>
            <a:ext cx="3044880" cy="2286000"/>
          </a:xfrm>
          <a:prstGeom prst="rect">
            <a:avLst/>
          </a:prstGeom>
          <a:solidFill>
            <a:srgbClr val="0070c0">
              <a:alpha val="69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23"/>
          <p:cNvSpPr/>
          <p:nvPr/>
        </p:nvSpPr>
        <p:spPr>
          <a:xfrm>
            <a:off x="6099120" y="4572000"/>
            <a:ext cx="3044880" cy="2286000"/>
          </a:xfrm>
          <a:prstGeom prst="rect">
            <a:avLst/>
          </a:prstGeom>
          <a:solidFill>
            <a:srgbClr val="0070c0">
              <a:alpha val="69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9"/>
          <p:cNvSpPr/>
          <p:nvPr/>
        </p:nvSpPr>
        <p:spPr>
          <a:xfrm>
            <a:off x="3043080" y="2281320"/>
            <a:ext cx="3044880" cy="2286000"/>
          </a:xfrm>
          <a:prstGeom prst="rect">
            <a:avLst/>
          </a:prstGeom>
          <a:solidFill>
            <a:srgbClr val="0070c0">
              <a:alpha val="69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3"/>
          <a:srcRect l="4990" t="733" r="0" b="0"/>
          <a:stretch/>
        </p:blipFill>
        <p:spPr>
          <a:xfrm>
            <a:off x="3094200" y="2227320"/>
            <a:ext cx="2877840" cy="229068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86"/>
          <p:cNvSpPr/>
          <p:nvPr/>
        </p:nvSpPr>
        <p:spPr>
          <a:xfrm rot="13568400">
            <a:off x="3123720" y="-2995200"/>
            <a:ext cx="15949440" cy="262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开场动画素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7"/>
          <p:cNvSpPr/>
          <p:nvPr/>
        </p:nvSpPr>
        <p:spPr>
          <a:xfrm rot="13567200">
            <a:off x="4866480" y="-3981240"/>
            <a:ext cx="13463640" cy="608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5200" y="895320"/>
            <a:ext cx="450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开场动画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3.61215 3.5206 E">
                                      <p:cBhvr>
                                        <p:cTn id="6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222E-006 L -3.78021 3.68426 E">
                                      <p:cBhvr>
                                        <p:cTn id="8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7.40741E-007 L 0.33628 0.33588 E">
                                      <p:cBhvr>
                                        <p:cTn id="11" dur="15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7.40741E-007 L -0.00087 0.33403 E">
                                      <p:cBhvr>
                                        <p:cTn id="13" dur="15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0741E-007 L -0.33507 0.33588 E">
                                      <p:cBhvr>
                                        <p:cTn id="15" dur="15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-0.33507 0.00208 E">
                                      <p:cBhvr>
                                        <p:cTn id="17" dur="15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33333E-006 L -0.33351 -0.33194 E">
                                      <p:cBhvr>
                                        <p:cTn id="19" dur="15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-0.00226 -0.32986 E">
                                      <p:cBhvr>
                                        <p:cTn id="21" dur="15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L 0.33628 -0.33379 E">
                                      <p:cBhvr>
                                        <p:cTn id="23" dur="15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L 0.33472 0.00208 E">
                                      <p:cBhvr>
                                        <p:cTn id="25" dur="1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" dur="1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" dur="1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" dur="1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dur="indefinite" nodeType="after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CC0000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dur="indefinite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33333E-006 L 0.39028 -0.36181 E">
                                      <p:cBhvr>
                                        <p:cTn id="64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1000" fill="hold"/>
                                        <p:tgtEl>
                                          <p:spTgt spid="28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图片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26" descr=""/>
          <p:cNvPicPr/>
          <p:nvPr/>
        </p:nvPicPr>
        <p:blipFill>
          <a:blip r:embed="rId2"/>
          <a:stretch/>
        </p:blipFill>
        <p:spPr>
          <a:xfrm>
            <a:off x="7054920" y="-1440"/>
            <a:ext cx="2104920" cy="1601640"/>
          </a:xfrm>
          <a:prstGeom prst="rect">
            <a:avLst/>
          </a:prstGeom>
          <a:ln w="0">
            <a:noFill/>
          </a:ln>
        </p:spPr>
      </p:pic>
      <p:sp>
        <p:nvSpPr>
          <p:cNvPr id="287" name="矩形 15"/>
          <p:cNvSpPr/>
          <p:nvPr/>
        </p:nvSpPr>
        <p:spPr>
          <a:xfrm>
            <a:off x="-9360" y="-6480"/>
            <a:ext cx="3043080" cy="2284560"/>
          </a:xfrm>
          <a:prstGeom prst="rect">
            <a:avLst/>
          </a:prstGeom>
          <a:solidFill>
            <a:srgbClr val="0070c0">
              <a:alpha val="6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6"/>
          <p:cNvSpPr/>
          <p:nvPr/>
        </p:nvSpPr>
        <p:spPr>
          <a:xfrm>
            <a:off x="3043080" y="-6480"/>
            <a:ext cx="3044880" cy="2284560"/>
          </a:xfrm>
          <a:prstGeom prst="rect">
            <a:avLst/>
          </a:prstGeom>
          <a:solidFill>
            <a:srgbClr val="0070c0">
              <a:alpha val="6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17"/>
          <p:cNvSpPr/>
          <p:nvPr/>
        </p:nvSpPr>
        <p:spPr>
          <a:xfrm>
            <a:off x="6099120" y="-6480"/>
            <a:ext cx="3044880" cy="2284560"/>
          </a:xfrm>
          <a:prstGeom prst="rect">
            <a:avLst/>
          </a:prstGeom>
          <a:solidFill>
            <a:srgbClr val="0070c0">
              <a:alpha val="6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8"/>
          <p:cNvSpPr/>
          <p:nvPr/>
        </p:nvSpPr>
        <p:spPr>
          <a:xfrm>
            <a:off x="-9360" y="2281320"/>
            <a:ext cx="3043080" cy="2286000"/>
          </a:xfrm>
          <a:prstGeom prst="rect">
            <a:avLst/>
          </a:prstGeom>
          <a:solidFill>
            <a:srgbClr val="0070c0">
              <a:alpha val="6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0"/>
          <p:cNvSpPr/>
          <p:nvPr/>
        </p:nvSpPr>
        <p:spPr>
          <a:xfrm>
            <a:off x="6099120" y="2281320"/>
            <a:ext cx="3044880" cy="2286000"/>
          </a:xfrm>
          <a:prstGeom prst="rect">
            <a:avLst/>
          </a:prstGeom>
          <a:solidFill>
            <a:srgbClr val="0070c0">
              <a:alpha val="6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1"/>
          <p:cNvSpPr/>
          <p:nvPr/>
        </p:nvSpPr>
        <p:spPr>
          <a:xfrm>
            <a:off x="-9360" y="4572000"/>
            <a:ext cx="3043080" cy="2286000"/>
          </a:xfrm>
          <a:prstGeom prst="rect">
            <a:avLst/>
          </a:prstGeom>
          <a:solidFill>
            <a:srgbClr val="0070c0">
              <a:alpha val="6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2"/>
          <p:cNvSpPr/>
          <p:nvPr/>
        </p:nvSpPr>
        <p:spPr>
          <a:xfrm>
            <a:off x="3043080" y="4572000"/>
            <a:ext cx="3044880" cy="2286000"/>
          </a:xfrm>
          <a:prstGeom prst="rect">
            <a:avLst/>
          </a:prstGeom>
          <a:solidFill>
            <a:srgbClr val="0070c0">
              <a:alpha val="6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23"/>
          <p:cNvSpPr/>
          <p:nvPr/>
        </p:nvSpPr>
        <p:spPr>
          <a:xfrm>
            <a:off x="6099120" y="4572000"/>
            <a:ext cx="3044880" cy="2286000"/>
          </a:xfrm>
          <a:prstGeom prst="rect">
            <a:avLst/>
          </a:prstGeom>
          <a:solidFill>
            <a:srgbClr val="0070c0">
              <a:alpha val="6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19"/>
          <p:cNvSpPr/>
          <p:nvPr/>
        </p:nvSpPr>
        <p:spPr>
          <a:xfrm>
            <a:off x="3043080" y="2281320"/>
            <a:ext cx="3044880" cy="2286000"/>
          </a:xfrm>
          <a:prstGeom prst="rect">
            <a:avLst/>
          </a:prstGeom>
          <a:solidFill>
            <a:srgbClr val="0070c0">
              <a:alpha val="6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70"/>
          <p:cNvSpPr/>
          <p:nvPr/>
        </p:nvSpPr>
        <p:spPr>
          <a:xfrm>
            <a:off x="0" y="0"/>
            <a:ext cx="9155160" cy="6858000"/>
          </a:xfrm>
          <a:prstGeom prst="rect">
            <a:avLst/>
          </a:prstGeom>
          <a:solidFill>
            <a:srgbClr val="0070c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8"/>
          <p:cNvSpPr/>
          <p:nvPr/>
        </p:nvSpPr>
        <p:spPr>
          <a:xfrm>
            <a:off x="1366920" y="3805200"/>
            <a:ext cx="201600" cy="170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0"/>
          <p:cNvSpPr/>
          <p:nvPr/>
        </p:nvSpPr>
        <p:spPr>
          <a:xfrm>
            <a:off x="2717640" y="3530520"/>
            <a:ext cx="7920" cy="240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2"/>
          <p:cNvSpPr/>
          <p:nvPr/>
        </p:nvSpPr>
        <p:spPr>
          <a:xfrm>
            <a:off x="2143080" y="2685960"/>
            <a:ext cx="587700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隶书"/>
                <a:ea typeface="隶书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74720" y="3952800"/>
            <a:ext cx="1440" cy="1800"/>
            <a:chOff x="774720" y="3952800"/>
            <a:chExt cx="1440" cy="1800"/>
          </a:xfrm>
        </p:grpSpPr>
        <p:sp>
          <p:nvSpPr>
            <p:cNvPr id="301" name="Line 43"/>
            <p:cNvSpPr/>
            <p:nvPr/>
          </p:nvSpPr>
          <p:spPr>
            <a:xfrm>
              <a:off x="774720" y="395280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774720" y="395280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741840" y="1328760"/>
            <a:ext cx="1440" cy="1440"/>
            <a:chOff x="3741840" y="1328760"/>
            <a:chExt cx="1440" cy="1440"/>
          </a:xfrm>
        </p:grpSpPr>
        <p:sp>
          <p:nvSpPr>
            <p:cNvPr id="304" name="Line 45"/>
            <p:cNvSpPr/>
            <p:nvPr/>
          </p:nvSpPr>
          <p:spPr>
            <a:xfrm>
              <a:off x="3741840" y="1328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741840" y="132876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7.40741E-007 L 0.33628 0.33588 E">
                                      <p:cBhvr>
                                        <p:cTn id="79" dur="15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7.40741E-007 L -0.00087 0.33403 E">
                                      <p:cBhvr>
                                        <p:cTn id="81" dur="15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0741E-007 L -0.33507 0.33588 E">
                                      <p:cBhvr>
                                        <p:cTn id="83" dur="15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-0.33507 0.00208 E">
                                      <p:cBhvr>
                                        <p:cTn id="85" dur="15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33333E-006 L -0.33351 -0.33194 E">
                                      <p:cBhvr>
                                        <p:cTn id="87" dur="15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-0.00226 -0.32986 E">
                                      <p:cBhvr>
                                        <p:cTn id="89" dur="1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L 0.33628 -0.33379 E">
                                      <p:cBhvr>
                                        <p:cTn id="91" dur="15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L 0.33472 0.00208 E">
                                      <p:cBhvr>
                                        <p:cTn id="93" dur="15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143A-6D0C-4ADC-BBB1-CA66EC71BF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9T21:11:00Z</dcterms:created>
  <dc:creator>MARTIN LEWIS</dc:creator>
  <dc:description/>
  <dc:language>en-US</dc:language>
  <cp:lastModifiedBy>ppt宝藏 www.pptbz.com提供漂亮ppt模板下载</cp:lastModifiedBy>
  <dcterms:modified xsi:type="dcterms:W3CDTF">2015-07-11T14:49:10Z</dcterms:modified>
  <cp:revision>1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