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2ED-4866-4ED8-A2AB-4614A865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BA9C-8F1B-4724-A4F5-6743BEAE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FEB4-4246-4813-A09F-39B9AB33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F9D9-BE02-45C6-AD56-388A01F7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3F50-8352-4C15-9C32-1F380D0A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3FA1-22B6-4800-94E1-013EAE87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E259-E72A-4B6B-BB9A-4BFFEAE4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FC7E-9AE9-4F19-816E-59F64E78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74A9-EA4D-4325-A29F-ED0406DD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5147-748F-46C3-B707-26CC684B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8852-967D-4940-9098-619AC5AA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0093-6AD6-4735-A162-16EFE31F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66F8-5289-4D74-80EB-E7E8C054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34D5-4587-4057-9C9D-AD7924AE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4EAE-A67C-4F4C-95F6-B54A74AC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ECCE-4366-4F79-8CF1-04541A8A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5065-0A00-4AAA-B9C6-38178F8B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B665-A0FF-47E8-A0EC-183AE741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5992-B023-4490-9BDB-3D910F81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640E-CB8A-4DF1-8F6A-7788E7B6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98B5-1DFD-469C-AE26-E167C305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9BB5-7039-463D-91F6-FDB1089D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F0FF-88BE-49B8-9BFF-FD913D7D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D28-56E2-436A-879D-B91DEBDE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492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FEB4-9C77-4827-B746-F77C9329E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278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D166-E594-4C0B-AED5-F75C743F5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01080" y="6141960"/>
            <a:ext cx="716040" cy="716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4076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0360" y="2565360"/>
            <a:ext cx="161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631044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08:44:41Z</dcterms:created>
  <dc:creator>An</dc:creator>
  <dc:description/>
  <dc:language>en-US</dc:language>
  <cp:lastModifiedBy/>
  <dcterms:modified xsi:type="dcterms:W3CDTF">2015-07-11T14:14:27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