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299-FD26-4945-A2A9-6BB5256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EC3-312A-49F2-A72D-CFA7E819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E10-19FA-451F-A025-6CF756E9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FF0-4A9F-45A4-9138-AAEC34E7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F7A8-7E23-4BBA-B491-360A86EE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330-BF7C-4B51-B190-4C306B3E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C5F9-8D0B-4D08-B292-563A9AD0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A8C9-6D1A-498D-BDFB-134CA832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A20-E7C8-448F-A44F-1207B4F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97E0-6F19-44A2-83E3-05990545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04DE-9A20-4E4E-8F3F-F4CC95C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40C-B9BF-435A-8088-87915DF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38B-7FB3-455A-876C-7BD4D7B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4D0-AA7C-48DA-AFDF-74C17E0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6E2-6C7D-4780-B66D-4B669996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4CDC-43A4-4037-AE54-4CBC6F0F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FB08-2307-41A1-BEE1-8352A14F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51C-3442-4A5E-ABC4-F92C082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D12-274E-46E6-97F5-DF4E1BEF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311-C6AB-455E-ABA2-DF25781D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280-3C66-4330-842C-48132DBF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01A-0C61-4A57-8274-E452C8E6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CA4-C6AA-4DBF-B6B9-57AF7F1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553-1FFD-435D-8C1D-6490D22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F443-E0BC-405C-9403-5F4C0CF2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E4C-4D96-41E5-A215-BD395EC57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27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华康少女文字W5(P)"/>
              </a:rPr>
              <a:t>PPT</a:t>
            </a:r>
            <a:r>
              <a:rPr b="1" lang="zh-CN" sz="6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制作技巧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437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5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——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其它事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亲爱的朋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应学术研究需要，在此对大家展开一份问卷调查，关心的是企业员工与家庭生活间的关系，问卷形式为单项选择，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余个选题，涉及社会、家庭及工作等方面，内容丰富有趣，当然也有更多的是值得我们深思的，我想，在闲暇时间认真做这样一份调查是非常有意义的，不过我也为因此耽误你宝贵的十几分钟感到抱歉！问卷调查见附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谢谢大家捧场</a:t>
            </a:r>
            <a:r>
              <a:rPr b="1" lang="en-US" sz="6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前准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定演讲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明确演讲性质，为主题的选择提供依据，如：工作汇报、教育培训、产品介绍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定演讲规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大致了解观众对象，人数，演讲室规模等，以确定主题风格、字体字号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前准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演讲内容、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提到制作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很多人首先想到的便是寻找模板，其实这种思路是不大科学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建议大家先准备好演讲内容，最好能在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里编辑，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页左右，围绕中心论点展开论述，并做到层次分明，富有逻辑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主题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根据演讲类型确定主色调，另配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辅助颜色，辅助颜色不宜与主色调产生冲突或不协调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色泽鲜艳的颜色不宜大面积使用，仅作为点缀，否则可能产生不良的视觉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合适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用于工作相关的模板应该简约，不宜太花哨，素雅的模板更能使观众接受，整个演讲稿风格应当保持一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宜采用过多的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时常为别人用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做出的一些动作效果感到惊叹，我们也不由地佩服制作者精湛的技术，但是，我们也应仅限于此，过于繁琐的动作和效果并不一定适用在演示文稿中，要做到简约而不简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494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体、字号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保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运行稳定，建议不要使用其他特殊字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字号建议采用如下标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标题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4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点 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标题一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点 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标题二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点 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演示文稿内容最小字号应大于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制作过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排版，图表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图文并茂有着相当强的表现力，如有可能，不妨插入一两个图表，可大大增加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说服力。以下是表现力排行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图表＞表格＞数字＞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其它事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朋友，如果你觉得这个东东对你有点帮助，如果你能够抽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的闲暇时间，请你帮我完成一个调查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0:01:49Z</dcterms:created>
  <dc:creator>smart-boy</dc:creator>
  <dc:description/>
  <dc:language>en-US</dc:language>
  <cp:lastModifiedBy/>
  <dcterms:modified xsi:type="dcterms:W3CDTF">2015-07-09T10:48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