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F995-6351-487B-8362-FA25D3345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B417-F33C-484E-9C42-711CF17D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C28C-2857-429C-B696-382ADC839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11BA-F200-4E32-8479-03A9F4D86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0E054-3AEC-450D-A04F-2A337FC04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5CA9-4D8D-4537-956E-53D3923B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8373-879D-4025-A693-8D6B3832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A72A-8875-493E-B70E-1FB563F7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BC98-DA00-4273-95BE-FAF9F0D7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E4B8-0220-482B-9F3F-8F0079BB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3B6C-3E5D-46C6-92DE-2AD50D56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B5E9-F72C-4362-882A-177EBFAA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8E41-2FE6-4D35-BE2F-85642CAA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CC5A-DD9A-4BEB-85F1-0BA20EBF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8848-BE9E-4386-B3F3-129FA620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8317-AB8D-42CD-93A8-8609D8F26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8569-9D1C-4BD8-9B05-C246A1D5C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9BB6-5E4D-4539-A881-BF717AE9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8137-B547-4420-8FD8-ECE2F6F6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C86D-D782-4DA9-8073-204EA964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DE35-33CE-4F17-98F9-9E50040F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CBAA-2979-42CD-9C25-182AC9CE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729D-D172-449A-8DE2-329A0523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ABDB-1F62-4464-88B9-80EA8E3B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992D-C042-4686-97C0-099A3A9DBDC7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B199-7F47-41BA-9420-81420124B870}" type="slidenum"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animationfactory.com/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8.jpe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3.jpeg"/><Relationship Id="rId9" Type="http://schemas.openxmlformats.org/officeDocument/2006/relationships/image" Target="../media/image4.gif"/><Relationship Id="rId10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4674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Impact"/>
                <a:ea typeface="宋体"/>
              </a:rPr>
              <a:t>忍者</a:t>
            </a:r>
            <a:r>
              <a:rPr b="1" i="1" lang="zh-CN" sz="5400" spc="-1" strike="noStrike">
                <a:solidFill>
                  <a:srgbClr val="ff0000"/>
                </a:solidFill>
                <a:latin typeface="Impact"/>
                <a:ea typeface="宋体"/>
              </a:rPr>
              <a:t>PPT</a:t>
            </a:r>
            <a:r>
              <a:rPr b="1" i="1" lang="zh-CN" sz="5400" spc="-1" strike="noStrike">
                <a:solidFill>
                  <a:srgbClr val="ff0000"/>
                </a:solidFill>
                <a:latin typeface="Impact"/>
                <a:ea typeface="宋体"/>
              </a:rPr>
              <a:t>模板下载</a:t>
            </a: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66520" y="1905120"/>
            <a:ext cx="3886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ahoma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Tahoma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5790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Impact"/>
                <a:ea typeface="宋体"/>
              </a:rPr>
              <a:t>Your Topic Goes Here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1760" y="762120"/>
            <a:ext cx="69339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Impact"/>
                <a:ea typeface="宋体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  <a:ea typeface="宋体"/>
              </a:rPr>
              <a:t>Transitional Pag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927840" y="3754440"/>
            <a:ext cx="2216160" cy="3103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33520" y="60958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3429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Impact"/>
                <a:ea typeface="宋体"/>
              </a:rPr>
              <a:t>Your Topic Goes Here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761760"/>
            <a:ext cx="6248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Impact"/>
                <a:ea typeface="宋体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086600" y="685800"/>
            <a:ext cx="171288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52280" y="944640"/>
            <a:ext cx="243864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These are full sized backdrops, just double click them and size it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14480"/>
            <a:ext cx="2286000" cy="57132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rId3"/>
          </p:cNvPr>
          <p:cNvSpPr/>
          <p:nvPr/>
        </p:nvSpPr>
        <p:spPr>
          <a:xfrm>
            <a:off x="457920" y="700200"/>
            <a:ext cx="150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ww.animationfactory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228600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209680"/>
            <a:ext cx="243828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mag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Most of these .gifs, .jpgs, and .png images can be scaled up to fit your need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67600" y="6397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69240" y="63972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868000" y="63972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198200" y="63972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itional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2514600" y="99072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4114800" y="99072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5715000" y="99072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7620120" y="2590920"/>
            <a:ext cx="1120680" cy="3585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7315200" y="990720"/>
            <a:ext cx="1527120" cy="11458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9"/>
          <a:stretch/>
        </p:blipFill>
        <p:spPr>
          <a:xfrm>
            <a:off x="4915080" y="2819520"/>
            <a:ext cx="2476440" cy="34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3T17:40:15Z</dcterms:created>
  <dc:creator>eclipse</dc:creator>
  <dc:description/>
  <dc:language>en-US</dc:language>
  <cp:lastModifiedBy>微软用户</cp:lastModifiedBy>
  <dcterms:modified xsi:type="dcterms:W3CDTF">2015-07-05T06:16:49Z</dcterms:modified>
  <cp:revision>2</cp:revision>
  <dc:subject/>
  <dc:title>NINJA SILENT ASSASI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