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4FA-2BEA-4677-BCA5-1E2AD7F2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0A6-54EF-468B-BE47-FB36053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438-94C5-45C0-96E2-2A34D529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3D-C3FF-4A8C-87AD-C5574002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2B1-2933-467C-B6E5-C30C1C5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97C-7EDA-45E6-8A8B-F264FD5C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671-958F-4986-BE02-5F03190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B64-F9C2-4DFB-AE74-F60BEF81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735-4B9B-4129-924B-834E2B0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BFE-D6EE-4285-9736-51C44F6C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F6D-FBD5-4F3E-B4E3-ADBB4D90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16E-B2A6-46A6-99F4-0AD3580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254-D761-4901-A513-DD28D18F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ngjingtupian.com/script/pics/index.html?pics=/d/file/taiwan/taizhong/2006-12-20/34c21bd7e62d5766eb0808ed406d5a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engjingtupian.com/script/pics/index.html?pics=/d/file/taiwan/taizhong/2006-12-20/34c21bd7e62d5766eb0808ed406d5a05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孙悟空三打白骨精预览图 点击看大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5689800" cy="590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4520" y="1125360"/>
            <a:ext cx="10969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3286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63360" y="2060640"/>
            <a:ext cx="24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打白骨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清水岩-孙悟空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4B7-B8C4-4113-8D8F-067A09C87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23:58Z</dcterms:created>
  <dc:creator>An</dc:creator>
  <dc:description/>
  <dc:language>en-US</dc:language>
  <cp:lastModifiedBy/>
  <dcterms:modified xsi:type="dcterms:W3CDTF">2015-07-11T08:17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