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451-87D9-4EDD-830E-B1331878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7F9-368C-45EE-9AC0-2E2F6CC7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338-A146-4E17-BFDD-8F6C8E1A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4F4-F74B-4791-A5B1-525B5CF5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5B6-756E-40CA-9F0A-1F227092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0D4-0642-45CA-B56D-E2BC2B9A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FDA-78DA-45ED-B49B-D0E9F4A0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4C0-75BB-4EFE-B811-E6E500A5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59C-0CB3-4C97-AF1A-B23F463D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521-460C-4A9B-A3C1-996EB63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BF6-A383-490A-8649-462834A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736-F687-437E-B08D-14CEC134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9E53-55CB-4DCD-88B0-81E3C71DD12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3635-2777-4611-B09D-50B86F839F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71640" y="4572000"/>
            <a:ext cx="717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829440" y="638172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551808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2800" y="44370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圣诞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2"/>
          <p:cNvGrpSpPr/>
          <p:nvPr/>
        </p:nvGrpSpPr>
        <p:grpSpPr>
          <a:xfrm>
            <a:off x="2322360" y="1339920"/>
            <a:ext cx="4442040" cy="1295280"/>
            <a:chOff x="2322360" y="1339920"/>
            <a:chExt cx="4442040" cy="1295280"/>
          </a:xfrm>
        </p:grpSpPr>
        <p:sp>
          <p:nvSpPr>
            <p:cNvPr id="46" name="矩形 12"/>
            <p:cNvSpPr/>
            <p:nvPr/>
          </p:nvSpPr>
          <p:spPr>
            <a:xfrm>
              <a:off x="5652720" y="207216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图片 1" descr=""/>
            <p:cNvPicPr/>
            <p:nvPr/>
          </p:nvPicPr>
          <p:blipFill>
            <a:blip r:embed="rId2"/>
            <a:stretch/>
          </p:blipFill>
          <p:spPr>
            <a:xfrm>
              <a:off x="2322360" y="1339920"/>
              <a:ext cx="44420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矩形 8"/>
          <p:cNvSpPr/>
          <p:nvPr/>
        </p:nvSpPr>
        <p:spPr>
          <a:xfrm>
            <a:off x="317880" y="63324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83040" y="1914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369600" y="3525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6" descr=""/>
          <p:cNvPicPr/>
          <p:nvPr/>
        </p:nvPicPr>
        <p:blipFill>
          <a:blip r:embed="rId3"/>
          <a:stretch/>
        </p:blipFill>
        <p:spPr>
          <a:xfrm>
            <a:off x="2322360" y="2600280"/>
            <a:ext cx="444024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" descr=""/>
          <p:cNvPicPr/>
          <p:nvPr/>
        </p:nvPicPr>
        <p:blipFill>
          <a:blip r:embed="rId4"/>
          <a:stretch/>
        </p:blipFill>
        <p:spPr>
          <a:xfrm>
            <a:off x="2322360" y="3895560"/>
            <a:ext cx="444024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8" descr=""/>
          <p:cNvPicPr/>
          <p:nvPr/>
        </p:nvPicPr>
        <p:blipFill>
          <a:blip r:embed="rId5"/>
          <a:stretch/>
        </p:blipFill>
        <p:spPr>
          <a:xfrm>
            <a:off x="2322360" y="5184720"/>
            <a:ext cx="444024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3083040" y="32004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083040" y="44877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083040" y="5751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971640" y="457200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32423"/>
                </a:solidFill>
                <a:latin typeface="华康海报体W12(P)"/>
                <a:ea typeface="华康海报体W12(P)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C1C-45D5-4F2C-A4F6-BCF7CD44B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An</dc:creator>
  <dc:description/>
  <dc:language>en-US</dc:language>
  <cp:lastModifiedBy/>
  <dcterms:modified xsi:type="dcterms:W3CDTF">2015-07-11T08:43:54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