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DB9-0BD9-4FF6-ADCF-92E4843B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778-D129-47A4-97FF-88A1F59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C1A-8A7D-4507-A1AA-E6CF6697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0E7-3548-4343-8374-C7099AD5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705-82B6-4742-8FFC-1AEEA9F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9B8-5F1C-4329-8446-8CDA6F0E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6A5-6DD4-43D3-9AD0-C2C1D0B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67C-27F8-4F23-BB0F-8E4BA5AD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5BD-9C37-4272-9AF0-28E5A91E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856-3C67-4856-8B3E-5C3EFCD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834-95FB-44BF-9878-8B5C616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2F3-4017-4FA9-8E36-83D9C83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DAB5-F643-4E46-8E06-88925193DA3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83C-D458-4801-847C-EC065E5FA5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hyperlink" Target="http://www.eeppt.com/tubiao/" TargetMode="External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2560" y="1628640"/>
          <a:ext cx="7921800" cy="158436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4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ternet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Explo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12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ire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12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h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123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2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3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4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5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6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7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8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9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682560" y="3571920"/>
          <a:ext cx="7921800" cy="158760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4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ternet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Explo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12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ire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4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h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123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0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1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2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3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4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5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6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ce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0000"/>
                        <a:buBlip>
                          <a:blip r:embed="rId17"/>
                        </a:buBlip>
                      </a:pPr>
                      <a:r>
                        <a:rPr b="0" lang="en-US" sz="1400" spc="-1" strike="noStrike">
                          <a:solidFill>
                            <a:srgbClr val="938953"/>
                          </a:solidFill>
                          <a:latin typeface="Calibri"/>
                        </a:rPr>
                        <a:t>Lorem ipsum d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 w="1440">
                      <a:solidFill>
                        <a:srgbClr val="fffff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38953"/>
                        </a:buClr>
                        <a:buSzPct val="25000"/>
                        <a:buFont typeface="Arial"/>
                        <a:buChar char="•"/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be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98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66100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8520" y="33336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据表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479-6CC6-4FD0-ADEF-094A5AA7EA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lenovo</cp:lastModifiedBy>
  <dcterms:modified xsi:type="dcterms:W3CDTF">2015-07-07T03:53:06Z</dcterms:modified>
  <cp:revision>1299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