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D907-14ED-42B4-8BEE-C23437D0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DC70-778A-4836-93FC-C1F18F43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7708-DB87-46EC-936D-9F0AA015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632A-A63B-48C5-A4F2-E14B919E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2C41-5551-4A6C-AADF-18673E7D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D85-24D3-4E69-86D5-8DF72BFE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BE4F-9C43-44E8-9803-1DB47899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0AD7-31CA-477A-AFD4-C40BB97D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8810-AFB6-4D59-83B6-EA43A848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8518-0675-4EAA-A5BF-803025C5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AC09-68F6-4559-9EDB-657AEE65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407C-DFE6-4BA7-B2B4-368C166A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4807-897A-4C7E-AC9C-4B9E4C3EC8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E389-F185-4D54-9ECF-84193B9047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iStock_000004435158Small.jpg"/>
          <p:cNvPicPr/>
          <p:nvPr/>
        </p:nvPicPr>
        <p:blipFill>
          <a:blip r:embed="rId1"/>
          <a:srcRect l="0" t="0" r="0" b="2327"/>
          <a:stretch/>
        </p:blipFill>
        <p:spPr>
          <a:xfrm>
            <a:off x="0" y="457200"/>
            <a:ext cx="4378320" cy="6400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3"/>
          <p:cNvSpPr/>
          <p:nvPr/>
        </p:nvSpPr>
        <p:spPr>
          <a:xfrm>
            <a:off x="2438280" y="304920"/>
            <a:ext cx="648036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808080"/>
                </a:solidFill>
                <a:latin typeface="Arial"/>
              </a:rPr>
              <a:t>               </a:t>
            </a:r>
            <a:r>
              <a:rPr b="0" lang="zh-CN" sz="4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27720" y="1192320"/>
            <a:ext cx="3286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5440" y="985680"/>
            <a:ext cx="5184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思考的男士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图片素材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39040" y="191772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6B12-7777-4C3C-AD6B-DED494C2DB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7-11T14:43:4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