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3AC-C2EE-4975-B549-200644BD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C6F-B6A4-40CC-AD8B-3D43CEC6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020-D3F0-4E0E-8FF8-978B575E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9CE-49C0-4924-8B78-4C001575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9433-A221-48AD-885A-49E3149E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2F1F-8167-40AB-B630-77F1302F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5FDD-0453-4C8E-AD57-F608CB04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5E11-9CE8-44A4-9EC5-B3B447E9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1544-19B5-44CB-A76E-B2D38F1A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15E1-9ED4-4F25-9183-3400D873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4848-019F-456D-81B1-7A66881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9D0-2EEC-446D-8A27-7B7E635A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A2B1-F480-4643-9CB2-1EFAAACB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001F-9CDA-4F55-BFB3-F70811B6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6A58-93B3-4CE5-A7D3-E5D04C0A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983C-0FF5-441E-BBA9-82D6D876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4775-06C4-4E94-AAB7-05A6A871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854-FBFA-4657-B151-9E70059B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788-F6CD-487B-8313-63B961C8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CCE-38DE-4DB6-9979-F757AD24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DC2-464A-441A-A22B-4B368F76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A41-63D7-4896-BECF-0C65A63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D6C-540F-4C67-A7D2-4225E788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BA5-286E-42F5-BA55-E650499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7851-976E-4555-A489-0C0BC2D4C3EA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480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CA05-46D6-4539-9198-6F627334A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3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9A06-B051-473A-9C6E-A25C19C1FFAB}" type="datetime">
              <a: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31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59720" y="638316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6F04-5100-4C59-A958-6D5E2BB66A9A}" type="slidenum"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52720" y="4654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27560" y="3286080"/>
            <a:ext cx="25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水墨中国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日期占位符 3"/>
          <p:cNvSpPr/>
          <p:nvPr/>
        </p:nvSpPr>
        <p:spPr>
          <a:xfrm>
            <a:off x="45720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463E-76A5-4913-8C1E-4CFA4DC76F80}" type="datetime">
              <a:rPr b="0" lang="zh-TW" sz="1400" spc="-1" strike="noStrike">
                <a:solidFill>
                  <a:srgbClr val="ffffff"/>
                </a:solidFill>
                <a:latin typeface="Arial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5"/>
          <p:cNvSpPr/>
          <p:nvPr/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8F51-53DB-43C6-8E13-4FE01596C9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591160"/>
            <a:ext cx="768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F51-AD16-46B1-8635-63074449B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9:57:00Z</dcterms:created>
  <dc:creator>Rhea</dc:creator>
  <dc:description>www.nordridesign.cn</dc:description>
  <cp:keywords>Powerbar Nordri</cp:keywords>
  <dc:language>en-US</dc:language>
  <cp:lastModifiedBy>jccook</cp:lastModifiedBy>
  <dcterms:modified xsi:type="dcterms:W3CDTF">2015-07-11T15:22:30Z</dcterms:modified>
  <cp:revision>29</cp:revision>
  <dc:subject/>
  <dc:title>水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