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115AE-9BFD-4EAA-91CE-46BB58BE6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63F7D-1C8A-4B2E-82FD-6B8815BDC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D21D4-0638-4D70-8204-AE04E9EC8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842AC-7E28-4FB7-B7BA-D235373C8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AAC07-4680-462E-B338-58381CC46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2A56C-D0E3-4306-BEDC-C2237E303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228E8-C844-4931-A829-446C5C8A7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21D5A-F84D-4D48-B241-5ACA4CDA7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16BF5-D994-4EE2-BBAA-A939354D6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981F1-693E-48E4-8770-33D27C3A0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CC4AF-6860-445A-A489-94DE5FA9A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2AA5A-6AC7-4B22-9CFD-BF793DFA2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8C884-7BC0-4E8C-96B1-D94DFE3A7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A7F76-D3CF-49A2-8FE0-72420A219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310E6-EE5C-4F32-8CB4-ECF7D4CA0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39076-49AC-4070-A6B8-1B0E4996C0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D27E9-0772-4F58-8007-78E1A4F18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B297C-FAB5-46B6-9A9B-C97FE1271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FA079-3076-4AEA-9F4D-E41767EE2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4C72D-7831-44A8-AEC1-540CDEDED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B4991-3452-4BC5-93BB-304ABCFFC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9F8BB-4458-4FF3-8359-DA93A748A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BE552-0993-475D-99C5-6A6D1B321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E4854-EE89-4BC4-943F-26D706AF9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0" t="5346" r="0" b="0"/>
          <a:stretch/>
        </p:blipFill>
        <p:spPr>
          <a:xfrm>
            <a:off x="0" y="407880"/>
            <a:ext cx="9144000" cy="4327560"/>
          </a:xfrm>
          <a:prstGeom prst="rect">
            <a:avLst/>
          </a:prstGeom>
          <a:ln w="0">
            <a:noFill/>
          </a:ln>
        </p:spPr>
      </p:pic>
      <p:pic>
        <p:nvPicPr>
          <p:cNvPr id="1" name="图片 7" descr=""/>
          <p:cNvPicPr/>
          <p:nvPr/>
        </p:nvPicPr>
        <p:blipFill>
          <a:blip r:embed="rId3"/>
          <a:stretch/>
        </p:blipFill>
        <p:spPr>
          <a:xfrm>
            <a:off x="0" y="0"/>
            <a:ext cx="9144000" cy="725400"/>
          </a:xfrm>
          <a:prstGeom prst="rect">
            <a:avLst/>
          </a:prstGeom>
          <a:ln w="0">
            <a:noFill/>
          </a:ln>
        </p:spPr>
      </p:pic>
      <p:pic>
        <p:nvPicPr>
          <p:cNvPr id="2" name="图片 8" descr=""/>
          <p:cNvPicPr/>
          <p:nvPr/>
        </p:nvPicPr>
        <p:blipFill>
          <a:blip r:embed="rId4"/>
          <a:stretch/>
        </p:blipFill>
        <p:spPr>
          <a:xfrm>
            <a:off x="0" y="4371840"/>
            <a:ext cx="9144000" cy="771840"/>
          </a:xfrm>
          <a:prstGeom prst="rect">
            <a:avLst/>
          </a:prstGeom>
          <a:ln w="0">
            <a:noFill/>
          </a:ln>
        </p:spPr>
      </p:pic>
      <p:grpSp>
        <p:nvGrpSpPr>
          <p:cNvPr id="3" name="Group 5"/>
          <p:cNvGrpSpPr/>
          <p:nvPr/>
        </p:nvGrpSpPr>
        <p:grpSpPr>
          <a:xfrm>
            <a:off x="0" y="725400"/>
            <a:ext cx="9144000" cy="49320"/>
            <a:chOff x="0" y="725400"/>
            <a:chExt cx="9144000" cy="49320"/>
          </a:xfrm>
        </p:grpSpPr>
        <p:pic>
          <p:nvPicPr>
            <p:cNvPr id="4" name="矩形 9" descr=""/>
            <p:cNvPicPr/>
            <p:nvPr/>
          </p:nvPicPr>
          <p:blipFill>
            <a:blip r:embed="rId5"/>
            <a:stretch/>
          </p:blipFill>
          <p:spPr>
            <a:xfrm>
              <a:off x="0" y="725400"/>
              <a:ext cx="9144000" cy="49320"/>
            </a:xfrm>
            <a:prstGeom prst="rect">
              <a:avLst/>
            </a:prstGeom>
            <a:ln w="0">
              <a:noFill/>
            </a:ln>
          </p:spPr>
        </p:pic>
        <p:sp>
          <p:nvSpPr>
            <p:cNvPr id="5" name="Text Box 7"/>
            <p:cNvSpPr/>
            <p:nvPr/>
          </p:nvSpPr>
          <p:spPr>
            <a:xfrm>
              <a:off x="0" y="72540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 name="Group 8"/>
          <p:cNvGrpSpPr/>
          <p:nvPr/>
        </p:nvGrpSpPr>
        <p:grpSpPr>
          <a:xfrm>
            <a:off x="0" y="4327560"/>
            <a:ext cx="9144000" cy="42840"/>
            <a:chOff x="0" y="4327560"/>
            <a:chExt cx="9144000" cy="42840"/>
          </a:xfrm>
        </p:grpSpPr>
        <p:pic>
          <p:nvPicPr>
            <p:cNvPr id="7" name="矩形 10" descr=""/>
            <p:cNvPicPr/>
            <p:nvPr/>
          </p:nvPicPr>
          <p:blipFill>
            <a:blip r:embed="rId6"/>
            <a:stretch/>
          </p:blipFill>
          <p:spPr>
            <a:xfrm>
              <a:off x="0" y="4328640"/>
              <a:ext cx="9144000" cy="39960"/>
            </a:xfrm>
            <a:prstGeom prst="rect">
              <a:avLst/>
            </a:prstGeom>
            <a:ln w="0">
              <a:noFill/>
            </a:ln>
          </p:spPr>
        </p:pic>
        <p:sp>
          <p:nvSpPr>
            <p:cNvPr id="8" name="Text Box 10"/>
            <p:cNvSpPr/>
            <p:nvPr/>
          </p:nvSpPr>
          <p:spPr>
            <a:xfrm>
              <a:off x="0" y="4327560"/>
              <a:ext cx="9144000" cy="42840"/>
            </a:xfrm>
            <a:prstGeom prst="rect">
              <a:avLst/>
            </a:prstGeom>
            <a:no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9" name="图片 11" descr=""/>
          <p:cNvPicPr/>
          <p:nvPr/>
        </p:nvPicPr>
        <p:blipFill>
          <a:blip r:embed="rId7"/>
          <a:stretch/>
        </p:blipFill>
        <p:spPr>
          <a:xfrm>
            <a:off x="0" y="1276200"/>
            <a:ext cx="3121200" cy="3867480"/>
          </a:xfrm>
          <a:prstGeom prst="rect">
            <a:avLst/>
          </a:prstGeom>
          <a:ln w="0">
            <a:noFill/>
          </a:ln>
        </p:spPr>
      </p:pic>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微软雅黑"/>
              </a:rPr>
              <a:t>&lt;date/time&gt;</a:t>
            </a:r>
            <a:endParaRPr b="0" lang="en-US" sz="1200" spc="-1" strike="noStrike">
              <a:solidFill>
                <a:srgbClr val="000000"/>
              </a:solidFill>
              <a:latin typeface="Calibri"/>
            </a:endParaRPr>
          </a:p>
        </p:txBody>
      </p:sp>
      <p:sp>
        <p:nvSpPr>
          <p:cNvPr id="1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83A9-BEA7-45F6-B73C-CBA00BF6CB3C}" type="slidenum">
              <a:rPr b="0" lang="zh-CN"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图片 6" descr=""/>
          <p:cNvPicPr/>
          <p:nvPr/>
        </p:nvPicPr>
        <p:blipFill>
          <a:blip r:embed="rId2"/>
          <a:srcRect l="0" t="5346" r="0" b="0"/>
          <a:stretch/>
        </p:blipFill>
        <p:spPr>
          <a:xfrm>
            <a:off x="0" y="0"/>
            <a:ext cx="9144000" cy="5143680"/>
          </a:xfrm>
          <a:prstGeom prst="rect">
            <a:avLst/>
          </a:prstGeom>
          <a:ln w="0">
            <a:noFill/>
          </a:ln>
        </p:spPr>
      </p:pic>
      <p:sp>
        <p:nvSpPr>
          <p:cNvPr id="52" name="矩形 7"/>
          <p:cNvSpPr/>
          <p:nvPr/>
        </p:nvSpPr>
        <p:spPr>
          <a:xfrm>
            <a:off x="74520" y="123840"/>
            <a:ext cx="9001080" cy="4968720"/>
          </a:xfrm>
          <a:prstGeom prst="rect">
            <a:avLst/>
          </a:prstGeom>
          <a:solidFill>
            <a:srgbClr val="f6f4f0">
              <a:alpha val="75000"/>
            </a:srgbClr>
          </a:solidFill>
          <a:ln w="0">
            <a:noFill/>
          </a:ln>
          <a:effectLst>
            <a:outerShdw dist="153753" dir="2700000" blurRad="0" rotWithShape="0">
              <a:srgbClr val="000000">
                <a:alpha val="3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4"/>
          <p:cNvGrpSpPr/>
          <p:nvPr/>
        </p:nvGrpSpPr>
        <p:grpSpPr>
          <a:xfrm>
            <a:off x="-60480" y="743040"/>
            <a:ext cx="9271080" cy="177840"/>
            <a:chOff x="-60480" y="743040"/>
            <a:chExt cx="9271080" cy="177840"/>
          </a:xfrm>
        </p:grpSpPr>
        <p:pic>
          <p:nvPicPr>
            <p:cNvPr id="54" name="矩形 8" descr=""/>
            <p:cNvPicPr/>
            <p:nvPr/>
          </p:nvPicPr>
          <p:blipFill>
            <a:blip r:embed="rId3"/>
            <a:stretch/>
          </p:blipFill>
          <p:spPr>
            <a:xfrm>
              <a:off x="-60480" y="743040"/>
              <a:ext cx="9271080" cy="177840"/>
            </a:xfrm>
            <a:prstGeom prst="rect">
              <a:avLst/>
            </a:prstGeom>
            <a:ln w="0">
              <a:noFill/>
            </a:ln>
          </p:spPr>
        </p:pic>
        <p:sp>
          <p:nvSpPr>
            <p:cNvPr id="55" name="Text Box 6"/>
            <p:cNvSpPr/>
            <p:nvPr/>
          </p:nvSpPr>
          <p:spPr>
            <a:xfrm>
              <a:off x="5760" y="771480"/>
              <a:ext cx="913788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6" name="图片 9" descr=""/>
          <p:cNvPicPr/>
          <p:nvPr/>
        </p:nvPicPr>
        <p:blipFill>
          <a:blip r:embed="rId4"/>
          <a:stretch/>
        </p:blipFill>
        <p:spPr>
          <a:xfrm>
            <a:off x="74520" y="0"/>
            <a:ext cx="9001080" cy="771480"/>
          </a:xfrm>
          <a:prstGeom prst="rect">
            <a:avLst/>
          </a:prstGeom>
          <a:ln w="0">
            <a:noFill/>
          </a:ln>
        </p:spPr>
      </p:pic>
      <p:sp>
        <p:nvSpPr>
          <p:cNvPr id="57" name="矩形 10"/>
          <p:cNvSpPr/>
          <p:nvPr/>
        </p:nvSpPr>
        <p:spPr>
          <a:xfrm>
            <a:off x="9004320" y="4595760"/>
            <a:ext cx="144360" cy="576360"/>
          </a:xfrm>
          <a:prstGeom prst="rect">
            <a:avLst/>
          </a:prstGeom>
          <a:solidFill>
            <a:srgbClr val="c3c3c1">
              <a:alpha val="4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图片 11" descr=""/>
          <p:cNvPicPr/>
          <p:nvPr/>
        </p:nvPicPr>
        <p:blipFill>
          <a:blip r:embed="rId5"/>
          <a:stretch/>
        </p:blipFill>
        <p:spPr>
          <a:xfrm>
            <a:off x="0" y="4948200"/>
            <a:ext cx="9144000" cy="195480"/>
          </a:xfrm>
          <a:prstGeom prst="rect">
            <a:avLst/>
          </a:prstGeom>
          <a:ln w="0">
            <a:noFill/>
          </a:ln>
        </p:spPr>
      </p:pic>
      <p:pic>
        <p:nvPicPr>
          <p:cNvPr id="59" name="图片 12" descr=""/>
          <p:cNvPicPr/>
          <p:nvPr/>
        </p:nvPicPr>
        <p:blipFill>
          <a:blip r:embed="rId6"/>
          <a:stretch/>
        </p:blipFill>
        <p:spPr>
          <a:xfrm>
            <a:off x="0" y="4227480"/>
            <a:ext cx="762120" cy="946080"/>
          </a:xfrm>
          <a:prstGeom prst="rect">
            <a:avLst/>
          </a:prstGeom>
          <a:ln w="0">
            <a:noFill/>
          </a:ln>
        </p:spPr>
      </p:pic>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微软雅黑"/>
              </a:rPr>
              <a:t>&lt;date/time&gt;</a:t>
            </a:r>
            <a:endParaRPr b="0" lang="en-US" sz="1200" spc="-1" strike="noStrike">
              <a:solidFill>
                <a:srgbClr val="000000"/>
              </a:solidFill>
              <a:latin typeface="Calibri"/>
            </a:endParaRPr>
          </a:p>
        </p:txBody>
      </p:sp>
      <p:sp>
        <p:nvSpPr>
          <p:cNvPr id="63"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8246-CF28-4847-97AD-87EC71DF5F02}" type="slidenum">
              <a:rPr b="0" lang="zh-CN"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131640" y="2787480"/>
            <a:ext cx="4024440" cy="449280"/>
          </a:xfrm>
          <a:prstGeom prst="rect">
            <a:avLst/>
          </a:prstGeom>
          <a:noFill/>
          <a:ln w="0">
            <a:noFill/>
          </a:ln>
        </p:spPr>
        <p:txBody>
          <a:bodyPr lIns="90000" rIns="90000" tIns="46800" bIns="46800" anchor="t">
            <a:noAutofit/>
          </a:bodyPr>
          <a:p>
            <a:pPr marL="285840" indent="-285840" algn="ctr">
              <a:lnSpc>
                <a:spcPct val="100000"/>
              </a:lnSpc>
              <a:spcBef>
                <a:spcPts val="400"/>
              </a:spcBef>
              <a:buClr>
                <a:srgbClr val="4565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56573"/>
                </a:solidFill>
                <a:latin typeface="微软雅黑"/>
              </a:rPr>
              <a:t>适用于城市商务演示</a:t>
            </a:r>
            <a:endParaRPr b="0" lang="en-US" sz="1600" spc="-1" strike="noStrike">
              <a:solidFill>
                <a:srgbClr val="000000"/>
              </a:solidFill>
              <a:latin typeface="Calibri"/>
            </a:endParaRPr>
          </a:p>
        </p:txBody>
      </p:sp>
      <p:sp>
        <p:nvSpPr>
          <p:cNvPr id="102" name=""/>
          <p:cNvSpPr/>
          <p:nvPr/>
        </p:nvSpPr>
        <p:spPr>
          <a:xfrm>
            <a:off x="1908000" y="2068560"/>
            <a:ext cx="460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Calibri"/>
              </a:rPr>
              <a:t>幻灯片之家 </a:t>
            </a:r>
            <a:r>
              <a:rPr b="1" lang="zh-CN" sz="2000" spc="-1" strike="noStrike">
                <a:solidFill>
                  <a:srgbClr val="1c1c1c"/>
                </a:solidFill>
                <a:latin typeface="Calibri"/>
              </a:rPr>
              <a:t>http://www.eeppt.com</a:t>
            </a:r>
            <a:endParaRPr b="0" lang="en-US" sz="2000" spc="-1" strike="noStrike">
              <a:solidFill>
                <a:srgbClr val="000000"/>
              </a:solidFill>
              <a:latin typeface="Calibri"/>
            </a:endParaRPr>
          </a:p>
        </p:txBody>
      </p:sp>
      <p:sp>
        <p:nvSpPr>
          <p:cNvPr id="103" name=""/>
          <p:cNvSpPr/>
          <p:nvPr/>
        </p:nvSpPr>
        <p:spPr>
          <a:xfrm>
            <a:off x="2658960" y="1131840"/>
            <a:ext cx="4243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商务暗蓝</a:t>
            </a:r>
            <a:r>
              <a:rPr b="0" lang="en-US" sz="4000" spc="-1" strike="noStrike">
                <a:solidFill>
                  <a:srgbClr val="000000"/>
                </a:solidFill>
                <a:latin typeface="Calibri"/>
              </a:rPr>
              <a:t>PPT</a:t>
            </a:r>
            <a:r>
              <a:rPr b="0" lang="zh-CN" sz="4000" spc="-1" strike="noStrike">
                <a:solidFill>
                  <a:srgbClr val="000000"/>
                </a:solidFill>
                <a:latin typeface="Calibri"/>
              </a:rPr>
              <a:t>模板免费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目 录</a:t>
            </a:r>
            <a:endParaRPr b="0" lang="en-US" sz="2800" spc="-1" strike="noStrike">
              <a:solidFill>
                <a:srgbClr val="000000"/>
              </a:solidFill>
              <a:latin typeface="Calibri"/>
            </a:endParaRPr>
          </a:p>
        </p:txBody>
      </p:sp>
      <p:grpSp>
        <p:nvGrpSpPr>
          <p:cNvPr id="105" name="Group 3"/>
          <p:cNvGrpSpPr/>
          <p:nvPr/>
        </p:nvGrpSpPr>
        <p:grpSpPr>
          <a:xfrm>
            <a:off x="2700360" y="1492200"/>
            <a:ext cx="3816360" cy="574560"/>
            <a:chOff x="2700360" y="1492200"/>
            <a:chExt cx="3816360" cy="574560"/>
          </a:xfrm>
        </p:grpSpPr>
        <p:sp>
          <p:nvSpPr>
            <p:cNvPr id="106" name="矩形 2"/>
            <p:cNvSpPr/>
            <p:nvPr/>
          </p:nvSpPr>
          <p:spPr>
            <a:xfrm>
              <a:off x="2700360" y="1635840"/>
              <a:ext cx="3816360" cy="43092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7" name="图片 4" descr=""/>
            <p:cNvPicPr/>
            <p:nvPr/>
          </p:nvPicPr>
          <p:blipFill>
            <a:blip r:embed="rId1"/>
            <a:srcRect l="91350" t="0" r="0" b="0"/>
            <a:stretch/>
          </p:blipFill>
          <p:spPr>
            <a:xfrm>
              <a:off x="2916360" y="1492200"/>
              <a:ext cx="436320" cy="430920"/>
            </a:xfrm>
            <a:prstGeom prst="rect">
              <a:avLst/>
            </a:prstGeom>
            <a:ln w="9360">
              <a:solidFill>
                <a:srgbClr val="456573"/>
              </a:solidFill>
              <a:miter/>
            </a:ln>
          </p:spPr>
        </p:pic>
        <p:sp>
          <p:nvSpPr>
            <p:cNvPr id="108" name="TextBox 5"/>
            <p:cNvSpPr/>
            <p:nvPr/>
          </p:nvSpPr>
          <p:spPr>
            <a:xfrm>
              <a:off x="2916360" y="154476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1</a:t>
              </a:r>
              <a:endParaRPr b="0" lang="en-US" sz="2800" spc="-1" strike="noStrike">
                <a:solidFill>
                  <a:srgbClr val="000000"/>
                </a:solidFill>
                <a:latin typeface="Calibri"/>
              </a:endParaRPr>
            </a:p>
          </p:txBody>
        </p:sp>
        <p:sp>
          <p:nvSpPr>
            <p:cNvPr id="109" name="TextBox 6"/>
            <p:cNvSpPr/>
            <p:nvPr/>
          </p:nvSpPr>
          <p:spPr>
            <a:xfrm>
              <a:off x="3695040" y="168228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46c0a"/>
                  </a:solidFill>
                  <a:latin typeface="Calibri"/>
                  <a:ea typeface="微软雅黑"/>
                </a:rPr>
                <a:t>单击此处添加标题</a:t>
              </a:r>
              <a:endParaRPr b="0" lang="en-US" sz="1600" spc="-1" strike="noStrike">
                <a:solidFill>
                  <a:srgbClr val="000000"/>
                </a:solidFill>
                <a:latin typeface="Calibri"/>
              </a:endParaRPr>
            </a:p>
          </p:txBody>
        </p:sp>
      </p:grpSp>
      <p:grpSp>
        <p:nvGrpSpPr>
          <p:cNvPr id="110" name="Group 8"/>
          <p:cNvGrpSpPr/>
          <p:nvPr/>
        </p:nvGrpSpPr>
        <p:grpSpPr>
          <a:xfrm>
            <a:off x="2700360" y="2076480"/>
            <a:ext cx="3816360" cy="576360"/>
            <a:chOff x="2700360" y="2076480"/>
            <a:chExt cx="3816360" cy="576360"/>
          </a:xfrm>
        </p:grpSpPr>
        <p:sp>
          <p:nvSpPr>
            <p:cNvPr id="111" name="矩形 9"/>
            <p:cNvSpPr/>
            <p:nvPr/>
          </p:nvSpPr>
          <p:spPr>
            <a:xfrm>
              <a:off x="2700360" y="2220480"/>
              <a:ext cx="3816360" cy="43236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图片 10" descr=""/>
            <p:cNvPicPr/>
            <p:nvPr/>
          </p:nvPicPr>
          <p:blipFill>
            <a:blip r:embed="rId2"/>
            <a:srcRect l="91350" t="0" r="0" b="0"/>
            <a:stretch/>
          </p:blipFill>
          <p:spPr>
            <a:xfrm>
              <a:off x="2916360" y="2076480"/>
              <a:ext cx="436320" cy="432360"/>
            </a:xfrm>
            <a:prstGeom prst="rect">
              <a:avLst/>
            </a:prstGeom>
            <a:ln w="9360">
              <a:solidFill>
                <a:srgbClr val="456573"/>
              </a:solidFill>
              <a:miter/>
            </a:ln>
          </p:spPr>
        </p:pic>
        <p:sp>
          <p:nvSpPr>
            <p:cNvPr id="113" name="TextBox 11"/>
            <p:cNvSpPr/>
            <p:nvPr/>
          </p:nvSpPr>
          <p:spPr>
            <a:xfrm>
              <a:off x="2916360" y="212904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2</a:t>
              </a:r>
              <a:endParaRPr b="0" lang="en-US" sz="2800" spc="-1" strike="noStrike">
                <a:solidFill>
                  <a:srgbClr val="000000"/>
                </a:solidFill>
                <a:latin typeface="Calibri"/>
              </a:endParaRPr>
            </a:p>
          </p:txBody>
        </p:sp>
        <p:sp>
          <p:nvSpPr>
            <p:cNvPr id="114" name="TextBox 12"/>
            <p:cNvSpPr/>
            <p:nvPr/>
          </p:nvSpPr>
          <p:spPr>
            <a:xfrm>
              <a:off x="3695040" y="226728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Calibri"/>
              </a:endParaRPr>
            </a:p>
          </p:txBody>
        </p:sp>
      </p:grpSp>
      <p:grpSp>
        <p:nvGrpSpPr>
          <p:cNvPr id="115" name="Group 13"/>
          <p:cNvGrpSpPr/>
          <p:nvPr/>
        </p:nvGrpSpPr>
        <p:grpSpPr>
          <a:xfrm>
            <a:off x="2700360" y="2652840"/>
            <a:ext cx="3816360" cy="576000"/>
            <a:chOff x="2700360" y="2652840"/>
            <a:chExt cx="3816360" cy="576000"/>
          </a:xfrm>
        </p:grpSpPr>
        <p:sp>
          <p:nvSpPr>
            <p:cNvPr id="116" name="矩形 14"/>
            <p:cNvSpPr/>
            <p:nvPr/>
          </p:nvSpPr>
          <p:spPr>
            <a:xfrm>
              <a:off x="2700360" y="2796840"/>
              <a:ext cx="3816360" cy="43200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7" name="图片 15" descr=""/>
            <p:cNvPicPr/>
            <p:nvPr/>
          </p:nvPicPr>
          <p:blipFill>
            <a:blip r:embed="rId3"/>
            <a:srcRect l="91350" t="0" r="0" b="0"/>
            <a:stretch/>
          </p:blipFill>
          <p:spPr>
            <a:xfrm>
              <a:off x="2916360" y="2652840"/>
              <a:ext cx="436320" cy="432000"/>
            </a:xfrm>
            <a:prstGeom prst="rect">
              <a:avLst/>
            </a:prstGeom>
            <a:ln w="9360">
              <a:solidFill>
                <a:srgbClr val="456573"/>
              </a:solidFill>
              <a:miter/>
            </a:ln>
          </p:spPr>
        </p:pic>
        <p:sp>
          <p:nvSpPr>
            <p:cNvPr id="118" name="TextBox 16"/>
            <p:cNvSpPr/>
            <p:nvPr/>
          </p:nvSpPr>
          <p:spPr>
            <a:xfrm>
              <a:off x="2916360" y="270540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3</a:t>
              </a:r>
              <a:endParaRPr b="0" lang="en-US" sz="2800" spc="-1" strike="noStrike">
                <a:solidFill>
                  <a:srgbClr val="000000"/>
                </a:solidFill>
                <a:latin typeface="Calibri"/>
              </a:endParaRPr>
            </a:p>
          </p:txBody>
        </p:sp>
        <p:sp>
          <p:nvSpPr>
            <p:cNvPr id="119" name="TextBox 17"/>
            <p:cNvSpPr/>
            <p:nvPr/>
          </p:nvSpPr>
          <p:spPr>
            <a:xfrm>
              <a:off x="3695040" y="284364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Calibri"/>
              </a:endParaRPr>
            </a:p>
          </p:txBody>
        </p:sp>
      </p:grpSp>
      <p:grpSp>
        <p:nvGrpSpPr>
          <p:cNvPr id="120" name="Group 18"/>
          <p:cNvGrpSpPr/>
          <p:nvPr/>
        </p:nvGrpSpPr>
        <p:grpSpPr>
          <a:xfrm>
            <a:off x="2700360" y="3233880"/>
            <a:ext cx="3816360" cy="576000"/>
            <a:chOff x="2700360" y="3233880"/>
            <a:chExt cx="3816360" cy="576000"/>
          </a:xfrm>
        </p:grpSpPr>
        <p:sp>
          <p:nvSpPr>
            <p:cNvPr id="121" name="矩形 19"/>
            <p:cNvSpPr/>
            <p:nvPr/>
          </p:nvSpPr>
          <p:spPr>
            <a:xfrm>
              <a:off x="2700360" y="3377880"/>
              <a:ext cx="3816360" cy="43200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2" name="图片 20" descr=""/>
            <p:cNvPicPr/>
            <p:nvPr/>
          </p:nvPicPr>
          <p:blipFill>
            <a:blip r:embed="rId4"/>
            <a:srcRect l="91350" t="0" r="0" b="0"/>
            <a:stretch/>
          </p:blipFill>
          <p:spPr>
            <a:xfrm>
              <a:off x="2916360" y="3233880"/>
              <a:ext cx="436320" cy="432000"/>
            </a:xfrm>
            <a:prstGeom prst="rect">
              <a:avLst/>
            </a:prstGeom>
            <a:ln w="9360">
              <a:solidFill>
                <a:srgbClr val="456573"/>
              </a:solidFill>
              <a:miter/>
            </a:ln>
          </p:spPr>
        </p:pic>
        <p:sp>
          <p:nvSpPr>
            <p:cNvPr id="123" name="TextBox 21"/>
            <p:cNvSpPr/>
            <p:nvPr/>
          </p:nvSpPr>
          <p:spPr>
            <a:xfrm>
              <a:off x="2916360" y="328644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4</a:t>
              </a:r>
              <a:endParaRPr b="0" lang="en-US" sz="2800" spc="-1" strike="noStrike">
                <a:solidFill>
                  <a:srgbClr val="000000"/>
                </a:solidFill>
                <a:latin typeface="Calibri"/>
              </a:endParaRPr>
            </a:p>
          </p:txBody>
        </p:sp>
        <p:sp>
          <p:nvSpPr>
            <p:cNvPr id="124" name="TextBox 22"/>
            <p:cNvSpPr/>
            <p:nvPr/>
          </p:nvSpPr>
          <p:spPr>
            <a:xfrm>
              <a:off x="3695040" y="342468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2" presetSubtype="1">
                                  <p:stCondLst>
                                    <p:cond delay="0"/>
                                  </p:stCondLst>
                                  <p:childTnLst>
                                    <p:set>
                                      <p:cBhvr>
                                        <p:cTn id="13" dur="1" fill="hold">
                                          <p:stCondLst>
                                            <p:cond delay="0"/>
                                          </p:stCondLst>
                                        </p:cTn>
                                        <p:tgtEl>
                                          <p:spTgt spid="105"/>
                                        </p:tgtEl>
                                        <p:attrNameLst>
                                          <p:attrName>style.visibility</p:attrName>
                                        </p:attrNameLst>
                                      </p:cBhvr>
                                      <p:to>
                                        <p:strVal val="visible"/>
                                      </p:to>
                                    </p:set>
                                    <p:animEffect filter="wipe(up)" transition="in">
                                      <p:cBhvr additive="repl">
                                        <p:cTn id="14" dur="500"/>
                                        <p:tgtEl>
                                          <p:spTgt spid="105"/>
                                        </p:tgtEl>
                                      </p:cBhvr>
                                    </p:animEffect>
                                  </p:childTnLst>
                                </p:cTn>
                              </p:par>
                              <p:par>
                                <p:cTn id="15" nodeType="withEffect" fill="hold" presetClass="entr" presetID="22" presetSubtype="1">
                                  <p:stCondLst>
                                    <p:cond delay="0"/>
                                  </p:stCondLst>
                                  <p:childTnLst>
                                    <p:set>
                                      <p:cBhvr>
                                        <p:cTn id="16" dur="1" fill="hold">
                                          <p:stCondLst>
                                            <p:cond delay="0"/>
                                          </p:stCondLst>
                                        </p:cTn>
                                        <p:tgtEl>
                                          <p:spTgt spid="110"/>
                                        </p:tgtEl>
                                        <p:attrNameLst>
                                          <p:attrName>style.visibility</p:attrName>
                                        </p:attrNameLst>
                                      </p:cBhvr>
                                      <p:to>
                                        <p:strVal val="visible"/>
                                      </p:to>
                                    </p:set>
                                    <p:animEffect filter="wipe(up)" transition="in">
                                      <p:cBhvr additive="repl">
                                        <p:cTn id="17" dur="750"/>
                                        <p:tgtEl>
                                          <p:spTgt spid="110"/>
                                        </p:tgtEl>
                                      </p:cBhvr>
                                    </p:animEffect>
                                  </p:childTnLst>
                                </p:cTn>
                              </p:par>
                              <p:par>
                                <p:cTn id="18" nodeType="withEffect" fill="hold" presetClass="entr" presetID="22" presetSubtype="1">
                                  <p:stCondLst>
                                    <p:cond delay="0"/>
                                  </p:stCondLst>
                                  <p:childTnLst>
                                    <p:set>
                                      <p:cBhvr>
                                        <p:cTn id="19" dur="1" fill="hold">
                                          <p:stCondLst>
                                            <p:cond delay="0"/>
                                          </p:stCondLst>
                                        </p:cTn>
                                        <p:tgtEl>
                                          <p:spTgt spid="115"/>
                                        </p:tgtEl>
                                        <p:attrNameLst>
                                          <p:attrName>style.visibility</p:attrName>
                                        </p:attrNameLst>
                                      </p:cBhvr>
                                      <p:to>
                                        <p:strVal val="visible"/>
                                      </p:to>
                                    </p:set>
                                    <p:animEffect filter="wipe(up)" transition="in">
                                      <p:cBhvr additive="repl">
                                        <p:cTn id="20" dur="1000"/>
                                        <p:tgtEl>
                                          <p:spTgt spid="115"/>
                                        </p:tgtEl>
                                      </p:cBhvr>
                                    </p:animEffect>
                                  </p:childTnLst>
                                </p:cTn>
                              </p:par>
                              <p:par>
                                <p:cTn id="21" nodeType="withEffect" fill="hold" presetClass="entr" presetID="22" presetSubtype="1">
                                  <p:stCondLst>
                                    <p:cond delay="0"/>
                                  </p:stCondLst>
                                  <p:childTnLst>
                                    <p:set>
                                      <p:cBhvr>
                                        <p:cTn id="22" dur="1" fill="hold">
                                          <p:stCondLst>
                                            <p:cond delay="0"/>
                                          </p:stCondLst>
                                        </p:cTn>
                                        <p:tgtEl>
                                          <p:spTgt spid="120"/>
                                        </p:tgtEl>
                                        <p:attrNameLst>
                                          <p:attrName>style.visibility</p:attrName>
                                        </p:attrNameLst>
                                      </p:cBhvr>
                                      <p:to>
                                        <p:strVal val="visible"/>
                                      </p:to>
                                    </p:set>
                                    <p:animEffect filter="wipe(up)" transition="in">
                                      <p:cBhvr additive="repl">
                                        <p:cTn id="23" dur="125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pic>
        <p:nvPicPr>
          <p:cNvPr id="126" name="Group 176" descr=""/>
          <p:cNvPicPr/>
          <p:nvPr/>
        </p:nvPicPr>
        <p:blipFill>
          <a:blip r:embed="rId1"/>
          <a:stretch/>
        </p:blipFill>
        <p:spPr>
          <a:xfrm>
            <a:off x="1547640" y="1274760"/>
            <a:ext cx="6626520" cy="3492360"/>
          </a:xfrm>
          <a:prstGeom prst="rect">
            <a:avLst/>
          </a:prstGeom>
          <a:ln w="0">
            <a:noFill/>
          </a:ln>
        </p:spPr>
      </p:pic>
      <p:grpSp>
        <p:nvGrpSpPr>
          <p:cNvPr id="127" name="Group 4"/>
          <p:cNvGrpSpPr/>
          <p:nvPr/>
        </p:nvGrpSpPr>
        <p:grpSpPr>
          <a:xfrm>
            <a:off x="5667120" y="1037520"/>
            <a:ext cx="2066040" cy="2513880"/>
            <a:chOff x="5667120" y="1037520"/>
            <a:chExt cx="2066040" cy="2513880"/>
          </a:xfrm>
        </p:grpSpPr>
        <p:sp>
          <p:nvSpPr>
            <p:cNvPr id="128" name="Freeform 194"/>
            <p:cNvSpPr/>
            <p:nvPr/>
          </p:nvSpPr>
          <p:spPr>
            <a:xfrm rot="20104200">
              <a:off x="6877800" y="1756440"/>
              <a:ext cx="66600" cy="52200"/>
            </a:xfrm>
            <a:custGeom>
              <a:avLst/>
              <a:gdLst>
                <a:gd name="textAreaLeft" fmla="*/ 0 w 66600"/>
                <a:gd name="textAreaRight" fmla="*/ 66960 w 66600"/>
                <a:gd name="textAreaTop" fmla="*/ 0 h 52200"/>
                <a:gd name="textAreaBottom" fmla="*/ 52560 h 52200"/>
              </a:gdLst>
              <a:ahLst/>
              <a:rect l="textAreaLeft" t="textAreaTop" r="textAreaRight" b="textAreaBottom"/>
              <a:pathLst>
                <a:path w="110" h="99">
                  <a:moveTo>
                    <a:pt x="18" y="20"/>
                  </a:moveTo>
                  <a:cubicBezTo>
                    <a:pt x="7" y="52"/>
                    <a:pt x="0" y="88"/>
                    <a:pt x="38" y="99"/>
                  </a:cubicBezTo>
                  <a:cubicBezTo>
                    <a:pt x="62" y="91"/>
                    <a:pt x="85" y="84"/>
                    <a:pt x="110" y="79"/>
                  </a:cubicBezTo>
                  <a:cubicBezTo>
                    <a:pt x="104" y="44"/>
                    <a:pt x="102" y="11"/>
                    <a:pt x="64" y="0"/>
                  </a:cubicBezTo>
                  <a:cubicBezTo>
                    <a:pt x="53" y="2"/>
                    <a:pt x="41" y="2"/>
                    <a:pt x="31" y="6"/>
                  </a:cubicBezTo>
                  <a:cubicBezTo>
                    <a:pt x="25" y="9"/>
                    <a:pt x="18" y="20"/>
                    <a:pt x="18" y="2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grpSp>
          <p:nvGrpSpPr>
            <p:cNvPr id="129" name="Group 6"/>
            <p:cNvGrpSpPr/>
            <p:nvPr/>
          </p:nvGrpSpPr>
          <p:grpSpPr>
            <a:xfrm>
              <a:off x="5667120" y="1037520"/>
              <a:ext cx="2066040" cy="2513880"/>
              <a:chOff x="5667120" y="1037520"/>
              <a:chExt cx="2066040" cy="2513880"/>
            </a:xfrm>
          </p:grpSpPr>
          <p:sp>
            <p:nvSpPr>
              <p:cNvPr id="130" name="Freeform 195"/>
              <p:cNvSpPr/>
              <p:nvPr/>
            </p:nvSpPr>
            <p:spPr>
              <a:xfrm rot="20104200">
                <a:off x="6849360" y="1504800"/>
                <a:ext cx="302040" cy="293760"/>
              </a:xfrm>
              <a:custGeom>
                <a:avLst/>
                <a:gdLst>
                  <a:gd name="textAreaLeft" fmla="*/ 0 w 302040"/>
                  <a:gd name="textAreaRight" fmla="*/ 302400 w 302040"/>
                  <a:gd name="textAreaTop" fmla="*/ 0 h 293760"/>
                  <a:gd name="textAreaBottom" fmla="*/ 294120 h 293760"/>
                </a:gdLst>
                <a:ahLst/>
                <a:rect l="textAreaLeft" t="textAreaTop" r="textAreaRight" b="textAreaBottom"/>
                <a:pathLst>
                  <a:path w="495" h="550">
                    <a:moveTo>
                      <a:pt x="46" y="0"/>
                    </a:moveTo>
                    <a:cubicBezTo>
                      <a:pt x="20" y="9"/>
                      <a:pt x="9" y="13"/>
                      <a:pt x="0" y="40"/>
                    </a:cubicBezTo>
                    <a:cubicBezTo>
                      <a:pt x="11" y="113"/>
                      <a:pt x="12" y="121"/>
                      <a:pt x="79" y="146"/>
                    </a:cubicBezTo>
                    <a:cubicBezTo>
                      <a:pt x="106" y="171"/>
                      <a:pt x="137" y="174"/>
                      <a:pt x="172" y="179"/>
                    </a:cubicBezTo>
                    <a:cubicBezTo>
                      <a:pt x="191" y="198"/>
                      <a:pt x="202" y="217"/>
                      <a:pt x="225" y="232"/>
                    </a:cubicBezTo>
                    <a:cubicBezTo>
                      <a:pt x="245" y="263"/>
                      <a:pt x="272" y="282"/>
                      <a:pt x="285" y="318"/>
                    </a:cubicBezTo>
                    <a:cubicBezTo>
                      <a:pt x="278" y="353"/>
                      <a:pt x="271" y="357"/>
                      <a:pt x="252" y="384"/>
                    </a:cubicBezTo>
                    <a:cubicBezTo>
                      <a:pt x="262" y="440"/>
                      <a:pt x="262" y="429"/>
                      <a:pt x="298" y="464"/>
                    </a:cubicBezTo>
                    <a:cubicBezTo>
                      <a:pt x="322" y="487"/>
                      <a:pt x="319" y="501"/>
                      <a:pt x="351" y="510"/>
                    </a:cubicBezTo>
                    <a:cubicBezTo>
                      <a:pt x="370" y="529"/>
                      <a:pt x="384" y="541"/>
                      <a:pt x="410" y="550"/>
                    </a:cubicBezTo>
                    <a:cubicBezTo>
                      <a:pt x="417" y="548"/>
                      <a:pt x="431" y="550"/>
                      <a:pt x="430" y="543"/>
                    </a:cubicBezTo>
                    <a:cubicBezTo>
                      <a:pt x="428" y="528"/>
                      <a:pt x="404" y="504"/>
                      <a:pt x="404" y="504"/>
                    </a:cubicBezTo>
                    <a:cubicBezTo>
                      <a:pt x="408" y="499"/>
                      <a:pt x="411" y="491"/>
                      <a:pt x="417" y="490"/>
                    </a:cubicBezTo>
                    <a:cubicBezTo>
                      <a:pt x="455" y="483"/>
                      <a:pt x="438" y="517"/>
                      <a:pt x="450" y="477"/>
                    </a:cubicBezTo>
                    <a:cubicBezTo>
                      <a:pt x="446" y="470"/>
                      <a:pt x="443" y="463"/>
                      <a:pt x="437" y="457"/>
                    </a:cubicBezTo>
                    <a:cubicBezTo>
                      <a:pt x="431" y="451"/>
                      <a:pt x="422" y="450"/>
                      <a:pt x="417" y="444"/>
                    </a:cubicBezTo>
                    <a:cubicBezTo>
                      <a:pt x="401" y="425"/>
                      <a:pt x="395" y="402"/>
                      <a:pt x="377" y="384"/>
                    </a:cubicBezTo>
                    <a:cubicBezTo>
                      <a:pt x="392" y="342"/>
                      <a:pt x="418" y="367"/>
                      <a:pt x="444" y="384"/>
                    </a:cubicBezTo>
                    <a:cubicBezTo>
                      <a:pt x="484" y="377"/>
                      <a:pt x="495" y="386"/>
                      <a:pt x="470" y="325"/>
                    </a:cubicBezTo>
                    <a:cubicBezTo>
                      <a:pt x="467" y="318"/>
                      <a:pt x="456" y="317"/>
                      <a:pt x="450" y="312"/>
                    </a:cubicBezTo>
                    <a:cubicBezTo>
                      <a:pt x="428" y="294"/>
                      <a:pt x="405" y="288"/>
                      <a:pt x="377" y="279"/>
                    </a:cubicBezTo>
                    <a:cubicBezTo>
                      <a:pt x="369" y="252"/>
                      <a:pt x="369" y="242"/>
                      <a:pt x="344" y="226"/>
                    </a:cubicBezTo>
                    <a:cubicBezTo>
                      <a:pt x="330" y="180"/>
                      <a:pt x="350" y="231"/>
                      <a:pt x="318" y="192"/>
                    </a:cubicBezTo>
                    <a:cubicBezTo>
                      <a:pt x="313" y="186"/>
                      <a:pt x="308" y="159"/>
                      <a:pt x="305" y="153"/>
                    </a:cubicBezTo>
                    <a:cubicBezTo>
                      <a:pt x="293" y="129"/>
                      <a:pt x="275" y="122"/>
                      <a:pt x="252" y="113"/>
                    </a:cubicBezTo>
                    <a:cubicBezTo>
                      <a:pt x="195" y="128"/>
                      <a:pt x="238" y="107"/>
                      <a:pt x="205" y="80"/>
                    </a:cubicBezTo>
                    <a:cubicBezTo>
                      <a:pt x="186" y="64"/>
                      <a:pt x="157" y="70"/>
                      <a:pt x="132" y="67"/>
                    </a:cubicBezTo>
                    <a:cubicBezTo>
                      <a:pt x="105" y="38"/>
                      <a:pt x="125" y="21"/>
                      <a:pt x="86" y="7"/>
                    </a:cubicBezTo>
                    <a:cubicBezTo>
                      <a:pt x="82" y="14"/>
                      <a:pt x="81" y="27"/>
                      <a:pt x="73" y="27"/>
                    </a:cubicBezTo>
                    <a:cubicBezTo>
                      <a:pt x="66" y="27"/>
                      <a:pt x="71" y="12"/>
                      <a:pt x="66" y="7"/>
                    </a:cubicBezTo>
                    <a:cubicBezTo>
                      <a:pt x="61" y="2"/>
                      <a:pt x="46" y="0"/>
                      <a:pt x="46" y="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Freeform 196"/>
              <p:cNvSpPr/>
              <p:nvPr/>
            </p:nvSpPr>
            <p:spPr>
              <a:xfrm rot="20104200">
                <a:off x="6513840" y="1620720"/>
                <a:ext cx="174600" cy="138960"/>
              </a:xfrm>
              <a:custGeom>
                <a:avLst/>
                <a:gdLst>
                  <a:gd name="textAreaLeft" fmla="*/ 0 w 174600"/>
                  <a:gd name="textAreaRight" fmla="*/ 174960 w 174600"/>
                  <a:gd name="textAreaTop" fmla="*/ 0 h 138960"/>
                  <a:gd name="textAreaBottom" fmla="*/ 139320 h 138960"/>
                </a:gdLst>
                <a:ahLst/>
                <a:rect l="textAreaLeft" t="textAreaTop" r="textAreaRight" b="textAreaBottom"/>
                <a:pathLst>
                  <a:path w="287" h="261">
                    <a:moveTo>
                      <a:pt x="118" y="130"/>
                    </a:moveTo>
                    <a:cubicBezTo>
                      <a:pt x="107" y="87"/>
                      <a:pt x="119" y="109"/>
                      <a:pt x="71" y="77"/>
                    </a:cubicBezTo>
                    <a:cubicBezTo>
                      <a:pt x="65" y="73"/>
                      <a:pt x="52" y="64"/>
                      <a:pt x="52" y="64"/>
                    </a:cubicBezTo>
                    <a:cubicBezTo>
                      <a:pt x="54" y="53"/>
                      <a:pt x="48" y="37"/>
                      <a:pt x="58" y="31"/>
                    </a:cubicBezTo>
                    <a:cubicBezTo>
                      <a:pt x="68" y="25"/>
                      <a:pt x="105" y="39"/>
                      <a:pt x="118" y="44"/>
                    </a:cubicBezTo>
                    <a:cubicBezTo>
                      <a:pt x="131" y="0"/>
                      <a:pt x="142" y="11"/>
                      <a:pt x="191" y="17"/>
                    </a:cubicBezTo>
                    <a:cubicBezTo>
                      <a:pt x="210" y="37"/>
                      <a:pt x="216" y="47"/>
                      <a:pt x="244" y="37"/>
                    </a:cubicBezTo>
                    <a:cubicBezTo>
                      <a:pt x="250" y="41"/>
                      <a:pt x="255" y="50"/>
                      <a:pt x="263" y="50"/>
                    </a:cubicBezTo>
                    <a:cubicBezTo>
                      <a:pt x="287" y="50"/>
                      <a:pt x="269" y="12"/>
                      <a:pt x="283" y="57"/>
                    </a:cubicBezTo>
                    <a:cubicBezTo>
                      <a:pt x="276" y="93"/>
                      <a:pt x="273" y="93"/>
                      <a:pt x="250" y="117"/>
                    </a:cubicBezTo>
                    <a:cubicBezTo>
                      <a:pt x="252" y="124"/>
                      <a:pt x="257" y="130"/>
                      <a:pt x="257" y="137"/>
                    </a:cubicBezTo>
                    <a:cubicBezTo>
                      <a:pt x="257" y="261"/>
                      <a:pt x="257" y="204"/>
                      <a:pt x="191" y="249"/>
                    </a:cubicBezTo>
                    <a:cubicBezTo>
                      <a:pt x="155" y="216"/>
                      <a:pt x="197" y="259"/>
                      <a:pt x="171" y="216"/>
                    </a:cubicBezTo>
                    <a:cubicBezTo>
                      <a:pt x="151" y="183"/>
                      <a:pt x="69" y="191"/>
                      <a:pt x="52" y="190"/>
                    </a:cubicBezTo>
                    <a:cubicBezTo>
                      <a:pt x="43" y="164"/>
                      <a:pt x="38" y="136"/>
                      <a:pt x="18" y="117"/>
                    </a:cubicBezTo>
                    <a:cubicBezTo>
                      <a:pt x="0" y="55"/>
                      <a:pt x="71" y="117"/>
                      <a:pt x="91" y="123"/>
                    </a:cubicBezTo>
                    <a:cubicBezTo>
                      <a:pt x="93" y="130"/>
                      <a:pt x="91" y="141"/>
                      <a:pt x="98" y="143"/>
                    </a:cubicBezTo>
                    <a:cubicBezTo>
                      <a:pt x="106" y="145"/>
                      <a:pt x="116" y="138"/>
                      <a:pt x="118" y="130"/>
                    </a:cubicBezTo>
                    <a:cubicBezTo>
                      <a:pt x="119" y="124"/>
                      <a:pt x="104" y="117"/>
                      <a:pt x="104" y="117"/>
                    </a:cubicBezTo>
                    <a:cubicBezTo>
                      <a:pt x="104" y="117"/>
                      <a:pt x="113" y="126"/>
                      <a:pt x="118" y="13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Freeform 197"/>
              <p:cNvSpPr/>
              <p:nvPr/>
            </p:nvSpPr>
            <p:spPr>
              <a:xfrm rot="20104200">
                <a:off x="6774120" y="1320120"/>
                <a:ext cx="155520" cy="204480"/>
              </a:xfrm>
              <a:custGeom>
                <a:avLst/>
                <a:gdLst>
                  <a:gd name="textAreaLeft" fmla="*/ 0 w 155520"/>
                  <a:gd name="textAreaRight" fmla="*/ 155880 w 155520"/>
                  <a:gd name="textAreaTop" fmla="*/ 0 h 204480"/>
                  <a:gd name="textAreaBottom" fmla="*/ 204840 h 204480"/>
                </a:gdLst>
                <a:ahLst/>
                <a:rect l="textAreaLeft" t="textAreaTop" r="textAreaRight" b="textAreaBottom"/>
                <a:pathLst>
                  <a:path w="255" h="383">
                    <a:moveTo>
                      <a:pt x="115" y="302"/>
                    </a:moveTo>
                    <a:cubicBezTo>
                      <a:pt x="92" y="287"/>
                      <a:pt x="78" y="286"/>
                      <a:pt x="62" y="263"/>
                    </a:cubicBezTo>
                    <a:cubicBezTo>
                      <a:pt x="53" y="231"/>
                      <a:pt x="45" y="244"/>
                      <a:pt x="22" y="223"/>
                    </a:cubicBezTo>
                    <a:cubicBezTo>
                      <a:pt x="48" y="214"/>
                      <a:pt x="59" y="218"/>
                      <a:pt x="69" y="190"/>
                    </a:cubicBezTo>
                    <a:cubicBezTo>
                      <a:pt x="54" y="147"/>
                      <a:pt x="40" y="148"/>
                      <a:pt x="102" y="157"/>
                    </a:cubicBezTo>
                    <a:cubicBezTo>
                      <a:pt x="129" y="148"/>
                      <a:pt x="133" y="136"/>
                      <a:pt x="142" y="110"/>
                    </a:cubicBezTo>
                    <a:cubicBezTo>
                      <a:pt x="104" y="99"/>
                      <a:pt x="100" y="97"/>
                      <a:pt x="56" y="104"/>
                    </a:cubicBezTo>
                    <a:cubicBezTo>
                      <a:pt x="47" y="102"/>
                      <a:pt x="36" y="103"/>
                      <a:pt x="29" y="97"/>
                    </a:cubicBezTo>
                    <a:cubicBezTo>
                      <a:pt x="0" y="74"/>
                      <a:pt x="59" y="46"/>
                      <a:pt x="75" y="44"/>
                    </a:cubicBezTo>
                    <a:cubicBezTo>
                      <a:pt x="99" y="40"/>
                      <a:pt x="124" y="39"/>
                      <a:pt x="148" y="37"/>
                    </a:cubicBezTo>
                    <a:cubicBezTo>
                      <a:pt x="173" y="0"/>
                      <a:pt x="201" y="12"/>
                      <a:pt x="241" y="24"/>
                    </a:cubicBezTo>
                    <a:cubicBezTo>
                      <a:pt x="246" y="38"/>
                      <a:pt x="255" y="50"/>
                      <a:pt x="241" y="64"/>
                    </a:cubicBezTo>
                    <a:cubicBezTo>
                      <a:pt x="230" y="75"/>
                      <a:pt x="201" y="90"/>
                      <a:pt x="201" y="90"/>
                    </a:cubicBezTo>
                    <a:cubicBezTo>
                      <a:pt x="192" y="119"/>
                      <a:pt x="204" y="121"/>
                      <a:pt x="228" y="137"/>
                    </a:cubicBezTo>
                    <a:cubicBezTo>
                      <a:pt x="226" y="150"/>
                      <a:pt x="230" y="166"/>
                      <a:pt x="221" y="176"/>
                    </a:cubicBezTo>
                    <a:cubicBezTo>
                      <a:pt x="218" y="179"/>
                      <a:pt x="173" y="192"/>
                      <a:pt x="161" y="196"/>
                    </a:cubicBezTo>
                    <a:cubicBezTo>
                      <a:pt x="155" y="246"/>
                      <a:pt x="158" y="248"/>
                      <a:pt x="115" y="263"/>
                    </a:cubicBezTo>
                    <a:cubicBezTo>
                      <a:pt x="117" y="281"/>
                      <a:pt x="147" y="383"/>
                      <a:pt x="115" y="302"/>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Freeform 201"/>
              <p:cNvSpPr/>
              <p:nvPr/>
            </p:nvSpPr>
            <p:spPr>
              <a:xfrm rot="20104200">
                <a:off x="6444720" y="1588680"/>
                <a:ext cx="122400" cy="60480"/>
              </a:xfrm>
              <a:custGeom>
                <a:avLst/>
                <a:gdLst>
                  <a:gd name="textAreaLeft" fmla="*/ 0 w 122400"/>
                  <a:gd name="textAreaRight" fmla="*/ 122760 w 122400"/>
                  <a:gd name="textAreaTop" fmla="*/ 0 h 60480"/>
                  <a:gd name="textAreaBottom" fmla="*/ 60840 h 60480"/>
                </a:gdLst>
                <a:ahLst/>
                <a:rect l="textAreaLeft" t="textAreaTop" r="textAreaRight" b="textAreaBottom"/>
                <a:pathLst>
                  <a:path w="200" h="114">
                    <a:moveTo>
                      <a:pt x="152" y="0"/>
                    </a:moveTo>
                    <a:cubicBezTo>
                      <a:pt x="97" y="5"/>
                      <a:pt x="47" y="9"/>
                      <a:pt x="0" y="40"/>
                    </a:cubicBezTo>
                    <a:cubicBezTo>
                      <a:pt x="10" y="87"/>
                      <a:pt x="12" y="70"/>
                      <a:pt x="40" y="100"/>
                    </a:cubicBezTo>
                    <a:cubicBezTo>
                      <a:pt x="70" y="95"/>
                      <a:pt x="92" y="83"/>
                      <a:pt x="119" y="93"/>
                    </a:cubicBezTo>
                    <a:cubicBezTo>
                      <a:pt x="141" y="114"/>
                      <a:pt x="160" y="102"/>
                      <a:pt x="186" y="93"/>
                    </a:cubicBezTo>
                    <a:cubicBezTo>
                      <a:pt x="200" y="72"/>
                      <a:pt x="200" y="56"/>
                      <a:pt x="186" y="33"/>
                    </a:cubicBezTo>
                    <a:cubicBezTo>
                      <a:pt x="173" y="11"/>
                      <a:pt x="152" y="27"/>
                      <a:pt x="152" y="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Calibri"/>
                </a:endParaRPr>
              </a:p>
            </p:txBody>
          </p:sp>
          <p:grpSp>
            <p:nvGrpSpPr>
              <p:cNvPr id="134" name="Group 11"/>
              <p:cNvGrpSpPr/>
              <p:nvPr/>
            </p:nvGrpSpPr>
            <p:grpSpPr>
              <a:xfrm>
                <a:off x="5667120" y="1037520"/>
                <a:ext cx="2066040" cy="2513880"/>
                <a:chOff x="5667120" y="1037520"/>
                <a:chExt cx="2066040" cy="2513880"/>
              </a:xfrm>
            </p:grpSpPr>
            <p:sp>
              <p:nvSpPr>
                <p:cNvPr id="135" name="Freeform 202"/>
                <p:cNvSpPr/>
                <p:nvPr/>
              </p:nvSpPr>
              <p:spPr>
                <a:xfrm rot="20104200">
                  <a:off x="6173640" y="2040840"/>
                  <a:ext cx="1453320" cy="824400"/>
                </a:xfrm>
                <a:custGeom>
                  <a:avLst/>
                  <a:gdLst>
                    <a:gd name="textAreaLeft" fmla="*/ 0 w 1453320"/>
                    <a:gd name="textAreaRight" fmla="*/ 1453320 w 1453320"/>
                    <a:gd name="textAreaTop" fmla="*/ 0 h 824400"/>
                    <a:gd name="textAreaBottom" fmla="*/ 824760 h 824400"/>
                  </a:gdLst>
                  <a:ahLst/>
                  <a:rect l="textAreaLeft" t="textAreaTop" r="textAreaRight" b="textAreaBottom"/>
                  <a:pathLst>
                    <a:path w="2378" h="1545">
                      <a:moveTo>
                        <a:pt x="343" y="69"/>
                      </a:moveTo>
                      <a:cubicBezTo>
                        <a:pt x="306" y="104"/>
                        <a:pt x="339" y="112"/>
                        <a:pt x="284" y="102"/>
                      </a:cubicBezTo>
                      <a:cubicBezTo>
                        <a:pt x="263" y="81"/>
                        <a:pt x="271" y="57"/>
                        <a:pt x="251" y="35"/>
                      </a:cubicBezTo>
                      <a:cubicBezTo>
                        <a:pt x="209" y="50"/>
                        <a:pt x="235" y="34"/>
                        <a:pt x="224" y="108"/>
                      </a:cubicBezTo>
                      <a:cubicBezTo>
                        <a:pt x="218" y="145"/>
                        <a:pt x="180" y="194"/>
                        <a:pt x="151" y="221"/>
                      </a:cubicBezTo>
                      <a:cubicBezTo>
                        <a:pt x="141" y="255"/>
                        <a:pt x="111" y="278"/>
                        <a:pt x="98" y="313"/>
                      </a:cubicBezTo>
                      <a:cubicBezTo>
                        <a:pt x="96" y="329"/>
                        <a:pt x="99" y="346"/>
                        <a:pt x="92" y="360"/>
                      </a:cubicBezTo>
                      <a:cubicBezTo>
                        <a:pt x="89" y="366"/>
                        <a:pt x="78" y="362"/>
                        <a:pt x="72" y="366"/>
                      </a:cubicBezTo>
                      <a:cubicBezTo>
                        <a:pt x="56" y="376"/>
                        <a:pt x="42" y="395"/>
                        <a:pt x="26" y="406"/>
                      </a:cubicBezTo>
                      <a:cubicBezTo>
                        <a:pt x="4" y="470"/>
                        <a:pt x="18" y="511"/>
                        <a:pt x="39" y="572"/>
                      </a:cubicBezTo>
                      <a:cubicBezTo>
                        <a:pt x="0" y="597"/>
                        <a:pt x="4" y="616"/>
                        <a:pt x="19" y="658"/>
                      </a:cubicBezTo>
                      <a:cubicBezTo>
                        <a:pt x="25" y="732"/>
                        <a:pt x="27" y="788"/>
                        <a:pt x="92" y="830"/>
                      </a:cubicBezTo>
                      <a:cubicBezTo>
                        <a:pt x="96" y="842"/>
                        <a:pt x="108" y="885"/>
                        <a:pt x="112" y="889"/>
                      </a:cubicBezTo>
                      <a:cubicBezTo>
                        <a:pt x="129" y="907"/>
                        <a:pt x="136" y="909"/>
                        <a:pt x="157" y="920"/>
                      </a:cubicBezTo>
                      <a:cubicBezTo>
                        <a:pt x="178" y="931"/>
                        <a:pt x="176" y="933"/>
                        <a:pt x="199" y="941"/>
                      </a:cubicBezTo>
                      <a:cubicBezTo>
                        <a:pt x="234" y="978"/>
                        <a:pt x="231" y="976"/>
                        <a:pt x="277" y="995"/>
                      </a:cubicBezTo>
                      <a:cubicBezTo>
                        <a:pt x="297" y="1003"/>
                        <a:pt x="326" y="1016"/>
                        <a:pt x="346" y="1025"/>
                      </a:cubicBezTo>
                      <a:cubicBezTo>
                        <a:pt x="377" y="1039"/>
                        <a:pt x="368" y="1042"/>
                        <a:pt x="400" y="1052"/>
                      </a:cubicBezTo>
                      <a:cubicBezTo>
                        <a:pt x="438" y="997"/>
                        <a:pt x="440" y="1031"/>
                        <a:pt x="475" y="1052"/>
                      </a:cubicBezTo>
                      <a:cubicBezTo>
                        <a:pt x="487" y="1059"/>
                        <a:pt x="536" y="1070"/>
                        <a:pt x="549" y="1075"/>
                      </a:cubicBezTo>
                      <a:cubicBezTo>
                        <a:pt x="557" y="1102"/>
                        <a:pt x="548" y="1125"/>
                        <a:pt x="568" y="1145"/>
                      </a:cubicBezTo>
                      <a:cubicBezTo>
                        <a:pt x="575" y="1168"/>
                        <a:pt x="600" y="1197"/>
                        <a:pt x="613" y="1217"/>
                      </a:cubicBezTo>
                      <a:cubicBezTo>
                        <a:pt x="627" y="1262"/>
                        <a:pt x="635" y="1206"/>
                        <a:pt x="641" y="1187"/>
                      </a:cubicBezTo>
                      <a:cubicBezTo>
                        <a:pt x="654" y="1192"/>
                        <a:pt x="668" y="1196"/>
                        <a:pt x="681" y="1201"/>
                      </a:cubicBezTo>
                      <a:cubicBezTo>
                        <a:pt x="692" y="1205"/>
                        <a:pt x="718" y="1373"/>
                        <a:pt x="751" y="1346"/>
                      </a:cubicBezTo>
                      <a:cubicBezTo>
                        <a:pt x="766" y="1386"/>
                        <a:pt x="776" y="1355"/>
                        <a:pt x="808" y="1385"/>
                      </a:cubicBezTo>
                      <a:cubicBezTo>
                        <a:pt x="823" y="1399"/>
                        <a:pt x="812" y="1398"/>
                        <a:pt x="827" y="1413"/>
                      </a:cubicBezTo>
                      <a:cubicBezTo>
                        <a:pt x="830" y="1401"/>
                        <a:pt x="840" y="1350"/>
                        <a:pt x="853" y="1331"/>
                      </a:cubicBezTo>
                      <a:cubicBezTo>
                        <a:pt x="866" y="1312"/>
                        <a:pt x="892" y="1308"/>
                        <a:pt x="907" y="1301"/>
                      </a:cubicBezTo>
                      <a:cubicBezTo>
                        <a:pt x="914" y="1300"/>
                        <a:pt x="936" y="1291"/>
                        <a:pt x="943" y="1289"/>
                      </a:cubicBezTo>
                      <a:cubicBezTo>
                        <a:pt x="966" y="1266"/>
                        <a:pt x="971" y="1285"/>
                        <a:pt x="979" y="1254"/>
                      </a:cubicBezTo>
                      <a:cubicBezTo>
                        <a:pt x="994" y="1276"/>
                        <a:pt x="999" y="1285"/>
                        <a:pt x="1025" y="1293"/>
                      </a:cubicBezTo>
                      <a:cubicBezTo>
                        <a:pt x="1092" y="1273"/>
                        <a:pt x="1112" y="1290"/>
                        <a:pt x="1158" y="1320"/>
                      </a:cubicBezTo>
                      <a:cubicBezTo>
                        <a:pt x="1162" y="1313"/>
                        <a:pt x="1165" y="1306"/>
                        <a:pt x="1171" y="1300"/>
                      </a:cubicBezTo>
                      <a:cubicBezTo>
                        <a:pt x="1177" y="1294"/>
                        <a:pt x="1186" y="1293"/>
                        <a:pt x="1191" y="1287"/>
                      </a:cubicBezTo>
                      <a:cubicBezTo>
                        <a:pt x="1200" y="1276"/>
                        <a:pt x="1199" y="1260"/>
                        <a:pt x="1204" y="1247"/>
                      </a:cubicBezTo>
                      <a:cubicBezTo>
                        <a:pt x="1245" y="1252"/>
                        <a:pt x="1282" y="1250"/>
                        <a:pt x="1317" y="1273"/>
                      </a:cubicBezTo>
                      <a:cubicBezTo>
                        <a:pt x="1327" y="1305"/>
                        <a:pt x="1339" y="1301"/>
                        <a:pt x="1370" y="1293"/>
                      </a:cubicBezTo>
                      <a:cubicBezTo>
                        <a:pt x="1398" y="1300"/>
                        <a:pt x="1409" y="1315"/>
                        <a:pt x="1436" y="1307"/>
                      </a:cubicBezTo>
                      <a:cubicBezTo>
                        <a:pt x="1453" y="1332"/>
                        <a:pt x="1467" y="1358"/>
                        <a:pt x="1489" y="1379"/>
                      </a:cubicBezTo>
                      <a:cubicBezTo>
                        <a:pt x="1497" y="1405"/>
                        <a:pt x="1494" y="1443"/>
                        <a:pt x="1509" y="1465"/>
                      </a:cubicBezTo>
                      <a:cubicBezTo>
                        <a:pt x="1526" y="1490"/>
                        <a:pt x="1562" y="1528"/>
                        <a:pt x="1588" y="1545"/>
                      </a:cubicBezTo>
                      <a:cubicBezTo>
                        <a:pt x="1602" y="1505"/>
                        <a:pt x="1602" y="1461"/>
                        <a:pt x="1608" y="1419"/>
                      </a:cubicBezTo>
                      <a:cubicBezTo>
                        <a:pt x="1600" y="1364"/>
                        <a:pt x="1586" y="1313"/>
                        <a:pt x="1568" y="1260"/>
                      </a:cubicBezTo>
                      <a:cubicBezTo>
                        <a:pt x="1582" y="1182"/>
                        <a:pt x="1577" y="1197"/>
                        <a:pt x="1661" y="1187"/>
                      </a:cubicBezTo>
                      <a:cubicBezTo>
                        <a:pt x="1685" y="1151"/>
                        <a:pt x="1752" y="1095"/>
                        <a:pt x="1793" y="1081"/>
                      </a:cubicBezTo>
                      <a:cubicBezTo>
                        <a:pt x="1810" y="1035"/>
                        <a:pt x="1789" y="975"/>
                        <a:pt x="1773" y="929"/>
                      </a:cubicBezTo>
                      <a:cubicBezTo>
                        <a:pt x="1775" y="914"/>
                        <a:pt x="1771" y="896"/>
                        <a:pt x="1780" y="883"/>
                      </a:cubicBezTo>
                      <a:cubicBezTo>
                        <a:pt x="1795" y="860"/>
                        <a:pt x="1816" y="938"/>
                        <a:pt x="1819" y="947"/>
                      </a:cubicBezTo>
                      <a:cubicBezTo>
                        <a:pt x="1854" y="936"/>
                        <a:pt x="1858" y="896"/>
                        <a:pt x="1867" y="866"/>
                      </a:cubicBezTo>
                      <a:cubicBezTo>
                        <a:pt x="1902" y="878"/>
                        <a:pt x="1869" y="840"/>
                        <a:pt x="1893" y="817"/>
                      </a:cubicBezTo>
                      <a:cubicBezTo>
                        <a:pt x="1917" y="739"/>
                        <a:pt x="1893" y="752"/>
                        <a:pt x="1992" y="744"/>
                      </a:cubicBezTo>
                      <a:cubicBezTo>
                        <a:pt x="2040" y="713"/>
                        <a:pt x="1996" y="674"/>
                        <a:pt x="2032" y="638"/>
                      </a:cubicBezTo>
                      <a:cubicBezTo>
                        <a:pt x="2061" y="609"/>
                        <a:pt x="2109" y="615"/>
                        <a:pt x="2144" y="598"/>
                      </a:cubicBezTo>
                      <a:cubicBezTo>
                        <a:pt x="2188" y="576"/>
                        <a:pt x="2139" y="595"/>
                        <a:pt x="2184" y="565"/>
                      </a:cubicBezTo>
                      <a:cubicBezTo>
                        <a:pt x="2188" y="563"/>
                        <a:pt x="2220" y="553"/>
                        <a:pt x="2224" y="552"/>
                      </a:cubicBezTo>
                      <a:cubicBezTo>
                        <a:pt x="2211" y="588"/>
                        <a:pt x="2209" y="597"/>
                        <a:pt x="2173" y="602"/>
                      </a:cubicBezTo>
                      <a:cubicBezTo>
                        <a:pt x="2181" y="629"/>
                        <a:pt x="2160" y="623"/>
                        <a:pt x="2184" y="638"/>
                      </a:cubicBezTo>
                      <a:cubicBezTo>
                        <a:pt x="2210" y="636"/>
                        <a:pt x="2237" y="637"/>
                        <a:pt x="2263" y="631"/>
                      </a:cubicBezTo>
                      <a:cubicBezTo>
                        <a:pt x="2286" y="626"/>
                        <a:pt x="2271" y="610"/>
                        <a:pt x="2283" y="598"/>
                      </a:cubicBezTo>
                      <a:cubicBezTo>
                        <a:pt x="2308" y="573"/>
                        <a:pt x="2320" y="573"/>
                        <a:pt x="2349" y="565"/>
                      </a:cubicBezTo>
                      <a:cubicBezTo>
                        <a:pt x="2378" y="538"/>
                        <a:pt x="2347" y="540"/>
                        <a:pt x="2323" y="532"/>
                      </a:cubicBezTo>
                      <a:cubicBezTo>
                        <a:pt x="2321" y="525"/>
                        <a:pt x="2316" y="519"/>
                        <a:pt x="2316" y="512"/>
                      </a:cubicBezTo>
                      <a:cubicBezTo>
                        <a:pt x="2316" y="494"/>
                        <a:pt x="2335" y="490"/>
                        <a:pt x="2316" y="472"/>
                      </a:cubicBezTo>
                      <a:cubicBezTo>
                        <a:pt x="2306" y="462"/>
                        <a:pt x="2290" y="464"/>
                        <a:pt x="2277" y="459"/>
                      </a:cubicBezTo>
                      <a:cubicBezTo>
                        <a:pt x="2253" y="461"/>
                        <a:pt x="2215" y="497"/>
                        <a:pt x="2182" y="431"/>
                      </a:cubicBezTo>
                      <a:cubicBezTo>
                        <a:pt x="2169" y="430"/>
                        <a:pt x="2223" y="409"/>
                        <a:pt x="2221" y="401"/>
                      </a:cubicBezTo>
                      <a:cubicBezTo>
                        <a:pt x="2211" y="353"/>
                        <a:pt x="2191" y="398"/>
                        <a:pt x="2157" y="386"/>
                      </a:cubicBezTo>
                      <a:cubicBezTo>
                        <a:pt x="2155" y="386"/>
                        <a:pt x="2131" y="374"/>
                        <a:pt x="2113" y="386"/>
                      </a:cubicBezTo>
                      <a:cubicBezTo>
                        <a:pt x="2089" y="402"/>
                        <a:pt x="2081" y="411"/>
                        <a:pt x="2053" y="419"/>
                      </a:cubicBezTo>
                      <a:cubicBezTo>
                        <a:pt x="2028" y="501"/>
                        <a:pt x="2069" y="404"/>
                        <a:pt x="2035" y="473"/>
                      </a:cubicBezTo>
                      <a:cubicBezTo>
                        <a:pt x="2019" y="505"/>
                        <a:pt x="2021" y="496"/>
                        <a:pt x="1996" y="521"/>
                      </a:cubicBezTo>
                      <a:cubicBezTo>
                        <a:pt x="1965" y="542"/>
                        <a:pt x="1875" y="561"/>
                        <a:pt x="1846" y="575"/>
                      </a:cubicBezTo>
                      <a:cubicBezTo>
                        <a:pt x="1817" y="589"/>
                        <a:pt x="1844" y="600"/>
                        <a:pt x="1822" y="608"/>
                      </a:cubicBezTo>
                      <a:cubicBezTo>
                        <a:pt x="1782" y="625"/>
                        <a:pt x="1728" y="613"/>
                        <a:pt x="1711" y="623"/>
                      </a:cubicBezTo>
                      <a:cubicBezTo>
                        <a:pt x="1686" y="633"/>
                        <a:pt x="1693" y="652"/>
                        <a:pt x="1672" y="665"/>
                      </a:cubicBezTo>
                      <a:cubicBezTo>
                        <a:pt x="1651" y="678"/>
                        <a:pt x="1605" y="723"/>
                        <a:pt x="1588" y="701"/>
                      </a:cubicBezTo>
                      <a:cubicBezTo>
                        <a:pt x="1588" y="683"/>
                        <a:pt x="1588" y="554"/>
                        <a:pt x="1570" y="536"/>
                      </a:cubicBezTo>
                      <a:cubicBezTo>
                        <a:pt x="1530" y="483"/>
                        <a:pt x="1533" y="464"/>
                        <a:pt x="1495" y="439"/>
                      </a:cubicBezTo>
                      <a:cubicBezTo>
                        <a:pt x="1495" y="431"/>
                        <a:pt x="1389" y="384"/>
                        <a:pt x="1343" y="380"/>
                      </a:cubicBezTo>
                      <a:cubicBezTo>
                        <a:pt x="1259" y="356"/>
                        <a:pt x="1217" y="339"/>
                        <a:pt x="1138" y="313"/>
                      </a:cubicBezTo>
                      <a:cubicBezTo>
                        <a:pt x="1092" y="296"/>
                        <a:pt x="901" y="235"/>
                        <a:pt x="853" y="221"/>
                      </a:cubicBezTo>
                      <a:cubicBezTo>
                        <a:pt x="765" y="188"/>
                        <a:pt x="622" y="132"/>
                        <a:pt x="535" y="115"/>
                      </a:cubicBezTo>
                      <a:cubicBezTo>
                        <a:pt x="453" y="119"/>
                        <a:pt x="343" y="0"/>
                        <a:pt x="343" y="69"/>
                      </a:cubicBezTo>
                      <a:close/>
                    </a:path>
                  </a:pathLst>
                </a:custGeom>
                <a:gradFill rotWithShape="0">
                  <a:gsLst>
                    <a:gs pos="0">
                      <a:srgbClr val="99ff33"/>
                    </a:gs>
                    <a:gs pos="100000">
                      <a:srgbClr val="477618"/>
                    </a:gs>
                  </a:gsLst>
                  <a:lin ang="6894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6" name="Group 13"/>
                <p:cNvGrpSpPr/>
                <p:nvPr/>
              </p:nvGrpSpPr>
              <p:grpSpPr>
                <a:xfrm>
                  <a:off x="5667120" y="1037520"/>
                  <a:ext cx="2032560" cy="2513880"/>
                  <a:chOff x="5667120" y="1037520"/>
                  <a:chExt cx="2032560" cy="2513880"/>
                </a:xfrm>
              </p:grpSpPr>
              <p:sp>
                <p:nvSpPr>
                  <p:cNvPr id="137" name="Freeform 191"/>
                  <p:cNvSpPr/>
                  <p:nvPr/>
                </p:nvSpPr>
                <p:spPr>
                  <a:xfrm rot="20104200">
                    <a:off x="5710320" y="1639800"/>
                    <a:ext cx="617040" cy="342360"/>
                  </a:xfrm>
                  <a:custGeom>
                    <a:avLst/>
                    <a:gdLst>
                      <a:gd name="textAreaLeft" fmla="*/ 0 w 617040"/>
                      <a:gd name="textAreaRight" fmla="*/ 617400 w 617040"/>
                      <a:gd name="textAreaTop" fmla="*/ 0 h 342360"/>
                      <a:gd name="textAreaBottom" fmla="*/ 342720 h 342360"/>
                    </a:gdLst>
                    <a:ahLst/>
                    <a:rect l="textAreaLeft" t="textAreaTop" r="textAreaRight" b="textAreaBottom"/>
                    <a:pathLst>
                      <a:path w="1010" h="642">
                        <a:moveTo>
                          <a:pt x="612" y="152"/>
                        </a:moveTo>
                        <a:cubicBezTo>
                          <a:pt x="577" y="141"/>
                          <a:pt x="569" y="169"/>
                          <a:pt x="559" y="199"/>
                        </a:cubicBezTo>
                        <a:cubicBezTo>
                          <a:pt x="546" y="194"/>
                          <a:pt x="530" y="194"/>
                          <a:pt x="520" y="185"/>
                        </a:cubicBezTo>
                        <a:cubicBezTo>
                          <a:pt x="504" y="171"/>
                          <a:pt x="487" y="153"/>
                          <a:pt x="467" y="146"/>
                        </a:cubicBezTo>
                        <a:cubicBezTo>
                          <a:pt x="420" y="130"/>
                          <a:pt x="441" y="136"/>
                          <a:pt x="407" y="126"/>
                        </a:cubicBezTo>
                        <a:cubicBezTo>
                          <a:pt x="375" y="132"/>
                          <a:pt x="358" y="127"/>
                          <a:pt x="348" y="159"/>
                        </a:cubicBezTo>
                        <a:cubicBezTo>
                          <a:pt x="363" y="182"/>
                          <a:pt x="369" y="191"/>
                          <a:pt x="361" y="218"/>
                        </a:cubicBezTo>
                        <a:cubicBezTo>
                          <a:pt x="327" y="208"/>
                          <a:pt x="329" y="192"/>
                          <a:pt x="308" y="225"/>
                        </a:cubicBezTo>
                        <a:cubicBezTo>
                          <a:pt x="320" y="266"/>
                          <a:pt x="310" y="265"/>
                          <a:pt x="268" y="271"/>
                        </a:cubicBezTo>
                        <a:cubicBezTo>
                          <a:pt x="270" y="295"/>
                          <a:pt x="272" y="320"/>
                          <a:pt x="275" y="344"/>
                        </a:cubicBezTo>
                        <a:cubicBezTo>
                          <a:pt x="277" y="359"/>
                          <a:pt x="289" y="369"/>
                          <a:pt x="275" y="384"/>
                        </a:cubicBezTo>
                        <a:cubicBezTo>
                          <a:pt x="270" y="389"/>
                          <a:pt x="262" y="389"/>
                          <a:pt x="255" y="391"/>
                        </a:cubicBezTo>
                        <a:cubicBezTo>
                          <a:pt x="234" y="386"/>
                          <a:pt x="216" y="378"/>
                          <a:pt x="195" y="391"/>
                        </a:cubicBezTo>
                        <a:cubicBezTo>
                          <a:pt x="132" y="432"/>
                          <a:pt x="232" y="393"/>
                          <a:pt x="162" y="417"/>
                        </a:cubicBezTo>
                        <a:cubicBezTo>
                          <a:pt x="128" y="411"/>
                          <a:pt x="114" y="400"/>
                          <a:pt x="83" y="391"/>
                        </a:cubicBezTo>
                        <a:cubicBezTo>
                          <a:pt x="63" y="371"/>
                          <a:pt x="51" y="364"/>
                          <a:pt x="23" y="357"/>
                        </a:cubicBezTo>
                        <a:cubicBezTo>
                          <a:pt x="16" y="359"/>
                          <a:pt x="6" y="357"/>
                          <a:pt x="3" y="364"/>
                        </a:cubicBezTo>
                        <a:cubicBezTo>
                          <a:pt x="0" y="372"/>
                          <a:pt x="15" y="405"/>
                          <a:pt x="23" y="410"/>
                        </a:cubicBezTo>
                        <a:cubicBezTo>
                          <a:pt x="58" y="432"/>
                          <a:pt x="121" y="443"/>
                          <a:pt x="162" y="457"/>
                        </a:cubicBezTo>
                        <a:cubicBezTo>
                          <a:pt x="166" y="464"/>
                          <a:pt x="167" y="476"/>
                          <a:pt x="175" y="477"/>
                        </a:cubicBezTo>
                        <a:cubicBezTo>
                          <a:pt x="237" y="485"/>
                          <a:pt x="303" y="457"/>
                          <a:pt x="361" y="437"/>
                        </a:cubicBezTo>
                        <a:cubicBezTo>
                          <a:pt x="363" y="430"/>
                          <a:pt x="362" y="422"/>
                          <a:pt x="367" y="417"/>
                        </a:cubicBezTo>
                        <a:cubicBezTo>
                          <a:pt x="372" y="412"/>
                          <a:pt x="380" y="409"/>
                          <a:pt x="387" y="410"/>
                        </a:cubicBezTo>
                        <a:cubicBezTo>
                          <a:pt x="418" y="414"/>
                          <a:pt x="464" y="434"/>
                          <a:pt x="493" y="444"/>
                        </a:cubicBezTo>
                        <a:cubicBezTo>
                          <a:pt x="502" y="457"/>
                          <a:pt x="511" y="470"/>
                          <a:pt x="520" y="483"/>
                        </a:cubicBezTo>
                        <a:cubicBezTo>
                          <a:pt x="526" y="492"/>
                          <a:pt x="504" y="544"/>
                          <a:pt x="500" y="556"/>
                        </a:cubicBezTo>
                        <a:cubicBezTo>
                          <a:pt x="506" y="587"/>
                          <a:pt x="517" y="620"/>
                          <a:pt x="540" y="642"/>
                        </a:cubicBezTo>
                        <a:cubicBezTo>
                          <a:pt x="559" y="613"/>
                          <a:pt x="557" y="594"/>
                          <a:pt x="593" y="583"/>
                        </a:cubicBezTo>
                        <a:cubicBezTo>
                          <a:pt x="611" y="563"/>
                          <a:pt x="629" y="568"/>
                          <a:pt x="652" y="556"/>
                        </a:cubicBezTo>
                        <a:cubicBezTo>
                          <a:pt x="679" y="541"/>
                          <a:pt x="698" y="516"/>
                          <a:pt x="725" y="503"/>
                        </a:cubicBezTo>
                        <a:cubicBezTo>
                          <a:pt x="744" y="494"/>
                          <a:pt x="766" y="493"/>
                          <a:pt x="785" y="483"/>
                        </a:cubicBezTo>
                        <a:cubicBezTo>
                          <a:pt x="806" y="472"/>
                          <a:pt x="821" y="464"/>
                          <a:pt x="844" y="457"/>
                        </a:cubicBezTo>
                        <a:cubicBezTo>
                          <a:pt x="890" y="426"/>
                          <a:pt x="869" y="435"/>
                          <a:pt x="904" y="424"/>
                        </a:cubicBezTo>
                        <a:cubicBezTo>
                          <a:pt x="921" y="406"/>
                          <a:pt x="933" y="392"/>
                          <a:pt x="957" y="384"/>
                        </a:cubicBezTo>
                        <a:cubicBezTo>
                          <a:pt x="976" y="365"/>
                          <a:pt x="987" y="346"/>
                          <a:pt x="1010" y="331"/>
                        </a:cubicBezTo>
                        <a:cubicBezTo>
                          <a:pt x="989" y="312"/>
                          <a:pt x="985" y="285"/>
                          <a:pt x="977" y="258"/>
                        </a:cubicBezTo>
                        <a:cubicBezTo>
                          <a:pt x="975" y="238"/>
                          <a:pt x="972" y="219"/>
                          <a:pt x="970" y="199"/>
                        </a:cubicBezTo>
                        <a:cubicBezTo>
                          <a:pt x="967" y="159"/>
                          <a:pt x="969" y="119"/>
                          <a:pt x="963" y="79"/>
                        </a:cubicBezTo>
                        <a:cubicBezTo>
                          <a:pt x="960" y="57"/>
                          <a:pt x="945" y="60"/>
                          <a:pt x="930" y="53"/>
                        </a:cubicBezTo>
                        <a:cubicBezTo>
                          <a:pt x="878" y="27"/>
                          <a:pt x="826" y="19"/>
                          <a:pt x="771" y="0"/>
                        </a:cubicBezTo>
                        <a:cubicBezTo>
                          <a:pt x="740" y="11"/>
                          <a:pt x="753" y="17"/>
                          <a:pt x="732" y="40"/>
                        </a:cubicBezTo>
                        <a:cubicBezTo>
                          <a:pt x="713" y="93"/>
                          <a:pt x="718" y="87"/>
                          <a:pt x="665" y="106"/>
                        </a:cubicBezTo>
                        <a:cubicBezTo>
                          <a:pt x="609" y="86"/>
                          <a:pt x="675" y="46"/>
                          <a:pt x="619" y="26"/>
                        </a:cubicBezTo>
                        <a:cubicBezTo>
                          <a:pt x="615" y="31"/>
                          <a:pt x="608" y="34"/>
                          <a:pt x="606" y="40"/>
                        </a:cubicBezTo>
                        <a:cubicBezTo>
                          <a:pt x="602" y="50"/>
                          <a:pt x="608" y="66"/>
                          <a:pt x="599" y="73"/>
                        </a:cubicBezTo>
                        <a:cubicBezTo>
                          <a:pt x="593" y="78"/>
                          <a:pt x="586" y="64"/>
                          <a:pt x="579" y="60"/>
                        </a:cubicBezTo>
                        <a:cubicBezTo>
                          <a:pt x="573" y="57"/>
                          <a:pt x="566" y="55"/>
                          <a:pt x="559" y="53"/>
                        </a:cubicBezTo>
                        <a:cubicBezTo>
                          <a:pt x="548" y="89"/>
                          <a:pt x="580" y="117"/>
                          <a:pt x="599" y="146"/>
                        </a:cubicBezTo>
                        <a:cubicBezTo>
                          <a:pt x="570" y="165"/>
                          <a:pt x="571" y="161"/>
                          <a:pt x="612" y="152"/>
                        </a:cubicBezTo>
                        <a:close/>
                      </a:path>
                    </a:pathLst>
                  </a:custGeom>
                  <a:gradFill rotWithShape="0">
                    <a:gsLst>
                      <a:gs pos="0">
                        <a:srgbClr val="d086b7"/>
                      </a:gs>
                      <a:gs pos="100000">
                        <a:srgbClr val="603e55"/>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Freeform 192"/>
                  <p:cNvSpPr/>
                  <p:nvPr/>
                </p:nvSpPr>
                <p:spPr>
                  <a:xfrm rot="20104200">
                    <a:off x="6128640" y="1491120"/>
                    <a:ext cx="1446120" cy="911160"/>
                  </a:xfrm>
                  <a:custGeom>
                    <a:avLst/>
                    <a:gdLst>
                      <a:gd name="textAreaLeft" fmla="*/ 0 w 1446120"/>
                      <a:gd name="textAreaRight" fmla="*/ 1446480 w 1446120"/>
                      <a:gd name="textAreaTop" fmla="*/ 0 h 911160"/>
                      <a:gd name="textAreaBottom" fmla="*/ 911520 h 911160"/>
                    </a:gdLst>
                    <a:ahLst/>
                    <a:rect l="textAreaLeft" t="textAreaTop" r="textAreaRight" b="textAreaBottom"/>
                    <a:pathLst>
                      <a:path w="2367" h="1708">
                        <a:moveTo>
                          <a:pt x="76" y="279"/>
                        </a:moveTo>
                        <a:cubicBezTo>
                          <a:pt x="91" y="324"/>
                          <a:pt x="88" y="316"/>
                          <a:pt x="76" y="358"/>
                        </a:cubicBezTo>
                        <a:cubicBezTo>
                          <a:pt x="83" y="386"/>
                          <a:pt x="88" y="392"/>
                          <a:pt x="109" y="411"/>
                        </a:cubicBezTo>
                        <a:cubicBezTo>
                          <a:pt x="104" y="477"/>
                          <a:pt x="107" y="508"/>
                          <a:pt x="62" y="550"/>
                        </a:cubicBezTo>
                        <a:cubicBezTo>
                          <a:pt x="65" y="572"/>
                          <a:pt x="76" y="594"/>
                          <a:pt x="76" y="616"/>
                        </a:cubicBezTo>
                        <a:cubicBezTo>
                          <a:pt x="76" y="650"/>
                          <a:pt x="55" y="687"/>
                          <a:pt x="36" y="715"/>
                        </a:cubicBezTo>
                        <a:cubicBezTo>
                          <a:pt x="43" y="761"/>
                          <a:pt x="59" y="785"/>
                          <a:pt x="23" y="821"/>
                        </a:cubicBezTo>
                        <a:cubicBezTo>
                          <a:pt x="18" y="834"/>
                          <a:pt x="14" y="848"/>
                          <a:pt x="9" y="861"/>
                        </a:cubicBezTo>
                        <a:cubicBezTo>
                          <a:pt x="0" y="888"/>
                          <a:pt x="41" y="920"/>
                          <a:pt x="56" y="934"/>
                        </a:cubicBezTo>
                        <a:cubicBezTo>
                          <a:pt x="58" y="967"/>
                          <a:pt x="50" y="1002"/>
                          <a:pt x="62" y="1033"/>
                        </a:cubicBezTo>
                        <a:cubicBezTo>
                          <a:pt x="70" y="1053"/>
                          <a:pt x="101" y="1049"/>
                          <a:pt x="122" y="1053"/>
                        </a:cubicBezTo>
                        <a:cubicBezTo>
                          <a:pt x="176" y="1063"/>
                          <a:pt x="198" y="1087"/>
                          <a:pt x="251" y="1103"/>
                        </a:cubicBezTo>
                        <a:cubicBezTo>
                          <a:pt x="276" y="1119"/>
                          <a:pt x="332" y="1111"/>
                          <a:pt x="360" y="1119"/>
                        </a:cubicBezTo>
                        <a:cubicBezTo>
                          <a:pt x="385" y="1146"/>
                          <a:pt x="438" y="1154"/>
                          <a:pt x="473" y="1166"/>
                        </a:cubicBezTo>
                        <a:cubicBezTo>
                          <a:pt x="493" y="1173"/>
                          <a:pt x="532" y="1186"/>
                          <a:pt x="532" y="1186"/>
                        </a:cubicBezTo>
                        <a:cubicBezTo>
                          <a:pt x="557" y="1210"/>
                          <a:pt x="534" y="1192"/>
                          <a:pt x="579" y="1205"/>
                        </a:cubicBezTo>
                        <a:cubicBezTo>
                          <a:pt x="621" y="1217"/>
                          <a:pt x="663" y="1232"/>
                          <a:pt x="705" y="1245"/>
                        </a:cubicBezTo>
                        <a:cubicBezTo>
                          <a:pt x="733" y="1264"/>
                          <a:pt x="765" y="1268"/>
                          <a:pt x="797" y="1278"/>
                        </a:cubicBezTo>
                        <a:cubicBezTo>
                          <a:pt x="843" y="1293"/>
                          <a:pt x="890" y="1308"/>
                          <a:pt x="936" y="1325"/>
                        </a:cubicBezTo>
                        <a:cubicBezTo>
                          <a:pt x="960" y="1334"/>
                          <a:pt x="984" y="1337"/>
                          <a:pt x="1009" y="1344"/>
                        </a:cubicBezTo>
                        <a:cubicBezTo>
                          <a:pt x="1023" y="1348"/>
                          <a:pt x="1049" y="1358"/>
                          <a:pt x="1049" y="1358"/>
                        </a:cubicBezTo>
                        <a:cubicBezTo>
                          <a:pt x="1093" y="1349"/>
                          <a:pt x="1114" y="1378"/>
                          <a:pt x="1157" y="1388"/>
                        </a:cubicBezTo>
                        <a:cubicBezTo>
                          <a:pt x="1171" y="1403"/>
                          <a:pt x="1199" y="1396"/>
                          <a:pt x="1214" y="1411"/>
                        </a:cubicBezTo>
                        <a:cubicBezTo>
                          <a:pt x="1233" y="1430"/>
                          <a:pt x="1249" y="1482"/>
                          <a:pt x="1268" y="1502"/>
                        </a:cubicBezTo>
                        <a:cubicBezTo>
                          <a:pt x="1291" y="1565"/>
                          <a:pt x="1286" y="1534"/>
                          <a:pt x="1281" y="1629"/>
                        </a:cubicBezTo>
                        <a:cubicBezTo>
                          <a:pt x="1283" y="1651"/>
                          <a:pt x="1278" y="1675"/>
                          <a:pt x="1287" y="1695"/>
                        </a:cubicBezTo>
                        <a:cubicBezTo>
                          <a:pt x="1293" y="1708"/>
                          <a:pt x="1309" y="1683"/>
                          <a:pt x="1327" y="1675"/>
                        </a:cubicBezTo>
                        <a:cubicBezTo>
                          <a:pt x="1358" y="1661"/>
                          <a:pt x="1400" y="1655"/>
                          <a:pt x="1433" y="1649"/>
                        </a:cubicBezTo>
                        <a:cubicBezTo>
                          <a:pt x="1414" y="1594"/>
                          <a:pt x="1407" y="1610"/>
                          <a:pt x="1492" y="1603"/>
                        </a:cubicBezTo>
                        <a:cubicBezTo>
                          <a:pt x="1509" y="1597"/>
                          <a:pt x="1528" y="1596"/>
                          <a:pt x="1545" y="1589"/>
                        </a:cubicBezTo>
                        <a:cubicBezTo>
                          <a:pt x="1551" y="1587"/>
                          <a:pt x="1553" y="1579"/>
                          <a:pt x="1559" y="1576"/>
                        </a:cubicBezTo>
                        <a:cubicBezTo>
                          <a:pt x="1571" y="1569"/>
                          <a:pt x="1585" y="1568"/>
                          <a:pt x="1598" y="1563"/>
                        </a:cubicBezTo>
                        <a:cubicBezTo>
                          <a:pt x="1631" y="1532"/>
                          <a:pt x="1682" y="1529"/>
                          <a:pt x="1724" y="1517"/>
                        </a:cubicBezTo>
                        <a:cubicBezTo>
                          <a:pt x="1741" y="1491"/>
                          <a:pt x="1744" y="1463"/>
                          <a:pt x="1757" y="1437"/>
                        </a:cubicBezTo>
                        <a:cubicBezTo>
                          <a:pt x="1774" y="1401"/>
                          <a:pt x="1764" y="1431"/>
                          <a:pt x="1784" y="1404"/>
                        </a:cubicBezTo>
                        <a:cubicBezTo>
                          <a:pt x="1812" y="1367"/>
                          <a:pt x="1819" y="1343"/>
                          <a:pt x="1857" y="1318"/>
                        </a:cubicBezTo>
                        <a:cubicBezTo>
                          <a:pt x="1892" y="1295"/>
                          <a:pt x="2013" y="1300"/>
                          <a:pt x="2055" y="1291"/>
                        </a:cubicBezTo>
                        <a:cubicBezTo>
                          <a:pt x="2097" y="1282"/>
                          <a:pt x="2090" y="1252"/>
                          <a:pt x="2108" y="1265"/>
                        </a:cubicBezTo>
                        <a:cubicBezTo>
                          <a:pt x="2154" y="1254"/>
                          <a:pt x="2151" y="1376"/>
                          <a:pt x="2161" y="1371"/>
                        </a:cubicBezTo>
                        <a:cubicBezTo>
                          <a:pt x="2187" y="1392"/>
                          <a:pt x="2235" y="1381"/>
                          <a:pt x="2267" y="1391"/>
                        </a:cubicBezTo>
                        <a:cubicBezTo>
                          <a:pt x="2299" y="1401"/>
                          <a:pt x="2339" y="1428"/>
                          <a:pt x="2353" y="1431"/>
                        </a:cubicBezTo>
                        <a:cubicBezTo>
                          <a:pt x="2367" y="1434"/>
                          <a:pt x="2362" y="1431"/>
                          <a:pt x="2353" y="1411"/>
                        </a:cubicBezTo>
                        <a:cubicBezTo>
                          <a:pt x="2344" y="1391"/>
                          <a:pt x="2331" y="1341"/>
                          <a:pt x="2300" y="1311"/>
                        </a:cubicBezTo>
                        <a:cubicBezTo>
                          <a:pt x="2269" y="1281"/>
                          <a:pt x="2194" y="1266"/>
                          <a:pt x="2168" y="1232"/>
                        </a:cubicBezTo>
                        <a:cubicBezTo>
                          <a:pt x="2199" y="1184"/>
                          <a:pt x="2176" y="1141"/>
                          <a:pt x="2141" y="1106"/>
                        </a:cubicBezTo>
                        <a:cubicBezTo>
                          <a:pt x="2117" y="1108"/>
                          <a:pt x="2091" y="1105"/>
                          <a:pt x="2068" y="1113"/>
                        </a:cubicBezTo>
                        <a:cubicBezTo>
                          <a:pt x="2061" y="1115"/>
                          <a:pt x="2067" y="1128"/>
                          <a:pt x="2062" y="1133"/>
                        </a:cubicBezTo>
                        <a:cubicBezTo>
                          <a:pt x="2057" y="1138"/>
                          <a:pt x="2049" y="1137"/>
                          <a:pt x="2042" y="1139"/>
                        </a:cubicBezTo>
                        <a:cubicBezTo>
                          <a:pt x="2044" y="1124"/>
                          <a:pt x="2052" y="1108"/>
                          <a:pt x="2049" y="1093"/>
                        </a:cubicBezTo>
                        <a:cubicBezTo>
                          <a:pt x="2047" y="1085"/>
                          <a:pt x="2034" y="1086"/>
                          <a:pt x="2029" y="1080"/>
                        </a:cubicBezTo>
                        <a:cubicBezTo>
                          <a:pt x="2025" y="1075"/>
                          <a:pt x="2026" y="1065"/>
                          <a:pt x="2022" y="1060"/>
                        </a:cubicBezTo>
                        <a:cubicBezTo>
                          <a:pt x="2010" y="1046"/>
                          <a:pt x="1986" y="1032"/>
                          <a:pt x="1969" y="1027"/>
                        </a:cubicBezTo>
                        <a:cubicBezTo>
                          <a:pt x="1927" y="998"/>
                          <a:pt x="1959" y="1028"/>
                          <a:pt x="1943" y="947"/>
                        </a:cubicBezTo>
                        <a:cubicBezTo>
                          <a:pt x="1934" y="923"/>
                          <a:pt x="1928" y="880"/>
                          <a:pt x="1909" y="861"/>
                        </a:cubicBezTo>
                        <a:cubicBezTo>
                          <a:pt x="1896" y="841"/>
                          <a:pt x="1880" y="819"/>
                          <a:pt x="1863" y="828"/>
                        </a:cubicBezTo>
                        <a:cubicBezTo>
                          <a:pt x="1854" y="854"/>
                          <a:pt x="1812" y="887"/>
                          <a:pt x="1804" y="914"/>
                        </a:cubicBezTo>
                        <a:cubicBezTo>
                          <a:pt x="1752" y="903"/>
                          <a:pt x="1722" y="887"/>
                          <a:pt x="1704" y="835"/>
                        </a:cubicBezTo>
                        <a:cubicBezTo>
                          <a:pt x="1699" y="799"/>
                          <a:pt x="1686" y="768"/>
                          <a:pt x="1651" y="749"/>
                        </a:cubicBezTo>
                        <a:cubicBezTo>
                          <a:pt x="1639" y="742"/>
                          <a:pt x="1612" y="735"/>
                          <a:pt x="1612" y="735"/>
                        </a:cubicBezTo>
                        <a:cubicBezTo>
                          <a:pt x="1593" y="717"/>
                          <a:pt x="1577" y="715"/>
                          <a:pt x="1552" y="709"/>
                        </a:cubicBezTo>
                        <a:cubicBezTo>
                          <a:pt x="1525" y="717"/>
                          <a:pt x="1515" y="717"/>
                          <a:pt x="1499" y="742"/>
                        </a:cubicBezTo>
                        <a:cubicBezTo>
                          <a:pt x="1508" y="768"/>
                          <a:pt x="1509" y="795"/>
                          <a:pt x="1519" y="821"/>
                        </a:cubicBezTo>
                        <a:cubicBezTo>
                          <a:pt x="1511" y="843"/>
                          <a:pt x="1499" y="855"/>
                          <a:pt x="1486" y="874"/>
                        </a:cubicBezTo>
                        <a:cubicBezTo>
                          <a:pt x="1492" y="894"/>
                          <a:pt x="1506" y="934"/>
                          <a:pt x="1506" y="934"/>
                        </a:cubicBezTo>
                        <a:cubicBezTo>
                          <a:pt x="1504" y="976"/>
                          <a:pt x="1507" y="1019"/>
                          <a:pt x="1499" y="1060"/>
                        </a:cubicBezTo>
                        <a:cubicBezTo>
                          <a:pt x="1498" y="1067"/>
                          <a:pt x="1486" y="1064"/>
                          <a:pt x="1479" y="1066"/>
                        </a:cubicBezTo>
                        <a:cubicBezTo>
                          <a:pt x="1466" y="1070"/>
                          <a:pt x="1439" y="1080"/>
                          <a:pt x="1439" y="1080"/>
                        </a:cubicBezTo>
                        <a:cubicBezTo>
                          <a:pt x="1441" y="1094"/>
                          <a:pt x="1449" y="1168"/>
                          <a:pt x="1453" y="1186"/>
                        </a:cubicBezTo>
                        <a:cubicBezTo>
                          <a:pt x="1456" y="1199"/>
                          <a:pt x="1466" y="1225"/>
                          <a:pt x="1466" y="1225"/>
                        </a:cubicBezTo>
                        <a:cubicBezTo>
                          <a:pt x="1436" y="1235"/>
                          <a:pt x="1410" y="1234"/>
                          <a:pt x="1386" y="1212"/>
                        </a:cubicBezTo>
                        <a:cubicBezTo>
                          <a:pt x="1373" y="1167"/>
                          <a:pt x="1391" y="1219"/>
                          <a:pt x="1360" y="1172"/>
                        </a:cubicBezTo>
                        <a:cubicBezTo>
                          <a:pt x="1358" y="1169"/>
                          <a:pt x="1348" y="1136"/>
                          <a:pt x="1347" y="1133"/>
                        </a:cubicBezTo>
                        <a:cubicBezTo>
                          <a:pt x="1354" y="1111"/>
                          <a:pt x="1366" y="1102"/>
                          <a:pt x="1373" y="1080"/>
                        </a:cubicBezTo>
                        <a:cubicBezTo>
                          <a:pt x="1371" y="1069"/>
                          <a:pt x="1373" y="1057"/>
                          <a:pt x="1367" y="1047"/>
                        </a:cubicBezTo>
                        <a:cubicBezTo>
                          <a:pt x="1338" y="999"/>
                          <a:pt x="1263" y="989"/>
                          <a:pt x="1214" y="974"/>
                        </a:cubicBezTo>
                        <a:cubicBezTo>
                          <a:pt x="1204" y="964"/>
                          <a:pt x="1200" y="948"/>
                          <a:pt x="1188" y="941"/>
                        </a:cubicBezTo>
                        <a:cubicBezTo>
                          <a:pt x="1164" y="926"/>
                          <a:pt x="1128" y="923"/>
                          <a:pt x="1102" y="914"/>
                        </a:cubicBezTo>
                        <a:cubicBezTo>
                          <a:pt x="1098" y="907"/>
                          <a:pt x="1092" y="901"/>
                          <a:pt x="1089" y="894"/>
                        </a:cubicBezTo>
                        <a:cubicBezTo>
                          <a:pt x="1083" y="881"/>
                          <a:pt x="1075" y="855"/>
                          <a:pt x="1075" y="855"/>
                        </a:cubicBezTo>
                        <a:cubicBezTo>
                          <a:pt x="1070" y="825"/>
                          <a:pt x="1069" y="810"/>
                          <a:pt x="1049" y="788"/>
                        </a:cubicBezTo>
                        <a:cubicBezTo>
                          <a:pt x="1037" y="755"/>
                          <a:pt x="1038" y="779"/>
                          <a:pt x="1062" y="755"/>
                        </a:cubicBezTo>
                        <a:cubicBezTo>
                          <a:pt x="1068" y="749"/>
                          <a:pt x="1070" y="741"/>
                          <a:pt x="1075" y="735"/>
                        </a:cubicBezTo>
                        <a:cubicBezTo>
                          <a:pt x="1102" y="702"/>
                          <a:pt x="1142" y="688"/>
                          <a:pt x="1181" y="676"/>
                        </a:cubicBezTo>
                        <a:cubicBezTo>
                          <a:pt x="1185" y="669"/>
                          <a:pt x="1191" y="664"/>
                          <a:pt x="1194" y="656"/>
                        </a:cubicBezTo>
                        <a:cubicBezTo>
                          <a:pt x="1198" y="643"/>
                          <a:pt x="1194" y="628"/>
                          <a:pt x="1201" y="616"/>
                        </a:cubicBezTo>
                        <a:cubicBezTo>
                          <a:pt x="1207" y="606"/>
                          <a:pt x="1271" y="599"/>
                          <a:pt x="1287" y="596"/>
                        </a:cubicBezTo>
                        <a:cubicBezTo>
                          <a:pt x="1301" y="556"/>
                          <a:pt x="1281" y="584"/>
                          <a:pt x="1267" y="543"/>
                        </a:cubicBezTo>
                        <a:cubicBezTo>
                          <a:pt x="1292" y="520"/>
                          <a:pt x="1315" y="534"/>
                          <a:pt x="1340" y="550"/>
                        </a:cubicBezTo>
                        <a:cubicBezTo>
                          <a:pt x="1356" y="506"/>
                          <a:pt x="1340" y="508"/>
                          <a:pt x="1400" y="517"/>
                        </a:cubicBezTo>
                        <a:cubicBezTo>
                          <a:pt x="1411" y="515"/>
                          <a:pt x="1425" y="518"/>
                          <a:pt x="1433" y="510"/>
                        </a:cubicBezTo>
                        <a:cubicBezTo>
                          <a:pt x="1458" y="485"/>
                          <a:pt x="1431" y="456"/>
                          <a:pt x="1413" y="444"/>
                        </a:cubicBezTo>
                        <a:cubicBezTo>
                          <a:pt x="1420" y="423"/>
                          <a:pt x="1435" y="390"/>
                          <a:pt x="1413" y="371"/>
                        </a:cubicBezTo>
                        <a:cubicBezTo>
                          <a:pt x="1401" y="361"/>
                          <a:pt x="1382" y="376"/>
                          <a:pt x="1367" y="378"/>
                        </a:cubicBezTo>
                        <a:cubicBezTo>
                          <a:pt x="1355" y="413"/>
                          <a:pt x="1386" y="435"/>
                          <a:pt x="1340" y="451"/>
                        </a:cubicBezTo>
                        <a:cubicBezTo>
                          <a:pt x="1333" y="443"/>
                          <a:pt x="1317" y="428"/>
                          <a:pt x="1314" y="418"/>
                        </a:cubicBezTo>
                        <a:cubicBezTo>
                          <a:pt x="1310" y="405"/>
                          <a:pt x="1316" y="388"/>
                          <a:pt x="1307" y="378"/>
                        </a:cubicBezTo>
                        <a:cubicBezTo>
                          <a:pt x="1300" y="369"/>
                          <a:pt x="1285" y="373"/>
                          <a:pt x="1274" y="371"/>
                        </a:cubicBezTo>
                        <a:cubicBezTo>
                          <a:pt x="1264" y="344"/>
                          <a:pt x="1272" y="325"/>
                          <a:pt x="1281" y="298"/>
                        </a:cubicBezTo>
                        <a:cubicBezTo>
                          <a:pt x="1269" y="242"/>
                          <a:pt x="1260" y="258"/>
                          <a:pt x="1201" y="265"/>
                        </a:cubicBezTo>
                        <a:cubicBezTo>
                          <a:pt x="1184" y="313"/>
                          <a:pt x="1190" y="343"/>
                          <a:pt x="1221" y="384"/>
                        </a:cubicBezTo>
                        <a:cubicBezTo>
                          <a:pt x="1227" y="400"/>
                          <a:pt x="1235" y="413"/>
                          <a:pt x="1221" y="431"/>
                        </a:cubicBezTo>
                        <a:cubicBezTo>
                          <a:pt x="1217" y="436"/>
                          <a:pt x="1208" y="435"/>
                          <a:pt x="1201" y="437"/>
                        </a:cubicBezTo>
                        <a:cubicBezTo>
                          <a:pt x="1188" y="441"/>
                          <a:pt x="1161" y="451"/>
                          <a:pt x="1161" y="451"/>
                        </a:cubicBezTo>
                        <a:cubicBezTo>
                          <a:pt x="1111" y="438"/>
                          <a:pt x="1141" y="435"/>
                          <a:pt x="1122" y="398"/>
                        </a:cubicBezTo>
                        <a:cubicBezTo>
                          <a:pt x="1111" y="376"/>
                          <a:pt x="1070" y="371"/>
                          <a:pt x="1049" y="365"/>
                        </a:cubicBezTo>
                        <a:cubicBezTo>
                          <a:pt x="1036" y="351"/>
                          <a:pt x="1002" y="331"/>
                          <a:pt x="983" y="325"/>
                        </a:cubicBezTo>
                        <a:cubicBezTo>
                          <a:pt x="924" y="334"/>
                          <a:pt x="939" y="333"/>
                          <a:pt x="930" y="391"/>
                        </a:cubicBezTo>
                        <a:cubicBezTo>
                          <a:pt x="885" y="375"/>
                          <a:pt x="899" y="325"/>
                          <a:pt x="863" y="312"/>
                        </a:cubicBezTo>
                        <a:cubicBezTo>
                          <a:pt x="851" y="307"/>
                          <a:pt x="837" y="307"/>
                          <a:pt x="824" y="305"/>
                        </a:cubicBezTo>
                        <a:cubicBezTo>
                          <a:pt x="813" y="274"/>
                          <a:pt x="830" y="261"/>
                          <a:pt x="817" y="226"/>
                        </a:cubicBezTo>
                        <a:cubicBezTo>
                          <a:pt x="813" y="216"/>
                          <a:pt x="791" y="204"/>
                          <a:pt x="784" y="199"/>
                        </a:cubicBezTo>
                        <a:cubicBezTo>
                          <a:pt x="780" y="192"/>
                          <a:pt x="777" y="185"/>
                          <a:pt x="771" y="179"/>
                        </a:cubicBezTo>
                        <a:cubicBezTo>
                          <a:pt x="765" y="173"/>
                          <a:pt x="756" y="172"/>
                          <a:pt x="751" y="166"/>
                        </a:cubicBezTo>
                        <a:cubicBezTo>
                          <a:pt x="742" y="155"/>
                          <a:pt x="748" y="136"/>
                          <a:pt x="738" y="126"/>
                        </a:cubicBezTo>
                        <a:cubicBezTo>
                          <a:pt x="726" y="114"/>
                          <a:pt x="669" y="108"/>
                          <a:pt x="658" y="106"/>
                        </a:cubicBezTo>
                        <a:cubicBezTo>
                          <a:pt x="626" y="59"/>
                          <a:pt x="611" y="49"/>
                          <a:pt x="552" y="40"/>
                        </a:cubicBezTo>
                        <a:cubicBezTo>
                          <a:pt x="544" y="14"/>
                          <a:pt x="538" y="9"/>
                          <a:pt x="513" y="0"/>
                        </a:cubicBezTo>
                        <a:cubicBezTo>
                          <a:pt x="492" y="21"/>
                          <a:pt x="468" y="45"/>
                          <a:pt x="440" y="53"/>
                        </a:cubicBezTo>
                        <a:cubicBezTo>
                          <a:pt x="389" y="104"/>
                          <a:pt x="323" y="135"/>
                          <a:pt x="254" y="153"/>
                        </a:cubicBezTo>
                        <a:cubicBezTo>
                          <a:pt x="229" y="169"/>
                          <a:pt x="197" y="183"/>
                          <a:pt x="168" y="192"/>
                        </a:cubicBezTo>
                        <a:cubicBezTo>
                          <a:pt x="142" y="210"/>
                          <a:pt x="118" y="214"/>
                          <a:pt x="102" y="245"/>
                        </a:cubicBezTo>
                        <a:cubicBezTo>
                          <a:pt x="98" y="252"/>
                          <a:pt x="91" y="277"/>
                          <a:pt x="89" y="285"/>
                        </a:cubicBezTo>
                        <a:cubicBezTo>
                          <a:pt x="87" y="292"/>
                          <a:pt x="88" y="308"/>
                          <a:pt x="82" y="305"/>
                        </a:cubicBezTo>
                        <a:cubicBezTo>
                          <a:pt x="74" y="301"/>
                          <a:pt x="78" y="288"/>
                          <a:pt x="76" y="279"/>
                        </a:cubicBezTo>
                        <a:close/>
                      </a:path>
                    </a:pathLst>
                  </a:custGeom>
                  <a:gradFill rotWithShape="0">
                    <a:gsLst>
                      <a:gs pos="0">
                        <a:srgbClr val="ffcc00"/>
                      </a:gs>
                      <a:gs pos="100000">
                        <a:srgbClr val="765e00"/>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Freeform 193"/>
                  <p:cNvSpPr/>
                  <p:nvPr/>
                </p:nvSpPr>
                <p:spPr>
                  <a:xfrm rot="20104200">
                    <a:off x="6447240" y="2538000"/>
                    <a:ext cx="987120" cy="844560"/>
                  </a:xfrm>
                  <a:custGeom>
                    <a:avLst/>
                    <a:gdLst>
                      <a:gd name="textAreaLeft" fmla="*/ 0 w 987120"/>
                      <a:gd name="textAreaRight" fmla="*/ 987480 w 987120"/>
                      <a:gd name="textAreaTop" fmla="*/ 0 h 844560"/>
                      <a:gd name="textAreaBottom" fmla="*/ 844920 h 844560"/>
                    </a:gdLst>
                    <a:ahLst/>
                    <a:rect l="textAreaLeft" t="textAreaTop" r="textAreaRight" b="textAreaBottom"/>
                    <a:pathLst>
                      <a:path w="1615" h="1583">
                        <a:moveTo>
                          <a:pt x="14" y="20"/>
                        </a:moveTo>
                        <a:cubicBezTo>
                          <a:pt x="18" y="51"/>
                          <a:pt x="24" y="82"/>
                          <a:pt x="27" y="113"/>
                        </a:cubicBezTo>
                        <a:cubicBezTo>
                          <a:pt x="31" y="155"/>
                          <a:pt x="18" y="203"/>
                          <a:pt x="40" y="239"/>
                        </a:cubicBezTo>
                        <a:cubicBezTo>
                          <a:pt x="47" y="251"/>
                          <a:pt x="59" y="260"/>
                          <a:pt x="67" y="272"/>
                        </a:cubicBezTo>
                        <a:cubicBezTo>
                          <a:pt x="66" y="272"/>
                          <a:pt x="27" y="284"/>
                          <a:pt x="27" y="285"/>
                        </a:cubicBezTo>
                        <a:cubicBezTo>
                          <a:pt x="25" y="293"/>
                          <a:pt x="49" y="313"/>
                          <a:pt x="54" y="318"/>
                        </a:cubicBezTo>
                        <a:cubicBezTo>
                          <a:pt x="67" y="362"/>
                          <a:pt x="89" y="399"/>
                          <a:pt x="100" y="444"/>
                        </a:cubicBezTo>
                        <a:cubicBezTo>
                          <a:pt x="107" y="476"/>
                          <a:pt x="101" y="493"/>
                          <a:pt x="133" y="503"/>
                        </a:cubicBezTo>
                        <a:cubicBezTo>
                          <a:pt x="142" y="529"/>
                          <a:pt x="158" y="548"/>
                          <a:pt x="166" y="576"/>
                        </a:cubicBezTo>
                        <a:cubicBezTo>
                          <a:pt x="170" y="569"/>
                          <a:pt x="179" y="564"/>
                          <a:pt x="179" y="556"/>
                        </a:cubicBezTo>
                        <a:cubicBezTo>
                          <a:pt x="179" y="531"/>
                          <a:pt x="148" y="484"/>
                          <a:pt x="140" y="457"/>
                        </a:cubicBezTo>
                        <a:cubicBezTo>
                          <a:pt x="135" y="355"/>
                          <a:pt x="133" y="287"/>
                          <a:pt x="80" y="205"/>
                        </a:cubicBezTo>
                        <a:cubicBezTo>
                          <a:pt x="69" y="173"/>
                          <a:pt x="50" y="147"/>
                          <a:pt x="93" y="133"/>
                        </a:cubicBezTo>
                        <a:cubicBezTo>
                          <a:pt x="104" y="135"/>
                          <a:pt x="120" y="130"/>
                          <a:pt x="127" y="139"/>
                        </a:cubicBezTo>
                        <a:cubicBezTo>
                          <a:pt x="139" y="156"/>
                          <a:pt x="134" y="179"/>
                          <a:pt x="140" y="199"/>
                        </a:cubicBezTo>
                        <a:cubicBezTo>
                          <a:pt x="151" y="237"/>
                          <a:pt x="164" y="304"/>
                          <a:pt x="193" y="331"/>
                        </a:cubicBezTo>
                        <a:cubicBezTo>
                          <a:pt x="208" y="382"/>
                          <a:pt x="205" y="465"/>
                          <a:pt x="246" y="503"/>
                        </a:cubicBezTo>
                        <a:cubicBezTo>
                          <a:pt x="254" y="531"/>
                          <a:pt x="258" y="542"/>
                          <a:pt x="279" y="563"/>
                        </a:cubicBezTo>
                        <a:cubicBezTo>
                          <a:pt x="285" y="582"/>
                          <a:pt x="304" y="615"/>
                          <a:pt x="319" y="629"/>
                        </a:cubicBezTo>
                        <a:cubicBezTo>
                          <a:pt x="321" y="658"/>
                          <a:pt x="312" y="833"/>
                          <a:pt x="365" y="848"/>
                        </a:cubicBezTo>
                        <a:cubicBezTo>
                          <a:pt x="384" y="853"/>
                          <a:pt x="404" y="852"/>
                          <a:pt x="424" y="854"/>
                        </a:cubicBezTo>
                        <a:cubicBezTo>
                          <a:pt x="455" y="876"/>
                          <a:pt x="449" y="894"/>
                          <a:pt x="491" y="907"/>
                        </a:cubicBezTo>
                        <a:cubicBezTo>
                          <a:pt x="503" y="920"/>
                          <a:pt x="559" y="955"/>
                          <a:pt x="577" y="960"/>
                        </a:cubicBezTo>
                        <a:cubicBezTo>
                          <a:pt x="597" y="973"/>
                          <a:pt x="607" y="986"/>
                          <a:pt x="630" y="993"/>
                        </a:cubicBezTo>
                        <a:cubicBezTo>
                          <a:pt x="651" y="1008"/>
                          <a:pt x="662" y="1025"/>
                          <a:pt x="683" y="1040"/>
                        </a:cubicBezTo>
                        <a:cubicBezTo>
                          <a:pt x="709" y="1080"/>
                          <a:pt x="758" y="1075"/>
                          <a:pt x="802" y="1079"/>
                        </a:cubicBezTo>
                        <a:cubicBezTo>
                          <a:pt x="841" y="1093"/>
                          <a:pt x="854" y="1117"/>
                          <a:pt x="881" y="1146"/>
                        </a:cubicBezTo>
                        <a:cubicBezTo>
                          <a:pt x="883" y="1152"/>
                          <a:pt x="882" y="1161"/>
                          <a:pt x="888" y="1165"/>
                        </a:cubicBezTo>
                        <a:cubicBezTo>
                          <a:pt x="900" y="1173"/>
                          <a:pt x="928" y="1179"/>
                          <a:pt x="928" y="1179"/>
                        </a:cubicBezTo>
                        <a:cubicBezTo>
                          <a:pt x="987" y="1241"/>
                          <a:pt x="992" y="1237"/>
                          <a:pt x="1080" y="1245"/>
                        </a:cubicBezTo>
                        <a:cubicBezTo>
                          <a:pt x="1146" y="1288"/>
                          <a:pt x="1097" y="1260"/>
                          <a:pt x="1139" y="1305"/>
                        </a:cubicBezTo>
                        <a:cubicBezTo>
                          <a:pt x="1149" y="1354"/>
                          <a:pt x="1137" y="1332"/>
                          <a:pt x="1186" y="1364"/>
                        </a:cubicBezTo>
                        <a:cubicBezTo>
                          <a:pt x="1193" y="1368"/>
                          <a:pt x="1206" y="1377"/>
                          <a:pt x="1206" y="1377"/>
                        </a:cubicBezTo>
                        <a:cubicBezTo>
                          <a:pt x="1204" y="1386"/>
                          <a:pt x="1199" y="1395"/>
                          <a:pt x="1199" y="1404"/>
                        </a:cubicBezTo>
                        <a:cubicBezTo>
                          <a:pt x="1199" y="1448"/>
                          <a:pt x="1262" y="1497"/>
                          <a:pt x="1298" y="1510"/>
                        </a:cubicBezTo>
                        <a:cubicBezTo>
                          <a:pt x="1321" y="1531"/>
                          <a:pt x="1346" y="1539"/>
                          <a:pt x="1371" y="1556"/>
                        </a:cubicBezTo>
                        <a:cubicBezTo>
                          <a:pt x="1434" y="1543"/>
                          <a:pt x="1421" y="1566"/>
                          <a:pt x="1471" y="1583"/>
                        </a:cubicBezTo>
                        <a:cubicBezTo>
                          <a:pt x="1510" y="1568"/>
                          <a:pt x="1488" y="1546"/>
                          <a:pt x="1477" y="1516"/>
                        </a:cubicBezTo>
                        <a:cubicBezTo>
                          <a:pt x="1530" y="1500"/>
                          <a:pt x="1533" y="1531"/>
                          <a:pt x="1563" y="1563"/>
                        </a:cubicBezTo>
                        <a:cubicBezTo>
                          <a:pt x="1576" y="1561"/>
                          <a:pt x="1595" y="1567"/>
                          <a:pt x="1603" y="1556"/>
                        </a:cubicBezTo>
                        <a:cubicBezTo>
                          <a:pt x="1615" y="1539"/>
                          <a:pt x="1571" y="1474"/>
                          <a:pt x="1557" y="1463"/>
                        </a:cubicBezTo>
                        <a:cubicBezTo>
                          <a:pt x="1546" y="1454"/>
                          <a:pt x="1530" y="1456"/>
                          <a:pt x="1517" y="1450"/>
                        </a:cubicBezTo>
                        <a:cubicBezTo>
                          <a:pt x="1455" y="1419"/>
                          <a:pt x="1423" y="1422"/>
                          <a:pt x="1345" y="1417"/>
                        </a:cubicBezTo>
                        <a:cubicBezTo>
                          <a:pt x="1320" y="1345"/>
                          <a:pt x="1338" y="1274"/>
                          <a:pt x="1345" y="1199"/>
                        </a:cubicBezTo>
                        <a:cubicBezTo>
                          <a:pt x="1341" y="1181"/>
                          <a:pt x="1346" y="1156"/>
                          <a:pt x="1331" y="1146"/>
                        </a:cubicBezTo>
                        <a:cubicBezTo>
                          <a:pt x="1314" y="1135"/>
                          <a:pt x="1292" y="1137"/>
                          <a:pt x="1272" y="1132"/>
                        </a:cubicBezTo>
                        <a:cubicBezTo>
                          <a:pt x="1234" y="1107"/>
                          <a:pt x="1182" y="1094"/>
                          <a:pt x="1139" y="1079"/>
                        </a:cubicBezTo>
                        <a:cubicBezTo>
                          <a:pt x="1128" y="1081"/>
                          <a:pt x="1116" y="1090"/>
                          <a:pt x="1106" y="1086"/>
                        </a:cubicBezTo>
                        <a:cubicBezTo>
                          <a:pt x="1080" y="1075"/>
                          <a:pt x="1100" y="1000"/>
                          <a:pt x="1100" y="1000"/>
                        </a:cubicBezTo>
                        <a:cubicBezTo>
                          <a:pt x="1106" y="985"/>
                          <a:pt x="1130" y="991"/>
                          <a:pt x="1146" y="987"/>
                        </a:cubicBezTo>
                        <a:cubicBezTo>
                          <a:pt x="1144" y="971"/>
                          <a:pt x="1142" y="956"/>
                          <a:pt x="1139" y="940"/>
                        </a:cubicBezTo>
                        <a:cubicBezTo>
                          <a:pt x="1138" y="933"/>
                          <a:pt x="1130" y="927"/>
                          <a:pt x="1133" y="921"/>
                        </a:cubicBezTo>
                        <a:cubicBezTo>
                          <a:pt x="1136" y="915"/>
                          <a:pt x="1146" y="916"/>
                          <a:pt x="1153" y="914"/>
                        </a:cubicBezTo>
                        <a:cubicBezTo>
                          <a:pt x="1203" y="837"/>
                          <a:pt x="1159" y="813"/>
                          <a:pt x="1100" y="795"/>
                        </a:cubicBezTo>
                        <a:cubicBezTo>
                          <a:pt x="1074" y="801"/>
                          <a:pt x="1059" y="813"/>
                          <a:pt x="1034" y="821"/>
                        </a:cubicBezTo>
                        <a:cubicBezTo>
                          <a:pt x="1002" y="851"/>
                          <a:pt x="1023" y="870"/>
                          <a:pt x="1007" y="914"/>
                        </a:cubicBezTo>
                        <a:cubicBezTo>
                          <a:pt x="1002" y="929"/>
                          <a:pt x="960" y="936"/>
                          <a:pt x="947" y="940"/>
                        </a:cubicBezTo>
                        <a:cubicBezTo>
                          <a:pt x="906" y="935"/>
                          <a:pt x="896" y="926"/>
                          <a:pt x="861" y="914"/>
                        </a:cubicBezTo>
                        <a:cubicBezTo>
                          <a:pt x="834" y="924"/>
                          <a:pt x="824" y="928"/>
                          <a:pt x="795" y="921"/>
                        </a:cubicBezTo>
                        <a:cubicBezTo>
                          <a:pt x="748" y="870"/>
                          <a:pt x="821" y="951"/>
                          <a:pt x="769" y="887"/>
                        </a:cubicBezTo>
                        <a:cubicBezTo>
                          <a:pt x="756" y="871"/>
                          <a:pt x="737" y="862"/>
                          <a:pt x="722" y="848"/>
                        </a:cubicBezTo>
                        <a:cubicBezTo>
                          <a:pt x="718" y="835"/>
                          <a:pt x="711" y="822"/>
                          <a:pt x="709" y="808"/>
                        </a:cubicBezTo>
                        <a:cubicBezTo>
                          <a:pt x="697" y="724"/>
                          <a:pt x="722" y="753"/>
                          <a:pt x="689" y="722"/>
                        </a:cubicBezTo>
                        <a:cubicBezTo>
                          <a:pt x="687" y="715"/>
                          <a:pt x="681" y="709"/>
                          <a:pt x="683" y="702"/>
                        </a:cubicBezTo>
                        <a:cubicBezTo>
                          <a:pt x="688" y="687"/>
                          <a:pt x="709" y="662"/>
                          <a:pt x="709" y="662"/>
                        </a:cubicBezTo>
                        <a:cubicBezTo>
                          <a:pt x="716" y="592"/>
                          <a:pt x="724" y="593"/>
                          <a:pt x="742" y="537"/>
                        </a:cubicBezTo>
                        <a:cubicBezTo>
                          <a:pt x="725" y="501"/>
                          <a:pt x="714" y="483"/>
                          <a:pt x="676" y="470"/>
                        </a:cubicBezTo>
                        <a:cubicBezTo>
                          <a:pt x="646" y="426"/>
                          <a:pt x="661" y="442"/>
                          <a:pt x="636" y="417"/>
                        </a:cubicBezTo>
                        <a:cubicBezTo>
                          <a:pt x="629" y="393"/>
                          <a:pt x="618" y="383"/>
                          <a:pt x="603" y="364"/>
                        </a:cubicBezTo>
                        <a:cubicBezTo>
                          <a:pt x="589" y="346"/>
                          <a:pt x="586" y="321"/>
                          <a:pt x="570" y="305"/>
                        </a:cubicBezTo>
                        <a:cubicBezTo>
                          <a:pt x="544" y="279"/>
                          <a:pt x="519" y="272"/>
                          <a:pt x="484" y="265"/>
                        </a:cubicBezTo>
                        <a:cubicBezTo>
                          <a:pt x="472" y="246"/>
                          <a:pt x="461" y="225"/>
                          <a:pt x="451" y="205"/>
                        </a:cubicBezTo>
                        <a:cubicBezTo>
                          <a:pt x="445" y="193"/>
                          <a:pt x="445" y="178"/>
                          <a:pt x="438" y="166"/>
                        </a:cubicBezTo>
                        <a:cubicBezTo>
                          <a:pt x="413" y="125"/>
                          <a:pt x="341" y="118"/>
                          <a:pt x="299" y="113"/>
                        </a:cubicBezTo>
                        <a:cubicBezTo>
                          <a:pt x="264" y="101"/>
                          <a:pt x="229" y="98"/>
                          <a:pt x="193" y="93"/>
                        </a:cubicBezTo>
                        <a:cubicBezTo>
                          <a:pt x="167" y="69"/>
                          <a:pt x="141" y="37"/>
                          <a:pt x="107" y="27"/>
                        </a:cubicBezTo>
                        <a:cubicBezTo>
                          <a:pt x="80" y="0"/>
                          <a:pt x="68" y="8"/>
                          <a:pt x="27" y="13"/>
                        </a:cubicBezTo>
                        <a:cubicBezTo>
                          <a:pt x="5" y="21"/>
                          <a:pt x="0" y="20"/>
                          <a:pt x="14" y="20"/>
                        </a:cubicBezTo>
                        <a:close/>
                      </a:path>
                    </a:pathLst>
                  </a:custGeom>
                  <a:gradFill rotWithShape="0">
                    <a:gsLst>
                      <a:gs pos="0">
                        <a:srgbClr val="ff6699"/>
                      </a:gs>
                      <a:gs pos="100000">
                        <a:srgbClr val="762f47"/>
                      </a:gs>
                    </a:gsLst>
                    <a:lin ang="6894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Freeform 198"/>
                  <p:cNvSpPr/>
                  <p:nvPr/>
                </p:nvSpPr>
                <p:spPr>
                  <a:xfrm rot="20104200">
                    <a:off x="6938640" y="1125360"/>
                    <a:ext cx="543240" cy="569520"/>
                  </a:xfrm>
                  <a:custGeom>
                    <a:avLst/>
                    <a:gdLst>
                      <a:gd name="textAreaLeft" fmla="*/ 0 w 543240"/>
                      <a:gd name="textAreaRight" fmla="*/ 543600 w 543240"/>
                      <a:gd name="textAreaTop" fmla="*/ 0 h 569520"/>
                      <a:gd name="textAreaBottom" fmla="*/ 569880 h 569520"/>
                    </a:gdLst>
                    <a:ahLst/>
                    <a:rect l="textAreaLeft" t="textAreaTop" r="textAreaRight" b="textAreaBottom"/>
                    <a:pathLst>
                      <a:path w="890" h="1068">
                        <a:moveTo>
                          <a:pt x="185" y="378"/>
                        </a:moveTo>
                        <a:cubicBezTo>
                          <a:pt x="193" y="402"/>
                          <a:pt x="193" y="417"/>
                          <a:pt x="212" y="431"/>
                        </a:cubicBezTo>
                        <a:cubicBezTo>
                          <a:pt x="225" y="441"/>
                          <a:pt x="252" y="457"/>
                          <a:pt x="252" y="457"/>
                        </a:cubicBezTo>
                        <a:cubicBezTo>
                          <a:pt x="256" y="464"/>
                          <a:pt x="259" y="471"/>
                          <a:pt x="265" y="477"/>
                        </a:cubicBezTo>
                        <a:cubicBezTo>
                          <a:pt x="271" y="483"/>
                          <a:pt x="280" y="484"/>
                          <a:pt x="285" y="490"/>
                        </a:cubicBezTo>
                        <a:cubicBezTo>
                          <a:pt x="289" y="495"/>
                          <a:pt x="287" y="504"/>
                          <a:pt x="291" y="510"/>
                        </a:cubicBezTo>
                        <a:cubicBezTo>
                          <a:pt x="294" y="515"/>
                          <a:pt x="300" y="519"/>
                          <a:pt x="305" y="523"/>
                        </a:cubicBezTo>
                        <a:cubicBezTo>
                          <a:pt x="317" y="563"/>
                          <a:pt x="310" y="562"/>
                          <a:pt x="358" y="570"/>
                        </a:cubicBezTo>
                        <a:cubicBezTo>
                          <a:pt x="356" y="583"/>
                          <a:pt x="358" y="598"/>
                          <a:pt x="351" y="609"/>
                        </a:cubicBezTo>
                        <a:cubicBezTo>
                          <a:pt x="347" y="615"/>
                          <a:pt x="334" y="609"/>
                          <a:pt x="331" y="616"/>
                        </a:cubicBezTo>
                        <a:cubicBezTo>
                          <a:pt x="321" y="642"/>
                          <a:pt x="345" y="644"/>
                          <a:pt x="358" y="649"/>
                        </a:cubicBezTo>
                        <a:cubicBezTo>
                          <a:pt x="360" y="664"/>
                          <a:pt x="354" y="683"/>
                          <a:pt x="364" y="695"/>
                        </a:cubicBezTo>
                        <a:cubicBezTo>
                          <a:pt x="370" y="702"/>
                          <a:pt x="384" y="695"/>
                          <a:pt x="391" y="689"/>
                        </a:cubicBezTo>
                        <a:cubicBezTo>
                          <a:pt x="402" y="680"/>
                          <a:pt x="394" y="659"/>
                          <a:pt x="404" y="649"/>
                        </a:cubicBezTo>
                        <a:cubicBezTo>
                          <a:pt x="409" y="644"/>
                          <a:pt x="417" y="644"/>
                          <a:pt x="424" y="642"/>
                        </a:cubicBezTo>
                        <a:cubicBezTo>
                          <a:pt x="428" y="655"/>
                          <a:pt x="437" y="668"/>
                          <a:pt x="437" y="682"/>
                        </a:cubicBezTo>
                        <a:cubicBezTo>
                          <a:pt x="437" y="698"/>
                          <a:pt x="422" y="726"/>
                          <a:pt x="417" y="742"/>
                        </a:cubicBezTo>
                        <a:cubicBezTo>
                          <a:pt x="430" y="814"/>
                          <a:pt x="432" y="824"/>
                          <a:pt x="490" y="861"/>
                        </a:cubicBezTo>
                        <a:cubicBezTo>
                          <a:pt x="506" y="906"/>
                          <a:pt x="519" y="916"/>
                          <a:pt x="543" y="954"/>
                        </a:cubicBezTo>
                        <a:cubicBezTo>
                          <a:pt x="557" y="1005"/>
                          <a:pt x="550" y="1001"/>
                          <a:pt x="603" y="1013"/>
                        </a:cubicBezTo>
                        <a:cubicBezTo>
                          <a:pt x="632" y="1033"/>
                          <a:pt x="662" y="1038"/>
                          <a:pt x="695" y="1046"/>
                        </a:cubicBezTo>
                        <a:cubicBezTo>
                          <a:pt x="713" y="1066"/>
                          <a:pt x="722" y="1068"/>
                          <a:pt x="748" y="1060"/>
                        </a:cubicBezTo>
                        <a:cubicBezTo>
                          <a:pt x="778" y="1028"/>
                          <a:pt x="753" y="984"/>
                          <a:pt x="742" y="947"/>
                        </a:cubicBezTo>
                        <a:cubicBezTo>
                          <a:pt x="732" y="868"/>
                          <a:pt x="693" y="735"/>
                          <a:pt x="788" y="702"/>
                        </a:cubicBezTo>
                        <a:cubicBezTo>
                          <a:pt x="786" y="682"/>
                          <a:pt x="785" y="662"/>
                          <a:pt x="781" y="642"/>
                        </a:cubicBezTo>
                        <a:cubicBezTo>
                          <a:pt x="778" y="629"/>
                          <a:pt x="772" y="616"/>
                          <a:pt x="768" y="603"/>
                        </a:cubicBezTo>
                        <a:cubicBezTo>
                          <a:pt x="766" y="596"/>
                          <a:pt x="761" y="583"/>
                          <a:pt x="761" y="583"/>
                        </a:cubicBezTo>
                        <a:cubicBezTo>
                          <a:pt x="784" y="562"/>
                          <a:pt x="812" y="559"/>
                          <a:pt x="841" y="550"/>
                        </a:cubicBezTo>
                        <a:cubicBezTo>
                          <a:pt x="890" y="518"/>
                          <a:pt x="873" y="471"/>
                          <a:pt x="821" y="457"/>
                        </a:cubicBezTo>
                        <a:cubicBezTo>
                          <a:pt x="777" y="465"/>
                          <a:pt x="771" y="481"/>
                          <a:pt x="742" y="450"/>
                        </a:cubicBezTo>
                        <a:cubicBezTo>
                          <a:pt x="748" y="446"/>
                          <a:pt x="754" y="439"/>
                          <a:pt x="761" y="437"/>
                        </a:cubicBezTo>
                        <a:cubicBezTo>
                          <a:pt x="778" y="432"/>
                          <a:pt x="801" y="443"/>
                          <a:pt x="814" y="431"/>
                        </a:cubicBezTo>
                        <a:cubicBezTo>
                          <a:pt x="839" y="407"/>
                          <a:pt x="801" y="384"/>
                          <a:pt x="788" y="378"/>
                        </a:cubicBezTo>
                        <a:cubicBezTo>
                          <a:pt x="764" y="366"/>
                          <a:pt x="732" y="367"/>
                          <a:pt x="708" y="364"/>
                        </a:cubicBezTo>
                        <a:cubicBezTo>
                          <a:pt x="683" y="356"/>
                          <a:pt x="677" y="351"/>
                          <a:pt x="669" y="325"/>
                        </a:cubicBezTo>
                        <a:cubicBezTo>
                          <a:pt x="683" y="277"/>
                          <a:pt x="662" y="324"/>
                          <a:pt x="695" y="311"/>
                        </a:cubicBezTo>
                        <a:cubicBezTo>
                          <a:pt x="702" y="308"/>
                          <a:pt x="704" y="298"/>
                          <a:pt x="708" y="292"/>
                        </a:cubicBezTo>
                        <a:cubicBezTo>
                          <a:pt x="693" y="269"/>
                          <a:pt x="688" y="260"/>
                          <a:pt x="662" y="252"/>
                        </a:cubicBezTo>
                        <a:cubicBezTo>
                          <a:pt x="657" y="239"/>
                          <a:pt x="659" y="222"/>
                          <a:pt x="649" y="212"/>
                        </a:cubicBezTo>
                        <a:cubicBezTo>
                          <a:pt x="639" y="202"/>
                          <a:pt x="589" y="192"/>
                          <a:pt x="569" y="186"/>
                        </a:cubicBezTo>
                        <a:cubicBezTo>
                          <a:pt x="560" y="156"/>
                          <a:pt x="523" y="131"/>
                          <a:pt x="497" y="113"/>
                        </a:cubicBezTo>
                        <a:cubicBezTo>
                          <a:pt x="487" y="99"/>
                          <a:pt x="473" y="88"/>
                          <a:pt x="463" y="73"/>
                        </a:cubicBezTo>
                        <a:cubicBezTo>
                          <a:pt x="459" y="67"/>
                          <a:pt x="462" y="58"/>
                          <a:pt x="457" y="53"/>
                        </a:cubicBezTo>
                        <a:cubicBezTo>
                          <a:pt x="452" y="48"/>
                          <a:pt x="444" y="49"/>
                          <a:pt x="437" y="47"/>
                        </a:cubicBezTo>
                        <a:cubicBezTo>
                          <a:pt x="427" y="17"/>
                          <a:pt x="432" y="2"/>
                          <a:pt x="397" y="14"/>
                        </a:cubicBezTo>
                        <a:cubicBezTo>
                          <a:pt x="395" y="40"/>
                          <a:pt x="405" y="71"/>
                          <a:pt x="391" y="93"/>
                        </a:cubicBezTo>
                        <a:cubicBezTo>
                          <a:pt x="374" y="120"/>
                          <a:pt x="334" y="60"/>
                          <a:pt x="324" y="53"/>
                        </a:cubicBezTo>
                        <a:cubicBezTo>
                          <a:pt x="341" y="5"/>
                          <a:pt x="315" y="13"/>
                          <a:pt x="278" y="0"/>
                        </a:cubicBezTo>
                        <a:cubicBezTo>
                          <a:pt x="261" y="5"/>
                          <a:pt x="248" y="4"/>
                          <a:pt x="238" y="20"/>
                        </a:cubicBezTo>
                        <a:cubicBezTo>
                          <a:pt x="223" y="45"/>
                          <a:pt x="218" y="114"/>
                          <a:pt x="205" y="133"/>
                        </a:cubicBezTo>
                        <a:cubicBezTo>
                          <a:pt x="201" y="139"/>
                          <a:pt x="192" y="137"/>
                          <a:pt x="185" y="139"/>
                        </a:cubicBezTo>
                        <a:cubicBezTo>
                          <a:pt x="179" y="137"/>
                          <a:pt x="173" y="133"/>
                          <a:pt x="166" y="133"/>
                        </a:cubicBezTo>
                        <a:cubicBezTo>
                          <a:pt x="146" y="133"/>
                          <a:pt x="125" y="132"/>
                          <a:pt x="106" y="139"/>
                        </a:cubicBezTo>
                        <a:cubicBezTo>
                          <a:pt x="99" y="142"/>
                          <a:pt x="102" y="153"/>
                          <a:pt x="99" y="159"/>
                        </a:cubicBezTo>
                        <a:cubicBezTo>
                          <a:pt x="88" y="182"/>
                          <a:pt x="83" y="197"/>
                          <a:pt x="60" y="206"/>
                        </a:cubicBezTo>
                        <a:cubicBezTo>
                          <a:pt x="34" y="230"/>
                          <a:pt x="50" y="240"/>
                          <a:pt x="66" y="265"/>
                        </a:cubicBezTo>
                        <a:cubicBezTo>
                          <a:pt x="37" y="284"/>
                          <a:pt x="19" y="288"/>
                          <a:pt x="0" y="318"/>
                        </a:cubicBezTo>
                        <a:cubicBezTo>
                          <a:pt x="24" y="333"/>
                          <a:pt x="38" y="330"/>
                          <a:pt x="46" y="358"/>
                        </a:cubicBezTo>
                        <a:cubicBezTo>
                          <a:pt x="34" y="376"/>
                          <a:pt x="31" y="409"/>
                          <a:pt x="66" y="404"/>
                        </a:cubicBezTo>
                        <a:cubicBezTo>
                          <a:pt x="106" y="398"/>
                          <a:pt x="145" y="387"/>
                          <a:pt x="185" y="378"/>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Freeform 199"/>
                  <p:cNvSpPr/>
                  <p:nvPr/>
                </p:nvSpPr>
                <p:spPr>
                  <a:xfrm rot="20104200">
                    <a:off x="7201800" y="2759760"/>
                    <a:ext cx="305640" cy="116280"/>
                  </a:xfrm>
                  <a:custGeom>
                    <a:avLst/>
                    <a:gdLst>
                      <a:gd name="textAreaLeft" fmla="*/ 0 w 305640"/>
                      <a:gd name="textAreaRight" fmla="*/ 306000 w 305640"/>
                      <a:gd name="textAreaTop" fmla="*/ 0 h 116280"/>
                      <a:gd name="textAreaBottom" fmla="*/ 116640 h 116280"/>
                    </a:gdLst>
                    <a:ahLst/>
                    <a:rect l="textAreaLeft" t="textAreaTop" r="textAreaRight" b="textAreaBottom"/>
                    <a:pathLst>
                      <a:path w="500" h="218">
                        <a:moveTo>
                          <a:pt x="486" y="166"/>
                        </a:moveTo>
                        <a:cubicBezTo>
                          <a:pt x="466" y="153"/>
                          <a:pt x="456" y="140"/>
                          <a:pt x="433" y="133"/>
                        </a:cubicBezTo>
                        <a:cubicBezTo>
                          <a:pt x="416" y="114"/>
                          <a:pt x="402" y="117"/>
                          <a:pt x="380" y="106"/>
                        </a:cubicBezTo>
                        <a:cubicBezTo>
                          <a:pt x="342" y="87"/>
                          <a:pt x="301" y="67"/>
                          <a:pt x="261" y="53"/>
                        </a:cubicBezTo>
                        <a:cubicBezTo>
                          <a:pt x="218" y="10"/>
                          <a:pt x="154" y="17"/>
                          <a:pt x="96" y="7"/>
                        </a:cubicBezTo>
                        <a:cubicBezTo>
                          <a:pt x="67" y="9"/>
                          <a:pt x="36" y="0"/>
                          <a:pt x="10" y="13"/>
                        </a:cubicBezTo>
                        <a:cubicBezTo>
                          <a:pt x="0" y="18"/>
                          <a:pt x="5" y="43"/>
                          <a:pt x="16" y="47"/>
                        </a:cubicBezTo>
                        <a:cubicBezTo>
                          <a:pt x="54" y="59"/>
                          <a:pt x="95" y="51"/>
                          <a:pt x="135" y="53"/>
                        </a:cubicBezTo>
                        <a:cubicBezTo>
                          <a:pt x="162" y="78"/>
                          <a:pt x="140" y="79"/>
                          <a:pt x="115" y="86"/>
                        </a:cubicBezTo>
                        <a:cubicBezTo>
                          <a:pt x="168" y="100"/>
                          <a:pt x="221" y="99"/>
                          <a:pt x="274" y="113"/>
                        </a:cubicBezTo>
                        <a:cubicBezTo>
                          <a:pt x="284" y="123"/>
                          <a:pt x="288" y="140"/>
                          <a:pt x="301" y="146"/>
                        </a:cubicBezTo>
                        <a:cubicBezTo>
                          <a:pt x="319" y="155"/>
                          <a:pt x="341" y="153"/>
                          <a:pt x="360" y="159"/>
                        </a:cubicBezTo>
                        <a:cubicBezTo>
                          <a:pt x="375" y="218"/>
                          <a:pt x="423" y="190"/>
                          <a:pt x="486" y="186"/>
                        </a:cubicBezTo>
                        <a:cubicBezTo>
                          <a:pt x="494" y="164"/>
                          <a:pt x="500" y="166"/>
                          <a:pt x="486" y="166"/>
                        </a:cubicBezTo>
                        <a:close/>
                      </a:path>
                    </a:pathLst>
                  </a:custGeom>
                  <a:solidFill>
                    <a:srgbClr val="77e274"/>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Freeform 200"/>
                  <p:cNvSpPr/>
                  <p:nvPr/>
                </p:nvSpPr>
                <p:spPr>
                  <a:xfrm rot="20104200">
                    <a:off x="7485840" y="2745360"/>
                    <a:ext cx="200880" cy="84240"/>
                  </a:xfrm>
                  <a:custGeom>
                    <a:avLst/>
                    <a:gdLst>
                      <a:gd name="textAreaLeft" fmla="*/ 0 w 200880"/>
                      <a:gd name="textAreaRight" fmla="*/ 201240 w 200880"/>
                      <a:gd name="textAreaTop" fmla="*/ 0 h 84240"/>
                      <a:gd name="textAreaBottom" fmla="*/ 84240 h 84240"/>
                    </a:gdLst>
                    <a:ahLst/>
                    <a:rect l="textAreaLeft" t="textAreaTop" r="textAreaRight" b="textAreaBottom"/>
                    <a:pathLst>
                      <a:path w="328" h="159">
                        <a:moveTo>
                          <a:pt x="96" y="52"/>
                        </a:moveTo>
                        <a:cubicBezTo>
                          <a:pt x="98" y="61"/>
                          <a:pt x="98" y="71"/>
                          <a:pt x="102" y="79"/>
                        </a:cubicBezTo>
                        <a:cubicBezTo>
                          <a:pt x="114" y="103"/>
                          <a:pt x="127" y="81"/>
                          <a:pt x="102" y="105"/>
                        </a:cubicBezTo>
                        <a:cubicBezTo>
                          <a:pt x="82" y="98"/>
                          <a:pt x="0" y="88"/>
                          <a:pt x="36" y="125"/>
                        </a:cubicBezTo>
                        <a:cubicBezTo>
                          <a:pt x="52" y="142"/>
                          <a:pt x="137" y="144"/>
                          <a:pt x="142" y="145"/>
                        </a:cubicBezTo>
                        <a:cubicBezTo>
                          <a:pt x="170" y="153"/>
                          <a:pt x="178" y="159"/>
                          <a:pt x="208" y="151"/>
                        </a:cubicBezTo>
                        <a:cubicBezTo>
                          <a:pt x="235" y="114"/>
                          <a:pt x="258" y="123"/>
                          <a:pt x="308" y="118"/>
                        </a:cubicBezTo>
                        <a:cubicBezTo>
                          <a:pt x="328" y="87"/>
                          <a:pt x="321" y="84"/>
                          <a:pt x="288" y="72"/>
                        </a:cubicBezTo>
                        <a:cubicBezTo>
                          <a:pt x="263" y="0"/>
                          <a:pt x="106" y="51"/>
                          <a:pt x="76" y="52"/>
                        </a:cubicBezTo>
                        <a:cubicBezTo>
                          <a:pt x="100" y="67"/>
                          <a:pt x="96" y="73"/>
                          <a:pt x="96" y="52"/>
                        </a:cubicBezTo>
                        <a:close/>
                      </a:path>
                    </a:pathLst>
                  </a:custGeom>
                  <a:solidFill>
                    <a:srgbClr val="77e274"/>
                  </a:solidFill>
                  <a:ln w="9360">
                    <a:solidFill>
                      <a:srgbClr val="ffffff"/>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grpSp>
          </p:grpSp>
        </p:grpSp>
      </p:grpSp>
      <p:grpSp>
        <p:nvGrpSpPr>
          <p:cNvPr id="143" name="Group 20"/>
          <p:cNvGrpSpPr/>
          <p:nvPr/>
        </p:nvGrpSpPr>
        <p:grpSpPr>
          <a:xfrm>
            <a:off x="1908000" y="1692360"/>
            <a:ext cx="5824800" cy="2549520"/>
            <a:chOff x="1908000" y="1692360"/>
            <a:chExt cx="5824800" cy="2549520"/>
          </a:xfrm>
        </p:grpSpPr>
        <p:sp>
          <p:nvSpPr>
            <p:cNvPr id="144" name="Oval 216"/>
            <p:cNvSpPr/>
            <p:nvPr/>
          </p:nvSpPr>
          <p:spPr>
            <a:xfrm>
              <a:off x="2492280" y="250128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Oval 216"/>
            <p:cNvSpPr/>
            <p:nvPr/>
          </p:nvSpPr>
          <p:spPr>
            <a:xfrm>
              <a:off x="3963600" y="333144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Oval 214"/>
            <p:cNvSpPr/>
            <p:nvPr/>
          </p:nvSpPr>
          <p:spPr>
            <a:xfrm>
              <a:off x="4214880" y="311544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7" name="Group 24"/>
            <p:cNvGrpSpPr/>
            <p:nvPr/>
          </p:nvGrpSpPr>
          <p:grpSpPr>
            <a:xfrm>
              <a:off x="1908000" y="1692360"/>
              <a:ext cx="5824800" cy="2549520"/>
              <a:chOff x="1908000" y="1692360"/>
              <a:chExt cx="5824800" cy="2549520"/>
            </a:xfrm>
          </p:grpSpPr>
          <p:sp>
            <p:nvSpPr>
              <p:cNvPr id="148" name="Oval 216"/>
              <p:cNvSpPr/>
              <p:nvPr/>
            </p:nvSpPr>
            <p:spPr>
              <a:xfrm>
                <a:off x="6328440" y="169236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Oval 216"/>
              <p:cNvSpPr/>
              <p:nvPr/>
            </p:nvSpPr>
            <p:spPr>
              <a:xfrm>
                <a:off x="6348960" y="187020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Oval 216"/>
              <p:cNvSpPr/>
              <p:nvPr/>
            </p:nvSpPr>
            <p:spPr>
              <a:xfrm>
                <a:off x="6501240" y="202680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1" name="Group 28"/>
              <p:cNvGrpSpPr/>
              <p:nvPr/>
            </p:nvGrpSpPr>
            <p:grpSpPr>
              <a:xfrm>
                <a:off x="1908000" y="1692360"/>
                <a:ext cx="5824800" cy="2549520"/>
                <a:chOff x="1908000" y="1692360"/>
                <a:chExt cx="5824800" cy="2549520"/>
              </a:xfrm>
            </p:grpSpPr>
            <p:grpSp>
              <p:nvGrpSpPr>
                <p:cNvPr id="152" name="Group 29"/>
                <p:cNvGrpSpPr/>
                <p:nvPr/>
              </p:nvGrpSpPr>
              <p:grpSpPr>
                <a:xfrm>
                  <a:off x="1945080" y="1692360"/>
                  <a:ext cx="5404680" cy="2415240"/>
                  <a:chOff x="1945080" y="1692360"/>
                  <a:chExt cx="5404680" cy="2415240"/>
                </a:xfrm>
              </p:grpSpPr>
              <p:sp>
                <p:nvSpPr>
                  <p:cNvPr id="153" name="Oval 208"/>
                  <p:cNvSpPr/>
                  <p:nvPr/>
                </p:nvSpPr>
                <p:spPr>
                  <a:xfrm>
                    <a:off x="2341080" y="230220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Oval 209"/>
                  <p:cNvSpPr/>
                  <p:nvPr/>
                </p:nvSpPr>
                <p:spPr>
                  <a:xfrm>
                    <a:off x="1945080" y="317484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Oval 210"/>
                  <p:cNvSpPr/>
                  <p:nvPr/>
                </p:nvSpPr>
                <p:spPr>
                  <a:xfrm>
                    <a:off x="3825360" y="303912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Oval 211"/>
                  <p:cNvSpPr/>
                  <p:nvPr/>
                </p:nvSpPr>
                <p:spPr>
                  <a:xfrm>
                    <a:off x="7271640" y="329328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Oval 212"/>
                  <p:cNvSpPr/>
                  <p:nvPr/>
                </p:nvSpPr>
                <p:spPr>
                  <a:xfrm>
                    <a:off x="6072120" y="184644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Oval 213"/>
                  <p:cNvSpPr/>
                  <p:nvPr/>
                </p:nvSpPr>
                <p:spPr>
                  <a:xfrm>
                    <a:off x="3336840" y="314064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Oval 214"/>
                  <p:cNvSpPr/>
                  <p:nvPr/>
                </p:nvSpPr>
                <p:spPr>
                  <a:xfrm>
                    <a:off x="4309560" y="376776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216"/>
                  <p:cNvSpPr/>
                  <p:nvPr/>
                </p:nvSpPr>
                <p:spPr>
                  <a:xfrm>
                    <a:off x="2369160" y="169236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Oval 217"/>
                  <p:cNvSpPr/>
                  <p:nvPr/>
                </p:nvSpPr>
                <p:spPr>
                  <a:xfrm>
                    <a:off x="2572920" y="234180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Oval 218"/>
                  <p:cNvSpPr/>
                  <p:nvPr/>
                </p:nvSpPr>
                <p:spPr>
                  <a:xfrm>
                    <a:off x="4004640" y="247356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Oval 221"/>
                  <p:cNvSpPr/>
                  <p:nvPr/>
                </p:nvSpPr>
                <p:spPr>
                  <a:xfrm>
                    <a:off x="2498760" y="216144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222"/>
                  <p:cNvSpPr/>
                  <p:nvPr/>
                </p:nvSpPr>
                <p:spPr>
                  <a:xfrm>
                    <a:off x="4003200" y="281376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Oval 223"/>
                  <p:cNvSpPr/>
                  <p:nvPr/>
                </p:nvSpPr>
                <p:spPr>
                  <a:xfrm>
                    <a:off x="4081680" y="274500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Oval 226"/>
                  <p:cNvSpPr/>
                  <p:nvPr/>
                </p:nvSpPr>
                <p:spPr>
                  <a:xfrm>
                    <a:off x="6522120" y="2679120"/>
                    <a:ext cx="78120" cy="80280"/>
                  </a:xfrm>
                  <a:prstGeom prst="ellipse">
                    <a:avLst/>
                  </a:prstGeom>
                  <a:solidFill>
                    <a:srgbClr val="ff66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Oval 227"/>
                  <p:cNvSpPr/>
                  <p:nvPr/>
                </p:nvSpPr>
                <p:spPr>
                  <a:xfrm>
                    <a:off x="7020360" y="2343240"/>
                    <a:ext cx="78120" cy="80280"/>
                  </a:xfrm>
                  <a:prstGeom prst="ellipse">
                    <a:avLst/>
                  </a:prstGeom>
                  <a:solidFill>
                    <a:srgbClr val="ff66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Oval 228"/>
                  <p:cNvSpPr/>
                  <p:nvPr/>
                </p:nvSpPr>
                <p:spPr>
                  <a:xfrm>
                    <a:off x="6207840" y="2609280"/>
                    <a:ext cx="78120" cy="80280"/>
                  </a:xfrm>
                  <a:prstGeom prst="ellipse">
                    <a:avLst/>
                  </a:prstGeom>
                  <a:solidFill>
                    <a:srgbClr val="ff66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Oval 231"/>
                  <p:cNvSpPr/>
                  <p:nvPr/>
                </p:nvSpPr>
                <p:spPr>
                  <a:xfrm>
                    <a:off x="2250000" y="402732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Oval 232"/>
                  <p:cNvSpPr/>
                  <p:nvPr/>
                </p:nvSpPr>
                <p:spPr>
                  <a:xfrm>
                    <a:off x="4344120" y="182016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Oval 233"/>
                  <p:cNvSpPr/>
                  <p:nvPr/>
                </p:nvSpPr>
                <p:spPr>
                  <a:xfrm>
                    <a:off x="2918880" y="274500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Oval 235"/>
                  <p:cNvSpPr/>
                  <p:nvPr/>
                </p:nvSpPr>
                <p:spPr>
                  <a:xfrm>
                    <a:off x="6578280" y="2935080"/>
                    <a:ext cx="78120" cy="80280"/>
                  </a:xfrm>
                  <a:prstGeom prst="ellipse">
                    <a:avLst/>
                  </a:prstGeom>
                  <a:solidFill>
                    <a:srgbClr val="ffcc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 name="Oval 216"/>
                <p:cNvSpPr/>
                <p:nvPr/>
              </p:nvSpPr>
              <p:spPr>
                <a:xfrm>
                  <a:off x="7539480" y="309420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Oval 216"/>
                <p:cNvSpPr/>
                <p:nvPr/>
              </p:nvSpPr>
              <p:spPr>
                <a:xfrm>
                  <a:off x="7654680" y="412344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Oval 216"/>
                <p:cNvSpPr/>
                <p:nvPr/>
              </p:nvSpPr>
              <p:spPr>
                <a:xfrm>
                  <a:off x="2196360" y="190836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Oval 216"/>
                <p:cNvSpPr/>
                <p:nvPr/>
              </p:nvSpPr>
              <p:spPr>
                <a:xfrm>
                  <a:off x="2867760" y="181872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Oval 216"/>
                <p:cNvSpPr/>
                <p:nvPr/>
              </p:nvSpPr>
              <p:spPr>
                <a:xfrm>
                  <a:off x="1908000" y="210744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Oval 216"/>
                <p:cNvSpPr/>
                <p:nvPr/>
              </p:nvSpPr>
              <p:spPr>
                <a:xfrm>
                  <a:off x="2023200" y="238284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Oval 216"/>
                <p:cNvSpPr/>
                <p:nvPr/>
              </p:nvSpPr>
              <p:spPr>
                <a:xfrm>
                  <a:off x="2773080" y="202680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Oval 216"/>
                <p:cNvSpPr/>
                <p:nvPr/>
              </p:nvSpPr>
              <p:spPr>
                <a:xfrm>
                  <a:off x="3176640" y="279792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216"/>
                <p:cNvSpPr/>
                <p:nvPr/>
              </p:nvSpPr>
              <p:spPr>
                <a:xfrm>
                  <a:off x="2369160" y="281880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216"/>
                <p:cNvSpPr/>
                <p:nvPr/>
              </p:nvSpPr>
              <p:spPr>
                <a:xfrm>
                  <a:off x="5001840" y="4161600"/>
                  <a:ext cx="78120" cy="80280"/>
                </a:xfrm>
                <a:prstGeom prst="ellipse">
                  <a:avLst/>
                </a:prstGeom>
                <a:solidFill>
                  <a:srgbClr val="ffff00"/>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214"/>
                <p:cNvSpPr/>
                <p:nvPr/>
              </p:nvSpPr>
              <p:spPr>
                <a:xfrm>
                  <a:off x="4655880" y="400500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Oval 214"/>
                <p:cNvSpPr/>
                <p:nvPr/>
              </p:nvSpPr>
              <p:spPr>
                <a:xfrm>
                  <a:off x="3810960" y="323388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Oval 233"/>
                <p:cNvSpPr/>
                <p:nvPr/>
              </p:nvSpPr>
              <p:spPr>
                <a:xfrm>
                  <a:off x="2752560" y="279792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Oval 233"/>
                <p:cNvSpPr/>
                <p:nvPr/>
              </p:nvSpPr>
              <p:spPr>
                <a:xfrm>
                  <a:off x="2117880" y="216648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Oval 232"/>
                <p:cNvSpPr/>
                <p:nvPr/>
              </p:nvSpPr>
              <p:spPr>
                <a:xfrm>
                  <a:off x="4330080" y="2581560"/>
                  <a:ext cx="78120" cy="80280"/>
                </a:xfrm>
                <a:prstGeom prst="ellipse">
                  <a:avLst/>
                </a:prstGeom>
                <a:solidFill>
                  <a:srgbClr val="dddddd"/>
                </a:solidFill>
                <a:ln w="0">
                  <a:noFill/>
                </a:ln>
                <a:effectLst>
                  <a:outerShdw dist="12600" dir="5400000" blurRad="0" rotWithShape="0">
                    <a:srgbClr val="000000">
                      <a:alpha val="33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188" name="Group 65"/>
          <p:cNvGrpSpPr/>
          <p:nvPr/>
        </p:nvGrpSpPr>
        <p:grpSpPr>
          <a:xfrm>
            <a:off x="3462480" y="2189160"/>
            <a:ext cx="1017360" cy="1017720"/>
            <a:chOff x="3462480" y="2189160"/>
            <a:chExt cx="1017360" cy="1017720"/>
          </a:xfrm>
        </p:grpSpPr>
        <p:pic>
          <p:nvPicPr>
            <p:cNvPr id="189" name="Oval 220" descr=""/>
            <p:cNvPicPr/>
            <p:nvPr/>
          </p:nvPicPr>
          <p:blipFill>
            <a:blip r:embed="rId2"/>
            <a:stretch/>
          </p:blipFill>
          <p:spPr>
            <a:xfrm>
              <a:off x="3462480" y="2189160"/>
              <a:ext cx="1017360" cy="1017720"/>
            </a:xfrm>
            <a:prstGeom prst="rect">
              <a:avLst/>
            </a:prstGeom>
            <a:ln w="0">
              <a:noFill/>
            </a:ln>
          </p:spPr>
        </p:pic>
        <p:sp>
          <p:nvSpPr>
            <p:cNvPr id="190" name="Text Box 67"/>
            <p:cNvSpPr/>
            <p:nvPr/>
          </p:nvSpPr>
          <p:spPr>
            <a:xfrm>
              <a:off x="3717720" y="2444760"/>
              <a:ext cx="498240" cy="4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91" name="直接连接符 81" descr=""/>
          <p:cNvPicPr/>
          <p:nvPr/>
        </p:nvPicPr>
        <p:blipFill>
          <a:blip r:embed="rId3"/>
          <a:stretch/>
        </p:blipFill>
        <p:spPr>
          <a:xfrm>
            <a:off x="4017960" y="2712960"/>
            <a:ext cx="1133640" cy="158760"/>
          </a:xfrm>
          <a:prstGeom prst="rect">
            <a:avLst/>
          </a:prstGeom>
          <a:ln w="0">
            <a:noFill/>
          </a:ln>
        </p:spPr>
      </p:pic>
      <p:sp>
        <p:nvSpPr>
          <p:cNvPr id="192" name="TextBox 82"/>
          <p:cNvSpPr/>
          <p:nvPr/>
        </p:nvSpPr>
        <p:spPr>
          <a:xfrm>
            <a:off x="5099040" y="2589120"/>
            <a:ext cx="11080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添加说明添加说明添加说明添加说明添加说明</a:t>
            </a:r>
            <a:endParaRPr b="0" lang="en-US" sz="1200" spc="-1" strike="noStrike">
              <a:solidFill>
                <a:srgbClr val="000000"/>
              </a:solidFill>
              <a:latin typeface="Calibri"/>
            </a:endParaRPr>
          </a:p>
        </p:txBody>
      </p:sp>
      <p:grpSp>
        <p:nvGrpSpPr>
          <p:cNvPr id="193" name="Group 70"/>
          <p:cNvGrpSpPr/>
          <p:nvPr/>
        </p:nvGrpSpPr>
        <p:grpSpPr>
          <a:xfrm>
            <a:off x="579600" y="1270080"/>
            <a:ext cx="1482480" cy="261360"/>
            <a:chOff x="579600" y="1270080"/>
            <a:chExt cx="1482480" cy="261360"/>
          </a:xfrm>
        </p:grpSpPr>
        <p:sp>
          <p:nvSpPr>
            <p:cNvPr id="194" name="矩形 83"/>
            <p:cNvSpPr/>
            <p:nvPr/>
          </p:nvSpPr>
          <p:spPr>
            <a:xfrm>
              <a:off x="579600" y="1342800"/>
              <a:ext cx="115920" cy="115920"/>
            </a:xfrm>
            <a:prstGeom prst="rect">
              <a:avLst/>
            </a:prstGeom>
            <a:solidFill>
              <a:srgbClr val="615998"/>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TextBox 84"/>
            <p:cNvSpPr/>
            <p:nvPr/>
          </p:nvSpPr>
          <p:spPr>
            <a:xfrm>
              <a:off x="684000" y="127008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grpSp>
        <p:nvGrpSpPr>
          <p:cNvPr id="196" name="Group 73"/>
          <p:cNvGrpSpPr/>
          <p:nvPr/>
        </p:nvGrpSpPr>
        <p:grpSpPr>
          <a:xfrm>
            <a:off x="579600" y="1589040"/>
            <a:ext cx="1482480" cy="261360"/>
            <a:chOff x="579600" y="1589040"/>
            <a:chExt cx="1482480" cy="261360"/>
          </a:xfrm>
        </p:grpSpPr>
        <p:sp>
          <p:nvSpPr>
            <p:cNvPr id="197" name="矩形 88"/>
            <p:cNvSpPr/>
            <p:nvPr/>
          </p:nvSpPr>
          <p:spPr>
            <a:xfrm>
              <a:off x="579600" y="1661760"/>
              <a:ext cx="115920" cy="116280"/>
            </a:xfrm>
            <a:prstGeom prst="rect">
              <a:avLst/>
            </a:prstGeom>
            <a:solidFill>
              <a:srgbClr val="456573"/>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TextBox 89"/>
            <p:cNvSpPr/>
            <p:nvPr/>
          </p:nvSpPr>
          <p:spPr>
            <a:xfrm>
              <a:off x="684000" y="158904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grpSp>
        <p:nvGrpSpPr>
          <p:cNvPr id="199" name="Group 76"/>
          <p:cNvGrpSpPr/>
          <p:nvPr/>
        </p:nvGrpSpPr>
        <p:grpSpPr>
          <a:xfrm>
            <a:off x="579600" y="1908000"/>
            <a:ext cx="1482480" cy="261360"/>
            <a:chOff x="579600" y="1908000"/>
            <a:chExt cx="1482480" cy="261360"/>
          </a:xfrm>
        </p:grpSpPr>
        <p:sp>
          <p:nvSpPr>
            <p:cNvPr id="200" name="矩形 91"/>
            <p:cNvSpPr/>
            <p:nvPr/>
          </p:nvSpPr>
          <p:spPr>
            <a:xfrm>
              <a:off x="579600" y="1980720"/>
              <a:ext cx="115920" cy="116280"/>
            </a:xfrm>
            <a:prstGeom prst="rect">
              <a:avLst/>
            </a:prstGeom>
            <a:solidFill>
              <a:srgbClr val="e1b4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TextBox 92"/>
            <p:cNvSpPr/>
            <p:nvPr/>
          </p:nvSpPr>
          <p:spPr>
            <a:xfrm>
              <a:off x="684000" y="190800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grpSp>
        <p:nvGrpSpPr>
          <p:cNvPr id="202" name="Group 79"/>
          <p:cNvGrpSpPr/>
          <p:nvPr/>
        </p:nvGrpSpPr>
        <p:grpSpPr>
          <a:xfrm>
            <a:off x="579600" y="2227320"/>
            <a:ext cx="1482480" cy="261360"/>
            <a:chOff x="579600" y="2227320"/>
            <a:chExt cx="1482480" cy="261360"/>
          </a:xfrm>
        </p:grpSpPr>
        <p:sp>
          <p:nvSpPr>
            <p:cNvPr id="203" name="矩形 94"/>
            <p:cNvSpPr/>
            <p:nvPr/>
          </p:nvSpPr>
          <p:spPr>
            <a:xfrm>
              <a:off x="579600" y="2300040"/>
              <a:ext cx="115920" cy="115920"/>
            </a:xfrm>
            <a:prstGeom prst="rect">
              <a:avLst/>
            </a:prstGeom>
            <a:solidFill>
              <a:srgbClr val="84dc2d"/>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TextBox 95"/>
            <p:cNvSpPr/>
            <p:nvPr/>
          </p:nvSpPr>
          <p:spPr>
            <a:xfrm>
              <a:off x="684000" y="222732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126"/>
                                        </p:tgtEl>
                                        <p:attrNameLst>
                                          <p:attrName>style.visibility</p:attrName>
                                        </p:attrNameLst>
                                      </p:cBhvr>
                                      <p:to>
                                        <p:strVal val="visible"/>
                                      </p:to>
                                    </p:set>
                                    <p:animEffect filter="fade" transition="in">
                                      <p:cBhvr additive="repl">
                                        <p:cTn id="30" dur="1000"/>
                                        <p:tgtEl>
                                          <p:spTgt spid="126"/>
                                        </p:tgtEl>
                                      </p:cBhvr>
                                    </p:animEffect>
                                  </p:childTnLst>
                                </p:cTn>
                              </p:par>
                              <p:par>
                                <p:cTn id="31" nodeType="withEffect" fill="hold" presetClass="entr" presetID="10">
                                  <p:stCondLst>
                                    <p:cond delay="0"/>
                                  </p:stCondLst>
                                  <p:childTnLst>
                                    <p:set>
                                      <p:cBhvr>
                                        <p:cTn id="32" dur="1" fill="hold">
                                          <p:stCondLst>
                                            <p:cond delay="0"/>
                                          </p:stCondLst>
                                        </p:cTn>
                                        <p:tgtEl>
                                          <p:spTgt spid="127"/>
                                        </p:tgtEl>
                                        <p:attrNameLst>
                                          <p:attrName>style.visibility</p:attrName>
                                        </p:attrNameLst>
                                      </p:cBhvr>
                                      <p:to>
                                        <p:strVal val="visible"/>
                                      </p:to>
                                    </p:set>
                                    <p:animEffect filter="fade" transition="in">
                                      <p:cBhvr additive="repl">
                                        <p:cTn id="33" dur="1000"/>
                                        <p:tgtEl>
                                          <p:spTgt spid="127"/>
                                        </p:tgtEl>
                                      </p:cBhvr>
                                    </p:animEffect>
                                  </p:childTnLst>
                                </p:cTn>
                              </p:par>
                            </p:childTnLst>
                          </p:cTn>
                        </p:par>
                        <p:par>
                          <p:cTn id="34" fill="hold">
                            <p:stCondLst>
                              <p:cond delay="1000"/>
                            </p:stCondLst>
                            <p:childTnLst>
                              <p:par>
                                <p:cTn id="35" nodeType="afterEffect" fill="hold" presetClass="entr" presetID="10">
                                  <p:stCondLst>
                                    <p:cond delay="0"/>
                                  </p:stCondLst>
                                  <p:childTnLst>
                                    <p:set>
                                      <p:cBhvr>
                                        <p:cTn id="36" dur="1" fill="hold">
                                          <p:stCondLst>
                                            <p:cond delay="0"/>
                                          </p:stCondLst>
                                        </p:cTn>
                                        <p:tgtEl>
                                          <p:spTgt spid="143"/>
                                        </p:tgtEl>
                                        <p:attrNameLst>
                                          <p:attrName>style.visibility</p:attrName>
                                        </p:attrNameLst>
                                      </p:cBhvr>
                                      <p:to>
                                        <p:strVal val="visible"/>
                                      </p:to>
                                    </p:set>
                                    <p:animEffect filter="fade" transition="in">
                                      <p:cBhvr additive="repl">
                                        <p:cTn id="37" dur="2000"/>
                                        <p:tgtEl>
                                          <p:spTgt spid="143"/>
                                        </p:tgtEl>
                                      </p:cBhvr>
                                    </p:animEffect>
                                  </p:childTnLst>
                                </p:cTn>
                              </p:par>
                            </p:childTnLst>
                          </p:cTn>
                        </p:par>
                        <p:par>
                          <p:cTn id="38" fill="hold">
                            <p:stCondLst>
                              <p:cond delay="3000"/>
                            </p:stCondLst>
                            <p:childTnLst>
                              <p:par>
                                <p:cTn id="39" nodeType="afterEffect" fill="hold" presetClass="entr" presetID="10">
                                  <p:stCondLst>
                                    <p:cond delay="0"/>
                                  </p:stCondLst>
                                  <p:childTnLst>
                                    <p:set>
                                      <p:cBhvr>
                                        <p:cTn id="40" dur="1" fill="hold">
                                          <p:stCondLst>
                                            <p:cond delay="0"/>
                                          </p:stCondLst>
                                        </p:cTn>
                                        <p:tgtEl>
                                          <p:spTgt spid="188"/>
                                        </p:tgtEl>
                                        <p:attrNameLst>
                                          <p:attrName>style.visibility</p:attrName>
                                        </p:attrNameLst>
                                      </p:cBhvr>
                                      <p:to>
                                        <p:strVal val="visible"/>
                                      </p:to>
                                    </p:set>
                                    <p:animEffect filter="fade" transition="in">
                                      <p:cBhvr additive="repl">
                                        <p:cTn id="41" dur="2000"/>
                                        <p:tgtEl>
                                          <p:spTgt spid="188"/>
                                        </p:tgtEl>
                                      </p:cBhvr>
                                    </p:animEffect>
                                  </p:childTnLst>
                                </p:cTn>
                              </p:par>
                              <p:par>
                                <p:cTn id="42" nodeType="withEffect" fill="hold" presetClass="emph" presetID="8">
                                  <p:stCondLst>
                                    <p:cond delay="0"/>
                                  </p:stCondLst>
                                  <p:childTnLst>
                                    <p:animRot by="21600000">
                                      <p:cBhvr>
                                        <p:cTn id="43" dur="2000" fill="hold"/>
                                        <p:tgtEl>
                                          <p:spTgt spid="188"/>
                                        </p:tgtEl>
                                        <p:attrNameLst>
                                          <p:attrName>r</p:attrName>
                                        </p:attrNameLst>
                                      </p:cBhvr>
                                    </p:animRot>
                                  </p:childTnLst>
                                </p:cTn>
                              </p:par>
                            </p:childTnLst>
                          </p:cTn>
                        </p:par>
                        <p:par>
                          <p:cTn id="44" fill="hold">
                            <p:stCondLst>
                              <p:cond delay="5000"/>
                            </p:stCondLst>
                            <p:childTnLst>
                              <p:par>
                                <p:cTn id="45" nodeType="afterEffect" fill="hold" presetClass="entr" presetID="22" presetSubtype="8">
                                  <p:stCondLst>
                                    <p:cond delay="0"/>
                                  </p:stCondLst>
                                  <p:childTnLst>
                                    <p:set>
                                      <p:cBhvr>
                                        <p:cTn id="46" dur="1" fill="hold">
                                          <p:stCondLst>
                                            <p:cond delay="0"/>
                                          </p:stCondLst>
                                        </p:cTn>
                                        <p:tgtEl>
                                          <p:spTgt spid="191"/>
                                        </p:tgtEl>
                                        <p:attrNameLst>
                                          <p:attrName>style.visibility</p:attrName>
                                        </p:attrNameLst>
                                      </p:cBhvr>
                                      <p:to>
                                        <p:strVal val="visible"/>
                                      </p:to>
                                    </p:set>
                                    <p:animEffect filter="wipe(left)" transition="in">
                                      <p:cBhvr additive="repl">
                                        <p:cTn id="47" dur="500"/>
                                        <p:tgtEl>
                                          <p:spTgt spid="191"/>
                                        </p:tgtEl>
                                      </p:cBhvr>
                                    </p:animEffect>
                                  </p:childTnLst>
                                </p:cTn>
                              </p:par>
                            </p:childTnLst>
                          </p:cTn>
                        </p:par>
                        <p:par>
                          <p:cTn id="48" fill="hold">
                            <p:stCondLst>
                              <p:cond delay="5500"/>
                            </p:stCondLst>
                            <p:childTnLst>
                              <p:par>
                                <p:cTn id="49" nodeType="afterEffect" fill="hold" presetClass="entr" presetID="14" presetSubtype="5">
                                  <p:stCondLst>
                                    <p:cond delay="0"/>
                                  </p:stCondLst>
                                  <p:childTnLst>
                                    <p:set>
                                      <p:cBhvr>
                                        <p:cTn id="50" dur="1" fill="hold">
                                          <p:stCondLst>
                                            <p:cond delay="0"/>
                                          </p:stCondLst>
                                        </p:cTn>
                                        <p:tgtEl>
                                          <p:spTgt spid="192"/>
                                        </p:tgtEl>
                                        <p:attrNameLst>
                                          <p:attrName>style.visibility</p:attrName>
                                        </p:attrNameLst>
                                      </p:cBhvr>
                                      <p:to>
                                        <p:strVal val="visible"/>
                                      </p:to>
                                    </p:set>
                                    <p:animEffect filter="randombar(vertical)" transition="in">
                                      <p:cBhvr additive="repl">
                                        <p:cTn id="5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pic>
        <p:nvPicPr>
          <p:cNvPr id="206" name="Picture 5" descr=""/>
          <p:cNvPicPr/>
          <p:nvPr/>
        </p:nvPicPr>
        <p:blipFill>
          <a:blip r:embed="rId1"/>
          <a:stretch/>
        </p:blipFill>
        <p:spPr>
          <a:xfrm>
            <a:off x="719280" y="1481040"/>
            <a:ext cx="2334960" cy="2590920"/>
          </a:xfrm>
          <a:prstGeom prst="rect">
            <a:avLst/>
          </a:prstGeom>
          <a:ln w="0">
            <a:noFill/>
          </a:ln>
        </p:spPr>
      </p:pic>
      <p:pic>
        <p:nvPicPr>
          <p:cNvPr id="207" name="Picture 5" descr=""/>
          <p:cNvPicPr/>
          <p:nvPr/>
        </p:nvPicPr>
        <p:blipFill>
          <a:blip r:embed="rId2"/>
          <a:stretch/>
        </p:blipFill>
        <p:spPr>
          <a:xfrm>
            <a:off x="2041560" y="1878120"/>
            <a:ext cx="2397240" cy="2700360"/>
          </a:xfrm>
          <a:prstGeom prst="rect">
            <a:avLst/>
          </a:prstGeom>
          <a:ln w="0">
            <a:noFill/>
          </a:ln>
        </p:spPr>
      </p:pic>
      <p:sp>
        <p:nvSpPr>
          <p:cNvPr id="208" name="TextBox 5"/>
          <p:cNvSpPr/>
          <p:nvPr/>
        </p:nvSpPr>
        <p:spPr>
          <a:xfrm>
            <a:off x="4643280" y="1582560"/>
            <a:ext cx="3970440" cy="211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b1a0f"/>
                </a:solidFill>
                <a:latin typeface="Calibri"/>
                <a:ea typeface="微软雅黑"/>
              </a:rPr>
              <a:t>标题内容</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b1a0f"/>
                </a:solidFill>
                <a:latin typeface="Calibri"/>
                <a:ea typeface="微软雅黑"/>
              </a:rPr>
              <a:t>点击此处编辑文字内容点击此处编辑文字内容点击此处编辑文字内容点击此处编辑文字内容点击此处编辑文字内容点击此处编辑文字内容</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b1a0f"/>
                </a:solidFill>
                <a:latin typeface="Calibri"/>
                <a:ea typeface="微软雅黑"/>
              </a:rPr>
              <a:t>PPT</a:t>
            </a:r>
            <a:r>
              <a:rPr b="0" lang="zh-CN" sz="1000" spc="-1" strike="noStrike">
                <a:solidFill>
                  <a:srgbClr val="1b1a0f"/>
                </a:solidFill>
                <a:latin typeface="Calibri"/>
                <a:ea typeface="微软雅黑"/>
              </a:rPr>
              <a:t>之家： </a:t>
            </a:r>
            <a:r>
              <a:rPr b="0" lang="en-US" sz="1000" spc="-1" strike="noStrike">
                <a:solidFill>
                  <a:srgbClr val="1b1a0f"/>
                </a:solidFill>
                <a:latin typeface="Calibri"/>
                <a:ea typeface="微软雅黑"/>
              </a:rPr>
              <a:t>www.eeppt.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5">
                                  <p:stCondLst>
                                    <p:cond delay="0"/>
                                  </p:stCondLst>
                                  <p:childTnLst>
                                    <p:set>
                                      <p:cBhvr>
                                        <p:cTn id="57" dur="1" fill="hold">
                                          <p:stCondLst>
                                            <p:cond delay="0"/>
                                          </p:stCondLst>
                                        </p:cTn>
                                        <p:tgtEl>
                                          <p:spTgt spid="206"/>
                                        </p:tgtEl>
                                        <p:attrNameLst>
                                          <p:attrName>style.visibility</p:attrName>
                                        </p:attrNameLst>
                                      </p:cBhvr>
                                      <p:to>
                                        <p:strVal val="visible"/>
                                      </p:to>
                                    </p:set>
                                    <p:anim calcmode="lin" valueType="num">
                                      <p:cBhvr additive="repl">
                                        <p:cTn id="58" dur="1000" fill="hold"/>
                                        <p:tgtEl>
                                          <p:spTgt spid="206"/>
                                        </p:tgtEl>
                                        <p:attrNameLst>
                                          <p:attrName>ppt_w</p:attrName>
                                        </p:attrNameLst>
                                      </p:cBhvr>
                                      <p:tavLst>
                                        <p:tav tm="0">
                                          <p:val>
                                            <p:fltVal val="0"/>
                                          </p:val>
                                        </p:tav>
                                        <p:tav tm="100000">
                                          <p:val>
                                            <p:strVal val="#ppt_w"/>
                                          </p:val>
                                        </p:tav>
                                      </p:tavLst>
                                    </p:anim>
                                    <p:anim calcmode="lin" valueType="num">
                                      <p:cBhvr additive="repl">
                                        <p:cTn id="59" dur="1000" fill="hold"/>
                                        <p:tgtEl>
                                          <p:spTgt spid="206"/>
                                        </p:tgtEl>
                                        <p:attrNameLst>
                                          <p:attrName>ppt_h</p:attrName>
                                        </p:attrNameLst>
                                      </p:cBhvr>
                                      <p:tavLst>
                                        <p:tav tm="0">
                                          <p:val>
                                            <p:fltVal val="0"/>
                                          </p:val>
                                        </p:tav>
                                        <p:tav tm="100000">
                                          <p:val>
                                            <p:strVal val="#ppt_h"/>
                                          </p:val>
                                        </p:tav>
                                      </p:tavLst>
                                    </p:anim>
                                    <p:anim calcmode="lin" valueType="num">
                                      <p:cBhvr additive="repl">
                                        <p:cTn id="60"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206"/>
                                        </p:tgtEl>
                                        <p:attrNameLst>
                                          <p:attrName>ppt_y</p:attrName>
                                        </p:attrNameLst>
                                      </p:cBhvr>
                                      <p:tavLst>
                                        <p:tav fmla="y+(sin(-2*pi*(1-$))*-x+cos(-2*pi*(1-$))*(1-y))*(1-$)" tm="0">
                                          <p:val>
                                            <p:fltVal val="0"/>
                                          </p:val>
                                        </p:tav>
                                        <p:tav fmla="y+(sin(-2*pi*(1-$))*-x+cos(-2*pi*(1-$))*(1-y))*(1-$)" tm="100000">
                                          <p:val>
                                            <p:fltVal val="1"/>
                                          </p:val>
                                        </p:tav>
                                      </p:tavLst>
                                    </p:anim>
                                  </p:childTnLst>
                                </p:cTn>
                              </p:par>
                              <p:par>
                                <p:cTn id="62" nodeType="withEffect" fill="hold" presetClass="entr" presetID="15">
                                  <p:stCondLst>
                                    <p:cond delay="0"/>
                                  </p:stCondLst>
                                  <p:childTnLst>
                                    <p:set>
                                      <p:cBhvr>
                                        <p:cTn id="63" dur="1" fill="hold">
                                          <p:stCondLst>
                                            <p:cond delay="0"/>
                                          </p:stCondLst>
                                        </p:cTn>
                                        <p:tgtEl>
                                          <p:spTgt spid="207"/>
                                        </p:tgtEl>
                                        <p:attrNameLst>
                                          <p:attrName>style.visibility</p:attrName>
                                        </p:attrNameLst>
                                      </p:cBhvr>
                                      <p:to>
                                        <p:strVal val="visible"/>
                                      </p:to>
                                    </p:set>
                                    <p:anim calcmode="lin" valueType="num">
                                      <p:cBhvr additive="repl">
                                        <p:cTn id="64" dur="1000" fill="hold"/>
                                        <p:tgtEl>
                                          <p:spTgt spid="207"/>
                                        </p:tgtEl>
                                        <p:attrNameLst>
                                          <p:attrName>ppt_w</p:attrName>
                                        </p:attrNameLst>
                                      </p:cBhvr>
                                      <p:tavLst>
                                        <p:tav tm="0">
                                          <p:val>
                                            <p:fltVal val="0"/>
                                          </p:val>
                                        </p:tav>
                                        <p:tav tm="100000">
                                          <p:val>
                                            <p:strVal val="#ppt_w"/>
                                          </p:val>
                                        </p:tav>
                                      </p:tavLst>
                                    </p:anim>
                                    <p:anim calcmode="lin" valueType="num">
                                      <p:cBhvr additive="repl">
                                        <p:cTn id="65" dur="1000" fill="hold"/>
                                        <p:tgtEl>
                                          <p:spTgt spid="207"/>
                                        </p:tgtEl>
                                        <p:attrNameLst>
                                          <p:attrName>ppt_h</p:attrName>
                                        </p:attrNameLst>
                                      </p:cBhvr>
                                      <p:tavLst>
                                        <p:tav tm="0">
                                          <p:val>
                                            <p:fltVal val="0"/>
                                          </p:val>
                                        </p:tav>
                                        <p:tav tm="100000">
                                          <p:val>
                                            <p:strVal val="#ppt_h"/>
                                          </p:val>
                                        </p:tav>
                                      </p:tavLst>
                                    </p:anim>
                                    <p:anim calcmode="lin" valueType="num">
                                      <p:cBhvr additive="repl">
                                        <p:cTn id="66"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67"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par>
                          <p:cTn id="68" fill="hold">
                            <p:stCondLst>
                              <p:cond delay="1000"/>
                            </p:stCondLst>
                            <p:childTnLst>
                              <p:par>
                                <p:cTn id="69" nodeType="afterEffect" fill="hold" presetClass="entr" presetID="14" presetSubtype="10">
                                  <p:stCondLst>
                                    <p:cond delay="250"/>
                                  </p:stCondLst>
                                  <p:childTnLst>
                                    <p:set>
                                      <p:cBhvr>
                                        <p:cTn id="70" dur="1" fill="hold">
                                          <p:stCondLst>
                                            <p:cond delay="0"/>
                                          </p:stCondLst>
                                        </p:cTn>
                                        <p:tgtEl>
                                          <p:spTgt spid="208"/>
                                        </p:tgtEl>
                                        <p:attrNameLst>
                                          <p:attrName>style.visibility</p:attrName>
                                        </p:attrNameLst>
                                      </p:cBhvr>
                                      <p:to>
                                        <p:strVal val="visible"/>
                                      </p:to>
                                    </p:set>
                                    <p:animEffect filter="randombar(horizontal)" transition="in">
                                      <p:cBhvr additive="repl">
                                        <p:cTn id="7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sp>
        <p:nvSpPr>
          <p:cNvPr id="210" name="Freeform 1175"/>
          <p:cNvSpPr/>
          <p:nvPr/>
        </p:nvSpPr>
        <p:spPr>
          <a:xfrm>
            <a:off x="1158840" y="1447920"/>
            <a:ext cx="2176560" cy="3582720"/>
          </a:xfrm>
          <a:custGeom>
            <a:avLst/>
            <a:gdLst>
              <a:gd name="textAreaLeft" fmla="*/ 0 w 2176560"/>
              <a:gd name="textAreaRight" fmla="*/ 2176920 w 2176560"/>
              <a:gd name="textAreaTop" fmla="*/ 0 h 3582720"/>
              <a:gd name="textAreaBottom" fmla="*/ 3583080 h 3582720"/>
            </a:gdLst>
            <a:ahLst/>
            <a:rect l="textAreaLeft" t="textAreaTop" r="textAreaRight" b="textAreaBottom"/>
            <a:pathLst>
              <a:path w="423" h="696">
                <a:moveTo>
                  <a:pt x="144" y="90"/>
                </a:moveTo>
                <a:cubicBezTo>
                  <a:pt x="144" y="89"/>
                  <a:pt x="139" y="86"/>
                  <a:pt x="139" y="86"/>
                </a:cubicBezTo>
                <a:cubicBezTo>
                  <a:pt x="139" y="85"/>
                  <a:pt x="138" y="86"/>
                  <a:pt x="137" y="86"/>
                </a:cubicBezTo>
                <a:cubicBezTo>
                  <a:pt x="136" y="86"/>
                  <a:pt x="135" y="86"/>
                  <a:pt x="135" y="85"/>
                </a:cubicBezTo>
                <a:cubicBezTo>
                  <a:pt x="135" y="83"/>
                  <a:pt x="136" y="82"/>
                  <a:pt x="136" y="80"/>
                </a:cubicBezTo>
                <a:cubicBezTo>
                  <a:pt x="136" y="79"/>
                  <a:pt x="135" y="77"/>
                  <a:pt x="135" y="77"/>
                </a:cubicBezTo>
                <a:cubicBezTo>
                  <a:pt x="134" y="78"/>
                  <a:pt x="133" y="78"/>
                  <a:pt x="133" y="76"/>
                </a:cubicBezTo>
                <a:cubicBezTo>
                  <a:pt x="132" y="73"/>
                  <a:pt x="131" y="65"/>
                  <a:pt x="130" y="63"/>
                </a:cubicBezTo>
                <a:cubicBezTo>
                  <a:pt x="128" y="59"/>
                  <a:pt x="125" y="53"/>
                  <a:pt x="127" y="43"/>
                </a:cubicBezTo>
                <a:cubicBezTo>
                  <a:pt x="127" y="42"/>
                  <a:pt x="127" y="36"/>
                  <a:pt x="130" y="28"/>
                </a:cubicBezTo>
                <a:cubicBezTo>
                  <a:pt x="131" y="27"/>
                  <a:pt x="134" y="19"/>
                  <a:pt x="141" y="16"/>
                </a:cubicBezTo>
                <a:cubicBezTo>
                  <a:pt x="144" y="14"/>
                  <a:pt x="146" y="13"/>
                  <a:pt x="146" y="13"/>
                </a:cubicBezTo>
                <a:cubicBezTo>
                  <a:pt x="148" y="12"/>
                  <a:pt x="149" y="11"/>
                  <a:pt x="149" y="10"/>
                </a:cubicBezTo>
                <a:cubicBezTo>
                  <a:pt x="149" y="9"/>
                  <a:pt x="149" y="8"/>
                  <a:pt x="152" y="7"/>
                </a:cubicBezTo>
                <a:cubicBezTo>
                  <a:pt x="152" y="6"/>
                  <a:pt x="154" y="5"/>
                  <a:pt x="155" y="6"/>
                </a:cubicBezTo>
                <a:cubicBezTo>
                  <a:pt x="156" y="6"/>
                  <a:pt x="158" y="6"/>
                  <a:pt x="159" y="6"/>
                </a:cubicBezTo>
                <a:cubicBezTo>
                  <a:pt x="160" y="5"/>
                  <a:pt x="162" y="4"/>
                  <a:pt x="165" y="3"/>
                </a:cubicBezTo>
                <a:cubicBezTo>
                  <a:pt x="165" y="3"/>
                  <a:pt x="174" y="0"/>
                  <a:pt x="182" y="2"/>
                </a:cubicBezTo>
                <a:cubicBezTo>
                  <a:pt x="186" y="2"/>
                  <a:pt x="190" y="5"/>
                  <a:pt x="194" y="9"/>
                </a:cubicBezTo>
                <a:cubicBezTo>
                  <a:pt x="194" y="9"/>
                  <a:pt x="197" y="14"/>
                  <a:pt x="199" y="19"/>
                </a:cubicBezTo>
                <a:cubicBezTo>
                  <a:pt x="199" y="22"/>
                  <a:pt x="202" y="28"/>
                  <a:pt x="203" y="30"/>
                </a:cubicBezTo>
                <a:cubicBezTo>
                  <a:pt x="205" y="31"/>
                  <a:pt x="207" y="34"/>
                  <a:pt x="208" y="37"/>
                </a:cubicBezTo>
                <a:cubicBezTo>
                  <a:pt x="209" y="39"/>
                  <a:pt x="211" y="41"/>
                  <a:pt x="213" y="41"/>
                </a:cubicBezTo>
                <a:cubicBezTo>
                  <a:pt x="216" y="42"/>
                  <a:pt x="231" y="47"/>
                  <a:pt x="232" y="47"/>
                </a:cubicBezTo>
                <a:cubicBezTo>
                  <a:pt x="234" y="48"/>
                  <a:pt x="235" y="48"/>
                  <a:pt x="234" y="49"/>
                </a:cubicBezTo>
                <a:cubicBezTo>
                  <a:pt x="232" y="49"/>
                  <a:pt x="225" y="52"/>
                  <a:pt x="224" y="52"/>
                </a:cubicBezTo>
                <a:cubicBezTo>
                  <a:pt x="222" y="53"/>
                  <a:pt x="216" y="56"/>
                  <a:pt x="216" y="57"/>
                </a:cubicBezTo>
                <a:cubicBezTo>
                  <a:pt x="215" y="57"/>
                  <a:pt x="216" y="59"/>
                  <a:pt x="216" y="62"/>
                </a:cubicBezTo>
                <a:cubicBezTo>
                  <a:pt x="216" y="64"/>
                  <a:pt x="216" y="67"/>
                  <a:pt x="216" y="67"/>
                </a:cubicBezTo>
                <a:cubicBezTo>
                  <a:pt x="216" y="67"/>
                  <a:pt x="217" y="71"/>
                  <a:pt x="217" y="72"/>
                </a:cubicBezTo>
                <a:cubicBezTo>
                  <a:pt x="218" y="74"/>
                  <a:pt x="219" y="78"/>
                  <a:pt x="220" y="79"/>
                </a:cubicBezTo>
                <a:cubicBezTo>
                  <a:pt x="220" y="79"/>
                  <a:pt x="222" y="82"/>
                  <a:pt x="223" y="82"/>
                </a:cubicBezTo>
                <a:cubicBezTo>
                  <a:pt x="224" y="83"/>
                  <a:pt x="234" y="85"/>
                  <a:pt x="235" y="86"/>
                </a:cubicBezTo>
                <a:cubicBezTo>
                  <a:pt x="236" y="86"/>
                  <a:pt x="241" y="89"/>
                  <a:pt x="241" y="90"/>
                </a:cubicBezTo>
                <a:cubicBezTo>
                  <a:pt x="242" y="91"/>
                  <a:pt x="244" y="93"/>
                  <a:pt x="246" y="94"/>
                </a:cubicBezTo>
                <a:cubicBezTo>
                  <a:pt x="249" y="95"/>
                  <a:pt x="254" y="96"/>
                  <a:pt x="254" y="97"/>
                </a:cubicBezTo>
                <a:cubicBezTo>
                  <a:pt x="255" y="98"/>
                  <a:pt x="260" y="100"/>
                  <a:pt x="261" y="100"/>
                </a:cubicBezTo>
                <a:cubicBezTo>
                  <a:pt x="262" y="100"/>
                  <a:pt x="278" y="108"/>
                  <a:pt x="278" y="109"/>
                </a:cubicBezTo>
                <a:cubicBezTo>
                  <a:pt x="279" y="109"/>
                  <a:pt x="286" y="113"/>
                  <a:pt x="292" y="117"/>
                </a:cubicBezTo>
                <a:cubicBezTo>
                  <a:pt x="293" y="118"/>
                  <a:pt x="304" y="127"/>
                  <a:pt x="305" y="128"/>
                </a:cubicBezTo>
                <a:cubicBezTo>
                  <a:pt x="306" y="129"/>
                  <a:pt x="311" y="131"/>
                  <a:pt x="312" y="132"/>
                </a:cubicBezTo>
                <a:cubicBezTo>
                  <a:pt x="313" y="133"/>
                  <a:pt x="322" y="139"/>
                  <a:pt x="328" y="146"/>
                </a:cubicBezTo>
                <a:cubicBezTo>
                  <a:pt x="326" y="143"/>
                  <a:pt x="334" y="152"/>
                  <a:pt x="337" y="159"/>
                </a:cubicBezTo>
                <a:cubicBezTo>
                  <a:pt x="338" y="160"/>
                  <a:pt x="340" y="164"/>
                  <a:pt x="344" y="165"/>
                </a:cubicBezTo>
                <a:cubicBezTo>
                  <a:pt x="344" y="166"/>
                  <a:pt x="351" y="168"/>
                  <a:pt x="354" y="172"/>
                </a:cubicBezTo>
                <a:cubicBezTo>
                  <a:pt x="354" y="172"/>
                  <a:pt x="361" y="177"/>
                  <a:pt x="363" y="182"/>
                </a:cubicBezTo>
                <a:cubicBezTo>
                  <a:pt x="363" y="182"/>
                  <a:pt x="364" y="183"/>
                  <a:pt x="366" y="183"/>
                </a:cubicBezTo>
                <a:cubicBezTo>
                  <a:pt x="368" y="183"/>
                  <a:pt x="374" y="184"/>
                  <a:pt x="376" y="189"/>
                </a:cubicBezTo>
                <a:cubicBezTo>
                  <a:pt x="376" y="189"/>
                  <a:pt x="375" y="191"/>
                  <a:pt x="379" y="192"/>
                </a:cubicBezTo>
                <a:cubicBezTo>
                  <a:pt x="380" y="192"/>
                  <a:pt x="382" y="191"/>
                  <a:pt x="383" y="190"/>
                </a:cubicBezTo>
                <a:cubicBezTo>
                  <a:pt x="382" y="191"/>
                  <a:pt x="388" y="189"/>
                  <a:pt x="390" y="194"/>
                </a:cubicBezTo>
                <a:cubicBezTo>
                  <a:pt x="391" y="195"/>
                  <a:pt x="392" y="198"/>
                  <a:pt x="394" y="199"/>
                </a:cubicBezTo>
                <a:cubicBezTo>
                  <a:pt x="395" y="200"/>
                  <a:pt x="403" y="204"/>
                  <a:pt x="405" y="208"/>
                </a:cubicBezTo>
                <a:cubicBezTo>
                  <a:pt x="406" y="209"/>
                  <a:pt x="410" y="214"/>
                  <a:pt x="411" y="217"/>
                </a:cubicBezTo>
                <a:cubicBezTo>
                  <a:pt x="411" y="218"/>
                  <a:pt x="415" y="229"/>
                  <a:pt x="418" y="231"/>
                </a:cubicBezTo>
                <a:cubicBezTo>
                  <a:pt x="419" y="231"/>
                  <a:pt x="421" y="232"/>
                  <a:pt x="422" y="236"/>
                </a:cubicBezTo>
                <a:cubicBezTo>
                  <a:pt x="422" y="237"/>
                  <a:pt x="421" y="243"/>
                  <a:pt x="422" y="245"/>
                </a:cubicBezTo>
                <a:cubicBezTo>
                  <a:pt x="423" y="247"/>
                  <a:pt x="423" y="249"/>
                  <a:pt x="422" y="255"/>
                </a:cubicBezTo>
                <a:cubicBezTo>
                  <a:pt x="422" y="258"/>
                  <a:pt x="420" y="269"/>
                  <a:pt x="419" y="273"/>
                </a:cubicBezTo>
                <a:cubicBezTo>
                  <a:pt x="418" y="274"/>
                  <a:pt x="415" y="278"/>
                  <a:pt x="411" y="282"/>
                </a:cubicBezTo>
                <a:cubicBezTo>
                  <a:pt x="408" y="285"/>
                  <a:pt x="403" y="286"/>
                  <a:pt x="402" y="287"/>
                </a:cubicBezTo>
                <a:cubicBezTo>
                  <a:pt x="400" y="287"/>
                  <a:pt x="398" y="286"/>
                  <a:pt x="398" y="285"/>
                </a:cubicBezTo>
                <a:cubicBezTo>
                  <a:pt x="398" y="284"/>
                  <a:pt x="398" y="284"/>
                  <a:pt x="397" y="284"/>
                </a:cubicBezTo>
                <a:cubicBezTo>
                  <a:pt x="392" y="287"/>
                  <a:pt x="390" y="286"/>
                  <a:pt x="390" y="283"/>
                </a:cubicBezTo>
                <a:cubicBezTo>
                  <a:pt x="389" y="282"/>
                  <a:pt x="390" y="279"/>
                  <a:pt x="394" y="277"/>
                </a:cubicBezTo>
                <a:cubicBezTo>
                  <a:pt x="397" y="276"/>
                  <a:pt x="402" y="272"/>
                  <a:pt x="404" y="269"/>
                </a:cubicBezTo>
                <a:cubicBezTo>
                  <a:pt x="405" y="268"/>
                  <a:pt x="407" y="264"/>
                  <a:pt x="407" y="263"/>
                </a:cubicBezTo>
                <a:cubicBezTo>
                  <a:pt x="408" y="261"/>
                  <a:pt x="408" y="260"/>
                  <a:pt x="406" y="261"/>
                </a:cubicBezTo>
                <a:cubicBezTo>
                  <a:pt x="403" y="262"/>
                  <a:pt x="393" y="273"/>
                  <a:pt x="392" y="274"/>
                </a:cubicBezTo>
                <a:cubicBezTo>
                  <a:pt x="390" y="275"/>
                  <a:pt x="386" y="275"/>
                  <a:pt x="386" y="272"/>
                </a:cubicBezTo>
                <a:cubicBezTo>
                  <a:pt x="385" y="269"/>
                  <a:pt x="387" y="266"/>
                  <a:pt x="389" y="264"/>
                </a:cubicBezTo>
                <a:cubicBezTo>
                  <a:pt x="389" y="264"/>
                  <a:pt x="398" y="254"/>
                  <a:pt x="399" y="253"/>
                </a:cubicBezTo>
                <a:cubicBezTo>
                  <a:pt x="400" y="250"/>
                  <a:pt x="395" y="247"/>
                  <a:pt x="394" y="248"/>
                </a:cubicBezTo>
                <a:cubicBezTo>
                  <a:pt x="393" y="249"/>
                  <a:pt x="386" y="257"/>
                  <a:pt x="385" y="257"/>
                </a:cubicBezTo>
                <a:cubicBezTo>
                  <a:pt x="385" y="258"/>
                  <a:pt x="382" y="258"/>
                  <a:pt x="381" y="256"/>
                </a:cubicBezTo>
                <a:cubicBezTo>
                  <a:pt x="380" y="254"/>
                  <a:pt x="380" y="250"/>
                  <a:pt x="383" y="247"/>
                </a:cubicBezTo>
                <a:cubicBezTo>
                  <a:pt x="383" y="247"/>
                  <a:pt x="386" y="244"/>
                  <a:pt x="383" y="243"/>
                </a:cubicBezTo>
                <a:cubicBezTo>
                  <a:pt x="381" y="243"/>
                  <a:pt x="375" y="242"/>
                  <a:pt x="372" y="239"/>
                </a:cubicBezTo>
                <a:cubicBezTo>
                  <a:pt x="371" y="238"/>
                  <a:pt x="371" y="237"/>
                  <a:pt x="369" y="236"/>
                </a:cubicBezTo>
                <a:cubicBezTo>
                  <a:pt x="366" y="236"/>
                  <a:pt x="360" y="233"/>
                  <a:pt x="352" y="230"/>
                </a:cubicBezTo>
                <a:cubicBezTo>
                  <a:pt x="349" y="229"/>
                  <a:pt x="345" y="228"/>
                  <a:pt x="342" y="227"/>
                </a:cubicBezTo>
                <a:cubicBezTo>
                  <a:pt x="334" y="223"/>
                  <a:pt x="328" y="219"/>
                  <a:pt x="322" y="215"/>
                </a:cubicBezTo>
                <a:cubicBezTo>
                  <a:pt x="320" y="213"/>
                  <a:pt x="304" y="203"/>
                  <a:pt x="301" y="199"/>
                </a:cubicBezTo>
                <a:cubicBezTo>
                  <a:pt x="300" y="199"/>
                  <a:pt x="297" y="196"/>
                  <a:pt x="298" y="200"/>
                </a:cubicBezTo>
                <a:cubicBezTo>
                  <a:pt x="299" y="202"/>
                  <a:pt x="298" y="206"/>
                  <a:pt x="296" y="209"/>
                </a:cubicBezTo>
                <a:cubicBezTo>
                  <a:pt x="296" y="210"/>
                  <a:pt x="294" y="213"/>
                  <a:pt x="297" y="215"/>
                </a:cubicBezTo>
                <a:cubicBezTo>
                  <a:pt x="297" y="216"/>
                  <a:pt x="299" y="220"/>
                  <a:pt x="299" y="226"/>
                </a:cubicBezTo>
                <a:cubicBezTo>
                  <a:pt x="299" y="231"/>
                  <a:pt x="296" y="236"/>
                  <a:pt x="296" y="236"/>
                </a:cubicBezTo>
                <a:cubicBezTo>
                  <a:pt x="296" y="236"/>
                  <a:pt x="293" y="238"/>
                  <a:pt x="293" y="242"/>
                </a:cubicBezTo>
                <a:cubicBezTo>
                  <a:pt x="293" y="243"/>
                  <a:pt x="291" y="246"/>
                  <a:pt x="292" y="248"/>
                </a:cubicBezTo>
                <a:cubicBezTo>
                  <a:pt x="293" y="249"/>
                  <a:pt x="294" y="254"/>
                  <a:pt x="294" y="256"/>
                </a:cubicBezTo>
                <a:cubicBezTo>
                  <a:pt x="293" y="257"/>
                  <a:pt x="292" y="263"/>
                  <a:pt x="293" y="266"/>
                </a:cubicBezTo>
                <a:cubicBezTo>
                  <a:pt x="294" y="267"/>
                  <a:pt x="294" y="276"/>
                  <a:pt x="293" y="279"/>
                </a:cubicBezTo>
                <a:cubicBezTo>
                  <a:pt x="293" y="280"/>
                  <a:pt x="292" y="283"/>
                  <a:pt x="292" y="283"/>
                </a:cubicBezTo>
                <a:cubicBezTo>
                  <a:pt x="291" y="285"/>
                  <a:pt x="293" y="285"/>
                  <a:pt x="294" y="285"/>
                </a:cubicBezTo>
                <a:cubicBezTo>
                  <a:pt x="295" y="285"/>
                  <a:pt x="299" y="286"/>
                  <a:pt x="299" y="286"/>
                </a:cubicBezTo>
                <a:cubicBezTo>
                  <a:pt x="298" y="287"/>
                  <a:pt x="298" y="290"/>
                  <a:pt x="295" y="292"/>
                </a:cubicBezTo>
                <a:cubicBezTo>
                  <a:pt x="294" y="292"/>
                  <a:pt x="293" y="293"/>
                  <a:pt x="294" y="294"/>
                </a:cubicBezTo>
                <a:cubicBezTo>
                  <a:pt x="294" y="294"/>
                  <a:pt x="295" y="296"/>
                  <a:pt x="295" y="296"/>
                </a:cubicBezTo>
                <a:cubicBezTo>
                  <a:pt x="296" y="296"/>
                  <a:pt x="298" y="296"/>
                  <a:pt x="298" y="297"/>
                </a:cubicBezTo>
                <a:cubicBezTo>
                  <a:pt x="298" y="298"/>
                  <a:pt x="298" y="299"/>
                  <a:pt x="301" y="301"/>
                </a:cubicBezTo>
                <a:cubicBezTo>
                  <a:pt x="302" y="302"/>
                  <a:pt x="303" y="304"/>
                  <a:pt x="303" y="304"/>
                </a:cubicBezTo>
                <a:cubicBezTo>
                  <a:pt x="303" y="304"/>
                  <a:pt x="314" y="305"/>
                  <a:pt x="315" y="305"/>
                </a:cubicBezTo>
                <a:cubicBezTo>
                  <a:pt x="315" y="305"/>
                  <a:pt x="316" y="310"/>
                  <a:pt x="316" y="311"/>
                </a:cubicBezTo>
                <a:cubicBezTo>
                  <a:pt x="316" y="311"/>
                  <a:pt x="308" y="310"/>
                  <a:pt x="307" y="310"/>
                </a:cubicBezTo>
                <a:cubicBezTo>
                  <a:pt x="306" y="310"/>
                  <a:pt x="306" y="311"/>
                  <a:pt x="307" y="311"/>
                </a:cubicBezTo>
                <a:cubicBezTo>
                  <a:pt x="307" y="311"/>
                  <a:pt x="309" y="315"/>
                  <a:pt x="310" y="315"/>
                </a:cubicBezTo>
                <a:cubicBezTo>
                  <a:pt x="310" y="316"/>
                  <a:pt x="308" y="330"/>
                  <a:pt x="309" y="331"/>
                </a:cubicBezTo>
                <a:cubicBezTo>
                  <a:pt x="309" y="332"/>
                  <a:pt x="309" y="334"/>
                  <a:pt x="311" y="339"/>
                </a:cubicBezTo>
                <a:cubicBezTo>
                  <a:pt x="312" y="340"/>
                  <a:pt x="316" y="346"/>
                  <a:pt x="316" y="352"/>
                </a:cubicBezTo>
                <a:cubicBezTo>
                  <a:pt x="316" y="352"/>
                  <a:pt x="314" y="355"/>
                  <a:pt x="315" y="356"/>
                </a:cubicBezTo>
                <a:cubicBezTo>
                  <a:pt x="316" y="357"/>
                  <a:pt x="317" y="360"/>
                  <a:pt x="316" y="361"/>
                </a:cubicBezTo>
                <a:cubicBezTo>
                  <a:pt x="316" y="362"/>
                  <a:pt x="318" y="365"/>
                  <a:pt x="318" y="366"/>
                </a:cubicBezTo>
                <a:cubicBezTo>
                  <a:pt x="318" y="366"/>
                  <a:pt x="321" y="372"/>
                  <a:pt x="321" y="373"/>
                </a:cubicBezTo>
                <a:cubicBezTo>
                  <a:pt x="321" y="373"/>
                  <a:pt x="323" y="377"/>
                  <a:pt x="326" y="379"/>
                </a:cubicBezTo>
                <a:cubicBezTo>
                  <a:pt x="327" y="380"/>
                  <a:pt x="332" y="384"/>
                  <a:pt x="333" y="388"/>
                </a:cubicBezTo>
                <a:cubicBezTo>
                  <a:pt x="333" y="389"/>
                  <a:pt x="333" y="391"/>
                  <a:pt x="336" y="392"/>
                </a:cubicBezTo>
                <a:cubicBezTo>
                  <a:pt x="338" y="394"/>
                  <a:pt x="338" y="400"/>
                  <a:pt x="337" y="403"/>
                </a:cubicBezTo>
                <a:cubicBezTo>
                  <a:pt x="337" y="404"/>
                  <a:pt x="335" y="406"/>
                  <a:pt x="334" y="408"/>
                </a:cubicBezTo>
                <a:cubicBezTo>
                  <a:pt x="332" y="410"/>
                  <a:pt x="332" y="413"/>
                  <a:pt x="333" y="415"/>
                </a:cubicBezTo>
                <a:cubicBezTo>
                  <a:pt x="334" y="416"/>
                  <a:pt x="340" y="421"/>
                  <a:pt x="335" y="425"/>
                </a:cubicBezTo>
                <a:cubicBezTo>
                  <a:pt x="335" y="426"/>
                  <a:pt x="332" y="428"/>
                  <a:pt x="335" y="429"/>
                </a:cubicBezTo>
                <a:cubicBezTo>
                  <a:pt x="336" y="430"/>
                  <a:pt x="342" y="434"/>
                  <a:pt x="345" y="439"/>
                </a:cubicBezTo>
                <a:cubicBezTo>
                  <a:pt x="345" y="440"/>
                  <a:pt x="346" y="447"/>
                  <a:pt x="343" y="452"/>
                </a:cubicBezTo>
                <a:cubicBezTo>
                  <a:pt x="342" y="453"/>
                  <a:pt x="340" y="457"/>
                  <a:pt x="342" y="458"/>
                </a:cubicBezTo>
                <a:cubicBezTo>
                  <a:pt x="343" y="458"/>
                  <a:pt x="349" y="461"/>
                  <a:pt x="350" y="466"/>
                </a:cubicBezTo>
                <a:cubicBezTo>
                  <a:pt x="350" y="468"/>
                  <a:pt x="351" y="472"/>
                  <a:pt x="350" y="478"/>
                </a:cubicBezTo>
                <a:cubicBezTo>
                  <a:pt x="350" y="479"/>
                  <a:pt x="351" y="482"/>
                  <a:pt x="350" y="484"/>
                </a:cubicBezTo>
                <a:cubicBezTo>
                  <a:pt x="349" y="486"/>
                  <a:pt x="347" y="488"/>
                  <a:pt x="347" y="489"/>
                </a:cubicBezTo>
                <a:cubicBezTo>
                  <a:pt x="346" y="489"/>
                  <a:pt x="346" y="493"/>
                  <a:pt x="347" y="495"/>
                </a:cubicBezTo>
                <a:cubicBezTo>
                  <a:pt x="348" y="496"/>
                  <a:pt x="352" y="503"/>
                  <a:pt x="355" y="506"/>
                </a:cubicBezTo>
                <a:cubicBezTo>
                  <a:pt x="356" y="507"/>
                  <a:pt x="358" y="509"/>
                  <a:pt x="360" y="509"/>
                </a:cubicBezTo>
                <a:cubicBezTo>
                  <a:pt x="361" y="509"/>
                  <a:pt x="361" y="507"/>
                  <a:pt x="364" y="503"/>
                </a:cubicBezTo>
                <a:cubicBezTo>
                  <a:pt x="365" y="503"/>
                  <a:pt x="368" y="501"/>
                  <a:pt x="369" y="502"/>
                </a:cubicBezTo>
                <a:cubicBezTo>
                  <a:pt x="371" y="504"/>
                  <a:pt x="369" y="505"/>
                  <a:pt x="367" y="504"/>
                </a:cubicBezTo>
                <a:cubicBezTo>
                  <a:pt x="366" y="504"/>
                  <a:pt x="364" y="505"/>
                  <a:pt x="363" y="507"/>
                </a:cubicBezTo>
                <a:cubicBezTo>
                  <a:pt x="362" y="508"/>
                  <a:pt x="361" y="509"/>
                  <a:pt x="362" y="510"/>
                </a:cubicBezTo>
                <a:cubicBezTo>
                  <a:pt x="363" y="511"/>
                  <a:pt x="364" y="513"/>
                  <a:pt x="363" y="515"/>
                </a:cubicBezTo>
                <a:cubicBezTo>
                  <a:pt x="363" y="516"/>
                  <a:pt x="362" y="520"/>
                  <a:pt x="363" y="521"/>
                </a:cubicBezTo>
                <a:cubicBezTo>
                  <a:pt x="363" y="522"/>
                  <a:pt x="365" y="523"/>
                  <a:pt x="365" y="523"/>
                </a:cubicBezTo>
                <a:cubicBezTo>
                  <a:pt x="366" y="524"/>
                  <a:pt x="367" y="525"/>
                  <a:pt x="366" y="525"/>
                </a:cubicBezTo>
                <a:cubicBezTo>
                  <a:pt x="365" y="525"/>
                  <a:pt x="364" y="525"/>
                  <a:pt x="363" y="525"/>
                </a:cubicBezTo>
                <a:cubicBezTo>
                  <a:pt x="362" y="524"/>
                  <a:pt x="363" y="528"/>
                  <a:pt x="362" y="529"/>
                </a:cubicBezTo>
                <a:cubicBezTo>
                  <a:pt x="360" y="530"/>
                  <a:pt x="359" y="530"/>
                  <a:pt x="358" y="531"/>
                </a:cubicBezTo>
                <a:cubicBezTo>
                  <a:pt x="357" y="532"/>
                  <a:pt x="358" y="533"/>
                  <a:pt x="359" y="534"/>
                </a:cubicBezTo>
                <a:cubicBezTo>
                  <a:pt x="359" y="535"/>
                  <a:pt x="366" y="544"/>
                  <a:pt x="367" y="545"/>
                </a:cubicBezTo>
                <a:cubicBezTo>
                  <a:pt x="368" y="546"/>
                  <a:pt x="376" y="555"/>
                  <a:pt x="377" y="556"/>
                </a:cubicBezTo>
                <a:cubicBezTo>
                  <a:pt x="378" y="557"/>
                  <a:pt x="386" y="566"/>
                  <a:pt x="390" y="575"/>
                </a:cubicBezTo>
                <a:cubicBezTo>
                  <a:pt x="394" y="584"/>
                  <a:pt x="394" y="593"/>
                  <a:pt x="394" y="593"/>
                </a:cubicBezTo>
                <a:cubicBezTo>
                  <a:pt x="394" y="593"/>
                  <a:pt x="394" y="605"/>
                  <a:pt x="389" y="610"/>
                </a:cubicBezTo>
                <a:cubicBezTo>
                  <a:pt x="378" y="621"/>
                  <a:pt x="368" y="617"/>
                  <a:pt x="363" y="613"/>
                </a:cubicBezTo>
                <a:cubicBezTo>
                  <a:pt x="357" y="608"/>
                  <a:pt x="352" y="598"/>
                  <a:pt x="352" y="598"/>
                </a:cubicBezTo>
                <a:cubicBezTo>
                  <a:pt x="352" y="598"/>
                  <a:pt x="339" y="576"/>
                  <a:pt x="335" y="572"/>
                </a:cubicBezTo>
                <a:cubicBezTo>
                  <a:pt x="333" y="570"/>
                  <a:pt x="331" y="567"/>
                  <a:pt x="330" y="567"/>
                </a:cubicBezTo>
                <a:cubicBezTo>
                  <a:pt x="330" y="566"/>
                  <a:pt x="326" y="569"/>
                  <a:pt x="323" y="566"/>
                </a:cubicBezTo>
                <a:cubicBezTo>
                  <a:pt x="321" y="565"/>
                  <a:pt x="321" y="563"/>
                  <a:pt x="322" y="560"/>
                </a:cubicBezTo>
                <a:cubicBezTo>
                  <a:pt x="323" y="560"/>
                  <a:pt x="323" y="559"/>
                  <a:pt x="324" y="558"/>
                </a:cubicBezTo>
                <a:cubicBezTo>
                  <a:pt x="324" y="558"/>
                  <a:pt x="323" y="557"/>
                  <a:pt x="322" y="557"/>
                </a:cubicBezTo>
                <a:cubicBezTo>
                  <a:pt x="320" y="558"/>
                  <a:pt x="317" y="559"/>
                  <a:pt x="313" y="555"/>
                </a:cubicBezTo>
                <a:cubicBezTo>
                  <a:pt x="313" y="554"/>
                  <a:pt x="308" y="551"/>
                  <a:pt x="305" y="549"/>
                </a:cubicBezTo>
                <a:cubicBezTo>
                  <a:pt x="304" y="549"/>
                  <a:pt x="301" y="544"/>
                  <a:pt x="301" y="542"/>
                </a:cubicBezTo>
                <a:cubicBezTo>
                  <a:pt x="300" y="541"/>
                  <a:pt x="300" y="537"/>
                  <a:pt x="298" y="536"/>
                </a:cubicBezTo>
                <a:cubicBezTo>
                  <a:pt x="297" y="535"/>
                  <a:pt x="289" y="521"/>
                  <a:pt x="289" y="520"/>
                </a:cubicBezTo>
                <a:cubicBezTo>
                  <a:pt x="288" y="516"/>
                  <a:pt x="289" y="512"/>
                  <a:pt x="290" y="502"/>
                </a:cubicBezTo>
                <a:cubicBezTo>
                  <a:pt x="290" y="501"/>
                  <a:pt x="289" y="494"/>
                  <a:pt x="288" y="490"/>
                </a:cubicBezTo>
                <a:cubicBezTo>
                  <a:pt x="288" y="489"/>
                  <a:pt x="286" y="487"/>
                  <a:pt x="285" y="487"/>
                </a:cubicBezTo>
                <a:cubicBezTo>
                  <a:pt x="283" y="488"/>
                  <a:pt x="280" y="486"/>
                  <a:pt x="279" y="485"/>
                </a:cubicBezTo>
                <a:cubicBezTo>
                  <a:pt x="279" y="483"/>
                  <a:pt x="276" y="482"/>
                  <a:pt x="273" y="482"/>
                </a:cubicBezTo>
                <a:cubicBezTo>
                  <a:pt x="272" y="482"/>
                  <a:pt x="264" y="476"/>
                  <a:pt x="263" y="474"/>
                </a:cubicBezTo>
                <a:cubicBezTo>
                  <a:pt x="262" y="473"/>
                  <a:pt x="260" y="471"/>
                  <a:pt x="261" y="466"/>
                </a:cubicBezTo>
                <a:cubicBezTo>
                  <a:pt x="261" y="466"/>
                  <a:pt x="260" y="464"/>
                  <a:pt x="260" y="464"/>
                </a:cubicBezTo>
                <a:cubicBezTo>
                  <a:pt x="259" y="463"/>
                  <a:pt x="260" y="455"/>
                  <a:pt x="261" y="453"/>
                </a:cubicBezTo>
                <a:cubicBezTo>
                  <a:pt x="262" y="450"/>
                  <a:pt x="262" y="445"/>
                  <a:pt x="263" y="443"/>
                </a:cubicBezTo>
                <a:cubicBezTo>
                  <a:pt x="264" y="442"/>
                  <a:pt x="265" y="439"/>
                  <a:pt x="261" y="440"/>
                </a:cubicBezTo>
                <a:cubicBezTo>
                  <a:pt x="257" y="440"/>
                  <a:pt x="250" y="442"/>
                  <a:pt x="249" y="438"/>
                </a:cubicBezTo>
                <a:cubicBezTo>
                  <a:pt x="248" y="437"/>
                  <a:pt x="247" y="434"/>
                  <a:pt x="243" y="432"/>
                </a:cubicBezTo>
                <a:cubicBezTo>
                  <a:pt x="242" y="431"/>
                  <a:pt x="234" y="426"/>
                  <a:pt x="233" y="425"/>
                </a:cubicBezTo>
                <a:cubicBezTo>
                  <a:pt x="232" y="425"/>
                  <a:pt x="233" y="422"/>
                  <a:pt x="235" y="417"/>
                </a:cubicBezTo>
                <a:cubicBezTo>
                  <a:pt x="237" y="415"/>
                  <a:pt x="237" y="411"/>
                  <a:pt x="237" y="409"/>
                </a:cubicBezTo>
                <a:cubicBezTo>
                  <a:pt x="237" y="408"/>
                  <a:pt x="238" y="406"/>
                  <a:pt x="238" y="405"/>
                </a:cubicBezTo>
                <a:cubicBezTo>
                  <a:pt x="238" y="400"/>
                  <a:pt x="234" y="403"/>
                  <a:pt x="233" y="400"/>
                </a:cubicBezTo>
                <a:cubicBezTo>
                  <a:pt x="233" y="399"/>
                  <a:pt x="232" y="398"/>
                  <a:pt x="231" y="397"/>
                </a:cubicBezTo>
                <a:cubicBezTo>
                  <a:pt x="230" y="397"/>
                  <a:pt x="229" y="398"/>
                  <a:pt x="229" y="399"/>
                </a:cubicBezTo>
                <a:cubicBezTo>
                  <a:pt x="227" y="401"/>
                  <a:pt x="221" y="412"/>
                  <a:pt x="215" y="417"/>
                </a:cubicBezTo>
                <a:cubicBezTo>
                  <a:pt x="215" y="417"/>
                  <a:pt x="211" y="420"/>
                  <a:pt x="206" y="426"/>
                </a:cubicBezTo>
                <a:cubicBezTo>
                  <a:pt x="204" y="429"/>
                  <a:pt x="201" y="433"/>
                  <a:pt x="198" y="437"/>
                </a:cubicBezTo>
                <a:cubicBezTo>
                  <a:pt x="190" y="445"/>
                  <a:pt x="185" y="450"/>
                  <a:pt x="180" y="454"/>
                </a:cubicBezTo>
                <a:cubicBezTo>
                  <a:pt x="179" y="455"/>
                  <a:pt x="174" y="459"/>
                  <a:pt x="172" y="463"/>
                </a:cubicBezTo>
                <a:cubicBezTo>
                  <a:pt x="171" y="466"/>
                  <a:pt x="164" y="475"/>
                  <a:pt x="159" y="481"/>
                </a:cubicBezTo>
                <a:cubicBezTo>
                  <a:pt x="159" y="482"/>
                  <a:pt x="156" y="486"/>
                  <a:pt x="153" y="486"/>
                </a:cubicBezTo>
                <a:cubicBezTo>
                  <a:pt x="152" y="487"/>
                  <a:pt x="151" y="489"/>
                  <a:pt x="150" y="491"/>
                </a:cubicBezTo>
                <a:cubicBezTo>
                  <a:pt x="150" y="492"/>
                  <a:pt x="149" y="493"/>
                  <a:pt x="149" y="493"/>
                </a:cubicBezTo>
                <a:cubicBezTo>
                  <a:pt x="148" y="493"/>
                  <a:pt x="146" y="494"/>
                  <a:pt x="147" y="495"/>
                </a:cubicBezTo>
                <a:cubicBezTo>
                  <a:pt x="148" y="495"/>
                  <a:pt x="149" y="496"/>
                  <a:pt x="147" y="498"/>
                </a:cubicBezTo>
                <a:cubicBezTo>
                  <a:pt x="147" y="499"/>
                  <a:pt x="145" y="501"/>
                  <a:pt x="144" y="502"/>
                </a:cubicBezTo>
                <a:cubicBezTo>
                  <a:pt x="144" y="503"/>
                  <a:pt x="144" y="504"/>
                  <a:pt x="145" y="505"/>
                </a:cubicBezTo>
                <a:cubicBezTo>
                  <a:pt x="148" y="506"/>
                  <a:pt x="150" y="508"/>
                  <a:pt x="150" y="510"/>
                </a:cubicBezTo>
                <a:cubicBezTo>
                  <a:pt x="150" y="514"/>
                  <a:pt x="149" y="516"/>
                  <a:pt x="148" y="523"/>
                </a:cubicBezTo>
                <a:cubicBezTo>
                  <a:pt x="148" y="524"/>
                  <a:pt x="145" y="531"/>
                  <a:pt x="143" y="532"/>
                </a:cubicBezTo>
                <a:cubicBezTo>
                  <a:pt x="142" y="532"/>
                  <a:pt x="139" y="535"/>
                  <a:pt x="139" y="535"/>
                </a:cubicBezTo>
                <a:cubicBezTo>
                  <a:pt x="139" y="535"/>
                  <a:pt x="136" y="539"/>
                  <a:pt x="135" y="540"/>
                </a:cubicBezTo>
                <a:cubicBezTo>
                  <a:pt x="135" y="541"/>
                  <a:pt x="133" y="544"/>
                  <a:pt x="132" y="547"/>
                </a:cubicBezTo>
                <a:cubicBezTo>
                  <a:pt x="132" y="549"/>
                  <a:pt x="130" y="553"/>
                  <a:pt x="128" y="554"/>
                </a:cubicBezTo>
                <a:cubicBezTo>
                  <a:pt x="127" y="554"/>
                  <a:pt x="124" y="555"/>
                  <a:pt x="123" y="556"/>
                </a:cubicBezTo>
                <a:cubicBezTo>
                  <a:pt x="122" y="556"/>
                  <a:pt x="115" y="559"/>
                  <a:pt x="114" y="560"/>
                </a:cubicBezTo>
                <a:cubicBezTo>
                  <a:pt x="114" y="561"/>
                  <a:pt x="112" y="561"/>
                  <a:pt x="113" y="564"/>
                </a:cubicBezTo>
                <a:cubicBezTo>
                  <a:pt x="113" y="565"/>
                  <a:pt x="113" y="572"/>
                  <a:pt x="111" y="575"/>
                </a:cubicBezTo>
                <a:cubicBezTo>
                  <a:pt x="110" y="575"/>
                  <a:pt x="109" y="577"/>
                  <a:pt x="109" y="579"/>
                </a:cubicBezTo>
                <a:cubicBezTo>
                  <a:pt x="108" y="580"/>
                  <a:pt x="109" y="588"/>
                  <a:pt x="108" y="591"/>
                </a:cubicBezTo>
                <a:cubicBezTo>
                  <a:pt x="107" y="591"/>
                  <a:pt x="108" y="593"/>
                  <a:pt x="102" y="596"/>
                </a:cubicBezTo>
                <a:cubicBezTo>
                  <a:pt x="101" y="597"/>
                  <a:pt x="100" y="597"/>
                  <a:pt x="100" y="599"/>
                </a:cubicBezTo>
                <a:cubicBezTo>
                  <a:pt x="101" y="601"/>
                  <a:pt x="104" y="609"/>
                  <a:pt x="101" y="626"/>
                </a:cubicBezTo>
                <a:cubicBezTo>
                  <a:pt x="101" y="627"/>
                  <a:pt x="99" y="635"/>
                  <a:pt x="87" y="647"/>
                </a:cubicBezTo>
                <a:cubicBezTo>
                  <a:pt x="87" y="648"/>
                  <a:pt x="80" y="660"/>
                  <a:pt x="80" y="668"/>
                </a:cubicBezTo>
                <a:cubicBezTo>
                  <a:pt x="80" y="669"/>
                  <a:pt x="80" y="680"/>
                  <a:pt x="63" y="693"/>
                </a:cubicBezTo>
                <a:cubicBezTo>
                  <a:pt x="63" y="693"/>
                  <a:pt x="55" y="696"/>
                  <a:pt x="49" y="695"/>
                </a:cubicBezTo>
                <a:cubicBezTo>
                  <a:pt x="43" y="693"/>
                  <a:pt x="38" y="687"/>
                  <a:pt x="38" y="687"/>
                </a:cubicBezTo>
                <a:cubicBezTo>
                  <a:pt x="38" y="687"/>
                  <a:pt x="34" y="685"/>
                  <a:pt x="37" y="670"/>
                </a:cubicBezTo>
                <a:cubicBezTo>
                  <a:pt x="37" y="667"/>
                  <a:pt x="38" y="659"/>
                  <a:pt x="44" y="647"/>
                </a:cubicBezTo>
                <a:cubicBezTo>
                  <a:pt x="45" y="646"/>
                  <a:pt x="52" y="636"/>
                  <a:pt x="53" y="632"/>
                </a:cubicBezTo>
                <a:cubicBezTo>
                  <a:pt x="53" y="630"/>
                  <a:pt x="55" y="628"/>
                  <a:pt x="56" y="627"/>
                </a:cubicBezTo>
                <a:cubicBezTo>
                  <a:pt x="56" y="627"/>
                  <a:pt x="55" y="626"/>
                  <a:pt x="53" y="626"/>
                </a:cubicBezTo>
                <a:cubicBezTo>
                  <a:pt x="52" y="627"/>
                  <a:pt x="49" y="626"/>
                  <a:pt x="49" y="625"/>
                </a:cubicBezTo>
                <a:cubicBezTo>
                  <a:pt x="49" y="624"/>
                  <a:pt x="49" y="622"/>
                  <a:pt x="51" y="622"/>
                </a:cubicBezTo>
                <a:cubicBezTo>
                  <a:pt x="53" y="622"/>
                  <a:pt x="57" y="625"/>
                  <a:pt x="58" y="622"/>
                </a:cubicBezTo>
                <a:cubicBezTo>
                  <a:pt x="58" y="620"/>
                  <a:pt x="63" y="611"/>
                  <a:pt x="64" y="611"/>
                </a:cubicBezTo>
                <a:cubicBezTo>
                  <a:pt x="65" y="610"/>
                  <a:pt x="66" y="611"/>
                  <a:pt x="67" y="610"/>
                </a:cubicBezTo>
                <a:cubicBezTo>
                  <a:pt x="68" y="609"/>
                  <a:pt x="69" y="607"/>
                  <a:pt x="69" y="606"/>
                </a:cubicBezTo>
                <a:cubicBezTo>
                  <a:pt x="70" y="606"/>
                  <a:pt x="64" y="605"/>
                  <a:pt x="63" y="605"/>
                </a:cubicBezTo>
                <a:cubicBezTo>
                  <a:pt x="62" y="604"/>
                  <a:pt x="55" y="602"/>
                  <a:pt x="53" y="601"/>
                </a:cubicBezTo>
                <a:cubicBezTo>
                  <a:pt x="51" y="601"/>
                  <a:pt x="50" y="601"/>
                  <a:pt x="50" y="599"/>
                </a:cubicBezTo>
                <a:cubicBezTo>
                  <a:pt x="50" y="598"/>
                  <a:pt x="47" y="584"/>
                  <a:pt x="47" y="576"/>
                </a:cubicBezTo>
                <a:cubicBezTo>
                  <a:pt x="47" y="575"/>
                  <a:pt x="47" y="570"/>
                  <a:pt x="48" y="568"/>
                </a:cubicBezTo>
                <a:cubicBezTo>
                  <a:pt x="48" y="567"/>
                  <a:pt x="49" y="562"/>
                  <a:pt x="54" y="557"/>
                </a:cubicBezTo>
                <a:cubicBezTo>
                  <a:pt x="54" y="556"/>
                  <a:pt x="56" y="554"/>
                  <a:pt x="58" y="552"/>
                </a:cubicBezTo>
                <a:cubicBezTo>
                  <a:pt x="59" y="552"/>
                  <a:pt x="61" y="551"/>
                  <a:pt x="60" y="550"/>
                </a:cubicBezTo>
                <a:cubicBezTo>
                  <a:pt x="59" y="549"/>
                  <a:pt x="60" y="536"/>
                  <a:pt x="62" y="530"/>
                </a:cubicBezTo>
                <a:cubicBezTo>
                  <a:pt x="63" y="529"/>
                  <a:pt x="64" y="523"/>
                  <a:pt x="65" y="521"/>
                </a:cubicBezTo>
                <a:cubicBezTo>
                  <a:pt x="66" y="519"/>
                  <a:pt x="68" y="518"/>
                  <a:pt x="69" y="512"/>
                </a:cubicBezTo>
                <a:cubicBezTo>
                  <a:pt x="70" y="509"/>
                  <a:pt x="77" y="482"/>
                  <a:pt x="80" y="476"/>
                </a:cubicBezTo>
                <a:cubicBezTo>
                  <a:pt x="81" y="474"/>
                  <a:pt x="83" y="468"/>
                  <a:pt x="95" y="452"/>
                </a:cubicBezTo>
                <a:cubicBezTo>
                  <a:pt x="96" y="450"/>
                  <a:pt x="99" y="447"/>
                  <a:pt x="104" y="447"/>
                </a:cubicBezTo>
                <a:cubicBezTo>
                  <a:pt x="105" y="447"/>
                  <a:pt x="107" y="446"/>
                  <a:pt x="107" y="442"/>
                </a:cubicBezTo>
                <a:cubicBezTo>
                  <a:pt x="107" y="439"/>
                  <a:pt x="104" y="433"/>
                  <a:pt x="103" y="432"/>
                </a:cubicBezTo>
                <a:cubicBezTo>
                  <a:pt x="103" y="431"/>
                  <a:pt x="101" y="429"/>
                  <a:pt x="102" y="427"/>
                </a:cubicBezTo>
                <a:cubicBezTo>
                  <a:pt x="102" y="425"/>
                  <a:pt x="102" y="424"/>
                  <a:pt x="101" y="423"/>
                </a:cubicBezTo>
                <a:cubicBezTo>
                  <a:pt x="100" y="421"/>
                  <a:pt x="102" y="421"/>
                  <a:pt x="102" y="420"/>
                </a:cubicBezTo>
                <a:cubicBezTo>
                  <a:pt x="103" y="418"/>
                  <a:pt x="109" y="411"/>
                  <a:pt x="112" y="410"/>
                </a:cubicBezTo>
                <a:cubicBezTo>
                  <a:pt x="114" y="409"/>
                  <a:pt x="115" y="407"/>
                  <a:pt x="118" y="406"/>
                </a:cubicBezTo>
                <a:cubicBezTo>
                  <a:pt x="119" y="406"/>
                  <a:pt x="120" y="405"/>
                  <a:pt x="121" y="404"/>
                </a:cubicBezTo>
                <a:cubicBezTo>
                  <a:pt x="122" y="403"/>
                  <a:pt x="123" y="401"/>
                  <a:pt x="124" y="400"/>
                </a:cubicBezTo>
                <a:cubicBezTo>
                  <a:pt x="125" y="399"/>
                  <a:pt x="124" y="398"/>
                  <a:pt x="123" y="398"/>
                </a:cubicBezTo>
                <a:cubicBezTo>
                  <a:pt x="122" y="397"/>
                  <a:pt x="120" y="396"/>
                  <a:pt x="122" y="394"/>
                </a:cubicBezTo>
                <a:cubicBezTo>
                  <a:pt x="122" y="394"/>
                  <a:pt x="124" y="394"/>
                  <a:pt x="125" y="391"/>
                </a:cubicBezTo>
                <a:cubicBezTo>
                  <a:pt x="126" y="389"/>
                  <a:pt x="128" y="387"/>
                  <a:pt x="129" y="386"/>
                </a:cubicBezTo>
                <a:cubicBezTo>
                  <a:pt x="132" y="382"/>
                  <a:pt x="133" y="383"/>
                  <a:pt x="135" y="381"/>
                </a:cubicBezTo>
                <a:cubicBezTo>
                  <a:pt x="137" y="378"/>
                  <a:pt x="154" y="353"/>
                  <a:pt x="155" y="351"/>
                </a:cubicBezTo>
                <a:cubicBezTo>
                  <a:pt x="156" y="350"/>
                  <a:pt x="157" y="346"/>
                  <a:pt x="156" y="344"/>
                </a:cubicBezTo>
                <a:cubicBezTo>
                  <a:pt x="156" y="343"/>
                  <a:pt x="155" y="343"/>
                  <a:pt x="155" y="341"/>
                </a:cubicBezTo>
                <a:cubicBezTo>
                  <a:pt x="156" y="334"/>
                  <a:pt x="156" y="329"/>
                  <a:pt x="156" y="326"/>
                </a:cubicBezTo>
                <a:cubicBezTo>
                  <a:pt x="156" y="324"/>
                  <a:pt x="154" y="317"/>
                  <a:pt x="169" y="309"/>
                </a:cubicBezTo>
                <a:cubicBezTo>
                  <a:pt x="169" y="309"/>
                  <a:pt x="173" y="307"/>
                  <a:pt x="176" y="308"/>
                </a:cubicBezTo>
                <a:cubicBezTo>
                  <a:pt x="178" y="308"/>
                  <a:pt x="181" y="309"/>
                  <a:pt x="181" y="306"/>
                </a:cubicBezTo>
                <a:cubicBezTo>
                  <a:pt x="182" y="305"/>
                  <a:pt x="183" y="300"/>
                  <a:pt x="185" y="297"/>
                </a:cubicBezTo>
                <a:cubicBezTo>
                  <a:pt x="186" y="295"/>
                  <a:pt x="188" y="296"/>
                  <a:pt x="187" y="292"/>
                </a:cubicBezTo>
                <a:cubicBezTo>
                  <a:pt x="186" y="289"/>
                  <a:pt x="184" y="282"/>
                  <a:pt x="184" y="280"/>
                </a:cubicBezTo>
                <a:cubicBezTo>
                  <a:pt x="184" y="279"/>
                  <a:pt x="183" y="278"/>
                  <a:pt x="181" y="278"/>
                </a:cubicBezTo>
                <a:cubicBezTo>
                  <a:pt x="179" y="278"/>
                  <a:pt x="164" y="277"/>
                  <a:pt x="163" y="277"/>
                </a:cubicBezTo>
                <a:cubicBezTo>
                  <a:pt x="162" y="277"/>
                  <a:pt x="160" y="279"/>
                  <a:pt x="158" y="278"/>
                </a:cubicBezTo>
                <a:cubicBezTo>
                  <a:pt x="157" y="278"/>
                  <a:pt x="156" y="276"/>
                  <a:pt x="158" y="275"/>
                </a:cubicBezTo>
                <a:cubicBezTo>
                  <a:pt x="161" y="275"/>
                  <a:pt x="163" y="275"/>
                  <a:pt x="163" y="274"/>
                </a:cubicBezTo>
                <a:cubicBezTo>
                  <a:pt x="163" y="272"/>
                  <a:pt x="163" y="269"/>
                  <a:pt x="165" y="266"/>
                </a:cubicBezTo>
                <a:cubicBezTo>
                  <a:pt x="166" y="265"/>
                  <a:pt x="168" y="260"/>
                  <a:pt x="168" y="256"/>
                </a:cubicBezTo>
                <a:cubicBezTo>
                  <a:pt x="169" y="253"/>
                  <a:pt x="171" y="248"/>
                  <a:pt x="169" y="247"/>
                </a:cubicBezTo>
                <a:cubicBezTo>
                  <a:pt x="167" y="246"/>
                  <a:pt x="165" y="247"/>
                  <a:pt x="164" y="242"/>
                </a:cubicBezTo>
                <a:cubicBezTo>
                  <a:pt x="164" y="241"/>
                  <a:pt x="164" y="235"/>
                  <a:pt x="165" y="231"/>
                </a:cubicBezTo>
                <a:cubicBezTo>
                  <a:pt x="165" y="229"/>
                  <a:pt x="168" y="223"/>
                  <a:pt x="168" y="220"/>
                </a:cubicBezTo>
                <a:cubicBezTo>
                  <a:pt x="167" y="219"/>
                  <a:pt x="163" y="215"/>
                  <a:pt x="164" y="212"/>
                </a:cubicBezTo>
                <a:cubicBezTo>
                  <a:pt x="165" y="209"/>
                  <a:pt x="166" y="204"/>
                  <a:pt x="165" y="202"/>
                </a:cubicBezTo>
                <a:cubicBezTo>
                  <a:pt x="164" y="201"/>
                  <a:pt x="160" y="193"/>
                  <a:pt x="161" y="189"/>
                </a:cubicBezTo>
                <a:cubicBezTo>
                  <a:pt x="162" y="185"/>
                  <a:pt x="163" y="178"/>
                  <a:pt x="161" y="175"/>
                </a:cubicBezTo>
                <a:cubicBezTo>
                  <a:pt x="160" y="172"/>
                  <a:pt x="159" y="162"/>
                  <a:pt x="155" y="163"/>
                </a:cubicBezTo>
                <a:cubicBezTo>
                  <a:pt x="153" y="164"/>
                  <a:pt x="144" y="164"/>
                  <a:pt x="133" y="164"/>
                </a:cubicBezTo>
                <a:cubicBezTo>
                  <a:pt x="127" y="163"/>
                  <a:pt x="120" y="165"/>
                  <a:pt x="114" y="166"/>
                </a:cubicBezTo>
                <a:cubicBezTo>
                  <a:pt x="113" y="167"/>
                  <a:pt x="107" y="167"/>
                  <a:pt x="106" y="167"/>
                </a:cubicBezTo>
                <a:cubicBezTo>
                  <a:pt x="105" y="168"/>
                  <a:pt x="102" y="168"/>
                  <a:pt x="101" y="167"/>
                </a:cubicBezTo>
                <a:cubicBezTo>
                  <a:pt x="101" y="166"/>
                  <a:pt x="101" y="164"/>
                  <a:pt x="100" y="164"/>
                </a:cubicBezTo>
                <a:cubicBezTo>
                  <a:pt x="99" y="164"/>
                  <a:pt x="87" y="163"/>
                  <a:pt x="80" y="159"/>
                </a:cubicBezTo>
                <a:cubicBezTo>
                  <a:pt x="78" y="158"/>
                  <a:pt x="59" y="151"/>
                  <a:pt x="52" y="147"/>
                </a:cubicBezTo>
                <a:cubicBezTo>
                  <a:pt x="51" y="146"/>
                  <a:pt x="39" y="143"/>
                  <a:pt x="39" y="144"/>
                </a:cubicBezTo>
                <a:cubicBezTo>
                  <a:pt x="39" y="144"/>
                  <a:pt x="36" y="149"/>
                  <a:pt x="32" y="150"/>
                </a:cubicBezTo>
                <a:cubicBezTo>
                  <a:pt x="31" y="150"/>
                  <a:pt x="27" y="152"/>
                  <a:pt x="26" y="153"/>
                </a:cubicBezTo>
                <a:cubicBezTo>
                  <a:pt x="25" y="154"/>
                  <a:pt x="23" y="155"/>
                  <a:pt x="18" y="154"/>
                </a:cubicBezTo>
                <a:cubicBezTo>
                  <a:pt x="15" y="154"/>
                  <a:pt x="12" y="154"/>
                  <a:pt x="11" y="152"/>
                </a:cubicBezTo>
                <a:cubicBezTo>
                  <a:pt x="11" y="151"/>
                  <a:pt x="11" y="150"/>
                  <a:pt x="9" y="150"/>
                </a:cubicBezTo>
                <a:cubicBezTo>
                  <a:pt x="7" y="151"/>
                  <a:pt x="7" y="151"/>
                  <a:pt x="6" y="151"/>
                </a:cubicBezTo>
                <a:cubicBezTo>
                  <a:pt x="4" y="150"/>
                  <a:pt x="3" y="149"/>
                  <a:pt x="4" y="148"/>
                </a:cubicBezTo>
                <a:cubicBezTo>
                  <a:pt x="5" y="147"/>
                  <a:pt x="5" y="146"/>
                  <a:pt x="3" y="146"/>
                </a:cubicBezTo>
                <a:cubicBezTo>
                  <a:pt x="2" y="147"/>
                  <a:pt x="0" y="146"/>
                  <a:pt x="0" y="144"/>
                </a:cubicBezTo>
                <a:cubicBezTo>
                  <a:pt x="0" y="142"/>
                  <a:pt x="1" y="141"/>
                  <a:pt x="4" y="140"/>
                </a:cubicBezTo>
                <a:cubicBezTo>
                  <a:pt x="5" y="140"/>
                  <a:pt x="14" y="134"/>
                  <a:pt x="15" y="134"/>
                </a:cubicBezTo>
                <a:cubicBezTo>
                  <a:pt x="18" y="134"/>
                  <a:pt x="18" y="130"/>
                  <a:pt x="15" y="131"/>
                </a:cubicBezTo>
                <a:cubicBezTo>
                  <a:pt x="12" y="133"/>
                  <a:pt x="4" y="137"/>
                  <a:pt x="3" y="138"/>
                </a:cubicBezTo>
                <a:cubicBezTo>
                  <a:pt x="2" y="138"/>
                  <a:pt x="0" y="138"/>
                  <a:pt x="0" y="136"/>
                </a:cubicBezTo>
                <a:cubicBezTo>
                  <a:pt x="0" y="134"/>
                  <a:pt x="1" y="132"/>
                  <a:pt x="4" y="130"/>
                </a:cubicBezTo>
                <a:cubicBezTo>
                  <a:pt x="6" y="129"/>
                  <a:pt x="12" y="126"/>
                  <a:pt x="13" y="125"/>
                </a:cubicBezTo>
                <a:cubicBezTo>
                  <a:pt x="14" y="125"/>
                  <a:pt x="18" y="122"/>
                  <a:pt x="16" y="118"/>
                </a:cubicBezTo>
                <a:cubicBezTo>
                  <a:pt x="15" y="117"/>
                  <a:pt x="13" y="116"/>
                  <a:pt x="12" y="115"/>
                </a:cubicBezTo>
                <a:cubicBezTo>
                  <a:pt x="12" y="115"/>
                  <a:pt x="10" y="112"/>
                  <a:pt x="10" y="110"/>
                </a:cubicBezTo>
                <a:cubicBezTo>
                  <a:pt x="10" y="109"/>
                  <a:pt x="11" y="106"/>
                  <a:pt x="13" y="107"/>
                </a:cubicBezTo>
                <a:cubicBezTo>
                  <a:pt x="16" y="108"/>
                  <a:pt x="17" y="110"/>
                  <a:pt x="20" y="111"/>
                </a:cubicBezTo>
                <a:cubicBezTo>
                  <a:pt x="21" y="111"/>
                  <a:pt x="24" y="112"/>
                  <a:pt x="26" y="114"/>
                </a:cubicBezTo>
                <a:cubicBezTo>
                  <a:pt x="28" y="116"/>
                  <a:pt x="31" y="117"/>
                  <a:pt x="32" y="118"/>
                </a:cubicBezTo>
                <a:cubicBezTo>
                  <a:pt x="33" y="119"/>
                  <a:pt x="35" y="121"/>
                  <a:pt x="40" y="121"/>
                </a:cubicBezTo>
                <a:cubicBezTo>
                  <a:pt x="41" y="121"/>
                  <a:pt x="72" y="128"/>
                  <a:pt x="74" y="128"/>
                </a:cubicBezTo>
                <a:cubicBezTo>
                  <a:pt x="79" y="127"/>
                  <a:pt x="91" y="128"/>
                  <a:pt x="94" y="129"/>
                </a:cubicBezTo>
                <a:cubicBezTo>
                  <a:pt x="96" y="130"/>
                  <a:pt x="97" y="128"/>
                  <a:pt x="98" y="127"/>
                </a:cubicBezTo>
                <a:cubicBezTo>
                  <a:pt x="100" y="126"/>
                  <a:pt x="103" y="128"/>
                  <a:pt x="106" y="129"/>
                </a:cubicBezTo>
                <a:cubicBezTo>
                  <a:pt x="107" y="129"/>
                  <a:pt x="110" y="127"/>
                  <a:pt x="112" y="130"/>
                </a:cubicBezTo>
                <a:cubicBezTo>
                  <a:pt x="113" y="131"/>
                  <a:pt x="113" y="132"/>
                  <a:pt x="115" y="132"/>
                </a:cubicBezTo>
                <a:cubicBezTo>
                  <a:pt x="117" y="132"/>
                  <a:pt x="118" y="130"/>
                  <a:pt x="119" y="130"/>
                </a:cubicBezTo>
                <a:cubicBezTo>
                  <a:pt x="120" y="129"/>
                  <a:pt x="126" y="128"/>
                  <a:pt x="128" y="127"/>
                </a:cubicBezTo>
                <a:cubicBezTo>
                  <a:pt x="129" y="126"/>
                  <a:pt x="133" y="122"/>
                  <a:pt x="135" y="120"/>
                </a:cubicBezTo>
                <a:cubicBezTo>
                  <a:pt x="136" y="119"/>
                  <a:pt x="138" y="115"/>
                  <a:pt x="139" y="115"/>
                </a:cubicBezTo>
                <a:cubicBezTo>
                  <a:pt x="140" y="114"/>
                  <a:pt x="146" y="111"/>
                  <a:pt x="146" y="110"/>
                </a:cubicBezTo>
                <a:cubicBezTo>
                  <a:pt x="147" y="109"/>
                  <a:pt x="151" y="106"/>
                  <a:pt x="152" y="105"/>
                </a:cubicBezTo>
                <a:cubicBezTo>
                  <a:pt x="153" y="104"/>
                  <a:pt x="153" y="103"/>
                  <a:pt x="152" y="102"/>
                </a:cubicBezTo>
                <a:cubicBezTo>
                  <a:pt x="151" y="101"/>
                  <a:pt x="149" y="100"/>
                  <a:pt x="148" y="97"/>
                </a:cubicBezTo>
                <a:cubicBezTo>
                  <a:pt x="147" y="96"/>
                  <a:pt x="146" y="95"/>
                  <a:pt x="146" y="94"/>
                </a:cubicBezTo>
                <a:cubicBezTo>
                  <a:pt x="146" y="94"/>
                  <a:pt x="145" y="92"/>
                  <a:pt x="144" y="90"/>
                </a:cubicBezTo>
                <a:close/>
              </a:path>
            </a:pathLst>
          </a:custGeom>
          <a:solidFill>
            <a:srgbClr val="4565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TextBox 2230"/>
          <p:cNvSpPr/>
          <p:nvPr/>
        </p:nvSpPr>
        <p:spPr>
          <a:xfrm>
            <a:off x="4401000" y="1592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标题内容</a:t>
            </a:r>
            <a:endParaRPr b="0" lang="en-US" sz="1800" spc="-1" strike="noStrike">
              <a:solidFill>
                <a:srgbClr val="000000"/>
              </a:solidFill>
              <a:latin typeface="Calibri"/>
            </a:endParaRPr>
          </a:p>
        </p:txBody>
      </p:sp>
      <p:sp>
        <p:nvSpPr>
          <p:cNvPr id="212" name="TextBox 2231"/>
          <p:cNvSpPr/>
          <p:nvPr/>
        </p:nvSpPr>
        <p:spPr>
          <a:xfrm>
            <a:off x="4211640" y="2122560"/>
            <a:ext cx="4019400" cy="1798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点击此处编辑文字内容点击此处编辑文字内容点击此处编辑文字内容点击此处编辑文字内容点击此处编辑文字内容点击此处编辑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文字内容</a:t>
            </a:r>
            <a:endParaRPr b="0" lang="en-US" sz="1400" spc="-1" strike="noStrike">
              <a:solidFill>
                <a:srgbClr val="000000"/>
              </a:solidFill>
              <a:latin typeface="Calibri"/>
            </a:endParaRPr>
          </a:p>
        </p:txBody>
      </p:sp>
      <p:sp>
        <p:nvSpPr>
          <p:cNvPr id="213" name="Freeform 1229"/>
          <p:cNvSpPr/>
          <p:nvPr/>
        </p:nvSpPr>
        <p:spPr>
          <a:xfrm>
            <a:off x="3244680" y="2755800"/>
            <a:ext cx="628920" cy="1976400"/>
          </a:xfrm>
          <a:custGeom>
            <a:avLst/>
            <a:gdLst/>
            <a:ahLst/>
            <a:rect l="l" t="t" r="r" b="b"/>
            <a:pathLst>
              <a:path w="109" h="343">
                <a:moveTo>
                  <a:pt x="65" y="262"/>
                </a:moveTo>
                <a:cubicBezTo>
                  <a:pt x="65" y="263"/>
                  <a:pt x="63" y="263"/>
                  <a:pt x="60" y="261"/>
                </a:cubicBezTo>
                <a:cubicBezTo>
                  <a:pt x="60" y="261"/>
                  <a:pt x="57" y="260"/>
                  <a:pt x="58" y="257"/>
                </a:cubicBezTo>
                <a:cubicBezTo>
                  <a:pt x="58" y="254"/>
                  <a:pt x="58" y="226"/>
                  <a:pt x="61" y="210"/>
                </a:cubicBezTo>
                <a:cubicBezTo>
                  <a:pt x="61" y="208"/>
                  <a:pt x="68" y="151"/>
                  <a:pt x="68" y="148"/>
                </a:cubicBezTo>
                <a:cubicBezTo>
                  <a:pt x="69" y="145"/>
                  <a:pt x="73" y="111"/>
                  <a:pt x="74" y="111"/>
                </a:cubicBezTo>
                <a:cubicBezTo>
                  <a:pt x="74" y="110"/>
                  <a:pt x="77" y="110"/>
                  <a:pt x="77" y="108"/>
                </a:cubicBezTo>
                <a:cubicBezTo>
                  <a:pt x="78" y="107"/>
                  <a:pt x="78" y="106"/>
                  <a:pt x="79" y="105"/>
                </a:cubicBezTo>
                <a:cubicBezTo>
                  <a:pt x="81" y="104"/>
                  <a:pt x="84" y="103"/>
                  <a:pt x="83" y="100"/>
                </a:cubicBezTo>
                <a:cubicBezTo>
                  <a:pt x="83" y="100"/>
                  <a:pt x="82" y="99"/>
                  <a:pt x="82" y="99"/>
                </a:cubicBezTo>
                <a:cubicBezTo>
                  <a:pt x="83" y="98"/>
                  <a:pt x="87" y="96"/>
                  <a:pt x="88" y="96"/>
                </a:cubicBezTo>
                <a:cubicBezTo>
                  <a:pt x="88" y="96"/>
                  <a:pt x="90" y="101"/>
                  <a:pt x="96" y="100"/>
                </a:cubicBezTo>
                <a:cubicBezTo>
                  <a:pt x="103" y="99"/>
                  <a:pt x="109" y="94"/>
                  <a:pt x="109" y="89"/>
                </a:cubicBezTo>
                <a:cubicBezTo>
                  <a:pt x="109" y="84"/>
                  <a:pt x="107" y="77"/>
                  <a:pt x="101" y="76"/>
                </a:cubicBezTo>
                <a:cubicBezTo>
                  <a:pt x="95" y="74"/>
                  <a:pt x="90" y="77"/>
                  <a:pt x="88" y="79"/>
                </a:cubicBezTo>
                <a:cubicBezTo>
                  <a:pt x="86" y="81"/>
                  <a:pt x="85" y="83"/>
                  <a:pt x="85" y="83"/>
                </a:cubicBezTo>
                <a:cubicBezTo>
                  <a:pt x="85" y="83"/>
                  <a:pt x="85" y="87"/>
                  <a:pt x="83" y="87"/>
                </a:cubicBezTo>
                <a:cubicBezTo>
                  <a:pt x="80" y="87"/>
                  <a:pt x="76" y="88"/>
                  <a:pt x="77" y="86"/>
                </a:cubicBezTo>
                <a:cubicBezTo>
                  <a:pt x="78" y="84"/>
                  <a:pt x="79" y="75"/>
                  <a:pt x="79" y="75"/>
                </a:cubicBezTo>
                <a:cubicBezTo>
                  <a:pt x="79" y="75"/>
                  <a:pt x="82" y="57"/>
                  <a:pt x="81" y="52"/>
                </a:cubicBezTo>
                <a:cubicBezTo>
                  <a:pt x="80" y="47"/>
                  <a:pt x="76" y="28"/>
                  <a:pt x="73" y="23"/>
                </a:cubicBezTo>
                <a:cubicBezTo>
                  <a:pt x="72" y="21"/>
                  <a:pt x="68" y="12"/>
                  <a:pt x="64" y="9"/>
                </a:cubicBezTo>
                <a:cubicBezTo>
                  <a:pt x="63" y="8"/>
                  <a:pt x="56" y="0"/>
                  <a:pt x="45" y="6"/>
                </a:cubicBezTo>
                <a:cubicBezTo>
                  <a:pt x="44" y="7"/>
                  <a:pt x="38" y="11"/>
                  <a:pt x="35" y="28"/>
                </a:cubicBezTo>
                <a:cubicBezTo>
                  <a:pt x="34" y="29"/>
                  <a:pt x="32" y="51"/>
                  <a:pt x="34" y="70"/>
                </a:cubicBezTo>
                <a:cubicBezTo>
                  <a:pt x="35" y="71"/>
                  <a:pt x="34" y="87"/>
                  <a:pt x="33" y="91"/>
                </a:cubicBezTo>
                <a:cubicBezTo>
                  <a:pt x="33" y="92"/>
                  <a:pt x="29" y="110"/>
                  <a:pt x="28" y="114"/>
                </a:cubicBezTo>
                <a:cubicBezTo>
                  <a:pt x="28" y="115"/>
                  <a:pt x="24" y="149"/>
                  <a:pt x="24" y="153"/>
                </a:cubicBezTo>
                <a:cubicBezTo>
                  <a:pt x="24" y="154"/>
                  <a:pt x="20" y="182"/>
                  <a:pt x="20" y="184"/>
                </a:cubicBezTo>
                <a:cubicBezTo>
                  <a:pt x="20" y="186"/>
                  <a:pt x="17" y="218"/>
                  <a:pt x="15" y="225"/>
                </a:cubicBezTo>
                <a:cubicBezTo>
                  <a:pt x="15" y="227"/>
                  <a:pt x="12" y="265"/>
                  <a:pt x="11" y="269"/>
                </a:cubicBezTo>
                <a:cubicBezTo>
                  <a:pt x="11" y="270"/>
                  <a:pt x="11" y="301"/>
                  <a:pt x="10" y="304"/>
                </a:cubicBezTo>
                <a:cubicBezTo>
                  <a:pt x="9" y="306"/>
                  <a:pt x="5" y="325"/>
                  <a:pt x="3" y="332"/>
                </a:cubicBezTo>
                <a:cubicBezTo>
                  <a:pt x="2" y="334"/>
                  <a:pt x="0" y="340"/>
                  <a:pt x="5" y="342"/>
                </a:cubicBezTo>
                <a:cubicBezTo>
                  <a:pt x="6" y="343"/>
                  <a:pt x="8" y="343"/>
                  <a:pt x="15" y="338"/>
                </a:cubicBezTo>
                <a:cubicBezTo>
                  <a:pt x="16" y="337"/>
                  <a:pt x="29" y="325"/>
                  <a:pt x="32" y="319"/>
                </a:cubicBezTo>
                <a:cubicBezTo>
                  <a:pt x="33" y="319"/>
                  <a:pt x="40" y="308"/>
                  <a:pt x="40" y="307"/>
                </a:cubicBezTo>
                <a:cubicBezTo>
                  <a:pt x="42" y="303"/>
                  <a:pt x="51" y="304"/>
                  <a:pt x="53" y="293"/>
                </a:cubicBezTo>
                <a:cubicBezTo>
                  <a:pt x="53" y="292"/>
                  <a:pt x="52" y="289"/>
                  <a:pt x="52" y="287"/>
                </a:cubicBezTo>
                <a:cubicBezTo>
                  <a:pt x="51" y="287"/>
                  <a:pt x="59" y="281"/>
                  <a:pt x="61" y="280"/>
                </a:cubicBezTo>
                <a:cubicBezTo>
                  <a:pt x="62" y="278"/>
                  <a:pt x="69" y="273"/>
                  <a:pt x="69" y="273"/>
                </a:cubicBezTo>
                <a:cubicBezTo>
                  <a:pt x="70" y="272"/>
                  <a:pt x="71" y="273"/>
                  <a:pt x="75" y="274"/>
                </a:cubicBezTo>
                <a:cubicBezTo>
                  <a:pt x="78" y="275"/>
                  <a:pt x="84" y="273"/>
                  <a:pt x="87" y="268"/>
                </a:cubicBezTo>
                <a:cubicBezTo>
                  <a:pt x="90" y="264"/>
                  <a:pt x="89" y="258"/>
                  <a:pt x="85" y="253"/>
                </a:cubicBezTo>
                <a:cubicBezTo>
                  <a:pt x="81" y="249"/>
                  <a:pt x="76" y="248"/>
                  <a:pt x="71" y="252"/>
                </a:cubicBezTo>
                <a:cubicBezTo>
                  <a:pt x="66" y="256"/>
                  <a:pt x="65" y="256"/>
                  <a:pt x="65" y="262"/>
                </a:cubicBezTo>
                <a:close/>
              </a:path>
            </a:pathLst>
          </a:custGeom>
          <a:solidFill>
            <a:srgbClr val="4565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
          <p:cNvSpPr/>
          <p:nvPr/>
        </p:nvSpPr>
        <p:spPr>
          <a:xfrm>
            <a:off x="900000" y="134136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ppt模版免费下载</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52">
                                  <p:stCondLst>
                                    <p:cond delay="0"/>
                                  </p:stCondLst>
                                  <p:childTnLst>
                                    <p:set>
                                      <p:cBhvr>
                                        <p:cTn id="77" dur="1" fill="hold">
                                          <p:stCondLst>
                                            <p:cond delay="0"/>
                                          </p:stCondLst>
                                        </p:cTn>
                                        <p:tgtEl>
                                          <p:spTgt spid="210"/>
                                        </p:tgtEl>
                                        <p:attrNameLst>
                                          <p:attrName>style.visibility</p:attrName>
                                        </p:attrNameLst>
                                      </p:cBhvr>
                                      <p:to>
                                        <p:strVal val="visible"/>
                                      </p:to>
                                    </p:set>
                                    <p:animScale>
                                      <p:cBhvr>
                                        <p:cTn id="78" dur="1000" fill="hold">
                                          <p:stCondLst>
                                            <p:cond delay="0"/>
                                          </p:stCondLst>
                                        </p:cTn>
                                        <p:tgtEl>
                                          <p:spTgt spid="2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210"/>
                                        </p:tgtEl>
                                      </p:cBhvr>
                                    </p:animMotion>
                                    <p:animEffect filter="fade" transition="in">
                                      <p:cBhvr additive="repl">
                                        <p:cTn id="80" dur="1000"/>
                                        <p:tgtEl>
                                          <p:spTgt spid="210"/>
                                        </p:tgtEl>
                                      </p:cBhvr>
                                    </p:animEffect>
                                  </p:childTnLst>
                                </p:cTn>
                              </p:par>
                              <p:par>
                                <p:cTn id="81" nodeType="withEffect" fill="hold" presetClass="entr" presetID="52">
                                  <p:stCondLst>
                                    <p:cond delay="0"/>
                                  </p:stCondLst>
                                  <p:childTnLst>
                                    <p:set>
                                      <p:cBhvr>
                                        <p:cTn id="82" dur="1" fill="hold">
                                          <p:stCondLst>
                                            <p:cond delay="0"/>
                                          </p:stCondLst>
                                        </p:cTn>
                                        <p:tgtEl>
                                          <p:spTgt spid="213"/>
                                        </p:tgtEl>
                                        <p:attrNameLst>
                                          <p:attrName>style.visibility</p:attrName>
                                        </p:attrNameLst>
                                      </p:cBhvr>
                                      <p:to>
                                        <p:strVal val="visible"/>
                                      </p:to>
                                    </p:set>
                                    <p:animScale>
                                      <p:cBhvr>
                                        <p:cTn id="83" dur="1000" fill="hold">
                                          <p:stCondLst>
                                            <p:cond delay="0"/>
                                          </p:stCondLst>
                                        </p:cTn>
                                        <p:tgtEl>
                                          <p:spTgt spid="2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4" dur="1000" fill="hold">
                                          <p:stCondLst>
                                            <p:cond delay="0"/>
                                          </p:stCondLst>
                                        </p:cTn>
                                        <p:tgtEl>
                                          <p:spTgt spid="213"/>
                                        </p:tgtEl>
                                      </p:cBhvr>
                                    </p:animMotion>
                                    <p:animEffect filter="fade" transition="in">
                                      <p:cBhvr additive="repl">
                                        <p:cTn id="85" dur="1000"/>
                                        <p:tgtEl>
                                          <p:spTgt spid="213"/>
                                        </p:tgtEl>
                                      </p:cBhvr>
                                    </p:animEffect>
                                  </p:childTnLst>
                                </p:cTn>
                              </p:par>
                            </p:childTnLst>
                          </p:cTn>
                        </p:par>
                        <p:par>
                          <p:cTn id="86" fill="hold">
                            <p:stCondLst>
                              <p:cond delay="1000"/>
                            </p:stCondLst>
                            <p:childTnLst>
                              <p:par>
                                <p:cTn id="87" nodeType="afterEffect" fill="hold" presetClass="entr" presetID="10">
                                  <p:stCondLst>
                                    <p:cond delay="250"/>
                                  </p:stCondLst>
                                  <p:childTnLst>
                                    <p:set>
                                      <p:cBhvr>
                                        <p:cTn id="88" dur="1" fill="hold">
                                          <p:stCondLst>
                                            <p:cond delay="0"/>
                                          </p:stCondLst>
                                        </p:cTn>
                                        <p:tgtEl>
                                          <p:spTgt spid="212"/>
                                        </p:tgtEl>
                                        <p:attrNameLst>
                                          <p:attrName>style.visibility</p:attrName>
                                        </p:attrNameLst>
                                      </p:cBhvr>
                                      <p:to>
                                        <p:strVal val="visible"/>
                                      </p:to>
                                    </p:set>
                                    <p:animEffect filter="fade" transition="in">
                                      <p:cBhvr additive="repl">
                                        <p:cTn id="89" dur="500"/>
                                        <p:tgtEl>
                                          <p:spTgt spid="212"/>
                                        </p:tgtEl>
                                      </p:cBhvr>
                                    </p:animEffect>
                                  </p:childTnLst>
                                </p:cTn>
                              </p:par>
                              <p:par>
                                <p:cTn id="90" nodeType="withEffect" fill="hold" presetClass="entr" presetID="10">
                                  <p:stCondLst>
                                    <p:cond delay="250"/>
                                  </p:stCondLst>
                                  <p:childTnLst>
                                    <p:set>
                                      <p:cBhvr>
                                        <p:cTn id="91" dur="1" fill="hold">
                                          <p:stCondLst>
                                            <p:cond delay="0"/>
                                          </p:stCondLst>
                                        </p:cTn>
                                        <p:tgtEl>
                                          <p:spTgt spid="211"/>
                                        </p:tgtEl>
                                        <p:attrNameLst>
                                          <p:attrName>style.visibility</p:attrName>
                                        </p:attrNameLst>
                                      </p:cBhvr>
                                      <p:to>
                                        <p:strVal val="visible"/>
                                      </p:to>
                                    </p:set>
                                    <p:animEffect filter="fade" transition="in">
                                      <p:cBhvr additive="repl">
                                        <p:cTn id="9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16"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7"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6"/>
          </p:nvPr>
        </p:nvSpPr>
        <p:spPr/>
        <p:txBody>
          <a:bodyPr/>
          <a:p>
            <a:fld id="{0AF37D64-DD35-4B62-A93E-30AF1C0C29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sp>
        <p:nvSpPr>
          <p:cNvPr id="219" name="圆角矩形 4"/>
          <p:cNvSpPr/>
          <p:nvPr/>
        </p:nvSpPr>
        <p:spPr>
          <a:xfrm>
            <a:off x="3859200" y="2108160"/>
            <a:ext cx="936720" cy="2773440"/>
          </a:xfrm>
          <a:custGeom>
            <a:avLst/>
            <a:gdLst>
              <a:gd name="textAreaLeft" fmla="*/ 137160 w 936720"/>
              <a:gd name="textAreaRight" fmla="*/ 799560 w 936720"/>
              <a:gd name="textAreaTop" fmla="*/ 137160 h 2773440"/>
              <a:gd name="textAreaBottom" fmla="*/ 2636280 h 2773440"/>
            </a:gdLst>
            <a:ahLst/>
            <a:rect l="textAreaLeft" t="textAreaTop" r="textAreaRight" b="textAreaBottom"/>
            <a:pathLst>
              <a:path w="21600" h="63937">
                <a:moveTo>
                  <a:pt x="10800" y="0"/>
                </a:moveTo>
                <a:arcTo wR="10800" hR="10800" stAng="16200000" swAng="-5400000"/>
                <a:lnTo>
                  <a:pt x="0" y="53137"/>
                </a:lnTo>
                <a:arcTo wR="10800" hR="10800" stAng="10800000" swAng="-5400000"/>
                <a:lnTo>
                  <a:pt x="10800" y="63937"/>
                </a:lnTo>
                <a:arcTo wR="10800" hR="10800" stAng="5400000" swAng="-5400000"/>
                <a:lnTo>
                  <a:pt x="21600" y="10800"/>
                </a:lnTo>
                <a:arcTo wR="10800" hR="10800" stAng="0" swAng="-5400000"/>
                <a:close/>
              </a:path>
            </a:pathLst>
          </a:custGeom>
          <a:noFill/>
          <a:ln w="12600">
            <a:solidFill>
              <a:srgbClr val="615998"/>
            </a:solidFill>
            <a:miter/>
          </a:ln>
        </p:spPr>
        <p:style>
          <a:lnRef idx="0"/>
          <a:fillRef idx="0"/>
          <a:effectRef idx="0"/>
          <a:fontRef idx="minor"/>
        </p:style>
        <p:txBody>
          <a:bodyPr lIns="90000" rIns="90000" tIns="46800" bIns="46800" anchor="t" anchorCtr="1" vert="eaVert">
            <a:normAutofit/>
          </a:bodyPr>
          <a:p>
            <a:pPr marL="285840" indent="-285840" algn="r">
              <a:lnSpc>
                <a:spcPct val="10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标题</a:t>
            </a:r>
            <a:endParaRPr b="0" lang="en-US" sz="1200" spc="-1" strike="noStrike">
              <a:solidFill>
                <a:srgbClr val="000000"/>
              </a:solidFill>
              <a:latin typeface="Calibri"/>
            </a:endParaRPr>
          </a:p>
        </p:txBody>
      </p:sp>
      <p:sp>
        <p:nvSpPr>
          <p:cNvPr id="220" name="圆角矩形 5"/>
          <p:cNvSpPr/>
          <p:nvPr/>
        </p:nvSpPr>
        <p:spPr>
          <a:xfrm rot="14344800">
            <a:off x="4623480" y="748080"/>
            <a:ext cx="936720" cy="2773440"/>
          </a:xfrm>
          <a:custGeom>
            <a:avLst/>
            <a:gdLst>
              <a:gd name="textAreaLeft" fmla="*/ 137160 w 936720"/>
              <a:gd name="textAreaRight" fmla="*/ 799560 w 936720"/>
              <a:gd name="textAreaTop" fmla="*/ 137160 h 2773440"/>
              <a:gd name="textAreaBottom" fmla="*/ 2636280 h 2773440"/>
            </a:gdLst>
            <a:ahLst/>
            <a:rect l="textAreaLeft" t="textAreaTop" r="textAreaRight" b="textAreaBottom"/>
            <a:pathLst>
              <a:path w="21600" h="63937">
                <a:moveTo>
                  <a:pt x="10800" y="0"/>
                </a:moveTo>
                <a:arcTo wR="10800" hR="10800" stAng="16200000" swAng="-5400000"/>
                <a:lnTo>
                  <a:pt x="0" y="53137"/>
                </a:lnTo>
                <a:arcTo wR="10800" hR="10800" stAng="10800000" swAng="-5400000"/>
                <a:lnTo>
                  <a:pt x="10800" y="63937"/>
                </a:lnTo>
                <a:arcTo wR="10800" hR="10800" stAng="5400000" swAng="-5400000"/>
                <a:lnTo>
                  <a:pt x="21600" y="10800"/>
                </a:lnTo>
                <a:arcTo wR="10800" hR="10800" stAng="0" swAng="-5400000"/>
                <a:close/>
              </a:path>
            </a:pathLst>
          </a:custGeom>
          <a:noFill/>
          <a:ln w="12600">
            <a:solidFill>
              <a:srgbClr val="456573"/>
            </a:solidFill>
            <a:miter/>
          </a:ln>
        </p:spPr>
        <p:style>
          <a:lnRef idx="0"/>
          <a:fillRef idx="0"/>
          <a:effectRef idx="0"/>
          <a:fontRef idx="minor"/>
        </p:style>
        <p:txBody>
          <a:bodyPr lIns="90000" rIns="90000" tIns="46800" bIns="46800" anchor="t" anchorCtr="1" vert="eaVert">
            <a:normAutofit/>
          </a:bodyPr>
          <a:p>
            <a:pPr marL="285840" indent="-285840" algn="r">
              <a:lnSpc>
                <a:spcPct val="10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标题</a:t>
            </a:r>
            <a:endParaRPr b="0" lang="en-US" sz="1200" spc="-1" strike="noStrike">
              <a:solidFill>
                <a:srgbClr val="000000"/>
              </a:solidFill>
              <a:latin typeface="Calibri"/>
            </a:endParaRPr>
          </a:p>
        </p:txBody>
      </p:sp>
      <p:sp>
        <p:nvSpPr>
          <p:cNvPr id="221" name="圆角矩形 6"/>
          <p:cNvSpPr/>
          <p:nvPr/>
        </p:nvSpPr>
        <p:spPr>
          <a:xfrm rot="18202800">
            <a:off x="3124800" y="718200"/>
            <a:ext cx="935280" cy="2771640"/>
          </a:xfrm>
          <a:custGeom>
            <a:avLst/>
            <a:gdLst>
              <a:gd name="textAreaLeft" fmla="*/ 136800 w 935280"/>
              <a:gd name="textAreaRight" fmla="*/ 798480 w 935280"/>
              <a:gd name="textAreaTop" fmla="*/ 136800 h 2771640"/>
              <a:gd name="textAreaBottom" fmla="*/ 2634840 h 2771640"/>
            </a:gdLst>
            <a:ahLst/>
            <a:rect l="textAreaLeft" t="textAreaTop" r="textAreaRight" b="textAreaBottom"/>
            <a:pathLst>
              <a:path w="21600" h="63994">
                <a:moveTo>
                  <a:pt x="10800" y="0"/>
                </a:moveTo>
                <a:arcTo wR="10800" hR="10800" stAng="16200000" swAng="-5400000"/>
                <a:lnTo>
                  <a:pt x="0" y="53194"/>
                </a:lnTo>
                <a:arcTo wR="10800" hR="10800" stAng="10800000" swAng="-5400000"/>
                <a:lnTo>
                  <a:pt x="10800" y="63994"/>
                </a:lnTo>
                <a:arcTo wR="10800" hR="10800" stAng="5400000" swAng="-5400000"/>
                <a:lnTo>
                  <a:pt x="21600" y="10800"/>
                </a:lnTo>
                <a:arcTo wR="10800" hR="10800" stAng="0" swAng="-5400000"/>
                <a:close/>
              </a:path>
            </a:pathLst>
          </a:custGeom>
          <a:noFill/>
          <a:ln w="12600">
            <a:solidFill>
              <a:srgbClr val="000000"/>
            </a:solidFill>
            <a:miter/>
          </a:ln>
        </p:spPr>
        <p:style>
          <a:lnRef idx="0"/>
          <a:fillRef idx="0"/>
          <a:effectRef idx="0"/>
          <a:fontRef idx="minor"/>
        </p:style>
        <p:txBody>
          <a:bodyPr lIns="90000" rIns="90000" tIns="46800" bIns="46800" anchor="t" anchorCtr="1" vert="eaVe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标题</a:t>
            </a:r>
            <a:endParaRPr b="0" lang="en-US" sz="1200" spc="-1" strike="noStrike">
              <a:solidFill>
                <a:srgbClr val="000000"/>
              </a:solidFill>
              <a:latin typeface="Calibri"/>
            </a:endParaRPr>
          </a:p>
        </p:txBody>
      </p:sp>
      <p:sp>
        <p:nvSpPr>
          <p:cNvPr id="222" name="TextBox 10"/>
          <p:cNvSpPr/>
          <p:nvPr/>
        </p:nvSpPr>
        <p:spPr>
          <a:xfrm>
            <a:off x="1635480" y="2657520"/>
            <a:ext cx="1083600" cy="11883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p:txBody>
      </p:sp>
      <p:sp>
        <p:nvSpPr>
          <p:cNvPr id="223" name="TextBox 12"/>
          <p:cNvSpPr/>
          <p:nvPr/>
        </p:nvSpPr>
        <p:spPr>
          <a:xfrm>
            <a:off x="5229360" y="3579840"/>
            <a:ext cx="1083600" cy="11883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p:txBody>
      </p:sp>
      <p:sp>
        <p:nvSpPr>
          <p:cNvPr id="224" name="TextBox 13"/>
          <p:cNvSpPr/>
          <p:nvPr/>
        </p:nvSpPr>
        <p:spPr>
          <a:xfrm>
            <a:off x="7056720" y="1131840"/>
            <a:ext cx="1083600" cy="11883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p:txBody>
      </p:sp>
      <p:grpSp>
        <p:nvGrpSpPr>
          <p:cNvPr id="225" name="Group 9"/>
          <p:cNvGrpSpPr/>
          <p:nvPr/>
        </p:nvGrpSpPr>
        <p:grpSpPr>
          <a:xfrm>
            <a:off x="3836880" y="2104920"/>
            <a:ext cx="971640" cy="971640"/>
            <a:chOff x="3836880" y="2104920"/>
            <a:chExt cx="971640" cy="971640"/>
          </a:xfrm>
        </p:grpSpPr>
        <p:sp>
          <p:nvSpPr>
            <p:cNvPr id="226" name="椭圆 3"/>
            <p:cNvSpPr/>
            <p:nvPr/>
          </p:nvSpPr>
          <p:spPr>
            <a:xfrm>
              <a:off x="4007520" y="2258280"/>
              <a:ext cx="665640" cy="664560"/>
            </a:xfrm>
            <a:prstGeom prst="ellipse">
              <a:avLst/>
            </a:prstGeom>
            <a:solidFill>
              <a:srgbClr val="456573"/>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椭圆 10"/>
            <p:cNvSpPr/>
            <p:nvPr/>
          </p:nvSpPr>
          <p:spPr>
            <a:xfrm>
              <a:off x="3836880" y="2104920"/>
              <a:ext cx="971640" cy="971640"/>
            </a:xfrm>
            <a:prstGeom prst="ellipse">
              <a:avLst/>
            </a:prstGeom>
            <a:noFill/>
            <a:ln w="5724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3" presetSubtype="32">
                                  <p:stCondLst>
                                    <p:cond delay="0"/>
                                  </p:stCondLst>
                                  <p:childTnLst>
                                    <p:set>
                                      <p:cBhvr>
                                        <p:cTn id="98" dur="1" fill="hold">
                                          <p:stCondLst>
                                            <p:cond delay="0"/>
                                          </p:stCondLst>
                                        </p:cTn>
                                        <p:tgtEl>
                                          <p:spTgt spid="225"/>
                                        </p:tgtEl>
                                        <p:attrNameLst>
                                          <p:attrName>style.visibility</p:attrName>
                                        </p:attrNameLst>
                                      </p:cBhvr>
                                      <p:to>
                                        <p:strVal val="visible"/>
                                      </p:to>
                                    </p:set>
                                    <p:anim calcmode="lin" valueType="num">
                                      <p:cBhvr additive="repl">
                                        <p:cTn id="99" dur="500" fill="hold"/>
                                        <p:tgtEl>
                                          <p:spTgt spid="225"/>
                                        </p:tgtEl>
                                        <p:attrNameLst>
                                          <p:attrName>ppt_w</p:attrName>
                                        </p:attrNameLst>
                                      </p:cBhvr>
                                      <p:tavLst>
                                        <p:tav tm="0">
                                          <p:val>
                                            <p:strVal val="4*#ppt_w"/>
                                          </p:val>
                                        </p:tav>
                                        <p:tav tm="100000">
                                          <p:val>
                                            <p:strVal val="#ppt_w"/>
                                          </p:val>
                                        </p:tav>
                                      </p:tavLst>
                                    </p:anim>
                                    <p:anim calcmode="lin" valueType="num">
                                      <p:cBhvr additive="repl">
                                        <p:cTn id="100" dur="500" fill="hold"/>
                                        <p:tgtEl>
                                          <p:spTgt spid="225"/>
                                        </p:tgtEl>
                                        <p:attrNameLst>
                                          <p:attrName>ppt_h</p:attrName>
                                        </p:attrNameLst>
                                      </p:cBhvr>
                                      <p:tavLst>
                                        <p:tav tm="0">
                                          <p:val>
                                            <p:strVal val="4*#ppt_h"/>
                                          </p:val>
                                        </p:tav>
                                        <p:tav tm="100000">
                                          <p:val>
                                            <p:strVal val="#ppt_h"/>
                                          </p:val>
                                        </p:tav>
                                      </p:tavLst>
                                    </p:anim>
                                  </p:childTnLst>
                                </p:cTn>
                              </p:par>
                            </p:childTnLst>
                          </p:cTn>
                        </p:par>
                        <p:par>
                          <p:cTn id="101"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220"/>
                                        </p:tgtEl>
                                        <p:attrNameLst>
                                          <p:attrName>style.visibility</p:attrName>
                                        </p:attrNameLst>
                                      </p:cBhvr>
                                      <p:to>
                                        <p:strVal val="visible"/>
                                      </p:to>
                                    </p:set>
                                    <p:animEffect filter="wipe(left)" transition="in">
                                      <p:cBhvr additive="repl">
                                        <p:cTn id="104" dur="500"/>
                                        <p:tgtEl>
                                          <p:spTgt spid="220"/>
                                        </p:tgtEl>
                                      </p:cBhvr>
                                    </p:animEffect>
                                  </p:childTnLst>
                                </p:cTn>
                              </p:par>
                              <p:par>
                                <p:cTn id="105" nodeType="withEffect" fill="hold" presetClass="entr" presetID="22" presetSubtype="2">
                                  <p:stCondLst>
                                    <p:cond delay="0"/>
                                  </p:stCondLst>
                                  <p:childTnLst>
                                    <p:set>
                                      <p:cBhvr>
                                        <p:cTn id="106" dur="1" fill="hold">
                                          <p:stCondLst>
                                            <p:cond delay="0"/>
                                          </p:stCondLst>
                                        </p:cTn>
                                        <p:tgtEl>
                                          <p:spTgt spid="221"/>
                                        </p:tgtEl>
                                        <p:attrNameLst>
                                          <p:attrName>style.visibility</p:attrName>
                                        </p:attrNameLst>
                                      </p:cBhvr>
                                      <p:to>
                                        <p:strVal val="visible"/>
                                      </p:to>
                                    </p:set>
                                    <p:animEffect filter="wipe(right)" transition="in">
                                      <p:cBhvr additive="repl">
                                        <p:cTn id="107" dur="500"/>
                                        <p:tgtEl>
                                          <p:spTgt spid="221"/>
                                        </p:tgtEl>
                                      </p:cBhvr>
                                    </p:animEffect>
                                  </p:childTnLst>
                                </p:cTn>
                              </p:par>
                              <p:par>
                                <p:cTn id="108" nodeType="withEffect" fill="hold" presetClass="entr" presetID="22" presetSubtype="1">
                                  <p:stCondLst>
                                    <p:cond delay="0"/>
                                  </p:stCondLst>
                                  <p:childTnLst>
                                    <p:set>
                                      <p:cBhvr>
                                        <p:cTn id="109" dur="1" fill="hold">
                                          <p:stCondLst>
                                            <p:cond delay="0"/>
                                          </p:stCondLst>
                                        </p:cTn>
                                        <p:tgtEl>
                                          <p:spTgt spid="219"/>
                                        </p:tgtEl>
                                        <p:attrNameLst>
                                          <p:attrName>style.visibility</p:attrName>
                                        </p:attrNameLst>
                                      </p:cBhvr>
                                      <p:to>
                                        <p:strVal val="visible"/>
                                      </p:to>
                                    </p:set>
                                    <p:animEffect filter="wipe(up)" transition="in">
                                      <p:cBhvr additive="repl">
                                        <p:cTn id="110" dur="500"/>
                                        <p:tgtEl>
                                          <p:spTgt spid="219"/>
                                        </p:tgtEl>
                                      </p:cBhvr>
                                    </p:animEffect>
                                  </p:childTnLst>
                                </p:cTn>
                              </p:par>
                            </p:childTnLst>
                          </p:cTn>
                        </p:par>
                        <p:par>
                          <p:cTn id="111" fill="hold">
                            <p:stCondLst>
                              <p:cond delay="1000"/>
                            </p:stCondLst>
                            <p:childTnLst>
                              <p:par>
                                <p:cTn id="112" nodeType="afterEffect" fill="hold" presetClass="entr" presetID="14" presetSubtype="10">
                                  <p:stCondLst>
                                    <p:cond delay="0"/>
                                  </p:stCondLst>
                                  <p:childTnLst>
                                    <p:set>
                                      <p:cBhvr>
                                        <p:cTn id="113" dur="1" fill="hold">
                                          <p:stCondLst>
                                            <p:cond delay="0"/>
                                          </p:stCondLst>
                                        </p:cTn>
                                        <p:tgtEl>
                                          <p:spTgt spid="224"/>
                                        </p:tgtEl>
                                        <p:attrNameLst>
                                          <p:attrName>style.visibility</p:attrName>
                                        </p:attrNameLst>
                                      </p:cBhvr>
                                      <p:to>
                                        <p:strVal val="visible"/>
                                      </p:to>
                                    </p:set>
                                    <p:animEffect filter="randombar(horizontal)" transition="in">
                                      <p:cBhvr additive="repl">
                                        <p:cTn id="114" dur="500"/>
                                        <p:tgtEl>
                                          <p:spTgt spid="224"/>
                                        </p:tgtEl>
                                      </p:cBhvr>
                                    </p:animEffect>
                                  </p:childTnLst>
                                </p:cTn>
                              </p:par>
                              <p:par>
                                <p:cTn id="115" nodeType="withEffect" fill="hold" presetClass="entr" presetID="14" presetSubtype="10">
                                  <p:stCondLst>
                                    <p:cond delay="0"/>
                                  </p:stCondLst>
                                  <p:childTnLst>
                                    <p:set>
                                      <p:cBhvr>
                                        <p:cTn id="116" dur="1" fill="hold">
                                          <p:stCondLst>
                                            <p:cond delay="0"/>
                                          </p:stCondLst>
                                        </p:cTn>
                                        <p:tgtEl>
                                          <p:spTgt spid="223"/>
                                        </p:tgtEl>
                                        <p:attrNameLst>
                                          <p:attrName>style.visibility</p:attrName>
                                        </p:attrNameLst>
                                      </p:cBhvr>
                                      <p:to>
                                        <p:strVal val="visible"/>
                                      </p:to>
                                    </p:set>
                                    <p:animEffect filter="randombar(horizontal)" transition="in">
                                      <p:cBhvr additive="repl">
                                        <p:cTn id="117" dur="500"/>
                                        <p:tgtEl>
                                          <p:spTgt spid="223"/>
                                        </p:tgtEl>
                                      </p:cBhvr>
                                    </p:animEffect>
                                  </p:childTnLst>
                                </p:cTn>
                              </p:par>
                              <p:par>
                                <p:cTn id="118" nodeType="withEffect" fill="hold" presetClass="entr" presetID="14" presetSubtype="10">
                                  <p:stCondLst>
                                    <p:cond delay="0"/>
                                  </p:stCondLst>
                                  <p:childTnLst>
                                    <p:set>
                                      <p:cBhvr>
                                        <p:cTn id="119" dur="1" fill="hold">
                                          <p:stCondLst>
                                            <p:cond delay="0"/>
                                          </p:stCondLst>
                                        </p:cTn>
                                        <p:tgtEl>
                                          <p:spTgt spid="222"/>
                                        </p:tgtEl>
                                        <p:attrNameLst>
                                          <p:attrName>style.visibility</p:attrName>
                                        </p:attrNameLst>
                                      </p:cBhvr>
                                      <p:to>
                                        <p:strVal val="visible"/>
                                      </p:to>
                                    </p:set>
                                    <p:animEffect filter="randombar(horizontal)" transition="in">
                                      <p:cBhvr additive="repl">
                                        <p:cTn id="12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pic>
        <p:nvPicPr>
          <p:cNvPr id="229" name="Group 34" descr=""/>
          <p:cNvPicPr/>
          <p:nvPr/>
        </p:nvPicPr>
        <p:blipFill>
          <a:blip r:embed="rId1"/>
          <a:stretch/>
        </p:blipFill>
        <p:spPr>
          <a:xfrm>
            <a:off x="927000" y="1305000"/>
            <a:ext cx="7272360" cy="772920"/>
          </a:xfrm>
          <a:prstGeom prst="rect">
            <a:avLst/>
          </a:prstGeom>
          <a:ln w="0">
            <a:noFill/>
          </a:ln>
        </p:spPr>
      </p:pic>
      <p:pic>
        <p:nvPicPr>
          <p:cNvPr id="230" name="Group 39" descr=""/>
          <p:cNvPicPr/>
          <p:nvPr/>
        </p:nvPicPr>
        <p:blipFill>
          <a:blip r:embed="rId2"/>
          <a:stretch/>
        </p:blipFill>
        <p:spPr>
          <a:xfrm>
            <a:off x="957240" y="2462040"/>
            <a:ext cx="7180200" cy="2054520"/>
          </a:xfrm>
          <a:prstGeom prst="rect">
            <a:avLst/>
          </a:prstGeom>
          <a:ln w="0">
            <a:noFill/>
          </a:ln>
        </p:spPr>
      </p:pic>
      <p:sp>
        <p:nvSpPr>
          <p:cNvPr id="231" name="AutoShape 105"/>
          <p:cNvSpPr/>
          <p:nvPr/>
        </p:nvSpPr>
        <p:spPr>
          <a:xfrm>
            <a:off x="635040" y="1752480"/>
            <a:ext cx="8184960" cy="857520"/>
          </a:xfrm>
          <a:prstGeom prst="rightArrow">
            <a:avLst>
              <a:gd name="adj1" fmla="val 50000"/>
              <a:gd name="adj2" fmla="val 49978"/>
            </a:avLst>
          </a:prstGeom>
          <a:solidFill>
            <a:srgbClr val="e1b400"/>
          </a:solidFill>
          <a:ln w="0">
            <a:noFill/>
          </a:ln>
          <a:effectLst>
            <a:outerShdw dist="38183" dir="2700000" blurRad="0" rotWithShape="0">
              <a:srgbClr val="000000">
                <a:alpha val="13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Rectangle 32"/>
          <p:cNvSpPr/>
          <p:nvPr/>
        </p:nvSpPr>
        <p:spPr>
          <a:xfrm>
            <a:off x="91116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1</a:t>
            </a:r>
            <a:endParaRPr b="0" lang="en-US" sz="1800" spc="-1" strike="noStrike">
              <a:solidFill>
                <a:srgbClr val="000000"/>
              </a:solidFill>
              <a:latin typeface="Calibri"/>
            </a:endParaRPr>
          </a:p>
        </p:txBody>
      </p:sp>
      <p:sp>
        <p:nvSpPr>
          <p:cNvPr id="233" name="Rectangle 35"/>
          <p:cNvSpPr/>
          <p:nvPr/>
        </p:nvSpPr>
        <p:spPr>
          <a:xfrm>
            <a:off x="2346480" y="2009880"/>
            <a:ext cx="145080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2</a:t>
            </a:r>
            <a:endParaRPr b="0" lang="en-US" sz="1800" spc="-1" strike="noStrike">
              <a:solidFill>
                <a:srgbClr val="000000"/>
              </a:solidFill>
              <a:latin typeface="Calibri"/>
            </a:endParaRPr>
          </a:p>
        </p:txBody>
      </p:sp>
      <p:sp>
        <p:nvSpPr>
          <p:cNvPr id="234" name="Rectangle 36"/>
          <p:cNvSpPr/>
          <p:nvPr/>
        </p:nvSpPr>
        <p:spPr>
          <a:xfrm>
            <a:off x="383220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3</a:t>
            </a:r>
            <a:endParaRPr b="0" lang="en-US" sz="1800" spc="-1" strike="noStrike">
              <a:solidFill>
                <a:srgbClr val="000000"/>
              </a:solidFill>
              <a:latin typeface="Calibri"/>
            </a:endParaRPr>
          </a:p>
        </p:txBody>
      </p:sp>
      <p:sp>
        <p:nvSpPr>
          <p:cNvPr id="235" name="Rectangle 37"/>
          <p:cNvSpPr/>
          <p:nvPr/>
        </p:nvSpPr>
        <p:spPr>
          <a:xfrm>
            <a:off x="526716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4</a:t>
            </a:r>
            <a:endParaRPr b="0" lang="en-US" sz="1800" spc="-1" strike="noStrike">
              <a:solidFill>
                <a:srgbClr val="000000"/>
              </a:solidFill>
              <a:latin typeface="Calibri"/>
            </a:endParaRPr>
          </a:p>
        </p:txBody>
      </p:sp>
      <p:sp>
        <p:nvSpPr>
          <p:cNvPr id="236" name="Rectangle 38"/>
          <p:cNvSpPr/>
          <p:nvPr/>
        </p:nvSpPr>
        <p:spPr>
          <a:xfrm>
            <a:off x="671508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5</a:t>
            </a:r>
            <a:endParaRPr b="0" lang="en-US" sz="1800" spc="-1" strike="noStrike">
              <a:solidFill>
                <a:srgbClr val="000000"/>
              </a:solidFill>
              <a:latin typeface="Calibri"/>
            </a:endParaRPr>
          </a:p>
        </p:txBody>
      </p:sp>
      <p:sp>
        <p:nvSpPr>
          <p:cNvPr id="237" name="Rectangle 70"/>
          <p:cNvSpPr/>
          <p:nvPr/>
        </p:nvSpPr>
        <p:spPr>
          <a:xfrm>
            <a:off x="99072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38" name="Rectangle 70"/>
          <p:cNvSpPr/>
          <p:nvPr/>
        </p:nvSpPr>
        <p:spPr>
          <a:xfrm>
            <a:off x="2438280" y="2921040"/>
            <a:ext cx="129564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39" name="Rectangle 70"/>
          <p:cNvSpPr/>
          <p:nvPr/>
        </p:nvSpPr>
        <p:spPr>
          <a:xfrm>
            <a:off x="388620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40" name="Rectangle 70"/>
          <p:cNvSpPr/>
          <p:nvPr/>
        </p:nvSpPr>
        <p:spPr>
          <a:xfrm>
            <a:off x="533412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41" name="Rectangle 70"/>
          <p:cNvSpPr/>
          <p:nvPr/>
        </p:nvSpPr>
        <p:spPr>
          <a:xfrm>
            <a:off x="679932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22" presetSubtype="8">
                                  <p:stCondLst>
                                    <p:cond delay="0"/>
                                  </p:stCondLst>
                                  <p:childTnLst>
                                    <p:set>
                                      <p:cBhvr>
                                        <p:cTn id="126" dur="1" fill="hold">
                                          <p:stCondLst>
                                            <p:cond delay="0"/>
                                          </p:stCondLst>
                                        </p:cTn>
                                        <p:tgtEl>
                                          <p:spTgt spid="231"/>
                                        </p:tgtEl>
                                        <p:attrNameLst>
                                          <p:attrName>style.visibility</p:attrName>
                                        </p:attrNameLst>
                                      </p:cBhvr>
                                      <p:to>
                                        <p:strVal val="visible"/>
                                      </p:to>
                                    </p:set>
                                    <p:animEffect filter="wipe(left)" transition="in">
                                      <p:cBhvr additive="repl">
                                        <p:cTn id="127" dur="500"/>
                                        <p:tgtEl>
                                          <p:spTgt spid="231"/>
                                        </p:tgtEl>
                                      </p:cBhvr>
                                    </p:animEffect>
                                  </p:childTnLst>
                                </p:cTn>
                              </p:par>
                            </p:childTnLst>
                          </p:cTn>
                        </p:par>
                        <p:par>
                          <p:cTn id="128" fill="hold">
                            <p:stCondLst>
                              <p:cond delay="500"/>
                            </p:stCondLst>
                            <p:childTnLst>
                              <p:par>
                                <p:cTn id="129" nodeType="afterEffect" fill="hold" presetClass="entr" presetID="22" presetSubtype="1">
                                  <p:stCondLst>
                                    <p:cond delay="0"/>
                                  </p:stCondLst>
                                  <p:childTnLst>
                                    <p:set>
                                      <p:cBhvr>
                                        <p:cTn id="130" dur="1" fill="hold">
                                          <p:stCondLst>
                                            <p:cond delay="0"/>
                                          </p:stCondLst>
                                        </p:cTn>
                                        <p:tgtEl>
                                          <p:spTgt spid="229"/>
                                        </p:tgtEl>
                                        <p:attrNameLst>
                                          <p:attrName>style.visibility</p:attrName>
                                        </p:attrNameLst>
                                      </p:cBhvr>
                                      <p:to>
                                        <p:strVal val="visible"/>
                                      </p:to>
                                    </p:set>
                                    <p:animEffect filter="wipe(up)" transition="in">
                                      <p:cBhvr additive="repl">
                                        <p:cTn id="131" dur="500"/>
                                        <p:tgtEl>
                                          <p:spTgt spid="229"/>
                                        </p:tgtEl>
                                      </p:cBhvr>
                                    </p:animEffect>
                                  </p:childTnLst>
                                </p:cTn>
                              </p:par>
                            </p:childTnLst>
                          </p:cTn>
                        </p:par>
                        <p:par>
                          <p:cTn id="132" fill="hold">
                            <p:stCondLst>
                              <p:cond delay="1000"/>
                            </p:stCondLst>
                            <p:childTnLst>
                              <p:par>
                                <p:cTn id="133" nodeType="afterEffect" fill="hold" presetClass="entr" presetID="22" presetSubtype="1">
                                  <p:stCondLst>
                                    <p:cond delay="0"/>
                                  </p:stCondLst>
                                  <p:childTnLst>
                                    <p:set>
                                      <p:cBhvr>
                                        <p:cTn id="134" dur="1" fill="hold">
                                          <p:stCondLst>
                                            <p:cond delay="0"/>
                                          </p:stCondLst>
                                        </p:cTn>
                                        <p:tgtEl>
                                          <p:spTgt spid="230"/>
                                        </p:tgtEl>
                                        <p:attrNameLst>
                                          <p:attrName>style.visibility</p:attrName>
                                        </p:attrNameLst>
                                      </p:cBhvr>
                                      <p:to>
                                        <p:strVal val="visible"/>
                                      </p:to>
                                    </p:set>
                                    <p:animEffect filter="wipe(up)" transition="in">
                                      <p:cBhvr additive="repl">
                                        <p:cTn id="135" dur="500"/>
                                        <p:tgtEl>
                                          <p:spTgt spid="230"/>
                                        </p:tgtEl>
                                      </p:cBhvr>
                                    </p:animEffect>
                                  </p:childTnLst>
                                </p:cTn>
                              </p:par>
                            </p:childTnLst>
                          </p:cTn>
                        </p:par>
                        <p:par>
                          <p:cTn id="136" fill="hold">
                            <p:stCondLst>
                              <p:cond delay="1500"/>
                            </p:stCondLst>
                            <p:childTnLst>
                              <p:par>
                                <p:cTn id="137" nodeType="afterEffect" fill="hold" presetClass="entr" presetID="14" presetSubtype="10">
                                  <p:stCondLst>
                                    <p:cond delay="0"/>
                                  </p:stCondLst>
                                  <p:childTnLst>
                                    <p:set>
                                      <p:cBhvr>
                                        <p:cTn id="138" dur="1" fill="hold">
                                          <p:stCondLst>
                                            <p:cond delay="0"/>
                                          </p:stCondLst>
                                        </p:cTn>
                                        <p:tgtEl>
                                          <p:spTgt spid="237"/>
                                        </p:tgtEl>
                                        <p:attrNameLst>
                                          <p:attrName>style.visibility</p:attrName>
                                        </p:attrNameLst>
                                      </p:cBhvr>
                                      <p:to>
                                        <p:strVal val="visible"/>
                                      </p:to>
                                    </p:set>
                                    <p:animEffect filter="randombar(horizontal)" transition="in">
                                      <p:cBhvr additive="repl">
                                        <p:cTn id="139" dur="500"/>
                                        <p:tgtEl>
                                          <p:spTgt spid="237"/>
                                        </p:tgtEl>
                                      </p:cBhvr>
                                    </p:animEffect>
                                  </p:childTnLst>
                                </p:cTn>
                              </p:par>
                              <p:par>
                                <p:cTn id="140" nodeType="withEffect" fill="hold" presetClass="entr" presetID="14" presetSubtype="10">
                                  <p:stCondLst>
                                    <p:cond delay="0"/>
                                  </p:stCondLst>
                                  <p:childTnLst>
                                    <p:set>
                                      <p:cBhvr>
                                        <p:cTn id="141" dur="1" fill="hold">
                                          <p:stCondLst>
                                            <p:cond delay="0"/>
                                          </p:stCondLst>
                                        </p:cTn>
                                        <p:tgtEl>
                                          <p:spTgt spid="238"/>
                                        </p:tgtEl>
                                        <p:attrNameLst>
                                          <p:attrName>style.visibility</p:attrName>
                                        </p:attrNameLst>
                                      </p:cBhvr>
                                      <p:to>
                                        <p:strVal val="visible"/>
                                      </p:to>
                                    </p:set>
                                    <p:animEffect filter="randombar(horizontal)" transition="in">
                                      <p:cBhvr additive="repl">
                                        <p:cTn id="142" dur="500"/>
                                        <p:tgtEl>
                                          <p:spTgt spid="238"/>
                                        </p:tgtEl>
                                      </p:cBhvr>
                                    </p:animEffect>
                                  </p:childTnLst>
                                </p:cTn>
                              </p:par>
                              <p:par>
                                <p:cTn id="143" nodeType="withEffect" fill="hold" presetClass="entr" presetID="14" presetSubtype="10">
                                  <p:stCondLst>
                                    <p:cond delay="0"/>
                                  </p:stCondLst>
                                  <p:childTnLst>
                                    <p:set>
                                      <p:cBhvr>
                                        <p:cTn id="144" dur="1" fill="hold">
                                          <p:stCondLst>
                                            <p:cond delay="0"/>
                                          </p:stCondLst>
                                        </p:cTn>
                                        <p:tgtEl>
                                          <p:spTgt spid="239"/>
                                        </p:tgtEl>
                                        <p:attrNameLst>
                                          <p:attrName>style.visibility</p:attrName>
                                        </p:attrNameLst>
                                      </p:cBhvr>
                                      <p:to>
                                        <p:strVal val="visible"/>
                                      </p:to>
                                    </p:set>
                                    <p:animEffect filter="randombar(horizontal)" transition="in">
                                      <p:cBhvr additive="repl">
                                        <p:cTn id="145" dur="500"/>
                                        <p:tgtEl>
                                          <p:spTgt spid="239"/>
                                        </p:tgtEl>
                                      </p:cBhvr>
                                    </p:animEffect>
                                  </p:childTnLst>
                                </p:cTn>
                              </p:par>
                              <p:par>
                                <p:cTn id="146" nodeType="withEffect" fill="hold" presetClass="entr" presetID="14" presetSubtype="10">
                                  <p:stCondLst>
                                    <p:cond delay="0"/>
                                  </p:stCondLst>
                                  <p:childTnLst>
                                    <p:set>
                                      <p:cBhvr>
                                        <p:cTn id="147" dur="1" fill="hold">
                                          <p:stCondLst>
                                            <p:cond delay="0"/>
                                          </p:stCondLst>
                                        </p:cTn>
                                        <p:tgtEl>
                                          <p:spTgt spid="240"/>
                                        </p:tgtEl>
                                        <p:attrNameLst>
                                          <p:attrName>style.visibility</p:attrName>
                                        </p:attrNameLst>
                                      </p:cBhvr>
                                      <p:to>
                                        <p:strVal val="visible"/>
                                      </p:to>
                                    </p:set>
                                    <p:animEffect filter="randombar(horizontal)" transition="in">
                                      <p:cBhvr additive="repl">
                                        <p:cTn id="148" dur="500"/>
                                        <p:tgtEl>
                                          <p:spTgt spid="240"/>
                                        </p:tgtEl>
                                      </p:cBhvr>
                                    </p:animEffect>
                                  </p:childTnLst>
                                </p:cTn>
                              </p:par>
                              <p:par>
                                <p:cTn id="149" nodeType="withEffect" fill="hold" presetClass="entr" presetID="14" presetSubtype="10">
                                  <p:stCondLst>
                                    <p:cond delay="0"/>
                                  </p:stCondLst>
                                  <p:childTnLst>
                                    <p:set>
                                      <p:cBhvr>
                                        <p:cTn id="150" dur="1" fill="hold">
                                          <p:stCondLst>
                                            <p:cond delay="0"/>
                                          </p:stCondLst>
                                        </p:cTn>
                                        <p:tgtEl>
                                          <p:spTgt spid="241"/>
                                        </p:tgtEl>
                                        <p:attrNameLst>
                                          <p:attrName>style.visibility</p:attrName>
                                        </p:attrNameLst>
                                      </p:cBhvr>
                                      <p:to>
                                        <p:strVal val="visible"/>
                                      </p:to>
                                    </p:set>
                                    <p:animEffect filter="randombar(horizontal)" transition="in">
                                      <p:cBhvr additive="repl">
                                        <p:cTn id="15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grpSp>
        <p:nvGrpSpPr>
          <p:cNvPr id="243" name="Group 3"/>
          <p:cNvGrpSpPr/>
          <p:nvPr/>
        </p:nvGrpSpPr>
        <p:grpSpPr>
          <a:xfrm>
            <a:off x="511200" y="1908000"/>
            <a:ext cx="1276200" cy="2337120"/>
            <a:chOff x="511200" y="1908000"/>
            <a:chExt cx="1276200" cy="2337120"/>
          </a:xfrm>
        </p:grpSpPr>
        <p:sp>
          <p:nvSpPr>
            <p:cNvPr id="244" name="Rectangle 45"/>
            <p:cNvSpPr/>
            <p:nvPr/>
          </p:nvSpPr>
          <p:spPr>
            <a:xfrm>
              <a:off x="652320" y="2882880"/>
              <a:ext cx="1114560" cy="136224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28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5" name="Group 5"/>
            <p:cNvGrpSpPr/>
            <p:nvPr/>
          </p:nvGrpSpPr>
          <p:grpSpPr>
            <a:xfrm>
              <a:off x="511200" y="1908000"/>
              <a:ext cx="1276200" cy="1293840"/>
              <a:chOff x="511200" y="1908000"/>
              <a:chExt cx="1276200" cy="1293840"/>
            </a:xfrm>
          </p:grpSpPr>
          <p:grpSp>
            <p:nvGrpSpPr>
              <p:cNvPr id="246" name="Group 6"/>
              <p:cNvGrpSpPr/>
              <p:nvPr/>
            </p:nvGrpSpPr>
            <p:grpSpPr>
              <a:xfrm>
                <a:off x="511200" y="1908000"/>
                <a:ext cx="1276200" cy="1293840"/>
                <a:chOff x="511200" y="1908000"/>
                <a:chExt cx="1276200" cy="1293840"/>
              </a:xfrm>
            </p:grpSpPr>
            <p:grpSp>
              <p:nvGrpSpPr>
                <p:cNvPr id="247" name="Freeform 5"/>
                <p:cNvGrpSpPr/>
                <p:nvPr/>
              </p:nvGrpSpPr>
              <p:grpSpPr>
                <a:xfrm>
                  <a:off x="511920" y="1932120"/>
                  <a:ext cx="1255680" cy="1269720"/>
                  <a:chOff x="511920" y="1932120"/>
                  <a:chExt cx="1255680" cy="1269720"/>
                </a:xfrm>
              </p:grpSpPr>
              <p:pic>
                <p:nvPicPr>
                  <p:cNvPr id="248" name="Freeform 5" descr=""/>
                  <p:cNvPicPr/>
                  <p:nvPr/>
                </p:nvPicPr>
                <p:blipFill>
                  <a:blip r:embed="rId1"/>
                  <a:stretch/>
                </p:blipFill>
                <p:spPr>
                  <a:xfrm>
                    <a:off x="512640" y="1932120"/>
                    <a:ext cx="1254960" cy="1268280"/>
                  </a:xfrm>
                  <a:prstGeom prst="rect">
                    <a:avLst/>
                  </a:prstGeom>
                  <a:ln w="0">
                    <a:noFill/>
                  </a:ln>
                </p:spPr>
              </p:pic>
              <p:sp>
                <p:nvSpPr>
                  <p:cNvPr id="249" name=""/>
                  <p:cNvSpPr/>
                  <p:nvPr/>
                </p:nvSpPr>
                <p:spPr>
                  <a:xfrm>
                    <a:off x="511920" y="1933200"/>
                    <a:ext cx="1254960" cy="1268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0" name="Freeform 10"/>
                <p:cNvSpPr/>
                <p:nvPr/>
              </p:nvSpPr>
              <p:spPr>
                <a:xfrm>
                  <a:off x="511200" y="1908000"/>
                  <a:ext cx="1276200" cy="1235160"/>
                </a:xfrm>
                <a:custGeom>
                  <a:avLst/>
                  <a:gdLst/>
                  <a:ahLst/>
                  <a:rect l="l" t="t" r="r" b="b"/>
                  <a:pathLst>
                    <a:path w="1880052" h="1818466">
                      <a:moveTo>
                        <a:pt x="0" y="206682"/>
                      </a:moveTo>
                      <a:cubicBezTo>
                        <a:pt x="248340" y="113342"/>
                        <a:pt x="1296702" y="25002"/>
                        <a:pt x="1560043" y="6667"/>
                      </a:cubicBezTo>
                      <a:cubicBezTo>
                        <a:pt x="1580043" y="86673"/>
                        <a:pt x="1565044" y="0"/>
                        <a:pt x="1580044" y="96674"/>
                      </a:cubicBezTo>
                      <a:cubicBezTo>
                        <a:pt x="1595044" y="193348"/>
                        <a:pt x="1621711" y="418363"/>
                        <a:pt x="1650045" y="586709"/>
                      </a:cubicBezTo>
                      <a:cubicBezTo>
                        <a:pt x="1678379" y="755055"/>
                        <a:pt x="1711714" y="943402"/>
                        <a:pt x="1750048" y="1106747"/>
                      </a:cubicBezTo>
                      <a:cubicBezTo>
                        <a:pt x="1788382" y="1270092"/>
                        <a:pt x="1876718" y="1485108"/>
                        <a:pt x="1880052" y="1566781"/>
                      </a:cubicBezTo>
                      <a:cubicBezTo>
                        <a:pt x="1830050" y="1576338"/>
                        <a:pt x="1863385" y="1580115"/>
                        <a:pt x="1770049" y="1596783"/>
                      </a:cubicBezTo>
                      <a:cubicBezTo>
                        <a:pt x="1676713" y="1613451"/>
                        <a:pt x="1320036" y="1666788"/>
                        <a:pt x="1320036" y="1666788"/>
                      </a:cubicBezTo>
                      <a:cubicBezTo>
                        <a:pt x="1086696" y="1701790"/>
                        <a:pt x="550016" y="1818466"/>
                        <a:pt x="370011" y="1806798"/>
                      </a:cubicBezTo>
                      <a:cubicBezTo>
                        <a:pt x="290113" y="1691790"/>
                        <a:pt x="275008" y="1706791"/>
                        <a:pt x="240007" y="1596783"/>
                      </a:cubicBezTo>
                      <a:cubicBezTo>
                        <a:pt x="205006" y="1486775"/>
                        <a:pt x="188339" y="1318429"/>
                        <a:pt x="160005" y="1146750"/>
                      </a:cubicBezTo>
                      <a:cubicBezTo>
                        <a:pt x="131671" y="975071"/>
                        <a:pt x="95003" y="723386"/>
                        <a:pt x="70002" y="566708"/>
                      </a:cubicBezTo>
                      <a:cubicBezTo>
                        <a:pt x="45001" y="410030"/>
                        <a:pt x="30001" y="389417"/>
                        <a:pt x="0" y="206682"/>
                      </a:cubicBezTo>
                      <a:close/>
                    </a:path>
                  </a:pathLst>
                </a:custGeom>
                <a:gradFill rotWithShape="0">
                  <a:gsLst>
                    <a:gs pos="0">
                      <a:srgbClr val="4a880e"/>
                    </a:gs>
                    <a:gs pos="100000">
                      <a:srgbClr val="84e92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51" name="Group 9"/>
              <p:cNvGrpSpPr/>
              <p:nvPr/>
            </p:nvGrpSpPr>
            <p:grpSpPr>
              <a:xfrm>
                <a:off x="683280" y="2086920"/>
                <a:ext cx="258840" cy="281160"/>
                <a:chOff x="683280" y="2086920"/>
                <a:chExt cx="258840" cy="281160"/>
              </a:xfrm>
            </p:grpSpPr>
            <p:sp>
              <p:nvSpPr>
                <p:cNvPr id="252" name="TextBox 7"/>
                <p:cNvSpPr/>
                <p:nvPr/>
              </p:nvSpPr>
              <p:spPr>
                <a:xfrm>
                  <a:off x="700560" y="2086920"/>
                  <a:ext cx="214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1</a:t>
                  </a:r>
                  <a:endParaRPr b="0" lang="en-US" sz="1200" spc="-1" strike="noStrike">
                    <a:solidFill>
                      <a:srgbClr val="000000"/>
                    </a:solidFill>
                    <a:latin typeface="Calibri"/>
                  </a:endParaRPr>
                </a:p>
              </p:txBody>
            </p:sp>
            <p:sp>
              <p:nvSpPr>
                <p:cNvPr id="253" name="Freeform 8"/>
                <p:cNvSpPr/>
                <p:nvPr/>
              </p:nvSpPr>
              <p:spPr>
                <a:xfrm>
                  <a:off x="683280" y="2104560"/>
                  <a:ext cx="258840" cy="263520"/>
                </a:xfrm>
                <a:custGeom>
                  <a:avLst/>
                  <a:gdLst/>
                  <a:ahLst/>
                  <a:rect l="l" t="t" r="r" b="b"/>
                  <a:pathLst>
                    <a:path w="475014" h="483369">
                      <a:moveTo>
                        <a:pt x="263341" y="80006"/>
                      </a:moveTo>
                      <a:cubicBezTo>
                        <a:pt x="189172" y="90006"/>
                        <a:pt x="115004" y="100007"/>
                        <a:pt x="73336" y="140010"/>
                      </a:cubicBezTo>
                      <a:cubicBezTo>
                        <a:pt x="31668" y="180013"/>
                        <a:pt x="0" y="266686"/>
                        <a:pt x="13334" y="320023"/>
                      </a:cubicBezTo>
                      <a:cubicBezTo>
                        <a:pt x="26668" y="373360"/>
                        <a:pt x="86670" y="440033"/>
                        <a:pt x="153338" y="460034"/>
                      </a:cubicBezTo>
                      <a:cubicBezTo>
                        <a:pt x="220006" y="480035"/>
                        <a:pt x="361677" y="483369"/>
                        <a:pt x="413345" y="440032"/>
                      </a:cubicBezTo>
                      <a:cubicBezTo>
                        <a:pt x="465013" y="396696"/>
                        <a:pt x="475014" y="273354"/>
                        <a:pt x="463347" y="200015"/>
                      </a:cubicBezTo>
                      <a:cubicBezTo>
                        <a:pt x="451680" y="126676"/>
                        <a:pt x="397511" y="63338"/>
                        <a:pt x="343343" y="0"/>
                      </a:cubicBez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54" name="TextBox 6"/>
              <p:cNvSpPr/>
              <p:nvPr/>
            </p:nvSpPr>
            <p:spPr>
              <a:xfrm rot="21025800">
                <a:off x="684360" y="2401200"/>
                <a:ext cx="887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MAINLY DELIVERY</a:t>
                </a:r>
                <a:endParaRPr b="0" lang="en-US" sz="1200" spc="-1" strike="noStrike">
                  <a:solidFill>
                    <a:srgbClr val="000000"/>
                  </a:solidFill>
                  <a:latin typeface="Calibri"/>
                </a:endParaRPr>
              </a:p>
            </p:txBody>
          </p:sp>
        </p:grpSp>
        <p:sp>
          <p:nvSpPr>
            <p:cNvPr id="255" name="TextBox 51"/>
            <p:cNvSpPr/>
            <p:nvPr/>
          </p:nvSpPr>
          <p:spPr>
            <a:xfrm>
              <a:off x="685800" y="3193920"/>
              <a:ext cx="106668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56" name="Group 14"/>
          <p:cNvGrpSpPr/>
          <p:nvPr/>
        </p:nvGrpSpPr>
        <p:grpSpPr>
          <a:xfrm>
            <a:off x="1928880" y="1506600"/>
            <a:ext cx="1149120" cy="2274840"/>
            <a:chOff x="1928880" y="1506600"/>
            <a:chExt cx="1149120" cy="2274840"/>
          </a:xfrm>
        </p:grpSpPr>
        <p:sp>
          <p:nvSpPr>
            <p:cNvPr id="257" name="Rectangle 46"/>
            <p:cNvSpPr/>
            <p:nvPr/>
          </p:nvSpPr>
          <p:spPr>
            <a:xfrm>
              <a:off x="1955520" y="2400480"/>
              <a:ext cx="1112760" cy="138096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28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8" name="Group 16"/>
            <p:cNvGrpSpPr/>
            <p:nvPr/>
          </p:nvGrpSpPr>
          <p:grpSpPr>
            <a:xfrm>
              <a:off x="1928880" y="1506600"/>
              <a:ext cx="1149120" cy="1146960"/>
              <a:chOff x="1928880" y="1506600"/>
              <a:chExt cx="1149120" cy="1146960"/>
            </a:xfrm>
          </p:grpSpPr>
          <p:sp>
            <p:nvSpPr>
              <p:cNvPr id="259" name="Rectangle 40"/>
              <p:cNvSpPr/>
              <p:nvPr/>
            </p:nvSpPr>
            <p:spPr>
              <a:xfrm>
                <a:off x="1928880" y="1506600"/>
                <a:ext cx="1149120" cy="1146960"/>
              </a:xfrm>
              <a:prstGeom prst="rect">
                <a:avLst/>
              </a:prstGeom>
              <a:gradFill rotWithShape="0">
                <a:gsLst>
                  <a:gs pos="0">
                    <a:srgbClr val="72aac6"/>
                  </a:gs>
                  <a:gs pos="100000">
                    <a:srgbClr val="7db8cd"/>
                  </a:gs>
                </a:gsLst>
                <a:lin ang="5400000"/>
              </a:gradFill>
              <a:ln w="0">
                <a:noFill/>
              </a:ln>
              <a:effectLst>
                <a:outerShdw dist="50887" dir="5156595" blurRad="0" rotWithShape="0">
                  <a:srgbClr val="808080">
                    <a:alpha val="36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0" name="Group 18"/>
              <p:cNvGrpSpPr/>
              <p:nvPr/>
            </p:nvGrpSpPr>
            <p:grpSpPr>
              <a:xfrm>
                <a:off x="2067840" y="1609920"/>
                <a:ext cx="261360" cy="276480"/>
                <a:chOff x="2067840" y="1609920"/>
                <a:chExt cx="261360" cy="276480"/>
              </a:xfrm>
            </p:grpSpPr>
            <p:sp>
              <p:nvSpPr>
                <p:cNvPr id="261" name="TextBox 43"/>
                <p:cNvSpPr/>
                <p:nvPr/>
              </p:nvSpPr>
              <p:spPr>
                <a:xfrm>
                  <a:off x="2089080" y="160992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2</a:t>
                  </a:r>
                  <a:endParaRPr b="0" lang="en-US" sz="1200" spc="-1" strike="noStrike">
                    <a:solidFill>
                      <a:srgbClr val="000000"/>
                    </a:solidFill>
                    <a:latin typeface="Calibri"/>
                  </a:endParaRPr>
                </a:p>
              </p:txBody>
            </p:sp>
            <p:sp>
              <p:nvSpPr>
                <p:cNvPr id="262" name="Freeform 44"/>
                <p:cNvSpPr/>
                <p:nvPr/>
              </p:nvSpPr>
              <p:spPr>
                <a:xfrm>
                  <a:off x="2067840" y="1612440"/>
                  <a:ext cx="261360" cy="266760"/>
                </a:xfrm>
                <a:custGeom>
                  <a:avLst/>
                  <a:gdLst/>
                  <a:ahLst/>
                  <a:rect l="l" t="t" r="r" b="b"/>
                  <a:pathLst>
                    <a:path w="475014" h="483369">
                      <a:moveTo>
                        <a:pt x="263341" y="80006"/>
                      </a:moveTo>
                      <a:cubicBezTo>
                        <a:pt x="189172" y="90006"/>
                        <a:pt x="115004" y="100007"/>
                        <a:pt x="73336" y="140010"/>
                      </a:cubicBezTo>
                      <a:cubicBezTo>
                        <a:pt x="31668" y="180013"/>
                        <a:pt x="0" y="266686"/>
                        <a:pt x="13334" y="320023"/>
                      </a:cubicBezTo>
                      <a:cubicBezTo>
                        <a:pt x="26668" y="373360"/>
                        <a:pt x="86670" y="440033"/>
                        <a:pt x="153338" y="460034"/>
                      </a:cubicBezTo>
                      <a:cubicBezTo>
                        <a:pt x="220006" y="480035"/>
                        <a:pt x="361677" y="483369"/>
                        <a:pt x="413345" y="440032"/>
                      </a:cubicBezTo>
                      <a:cubicBezTo>
                        <a:pt x="465013" y="396696"/>
                        <a:pt x="475014" y="273354"/>
                        <a:pt x="463347" y="200015"/>
                      </a:cubicBezTo>
                      <a:cubicBezTo>
                        <a:pt x="451680" y="126676"/>
                        <a:pt x="397511" y="63338"/>
                        <a:pt x="343343" y="0"/>
                      </a:cubicBez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63" name="TextBox 42"/>
              <p:cNvSpPr/>
              <p:nvPr/>
            </p:nvSpPr>
            <p:spPr>
              <a:xfrm>
                <a:off x="1928880" y="1955520"/>
                <a:ext cx="1134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INSIDE ORDER TAKER</a:t>
                </a:r>
                <a:endParaRPr b="0" lang="en-US" sz="1200" spc="-1" strike="noStrike">
                  <a:solidFill>
                    <a:srgbClr val="000000"/>
                  </a:solidFill>
                  <a:latin typeface="Calibri"/>
                </a:endParaRPr>
              </a:p>
            </p:txBody>
          </p:sp>
        </p:grpSp>
        <p:sp>
          <p:nvSpPr>
            <p:cNvPr id="264" name="TextBox 52"/>
            <p:cNvSpPr/>
            <p:nvPr/>
          </p:nvSpPr>
          <p:spPr>
            <a:xfrm>
              <a:off x="1981080" y="2766240"/>
              <a:ext cx="106524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65" name="Group 23"/>
          <p:cNvGrpSpPr/>
          <p:nvPr/>
        </p:nvGrpSpPr>
        <p:grpSpPr>
          <a:xfrm>
            <a:off x="3236760" y="1878120"/>
            <a:ext cx="1252800" cy="2254320"/>
            <a:chOff x="3236760" y="1878120"/>
            <a:chExt cx="1252800" cy="2254320"/>
          </a:xfrm>
        </p:grpSpPr>
        <p:sp>
          <p:nvSpPr>
            <p:cNvPr id="266" name="Rectangle 47"/>
            <p:cNvSpPr/>
            <p:nvPr/>
          </p:nvSpPr>
          <p:spPr>
            <a:xfrm>
              <a:off x="3276360" y="2840040"/>
              <a:ext cx="1113120" cy="129240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28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7" name="Group 25"/>
            <p:cNvGrpSpPr/>
            <p:nvPr/>
          </p:nvGrpSpPr>
          <p:grpSpPr>
            <a:xfrm>
              <a:off x="3236760" y="1878120"/>
              <a:ext cx="1252800" cy="1191600"/>
              <a:chOff x="3236760" y="1878120"/>
              <a:chExt cx="1252800" cy="1191600"/>
            </a:xfrm>
          </p:grpSpPr>
          <p:grpSp>
            <p:nvGrpSpPr>
              <p:cNvPr id="268" name="Group 26"/>
              <p:cNvGrpSpPr/>
              <p:nvPr/>
            </p:nvGrpSpPr>
            <p:grpSpPr>
              <a:xfrm>
                <a:off x="3236760" y="1878120"/>
                <a:ext cx="1252800" cy="1191600"/>
                <a:chOff x="3236760" y="1878120"/>
                <a:chExt cx="1252800" cy="1191600"/>
              </a:xfrm>
            </p:grpSpPr>
            <p:sp>
              <p:nvSpPr>
                <p:cNvPr id="269" name="Freeform 17"/>
                <p:cNvSpPr/>
                <p:nvPr/>
              </p:nvSpPr>
              <p:spPr>
                <a:xfrm>
                  <a:off x="3325680" y="1966680"/>
                  <a:ext cx="1151280" cy="1103040"/>
                </a:xfrm>
                <a:custGeom>
                  <a:avLst/>
                  <a:gdLst/>
                  <a:ahLst/>
                  <a:rect l="l" t="t" r="r" b="b"/>
                  <a:pathLst>
                    <a:path w="1680046" h="1610117">
                      <a:moveTo>
                        <a:pt x="1670046" y="60004"/>
                      </a:moveTo>
                      <a:cubicBezTo>
                        <a:pt x="1673379" y="576708"/>
                        <a:pt x="1676713" y="1093413"/>
                        <a:pt x="1680046" y="1610117"/>
                      </a:cubicBezTo>
                      <a:lnTo>
                        <a:pt x="0" y="1590115"/>
                      </a:lnTo>
                      <a:lnTo>
                        <a:pt x="200006" y="0"/>
                      </a:lnTo>
                      <a:lnTo>
                        <a:pt x="1670046" y="60004"/>
                      </a:lnTo>
                      <a:close/>
                    </a:path>
                  </a:pathLst>
                </a:custGeom>
                <a:blipFill rotWithShape="0">
                  <a:blip r:embed="rId2">
                    <a:alphaModFix amt="0"/>
                  </a:blip>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Freeform 7"/>
                <p:cNvSpPr/>
                <p:nvPr/>
              </p:nvSpPr>
              <p:spPr>
                <a:xfrm>
                  <a:off x="3236760" y="1878120"/>
                  <a:ext cx="1252800" cy="1159920"/>
                </a:xfrm>
                <a:custGeom>
                  <a:avLst/>
                  <a:gdLst/>
                  <a:ahLst/>
                  <a:rect l="l" t="t" r="r" b="b"/>
                  <a:pathLst>
                    <a:path w="1828800" h="1692679">
                      <a:moveTo>
                        <a:pt x="152400" y="16279"/>
                      </a:moveTo>
                      <a:cubicBezTo>
                        <a:pt x="711200" y="16279"/>
                        <a:pt x="1491204" y="0"/>
                        <a:pt x="1828800" y="16279"/>
                      </a:cubicBezTo>
                      <a:cubicBezTo>
                        <a:pt x="1780413" y="324626"/>
                        <a:pt x="1727200" y="1133879"/>
                        <a:pt x="1676400" y="1692679"/>
                      </a:cubicBezTo>
                      <a:lnTo>
                        <a:pt x="0" y="1692679"/>
                      </a:lnTo>
                      <a:lnTo>
                        <a:pt x="152400" y="16279"/>
                      </a:lnTo>
                      <a:close/>
                    </a:path>
                  </a:pathLst>
                </a:custGeom>
                <a:gradFill rotWithShape="0">
                  <a:gsLst>
                    <a:gs pos="0">
                      <a:srgbClr val="8d6d00"/>
                    </a:gs>
                    <a:gs pos="100000">
                      <a:srgbClr val="f2be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71" name="TextBox 14"/>
              <p:cNvSpPr/>
              <p:nvPr/>
            </p:nvSpPr>
            <p:spPr>
              <a:xfrm>
                <a:off x="3462120" y="196344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3</a:t>
                </a:r>
                <a:endParaRPr b="0" lang="en-US" sz="1200" spc="-1" strike="noStrike">
                  <a:solidFill>
                    <a:srgbClr val="000000"/>
                  </a:solidFill>
                  <a:latin typeface="Calibri"/>
                </a:endParaRPr>
              </a:p>
            </p:txBody>
          </p:sp>
          <p:sp>
            <p:nvSpPr>
              <p:cNvPr id="272" name="Oval 15"/>
              <p:cNvSpPr/>
              <p:nvPr/>
            </p:nvSpPr>
            <p:spPr>
              <a:xfrm>
                <a:off x="3462120" y="1967040"/>
                <a:ext cx="243000" cy="290520"/>
              </a:xfrm>
              <a:prstGeom prst="ellipse">
                <a:avLst/>
              </a:prstGeom>
              <a:noFill/>
              <a:ln w="255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TextBox 16"/>
              <p:cNvSpPr/>
              <p:nvPr/>
            </p:nvSpPr>
            <p:spPr>
              <a:xfrm>
                <a:off x="3264840" y="2333880"/>
                <a:ext cx="1174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OUTSIDE ORDER TAKER</a:t>
                </a:r>
                <a:endParaRPr b="0" lang="en-US" sz="1200" spc="-1" strike="noStrike">
                  <a:solidFill>
                    <a:srgbClr val="000000"/>
                  </a:solidFill>
                  <a:latin typeface="Calibri"/>
                </a:endParaRPr>
              </a:p>
            </p:txBody>
          </p:sp>
        </p:grpSp>
        <p:sp>
          <p:nvSpPr>
            <p:cNvPr id="274" name="TextBox 53"/>
            <p:cNvSpPr/>
            <p:nvPr/>
          </p:nvSpPr>
          <p:spPr>
            <a:xfrm>
              <a:off x="3298680" y="3117240"/>
              <a:ext cx="106560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75" name="Group 33"/>
          <p:cNvGrpSpPr/>
          <p:nvPr/>
        </p:nvGrpSpPr>
        <p:grpSpPr>
          <a:xfrm>
            <a:off x="4495680" y="1162080"/>
            <a:ext cx="1287720" cy="2284560"/>
            <a:chOff x="4495680" y="1162080"/>
            <a:chExt cx="1287720" cy="2284560"/>
          </a:xfrm>
        </p:grpSpPr>
        <p:sp>
          <p:nvSpPr>
            <p:cNvPr id="276" name="Rectangle 48"/>
            <p:cNvSpPr/>
            <p:nvPr/>
          </p:nvSpPr>
          <p:spPr>
            <a:xfrm>
              <a:off x="4622400" y="2075040"/>
              <a:ext cx="1113120" cy="137160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28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7" name="Group 35"/>
            <p:cNvGrpSpPr/>
            <p:nvPr/>
          </p:nvGrpSpPr>
          <p:grpSpPr>
            <a:xfrm>
              <a:off x="4495680" y="1162080"/>
              <a:ext cx="1287720" cy="1312200"/>
              <a:chOff x="4495680" y="1162080"/>
              <a:chExt cx="1287720" cy="1312200"/>
            </a:xfrm>
          </p:grpSpPr>
          <p:grpSp>
            <p:nvGrpSpPr>
              <p:cNvPr id="278" name="Group 36"/>
              <p:cNvGrpSpPr/>
              <p:nvPr/>
            </p:nvGrpSpPr>
            <p:grpSpPr>
              <a:xfrm>
                <a:off x="4495680" y="1162080"/>
                <a:ext cx="1287720" cy="1312200"/>
                <a:chOff x="4495680" y="1162080"/>
                <a:chExt cx="1287720" cy="1312200"/>
              </a:xfrm>
            </p:grpSpPr>
            <p:grpSp>
              <p:nvGrpSpPr>
                <p:cNvPr id="279" name="Freeform 24"/>
                <p:cNvGrpSpPr/>
                <p:nvPr/>
              </p:nvGrpSpPr>
              <p:grpSpPr>
                <a:xfrm>
                  <a:off x="4498560" y="1194480"/>
                  <a:ext cx="1262160" cy="1279800"/>
                  <a:chOff x="4498560" y="1194480"/>
                  <a:chExt cx="1262160" cy="1279800"/>
                </a:xfrm>
              </p:grpSpPr>
              <p:pic>
                <p:nvPicPr>
                  <p:cNvPr id="280" name="Freeform 24" descr=""/>
                  <p:cNvPicPr/>
                  <p:nvPr/>
                </p:nvPicPr>
                <p:blipFill>
                  <a:blip r:embed="rId3"/>
                  <a:stretch/>
                </p:blipFill>
                <p:spPr>
                  <a:xfrm>
                    <a:off x="4501440" y="1195200"/>
                    <a:ext cx="1257480" cy="1279080"/>
                  </a:xfrm>
                  <a:prstGeom prst="rect">
                    <a:avLst/>
                  </a:prstGeom>
                  <a:ln w="0">
                    <a:noFill/>
                  </a:ln>
                </p:spPr>
              </p:pic>
              <p:sp>
                <p:nvSpPr>
                  <p:cNvPr id="281" name=""/>
                  <p:cNvSpPr/>
                  <p:nvPr/>
                </p:nvSpPr>
                <p:spPr>
                  <a:xfrm>
                    <a:off x="4498560" y="1194480"/>
                    <a:ext cx="1262160" cy="127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2" name="Freeform 4"/>
                <p:cNvSpPr/>
                <p:nvPr/>
              </p:nvSpPr>
              <p:spPr>
                <a:xfrm>
                  <a:off x="4495680" y="1162080"/>
                  <a:ext cx="1287720" cy="1245600"/>
                </a:xfrm>
                <a:custGeom>
                  <a:avLst/>
                  <a:gdLst/>
                  <a:ahLst/>
                  <a:rect l="l" t="t" r="r" b="b"/>
                  <a:pathLst>
                    <a:path w="1880052" h="1818466">
                      <a:moveTo>
                        <a:pt x="0" y="206682"/>
                      </a:moveTo>
                      <a:cubicBezTo>
                        <a:pt x="248340" y="113342"/>
                        <a:pt x="1296702" y="25002"/>
                        <a:pt x="1560043" y="6667"/>
                      </a:cubicBezTo>
                      <a:cubicBezTo>
                        <a:pt x="1580043" y="86673"/>
                        <a:pt x="1565044" y="0"/>
                        <a:pt x="1580044" y="96674"/>
                      </a:cubicBezTo>
                      <a:cubicBezTo>
                        <a:pt x="1595044" y="193348"/>
                        <a:pt x="1621711" y="418363"/>
                        <a:pt x="1650045" y="586709"/>
                      </a:cubicBezTo>
                      <a:cubicBezTo>
                        <a:pt x="1678379" y="755055"/>
                        <a:pt x="1711714" y="943402"/>
                        <a:pt x="1750048" y="1106747"/>
                      </a:cubicBezTo>
                      <a:cubicBezTo>
                        <a:pt x="1788382" y="1270092"/>
                        <a:pt x="1876718" y="1485108"/>
                        <a:pt x="1880052" y="1566781"/>
                      </a:cubicBezTo>
                      <a:cubicBezTo>
                        <a:pt x="1830050" y="1576338"/>
                        <a:pt x="1863385" y="1580115"/>
                        <a:pt x="1770049" y="1596783"/>
                      </a:cubicBezTo>
                      <a:cubicBezTo>
                        <a:pt x="1676713" y="1613451"/>
                        <a:pt x="1320036" y="1666788"/>
                        <a:pt x="1320036" y="1666788"/>
                      </a:cubicBezTo>
                      <a:cubicBezTo>
                        <a:pt x="1086696" y="1701790"/>
                        <a:pt x="550016" y="1818466"/>
                        <a:pt x="370011" y="1806798"/>
                      </a:cubicBezTo>
                      <a:cubicBezTo>
                        <a:pt x="290113" y="1691790"/>
                        <a:pt x="275008" y="1706791"/>
                        <a:pt x="240007" y="1596783"/>
                      </a:cubicBezTo>
                      <a:cubicBezTo>
                        <a:pt x="205006" y="1486775"/>
                        <a:pt x="188339" y="1318429"/>
                        <a:pt x="160005" y="1146750"/>
                      </a:cubicBezTo>
                      <a:cubicBezTo>
                        <a:pt x="131671" y="975071"/>
                        <a:pt x="95003" y="723386"/>
                        <a:pt x="70002" y="566708"/>
                      </a:cubicBezTo>
                      <a:cubicBezTo>
                        <a:pt x="45001" y="410030"/>
                        <a:pt x="30001" y="389417"/>
                        <a:pt x="0" y="206682"/>
                      </a:cubicBezTo>
                      <a:close/>
                    </a:path>
                  </a:pathLst>
                </a:custGeom>
                <a:solidFill>
                  <a:srgbClr val="558e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83" name="TextBox 21"/>
              <p:cNvSpPr/>
              <p:nvPr/>
            </p:nvSpPr>
            <p:spPr>
              <a:xfrm>
                <a:off x="4611960" y="130716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4</a:t>
                </a:r>
                <a:endParaRPr b="0" lang="en-US" sz="1200" spc="-1" strike="noStrike">
                  <a:solidFill>
                    <a:srgbClr val="000000"/>
                  </a:solidFill>
                  <a:latin typeface="Calibri"/>
                </a:endParaRPr>
              </a:p>
            </p:txBody>
          </p:sp>
          <p:sp>
            <p:nvSpPr>
              <p:cNvPr id="284" name="Oval 22"/>
              <p:cNvSpPr/>
              <p:nvPr/>
            </p:nvSpPr>
            <p:spPr>
              <a:xfrm rot="2920800">
                <a:off x="4611240" y="1346040"/>
                <a:ext cx="242640" cy="223920"/>
              </a:xfrm>
              <a:prstGeom prst="ellipse">
                <a:avLst/>
              </a:prstGeom>
              <a:noFill/>
              <a:ln w="255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TextBox 23"/>
              <p:cNvSpPr/>
              <p:nvPr/>
            </p:nvSpPr>
            <p:spPr>
              <a:xfrm rot="20984400">
                <a:off x="4599000" y="1707480"/>
                <a:ext cx="1093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MISSIONARY SELLING</a:t>
                </a:r>
                <a:endParaRPr b="0" lang="en-US" sz="1200" spc="-1" strike="noStrike">
                  <a:solidFill>
                    <a:srgbClr val="000000"/>
                  </a:solidFill>
                  <a:latin typeface="Calibri"/>
                </a:endParaRPr>
              </a:p>
            </p:txBody>
          </p:sp>
        </p:grpSp>
        <p:sp>
          <p:nvSpPr>
            <p:cNvPr id="286" name="TextBox 54"/>
            <p:cNvSpPr/>
            <p:nvPr/>
          </p:nvSpPr>
          <p:spPr>
            <a:xfrm>
              <a:off x="4657680" y="2431440"/>
              <a:ext cx="106560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87" name="Group 43"/>
          <p:cNvGrpSpPr/>
          <p:nvPr/>
        </p:nvGrpSpPr>
        <p:grpSpPr>
          <a:xfrm>
            <a:off x="5947560" y="1225080"/>
            <a:ext cx="1257120" cy="2467440"/>
            <a:chOff x="5947560" y="1225080"/>
            <a:chExt cx="1257120" cy="2467440"/>
          </a:xfrm>
        </p:grpSpPr>
        <p:sp>
          <p:nvSpPr>
            <p:cNvPr id="288" name="Rectangle 49"/>
            <p:cNvSpPr/>
            <p:nvPr/>
          </p:nvSpPr>
          <p:spPr>
            <a:xfrm>
              <a:off x="5956200" y="2340000"/>
              <a:ext cx="1113120" cy="135252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28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9" name="Group 45"/>
            <p:cNvGrpSpPr/>
            <p:nvPr/>
          </p:nvGrpSpPr>
          <p:grpSpPr>
            <a:xfrm>
              <a:off x="5947560" y="1225080"/>
              <a:ext cx="1257120" cy="1258560"/>
              <a:chOff x="5947560" y="1225080"/>
              <a:chExt cx="1257120" cy="1258560"/>
            </a:xfrm>
          </p:grpSpPr>
          <p:sp>
            <p:nvSpPr>
              <p:cNvPr id="290" name="Rectangle 27"/>
              <p:cNvSpPr/>
              <p:nvPr/>
            </p:nvSpPr>
            <p:spPr>
              <a:xfrm rot="344400">
                <a:off x="6001920" y="1279440"/>
                <a:ext cx="1148040" cy="1149480"/>
              </a:xfrm>
              <a:prstGeom prst="rect">
                <a:avLst/>
              </a:prstGeom>
              <a:gradFill rotWithShape="0">
                <a:gsLst>
                  <a:gs pos="0">
                    <a:srgbClr val="e46c0a"/>
                  </a:gs>
                  <a:gs pos="100000">
                    <a:srgbClr val="f79646"/>
                  </a:gs>
                </a:gsLst>
                <a:lin ang="5058000"/>
              </a:gradFill>
              <a:ln w="0">
                <a:noFill/>
              </a:ln>
              <a:effectLst>
                <a:outerShdw dist="63589" dir="5692283" blurRad="0" rotWithShape="0">
                  <a:srgbClr val="808080">
                    <a:alpha val="36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TextBox 28"/>
              <p:cNvSpPr/>
              <p:nvPr/>
            </p:nvSpPr>
            <p:spPr>
              <a:xfrm>
                <a:off x="6093360" y="127944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5</a:t>
                </a:r>
                <a:endParaRPr b="0" lang="en-US" sz="1200" spc="-1" strike="noStrike">
                  <a:solidFill>
                    <a:srgbClr val="000000"/>
                  </a:solidFill>
                  <a:latin typeface="Calibri"/>
                </a:endParaRPr>
              </a:p>
            </p:txBody>
          </p:sp>
          <p:sp>
            <p:nvSpPr>
              <p:cNvPr id="292" name="Freeform 29"/>
              <p:cNvSpPr/>
              <p:nvPr/>
            </p:nvSpPr>
            <p:spPr>
              <a:xfrm>
                <a:off x="6089040" y="1319040"/>
                <a:ext cx="237960" cy="242640"/>
              </a:xfrm>
              <a:custGeom>
                <a:avLst/>
                <a:gdLst/>
                <a:ahLst/>
                <a:rect l="l" t="t" r="r" b="b"/>
                <a:pathLst>
                  <a:path w="346676" h="355026">
                    <a:moveTo>
                      <a:pt x="306675" y="71672"/>
                    </a:moveTo>
                    <a:cubicBezTo>
                      <a:pt x="286675" y="43337"/>
                      <a:pt x="260007" y="18335"/>
                      <a:pt x="216673" y="11668"/>
                    </a:cubicBezTo>
                    <a:cubicBezTo>
                      <a:pt x="173339" y="5001"/>
                      <a:pt x="81669" y="0"/>
                      <a:pt x="46668" y="31669"/>
                    </a:cubicBezTo>
                    <a:cubicBezTo>
                      <a:pt x="11667" y="63338"/>
                      <a:pt x="0" y="153345"/>
                      <a:pt x="6667" y="201682"/>
                    </a:cubicBezTo>
                    <a:cubicBezTo>
                      <a:pt x="13334" y="250019"/>
                      <a:pt x="43335" y="300023"/>
                      <a:pt x="86669" y="321691"/>
                    </a:cubicBezTo>
                    <a:cubicBezTo>
                      <a:pt x="130004" y="343359"/>
                      <a:pt x="225006" y="355026"/>
                      <a:pt x="266674" y="331691"/>
                    </a:cubicBezTo>
                    <a:cubicBezTo>
                      <a:pt x="308342" y="308356"/>
                      <a:pt x="326676" y="225016"/>
                      <a:pt x="336676" y="181680"/>
                    </a:cubicBezTo>
                    <a:cubicBezTo>
                      <a:pt x="346676" y="138344"/>
                      <a:pt x="326675" y="100007"/>
                      <a:pt x="306675" y="71672"/>
                    </a:cubicBezTo>
                    <a:close/>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3" name="TextBox 30"/>
              <p:cNvSpPr/>
              <p:nvPr/>
            </p:nvSpPr>
            <p:spPr>
              <a:xfrm rot="365400">
                <a:off x="6008040" y="1815840"/>
                <a:ext cx="1093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TECHNICAL SELLING</a:t>
                </a:r>
                <a:endParaRPr b="0" lang="en-US" sz="1200" spc="-1" strike="noStrike">
                  <a:solidFill>
                    <a:srgbClr val="000000"/>
                  </a:solidFill>
                  <a:latin typeface="Calibri"/>
                </a:endParaRPr>
              </a:p>
            </p:txBody>
          </p:sp>
        </p:grpSp>
        <p:sp>
          <p:nvSpPr>
            <p:cNvPr id="294" name="TextBox 55"/>
            <p:cNvSpPr/>
            <p:nvPr/>
          </p:nvSpPr>
          <p:spPr>
            <a:xfrm>
              <a:off x="5981400" y="2562120"/>
              <a:ext cx="106704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95" name="Group 51"/>
          <p:cNvGrpSpPr/>
          <p:nvPr/>
        </p:nvGrpSpPr>
        <p:grpSpPr>
          <a:xfrm>
            <a:off x="7229160" y="2303640"/>
            <a:ext cx="1329480" cy="2466720"/>
            <a:chOff x="7229160" y="2303640"/>
            <a:chExt cx="1329480" cy="2466720"/>
          </a:xfrm>
        </p:grpSpPr>
        <p:sp>
          <p:nvSpPr>
            <p:cNvPr id="296" name="Rectangle 50"/>
            <p:cNvSpPr/>
            <p:nvPr/>
          </p:nvSpPr>
          <p:spPr>
            <a:xfrm>
              <a:off x="7289640" y="3202200"/>
              <a:ext cx="1113120" cy="156816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28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7" name="Group 53"/>
            <p:cNvGrpSpPr/>
            <p:nvPr/>
          </p:nvGrpSpPr>
          <p:grpSpPr>
            <a:xfrm>
              <a:off x="7229160" y="2303640"/>
              <a:ext cx="1329480" cy="1391760"/>
              <a:chOff x="7229160" y="2303640"/>
              <a:chExt cx="1329480" cy="1391760"/>
            </a:xfrm>
          </p:grpSpPr>
          <p:grpSp>
            <p:nvGrpSpPr>
              <p:cNvPr id="298" name="Group 54"/>
              <p:cNvGrpSpPr/>
              <p:nvPr/>
            </p:nvGrpSpPr>
            <p:grpSpPr>
              <a:xfrm>
                <a:off x="7229160" y="2303640"/>
                <a:ext cx="1329480" cy="1391760"/>
                <a:chOff x="7229160" y="2303640"/>
                <a:chExt cx="1329480" cy="1391760"/>
              </a:xfrm>
            </p:grpSpPr>
            <p:grpSp>
              <p:nvGrpSpPr>
                <p:cNvPr id="299" name="Freeform 37"/>
                <p:cNvGrpSpPr/>
                <p:nvPr/>
              </p:nvGrpSpPr>
              <p:grpSpPr>
                <a:xfrm>
                  <a:off x="7248600" y="2345760"/>
                  <a:ext cx="1310040" cy="1349640"/>
                  <a:chOff x="7248600" y="2345760"/>
                  <a:chExt cx="1310040" cy="1349640"/>
                </a:xfrm>
              </p:grpSpPr>
              <p:pic>
                <p:nvPicPr>
                  <p:cNvPr id="300" name="Freeform 37" descr=""/>
                  <p:cNvPicPr/>
                  <p:nvPr/>
                </p:nvPicPr>
                <p:blipFill>
                  <a:blip r:embed="rId4"/>
                  <a:stretch/>
                </p:blipFill>
                <p:spPr>
                  <a:xfrm>
                    <a:off x="7337520" y="2432880"/>
                    <a:ext cx="1119240" cy="1164960"/>
                  </a:xfrm>
                  <a:prstGeom prst="rect">
                    <a:avLst/>
                  </a:prstGeom>
                  <a:ln w="0">
                    <a:noFill/>
                  </a:ln>
                </p:spPr>
              </p:pic>
              <p:sp>
                <p:nvSpPr>
                  <p:cNvPr id="301" name=""/>
                  <p:cNvSpPr/>
                  <p:nvPr/>
                </p:nvSpPr>
                <p:spPr>
                  <a:xfrm rot="21277200">
                    <a:off x="7304040" y="2399040"/>
                    <a:ext cx="1198800" cy="124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2" name="Freeform 5"/>
                <p:cNvSpPr/>
                <p:nvPr/>
              </p:nvSpPr>
              <p:spPr>
                <a:xfrm flipH="1">
                  <a:off x="7228800" y="2303640"/>
                  <a:ext cx="1305000" cy="1289520"/>
                </a:xfrm>
                <a:custGeom>
                  <a:avLst/>
                  <a:gdLst/>
                  <a:ahLst/>
                  <a:rect l="l" t="t" r="r" b="b"/>
                  <a:pathLst>
                    <a:path w="1880052" h="1818466">
                      <a:moveTo>
                        <a:pt x="0" y="206682"/>
                      </a:moveTo>
                      <a:cubicBezTo>
                        <a:pt x="248340" y="113342"/>
                        <a:pt x="1296702" y="25002"/>
                        <a:pt x="1560043" y="6667"/>
                      </a:cubicBezTo>
                      <a:cubicBezTo>
                        <a:pt x="1580043" y="86673"/>
                        <a:pt x="1565044" y="0"/>
                        <a:pt x="1580044" y="96674"/>
                      </a:cubicBezTo>
                      <a:cubicBezTo>
                        <a:pt x="1595044" y="193348"/>
                        <a:pt x="1621711" y="418363"/>
                        <a:pt x="1650045" y="586709"/>
                      </a:cubicBezTo>
                      <a:cubicBezTo>
                        <a:pt x="1678379" y="755055"/>
                        <a:pt x="1711714" y="943402"/>
                        <a:pt x="1750048" y="1106747"/>
                      </a:cubicBezTo>
                      <a:cubicBezTo>
                        <a:pt x="1788382" y="1270092"/>
                        <a:pt x="1876718" y="1485108"/>
                        <a:pt x="1880052" y="1566781"/>
                      </a:cubicBezTo>
                      <a:cubicBezTo>
                        <a:pt x="1830050" y="1576338"/>
                        <a:pt x="1863385" y="1580115"/>
                        <a:pt x="1770049" y="1596783"/>
                      </a:cubicBezTo>
                      <a:cubicBezTo>
                        <a:pt x="1676713" y="1613451"/>
                        <a:pt x="1320036" y="1666788"/>
                        <a:pt x="1320036" y="1666788"/>
                      </a:cubicBezTo>
                      <a:cubicBezTo>
                        <a:pt x="1086696" y="1701790"/>
                        <a:pt x="550016" y="1818466"/>
                        <a:pt x="370011" y="1806798"/>
                      </a:cubicBezTo>
                      <a:cubicBezTo>
                        <a:pt x="290113" y="1691790"/>
                        <a:pt x="275008" y="1706791"/>
                        <a:pt x="240007" y="1596783"/>
                      </a:cubicBezTo>
                      <a:cubicBezTo>
                        <a:pt x="205006" y="1486775"/>
                        <a:pt x="188339" y="1318429"/>
                        <a:pt x="160005" y="1146750"/>
                      </a:cubicBezTo>
                      <a:cubicBezTo>
                        <a:pt x="131671" y="975071"/>
                        <a:pt x="95003" y="723386"/>
                        <a:pt x="70002" y="566708"/>
                      </a:cubicBezTo>
                      <a:cubicBezTo>
                        <a:pt x="45001" y="410030"/>
                        <a:pt x="30001" y="389417"/>
                        <a:pt x="0" y="206682"/>
                      </a:cubicBezTo>
                      <a:close/>
                    </a:path>
                  </a:pathLst>
                </a:custGeom>
                <a:gradFill rotWithShape="0">
                  <a:gsLst>
                    <a:gs pos="0">
                      <a:srgbClr val="223842"/>
                    </a:gs>
                    <a:gs pos="100000">
                      <a:srgbClr val="426676"/>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03" name="Group 57"/>
              <p:cNvGrpSpPr/>
              <p:nvPr/>
            </p:nvGrpSpPr>
            <p:grpSpPr>
              <a:xfrm>
                <a:off x="7484760" y="2386800"/>
                <a:ext cx="261360" cy="276480"/>
                <a:chOff x="7484760" y="2386800"/>
                <a:chExt cx="261360" cy="276480"/>
              </a:xfrm>
            </p:grpSpPr>
            <p:sp>
              <p:nvSpPr>
                <p:cNvPr id="304" name="TextBox 35"/>
                <p:cNvSpPr/>
                <p:nvPr/>
              </p:nvSpPr>
              <p:spPr>
                <a:xfrm>
                  <a:off x="7499520" y="238680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6</a:t>
                  </a:r>
                  <a:endParaRPr b="0" lang="en-US" sz="1200" spc="-1" strike="noStrike">
                    <a:solidFill>
                      <a:srgbClr val="000000"/>
                    </a:solidFill>
                    <a:latin typeface="Calibri"/>
                  </a:endParaRPr>
                </a:p>
              </p:txBody>
            </p:sp>
            <p:sp>
              <p:nvSpPr>
                <p:cNvPr id="305" name="Freeform 36"/>
                <p:cNvSpPr/>
                <p:nvPr/>
              </p:nvSpPr>
              <p:spPr>
                <a:xfrm>
                  <a:off x="7484760" y="2390760"/>
                  <a:ext cx="261360" cy="268200"/>
                </a:xfrm>
                <a:custGeom>
                  <a:avLst/>
                  <a:gdLst/>
                  <a:ahLst/>
                  <a:rect l="l" t="t" r="r" b="b"/>
                  <a:pathLst>
                    <a:path w="475014" h="483369">
                      <a:moveTo>
                        <a:pt x="263341" y="80006"/>
                      </a:moveTo>
                      <a:cubicBezTo>
                        <a:pt x="189172" y="90006"/>
                        <a:pt x="115004" y="100007"/>
                        <a:pt x="73336" y="140010"/>
                      </a:cubicBezTo>
                      <a:cubicBezTo>
                        <a:pt x="31668" y="180013"/>
                        <a:pt x="0" y="266686"/>
                        <a:pt x="13334" y="320023"/>
                      </a:cubicBezTo>
                      <a:cubicBezTo>
                        <a:pt x="26668" y="373360"/>
                        <a:pt x="86670" y="440033"/>
                        <a:pt x="153338" y="460034"/>
                      </a:cubicBezTo>
                      <a:cubicBezTo>
                        <a:pt x="220006" y="480035"/>
                        <a:pt x="361677" y="483369"/>
                        <a:pt x="413345" y="440032"/>
                      </a:cubicBezTo>
                      <a:cubicBezTo>
                        <a:pt x="465013" y="396696"/>
                        <a:pt x="475014" y="273354"/>
                        <a:pt x="463347" y="200015"/>
                      </a:cubicBezTo>
                      <a:cubicBezTo>
                        <a:pt x="451680" y="126676"/>
                        <a:pt x="397511" y="63338"/>
                        <a:pt x="343343" y="0"/>
                      </a:cubicBezTo>
                    </a:path>
                  </a:pathLst>
                </a:custGeom>
                <a:noFill/>
                <a:ln w="25560">
                  <a:solidFill>
                    <a:srgbClr val="f2f2f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06" name="TextBox 34"/>
              <p:cNvSpPr/>
              <p:nvPr/>
            </p:nvSpPr>
            <p:spPr>
              <a:xfrm rot="365400">
                <a:off x="7337880" y="2717280"/>
                <a:ext cx="1094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CREATIVE SELLING</a:t>
                </a:r>
                <a:endParaRPr b="0" lang="en-US" sz="1200" spc="-1" strike="noStrike">
                  <a:solidFill>
                    <a:srgbClr val="000000"/>
                  </a:solidFill>
                  <a:latin typeface="Calibri"/>
                </a:endParaRPr>
              </a:p>
            </p:txBody>
          </p:sp>
        </p:grpSp>
        <p:sp>
          <p:nvSpPr>
            <p:cNvPr id="307" name="TextBox 56"/>
            <p:cNvSpPr/>
            <p:nvPr/>
          </p:nvSpPr>
          <p:spPr>
            <a:xfrm>
              <a:off x="7331040" y="3575160"/>
              <a:ext cx="1065240" cy="1159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3T07:27:35Z</dcterms:created>
  <dc:creator>An</dc:creator>
  <dc:description/>
  <dc:language>en-US</dc:language>
  <cp:lastModifiedBy/>
  <dcterms:modified xsi:type="dcterms:W3CDTF">2015-07-11T14:30:28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