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864-89F4-4692-A4C8-EA0EF17C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7210-E2D3-4E5A-99A2-2598CCD1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223-3FB6-49CD-A679-CE12A511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A9C-E894-4839-BC10-87BFDD89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44F-B271-4F0C-A28F-39A9BBCF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7891-E89B-4C17-A80E-3448F877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472-71B0-416A-BF50-9ECB0B6A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CBB4-6518-432B-9E4D-7F2BF45F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5E30-77E6-430A-9F9B-B479CB25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7A51-A176-4068-87F4-D01FF4D0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99B0-85B8-47AB-A85B-5FA0CA8D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EC1C-ECE5-43E2-AC30-337BE7EB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59F1-FBE7-4835-9433-2821F0ADF91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7275-FFF1-4D9D-A35D-6816E8E406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iStock_000002456857Medium.jpg"/>
          <p:cNvPicPr/>
          <p:nvPr/>
        </p:nvPicPr>
        <p:blipFill>
          <a:blip r:embed="rId1"/>
          <a:srcRect l="0" t="0" r="0" b="-34"/>
          <a:stretch/>
        </p:blipFill>
        <p:spPr>
          <a:xfrm>
            <a:off x="0" y="-22320"/>
            <a:ext cx="9147240" cy="685476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0" y="765000"/>
            <a:ext cx="9144000" cy="4272120"/>
            <a:chOff x="0" y="765000"/>
            <a:chExt cx="9144000" cy="4272120"/>
          </a:xfrm>
        </p:grpSpPr>
        <p:pic>
          <p:nvPicPr>
            <p:cNvPr id="43" name="Rectangle 23" descr=""/>
            <p:cNvPicPr/>
            <p:nvPr/>
          </p:nvPicPr>
          <p:blipFill>
            <a:blip r:embed="rId2"/>
            <a:stretch/>
          </p:blipFill>
          <p:spPr>
            <a:xfrm>
              <a:off x="584280" y="4075920"/>
              <a:ext cx="7980480" cy="9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Rectangle 23" descr=""/>
            <p:cNvPicPr/>
            <p:nvPr/>
          </p:nvPicPr>
          <p:blipFill>
            <a:blip r:embed="rId3"/>
            <a:stretch/>
          </p:blipFill>
          <p:spPr>
            <a:xfrm>
              <a:off x="0" y="765000"/>
              <a:ext cx="9144000" cy="40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"/>
          <p:cNvSpPr/>
          <p:nvPr/>
        </p:nvSpPr>
        <p:spPr>
          <a:xfrm>
            <a:off x="2541960" y="5037120"/>
            <a:ext cx="4309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数字网络电子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背景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96EB-F319-441D-AF8D-7DF1138CC0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7-11T14:43:3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