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F9A-C6BA-41DC-BD45-EC25892F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997-346E-422D-B3C9-B69E1AFF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1E9-0170-4324-AA3A-80AD967F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6C1-29CE-41ED-BA03-0FEB72E5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59F0-8F03-43E8-980C-EA864C4A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2D98-3204-441B-A8D2-EB515B67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B106-3ECB-4890-BB00-1AE77EF3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5408-6722-4716-8F17-E7697BE5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03B5-ADFD-4987-8E2B-0A960FDF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3C98-BCB0-4C03-9AB8-22646198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4AF2-0CCD-4DD3-80CD-DB4F1114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65E-E61E-42AE-8516-6E66ED4E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25CA-73A2-4CB2-886D-588454ED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8B17-6EC9-45F5-8FED-AEC7B29A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5594-51F1-4A58-9862-6DB5D6BC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F7DD-29E5-4F60-8344-4D178DA9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5C2A-DA50-4718-8FAF-6B47EAA7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D26-039F-4ED3-8024-C77F19F1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E9F-C83D-4B77-A4CB-3F67E0FE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9A9-1FE1-49DD-ABFF-E91F6986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B59-E3B8-4329-A8E3-9DD3F2C3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F23-6C34-4BCC-ADCC-5118FA2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4EB-09A3-4857-887D-E94CD1F3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CCE-766F-4112-BF39-F7E216F2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6157-19CE-48B6-813D-0F6D7CA5DDF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6122-3256-4E8E-B57A-474ED05A479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三馆合一rs3"/>
          <p:cNvPicPr/>
          <p:nvPr/>
        </p:nvPicPr>
        <p:blipFill>
          <a:blip r:embed="rId1"/>
          <a:stretch/>
        </p:blipFill>
        <p:spPr>
          <a:xfrm>
            <a:off x="1547640" y="333360"/>
            <a:ext cx="5672160" cy="202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2000" y="5302080"/>
            <a:ext cx="460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59600" y="429264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书馆简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3360" y="549360"/>
            <a:ext cx="8540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Garamond"/>
                <a:ea typeface="隶书"/>
              </a:rPr>
              <a:t>三楼：设有图书借阅室、借阅办公室、采编办公室等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3" descr="3"/>
          <p:cNvPicPr/>
          <p:nvPr/>
        </p:nvPicPr>
        <p:blipFill>
          <a:blip r:embed="rId1"/>
          <a:stretch/>
        </p:blipFill>
        <p:spPr>
          <a:xfrm>
            <a:off x="1692360" y="1684440"/>
            <a:ext cx="5718240" cy="3386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4941360"/>
            <a:ext cx="84358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书借阅室约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40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设计藏书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册，阅览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6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，提供普通图书的阅览、借还服务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阅办公室约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编办公室约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7720" y="433440"/>
            <a:ext cx="4076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Garamond"/>
                <a:ea typeface="隶书"/>
              </a:rPr>
              <a:t>四楼：综合图书阅览区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7440" y="1773360"/>
            <a:ext cx="273996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综合图书阅览室约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设计藏书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7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册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阅览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提供普通图书的阅览、复印等服务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4"/>
          <p:cNvPicPr/>
          <p:nvPr/>
        </p:nvPicPr>
        <p:blipFill>
          <a:blip r:embed="rId1"/>
          <a:stretch/>
        </p:blipFill>
        <p:spPr>
          <a:xfrm>
            <a:off x="3540240" y="1622520"/>
            <a:ext cx="5046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3360" y="404280"/>
            <a:ext cx="821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Garamond"/>
                <a:ea typeface="隶书"/>
              </a:rPr>
              <a:t>五楼：设有地方文献阅览室、外文阅览室、女红阅览室、古籍阅览室、总机房和网络技术办公室等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方文献阅览室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2.5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设计藏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册，阅览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4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文阅览室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3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设计藏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6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册，阅览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红阅览室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6.8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设计藏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3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册，阅览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籍阅览室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6.6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设计藏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册，阅览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媒体放映室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.8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阅览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，提供大众性、娱乐性视听欣赏服务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5"/>
          <p:cNvPicPr/>
          <p:nvPr/>
        </p:nvPicPr>
        <p:blipFill>
          <a:blip r:embed="rId1"/>
          <a:stretch/>
        </p:blipFill>
        <p:spPr>
          <a:xfrm>
            <a:off x="4759200" y="1600200"/>
            <a:ext cx="3816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336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Garamond"/>
                <a:ea typeface="隶书"/>
              </a:rPr>
              <a:t>六楼：教育培训区，设有网络学习室、电脑培训室、培训教室和自修区等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络学习室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提供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3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电脑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像资料库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设计收藏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音像资料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脑培训室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提供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电脑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训教室四间，每间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提供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座位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1"/>
          <a:stretch/>
        </p:blipFill>
        <p:spPr>
          <a:xfrm>
            <a:off x="4778280" y="1600200"/>
            <a:ext cx="3776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336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Garamond"/>
                <a:ea typeface="隶书"/>
              </a:rPr>
              <a:t>七楼：设有专家研究室、信息咨询室、读者活动室、小报告厅、接待室、休息室、图书馆行政办公室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家研究室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，每间约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咨询室约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者活动室约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报告厅约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待室约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息室约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书馆行政办公室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，每间约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7"/>
          <p:cNvPicPr/>
          <p:nvPr/>
        </p:nvPicPr>
        <p:blipFill>
          <a:blip r:embed="rId1"/>
          <a:stretch/>
        </p:blipFill>
        <p:spPr>
          <a:xfrm>
            <a:off x="4670280" y="1600200"/>
            <a:ext cx="3994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336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Garamond"/>
                <a:ea typeface="隶书"/>
              </a:rPr>
              <a:t>八楼：设有大会议室、小会议室、大报告厅、休息室、综合行政办公室等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会议室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会议室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，每间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报告厅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息室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×2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综合行政办公室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，每间约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不等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8"/>
          <p:cNvPicPr/>
          <p:nvPr/>
        </p:nvPicPr>
        <p:blipFill>
          <a:blip r:embed="rId1"/>
          <a:stretch/>
        </p:blipFill>
        <p:spPr>
          <a:xfrm>
            <a:off x="4707000" y="1600200"/>
            <a:ext cx="3921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100" spc="-1" strike="noStrike">
                <a:solidFill>
                  <a:srgbClr val="000000"/>
                </a:solidFill>
                <a:latin typeface="隶书"/>
                <a:ea typeface="隶书"/>
              </a:rPr>
              <a:t>、读者流（文献借阅）设计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3" descr="j0186348"/>
          <p:cNvPicPr/>
          <p:nvPr/>
        </p:nvPicPr>
        <p:blipFill>
          <a:blip r:embed="rId1"/>
          <a:stretch/>
        </p:blipFill>
        <p:spPr>
          <a:xfrm>
            <a:off x="528480" y="2952720"/>
            <a:ext cx="903600" cy="12715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4"/>
          <p:cNvSpPr/>
          <p:nvPr/>
        </p:nvSpPr>
        <p:spPr>
          <a:xfrm>
            <a:off x="2050920" y="3213000"/>
            <a:ext cx="1225800" cy="86544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否读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364000" y="1268280"/>
            <a:ext cx="576360" cy="4608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946920" y="1771560"/>
            <a:ext cx="2197080" cy="43200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楼专题室：寄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946920" y="2419200"/>
            <a:ext cx="2197080" cy="43200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楼阅览室：寄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6946920" y="4506840"/>
            <a:ext cx="1297080" cy="43200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楼借阅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6946920" y="5156280"/>
            <a:ext cx="129708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楼少儿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948360" y="3141720"/>
            <a:ext cx="219564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楼报刊室：寄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395280" y="5084640"/>
            <a:ext cx="1152360" cy="43200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服务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5506920" y="4724280"/>
            <a:ext cx="1297080" cy="1225800"/>
          </a:xfrm>
          <a:custGeom>
            <a:avLst/>
            <a:gdLst>
              <a:gd name="textAreaLeft" fmla="*/ 828720 w 1297080"/>
              <a:gd name="textAreaRight" fmla="*/ 1297440 w 129708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5724360" y="1844640"/>
            <a:ext cx="1078200" cy="36036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门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防盗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5724360" y="2421000"/>
            <a:ext cx="1078200" cy="36036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门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防盗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8317080" y="4651200"/>
            <a:ext cx="215640" cy="12258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6875640" y="1125360"/>
            <a:ext cx="1296720" cy="43200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楼网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7"/>
          <p:cNvSpPr/>
          <p:nvPr/>
        </p:nvSpPr>
        <p:spPr>
          <a:xfrm>
            <a:off x="6227640" y="1125360"/>
            <a:ext cx="574920" cy="3607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门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8"/>
          <p:cNvSpPr/>
          <p:nvPr/>
        </p:nvSpPr>
        <p:spPr>
          <a:xfrm>
            <a:off x="6946920" y="3875040"/>
            <a:ext cx="1297080" cy="43200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9"/>
          <p:cNvSpPr/>
          <p:nvPr/>
        </p:nvSpPr>
        <p:spPr>
          <a:xfrm>
            <a:off x="6946920" y="5734080"/>
            <a:ext cx="129708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七楼、八楼报告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0"/>
          <p:cNvSpPr/>
          <p:nvPr/>
        </p:nvSpPr>
        <p:spPr>
          <a:xfrm>
            <a:off x="6229440" y="3801960"/>
            <a:ext cx="5032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1"/>
          <p:cNvSpPr/>
          <p:nvPr/>
        </p:nvSpPr>
        <p:spPr>
          <a:xfrm rot="10117800">
            <a:off x="8541720" y="3714480"/>
            <a:ext cx="352440" cy="1657440"/>
          </a:xfrm>
          <a:custGeom>
            <a:avLst/>
            <a:gdLst>
              <a:gd name="textAreaLeft" fmla="*/ 47160 w 352440"/>
              <a:gd name="textAreaRight" fmla="*/ 305280 w 352440"/>
              <a:gd name="textAreaTop" fmla="*/ 289800 h 1657440"/>
              <a:gd name="textAreaBottom" fmla="*/ 120168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借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2"/>
          <p:cNvSpPr/>
          <p:nvPr/>
        </p:nvSpPr>
        <p:spPr>
          <a:xfrm>
            <a:off x="3995640" y="3213000"/>
            <a:ext cx="720720" cy="259236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3"/>
          <p:cNvSpPr/>
          <p:nvPr/>
        </p:nvSpPr>
        <p:spPr>
          <a:xfrm>
            <a:off x="1476360" y="3357720"/>
            <a:ext cx="431640" cy="502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4"/>
          <p:cNvSpPr/>
          <p:nvPr/>
        </p:nvSpPr>
        <p:spPr>
          <a:xfrm>
            <a:off x="6227640" y="3141720"/>
            <a:ext cx="574920" cy="36036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门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5"/>
          <p:cNvSpPr/>
          <p:nvPr/>
        </p:nvSpPr>
        <p:spPr>
          <a:xfrm>
            <a:off x="1908000" y="4437000"/>
            <a:ext cx="1368720" cy="1656000"/>
          </a:xfrm>
          <a:custGeom>
            <a:avLst/>
            <a:gdLst>
              <a:gd name="textAreaLeft" fmla="*/ 342000 w 1368720"/>
              <a:gd name="textAreaRight" fmla="*/ 1026720 w 136872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400"/>
                </a:lnTo>
                <a:lnTo>
                  <a:pt x="21600" y="10800"/>
                </a:lnTo>
                <a:lnTo>
                  <a:pt x="18900" y="162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200"/>
                </a:lnTo>
                <a:lnTo>
                  <a:pt x="0" y="10800"/>
                </a:lnTo>
                <a:lnTo>
                  <a:pt x="2700" y="54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"/>
          <p:cNvSpPr/>
          <p:nvPr/>
        </p:nvSpPr>
        <p:spPr>
          <a:xfrm>
            <a:off x="684360" y="4365720"/>
            <a:ext cx="502920" cy="5032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7"/>
          <p:cNvSpPr/>
          <p:nvPr/>
        </p:nvSpPr>
        <p:spPr>
          <a:xfrm>
            <a:off x="3419640" y="3357720"/>
            <a:ext cx="1800000" cy="502920"/>
          </a:xfrm>
          <a:prstGeom prst="rightArrow">
            <a:avLst>
              <a:gd name="adj1" fmla="val 50000"/>
              <a:gd name="adj2" fmla="val 8947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8"/>
          <p:cNvSpPr/>
          <p:nvPr/>
        </p:nvSpPr>
        <p:spPr>
          <a:xfrm>
            <a:off x="3419640" y="5013360"/>
            <a:ext cx="1871640" cy="503280"/>
          </a:xfrm>
          <a:prstGeom prst="rightArrow">
            <a:avLst>
              <a:gd name="adj1" fmla="val 50000"/>
              <a:gd name="adj2" fmla="val 92972"/>
            </a:avLst>
          </a:prstGeom>
          <a:solidFill>
            <a:srgbClr val="cc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1" lang="zh-CN" sz="3100" spc="-1" strike="noStrike">
                <a:solidFill>
                  <a:srgbClr val="000000"/>
                </a:solidFill>
                <a:latin typeface="隶书"/>
                <a:ea typeface="隶书"/>
              </a:rPr>
              <a:t>、读者利用数字图书馆流程设计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Picture 3" descr="j0186348"/>
          <p:cNvPicPr/>
          <p:nvPr/>
        </p:nvPicPr>
        <p:blipFill>
          <a:blip r:embed="rId1"/>
          <a:stretch/>
        </p:blipFill>
        <p:spPr>
          <a:xfrm>
            <a:off x="468360" y="4224240"/>
            <a:ext cx="820800" cy="11541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/>
          <p:cNvSpPr/>
          <p:nvPr/>
        </p:nvSpPr>
        <p:spPr>
          <a:xfrm>
            <a:off x="1835280" y="4437000"/>
            <a:ext cx="1152360" cy="79236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否读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3059280" y="4508640"/>
            <a:ext cx="576000" cy="57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6227640" y="3357720"/>
            <a:ext cx="576360" cy="2879640"/>
          </a:xfrm>
          <a:custGeom>
            <a:avLst/>
            <a:gdLst>
              <a:gd name="textAreaLeft" fmla="*/ 368280 w 576360"/>
              <a:gd name="textAreaRight" fmla="*/ 576720 w 576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7020000" y="3716280"/>
            <a:ext cx="1366920" cy="43200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楼专题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7020000" y="4292640"/>
            <a:ext cx="129708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楼阅览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7020000" y="4941720"/>
            <a:ext cx="1297080" cy="43200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楼借阅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7020000" y="6093000"/>
            <a:ext cx="129708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楼报刊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4068720" y="2421000"/>
            <a:ext cx="100800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服务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7020000" y="3068640"/>
            <a:ext cx="129708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楼网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2124000" y="2924280"/>
            <a:ext cx="576360" cy="1368360"/>
          </a:xfrm>
          <a:prstGeom prst="upArrow">
            <a:avLst>
              <a:gd name="adj1" fmla="val 50000"/>
              <a:gd name="adj2" fmla="val 5935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1332000" y="458136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3708360" y="4149720"/>
            <a:ext cx="1798560" cy="129528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否自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便携式电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5651640" y="4508640"/>
            <a:ext cx="504720" cy="57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7236000" y="1268280"/>
            <a:ext cx="1296720" cy="792360"/>
          </a:xfrm>
          <a:prstGeom prst="cloudCallout">
            <a:avLst>
              <a:gd name="adj1" fmla="val -17319"/>
              <a:gd name="adj2" fmla="val 3096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互联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18"/>
          <p:cNvCxnSpPr>
            <a:stCxn id="171" idx="0"/>
            <a:endCxn id="164" idx="3"/>
          </p:cNvCxnSpPr>
          <p:nvPr/>
        </p:nvCxnSpPr>
        <p:spPr>
          <a:xfrm flipH="1">
            <a:off x="8316360" y="1665360"/>
            <a:ext cx="214920" cy="4644000"/>
          </a:xfrm>
          <a:prstGeom prst="bentConnector3">
            <a:avLst>
              <a:gd name="adj1" fmla="val -1065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AutoShape 19"/>
          <p:cNvSpPr/>
          <p:nvPr/>
        </p:nvSpPr>
        <p:spPr>
          <a:xfrm>
            <a:off x="7020000" y="2421000"/>
            <a:ext cx="122400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线上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5364000" y="2492280"/>
            <a:ext cx="1441440" cy="289080"/>
          </a:xfrm>
          <a:prstGeom prst="rightArrow">
            <a:avLst>
              <a:gd name="adj1" fmla="val 50000"/>
              <a:gd name="adj2" fmla="val 12465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5796000" y="1484280"/>
            <a:ext cx="1297080" cy="792360"/>
          </a:xfrm>
          <a:prstGeom prst="wedgeRoundRectCallout">
            <a:avLst>
              <a:gd name="adj1" fmla="val -121847"/>
              <a:gd name="adj2" fmla="val 79458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凭读者证取密码上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2"/>
          <p:cNvSpPr/>
          <p:nvPr/>
        </p:nvSpPr>
        <p:spPr>
          <a:xfrm rot="10800000">
            <a:off x="685800" y="2420640"/>
            <a:ext cx="790560" cy="1655640"/>
          </a:xfrm>
          <a:custGeom>
            <a:avLst/>
            <a:gdLst>
              <a:gd name="textAreaLeft" fmla="*/ 0 w 790560"/>
              <a:gd name="textAreaRight" fmla="*/ 677880 w 790560"/>
              <a:gd name="textAreaTop" fmla="*/ 110376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3"/>
          <p:cNvSpPr/>
          <p:nvPr/>
        </p:nvSpPr>
        <p:spPr>
          <a:xfrm>
            <a:off x="4284720" y="2924280"/>
            <a:ext cx="576360" cy="1081080"/>
          </a:xfrm>
          <a:prstGeom prst="upArrow">
            <a:avLst>
              <a:gd name="adj1" fmla="val 50000"/>
              <a:gd name="adj2" fmla="val 4689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AutoShape 24"/>
          <p:cNvCxnSpPr>
            <a:stCxn id="173" idx="3"/>
          </p:cNvCxnSpPr>
          <p:nvPr/>
        </p:nvCxnSpPr>
        <p:spPr>
          <a:xfrm>
            <a:off x="8244000" y="263664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AutoShape 25"/>
          <p:cNvCxnSpPr>
            <a:stCxn id="166" idx="3"/>
          </p:cNvCxnSpPr>
          <p:nvPr/>
        </p:nvCxnSpPr>
        <p:spPr>
          <a:xfrm>
            <a:off x="8316720" y="3284640"/>
            <a:ext cx="432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AutoShape 26"/>
          <p:cNvCxnSpPr>
            <a:stCxn id="161" idx="3"/>
          </p:cNvCxnSpPr>
          <p:nvPr/>
        </p:nvCxnSpPr>
        <p:spPr>
          <a:xfrm>
            <a:off x="8386560" y="3932280"/>
            <a:ext cx="36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AutoShape 27"/>
          <p:cNvCxnSpPr>
            <a:stCxn id="162" idx="3"/>
          </p:cNvCxnSpPr>
          <p:nvPr/>
        </p:nvCxnSpPr>
        <p:spPr>
          <a:xfrm>
            <a:off x="8316720" y="4508640"/>
            <a:ext cx="4323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AutoShape 28"/>
          <p:cNvCxnSpPr>
            <a:stCxn id="163" idx="3"/>
          </p:cNvCxnSpPr>
          <p:nvPr/>
        </p:nvCxnSpPr>
        <p:spPr>
          <a:xfrm>
            <a:off x="8316720" y="5157360"/>
            <a:ext cx="432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AutoShape 29"/>
          <p:cNvSpPr/>
          <p:nvPr/>
        </p:nvSpPr>
        <p:spPr>
          <a:xfrm>
            <a:off x="7020000" y="5516640"/>
            <a:ext cx="129708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楼少儿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30"/>
          <p:cNvCxnSpPr>
            <a:stCxn id="183" idx="3"/>
          </p:cNvCxnSpPr>
          <p:nvPr/>
        </p:nvCxnSpPr>
        <p:spPr>
          <a:xfrm>
            <a:off x="8316720" y="5732640"/>
            <a:ext cx="432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AutoShape 31"/>
          <p:cNvSpPr/>
          <p:nvPr/>
        </p:nvSpPr>
        <p:spPr>
          <a:xfrm>
            <a:off x="1908000" y="2421000"/>
            <a:ext cx="100836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服务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E4A-9BF9-41BC-AAC6-8A17A6C426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336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Garamond"/>
                <a:ea typeface="隶书"/>
              </a:rPr>
              <a:t>14</a:t>
            </a:r>
            <a:r>
              <a:rPr b="1" lang="zh-CN" sz="4200" spc="-1" strike="noStrike">
                <a:solidFill>
                  <a:srgbClr val="000000"/>
                </a:solidFill>
                <a:latin typeface="Garamond"/>
                <a:ea typeface="隶书"/>
              </a:rPr>
              <a:t>、书流设计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826920" y="3645000"/>
            <a:ext cx="936720" cy="43812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5291280" y="414972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7596360" y="2133720"/>
            <a:ext cx="129672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楼采编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2914560" y="4724280"/>
            <a:ext cx="1295640" cy="43200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楼出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5722920" y="2703600"/>
            <a:ext cx="129708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楼专题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5722920" y="3351240"/>
            <a:ext cx="129708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楼阅览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5722920" y="3998880"/>
            <a:ext cx="1297080" cy="43200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楼借阅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5722920" y="4726080"/>
            <a:ext cx="1297080" cy="4316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楼少儿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MCHH00892_0000[1]"/>
          <p:cNvPicPr/>
          <p:nvPr/>
        </p:nvPicPr>
        <p:blipFill>
          <a:blip r:embed="rId1"/>
          <a:stretch/>
        </p:blipFill>
        <p:spPr>
          <a:xfrm>
            <a:off x="1908000" y="3213000"/>
            <a:ext cx="1151280" cy="1047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2"/>
          <p:cNvSpPr/>
          <p:nvPr/>
        </p:nvSpPr>
        <p:spPr>
          <a:xfrm rot="5400000">
            <a:off x="1474560" y="3860640"/>
            <a:ext cx="1008360" cy="172872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3"/>
          <p:cNvSpPr/>
          <p:nvPr/>
        </p:nvSpPr>
        <p:spPr>
          <a:xfrm>
            <a:off x="4427640" y="4076640"/>
            <a:ext cx="720720" cy="1008000"/>
          </a:xfrm>
          <a:prstGeom prst="rightArrowCallout">
            <a:avLst>
              <a:gd name="adj1" fmla="val 34968"/>
              <a:gd name="adj2" fmla="val 34965"/>
              <a:gd name="adj3" fmla="val 16667"/>
              <a:gd name="adj4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书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1187280" y="2133720"/>
            <a:ext cx="6048720" cy="79200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货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969840" y="3068640"/>
            <a:ext cx="720720" cy="431640"/>
          </a:xfrm>
          <a:prstGeom prst="flowChartInputOutpu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7162920" y="2852640"/>
            <a:ext cx="431640" cy="2160720"/>
          </a:xfrm>
          <a:custGeom>
            <a:avLst/>
            <a:gdLst>
              <a:gd name="textAreaLeft" fmla="*/ 0 w 431640"/>
              <a:gd name="textAreaRight" fmla="*/ 155880 w 431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 rot="10800000">
            <a:off x="7667280" y="2708280"/>
            <a:ext cx="865080" cy="165888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货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新馆馆舍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8640" y="465120"/>
            <a:ext cx="8221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Garamond"/>
                <a:ea typeface="隶书"/>
              </a:rPr>
              <a:t>15</a:t>
            </a:r>
            <a:r>
              <a:rPr b="1" lang="zh-CN" sz="4200" spc="-1" strike="noStrike">
                <a:solidFill>
                  <a:srgbClr val="000000"/>
                </a:solidFill>
                <a:latin typeface="Garamond"/>
                <a:ea typeface="隶书"/>
              </a:rPr>
              <a:t>、信息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7" name="Picture 3" descr="top"/>
          <p:cNvPicPr/>
          <p:nvPr/>
        </p:nvPicPr>
        <p:blipFill>
          <a:blip r:embed="rId1"/>
          <a:stretch/>
        </p:blipFill>
        <p:spPr>
          <a:xfrm>
            <a:off x="1393920" y="1700280"/>
            <a:ext cx="61452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新馆馆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新馆服务体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新馆服务定位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新馆服务项目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新馆功能布局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19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"/>
          <p:cNvPicPr/>
          <p:nvPr/>
        </p:nvPicPr>
        <p:blipFill>
          <a:blip r:embed="rId1"/>
          <a:stretch/>
        </p:blipFill>
        <p:spPr>
          <a:xfrm>
            <a:off x="684360" y="1773360"/>
            <a:ext cx="7704000" cy="3689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611280" y="566748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总服务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出纳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报刊阅览室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3360" y="76464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Garamond"/>
                <a:ea typeface="隶书"/>
              </a:rPr>
              <a:t>一楼：设有总服务台、出纳台、报刊阅览室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479700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服务台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纳台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刊阅览室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"/>
          <p:cNvPicPr/>
          <p:nvPr/>
        </p:nvPicPr>
        <p:blipFill>
          <a:blip r:embed="rId1"/>
          <a:stretch/>
        </p:blipFill>
        <p:spPr>
          <a:xfrm>
            <a:off x="2484360" y="1773360"/>
            <a:ext cx="452304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3360" y="692280"/>
            <a:ext cx="85406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Garamond"/>
                <a:ea typeface="隶书"/>
              </a:rPr>
              <a:t>二楼：设有少儿借阅室、艺术长廊、展厅等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3" descr="2"/>
          <p:cNvPicPr/>
          <p:nvPr/>
        </p:nvPicPr>
        <p:blipFill>
          <a:blip r:embed="rId1"/>
          <a:stretch/>
        </p:blipFill>
        <p:spPr>
          <a:xfrm>
            <a:off x="1835280" y="1557360"/>
            <a:ext cx="5403600" cy="3376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儿借阅室约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0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阅览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，设计藏书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册，提供适合儿童阅读的书刊报阅览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览厅约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60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供展览用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艺术长廊约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，供展览用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2:31:27Z</dcterms:created>
  <dc:creator/>
  <dc:description/>
  <dc:language>en-US</dc:language>
  <cp:lastModifiedBy/>
  <dcterms:modified xsi:type="dcterms:W3CDTF">2015-07-11T09:12:07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