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619-982C-4D23-8914-2AEC4DEF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9AA-6BED-49E7-8A9F-F3FE2E92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31F-7D3B-4C7B-9451-EBF987F7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A32-2149-41AB-926C-703CBAAB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B4CC-F4A5-4020-8961-C773EC54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C100-D268-420C-A5A4-5FBF8203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8738-7972-42AA-B6DB-3D1BB984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F59F-7373-490F-B8D3-832129BE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D7A3-36D1-4737-9162-99641EB6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7B01-7628-4C14-8EEE-35E08EA9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183B-EA58-4DB6-9A24-838C68B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95A-8948-4617-AF0F-9D14F6BF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67E6-0D32-4CD0-81D3-AF797B2A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CD2D-61CD-4007-9651-AA8290AB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938F-257B-4A89-9EEE-CD747B84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2C92-0A09-4F07-A03A-59E501DA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963F-3132-474A-A6A4-0DC7D10A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67E-42CD-47A9-BA64-8CE66653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5BB-4A79-4EF0-BEA4-8FBBDB56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6AE-18FF-4635-BDE3-4F29E383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FFD-75C0-4AE8-B18F-6DF4C716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DAE-E2A8-4B80-A4D1-7F9433A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68A-E15F-4A23-9686-3D50A3A7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9AD-ACBC-4621-8D94-4687FD4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B2B7-9E8B-4C5C-9B31-A4C7D1305E2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E41D-EAB9-45E9-8426-CCDD4174B33B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190512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战国策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076640"/>
            <a:ext cx="4606920" cy="39888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15320" y="1125360"/>
            <a:ext cx="33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唐雎不辱使命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免费下载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380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想要并吞安陵国，采用了哪些手段？最后得到什么结果？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13372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先是采用“以大易小”的欺诈手段，被安陵君拒绝后，责备安陵君，并露威胁之意。唐雎则从容镇定，据理答辩。秦王大怒，用武力恐吓相威胁，但唐雎抗辩，步步紧逼，直至挺剑而起。秦王终于色挠，长跪而谢。唐雎不辱使命，捍卫了安陵国和自己的尊严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这个故事可以看出秦王和唐雎各是什么样的人？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981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：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1981080"/>
            <a:ext cx="6629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贪得无厌、奸诈狡猾，外强中干的封建统治者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雎：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3505320"/>
            <a:ext cx="6248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容镇定，不畏强暴，具有凛然正气的外交家的形象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523880"/>
            <a:ext cx="716292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面对一心要吞并天下的强秦，唐雎，这位安陵小国的使者，从容镇定，不畏强暴，拼死一搏，使安陵国避过了一劫。唐雎确实不辱使命。我们要学习他为真理正义而斗争的凛然正气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78360" y="555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下列加点的词，注意比较它们的词义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61960" y="12193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派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0600" y="2057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出使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15120" y="28195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高兴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34240" y="3701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解释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9880" y="4572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一点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16760" y="54100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听从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出下面句中的通假字，并写出它的本字和解释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905120"/>
            <a:ext cx="7391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悦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君为长者，故不错意也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仓鹰击于殿上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41640" y="2666880"/>
            <a:ext cx="232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通“悦”，高兴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17960" y="4267080"/>
            <a:ext cx="232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错通“措”，注意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83000" y="5943600"/>
            <a:ext cx="155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仓通“苍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1917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63634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685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下列句子中“以”字的用法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98108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大易小。（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有先生也。（  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以君为长者。（    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⑷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以五十里之地存者。（    ）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80880" y="19810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用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10400" y="27874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为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61760" y="365760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把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24080" y="44197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凭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译下面的文言句子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是他却违背我的意愿，是瞧不起我的实力吗？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548640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3634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6D0-5238-4CB9-948E-E10EBF4DD8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路结构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457200"/>
            <a:ext cx="8305920" cy="268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文可分为三个部分：</a:t>
            </a:r>
            <a:endParaRPr b="0" lang="en-US" sz="3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代唐雎出使秦国的原因。秦王企图吞并安陵遭到拒绝，秦王不悦，表明安陵危在旦夕。这是情节的开端。</a:t>
            </a:r>
            <a:endParaRPr b="0" lang="en-US" sz="3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叙写唐雎出使秦国，与秦王进行针锋相对的斗争。这是情节的发展与高潮。</a:t>
            </a:r>
            <a:endParaRPr b="0" lang="en-US" sz="3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侧面描写“秦王色挠，长跪而谢之”及他所明白的道理，反衬唐雎出使胜利，点明了主题。这部分是情节的结局。</a:t>
            </a:r>
            <a:endParaRPr b="0" lang="en-US" sz="3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3520" y="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结构图示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68580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62280" y="68580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安陵君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71600"/>
            <a:ext cx="3638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五百里易安陵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24680" y="137160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愿终守之弗敢易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905120"/>
            <a:ext cx="202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诱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34040" y="1905120"/>
            <a:ext cx="177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辨之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590920"/>
            <a:ext cx="1143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45360" y="25909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276720"/>
            <a:ext cx="3124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寡人轻寡人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480" y="3276720"/>
            <a:ext cx="264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虽千里不易岂五百里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886200"/>
            <a:ext cx="2489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气凌人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0080" y="3809880"/>
            <a:ext cx="204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容答辩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子之怒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4941720"/>
            <a:ext cx="266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力恐吓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1520" y="449568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布衣之怒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06440" y="5235480"/>
            <a:ext cx="204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针锋相对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560" y="5562720"/>
            <a:ext cx="202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跪而谢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5840" y="6095880"/>
            <a:ext cx="1568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7440" y="5967360"/>
            <a:ext cx="2253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辱使命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752480"/>
            <a:ext cx="7621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3657600"/>
            <a:ext cx="7621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876920"/>
            <a:ext cx="16765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65260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93a18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838080"/>
            <a:ext cx="838224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选自《战国策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魏策》。《战国策》是西汉末年刘向根据战国时事的记录整理编辑的，共三十三篇，分东周、西周、秦、齐、楚、赵、魏、韩、燕、宋、卫、中山十二策。刘向（约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本名更生，字子政，沛（今江苏沛县）人。西汉经学家、目录学家、文学家，汉皇族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15040" y="1111320"/>
            <a:ext cx="579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nì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1828800"/>
            <a:ext cx="861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guī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23840" y="2590920"/>
            <a:ext cx="1078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xiǎn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86760" y="3276720"/>
            <a:ext cx="140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qiāng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49840" y="4006800"/>
            <a:ext cx="9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gǎo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9760" y="4692600"/>
            <a:ext cx="1255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yōng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06280" y="5410080"/>
            <a:ext cx="9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细黑"/>
                <a:ea typeface="华文细黑"/>
              </a:rPr>
              <a:t>náo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90720" y="304920"/>
            <a:ext cx="5333760" cy="5799240"/>
            <a:chOff x="990720" y="304920"/>
            <a:chExt cx="5333760" cy="5799240"/>
          </a:xfrm>
        </p:grpSpPr>
        <p:sp>
          <p:nvSpPr>
            <p:cNvPr id="94" name=""/>
            <p:cNvSpPr/>
            <p:nvPr/>
          </p:nvSpPr>
          <p:spPr>
            <a:xfrm>
              <a:off x="990720" y="304920"/>
              <a:ext cx="5333760" cy="5799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读准下列加点字的音。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逆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傀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徒跣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抢地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缟素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庸夫（      ）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色挠（      ） </a:t>
              </a:r>
              <a:endParaRPr b="0" lang="en-US" sz="36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9840" y="175248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9840" y="243828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7040" y="3200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99840" y="39621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99840" y="45716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9840" y="5333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57040" y="60195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a94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掌握以下词语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易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其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加惠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弗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说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因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错意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744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换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57640" y="1873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中表希望的语气词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5520" y="259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予恩惠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63480" y="331956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69320" y="4037040"/>
            <a:ext cx="355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yu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通“悦”，高兴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3760" y="4724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77920" y="5454720"/>
            <a:ext cx="144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，放在心上。错，通“措”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广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逆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轻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与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岂直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怫然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公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布衣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33760" y="5335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扩充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1268280"/>
            <a:ext cx="1916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背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57440" y="1828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视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37600" y="2590920"/>
            <a:ext cx="150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气助词，相当于“吗”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71840" y="3276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道只是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6480" y="396072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盛怒的样子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93880" y="4648320"/>
            <a:ext cx="396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当于“先生”，古代对人的尊称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90960" y="5302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民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免冠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徒跣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抢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庸夫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士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缟素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73200" y="83664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掉帽子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1447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着脚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7440" y="22096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撞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80160" y="297180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庸无能的人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43440" y="36576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指有才能有胆识的人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4419720"/>
            <a:ext cx="541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吉凶的征兆。休，吉祥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祥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91640" y="5867280"/>
            <a:ext cx="402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色的丝织品，这里指穿丧服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色挠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谢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谕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〖徒以〗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9400" y="160020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了脸色。挠，屈服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90960" y="23623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歉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2360" y="3244680"/>
            <a:ext cx="6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白、懂得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2200" y="41148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因为。徒，只是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3808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纳各段的段意。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34880"/>
            <a:ext cx="2133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8128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代唐雎出使秦国的原因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2514600"/>
            <a:ext cx="701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责备安陵君，并露威胁之意，唐雎从容镇定，据理答辩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91464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面对秦王的武力恐吓，拼死抗争，捍卫安陵国和自己的尊严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37080" y="5257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被唐雎折服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457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要求以五百里之地易五十里的魏属安陵小国，其用意是什么？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51460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采取的“以大易小”的欺诈手段，企图不战而并吞安陵国。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4:12:05Z</dcterms:created>
  <dc:creator>An</dc:creator>
  <dc:description/>
  <dc:language>en-US</dc:language>
  <cp:lastModifiedBy/>
  <dcterms:modified xsi:type="dcterms:W3CDTF">2015-07-11T08:58:5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