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A64-A426-4325-8548-94907B47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422-7788-4180-B1C9-662646A0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B15-CF22-47D4-AB02-B0BB303B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6E0-1022-4A91-BE4C-0D8D01A8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2E4-6A32-4B08-9B14-DD570A48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B51-FC8F-44DF-84E9-DA28CBC9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6E5-D397-41F8-A84F-9BB0D194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4E0-6DA5-4C0B-BDC7-F0A3215C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A82-7112-483E-ABCC-61BDFDDE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F71-7B66-41D8-943C-6849D37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C38-DED8-4913-A458-C712C00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4AD-515C-4003-A6C0-334FC52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7AE7-35F0-4612-902D-478E5278B7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4706-57DB-4FBC-A212-B545136C06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Girlonsofa.png"/>
          <p:cNvPicPr/>
          <p:nvPr/>
        </p:nvPicPr>
        <p:blipFill>
          <a:blip r:embed="rId1"/>
          <a:srcRect l="0" t="0" r="5" b="-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4280" y="549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外国美女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27040" y="141300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7A9-4E85-49E4-A83B-B8751CBD4E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7-11T14:44:1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