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7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0F8-5E5F-4C31-9D5B-52D06CAD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76C-1F5C-4CBB-909A-799BCADD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BDF-4C61-4E1F-B3BC-8E4DCB35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1CC-AAF3-46F1-BDA8-5D430655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581-3254-4F7E-AF10-0B722849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D3D-9CB4-4BA6-9147-C81D39D6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03C-70B9-482B-B7A4-2EA772B3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EF3-A045-4F20-B1C0-9E83F043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E70-2BF4-4BD2-8782-1549E491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67A-7488-4F64-809D-DBDCBD2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AF3-49B2-451C-A90C-D0D8F2A2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9EC-0912-4C7E-9F36-95C0B80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1484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C246-DBD8-4238-AF0A-D7F2B625C28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280" y="6357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中文科及圖書館合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4BB1-DD1E-41CE-8B31-8AEBB3A711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00240" y="571320"/>
            <a:ext cx="5786640" cy="26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萬世師表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--</a:t>
            </a:r>
            <a:r>
              <a:rPr b="0" lang="zh-CN" sz="8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孔子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圖片 4" descr="孔.gif"/>
          <p:cNvPicPr/>
          <p:nvPr/>
        </p:nvPicPr>
        <p:blipFill>
          <a:blip r:embed="rId1"/>
          <a:srcRect l="0" t="25834" r="0" b="0"/>
          <a:stretch/>
        </p:blipFill>
        <p:spPr>
          <a:xfrm>
            <a:off x="357120" y="571680"/>
            <a:ext cx="2500560" cy="2463480"/>
          </a:xfrm>
          <a:prstGeom prst="rect">
            <a:avLst/>
          </a:prstGeom>
          <a:ln w="0">
            <a:noFill/>
          </a:ln>
        </p:spPr>
      </p:pic>
      <p:pic>
        <p:nvPicPr>
          <p:cNvPr id="43" name="圖片 5" descr="子.gif"/>
          <p:cNvPicPr/>
          <p:nvPr/>
        </p:nvPicPr>
        <p:blipFill>
          <a:blip r:embed="rId2"/>
          <a:srcRect l="0" t="13167" r="0" b="0"/>
          <a:stretch/>
        </p:blipFill>
        <p:spPr>
          <a:xfrm>
            <a:off x="857160" y="3286080"/>
            <a:ext cx="1500120" cy="2830680"/>
          </a:xfrm>
          <a:prstGeom prst="rect">
            <a:avLst/>
          </a:prstGeom>
          <a:ln w="0">
            <a:noFill/>
          </a:ln>
        </p:spPr>
      </p:pic>
      <p:pic>
        <p:nvPicPr>
          <p:cNvPr id="44" name="圖片 6" descr="孔子.jpg"/>
          <p:cNvPicPr/>
          <p:nvPr/>
        </p:nvPicPr>
        <p:blipFill>
          <a:blip r:embed="rId3"/>
          <a:srcRect l="0" t="21430" r="0" b="0"/>
          <a:stretch/>
        </p:blipFill>
        <p:spPr>
          <a:xfrm>
            <a:off x="3143160" y="3357720"/>
            <a:ext cx="2571840" cy="3143160"/>
          </a:xfrm>
          <a:prstGeom prst="rect">
            <a:avLst/>
          </a:prstGeom>
          <a:ln w="0">
            <a:noFill/>
          </a:ln>
        </p:spPr>
      </p:pic>
      <p:pic>
        <p:nvPicPr>
          <p:cNvPr id="45" name="圖片 7" descr="孔子2.jpg"/>
          <p:cNvPicPr/>
          <p:nvPr/>
        </p:nvPicPr>
        <p:blipFill>
          <a:blip r:embed="rId4"/>
          <a:stretch/>
        </p:blipFill>
        <p:spPr>
          <a:xfrm>
            <a:off x="5715000" y="3357720"/>
            <a:ext cx="2714760" cy="316368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禮」之用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夏曰：“賢賢易色，事父母能竭其力，事君能致其身，與朋友交言而有信。雖曰未學，吾必謂之學矣。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5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夏說：“重賢輕色、盡心孝順父母、盡力獻身國家、交朋友言而有信的人，即使沒有高等學歷，我也認為他已經受到了良好的教育。” </a:t>
            </a:r>
            <a:r>
              <a:rPr b="1" lang="en-US" sz="25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夏問孝，子曰：“色難。有事，弟子服其勞；有酒食，先生</a:t>
            </a: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饌</a:t>
            </a:r>
            <a:r>
              <a:rPr b="1" lang="zh-CN" sz="25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；曾是以為孝乎？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夏問孝，孔子說：“和顏悅色很難。有事情，子女都去做；有酒肉，老人隨便吃；這樣就是孝嗎？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wipe dir="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禮」之用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400" y="1571400"/>
            <a:ext cx="77864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人而無信，不知其可也。大車無輗，小車無軏，其何以行之哉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說：“人無信譽，不知能幹什麼？就像大車沒有車軸，小車沒有車軸，怎麼能啟動？”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“主忠信，毋友不如己者，過則勿憚改。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“主忠信，毋友不如己者，過則勿憚改。”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義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所謂義，就是「正當」或者道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人能夠立公心，求正當，便是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君子無特殊態度，唯理是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圖片 3" descr="義.gif"/>
          <p:cNvPicPr/>
          <p:nvPr/>
        </p:nvPicPr>
        <p:blipFill>
          <a:blip r:embed="rId1"/>
          <a:stretch/>
        </p:blipFill>
        <p:spPr>
          <a:xfrm>
            <a:off x="6643800" y="3171960"/>
            <a:ext cx="1643040" cy="282888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義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8568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路曰：“君子尚勇乎？”子曰：“君子義以為上，君子有勇而無義為亂，小人有勇而無義為盜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路說：“君子提倡勇敢嗎？”孔子說：“君子以道義為上，君子如果勇敢而不講道義就會顛覆國家，小人如果勇敢而不講道義就會成為強盜。” 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“君子之于天下也，無適也，無莫也，義之於比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說：“君子對於天下事，不刻意強求，不無故反對，一切按道義行事。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君子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86080" y="1714680"/>
            <a:ext cx="511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君子就是仁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君子是有道德的人，是人民的學習對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君子具備多項素質，但並不受個人的出身、貴賤所限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人人都應該以君子為榜樣，天下便會大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圖片 3" descr="君.gif"/>
          <p:cNvPicPr/>
          <p:nvPr/>
        </p:nvPicPr>
        <p:blipFill>
          <a:blip r:embed="rId1"/>
          <a:stretch/>
        </p:blipFill>
        <p:spPr>
          <a:xfrm>
            <a:off x="857160" y="1428840"/>
            <a:ext cx="1500120" cy="1993680"/>
          </a:xfrm>
          <a:prstGeom prst="rect">
            <a:avLst/>
          </a:prstGeom>
          <a:ln w="0">
            <a:noFill/>
          </a:ln>
        </p:spPr>
      </p:pic>
      <p:pic>
        <p:nvPicPr>
          <p:cNvPr id="78" name="圖片 4" descr="子.gif"/>
          <p:cNvPicPr/>
          <p:nvPr/>
        </p:nvPicPr>
        <p:blipFill>
          <a:blip r:embed="rId2"/>
          <a:srcRect l="0" t="13767" r="0" b="0"/>
          <a:stretch/>
        </p:blipFill>
        <p:spPr>
          <a:xfrm>
            <a:off x="857160" y="3643200"/>
            <a:ext cx="1435320" cy="26877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712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“君子喻于義，小人喻於利。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說：“君子通曉道義，小人通曉私利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君子上達，小人下達。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說：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君子心懷仁義，小人心懷財利。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人不知，而不慍，不亦君子乎？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“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得不到理解而不怨恨，不也是君子嗎？”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君子食無求飽，居無求安，敏於事而慎於言，就有道而正焉，可謂好學也已。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說：“君子吃不求飽、住不求安、做事靈敏、言談謹慎、積極要求上進，就算好學了。”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標題 1"/>
          <p:cNvSpPr/>
          <p:nvPr/>
        </p:nvSpPr>
        <p:spPr>
          <a:xfrm>
            <a:off x="5000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君子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9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君子」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6868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“君子周而不比，小人比而不周。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說：“君子團結群眾而不拉幫結派，小人拉幫結派而不團結群眾。”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君子去仁，烏乎成名？君子無終食之間違仁，造次必於是，顛沛必於是。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君子扔掉了仁愛之心，怎麼算君子？君子時刻不會違反仁道，緊急時如此，顛沛時如此。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謂子產：“有君子之道四焉：其行也恭，其事上也敬，其養民也惠，其使民也義。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評論子產：“具有君子的四種品德：行為謙遜，尊敬上級，關心群眾疾苦，用人符合道義。”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孔子的政治理想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大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王漢宗鋼筆行楷繁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大道之行也，天地為公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天下之間，所有東西都是大家共同擁有的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王漢宗鋼筆行楷繁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故人不獨親其親，不獨子其子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人不單對親人好，也對別人的親人好；不單養育自己的兒子，而且養育別人的兒子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王漢宗鋼筆行楷繁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老有所終，壯有所用，幼有所長，鰥、寡、孤、獨、廢 疾者皆有所養 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老的人有人照顧，年輕的人可以盡其才，有弱小、傷殘的人都有人供養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王漢宗鋼筆行楷繁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盜竊亂賊而不作，故外戶而不閉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沒有盜竊亂賊，人民出外可以不閉門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正名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1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就是指有職分的人，也有相應的權力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1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名不正，則言不順；言不順，則事不成。事不成，則禮樂不興；禮樂不興，則刑罰不中；刑罰不中，則民無所措手足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1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名分不正當，說話就不合理；說話不合理，事情就辦不成。事情辦不成，法律就不能深入人心；法律不能深入人心，刑罰就不會公正；刑罰不公正，則百姓手足無措，不知如何是好。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1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“苟正其身矣，于從政乎何有？不能正其身，如正人何？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1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說：“自己身正，治理國家還會有什麼問題？自身不正，又怎能讓群眾身正？”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孔子的政治理想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wipe dir="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王漢宗鋼筆行楷繁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有教無類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凡有意向學者，不問家財，不問出身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一律施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王漢宗鋼筆行楷繁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因材施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對於不同學生的發問，有不同深淺程度的答案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王漢宗鋼筆行楷繁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學思並重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“學而不思則罔，思而不學則殆。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    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說：“讀書不想事，越學越糊塗；想事不讀書，越想越頭痛。”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孔子的教育理想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生平簡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14760" y="1571400"/>
            <a:ext cx="61149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姓孔氏，名丘，字仲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魯國（今</a:t>
            </a: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中國山</a:t>
            </a: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東曲阜）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中國春秋末期的思想家和教育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他的先人是宋國貴族，因政治避難遷魯而沒落，憑傳授貴族所操縱的六藝</a:t>
            </a: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書、數、禮、御、射、樂，得以開創私人講學風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圖片 3" descr="孔廟.jpg"/>
          <p:cNvPicPr/>
          <p:nvPr/>
        </p:nvPicPr>
        <p:blipFill>
          <a:blip r:embed="rId2"/>
          <a:stretch/>
        </p:blipFill>
        <p:spPr>
          <a:xfrm>
            <a:off x="285840" y="2214720"/>
            <a:ext cx="2324160" cy="35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237-96B7-4795-A1D2-D8E47A66F614}" type="slidenum">
              <a:t>2</a:t>
            </a:fld>
          </a:p>
        </p:txBody>
      </p:sp>
    </p:spTree>
  </p:cSld>
  <p:transition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孔子的評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古人說：天不生仲尼，萬古如長夜。可見孔子的重要性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在古代被封為「聖人」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及其開創的儒家一系思想構成了其後中華文化的主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學說在中國周邊地區，如朝鮮半島、日本、越南等地，都有深遠的影響，形成了東亞儒家文化圈。截止到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2007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年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6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月，國外開辦的孔子學院（學堂）已有</a:t>
            </a:r>
            <a:r>
              <a:rPr b="1" lang="en-US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156</a:t>
            </a: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所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其前數千年之文化，賴孔子而傳；其後數千年之文化，賴孔子而開；無孔子，則無中國文化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生平簡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4200" y="1643040"/>
            <a:ext cx="851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政治方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懷著救世的理想精神，打算積極從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向各國的統治者宣傳自己的主張，希望能得到施展抱負的機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但他奔走了十四年，非但沒有得到重用，反而顛沛離經歷許多艱難困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文教方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晚年退居魯國後，除了致力於教育外，並整理「詩」、「書」等古代文獻，保存了中國春秋以前的重要文化遺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相傳孔子弟子三千，有成就的高足弟子七十二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他將教育普予及於平民，培養了不少出身不高的優秀人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中心思想</a:t>
            </a:r>
            <a:r>
              <a:rPr b="0" lang="en-US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--</a:t>
            </a: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仁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1680" y="1571400"/>
            <a:ext cx="8215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樊遲問仁，子曰：「愛人。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「仁，人也。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「仁」是孔子的思想核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仁指愛人，也就是忠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「中心」就是「忠」，就是把心中的愛，推廣出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「如心」是「恕」 ，就是如我的心，推到他人的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中心思想</a:t>
            </a:r>
            <a:r>
              <a:rPr b="0" lang="en-US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--</a:t>
            </a: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仁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要做到「己欲立而立人，已欲達而達人」、「施於己而不頌，亦勿施於人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換句話說，「仁」，就是愛人如己，自己不愛的事，也不要加到別人身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圖片 3" descr="仁.gif"/>
          <p:cNvPicPr/>
          <p:nvPr/>
        </p:nvPicPr>
        <p:blipFill>
          <a:blip r:embed="rId1"/>
          <a:stretch/>
        </p:blipFill>
        <p:spPr>
          <a:xfrm>
            <a:off x="6143760" y="4071960"/>
            <a:ext cx="1857240" cy="228276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中心思想</a:t>
            </a:r>
            <a:r>
              <a:rPr b="0" lang="en-US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--</a:t>
            </a:r>
            <a:r>
              <a:rPr b="0" lang="zh-CN" sz="72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仁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1386000"/>
            <a:ext cx="85726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「仁」是可行的，是人人都可以做到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仁遠乎哉？我欲仁，斯仁至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說：仁離我們很遠嗎？我想要仁，仁就來了。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「有能一日用其力於仁矣乎？我未見力不足者。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有能夠一天盡心為仁道的人嗎？我沒見過沒能力的，可能有，但我沒見過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志士仁人，無求生以害仁，有殺身以成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說：志士仁人中，沒有貪生怕死出賣正義的人，卻有捨生忘死維護正義的人。</a:t>
            </a:r>
            <a:r>
              <a:rPr b="1" lang="en-US" sz="28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仁」的實踐</a:t>
            </a:r>
            <a:r>
              <a:rPr b="0" lang="en-US" sz="6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-- </a:t>
            </a:r>
            <a:r>
              <a:rPr b="0" lang="zh-CN" sz="6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禮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840" y="1600200"/>
            <a:ext cx="5000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顏淵問仁。子曰：“克己復禮為仁。一日克己復禮，天下歸仁焉。為仁由己，而由人乎哉？”顏淵曰：“請問其目？”子曰：“非禮勿視，非禮勿聽，非禮勿言，非禮勿動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顏淵問仁。孔子說：“違反禮法的事不要 看、不要聽、不要說、不要做。”</a:t>
            </a: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圖片 3" descr="禮.jpg"/>
          <p:cNvPicPr/>
          <p:nvPr/>
        </p:nvPicPr>
        <p:blipFill>
          <a:blip r:embed="rId1"/>
          <a:stretch/>
        </p:blipFill>
        <p:spPr>
          <a:xfrm>
            <a:off x="5643720" y="2286000"/>
            <a:ext cx="3214440" cy="3587760"/>
          </a:xfrm>
          <a:prstGeom prst="rect">
            <a:avLst/>
          </a:prstGeom>
          <a:ln w="0">
            <a:noFill/>
          </a:ln>
        </p:spPr>
      </p:pic>
    </p:spTree>
  </p:cSld>
  <p:transition advTm="7000">
    <p:pull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13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仁的境界是一個充滿了普遍人性愛的社會，上下有序，一片和融。而實現「仁」的手段就是「禮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禮就是人間的秩序、制度、人與人的相處的規範有甚麼禮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恭、寬、信、敏、惠 </a:t>
            </a: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莊重、寬厚、誠實、勤敏、慈惠</a:t>
            </a: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對君主要「忠」，對父親要「孝」，對兄弟要「敬」，對朋友要信，對不義的事情要有「勇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標題 1"/>
          <p:cNvSpPr/>
          <p:nvPr/>
        </p:nvSpPr>
        <p:spPr>
          <a:xfrm>
            <a:off x="357120" y="274680"/>
            <a:ext cx="8072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仁」的實踐</a:t>
            </a:r>
            <a:r>
              <a:rPr b="0" lang="en-US" sz="6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-- </a:t>
            </a:r>
            <a:r>
              <a:rPr b="0" lang="zh-CN" sz="60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禮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3bc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仁」的實踐</a:t>
            </a:r>
            <a:r>
              <a:rPr b="0" lang="en-US" sz="54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-- </a:t>
            </a:r>
            <a:r>
              <a:rPr b="0" lang="zh-CN" sz="5400" spc="-1" strike="noStrike">
                <a:solidFill>
                  <a:srgbClr val="000000"/>
                </a:solidFill>
                <a:latin typeface="王漢宗中隸書繁"/>
                <a:ea typeface="王漢宗中隸書繁"/>
              </a:rPr>
              <a:t>「禮」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2892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有子曰：“禮之用，和為貴。先王之道，斯為美，小大由之。有所不行</a:t>
            </a: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知和而和，不以禮節之，亦不可行也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說： 「禮法的運用，以和為貴。這是最美好的傳統，適用於一切事情。但僅知道‘和為貴’是不行的，違反禮法而講‘和’是絕對不行的。 」</a:t>
            </a: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子曰：人而不仁，如禮何？人而不仁，如樂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孔子說：“對於不仁的人，禮法有何用？音樂有何用？” </a:t>
            </a:r>
            <a:r>
              <a:rPr b="1" lang="en-US" sz="3200" spc="-1" strike="noStrike">
                <a:solidFill>
                  <a:srgbClr val="000000"/>
                </a:solidFill>
                <a:latin typeface="王漢宗鋼筆行楷繁"/>
                <a:ea typeface="王漢宗鋼筆行楷繁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4:24:00Z</dcterms:created>
  <dc:creator>Family Ng</dc:creator>
  <dc:description/>
  <dc:language>en-US</dc:language>
  <cp:lastModifiedBy>msc-hls08</cp:lastModifiedBy>
  <dcterms:modified xsi:type="dcterms:W3CDTF">2015-07-09T10:54:30Z</dcterms:modified>
  <cp:revision>33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