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627-FC1E-439C-A33B-063B98F0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6BD-BFFB-45DF-966F-5E104E8D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43CB-126D-42FD-AF05-F52E7ED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8DDA4-5D03-4AB1-907C-F04F7FB2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6DABD-8EDB-4CA9-87F9-992EE0F0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7F1DB-489A-45E4-BAEA-191016F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BB1A-C8DC-4CAA-AAC8-350830B9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3DF96-95B8-47FB-A6BD-6861568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4276A-70C7-47C6-B52B-7199EE3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AD11A-DDD7-4C96-8C49-04A60F80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98BF0-886D-4A87-8750-0727BBB8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25383-2B3A-4E6A-83BD-A2986BC2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EAF-FEC0-40CE-9E3E-73B2BC35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405DC-6E5A-4343-BC6F-33AFF7C4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00BBA-5056-49CD-A73D-4499717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C40BE-6487-406A-9B79-DE92884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1DFAF-873B-4151-BE61-B0F7C01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1114B-6B19-48FE-B842-64A8BB72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CB358-35C3-4C66-847D-F0A31AC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DCD15-38DC-433D-95AF-7087977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9AB82-BAA1-4ED8-97F9-EE2553FD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C888C-F7AD-4ABA-A4E9-F149DD5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B35F2-C263-4BF8-9200-5C393455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57F-4C67-48B7-8E64-222FCBDF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FCE7C-1326-4491-9DB1-AA41CD03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B1E-4DDE-4150-8CE6-CF2CC9A1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E5BE-D56C-443C-90FC-BE727C94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8AA-6290-48CF-9ED7-20DA4240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59F6-1B22-47F6-8143-169C14EB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BCA2-55E6-469C-A085-DA600206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C529-CDB9-4C70-A6A5-1645CCC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48C-B36A-4BAB-8B45-0F41674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530-2C35-4A56-8E52-805F1132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7314-BB31-4AAC-ADD0-C7FA5D4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131E-F8A3-46EE-9B80-7780989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27A-711E-45DA-A646-56E28A09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1D59-D94F-4234-95BE-144632A3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FFDC-4F3B-43A7-81D2-9FBCAC90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C049-0BEC-4E3A-8D93-45EB7185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C5EA-5970-44A4-A8AF-C5D8D1C2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4215-055A-4DC5-8A01-B976BF6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C8E5-25EA-4754-A8E2-F71A5F6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EEA0-DBBA-4128-BBF4-C76B09B5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5E5-7A15-4AD1-AC4D-DCE7AE39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61AD-EDB9-44A9-8912-2BB5AA18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F751-E865-4EC9-91D6-9CA9F28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3257-D74F-4BFA-B3B5-B19AC89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CA40-FB18-4DA6-8F12-E5AB3B6E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76C6-867D-4569-96BA-54CAD5F8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7D6D-18AA-4384-8388-B783DC99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CB6F-5366-4BA6-89D4-634DCD5F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279E-3D02-47C9-8738-348FF615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5F87-26AF-4B53-A0AA-2AAB9D0C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6CB3-B948-4DF3-AB35-15686DE4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54E-BD52-42AE-8B45-F276B23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12CC-E4D2-4770-A886-58F940F9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AEDD-217D-4107-BF14-C15F473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25092-104F-47CF-9C66-AE7454DC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B8B3-CA7A-412E-BAE6-1E81E18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BA34-16B4-401B-825B-7FD9A18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7B4D-BFBA-42FE-A2C3-A5B7E81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3489-B0A0-443B-A38C-FAB0D2C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26DE-0622-4BF3-9008-2F797F30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DFDB-DA70-47EA-A45C-FBA5A262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08C69-9DC9-4693-8F90-AA2CC3BC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096-E424-467E-8062-FB79A9F5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F4DC-836C-4810-83B8-8CDB6AC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61102-54F0-4F6D-B5D6-EF3EA39D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8615-D85F-407F-8977-CB7940D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EC7C8-86BB-49AA-870A-EA34710C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C4BE-F37C-463A-94AA-2E6E6D9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7425-AD96-476C-8225-15D6B56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AF45-4836-4E1B-AF65-CAE0E8E1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F2B8-4BEE-4F18-8DB9-448F5FC9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F8BD-9419-4419-B3CF-2ACC2317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7BCA-D19D-4BCE-B530-B89066AF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0AB-07FE-40A5-9BFD-1847E784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E8873-802B-4409-9AE8-0E0B04F2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5476A-9F45-4105-86F0-B534FC2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DFFC-DE2A-4B30-B556-DB330CE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452B-6648-4F3A-8103-810C9DB6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738C-5259-4852-B5C4-E9652BAB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112D-3D81-499D-B766-FE7605A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CB00F-EFFC-4687-B031-709A482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E1E1A-5F4B-4E84-88B4-9341174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A90C-31EF-4B35-9B95-2AF29A8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49182-2EBA-4355-AFF4-5BC974D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04C-449A-4E07-90CB-9347439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D457E-DBA3-443F-9255-BF9756CF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DC7D-A6E6-4DE0-B04C-9B750698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5CF34-6140-4559-ACF1-8C145CE0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C54C1-4C2D-4E7A-83F4-CA6B2149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E9F36-B3FE-441A-B44C-DE41B4CA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084B-95AE-4A2A-B537-1426BA0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4B048-C04F-43C3-909C-33873525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0881-0C38-49E3-B9D7-D55CE4F0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A9371-4886-418D-91F4-01E5209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6B39-7551-49ED-83C0-D7B67FA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14D-34F8-4AC1-9B03-0C862D3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D4B79-C8A6-4FF4-B091-D505C535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A88D-E938-439A-AA23-311E8364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81F0-085D-405B-8181-80120EF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6677-1F7A-4E5E-8AC2-4A555D52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E4CC-EF21-4183-B68A-38E9B78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890B4-193B-44C1-835C-08A48F10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FDFB-04F3-43A0-93FF-3FA343C9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FBF3D-F0AA-4A9D-88A3-5DA6ED9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542EC-16AE-4AB0-AC69-B2F54AB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65CE-90F3-4B17-9E1C-CF507DB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96A-6E6A-4133-A7B2-70C7ECA0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16A02-3979-4CFB-96B9-750B935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4FECE-6FDC-44E1-AFF6-409194E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64F7-F28C-4212-93F9-5D2EDE1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6508-3CCF-4837-882E-F8187C7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259C7-E79E-4460-8117-FFB83F54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912A1-4A9C-4915-A1CD-09117F64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5BD19-074E-4B68-92A3-FF1216D4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AD82E-09A6-4236-A99B-4C79E365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5F3FA-D4EB-4E0D-A6E8-21F2193C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E3D6C-4E64-4572-9098-D8EE1ACD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919-CA20-40C8-BA50-AEF5824A4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240" cy="6095880"/>
            <a:chOff x="168120" y="228600"/>
            <a:chExt cx="882324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24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1760" y="1709640"/>
              <a:ext cx="769644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592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593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4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95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59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59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601" name="Group 12"/>
                  <p:cNvGrpSpPr/>
                  <p:nvPr/>
                </p:nvGrpSpPr>
                <p:grpSpPr>
                  <a:xfrm>
                    <a:off x="5761080" y="2322360"/>
                    <a:ext cx="2559600" cy="2742840"/>
                    <a:chOff x="5761080" y="2322360"/>
                    <a:chExt cx="2559600" cy="2742840"/>
                  </a:xfrm>
                </p:grpSpPr>
                <p:sp>
                  <p:nvSpPr>
                    <p:cNvPr id="602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3" name="Freeform 14"/>
                    <p:cNvSpPr/>
                    <p:nvPr/>
                  </p:nvSpPr>
                  <p:spPr>
                    <a:xfrm rot="2711400">
                      <a:off x="7132680" y="414360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04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605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6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07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608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0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61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2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1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5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7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9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62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1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2" name="Group 33"/>
                  <p:cNvGrpSpPr/>
                  <p:nvPr/>
                </p:nvGrpSpPr>
                <p:grpSpPr>
                  <a:xfrm>
                    <a:off x="2646000" y="2474640"/>
                    <a:ext cx="2558160" cy="2741040"/>
                    <a:chOff x="2646000" y="2474640"/>
                    <a:chExt cx="2558160" cy="2741040"/>
                  </a:xfrm>
                </p:grpSpPr>
                <p:sp>
                  <p:nvSpPr>
                    <p:cNvPr id="623" name="Freeform 34"/>
                    <p:cNvSpPr/>
                    <p:nvPr/>
                  </p:nvSpPr>
                  <p:spPr>
                    <a:xfrm flipH="1" rot="18888600">
                      <a:off x="3253320" y="317268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4" name="Freeform 35"/>
                    <p:cNvSpPr/>
                    <p:nvPr/>
                  </p:nvSpPr>
                  <p:spPr>
                    <a:xfrm flipH="1" rot="18888600">
                      <a:off x="269100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2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7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8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629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0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1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632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3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3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6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8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3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644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5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8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1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52" name="Group 63"/>
                  <p:cNvGrpSpPr/>
                  <p:nvPr/>
                </p:nvGrpSpPr>
                <p:grpSpPr>
                  <a:xfrm>
                    <a:off x="4026600" y="335520"/>
                    <a:ext cx="1462320" cy="1886040"/>
                    <a:chOff x="4026600" y="335520"/>
                    <a:chExt cx="1462320" cy="1886040"/>
                  </a:xfrm>
                </p:grpSpPr>
                <p:sp>
                  <p:nvSpPr>
                    <p:cNvPr id="653" name="Freeform 64"/>
                    <p:cNvSpPr/>
                    <p:nvPr/>
                  </p:nvSpPr>
                  <p:spPr>
                    <a:xfrm flipH="1" rot="3474000">
                      <a:off x="4335480" y="1441800"/>
                      <a:ext cx="13590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4" name="Freeform 65"/>
                    <p:cNvSpPr/>
                    <p:nvPr/>
                  </p:nvSpPr>
                  <p:spPr>
                    <a:xfrm flipH="1" rot="3474000">
                      <a:off x="4032000" y="546840"/>
                      <a:ext cx="73008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55" name="Group 66"/>
                  <p:cNvGrpSpPr/>
                  <p:nvPr/>
                </p:nvGrpSpPr>
                <p:grpSpPr>
                  <a:xfrm>
                    <a:off x="4447800" y="245160"/>
                    <a:ext cx="1122480" cy="1946880"/>
                    <a:chOff x="4447800" y="245160"/>
                    <a:chExt cx="1122480" cy="1946880"/>
                  </a:xfrm>
                </p:grpSpPr>
                <p:sp>
                  <p:nvSpPr>
                    <p:cNvPr id="656" name="Freeform 67"/>
                    <p:cNvSpPr/>
                    <p:nvPr/>
                  </p:nvSpPr>
                  <p:spPr>
                    <a:xfrm flipH="1" rot="4126800">
                      <a:off x="4553280" y="1399680"/>
                      <a:ext cx="1310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7" name="Freeform 68"/>
                    <p:cNvSpPr/>
                    <p:nvPr/>
                  </p:nvSpPr>
                  <p:spPr>
                    <a:xfrm flipH="1" rot="4126800">
                      <a:off x="4417560" y="439560"/>
                      <a:ext cx="7041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5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0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6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62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3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64" name="Freeform 75"/>
                  <p:cNvSpPr/>
                  <p:nvPr/>
                </p:nvSpPr>
                <p:spPr>
                  <a:xfrm flipH="1" rot="4578600">
                    <a:off x="4762800" y="14626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5" name="Freeform 76"/>
                  <p:cNvSpPr/>
                  <p:nvPr/>
                </p:nvSpPr>
                <p:spPr>
                  <a:xfrm flipH="1" rot="4578600">
                    <a:off x="4791240" y="53496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666" name="Group 77"/>
                  <p:cNvGrpSpPr/>
                  <p:nvPr/>
                </p:nvGrpSpPr>
                <p:grpSpPr>
                  <a:xfrm>
                    <a:off x="5356440" y="270000"/>
                    <a:ext cx="1195200" cy="1901160"/>
                    <a:chOff x="5356440" y="270000"/>
                    <a:chExt cx="1195200" cy="1901160"/>
                  </a:xfrm>
                </p:grpSpPr>
                <p:sp>
                  <p:nvSpPr>
                    <p:cNvPr id="667" name="Freeform 78"/>
                    <p:cNvSpPr/>
                    <p:nvPr/>
                  </p:nvSpPr>
                  <p:spPr>
                    <a:xfrm rot="17742000">
                      <a:off x="5088600" y="1419120"/>
                      <a:ext cx="130680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8" name="Freeform 79"/>
                    <p:cNvSpPr/>
                    <p:nvPr/>
                  </p:nvSpPr>
                  <p:spPr>
                    <a:xfrm rot="17742000">
                      <a:off x="5887800" y="484200"/>
                      <a:ext cx="701280" cy="35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69" name="Group 80"/>
                  <p:cNvGrpSpPr/>
                  <p:nvPr/>
                </p:nvGrpSpPr>
                <p:grpSpPr>
                  <a:xfrm>
                    <a:off x="5347800" y="388080"/>
                    <a:ext cx="1891080" cy="1798200"/>
                    <a:chOff x="5347800" y="388080"/>
                    <a:chExt cx="1891080" cy="1798200"/>
                  </a:xfrm>
                </p:grpSpPr>
                <p:sp>
                  <p:nvSpPr>
                    <p:cNvPr id="670" name="Freeform 81"/>
                    <p:cNvSpPr/>
                    <p:nvPr/>
                  </p:nvSpPr>
                  <p:spPr>
                    <a:xfrm rot="18822600">
                      <a:off x="5248080" y="1388880"/>
                      <a:ext cx="14241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71" name="Freeform 82"/>
                    <p:cNvSpPr/>
                    <p:nvPr/>
                  </p:nvSpPr>
                  <p:spPr>
                    <a:xfrm rot="18822600">
                      <a:off x="6403320" y="583560"/>
                      <a:ext cx="76428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72" name="Group 83"/>
                  <p:cNvGrpSpPr/>
                  <p:nvPr/>
                </p:nvGrpSpPr>
                <p:grpSpPr>
                  <a:xfrm>
                    <a:off x="5458320" y="293040"/>
                    <a:ext cx="427680" cy="1794960"/>
                    <a:chOff x="5458320" y="293040"/>
                    <a:chExt cx="427680" cy="1794960"/>
                  </a:xfrm>
                </p:grpSpPr>
                <p:sp>
                  <p:nvSpPr>
                    <p:cNvPr id="673" name="Freeform 84"/>
                    <p:cNvSpPr/>
                    <p:nvPr/>
                  </p:nvSpPr>
                  <p:spPr>
                    <a:xfrm rot="16696200">
                      <a:off x="5007960" y="1446840"/>
                      <a:ext cx="11736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74" name="Freeform 85"/>
                    <p:cNvSpPr/>
                    <p:nvPr/>
                  </p:nvSpPr>
                  <p:spPr>
                    <a:xfrm rot="16696200">
                      <a:off x="5443200" y="533520"/>
                      <a:ext cx="63000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75" name="Group 86"/>
                  <p:cNvGrpSpPr/>
                  <p:nvPr/>
                </p:nvGrpSpPr>
                <p:grpSpPr>
                  <a:xfrm>
                    <a:off x="3062880" y="2530440"/>
                    <a:ext cx="2196000" cy="3002760"/>
                    <a:chOff x="3062880" y="2530440"/>
                    <a:chExt cx="2196000" cy="3002760"/>
                  </a:xfrm>
                </p:grpSpPr>
                <p:sp>
                  <p:nvSpPr>
                    <p:cNvPr id="676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77" name="Freeform 88"/>
                    <p:cNvSpPr/>
                    <p:nvPr/>
                  </p:nvSpPr>
                  <p:spPr>
                    <a:xfrm flipH="1" rot="18336000">
                      <a:off x="3069720" y="459108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7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9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0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81" name="Group 92"/>
                  <p:cNvGrpSpPr/>
                  <p:nvPr/>
                </p:nvGrpSpPr>
                <p:grpSpPr>
                  <a:xfrm>
                    <a:off x="4508640" y="2703240"/>
                    <a:ext cx="874800" cy="2927520"/>
                    <a:chOff x="4508640" y="2703240"/>
                    <a:chExt cx="874800" cy="2927520"/>
                  </a:xfrm>
                </p:grpSpPr>
                <p:sp>
                  <p:nvSpPr>
                    <p:cNvPr id="682" name="Freeform 93"/>
                    <p:cNvSpPr/>
                    <p:nvPr/>
                  </p:nvSpPr>
                  <p:spPr>
                    <a:xfrm flipH="1" rot="16870800">
                      <a:off x="4084920" y="3489120"/>
                      <a:ext cx="1888920" cy="34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3" name="Freeform 94"/>
                    <p:cNvSpPr/>
                    <p:nvPr/>
                  </p:nvSpPr>
                  <p:spPr>
                    <a:xfrm flipH="1" rot="16870800">
                      <a:off x="4368600" y="4806360"/>
                      <a:ext cx="1013400" cy="54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84" name="Group 95"/>
                  <p:cNvGrpSpPr/>
                  <p:nvPr/>
                </p:nvGrpSpPr>
                <p:grpSpPr>
                  <a:xfrm>
                    <a:off x="5677200" y="2482920"/>
                    <a:ext cx="2281680" cy="2953800"/>
                    <a:chOff x="5677200" y="2482920"/>
                    <a:chExt cx="2281680" cy="2953800"/>
                  </a:xfrm>
                </p:grpSpPr>
                <p:sp>
                  <p:nvSpPr>
                    <p:cNvPr id="685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6" name="Freeform 97"/>
                    <p:cNvSpPr/>
                    <p:nvPr/>
                  </p:nvSpPr>
                  <p:spPr>
                    <a:xfrm rot="3144000">
                      <a:off x="6799680" y="449676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87" name="Group 98"/>
                  <p:cNvGrpSpPr/>
                  <p:nvPr/>
                </p:nvGrpSpPr>
                <p:grpSpPr>
                  <a:xfrm>
                    <a:off x="5648400" y="2593440"/>
                    <a:ext cx="1757880" cy="3033000"/>
                    <a:chOff x="5648400" y="2593440"/>
                    <a:chExt cx="1757880" cy="3033000"/>
                  </a:xfrm>
                </p:grpSpPr>
                <p:sp>
                  <p:nvSpPr>
                    <p:cNvPr id="688" name="Freeform 99"/>
                    <p:cNvSpPr/>
                    <p:nvPr/>
                  </p:nvSpPr>
                  <p:spPr>
                    <a:xfrm rot="3745200">
                      <a:off x="5265720" y="3395520"/>
                      <a:ext cx="203436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9" name="Freeform 100"/>
                    <p:cNvSpPr/>
                    <p:nvPr/>
                  </p:nvSpPr>
                  <p:spPr>
                    <a:xfrm rot="3745200">
                      <a:off x="6350760" y="4718160"/>
                      <a:ext cx="1091160" cy="58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90" name="Group 101"/>
                  <p:cNvGrpSpPr/>
                  <p:nvPr/>
                </p:nvGrpSpPr>
                <p:grpSpPr>
                  <a:xfrm>
                    <a:off x="5575680" y="2710800"/>
                    <a:ext cx="1225800" cy="2986560"/>
                    <a:chOff x="5575680" y="2710800"/>
                    <a:chExt cx="1225800" cy="2986560"/>
                  </a:xfrm>
                </p:grpSpPr>
                <p:sp>
                  <p:nvSpPr>
                    <p:cNvPr id="691" name="Freeform 102"/>
                    <p:cNvSpPr/>
                    <p:nvPr/>
                  </p:nvSpPr>
                  <p:spPr>
                    <a:xfrm rot="4286400">
                      <a:off x="5045400" y="3544200"/>
                      <a:ext cx="1976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92" name="Freeform 103"/>
                    <p:cNvSpPr/>
                    <p:nvPr/>
                  </p:nvSpPr>
                  <p:spPr>
                    <a:xfrm rot="4286400">
                      <a:off x="5877000" y="4880880"/>
                      <a:ext cx="106020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9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94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95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96" name="Group 107"/>
                  <p:cNvGrpSpPr/>
                  <p:nvPr/>
                </p:nvGrpSpPr>
                <p:grpSpPr>
                  <a:xfrm>
                    <a:off x="4961160" y="2887560"/>
                    <a:ext cx="663120" cy="2717280"/>
                    <a:chOff x="4961160" y="2887560"/>
                    <a:chExt cx="663120" cy="2717280"/>
                  </a:xfrm>
                </p:grpSpPr>
                <p:sp>
                  <p:nvSpPr>
                    <p:cNvPr id="697" name="Freeform 108"/>
                    <p:cNvSpPr/>
                    <p:nvPr/>
                  </p:nvSpPr>
                  <p:spPr>
                    <a:xfrm rot="5755200">
                      <a:off x="4530240" y="3665880"/>
                      <a:ext cx="17744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98" name="Freeform 109"/>
                    <p:cNvSpPr/>
                    <p:nvPr/>
                  </p:nvSpPr>
                  <p:spPr>
                    <a:xfrm rot="5755200">
                      <a:off x="4714560" y="4930920"/>
                      <a:ext cx="9518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699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700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70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2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5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7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08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09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710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1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2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4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5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6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8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9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1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2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3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1175-22A4-4461-A24F-9AA78FEA4EE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ADD7-D785-43B9-8D8D-05F439FE6B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369-AC1A-43E2-B871-D86EAF3D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E7FF-AC69-43B5-BD0D-4FE81FF5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-227160" y="666720"/>
            <a:ext cx="8686440" cy="6191280"/>
            <a:chOff x="-227160" y="666720"/>
            <a:chExt cx="8686440" cy="6191280"/>
          </a:xfrm>
        </p:grpSpPr>
        <p:sp>
          <p:nvSpPr>
            <p:cNvPr id="202" name="Rectangle 3"/>
            <p:cNvSpPr/>
            <p:nvPr/>
          </p:nvSpPr>
          <p:spPr>
            <a:xfrm>
              <a:off x="686880" y="666720"/>
              <a:ext cx="777240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9680" y="3733920"/>
              <a:ext cx="124884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7160" y="4916520"/>
              <a:ext cx="378216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62C1-2B5F-4ED0-A7C8-92A31372F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360-705A-48F7-B765-7DA4F1AD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F279-49EC-472B-B885-DEB1C77CFB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6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7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8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5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26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327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8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329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1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37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75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376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1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382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4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385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386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8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389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90" name="Freeform 18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1" name="Freeform 19"/>
                  <p:cNvSpPr/>
                  <p:nvPr/>
                </p:nvSpPr>
                <p:spPr>
                  <a:xfrm rot="2711400">
                    <a:off x="8404200" y="1600560"/>
                    <a:ext cx="4752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2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39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4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5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396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7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8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39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0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1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402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3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4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405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6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7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40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9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0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411" name="Freeform 39"/>
                  <p:cNvSpPr/>
                  <p:nvPr/>
                </p:nvSpPr>
                <p:spPr>
                  <a:xfrm flipH="1" rot="18888600">
                    <a:off x="6790680" y="119664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2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9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20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3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435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68"/>
                <p:cNvGrpSpPr/>
                <p:nvPr/>
              </p:nvGrpSpPr>
              <p:grpSpPr>
                <a:xfrm>
                  <a:off x="7112160" y="15840"/>
                  <a:ext cx="607320" cy="784800"/>
                  <a:chOff x="7112160" y="15840"/>
                  <a:chExt cx="607320" cy="784800"/>
                </a:xfrm>
              </p:grpSpPr>
              <p:sp>
                <p:nvSpPr>
                  <p:cNvPr id="441" name="Freeform 69"/>
                  <p:cNvSpPr/>
                  <p:nvPr/>
                </p:nvSpPr>
                <p:spPr>
                  <a:xfrm flipH="1" rot="3474000">
                    <a:off x="7238880" y="47628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70"/>
                  <p:cNvSpPr/>
                  <p:nvPr/>
                </p:nvSpPr>
                <p:spPr>
                  <a:xfrm flipH="1" rot="3474000">
                    <a:off x="7114320" y="103680"/>
                    <a:ext cx="303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71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444" name="Freeform 72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47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50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2" name="Freeform 80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54" name="Group 82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455" name="Freeform 83"/>
                  <p:cNvSpPr/>
                  <p:nvPr/>
                </p:nvSpPr>
                <p:spPr>
                  <a:xfrm rot="17742000">
                    <a:off x="7554240" y="466920"/>
                    <a:ext cx="543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6" name="Freeform 84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7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458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9" name="Freeform 87"/>
                  <p:cNvSpPr/>
                  <p:nvPr/>
                </p:nvSpPr>
                <p:spPr>
                  <a:xfrm rot="18822600">
                    <a:off x="810108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0" name="Group 88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461" name="Freeform 89"/>
                  <p:cNvSpPr/>
                  <p:nvPr/>
                </p:nvSpPr>
                <p:spPr>
                  <a:xfrm rot="16696200">
                    <a:off x="7521480" y="478080"/>
                    <a:ext cx="487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2" name="Freeform 90"/>
                  <p:cNvSpPr/>
                  <p:nvPr/>
                </p:nvSpPr>
                <p:spPr>
                  <a:xfrm rot="16696200">
                    <a:off x="7702200" y="98280"/>
                    <a:ext cx="2617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3" name="Group 91"/>
                <p:cNvGrpSpPr/>
                <p:nvPr/>
              </p:nvGrpSpPr>
              <p:grpSpPr>
                <a:xfrm>
                  <a:off x="6711120" y="929880"/>
                  <a:ext cx="913680" cy="1249200"/>
                  <a:chOff x="6711120" y="929880"/>
                  <a:chExt cx="913680" cy="1249200"/>
                </a:xfrm>
              </p:grpSpPr>
              <p:sp>
                <p:nvSpPr>
                  <p:cNvPr id="464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5" name="Freeform 93"/>
                  <p:cNvSpPr/>
                  <p:nvPr/>
                </p:nvSpPr>
                <p:spPr>
                  <a:xfrm flipH="1" rot="18336000">
                    <a:off x="6714000" y="178704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9" name="Group 97"/>
                <p:cNvGrpSpPr/>
                <p:nvPr/>
              </p:nvGrpSpPr>
              <p:grpSpPr>
                <a:xfrm>
                  <a:off x="7312320" y="1001160"/>
                  <a:ext cx="363960" cy="1218240"/>
                  <a:chOff x="7312320" y="1001160"/>
                  <a:chExt cx="363960" cy="1218240"/>
                </a:xfrm>
              </p:grpSpPr>
              <p:sp>
                <p:nvSpPr>
                  <p:cNvPr id="470" name="Freeform 98"/>
                  <p:cNvSpPr/>
                  <p:nvPr/>
                </p:nvSpPr>
                <p:spPr>
                  <a:xfrm flipH="1" rot="16870800">
                    <a:off x="7135560" y="132804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1" name="Freeform 99"/>
                  <p:cNvSpPr/>
                  <p:nvPr/>
                </p:nvSpPr>
                <p:spPr>
                  <a:xfrm flipH="1" rot="16870800">
                    <a:off x="7254000" y="1876320"/>
                    <a:ext cx="421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2" name="Group 100"/>
                <p:cNvGrpSpPr/>
                <p:nvPr/>
              </p:nvGrpSpPr>
              <p:grpSpPr>
                <a:xfrm>
                  <a:off x="7798680" y="909000"/>
                  <a:ext cx="949680" cy="1230120"/>
                  <a:chOff x="7798680" y="909000"/>
                  <a:chExt cx="949680" cy="1230120"/>
                </a:xfrm>
              </p:grpSpPr>
              <p:sp>
                <p:nvSpPr>
                  <p:cNvPr id="473" name="Freeform 101"/>
                  <p:cNvSpPr/>
                  <p:nvPr/>
                </p:nvSpPr>
                <p:spPr>
                  <a:xfrm rot="3144000">
                    <a:off x="7689240" y="1228320"/>
                    <a:ext cx="8856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4" name="Freeform 102"/>
                  <p:cNvSpPr/>
                  <p:nvPr/>
                </p:nvSpPr>
                <p:spPr>
                  <a:xfrm rot="3144000">
                    <a:off x="826560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476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Freeform 105"/>
                  <p:cNvSpPr/>
                  <p:nvPr/>
                </p:nvSpPr>
                <p:spPr>
                  <a:xfrm rot="3745200">
                    <a:off x="8079840" y="1839960"/>
                    <a:ext cx="4539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8" name="Group 106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479" name="Freeform 107"/>
                  <p:cNvSpPr/>
                  <p:nvPr/>
                </p:nvSpPr>
                <p:spPr>
                  <a:xfrm rot="4286400">
                    <a:off x="7536240" y="1351440"/>
                    <a:ext cx="8222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0" name="Freeform 108"/>
                  <p:cNvSpPr/>
                  <p:nvPr/>
                </p:nvSpPr>
                <p:spPr>
                  <a:xfrm rot="4286400">
                    <a:off x="788256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8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4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485" name="Freeform 113"/>
                  <p:cNvSpPr/>
                  <p:nvPr/>
                </p:nvSpPr>
                <p:spPr>
                  <a:xfrm rot="5755200">
                    <a:off x="7320960" y="1401840"/>
                    <a:ext cx="738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6" name="Freeform 114"/>
                  <p:cNvSpPr/>
                  <p:nvPr/>
                </p:nvSpPr>
                <p:spPr>
                  <a:xfrm rot="5755200">
                    <a:off x="7398000" y="1928520"/>
                    <a:ext cx="3963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8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574C-032B-4300-BD48-B398A6E153F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651C-6D5B-4C42-B8CA-7F161A21D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"/>
          <p:cNvSpPr/>
          <p:nvPr/>
        </p:nvSpPr>
        <p:spPr>
          <a:xfrm>
            <a:off x="4264200" y="1197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幸福是什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6"/>
          <p:cNvSpPr/>
          <p:nvPr/>
        </p:nvSpPr>
        <p:spPr>
          <a:xfrm>
            <a:off x="3276720" y="1557360"/>
            <a:ext cx="55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395280" y="177336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三个青年最后明白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幸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468360" y="306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请在课文中找出来，并划下来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395280" y="4365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他们是如何弄明白的，都做过些什么呢，结果怎样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4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611280" y="2781360"/>
            <a:ext cx="7777080" cy="3672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6"/>
          <p:cNvSpPr/>
          <p:nvPr/>
        </p:nvSpPr>
        <p:spPr>
          <a:xfrm>
            <a:off x="1042920" y="260280"/>
            <a:ext cx="720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幸福要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靠劳动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要靠很好地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尽自己的义务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做出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对人们有益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的事情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755640" y="90792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Verdana"/>
              </a:rPr>
              <a:t>结合生活实际谈谈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755640" y="2349360"/>
            <a:ext cx="7058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你遇到过哪些让你感到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</a:rPr>
              <a:t>幸福</a:t>
            </a: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的事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684360" y="549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8B9C-74BC-4D1F-90CD-1E0454D20E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8"/>
          <p:cNvSpPr/>
          <p:nvPr/>
        </p:nvSpPr>
        <p:spPr>
          <a:xfrm>
            <a:off x="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Verdana"/>
              </a:rPr>
              <a:t>下去找有关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</a:rPr>
              <a:t>幸福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7200" spc="-1" strike="noStrike">
                <a:solidFill>
                  <a:srgbClr val="0000cc"/>
                </a:solidFill>
                <a:latin typeface="Verdana"/>
              </a:rPr>
              <a:t>的名人名言或语句，把它们收集起来，与同学交流。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9"/>
          <p:cNvSpPr/>
          <p:nvPr/>
        </p:nvSpPr>
        <p:spPr>
          <a:xfrm>
            <a:off x="611280" y="3068640"/>
            <a:ext cx="33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10"/>
          <p:cNvSpPr/>
          <p:nvPr/>
        </p:nvSpPr>
        <p:spPr>
          <a:xfrm>
            <a:off x="5219640" y="314172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4"/>
          <p:cNvSpPr/>
          <p:nvPr/>
        </p:nvSpPr>
        <p:spPr>
          <a:xfrm>
            <a:off x="324000" y="981000"/>
            <a:ext cx="85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祝大家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一生幸福！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"/>
          <p:cNvSpPr/>
          <p:nvPr/>
        </p:nvSpPr>
        <p:spPr>
          <a:xfrm>
            <a:off x="140328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8"/>
          <p:cNvSpPr/>
          <p:nvPr/>
        </p:nvSpPr>
        <p:spPr>
          <a:xfrm>
            <a:off x="684360" y="692280"/>
            <a:ext cx="381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</a:rPr>
              <a:t>想想说说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84360" y="27813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你认为什么是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细黑"/>
              </a:rPr>
              <a:t>幸福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468360" y="1413000"/>
            <a:ext cx="71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Verdana"/>
              </a:rPr>
              <a:t>快速阅读课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</a:rPr>
              <a:t>思考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4800" spc="-1" strike="noStrike">
                <a:solidFill>
                  <a:srgbClr val="0000ff"/>
                </a:solidFill>
                <a:latin typeface="Verdana"/>
              </a:rPr>
              <a:t>本文讲了一个什么故事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468360" y="4653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小组合作交流，并派代表反馈，其他同学可以补充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AutoShape 8"/>
          <p:cNvSpPr/>
          <p:nvPr/>
        </p:nvSpPr>
        <p:spPr>
          <a:xfrm rot="16200000">
            <a:off x="3744000" y="-207000"/>
            <a:ext cx="1008000" cy="81378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12040 h 8137800"/>
              <a:gd name="textAreaBottom" fmla="*/ 7925760 h 813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3" name="Group 14"/>
          <p:cNvGrpSpPr/>
          <p:nvPr/>
        </p:nvGrpSpPr>
        <p:grpSpPr>
          <a:xfrm>
            <a:off x="250920" y="1341360"/>
            <a:ext cx="8066160" cy="2226960"/>
            <a:chOff x="250920" y="1341360"/>
            <a:chExt cx="8066160" cy="2226960"/>
          </a:xfrm>
        </p:grpSpPr>
        <p:pic>
          <p:nvPicPr>
            <p:cNvPr id="774" name="Picture 4" descr="图片 006"/>
            <p:cNvPicPr/>
            <p:nvPr/>
          </p:nvPicPr>
          <p:blipFill>
            <a:blip r:embed="rId1">
              <a:lum contrast="60000"/>
            </a:blip>
            <a:stretch/>
          </p:blipFill>
          <p:spPr>
            <a:xfrm>
              <a:off x="250920" y="1341360"/>
              <a:ext cx="180036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5" descr="图片 008"/>
            <p:cNvPicPr/>
            <p:nvPr/>
          </p:nvPicPr>
          <p:blipFill>
            <a:blip r:embed="rId2">
              <a:lum contrast="66000"/>
            </a:blip>
            <a:stretch/>
          </p:blipFill>
          <p:spPr>
            <a:xfrm>
              <a:off x="3059280" y="1341360"/>
              <a:ext cx="1944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6" descr="图片 009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6300720" y="1414440"/>
              <a:ext cx="20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11"/>
            <p:cNvSpPr/>
            <p:nvPr/>
          </p:nvSpPr>
          <p:spPr>
            <a:xfrm>
              <a:off x="1258920" y="2925720"/>
              <a:ext cx="56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三        个        牧           童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8" name="Text Box 12"/>
          <p:cNvSpPr/>
          <p:nvPr/>
        </p:nvSpPr>
        <p:spPr>
          <a:xfrm>
            <a:off x="4643280" y="44370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砌水 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3"/>
          <p:cNvSpPr/>
          <p:nvPr/>
        </p:nvSpPr>
        <p:spPr>
          <a:xfrm>
            <a:off x="2268360" y="4437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清理老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1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75564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781" name="AutoShape 12"/>
          <p:cNvSpPr/>
          <p:nvPr/>
        </p:nvSpPr>
        <p:spPr>
          <a:xfrm>
            <a:off x="5292720" y="981000"/>
            <a:ext cx="3672000" cy="609840"/>
          </a:xfrm>
          <a:prstGeom prst="wedgeEllipseCallout">
            <a:avLst>
              <a:gd name="adj1" fmla="val -61930"/>
              <a:gd name="adj2" fmla="val 1705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祝你们幸福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AutoShape 13"/>
          <p:cNvSpPr/>
          <p:nvPr/>
        </p:nvSpPr>
        <p:spPr>
          <a:xfrm>
            <a:off x="684360" y="1484280"/>
            <a:ext cx="3240000" cy="576360"/>
          </a:xfrm>
          <a:prstGeom prst="wedgeEllipseCallout">
            <a:avLst>
              <a:gd name="adj1" fmla="val -14625"/>
              <a:gd name="adj2" fmla="val 3312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幸福”是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AutoShape 18"/>
          <p:cNvSpPr/>
          <p:nvPr/>
        </p:nvSpPr>
        <p:spPr>
          <a:xfrm>
            <a:off x="5003640" y="2133720"/>
            <a:ext cx="3924360" cy="647640"/>
          </a:xfrm>
          <a:prstGeom prst="wedgeEllipseCallout">
            <a:avLst>
              <a:gd name="adj1" fmla="val -47814"/>
              <a:gd name="adj2" fmla="val 803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己去弄明白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5" descr="图片 006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5435640" y="2852640"/>
            <a:ext cx="1295280" cy="15033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图片 00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2771640" y="2852640"/>
            <a:ext cx="1295640" cy="15130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图片 009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140360" y="2852640"/>
            <a:ext cx="1296720" cy="1511280"/>
          </a:xfrm>
          <a:prstGeom prst="rect">
            <a:avLst/>
          </a:prstGeom>
          <a:ln w="0">
            <a:noFill/>
          </a:ln>
        </p:spPr>
      </p:pic>
      <p:sp>
        <p:nvSpPr>
          <p:cNvPr id="788" name="Line 11"/>
          <p:cNvSpPr/>
          <p:nvPr/>
        </p:nvSpPr>
        <p:spPr>
          <a:xfrm flipH="1">
            <a:off x="1835280" y="4365720"/>
            <a:ext cx="32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4859280" y="4365720"/>
            <a:ext cx="2879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13"/>
          <p:cNvSpPr/>
          <p:nvPr/>
        </p:nvSpPr>
        <p:spPr>
          <a:xfrm>
            <a:off x="104292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7956720" y="3938760"/>
            <a:ext cx="6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15"/>
          <p:cNvSpPr/>
          <p:nvPr/>
        </p:nvSpPr>
        <p:spPr>
          <a:xfrm rot="16200000">
            <a:off x="4572000" y="4005000"/>
            <a:ext cx="431640" cy="115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363528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留在村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5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" dur="5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WordArt 6"/>
          <p:cNvSpPr txBox="1"/>
          <p:nvPr/>
        </p:nvSpPr>
        <p:spPr>
          <a:xfrm>
            <a:off x="611280" y="907920"/>
            <a:ext cx="7056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十年后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4" descr="0"/>
          <p:cNvPicPr/>
          <p:nvPr/>
        </p:nvPicPr>
        <p:blipFill>
          <a:blip r:embed="rId2"/>
          <a:stretch/>
        </p:blipFill>
        <p:spPr>
          <a:xfrm>
            <a:off x="324000" y="549360"/>
            <a:ext cx="7924680" cy="5616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15"/>
          <p:cNvSpPr/>
          <p:nvPr/>
        </p:nvSpPr>
        <p:spPr>
          <a:xfrm>
            <a:off x="32400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再次相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0"/>
          <p:cNvGrpSpPr/>
          <p:nvPr/>
        </p:nvGrpSpPr>
        <p:grpSpPr>
          <a:xfrm>
            <a:off x="250920" y="333360"/>
            <a:ext cx="2663640" cy="2879640"/>
            <a:chOff x="250920" y="333360"/>
            <a:chExt cx="2663640" cy="2879640"/>
          </a:xfrm>
        </p:grpSpPr>
        <p:pic>
          <p:nvPicPr>
            <p:cNvPr id="798" name="Picture 5" descr="图片 008"/>
            <p:cNvPicPr/>
            <p:nvPr/>
          </p:nvPicPr>
          <p:blipFill>
            <a:blip r:embed="rId1">
              <a:lum contrast="66000"/>
            </a:blip>
            <a:stretch/>
          </p:blipFill>
          <p:spPr>
            <a:xfrm>
              <a:off x="250920" y="333360"/>
              <a:ext cx="26636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Line 7"/>
            <p:cNvSpPr/>
            <p:nvPr/>
          </p:nvSpPr>
          <p:spPr>
            <a:xfrm flipH="1">
              <a:off x="1329840" y="2349360"/>
              <a:ext cx="108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0" name="Group 21"/>
          <p:cNvGrpSpPr/>
          <p:nvPr/>
        </p:nvGrpSpPr>
        <p:grpSpPr>
          <a:xfrm>
            <a:off x="3348000" y="333360"/>
            <a:ext cx="2592360" cy="2751120"/>
            <a:chOff x="3348000" y="333360"/>
            <a:chExt cx="2592360" cy="2751120"/>
          </a:xfrm>
        </p:grpSpPr>
        <p:pic>
          <p:nvPicPr>
            <p:cNvPr id="801" name="Picture 6" descr="图片 009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3348000" y="333360"/>
              <a:ext cx="259236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Line 8"/>
            <p:cNvSpPr/>
            <p:nvPr/>
          </p:nvSpPr>
          <p:spPr>
            <a:xfrm>
              <a:off x="4716360" y="2421000"/>
              <a:ext cx="0" cy="66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3" name="Group 22"/>
          <p:cNvGrpSpPr/>
          <p:nvPr/>
        </p:nvGrpSpPr>
        <p:grpSpPr>
          <a:xfrm>
            <a:off x="6227640" y="333360"/>
            <a:ext cx="2665440" cy="2933640"/>
            <a:chOff x="6227640" y="333360"/>
            <a:chExt cx="2665440" cy="2933640"/>
          </a:xfrm>
        </p:grpSpPr>
        <p:pic>
          <p:nvPicPr>
            <p:cNvPr id="804" name="Picture 4" descr="图片 006"/>
            <p:cNvPicPr/>
            <p:nvPr/>
          </p:nvPicPr>
          <p:blipFill>
            <a:blip r:embed="rId3">
              <a:lum contrast="60000"/>
            </a:blip>
            <a:stretch/>
          </p:blipFill>
          <p:spPr>
            <a:xfrm>
              <a:off x="6227640" y="333360"/>
              <a:ext cx="2665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Line 9"/>
            <p:cNvSpPr/>
            <p:nvPr/>
          </p:nvSpPr>
          <p:spPr>
            <a:xfrm>
              <a:off x="7885080" y="2421000"/>
              <a:ext cx="1440" cy="84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Text Box 11"/>
          <p:cNvSpPr/>
          <p:nvPr/>
        </p:nvSpPr>
        <p:spPr>
          <a:xfrm>
            <a:off x="179280" y="314172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做医生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帮助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别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3564000" y="3213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做过许多事（对别人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有用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6551640" y="328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耕地种麦子（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养活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许多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AutoShape 14"/>
          <p:cNvSpPr/>
          <p:nvPr/>
        </p:nvSpPr>
        <p:spPr>
          <a:xfrm rot="16200000">
            <a:off x="4361400" y="795600"/>
            <a:ext cx="420840" cy="9144000"/>
          </a:xfrm>
          <a:custGeom>
            <a:avLst/>
            <a:gdLst>
              <a:gd name="textAreaLeft" fmla="*/ 268920 w 420840"/>
              <a:gd name="textAreaRight" fmla="*/ 421200 w 42084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Text Box 15"/>
          <p:cNvSpPr/>
          <p:nvPr/>
        </p:nvSpPr>
        <p:spPr>
          <a:xfrm>
            <a:off x="3419640" y="587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感到幸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6:05Z</dcterms:created>
  <dc:creator>An</dc:creator>
  <dc:description/>
  <dc:language>en-US</dc:language>
  <cp:lastModifiedBy/>
  <dcterms:modified xsi:type="dcterms:W3CDTF">2015-07-11T09:21:34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