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DF7-7E47-4D25-BD30-A5AB8FEE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C96-90E0-41E5-86F2-FF08643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0A7-5C39-404C-8F3C-DD04AB9E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566-8635-4209-A020-D552F04A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FC9-919C-4B9A-99F5-79B77552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CCA2-4D6E-4181-94F4-185A556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799B-4075-467F-B3B8-571DBFF0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5057-0822-4E31-BCAE-BBDDA44E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36E-F721-409A-A165-3850ED57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C9D-A04C-4D3F-8D5C-567FA86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B1BC-AF35-4D2E-9EC1-EED8179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310-D270-4329-AC6A-7885D612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6969-4A00-42FC-AFB0-D1D8B6D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4BE7-CF26-45ED-A05B-8862B7C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1B00-1DAF-4141-A79F-1A24469A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E88-D22D-4565-8119-6304B086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A5C7-5AE0-4FC5-AFA0-DA4DCFA3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9E6E-BEB0-4FA9-87FF-8DA65FBA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0A41-77D2-4A83-BCAD-9966393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7CDC-FC80-4C92-87D6-3B30D5D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8366-4A65-45A5-B35C-AD96B5ED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1E90-BB40-4C46-8782-E4E0BFD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49B-4C5A-4E39-9222-D140A95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EFAE-9DB3-44DF-9500-409695DB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52E3-A2D6-4DC3-90CD-3858B01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EB29-D37D-4E95-8B19-2F76FAB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8C14-D2E1-444E-B767-2711D64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C88A-CD68-49F8-84D7-426F7AFA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8893-7966-4F25-BDBA-4705EBC8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6229-EDCD-4413-83F4-4CDC3B71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A9B7-DF22-4470-8C0C-EF4099CC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722A-BBDA-446E-9629-EBFB443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68BB-3871-4ECC-9B16-B32EB9C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CEE-06A7-4B3E-B3D6-2BE4E215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04CA-16D7-4E30-B0D5-045B7F7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32A5-2BDC-4D3C-A4AA-7D702F3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4B85-7569-478C-8E83-1CBC995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50D2-3B2A-40A5-B162-8FB68C3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5A3C-3390-4406-9995-6F6DE329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C83F-048E-453A-B57F-2055BBD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7196-A9FA-44AA-8B92-0453B76F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0307-E7BA-48C1-BF1B-AD59E8A5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A2FF-6938-444A-ACD1-3C20210E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6A37-83E6-4C8B-9C8F-B4377C56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F71-AA21-4AA3-9ABC-45B6611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6158-639A-4794-987A-92B9D2C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063C8-2E38-4DE6-B70B-4DB950F8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7BF2C-AEDD-4A4B-9020-7CD9063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4D8B-3D92-46A8-B47D-232CF1A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E64E-4384-4D08-BAA2-68F1B28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9BE6-531B-4BA8-B1DE-729BF73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A6E7-46F7-46E8-9074-760624A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8506-E1C9-4E62-AA31-FC6CE1F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D462-62F0-47FD-A252-200F6EC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8D84C-8C15-4040-8A65-D244D9D3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390-E757-4F6E-A5ED-1A746A3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756A4-2168-4145-A012-4F7ECA0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268-7B60-448A-894B-E76EA74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2E5-1CD9-47F0-BFEB-B7CF441A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2E2-96C3-4E77-A352-DF1F458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D8A-C6B3-4FFB-9FFB-70AF9DCFD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F2D-8921-48DC-8DCE-2B0BD4D81C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E0D-DF8A-4034-A89D-5B3587469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452-831F-4D10-A171-9C5E54FE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6F9-564C-443C-ACF1-6C2169C56D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8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205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20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7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208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7,9,&#24187;&#28783;&#29255; 9" TargetMode="External"/><Relationship Id="rId3" Type="http://schemas.openxmlformats.org/officeDocument/2006/relationships/hyperlink" Target="264,10,&#24187;&#28783;&#29255; 10" TargetMode="External"/><Relationship Id="rId4" Type="http://schemas.openxmlformats.org/officeDocument/2006/relationships/hyperlink" Target="272,9,&#24187;&#28783;&#29255; 9" TargetMode="External"/><Relationship Id="rId5" Type="http://schemas.openxmlformats.org/officeDocument/2006/relationships/hyperlink" Target="272,9,&#24187;&#28783;&#29255; 9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6,4,&#24187;&#28783;&#29255; 4" TargetMode="External"/><Relationship Id="rId3" Type="http://schemas.openxmlformats.org/officeDocument/2006/relationships/hyperlink" Target="256,4,&#24187;&#28783;&#29255; 4" TargetMode="External"/><Relationship Id="rId4" Type="http://schemas.openxmlformats.org/officeDocument/2006/relationships/hyperlink" Target="256,4,&#24187;&#28783;&#29255; 4" TargetMode="Externa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F:\ppt\704a\小学四年级上册语文第十课幸福是什么PPT课件2\1-1305150Z504I0.jpg"/>
          <p:cNvPicPr/>
          <p:nvPr/>
        </p:nvPicPr>
        <p:blipFill>
          <a:blip r:embed="rId17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2320" y="90972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幸福是什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小可爱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1042920" y="6922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说一说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华文行楷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11280" y="17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智慧的女儿对三个青年说：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所以我是幸福的。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小可爱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179280" y="404640"/>
            <a:ext cx="9144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我想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　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妈妈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下班回到家，我赶紧给她端去一杯热水，妈妈笑了。我觉得幸福是（              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开始发卷子了，小红却发现自己的笔没水了。看着她那焦急的样子，我（              ），小红笑了。我觉得幸福是（      ）。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</a:rPr>
              <a:t>                    </a:t>
            </a:r>
            <a:r>
              <a:rPr b="0" lang="zh-CN" sz="5400" spc="-1" strike="noStrike" u="sng">
                <a:solidFill>
                  <a:srgbClr val="703dff"/>
                </a:solidFill>
                <a:uFillTx/>
                <a:latin typeface="Arial"/>
                <a:ea typeface="华文行楷"/>
              </a:rPr>
              <a:t>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200 w 539640"/>
              <a:gd name="textAreaRight" fmla="*/ 514440 w 53964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3440" y="238284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最后一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两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7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加三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以上  加四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CBA9-0CD3-4B77-A343-EE2C201937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秋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627120" y="1268280"/>
            <a:ext cx="85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共同奋斗，共同受苦，共同建造便是幸福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曼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395280" y="119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我会演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让我们小组合作，把这个童话故事演一演吧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328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小熊"/>
          <p:cNvPicPr/>
          <p:nvPr/>
        </p:nvPicPr>
        <p:blipFill>
          <a:blip r:embed="rId1"/>
          <a:stretch/>
        </p:blipFill>
        <p:spPr>
          <a:xfrm>
            <a:off x="3851280" y="2882880"/>
            <a:ext cx="4968720" cy="3732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634760" y="2133720"/>
            <a:ext cx="5947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此   铁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锹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 树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杈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诧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异  小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麦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  义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务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898560" y="99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ff"/>
                </a:solidFill>
                <a:latin typeface="Arial"/>
                <a:ea typeface="华文行楷"/>
              </a:rPr>
              <a:t>我会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E02-35C9-4823-8D1A-A519E53E2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755640" y="1700280"/>
            <a:ext cx="7904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幸福要靠劳动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要靠很好地尽自己的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义务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做出对人们有益的事情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①   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◆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324000" y="62064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给病人治病。他们恢复了健康，多么幸福。我能帮助别人，因而感到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006633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395280" y="476280"/>
            <a:ext cx="797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勤勤恳恳地工作，我的工作对别人都是有用的。我的劳动没有白费，所以我是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的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468360" y="333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耕地。地上长出麦子来。麦子养活了许多人。我的劳动也没有白费。我也感到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0" y="1773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cc"/>
                </a:solidFill>
                <a:latin typeface="Arial"/>
                <a:ea typeface="华文行楷"/>
              </a:rPr>
              <a:t>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0" y="549360"/>
            <a:ext cx="914400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一个青年是怎样给病人治病的，病人恢复健康后会说什么？他会有什么样的感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2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二个青年当花匠的时候会做些什么，人们会对他说什么？他又有什么样的感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3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第三个青年种的“麦子养活了很多人”的情景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4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pic_114943"/>
          <p:cNvPicPr/>
          <p:nvPr/>
        </p:nvPicPr>
        <p:blipFill>
          <a:blip r:embed="rId1"/>
          <a:stretch/>
        </p:blipFill>
        <p:spPr>
          <a:xfrm>
            <a:off x="1258920" y="0"/>
            <a:ext cx="62658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1908000" y="404640"/>
            <a:ext cx="5040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为什么智慧的女儿会来到三个牧童的身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90400" y="623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8:27:51Z</dcterms:created>
  <dc:creator>An</dc:creator>
  <dc:description/>
  <dc:language>en-US</dc:language>
  <cp:lastModifiedBy/>
  <dcterms:modified xsi:type="dcterms:W3CDTF">2015-07-11T09:23:54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