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461-1E70-463E-91F8-E0894CFE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12D-674B-4450-A2DE-56FC256D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C63-B8D3-4331-91BD-0197FFDF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1E2-BF05-410A-A27F-1ECD06F7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02A8-FBC0-4259-A2DD-C41A733E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6729-18CA-4895-8524-E10A9BC9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028B-54EE-42E7-9E0A-A2FF5488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4DF6-D52C-4533-8B79-9F5BA69E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D890-E291-45D2-8314-509344FF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DAA6-1ECE-4A11-BAAF-FDF53993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B9F8-0B23-4A99-8353-4C7FFFE7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38E-4049-4701-9CDE-762D9A5E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1276-469A-416E-A7AE-616E2474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8834-2C6E-47B1-9D06-D8A7F0C1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D880-476C-459A-B8F4-6C05A82E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7C81-E49A-4CFC-A0BD-67F7FFB6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26C5-028C-4769-A55F-ECBC85B9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02BBF-B12A-457C-B06A-0646B2F5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4C0B1-4AFD-4508-8D68-03E2439C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E920A-1F26-4248-BE48-889EDB92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B116C-0F8A-404E-81C6-0249A2B4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841B-65F1-4D83-BDD9-523522A6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1B5-F49E-4142-AE61-583D87C3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4A7FD-F4CF-4B95-B498-6925A04A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21969-1FA3-47C2-BA58-3A16FB99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E23C7-3A22-449F-8670-DEBC8E6D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62D6E-BF80-4420-8D54-421AA9B3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A71A-BE52-4A4B-AB1B-B76C68F4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80917-4FC7-45B4-82BD-F715BAE3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258C-CCEF-434E-9DA1-93A86DE9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791-EF92-4FD0-8758-7F329750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59C-3465-4C8D-A75E-4F140B0E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4D1-605F-406E-92BB-CCE34119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9EE-83D2-4699-929E-90448DB5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2C4-AA3B-4F48-BF91-63D7E370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61C-7EBD-4855-A5D6-9DA3DAC2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2C09-3948-40B7-AA99-92C3BD4986D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12B6-F08F-4485-819A-97C936CE80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0D23-DF98-4469-AA38-E519D3DA890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Image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4870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x2"/>
          <p:cNvPicPr/>
          <p:nvPr/>
        </p:nvPicPr>
        <p:blipFill>
          <a:blip r:embed="rId1"/>
          <a:stretch/>
        </p:blipFill>
        <p:spPr>
          <a:xfrm>
            <a:off x="2340000" y="3645000"/>
            <a:ext cx="4572000" cy="27813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250920" y="981000"/>
            <a:ext cx="86421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写三个牧童把一口老喷泉挖成一口小水井，因而得到了智慧的女儿的祝福，并让他们自己去弄明白幸福是什么。十年以后，三个青年与智慧的女儿在小井旁边再次相遇，他们通过自己的劳动亲身体会到了幸福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084840" y="1159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课文讲了一件什么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 rot="16200000">
            <a:off x="3744000" y="-207000"/>
            <a:ext cx="1008000" cy="8137800"/>
          </a:xfrm>
          <a:custGeom>
            <a:avLst/>
            <a:gdLst>
              <a:gd name="textAreaLeft" fmla="*/ 644040 w 1008000"/>
              <a:gd name="textAreaRight" fmla="*/ 1008360 w 1008000"/>
              <a:gd name="textAreaTop" fmla="*/ 212040 h 8137800"/>
              <a:gd name="textAreaBottom" fmla="*/ 7925760 h 813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5"/>
                </a:lnTo>
                <a:cubicBezTo>
                  <a:pt x="10800" y="9905"/>
                  <a:pt x="5400" y="10805"/>
                  <a:pt x="0" y="10805"/>
                </a:cubicBezTo>
                <a:cubicBezTo>
                  <a:pt x="5400" y="10805"/>
                  <a:pt x="10800" y="11705"/>
                  <a:pt x="10800" y="126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图片 006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250920" y="1341360"/>
            <a:ext cx="1800000" cy="1503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图片 008"/>
          <p:cNvPicPr/>
          <p:nvPr/>
        </p:nvPicPr>
        <p:blipFill>
          <a:blip r:embed="rId2">
            <a:lum contrast="66000"/>
          </a:blip>
          <a:stretch/>
        </p:blipFill>
        <p:spPr>
          <a:xfrm>
            <a:off x="3059280" y="1341360"/>
            <a:ext cx="1944360" cy="1513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图片 009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6300720" y="1414440"/>
            <a:ext cx="2016360" cy="15112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1258920" y="292572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三     个      牧        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643280" y="4437000"/>
            <a:ext cx="229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砌水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752480" y="44370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清理老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017000" y="260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事情的起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95280" y="1197000"/>
            <a:ext cx="780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常从村子里把羊群赶到很远的树林里去，树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里有一口老泉，已经不涌泉水了，泉口上堆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枯枝败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4920" y="2781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他们挖小水井时心情怎么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4356000" y="2709720"/>
            <a:ext cx="16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高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79280" y="3357720"/>
            <a:ext cx="83012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个牧童挖小水井的目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了让别人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24000" y="5229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他们快乐是因为他们看到自己的劳动有了成果并且给别人带来好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图片 003"/>
          <p:cNvPicPr/>
          <p:nvPr/>
        </p:nvPicPr>
        <p:blipFill>
          <a:blip r:embed="rId1">
            <a:lum contrast="46000"/>
          </a:blip>
          <a:stretch/>
        </p:blipFill>
        <p:spPr>
          <a:xfrm>
            <a:off x="755640" y="2349360"/>
            <a:ext cx="6840720" cy="36720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3"/>
          <p:cNvSpPr/>
          <p:nvPr/>
        </p:nvSpPr>
        <p:spPr>
          <a:xfrm>
            <a:off x="4800600" y="533520"/>
            <a:ext cx="4343400" cy="1057320"/>
          </a:xfrm>
          <a:prstGeom prst="wedgeEllipseCallout">
            <a:avLst>
              <a:gd name="adj1" fmla="val -48759"/>
              <a:gd name="adj2" fmla="val 11951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祝你们幸福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684360" y="685800"/>
            <a:ext cx="3811320" cy="1374840"/>
          </a:xfrm>
          <a:prstGeom prst="wedgeEllipseCallout">
            <a:avLst>
              <a:gd name="adj1" fmla="val -19930"/>
              <a:gd name="adj2" fmla="val 16789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幸福”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4267080" y="2057400"/>
            <a:ext cx="4876920" cy="1028880"/>
          </a:xfrm>
          <a:prstGeom prst="wedgeEllipseCallout">
            <a:avLst>
              <a:gd name="adj1" fmla="val -35740"/>
              <a:gd name="adj2" fmla="val 6913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己去弄明白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图片 006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5867280" y="2057400"/>
            <a:ext cx="1981440" cy="2298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图片 008"/>
          <p:cNvPicPr/>
          <p:nvPr/>
        </p:nvPicPr>
        <p:blipFill>
          <a:blip r:embed="rId2">
            <a:lum contrast="66000"/>
          </a:blip>
          <a:stretch/>
        </p:blipFill>
        <p:spPr>
          <a:xfrm>
            <a:off x="1755720" y="2057400"/>
            <a:ext cx="2130480" cy="2274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图片 009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3886200" y="2057400"/>
            <a:ext cx="1979640" cy="2306520"/>
          </a:xfrm>
          <a:prstGeom prst="rect">
            <a:avLst/>
          </a:prstGeom>
          <a:ln w="0">
            <a:noFill/>
          </a:ln>
        </p:spPr>
      </p:pic>
      <p:sp>
        <p:nvSpPr>
          <p:cNvPr id="185" name="Line 5"/>
          <p:cNvSpPr/>
          <p:nvPr/>
        </p:nvSpPr>
        <p:spPr>
          <a:xfrm flipH="1">
            <a:off x="1835280" y="4365720"/>
            <a:ext cx="3240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4859280" y="4365720"/>
            <a:ext cx="2879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762120" y="4005360"/>
            <a:ext cx="92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56720" y="3938760"/>
            <a:ext cx="80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 rot="16200000">
            <a:off x="4572000" y="4005000"/>
            <a:ext cx="431640" cy="1152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635280" y="4941720"/>
            <a:ext cx="268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留在村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2195640" y="4870440"/>
            <a:ext cx="365760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十年后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3" name="Picture 4" descr="pic_114943"/>
          <p:cNvPicPr/>
          <p:nvPr/>
        </p:nvPicPr>
        <p:blipFill>
          <a:blip r:embed="rId1"/>
          <a:stretch/>
        </p:blipFill>
        <p:spPr>
          <a:xfrm>
            <a:off x="2340000" y="620640"/>
            <a:ext cx="3178080" cy="39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0"/>
          <p:cNvPicPr/>
          <p:nvPr/>
        </p:nvPicPr>
        <p:blipFill>
          <a:blip r:embed="rId1"/>
          <a:stretch/>
        </p:blipFill>
        <p:spPr>
          <a:xfrm>
            <a:off x="324000" y="549360"/>
            <a:ext cx="7924680" cy="5616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324000" y="40464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</a:rPr>
              <a:t>再次相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-31680" y="404640"/>
            <a:ext cx="913752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三个青年快乐地看着这一切”说明了什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243160" y="2598840"/>
            <a:ext cx="487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三个青年已经懂得了幸福的含义，枯枝败叶变成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枝繁叶茂，小鸟，鹿和兔子得以生存，周围的人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饮水得到方便，是他们砌的水井起了作用，他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平凡的劳动是有意义的，所以他们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0" y="838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楷体_GB2312"/>
              </a:rPr>
              <a:t>　　三个青年最后明白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00ff"/>
                </a:solidFill>
                <a:latin typeface="Verdana"/>
                <a:ea typeface="楷体_GB2312"/>
              </a:rPr>
              <a:t>幸福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楷体_GB2312"/>
              </a:rPr>
              <a:t>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0" y="2590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楷体_GB2312"/>
              </a:rPr>
              <a:t>　　请在课文中找出来，并划下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0" y="4038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　　他们是如何弄明白的，都做过些什么呢，结果怎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r1"/>
          <p:cNvPicPr/>
          <p:nvPr/>
        </p:nvPicPr>
        <p:blipFill>
          <a:blip r:embed="rId1"/>
          <a:stretch/>
        </p:blipFill>
        <p:spPr>
          <a:xfrm>
            <a:off x="6972480" y="2276640"/>
            <a:ext cx="2171520" cy="35049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我给病人治病。他们恢复了健康，多么幸福。我能帮助别人，因而也感到幸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1"/>
          <p:cNvPicPr/>
          <p:nvPr/>
        </p:nvPicPr>
        <p:blipFill>
          <a:blip r:embed="rId1"/>
          <a:srcRect l="0" t="0" r="-9" b="6"/>
          <a:stretch/>
        </p:blipFill>
        <p:spPr>
          <a:xfrm>
            <a:off x="609480" y="152280"/>
            <a:ext cx="4724640" cy="6705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10080" y="274680"/>
            <a:ext cx="327672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细黑"/>
              </a:rPr>
              <a:t>幸福是什么？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细黑"/>
              </a:rPr>
              <a:t>幸福就是童年吹出的五彩缤纷的泡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r2"/>
          <p:cNvPicPr/>
          <p:nvPr/>
        </p:nvPicPr>
        <p:blipFill>
          <a:blip r:embed="rId1"/>
          <a:stretch/>
        </p:blipFill>
        <p:spPr>
          <a:xfrm>
            <a:off x="6946920" y="-14400"/>
            <a:ext cx="2305080" cy="6959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404280"/>
            <a:ext cx="7499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我走了很多地方，做过很多事。我在火车上、轮船上工作过，当过消防队员，当过花匠，还做过许多别的事。我勤勤恳恳地工作，对别人都是有用的。我的劳动没有白费，所以我感到幸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r3"/>
          <p:cNvPicPr/>
          <p:nvPr/>
        </p:nvPicPr>
        <p:blipFill>
          <a:blip r:embed="rId1"/>
          <a:stretch/>
        </p:blipFill>
        <p:spPr>
          <a:xfrm>
            <a:off x="5292720" y="1700280"/>
            <a:ext cx="3352680" cy="39718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475920"/>
            <a:ext cx="5986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我耕地。地上长出麦子来。麦子养活了许多人。我的劳动，你们看，也没有白费。我也感到幸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179280" y="333360"/>
            <a:ext cx="2735280" cy="4730760"/>
            <a:chOff x="179280" y="333360"/>
            <a:chExt cx="2735280" cy="4730760"/>
          </a:xfrm>
        </p:grpSpPr>
        <p:grpSp>
          <p:nvGrpSpPr>
            <p:cNvPr id="212" name="Group 3"/>
            <p:cNvGrpSpPr/>
            <p:nvPr/>
          </p:nvGrpSpPr>
          <p:grpSpPr>
            <a:xfrm>
              <a:off x="250560" y="333360"/>
              <a:ext cx="2664000" cy="2879640"/>
              <a:chOff x="250560" y="333360"/>
              <a:chExt cx="2664000" cy="2879640"/>
            </a:xfrm>
          </p:grpSpPr>
          <p:pic>
            <p:nvPicPr>
              <p:cNvPr id="213" name="Picture 4" descr="图片 008"/>
              <p:cNvPicPr/>
              <p:nvPr/>
            </p:nvPicPr>
            <p:blipFill>
              <a:blip r:embed="rId1">
                <a:lum contrast="66000"/>
              </a:blip>
              <a:stretch/>
            </p:blipFill>
            <p:spPr>
              <a:xfrm>
                <a:off x="250560" y="333360"/>
                <a:ext cx="2664000" cy="20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5"/>
              <p:cNvSpPr/>
              <p:nvPr/>
            </p:nvSpPr>
            <p:spPr>
              <a:xfrm flipH="1">
                <a:off x="1330200" y="2349360"/>
                <a:ext cx="1440" cy="863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Text Box 6"/>
            <p:cNvSpPr/>
            <p:nvPr/>
          </p:nvSpPr>
          <p:spPr>
            <a:xfrm>
              <a:off x="179280" y="3141720"/>
              <a:ext cx="18003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Verdana"/>
                </a:rPr>
                <a:t>做医生</a:t>
              </a:r>
              <a:r>
                <a:rPr b="1" lang="zh-CN" sz="4000" spc="-1" strike="noStrike">
                  <a:solidFill>
                    <a:srgbClr val="ff0000"/>
                  </a:solidFill>
                  <a:latin typeface="Verdana"/>
                </a:rPr>
                <a:t>(</a:t>
              </a:r>
              <a:r>
                <a:rPr b="1" lang="zh-CN" sz="4000" spc="-1" strike="noStrike">
                  <a:solidFill>
                    <a:srgbClr val="0000ff"/>
                  </a:solidFill>
                  <a:latin typeface="Verdana"/>
                </a:rPr>
                <a:t>帮助</a:t>
              </a:r>
              <a:r>
                <a:rPr b="1" lang="zh-CN" sz="4000" spc="-1" strike="noStrike">
                  <a:solidFill>
                    <a:srgbClr val="ff0000"/>
                  </a:solidFill>
                  <a:latin typeface="Verdana"/>
                </a:rPr>
                <a:t>别人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7"/>
          <p:cNvGrpSpPr/>
          <p:nvPr/>
        </p:nvGrpSpPr>
        <p:grpSpPr>
          <a:xfrm>
            <a:off x="3348000" y="333360"/>
            <a:ext cx="2808360" cy="4192560"/>
            <a:chOff x="3348000" y="333360"/>
            <a:chExt cx="2808360" cy="4192560"/>
          </a:xfrm>
        </p:grpSpPr>
        <p:grpSp>
          <p:nvGrpSpPr>
            <p:cNvPr id="217" name="Group 8"/>
            <p:cNvGrpSpPr/>
            <p:nvPr/>
          </p:nvGrpSpPr>
          <p:grpSpPr>
            <a:xfrm>
              <a:off x="3348000" y="333360"/>
              <a:ext cx="2592360" cy="2751120"/>
              <a:chOff x="3348000" y="333360"/>
              <a:chExt cx="2592360" cy="2751120"/>
            </a:xfrm>
          </p:grpSpPr>
          <p:pic>
            <p:nvPicPr>
              <p:cNvPr id="218" name="Picture 9" descr="图片 009"/>
              <p:cNvPicPr/>
              <p:nvPr/>
            </p:nvPicPr>
            <p:blipFill>
              <a:blip r:embed="rId2">
                <a:lum contrast="54000"/>
              </a:blip>
              <a:stretch/>
            </p:blipFill>
            <p:spPr>
              <a:xfrm>
                <a:off x="3348000" y="333360"/>
                <a:ext cx="2592360" cy="211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Line 10"/>
              <p:cNvSpPr/>
              <p:nvPr/>
            </p:nvSpPr>
            <p:spPr>
              <a:xfrm>
                <a:off x="4716360" y="2421000"/>
                <a:ext cx="0" cy="663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Text Box 11"/>
            <p:cNvSpPr/>
            <p:nvPr/>
          </p:nvSpPr>
          <p:spPr>
            <a:xfrm>
              <a:off x="3564000" y="3213000"/>
              <a:ext cx="2592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Verdana"/>
                </a:rPr>
                <a:t>做过许多事（对别人</a:t>
              </a:r>
              <a:r>
                <a:rPr b="1" lang="zh-CN" sz="4000" spc="-1" strike="noStrike">
                  <a:solidFill>
                    <a:srgbClr val="0000ff"/>
                  </a:solidFill>
                  <a:latin typeface="Verdana"/>
                </a:rPr>
                <a:t>有用</a:t>
              </a:r>
              <a:r>
                <a:rPr b="1" lang="zh-CN" sz="4000" spc="-1" strike="noStrike">
                  <a:solidFill>
                    <a:srgbClr val="ff0000"/>
                  </a:solidFill>
                  <a:latin typeface="Verdana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2"/>
          <p:cNvGrpSpPr/>
          <p:nvPr/>
        </p:nvGrpSpPr>
        <p:grpSpPr>
          <a:xfrm>
            <a:off x="6227640" y="333360"/>
            <a:ext cx="2916360" cy="4264200"/>
            <a:chOff x="6227640" y="333360"/>
            <a:chExt cx="2916360" cy="4264200"/>
          </a:xfrm>
        </p:grpSpPr>
        <p:grpSp>
          <p:nvGrpSpPr>
            <p:cNvPr id="222" name="Group 13"/>
            <p:cNvGrpSpPr/>
            <p:nvPr/>
          </p:nvGrpSpPr>
          <p:grpSpPr>
            <a:xfrm>
              <a:off x="6227640" y="333360"/>
              <a:ext cx="2665440" cy="2933640"/>
              <a:chOff x="6227640" y="333360"/>
              <a:chExt cx="2665440" cy="2933640"/>
            </a:xfrm>
          </p:grpSpPr>
          <p:pic>
            <p:nvPicPr>
              <p:cNvPr id="223" name="Picture 14" descr="图片 006"/>
              <p:cNvPicPr/>
              <p:nvPr/>
            </p:nvPicPr>
            <p:blipFill>
              <a:blip r:embed="rId3">
                <a:lum contrast="60000"/>
              </a:blip>
              <a:stretch/>
            </p:blipFill>
            <p:spPr>
              <a:xfrm>
                <a:off x="6227640" y="333360"/>
                <a:ext cx="2665440" cy="201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Line 15"/>
              <p:cNvSpPr/>
              <p:nvPr/>
            </p:nvSpPr>
            <p:spPr>
              <a:xfrm>
                <a:off x="7885080" y="2421000"/>
                <a:ext cx="1440" cy="84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 Box 16"/>
            <p:cNvSpPr/>
            <p:nvPr/>
          </p:nvSpPr>
          <p:spPr>
            <a:xfrm>
              <a:off x="6551640" y="3284640"/>
              <a:ext cx="2592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Verdana"/>
                </a:rPr>
                <a:t>耕地种麦子（</a:t>
              </a:r>
              <a:r>
                <a:rPr b="1" lang="zh-CN" sz="4000" spc="-1" strike="noStrike">
                  <a:solidFill>
                    <a:srgbClr val="0000ff"/>
                  </a:solidFill>
                  <a:latin typeface="Verdana"/>
                </a:rPr>
                <a:t>养活</a:t>
              </a:r>
              <a:r>
                <a:rPr b="1" lang="zh-CN" sz="4000" spc="-1" strike="noStrike">
                  <a:solidFill>
                    <a:srgbClr val="ff0000"/>
                  </a:solidFill>
                  <a:latin typeface="Verdana"/>
                </a:rPr>
                <a:t>许多人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AutoShape 17"/>
          <p:cNvSpPr/>
          <p:nvPr/>
        </p:nvSpPr>
        <p:spPr>
          <a:xfrm rot="16200000">
            <a:off x="4361400" y="795600"/>
            <a:ext cx="420840" cy="9144000"/>
          </a:xfrm>
          <a:custGeom>
            <a:avLst/>
            <a:gdLst>
              <a:gd name="textAreaLeft" fmla="*/ 268920 w 420840"/>
              <a:gd name="textAreaRight" fmla="*/ 421200 w 420840"/>
              <a:gd name="textAreaTop" fmla="*/ 238320 h 9144000"/>
              <a:gd name="textAreaBottom" fmla="*/ 8905680 h 914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419640" y="587700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感到幸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x1"/>
          <p:cNvPicPr/>
          <p:nvPr/>
        </p:nvPicPr>
        <p:blipFill>
          <a:blip r:embed="rId1"/>
          <a:stretch/>
        </p:blipFill>
        <p:spPr>
          <a:xfrm>
            <a:off x="6227640" y="620640"/>
            <a:ext cx="2295720" cy="53816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69228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幸福要靠劳动，要靠很好地尽自己的义务，做出对人们有益的事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WordArt 5" descr=""/>
          <p:cNvPicPr/>
          <p:nvPr/>
        </p:nvPicPr>
        <p:blipFill>
          <a:blip r:embed="rId2"/>
          <a:stretch/>
        </p:blipFill>
        <p:spPr>
          <a:xfrm>
            <a:off x="3200400" y="0"/>
            <a:ext cx="59738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77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77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图片 003"/>
          <p:cNvPicPr/>
          <p:nvPr/>
        </p:nvPicPr>
        <p:blipFill>
          <a:blip r:embed="rId1">
            <a:lum contrast="46000"/>
          </a:blip>
          <a:stretch/>
        </p:blipFill>
        <p:spPr>
          <a:xfrm>
            <a:off x="611280" y="3124080"/>
            <a:ext cx="7777080" cy="3329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1042920" y="260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Verdana"/>
                <a:ea typeface="楷体_GB2312"/>
              </a:rPr>
              <a:t>要想获得幸福，就要通过辛勤的劳动，给别人带来方便和好处，让别人感到幸福，自己也就幸福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0" y="762120"/>
          <a:ext cx="9144000" cy="49528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　　时间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　　人物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6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作什么事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智慧姑娘的话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19"/>
          <p:cNvSpPr/>
          <p:nvPr/>
        </p:nvSpPr>
        <p:spPr>
          <a:xfrm>
            <a:off x="4572000" y="620640"/>
            <a:ext cx="42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4648320" y="198108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  <a:ea typeface="隶书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个牧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4643280" y="3276720"/>
            <a:ext cx="45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清理喷泉、砌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4643280" y="43434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们做了一件好事，我感谢你们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祝你们幸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762120"/>
          <a:ext cx="9144000" cy="5462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a50021"/>
                          </a:solidFill>
                          <a:latin typeface="Arial"/>
                          <a:ea typeface="楷体_GB2312"/>
                        </a:rPr>
                        <a:t>　时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a50021"/>
                          </a:solidFill>
                          <a:latin typeface="Arial"/>
                          <a:ea typeface="楷体_GB2312"/>
                        </a:rPr>
                        <a:t>　人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第一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第二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第三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  <a:ea typeface="楷体_GB2312"/>
                        </a:rPr>
                        <a:t>各做什么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  <a:ea typeface="楷体_GB2312"/>
                        </a:rPr>
                        <a:t>各自的感受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  <a:ea typeface="楷体_GB2312"/>
                        </a:rPr>
                        <a:t>智慧姑娘的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Text Box 30"/>
          <p:cNvSpPr/>
          <p:nvPr/>
        </p:nvSpPr>
        <p:spPr>
          <a:xfrm>
            <a:off x="3657600" y="7621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姚体"/>
                <a:ea typeface="方正姚体"/>
              </a:rPr>
              <a:t>10</a:t>
            </a:r>
            <a:r>
              <a:rPr b="1" lang="zh-CN" sz="5400" spc="-1" strike="noStrike">
                <a:solidFill>
                  <a:srgbClr val="000000"/>
                </a:solidFill>
                <a:latin typeface="方正姚体"/>
                <a:ea typeface="方正姚体"/>
              </a:rPr>
              <a:t>年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1"/>
          <p:cNvSpPr/>
          <p:nvPr/>
        </p:nvSpPr>
        <p:spPr>
          <a:xfrm>
            <a:off x="2286000" y="2971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给病人治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2"/>
          <p:cNvSpPr/>
          <p:nvPr/>
        </p:nvSpPr>
        <p:spPr>
          <a:xfrm>
            <a:off x="4800600" y="2819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对人有用的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6877080" y="2997360"/>
            <a:ext cx="2266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391520" y="29718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耕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2340000" y="4437000"/>
            <a:ext cx="216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6"/>
          <p:cNvSpPr/>
          <p:nvPr/>
        </p:nvSpPr>
        <p:spPr>
          <a:xfrm>
            <a:off x="4648320" y="419112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感到幸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7"/>
          <p:cNvSpPr/>
          <p:nvPr/>
        </p:nvSpPr>
        <p:spPr>
          <a:xfrm>
            <a:off x="2438280" y="419112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感到幸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6934320" y="4191120"/>
            <a:ext cx="20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感到幸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9"/>
          <p:cNvSpPr/>
          <p:nvPr/>
        </p:nvSpPr>
        <p:spPr>
          <a:xfrm>
            <a:off x="2438280" y="51055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幸福要靠劳动，要靠很好地尽自己的义务，做出对人们有益的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800"/>
                            </p:stCondLst>
                            <p:childTnLst>
                              <p:par>
                                <p:cTn id="285" nodeType="after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6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新魏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836640"/>
            <a:ext cx="914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这三个青年明白了幸福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幸福要靠劳动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靠很好地尽自己的义务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出对人们有益的事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10904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说说你对幸福的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x3"/>
          <p:cNvPicPr/>
          <p:nvPr/>
        </p:nvPicPr>
        <p:blipFill>
          <a:blip r:embed="rId1"/>
          <a:stretch/>
        </p:blipFill>
        <p:spPr>
          <a:xfrm>
            <a:off x="1547640" y="0"/>
            <a:ext cx="57358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7596360" y="115920"/>
            <a:ext cx="109044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说说你对幸福的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WordArt 5" descr=""/>
          <p:cNvPicPr/>
          <p:nvPr/>
        </p:nvPicPr>
        <p:blipFill>
          <a:blip r:embed="rId2"/>
          <a:stretch/>
        </p:blipFill>
        <p:spPr>
          <a:xfrm>
            <a:off x="3200400" y="0"/>
            <a:ext cx="59738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1314455z5-0"/>
          <p:cNvPicPr/>
          <p:nvPr/>
        </p:nvPicPr>
        <p:blipFill>
          <a:blip r:embed="rId1"/>
          <a:stretch/>
        </p:blipFill>
        <p:spPr>
          <a:xfrm>
            <a:off x="34920" y="117360"/>
            <a:ext cx="5524560" cy="4143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11398814_832393"/>
          <p:cNvPicPr/>
          <p:nvPr/>
        </p:nvPicPr>
        <p:blipFill>
          <a:blip r:embed="rId2"/>
          <a:stretch/>
        </p:blipFill>
        <p:spPr>
          <a:xfrm>
            <a:off x="4427640" y="3286080"/>
            <a:ext cx="4681440" cy="3610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20085611195733057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867280" y="-90360"/>
            <a:ext cx="3048120" cy="3736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32050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幸福是什么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幸福就是海滩上回荡的玩耍时的串串笑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W020101015523229234848"/>
          <p:cNvPicPr/>
          <p:nvPr/>
        </p:nvPicPr>
        <p:blipFill>
          <a:blip r:embed="rId1"/>
          <a:stretch/>
        </p:blipFill>
        <p:spPr>
          <a:xfrm>
            <a:off x="179280" y="2276640"/>
            <a:ext cx="6718320" cy="4483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2009102644"/>
          <p:cNvPicPr/>
          <p:nvPr/>
        </p:nvPicPr>
        <p:blipFill>
          <a:blip r:embed="rId2"/>
          <a:stretch/>
        </p:blipFill>
        <p:spPr>
          <a:xfrm>
            <a:off x="4932360" y="117360"/>
            <a:ext cx="409572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6254494_115143067310_2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2010929121120109"/>
          <p:cNvPicPr/>
          <p:nvPr/>
        </p:nvPicPr>
        <p:blipFill>
          <a:blip r:embed="rId1"/>
          <a:stretch/>
        </p:blipFill>
        <p:spPr>
          <a:xfrm>
            <a:off x="3780000" y="404640"/>
            <a:ext cx="5495760" cy="5438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4976378_154736004522_2"/>
          <p:cNvPicPr/>
          <p:nvPr/>
        </p:nvPicPr>
        <p:blipFill>
          <a:blip r:embed="rId2"/>
          <a:stretch/>
        </p:blipFill>
        <p:spPr>
          <a:xfrm>
            <a:off x="34920" y="0"/>
            <a:ext cx="5164200" cy="6886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637080" y="6021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23B-C1E1-4683-ABAC-A99944745B6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0" y="476280"/>
            <a:ext cx="91440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拓展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什么是幸福这个问题，你原来是怎么想的，现在又是怎么想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童话故事，想象这三个青年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十年中发生了什么故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1043280" y="117360"/>
            <a:ext cx="693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在括号里填上合适的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(         )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的诗      （           ）的世界    （           ）的仙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（        ）的姑娘 （          ）的井       （           ）的头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（          ）的花朵  （           ）的小男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826920" y="3718080"/>
            <a:ext cx="4824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幸福是什么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幸福是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幸福是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幸福是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幸福是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03280" y="6453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767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6"/>
          <p:cNvSpPr/>
          <p:nvPr/>
        </p:nvSpPr>
        <p:spPr>
          <a:xfrm>
            <a:off x="1403280" y="1916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91753778019571"/>
          <p:cNvPicPr/>
          <p:nvPr/>
        </p:nvPicPr>
        <p:blipFill>
          <a:blip r:embed="rId1"/>
          <a:srcRect l="0" t="0" r="91" b="-75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幸福是什么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幸福就是妈妈留在我脸上的香香甜甜的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2006101171301999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924320" y="304920"/>
            <a:ext cx="6858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幸福是什么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   幸福是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Picture 3" descr="87319200492101220"/>
            <p:cNvPicPr/>
            <p:nvPr/>
          </p:nvPicPr>
          <p:blipFill>
            <a:blip r:embed="rId1"/>
            <a:stretch/>
          </p:blipFill>
          <p:spPr>
            <a:xfrm>
              <a:off x="5791320" y="4627440"/>
              <a:ext cx="3352680" cy="22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" descr="U397P1T1D2710830F21DT20040128174754"/>
            <p:cNvPicPr/>
            <p:nvPr/>
          </p:nvPicPr>
          <p:blipFill>
            <a:blip r:embed="rId2"/>
            <a:stretch/>
          </p:blipFill>
          <p:spPr>
            <a:xfrm>
              <a:off x="0" y="3981600"/>
              <a:ext cx="2165400" cy="28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5" descr="NAN_b09"/>
            <p:cNvPicPr/>
            <p:nvPr/>
          </p:nvPicPr>
          <p:blipFill>
            <a:blip r:embed="rId3"/>
            <a:stretch/>
          </p:blipFill>
          <p:spPr>
            <a:xfrm>
              <a:off x="5791320" y="2452680"/>
              <a:ext cx="3352680" cy="21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6" descr="ef6555380d5d78957fb5c6f3a696bc28"/>
            <p:cNvPicPr/>
            <p:nvPr/>
          </p:nvPicPr>
          <p:blipFill>
            <a:blip r:embed="rId4"/>
            <a:stretch/>
          </p:blipFill>
          <p:spPr>
            <a:xfrm>
              <a:off x="5715000" y="0"/>
              <a:ext cx="3429000" cy="24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7" descr="U660P1T1D6710663F1394DT20050522060456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220356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8" descr="6df41ba7a2dd84e792d341fd44ed53b3_small"/>
            <p:cNvPicPr/>
            <p:nvPr/>
          </p:nvPicPr>
          <p:blipFill>
            <a:blip r:embed="rId6"/>
            <a:stretch/>
          </p:blipFill>
          <p:spPr>
            <a:xfrm>
              <a:off x="2286000" y="0"/>
              <a:ext cx="3352680" cy="23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9" descr="nanmin1"/>
            <p:cNvPicPr/>
            <p:nvPr/>
          </p:nvPicPr>
          <p:blipFill>
            <a:blip r:embed="rId7"/>
            <a:stretch/>
          </p:blipFill>
          <p:spPr>
            <a:xfrm>
              <a:off x="2268360" y="2362320"/>
              <a:ext cx="3503880" cy="449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4920" y="1630440"/>
            <a:ext cx="958392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本课生字新词，能正确读写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解课文，懂得“幸福要靠劳动，要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好的尽自己的义务，做出对人们有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事情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和同学们合作表演课文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789840" y="404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学指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38160" y="1817640"/>
            <a:ext cx="5470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自己喜欢的方式读课文，画出生字新词，小组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作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讲了一件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年前三个牧童共同完成了一件什么事？美丽的姑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他们去弄明白什么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年中三个青年都做过什么？十年后他们都明白了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914400"/>
            <a:ext cx="9144000" cy="54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读下列词语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彼此　铁锹　树杈　泡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砌成　清澈　填满　诧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耕地　谦虚　有益　善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健有力　勤勤恳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义务  痕迹   恢复  麦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00:51:54Z</dcterms:created>
  <dc:creator>An</dc:creator>
  <dc:description/>
  <dc:language>en-US</dc:language>
  <cp:lastModifiedBy/>
  <dcterms:modified xsi:type="dcterms:W3CDTF">2015-07-11T03:14:17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