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AC8A-1DD6-4A06-BEE2-74A7C7822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5830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122E-BA3F-4D0F-A481-7DFCE8DD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0848-E527-4105-832E-F9C5ABDB3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B1C6-2F22-4462-AB79-F3895C0AE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99B3-429D-4DDC-B582-0DF8EC1D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AD21-5912-4253-9C5A-303D2150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E16F-621A-43D6-8106-98CFC7B0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E342-B50F-4C8D-AA3B-D8961E66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9CF6-A8F6-45B3-85E1-B354F481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EFA6-48AD-4F49-B295-3FD5BB35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23EF-B63A-4FE1-9571-ADC00560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5830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1973-DA80-4AD3-9EA0-6BB49214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99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294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33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B2F9-E3C2-49CA-8587-ECC3A79D5916}" type="slidenum">
              <a:rPr b="0" lang="zh-CN" sz="1400" spc="-1" strike="noStrike">
                <a:solidFill>
                  <a:srgbClr val="9933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0" y="303120"/>
            <a:ext cx="6875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汉仪小隶书简"/>
                <a:ea typeface="汉仪小隶书简"/>
              </a:rPr>
              <a:t>鲜花</a:t>
            </a:r>
            <a:r>
              <a:rPr b="0" lang="zh-CN" sz="4400" spc="-1" strike="noStrike">
                <a:solidFill>
                  <a:srgbClr val="ffffff"/>
                </a:solidFill>
                <a:latin typeface="汉仪小隶书简"/>
                <a:ea typeface="汉仪小隶书简"/>
              </a:rPr>
              <a:t>PPT</a:t>
            </a:r>
            <a:r>
              <a:rPr b="0" lang="en-US" sz="4400" spc="-1" strike="noStrike">
                <a:solidFill>
                  <a:srgbClr val="ffffff"/>
                </a:solidFill>
                <a:latin typeface="汉仪小隶书简"/>
                <a:ea typeface="汉仪小隶书简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5120" y="1701720"/>
            <a:ext cx="412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549360"/>
            <a:ext cx="5038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06:19:01Z</dcterms:created>
  <dc:creator>user</dc:creator>
  <dc:description/>
  <dc:language>en-US</dc:language>
  <cp:lastModifiedBy>jccook</cp:lastModifiedBy>
  <dcterms:modified xsi:type="dcterms:W3CDTF">2015-07-07T00:25:12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