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ED8-9018-4C89-8CDA-ABB7D43C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AE4-7D49-4989-9CAA-0F9F36CE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F38-1A72-46B3-A165-6E3D3A5F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389-FCF6-4A2C-A03D-F06D43CE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0663-A9DA-4F10-9FB3-8E9024A7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069F-FD66-4373-9251-D08305ED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F1EE-4081-43F5-93AC-CA8D7721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CCA2-877D-4CAA-9506-97C554E1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42BC-CB37-4A36-B48E-359A459F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FEE9-FFF6-4258-A3E7-3068A381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532A-2866-4FBD-961B-A0C083F0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7E2-3B6D-431F-9D64-5C3DA878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A4C3-E31A-449C-9A38-FDA10174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D41E-648F-4797-BCA2-9275154A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C80D-E566-4BFE-A607-341EFC02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4239-AC42-43F3-A4C1-D3A83AED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D7A1-17DE-4E9C-830F-C3274CBA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A7C3-6A27-42FE-9D90-8142ACDE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6A8-BF09-4EA7-8F80-B6DFE445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092-EB41-41E2-9E46-DFA7E68F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5238-8517-40C6-B2D4-A08285EB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F441-3B24-4135-995D-A33D4C02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F74-B168-4E04-B86A-4D82F804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E3B-4D96-4CC0-AB67-B922E0EE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D395-FB49-4F59-8A4B-DF8FE014C2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3C88-0A38-4803-B6F0-5BDC97B225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ff"/>
                </a:solidFill>
                <a:latin typeface="Arial"/>
                <a:ea typeface="宋体"/>
              </a:rPr>
              <a:t>运动健身</a:t>
            </a:r>
            <a:r>
              <a:rPr b="0" lang="zh-CN" sz="4400" spc="-1" strike="noStrike">
                <a:solidFill>
                  <a:srgbClr val="9933ff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9933ff"/>
                </a:solidFill>
                <a:latin typeface="Arial"/>
                <a:ea typeface="宋体"/>
              </a:rPr>
              <a:t>模板下载</a:t>
            </a: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  <a:ea typeface="宋体"/>
              </a:rPr>
              <a:t>Women’s Fitness</a:t>
            </a: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  <a:ea typeface="宋体"/>
              </a:rPr>
              <a:t>Printable Page</a:t>
            </a: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ransition Page</a:t>
            </a: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  <a:ea typeface="宋体"/>
              </a:rPr>
              <a:t>Elements Page</a:t>
            </a: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pic>
        <p:nvPicPr>
          <p:cNvPr id="90" name="jogging_woman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2895480" cy="2317680"/>
          </a:xfrm>
          <a:prstGeom prst="rect">
            <a:avLst/>
          </a:prstGeom>
          <a:ln w="0">
            <a:noFill/>
          </a:ln>
        </p:spPr>
      </p:pic>
      <p:pic>
        <p:nvPicPr>
          <p:cNvPr id="91" name="jogging_woman_print" descr=""/>
          <p:cNvPicPr/>
          <p:nvPr/>
        </p:nvPicPr>
        <p:blipFill>
          <a:blip r:embed="rId2"/>
          <a:stretch/>
        </p:blipFill>
        <p:spPr>
          <a:xfrm>
            <a:off x="1600200" y="4343400"/>
            <a:ext cx="2895480" cy="2316240"/>
          </a:xfrm>
          <a:prstGeom prst="rect">
            <a:avLst/>
          </a:prstGeom>
          <a:ln w="0">
            <a:noFill/>
          </a:ln>
        </p:spPr>
      </p:pic>
      <p:pic>
        <p:nvPicPr>
          <p:cNvPr id="92" name="woman_stretching" descr=""/>
          <p:cNvPicPr/>
          <p:nvPr/>
        </p:nvPicPr>
        <p:blipFill>
          <a:blip r:embed="rId3"/>
          <a:stretch/>
        </p:blipFill>
        <p:spPr>
          <a:xfrm>
            <a:off x="1600200" y="1828800"/>
            <a:ext cx="2895480" cy="2317680"/>
          </a:xfrm>
          <a:prstGeom prst="rect">
            <a:avLst/>
          </a:prstGeom>
          <a:ln w="0">
            <a:noFill/>
          </a:ln>
        </p:spPr>
      </p:pic>
      <p:pic>
        <p:nvPicPr>
          <p:cNvPr id="93" name="women_jogging" descr=""/>
          <p:cNvPicPr/>
          <p:nvPr/>
        </p:nvPicPr>
        <p:blipFill>
          <a:blip r:embed="rId4"/>
          <a:stretch/>
        </p:blipFill>
        <p:spPr>
          <a:xfrm>
            <a:off x="4648320" y="4343400"/>
            <a:ext cx="2895480" cy="231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79640" y="1339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3:27:30Z</dcterms:created>
  <dc:creator>eclipse</dc:creator>
  <dc:description/>
  <dc:language>en-US</dc:language>
  <cp:lastModifiedBy>微软用户</cp:lastModifiedBy>
  <dcterms:modified xsi:type="dcterms:W3CDTF">2015-07-05T06:18:52Z</dcterms:modified>
  <cp:revision>6</cp:revision>
  <dc:subject/>
  <dc:title>Women’s Fitn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