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C113-D5D0-40C9-9558-663576ED6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-471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685440"/>
            <a:ext cx="78487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3670560"/>
            <a:ext cx="78487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E9C0-AB4C-4AB2-AAF9-4146419A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-471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68544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88600" y="68544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367056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88600" y="367056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3EA3-6AE8-41D9-93CC-7A9718879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-471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685440"/>
            <a:ext cx="2527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20600" y="685440"/>
            <a:ext cx="2527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74520" y="685440"/>
            <a:ext cx="2527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3670560"/>
            <a:ext cx="2527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20600" y="3670560"/>
            <a:ext cx="2527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74520" y="3670560"/>
            <a:ext cx="2527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DB59-711C-4875-8F9E-FA570FB34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4AF1-6E77-48ED-AB92-87D7D5BE6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-471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6854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898A-41B8-46EE-A63E-A3BA77F0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-471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6854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5C25-527D-4A57-A78F-C9339AC4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-471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685440"/>
            <a:ext cx="38300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88600" y="685440"/>
            <a:ext cx="38300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63A0-EB47-4EB2-AA55-C491A70A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-471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1355-9BCC-4F75-9404-98B1BBEF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66320" y="-36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9450-3D98-4F4E-9CF3-295729E3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-471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68544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88600" y="685440"/>
            <a:ext cx="38300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367056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C7CD-8AF3-4D98-903C-90B8E258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-471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6854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422E-B4D5-46C2-832B-A126AEE0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-471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685440"/>
            <a:ext cx="38300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88600" y="68544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88600" y="367056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142D-3C9E-49BF-B822-B7F55988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-471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68544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88600" y="68544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3670560"/>
            <a:ext cx="78487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EE5E6-2A47-4164-91D3-E76A5FD6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-471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685440"/>
            <a:ext cx="78487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3670560"/>
            <a:ext cx="78487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718F-C968-4F27-B426-3A701903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-471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68544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88600" y="68544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367056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88600" y="367056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CB97-C3B0-45C2-B485-3FFD7D932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-471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685440"/>
            <a:ext cx="2527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20600" y="685440"/>
            <a:ext cx="2527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74520" y="685440"/>
            <a:ext cx="2527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3670560"/>
            <a:ext cx="2527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20600" y="3670560"/>
            <a:ext cx="2527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74520" y="3670560"/>
            <a:ext cx="2527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0A53-9FA6-4EA2-A9E2-E1ED86B50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-471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6854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BF1E-5BB4-4B26-9E80-6081CCE3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-471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685440"/>
            <a:ext cx="38300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88600" y="685440"/>
            <a:ext cx="38300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C502-492D-45D3-B947-5E630C59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-471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9DEE-C382-4728-BF7B-E173AB72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-36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4CE1-E099-4D5B-8971-873FA9F8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-471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68544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88600" y="685440"/>
            <a:ext cx="38300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367056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257A-D32B-4FF1-93AA-F7F03D02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-471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685440"/>
            <a:ext cx="38300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88600" y="68544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88600" y="367056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D1E9-7F47-474C-8DF4-9C54571E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-471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68544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88600" y="685440"/>
            <a:ext cx="38300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670560"/>
            <a:ext cx="78487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9CC4-42CD-43BC-AB06-560326A1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Heavy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6854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 BookCondensed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Garamond BookCondense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 BookCondensed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Garamond Book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 BookCondensed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Garamond BookCondense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 BookCondensed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Garamond BookCondense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 BookCondensed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Garamond BookCondense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 BookCondensed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Garamond BookCondense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 BookCondensed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9C3E-4B7A-40D8-A773-41BA3522E66F}" type="slidenum"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1066320" y="609480"/>
            <a:ext cx="8077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8960" y="2362320"/>
            <a:ext cx="79246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808080"/>
                </a:solidFill>
                <a:latin typeface="Garamond BookCondensed"/>
              </a:rPr>
              <a:t>Click to edit the title text format</a:t>
            </a:r>
            <a:endParaRPr b="1" lang="en-US" sz="8000" spc="-1" strike="noStrike">
              <a:solidFill>
                <a:srgbClr val="808080"/>
              </a:solidFill>
              <a:latin typeface="Garamond BookCondense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pperplate Gothic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pperplate Gothic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pperplate Gothic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pperplate Gothic Bol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pperplate Gothic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445B-F989-41A4-8E26-54423376E921}" type="slidenum">
              <a:rPr b="0" lang="en-US" sz="1200" spc="-1" strike="noStrike">
                <a:solidFill>
                  <a:srgbClr val="ffffff"/>
                </a:solidFill>
                <a:latin typeface="Copperplate Gothic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 BookCondensed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 BookCondensed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Garamond BookCondensed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Garamond BookCondense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 BookCondensed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Garamond BookCondensed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Garamond BookCondense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 BookCondensed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Garamond BookCondensed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Garamond BookCondense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 BookCondensed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Garamond BookCondensed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Garamond Book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 BookCondensed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Garamond BookCondensed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Garamond Book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 BookCondensed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Garamond Book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hop57233999.taobao.com/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treble_clef" descr=""/>
          <p:cNvPicPr/>
          <p:nvPr/>
        </p:nvPicPr>
        <p:blipFill>
          <a:blip r:embed="rId2"/>
          <a:stretch/>
        </p:blipFill>
        <p:spPr>
          <a:xfrm>
            <a:off x="-1176480" y="-1143000"/>
            <a:ext cx="3919680" cy="89917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362320"/>
            <a:ext cx="8244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08080"/>
                </a:solidFill>
                <a:latin typeface="Garamond BookCondensed"/>
                <a:ea typeface="宋体"/>
              </a:rPr>
              <a:t>音乐课课件</a:t>
            </a:r>
            <a:r>
              <a:rPr b="1" lang="zh-CN" sz="6600" spc="-1" strike="noStrike">
                <a:solidFill>
                  <a:srgbClr val="808080"/>
                </a:solidFill>
                <a:latin typeface="Garamond BookCondensed"/>
                <a:ea typeface="宋体"/>
              </a:rPr>
              <a:t>PPT</a:t>
            </a:r>
            <a:r>
              <a:rPr b="1" lang="zh-CN" sz="6600" spc="-1" strike="noStrike">
                <a:solidFill>
                  <a:srgbClr val="808080"/>
                </a:solidFill>
                <a:latin typeface="Garamond BookCondensed"/>
                <a:ea typeface="宋体"/>
              </a:rPr>
              <a:t>模板</a:t>
            </a:r>
            <a:endParaRPr b="1" lang="en-US" sz="6600" spc="-1" strike="noStrike">
              <a:solidFill>
                <a:srgbClr val="808080"/>
              </a:solidFill>
              <a:latin typeface="Garamond BookCondense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115640" y="34290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Garamond BookCondensed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Garamond BookCondensed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Garamond Book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semi" descr=""/>
          <p:cNvPicPr/>
          <p:nvPr/>
        </p:nvPicPr>
        <p:blipFill>
          <a:blip r:embed="rId2"/>
          <a:stretch/>
        </p:blipFill>
        <p:spPr>
          <a:xfrm>
            <a:off x="838080" y="571680"/>
            <a:ext cx="8305920" cy="60577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Heavy"/>
                <a:ea typeface="宋体"/>
              </a:rPr>
              <a:t>Your Topic Goes Here</a:t>
            </a:r>
            <a:endParaRPr b="1" lang="en-US" sz="4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6854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 BookCondensed"/>
                <a:ea typeface="宋体"/>
              </a:rPr>
              <a:t>Your subtopics go here</a:t>
            </a: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pic>
        <p:nvPicPr>
          <p:cNvPr id="89" name="treble_clef" descr=""/>
          <p:cNvPicPr/>
          <p:nvPr/>
        </p:nvPicPr>
        <p:blipFill>
          <a:blip r:embed="rId3"/>
          <a:stretch/>
        </p:blipFill>
        <p:spPr>
          <a:xfrm>
            <a:off x="-1373040" y="-380880"/>
            <a:ext cx="3354120" cy="76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full" descr=""/>
          <p:cNvPicPr/>
          <p:nvPr/>
        </p:nvPicPr>
        <p:blipFill>
          <a:blip r:embed="rId2"/>
          <a:stretch/>
        </p:blipFill>
        <p:spPr>
          <a:xfrm>
            <a:off x="838080" y="571680"/>
            <a:ext cx="8305920" cy="6057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Heavy"/>
                <a:ea typeface="宋体"/>
              </a:rPr>
              <a:t>Your Topic Goes Here</a:t>
            </a:r>
            <a:endParaRPr b="1" lang="en-US" sz="40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6854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 BookCondensed"/>
                <a:ea typeface="宋体"/>
              </a:rPr>
              <a:t>Your subtopics go here</a:t>
            </a: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pic>
        <p:nvPicPr>
          <p:cNvPr id="93" name="treble_clef" descr=""/>
          <p:cNvPicPr/>
          <p:nvPr/>
        </p:nvPicPr>
        <p:blipFill>
          <a:blip r:embed="rId3"/>
          <a:stretch/>
        </p:blipFill>
        <p:spPr>
          <a:xfrm>
            <a:off x="-1373040" y="-380880"/>
            <a:ext cx="3354120" cy="7696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546200" y="1339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8960" y="2362320"/>
            <a:ext cx="79246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808080"/>
                </a:solidFill>
                <a:latin typeface="Garamond BookCondensed"/>
                <a:ea typeface="宋体"/>
              </a:rPr>
              <a:t>elements</a:t>
            </a:r>
            <a:endParaRPr b="1" lang="en-US" sz="8000" spc="-1" strike="noStrike">
              <a:solidFill>
                <a:srgbClr val="808080"/>
              </a:solidFill>
              <a:latin typeface="Garamond BookCondense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8960" y="3276360"/>
            <a:ext cx="7924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 BookCondensed"/>
                <a:ea typeface="宋体"/>
              </a:rPr>
              <a:t>www.animationfactory.com</a:t>
            </a:r>
            <a:endParaRPr b="1" lang="en-US" sz="2800" spc="-1" strike="noStrike">
              <a:solidFill>
                <a:srgbClr val="000000"/>
              </a:solidFill>
              <a:latin typeface="Garamond BookCondensed"/>
            </a:endParaRPr>
          </a:p>
        </p:txBody>
      </p:sp>
      <p:pic>
        <p:nvPicPr>
          <p:cNvPr id="97" name="full" descr=""/>
          <p:cNvPicPr/>
          <p:nvPr/>
        </p:nvPicPr>
        <p:blipFill>
          <a:blip r:embed="rId1"/>
          <a:stretch/>
        </p:blipFill>
        <p:spPr>
          <a:xfrm>
            <a:off x="228600" y="45720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98" name="semi" descr=""/>
          <p:cNvPicPr/>
          <p:nvPr/>
        </p:nvPicPr>
        <p:blipFill>
          <a:blip r:embed="rId2"/>
          <a:stretch/>
        </p:blipFill>
        <p:spPr>
          <a:xfrm>
            <a:off x="6172200" y="45720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99" name="sheet_music_qx" descr=""/>
          <p:cNvPicPr/>
          <p:nvPr/>
        </p:nvPicPr>
        <p:blipFill>
          <a:blip r:embed="rId3"/>
          <a:stretch/>
        </p:blipFill>
        <p:spPr>
          <a:xfrm>
            <a:off x="3467160" y="480060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100" name="treble_clef" descr=""/>
          <p:cNvPicPr/>
          <p:nvPr/>
        </p:nvPicPr>
        <p:blipFill>
          <a:blip r:embed="rId4"/>
          <a:stretch/>
        </p:blipFill>
        <p:spPr>
          <a:xfrm>
            <a:off x="0" y="0"/>
            <a:ext cx="1611360" cy="3695760"/>
          </a:xfrm>
          <a:prstGeom prst="rect">
            <a:avLst/>
          </a:prstGeom>
          <a:ln w="0">
            <a:noFill/>
          </a:ln>
        </p:spPr>
      </p:pic>
      <p:pic>
        <p:nvPicPr>
          <p:cNvPr id="101" name="bass_clef" descr=""/>
          <p:cNvPicPr/>
          <p:nvPr/>
        </p:nvPicPr>
        <p:blipFill>
          <a:blip r:embed="rId5"/>
          <a:stretch/>
        </p:blipFill>
        <p:spPr>
          <a:xfrm>
            <a:off x="6905520" y="304920"/>
            <a:ext cx="2238480" cy="2895480"/>
          </a:xfrm>
          <a:prstGeom prst="rect">
            <a:avLst/>
          </a:prstGeom>
          <a:ln w="0">
            <a:noFill/>
          </a:ln>
        </p:spPr>
      </p:pic>
      <p:pic>
        <p:nvPicPr>
          <p:cNvPr id="102" name="notes_fly_out_hg_wht" descr=""/>
          <p:cNvPicPr/>
          <p:nvPr/>
        </p:nvPicPr>
        <p:blipFill>
          <a:blip r:embed="rId6"/>
          <a:stretch/>
        </p:blipFill>
        <p:spPr>
          <a:xfrm>
            <a:off x="1828800" y="533520"/>
            <a:ext cx="18478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1692360" y="4869000"/>
            <a:ext cx="619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cc00"/>
                </a:solidFill>
                <a:latin typeface="Arial"/>
                <a:ea typeface="黑体"/>
              </a:rPr>
              <a:t>青苹果出品   必属精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  <a:ea typeface="宋体"/>
              </a:rPr>
              <a:t>http://www.docin.com/cuiyuli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ccff"/>
                </a:solidFill>
                <a:latin typeface="Arial"/>
                <a:ea typeface="宋体"/>
              </a:rPr>
              <a:t>淘宝店：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http://shop57233999.taoba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771640" y="1125360"/>
            <a:ext cx="3984840" cy="35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7T13:07:09Z</dcterms:created>
  <dc:creator>eclipse</dc:creator>
  <dc:description/>
  <dc:language>en-US</dc:language>
  <cp:lastModifiedBy>微软用户</cp:lastModifiedBy>
  <dcterms:modified xsi:type="dcterms:W3CDTF">2015-07-05T06:58:16Z</dcterms:modified>
  <cp:revision>20</cp:revision>
  <dc:subject/>
  <dc:title>Target Pat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