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jpeg" ContentType="image/jpeg"/>
  <Override PartName="/ppt/media/image4.jpeg" ContentType="image/jpeg"/>
  <Override PartName="/ppt/media/image5.jpeg" ContentType="image/jpeg"/>
  <Override PartName="/ppt/media/image6.gif" ContentType="image/gif"/>
  <Override PartName="/ppt/media/image7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307D-3D58-4722-A4DB-EE10CAD5B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71629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1920" y="3790440"/>
            <a:ext cx="71629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FD55-297B-49ED-ACC8-76C292FD9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1920" y="379044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22480" y="379044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27DC-B7B6-4F44-AA7C-1B7B8B2DE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573640" y="68580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995720" y="68580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1920" y="379044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573640" y="379044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995720" y="379044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65B1-929A-481E-B260-14DF8FCE0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06316-02AB-4159-8938-01220C820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51920" y="685800"/>
            <a:ext cx="71629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A5CE8-4944-4776-8196-81CC913D2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71629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6A2DC-4983-4609-A5E7-515B11A11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972A9-62CC-45F9-8732-8B953F927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C7FE7-B9D1-4E4B-8D8A-D6B5F0A86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7162920" cy="18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A8AE4-D8E6-4E29-93A9-FC5603339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51920" y="379044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A1226-BFB4-41FA-ACDC-28B83748B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1920" y="685800"/>
            <a:ext cx="71629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56A1-CA90-44A9-B1ED-62B19D81B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822480" y="379044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4F395-6063-42FF-8EDB-316763EF5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51920" y="3790440"/>
            <a:ext cx="71629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29D2A-AD26-4F8F-8115-02A28979D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71629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51920" y="3790440"/>
            <a:ext cx="71629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21CE6-91D4-4A57-8F01-12DC8E697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1920" y="379044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822480" y="379044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BC19F-4092-4DAC-919D-1EBDE8F01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573640" y="68580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995720" y="68580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51920" y="379044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573640" y="379044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4995720" y="379044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D5E9C-90DA-4A61-B2E3-6728D94BE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71629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83E6-49B9-4EDC-9DC3-E79CDC636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0D9D-7879-49E5-A041-723795FAF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0116-75A4-4B3A-8F44-A015A1B0F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7162920" cy="18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E921-B2B1-4637-B9DE-88F1DBA5C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1920" y="379044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AEAC-EEEC-41B4-9728-7FA071B8B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22480" y="379044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F8B9-789D-430D-9D2A-4C8DEACDC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1920" y="3790440"/>
            <a:ext cx="71629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4915-064E-4CE5-BA11-0F085C857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16292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1920" y="685800"/>
            <a:ext cx="71629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99E45-84BC-405B-A7D2-D6AFF7C8C44A}" type="slidenum">
              <a:rPr b="1" lang="en-US" sz="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4343400"/>
            <a:ext cx="1601640" cy="251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3885840"/>
            <a:ext cx="701028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EFF99-6AA6-492D-9DD7-5A0C8878ACDA}" type="slidenum">
              <a:rPr b="0" lang="en-US" sz="8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ffffff"/>
              </a:buClr>
              <a:buSzPct val="20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ffffff"/>
              </a:buClr>
              <a:buSzPct val="20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ffffff"/>
              </a:buClr>
              <a:buSzPct val="20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animationfactory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animationfactory.com/" TargetMode="External"/><Relationship Id="rId4" Type="http://schemas.openxmlformats.org/officeDocument/2006/relationships/image" Target="../media/image4.jpeg"/><Relationship Id="rId5" Type="http://schemas.openxmlformats.org/officeDocument/2006/relationships/image" Target="../media/image3.jpeg"/><Relationship Id="rId6" Type="http://schemas.openxmlformats.org/officeDocument/2006/relationships/image" Target="../media/image1.jpeg"/><Relationship Id="rId7" Type="http://schemas.openxmlformats.org/officeDocument/2006/relationships/image" Target="../media/image6.gif"/><Relationship Id="rId8" Type="http://schemas.openxmlformats.org/officeDocument/2006/relationships/image" Target="../media/image7.gif"/><Relationship Id="rId9" Type="http://schemas.openxmlformats.org/officeDocument/2006/relationships/image" Target="../media/image2.gif"/><Relationship Id="rId10" Type="http://schemas.openxmlformats.org/officeDocument/2006/relationships/hyperlink" Target="http://www.eeppt.com" TargetMode="External"/><Relationship Id="rId1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3885840"/>
            <a:ext cx="701028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  <a:ea typeface="宋体"/>
              </a:rPr>
              <a:t>音乐</a:t>
            </a:r>
            <a:r>
              <a:rPr b="0" lang="en-US" sz="4400" spc="-1" strike="noStrike">
                <a:solidFill>
                  <a:srgbClr val="ffffff"/>
                </a:solidFill>
                <a:latin typeface="Impact"/>
                <a:ea typeface="宋体"/>
              </a:rPr>
              <a:t>ppt</a:t>
            </a:r>
            <a:r>
              <a:rPr b="0" lang="en-US" sz="4400" spc="-1" strike="noStrike">
                <a:solidFill>
                  <a:srgbClr val="ffffff"/>
                </a:solidFill>
                <a:latin typeface="Impact"/>
                <a:ea typeface="宋体"/>
              </a:rPr>
              <a:t>模板素材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440" y="4495320"/>
            <a:ext cx="70102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幻灯片之家 </a:t>
            </a: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http://www.eeppt.com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16292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  <a:ea typeface="宋体"/>
              </a:rPr>
              <a:t>Your Topic Goes Here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71629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宋体"/>
              </a:rPr>
              <a:t>Your subtopic goes here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16292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Impact"/>
                <a:ea typeface="宋体"/>
              </a:rPr>
              <a:t>Your Topic Goes Here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71629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Tahoma"/>
                <a:ea typeface="宋体"/>
              </a:rPr>
              <a:t>Your subtopic goes here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52280" y="944640"/>
            <a:ext cx="2438640" cy="12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Backdrop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These are full sized backdrops, just scale them up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Can be Copy-Pasted out of Templates for use an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753280" y="93816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tle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343760" y="938160"/>
            <a:ext cx="129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ide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887080" y="938160"/>
            <a:ext cx="127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nt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114480"/>
            <a:ext cx="2286000" cy="571320"/>
          </a:xfrm>
          <a:prstGeom prst="rect">
            <a:avLst/>
          </a:prstGeom>
          <a:ln w="0">
            <a:noFill/>
          </a:ln>
        </p:spPr>
      </p:pic>
      <p:sp>
        <p:nvSpPr>
          <p:cNvPr id="94" name="">
            <a:hlinkClick r:id="rId3"/>
          </p:cNvPr>
          <p:cNvSpPr/>
          <p:nvPr/>
        </p:nvSpPr>
        <p:spPr>
          <a:xfrm>
            <a:off x="457920" y="700200"/>
            <a:ext cx="1508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ww.animationfactory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259092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37000"/>
            <a:ext cx="2362320" cy="21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dditional Graphic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ale them up or dow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GIF clipart is anim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JPG clipart can be scaled up and take up little file sp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PNG clipart can be scaled unusually large without distor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5867280" y="1219320"/>
            <a:ext cx="1447920" cy="108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2666880" y="1219320"/>
            <a:ext cx="1447920" cy="108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4267080" y="1219320"/>
            <a:ext cx="1447920" cy="108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0" name="" descr=""/>
          <p:cNvPicPr/>
          <p:nvPr/>
        </p:nvPicPr>
        <p:blipFill>
          <a:blip r:embed="rId7"/>
          <a:stretch/>
        </p:blipFill>
        <p:spPr>
          <a:xfrm>
            <a:off x="7315200" y="2895480"/>
            <a:ext cx="1666800" cy="33339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8"/>
          <a:stretch/>
        </p:blipFill>
        <p:spPr>
          <a:xfrm>
            <a:off x="5181480" y="2895480"/>
            <a:ext cx="1943280" cy="33339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9"/>
          <a:stretch/>
        </p:blipFill>
        <p:spPr>
          <a:xfrm>
            <a:off x="2895480" y="2895480"/>
            <a:ext cx="2124360" cy="33339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755640" y="13431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7:21:11Z</dcterms:created>
  <dc:creator>Administrator</dc:creator>
  <dc:description/>
  <dc:language>en-US</dc:language>
  <cp:lastModifiedBy>微软用户</cp:lastModifiedBy>
  <dcterms:modified xsi:type="dcterms:W3CDTF">2015-07-05T06:58:51Z</dcterms:modified>
  <cp:revision>16</cp:revision>
  <dc:subject/>
  <dc:title>Skylin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