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5B5-538C-445B-85C8-B38EBCE0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708-72E2-4CEB-B42F-6A9DEBBD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A67-4FD4-4276-8418-63E866CB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CA4-6DAA-43F5-A12C-6AD1C114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406-DD85-40D3-9029-B90B8DB4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ABD-834F-4353-B3AB-43ECF88B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D03-C510-487B-92C2-6683B316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F37-0D1D-4356-9F5D-D569C928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018-7386-4148-AEDD-E2099D79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7A3-1B98-4EA3-8629-2D803704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319-C581-4C41-8BEE-A4668253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189-B6E5-470C-9002-5E940166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B41C-B9CC-4007-8351-140911916A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557280"/>
            <a:ext cx="7885080" cy="22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0" y="189000"/>
            <a:ext cx="85024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2"/>
          <p:cNvSpPr/>
          <p:nvPr/>
        </p:nvSpPr>
        <p:spPr>
          <a:xfrm>
            <a:off x="8489880" y="189000"/>
            <a:ext cx="25884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右箭头 3"/>
          <p:cNvSpPr/>
          <p:nvPr/>
        </p:nvSpPr>
        <p:spPr>
          <a:xfrm rot="8327400">
            <a:off x="7726320" y="2855520"/>
            <a:ext cx="1044720" cy="1008000"/>
          </a:xfrm>
          <a:prstGeom prst="rightArrow">
            <a:avLst>
              <a:gd name="adj1" fmla="val 29713"/>
              <a:gd name="adj2" fmla="val 500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"/>
          <p:cNvSpPr/>
          <p:nvPr/>
        </p:nvSpPr>
        <p:spPr>
          <a:xfrm rot="20482200">
            <a:off x="5513040" y="3169800"/>
            <a:ext cx="31683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700" spc="-1" strike="noStrike">
                <a:solidFill>
                  <a:srgbClr val="7f7f7f"/>
                </a:solidFill>
                <a:latin typeface="华文楷体"/>
                <a:ea typeface="华文楷体"/>
              </a:rPr>
              <a:t>诗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7093080" y="369720"/>
            <a:ext cx="129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黑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图文框 9"/>
          <p:cNvSpPr/>
          <p:nvPr/>
        </p:nvSpPr>
        <p:spPr>
          <a:xfrm>
            <a:off x="317520" y="3798720"/>
            <a:ext cx="1440000" cy="1440000"/>
          </a:xfrm>
          <a:custGeom>
            <a:avLst/>
            <a:gdLst/>
            <a:ahLst/>
            <a:rect l="l" t="t" r="r" b="b"/>
            <a:pathLst>
              <a:path w="1439863" h="1439862">
                <a:moveTo>
                  <a:pt x="0" y="0"/>
                </a:moveTo>
                <a:lnTo>
                  <a:pt x="1439863" y="0"/>
                </a:lnTo>
                <a:lnTo>
                  <a:pt x="1439863" y="1439862"/>
                </a:lnTo>
                <a:lnTo>
                  <a:pt x="0" y="1439862"/>
                </a:lnTo>
                <a:lnTo>
                  <a:pt x="0" y="0"/>
                </a:lnTo>
                <a:close/>
                <a:moveTo>
                  <a:pt x="179983" y="179983"/>
                </a:moveTo>
                <a:lnTo>
                  <a:pt x="179983" y="1259879"/>
                </a:lnTo>
                <a:lnTo>
                  <a:pt x="1259880" y="1259879"/>
                </a:lnTo>
                <a:lnTo>
                  <a:pt x="1259880" y="179983"/>
                </a:lnTo>
                <a:lnTo>
                  <a:pt x="179983" y="179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同心圆 10"/>
          <p:cNvSpPr/>
          <p:nvPr/>
        </p:nvSpPr>
        <p:spPr>
          <a:xfrm>
            <a:off x="1908000" y="5238720"/>
            <a:ext cx="1454400" cy="1454040"/>
          </a:xfrm>
          <a:custGeom>
            <a:avLst/>
            <a:gdLst/>
            <a:ahLst/>
            <a:rect l="l" t="t" r="r" b="b"/>
            <a:pathLst>
              <a:path w="1454150" h="1454150">
                <a:moveTo>
                  <a:pt x="0" y="727075"/>
                </a:moveTo>
                <a:cubicBezTo>
                  <a:pt x="0" y="325523"/>
                  <a:pt x="325523" y="0"/>
                  <a:pt x="727075" y="0"/>
                </a:cubicBezTo>
                <a:cubicBezTo>
                  <a:pt x="1128627" y="0"/>
                  <a:pt x="1454150" y="325523"/>
                  <a:pt x="1454150" y="727075"/>
                </a:cubicBezTo>
                <a:cubicBezTo>
                  <a:pt x="1454150" y="1128627"/>
                  <a:pt x="1128627" y="1454150"/>
                  <a:pt x="727075" y="1454150"/>
                </a:cubicBezTo>
                <a:cubicBezTo>
                  <a:pt x="325523" y="1454150"/>
                  <a:pt x="0" y="1128627"/>
                  <a:pt x="0" y="727075"/>
                </a:cubicBezTo>
                <a:close/>
                <a:moveTo>
                  <a:pt x="187164" y="727075"/>
                </a:moveTo>
                <a:cubicBezTo>
                  <a:pt x="187164" y="1025260"/>
                  <a:pt x="428890" y="1266986"/>
                  <a:pt x="727075" y="1266986"/>
                </a:cubicBezTo>
                <a:cubicBezTo>
                  <a:pt x="1025260" y="1266986"/>
                  <a:pt x="1266986" y="1025260"/>
                  <a:pt x="1266986" y="727075"/>
                </a:cubicBezTo>
                <a:cubicBezTo>
                  <a:pt x="1266986" y="428890"/>
                  <a:pt x="1025260" y="187164"/>
                  <a:pt x="727075" y="187164"/>
                </a:cubicBezTo>
                <a:cubicBezTo>
                  <a:pt x="428890" y="187164"/>
                  <a:pt x="187164" y="428890"/>
                  <a:pt x="187164" y="7270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-31680" y="993600"/>
            <a:ext cx="63021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首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7"/>
          <p:cNvSpPr/>
          <p:nvPr/>
        </p:nvSpPr>
        <p:spPr>
          <a:xfrm rot="5400000">
            <a:off x="6172920" y="2545200"/>
            <a:ext cx="14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DFKai-SB"/>
                <a:ea typeface="DFKai-SB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背景音乐-简单的礼物.mp3" descr=""/>
          <p:cNvPicPr/>
          <p:nvPr/>
        </p:nvPicPr>
        <p:blipFill>
          <a:blip r:embed="rId1"/>
          <a:stretch/>
        </p:blipFill>
        <p:spPr>
          <a:xfrm>
            <a:off x="9325080" y="62658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2271600" y="765000"/>
            <a:ext cx="18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首黑人的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" dur="4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4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图文框 1"/>
          <p:cNvSpPr/>
          <p:nvPr/>
        </p:nvSpPr>
        <p:spPr>
          <a:xfrm>
            <a:off x="727200" y="836640"/>
            <a:ext cx="2160360" cy="2160720"/>
          </a:xfrm>
          <a:custGeom>
            <a:avLst/>
            <a:gdLst/>
            <a:ahLst/>
            <a:rect l="l" t="t" r="r" b="b"/>
            <a:pathLst>
              <a:path w="2160588" h="2160587">
                <a:moveTo>
                  <a:pt x="0" y="0"/>
                </a:moveTo>
                <a:lnTo>
                  <a:pt x="2160588" y="0"/>
                </a:lnTo>
                <a:lnTo>
                  <a:pt x="2160588" y="2160587"/>
                </a:lnTo>
                <a:lnTo>
                  <a:pt x="0" y="2160587"/>
                </a:lnTo>
                <a:lnTo>
                  <a:pt x="0" y="0"/>
                </a:lnTo>
                <a:close/>
                <a:moveTo>
                  <a:pt x="270073" y="270073"/>
                </a:moveTo>
                <a:lnTo>
                  <a:pt x="270073" y="1890514"/>
                </a:lnTo>
                <a:lnTo>
                  <a:pt x="1890515" y="1890514"/>
                </a:lnTo>
                <a:lnTo>
                  <a:pt x="1890515" y="270073"/>
                </a:lnTo>
                <a:lnTo>
                  <a:pt x="270073" y="2700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同心圆 2"/>
          <p:cNvSpPr/>
          <p:nvPr/>
        </p:nvSpPr>
        <p:spPr>
          <a:xfrm>
            <a:off x="6012000" y="3789360"/>
            <a:ext cx="2376360" cy="2376360"/>
          </a:xfrm>
          <a:custGeom>
            <a:avLst/>
            <a:gdLst/>
            <a:ahLst/>
            <a:rect l="l" t="t" r="r" b="b"/>
            <a:pathLst>
              <a:path w="2376487" h="2376487">
                <a:moveTo>
                  <a:pt x="0" y="1188244"/>
                </a:moveTo>
                <a:cubicBezTo>
                  <a:pt x="0" y="531995"/>
                  <a:pt x="531995" y="0"/>
                  <a:pt x="1188244" y="0"/>
                </a:cubicBezTo>
                <a:cubicBezTo>
                  <a:pt x="1844493" y="0"/>
                  <a:pt x="2376488" y="531995"/>
                  <a:pt x="2376488" y="1188244"/>
                </a:cubicBezTo>
                <a:cubicBezTo>
                  <a:pt x="2376488" y="1844493"/>
                  <a:pt x="1844493" y="2376488"/>
                  <a:pt x="1188244" y="2376488"/>
                </a:cubicBezTo>
                <a:cubicBezTo>
                  <a:pt x="531995" y="2376488"/>
                  <a:pt x="0" y="1844493"/>
                  <a:pt x="0" y="1188244"/>
                </a:cubicBezTo>
                <a:close/>
                <a:moveTo>
                  <a:pt x="305878" y="1188244"/>
                </a:moveTo>
                <a:cubicBezTo>
                  <a:pt x="305878" y="1675561"/>
                  <a:pt x="700927" y="2070610"/>
                  <a:pt x="1188244" y="2070610"/>
                </a:cubicBezTo>
                <a:cubicBezTo>
                  <a:pt x="1675561" y="2070610"/>
                  <a:pt x="2070610" y="1675561"/>
                  <a:pt x="2070610" y="1188244"/>
                </a:cubicBezTo>
                <a:cubicBezTo>
                  <a:pt x="2070610" y="700927"/>
                  <a:pt x="1675561" y="305878"/>
                  <a:pt x="1188244" y="305878"/>
                </a:cubicBezTo>
                <a:cubicBezTo>
                  <a:pt x="700927" y="305878"/>
                  <a:pt x="305878" y="700927"/>
                  <a:pt x="305878" y="11882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3"/>
          <p:cNvSpPr/>
          <p:nvPr/>
        </p:nvSpPr>
        <p:spPr>
          <a:xfrm>
            <a:off x="3096360" y="853920"/>
            <a:ext cx="15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 Black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ear wh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3116880" y="130032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omething you got to know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240000" y="163368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When I was born, I was bl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3214440" y="203508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When I grow up, I am bla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10"/>
          <p:cNvSpPr/>
          <p:nvPr/>
        </p:nvSpPr>
        <p:spPr>
          <a:xfrm>
            <a:off x="3283200" y="2381400"/>
            <a:ext cx="43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When I’m under the sun, I’m bla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788400" y="4257720"/>
            <a:ext cx="31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When I’m cold, I’m black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803160" y="4657680"/>
            <a:ext cx="33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When I’m afraid, I’m bla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822960" y="521172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When I’m sick, I’m black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5"/>
          <p:cNvSpPr/>
          <p:nvPr/>
        </p:nvSpPr>
        <p:spPr>
          <a:xfrm>
            <a:off x="817560" y="57214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When I die, I’m still black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9000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3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3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3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3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3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3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3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3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3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同心圆 1"/>
          <p:cNvSpPr/>
          <p:nvPr/>
        </p:nvSpPr>
        <p:spPr>
          <a:xfrm>
            <a:off x="611280" y="620640"/>
            <a:ext cx="2376360" cy="2376720"/>
          </a:xfrm>
          <a:custGeom>
            <a:avLst/>
            <a:gdLst/>
            <a:ahLst/>
            <a:rect l="l" t="t" r="r" b="b"/>
            <a:pathLst>
              <a:path w="2376487" h="2376487">
                <a:moveTo>
                  <a:pt x="0" y="1188244"/>
                </a:moveTo>
                <a:cubicBezTo>
                  <a:pt x="0" y="531995"/>
                  <a:pt x="531995" y="0"/>
                  <a:pt x="1188244" y="0"/>
                </a:cubicBezTo>
                <a:cubicBezTo>
                  <a:pt x="1844493" y="0"/>
                  <a:pt x="2376488" y="531995"/>
                  <a:pt x="2376488" y="1188244"/>
                </a:cubicBezTo>
                <a:cubicBezTo>
                  <a:pt x="2376488" y="1844493"/>
                  <a:pt x="1844493" y="2376488"/>
                  <a:pt x="1188244" y="2376488"/>
                </a:cubicBezTo>
                <a:cubicBezTo>
                  <a:pt x="531995" y="2376488"/>
                  <a:pt x="0" y="1844493"/>
                  <a:pt x="0" y="1188244"/>
                </a:cubicBezTo>
                <a:close/>
                <a:moveTo>
                  <a:pt x="305878" y="1188244"/>
                </a:moveTo>
                <a:cubicBezTo>
                  <a:pt x="305878" y="1675561"/>
                  <a:pt x="700927" y="2070610"/>
                  <a:pt x="1188244" y="2070610"/>
                </a:cubicBezTo>
                <a:cubicBezTo>
                  <a:pt x="1675561" y="2070610"/>
                  <a:pt x="2070610" y="1675561"/>
                  <a:pt x="2070610" y="1188244"/>
                </a:cubicBezTo>
                <a:cubicBezTo>
                  <a:pt x="2070610" y="700927"/>
                  <a:pt x="1675561" y="305878"/>
                  <a:pt x="1188244" y="305878"/>
                </a:cubicBezTo>
                <a:cubicBezTo>
                  <a:pt x="700927" y="305878"/>
                  <a:pt x="305878" y="700927"/>
                  <a:pt x="305878" y="11882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图文框 2"/>
          <p:cNvSpPr/>
          <p:nvPr/>
        </p:nvSpPr>
        <p:spPr>
          <a:xfrm>
            <a:off x="6084720" y="3884760"/>
            <a:ext cx="2159280" cy="2158920"/>
          </a:xfrm>
          <a:custGeom>
            <a:avLst/>
            <a:gdLst/>
            <a:ahLst/>
            <a:rect l="l" t="t" r="r" b="b"/>
            <a:pathLst>
              <a:path w="2159000" h="2159000">
                <a:moveTo>
                  <a:pt x="0" y="0"/>
                </a:moveTo>
                <a:lnTo>
                  <a:pt x="2159000" y="0"/>
                </a:lnTo>
                <a:lnTo>
                  <a:pt x="2159000" y="2159000"/>
                </a:lnTo>
                <a:lnTo>
                  <a:pt x="0" y="2159000"/>
                </a:lnTo>
                <a:lnTo>
                  <a:pt x="0" y="0"/>
                </a:lnTo>
                <a:close/>
                <a:moveTo>
                  <a:pt x="269875" y="269875"/>
                </a:moveTo>
                <a:lnTo>
                  <a:pt x="269875" y="1889125"/>
                </a:lnTo>
                <a:lnTo>
                  <a:pt x="1889125" y="1889125"/>
                </a:lnTo>
                <a:lnTo>
                  <a:pt x="1889125" y="269875"/>
                </a:lnTo>
                <a:lnTo>
                  <a:pt x="269875" y="2698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383280" y="820800"/>
            <a:ext cx="25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You---white people,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511440" y="132552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When you were born, you were </a:t>
            </a:r>
            <a:r>
              <a:rPr b="0" lang="en-US" sz="2000" spc="-1" strike="noStrike">
                <a:solidFill>
                  <a:srgbClr val="ffccff"/>
                </a:solidFill>
                <a:latin typeface="Bodoni MT Black"/>
              </a:rPr>
              <a:t>pink.</a:t>
            </a:r>
            <a:r>
              <a:rPr b="0" lang="en-US" sz="2000" spc="-1" strike="noStrike">
                <a:solidFill>
                  <a:srgbClr val="ff99ff"/>
                </a:solidFill>
                <a:latin typeface="Bodoni MT Blac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3462840" y="176040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When you grow up, you become white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3515040" y="224964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You’re </a:t>
            </a:r>
            <a:r>
              <a:rPr b="0" lang="en-US" sz="2000" spc="-1" strike="noStrike">
                <a:solidFill>
                  <a:srgbClr val="ff3300"/>
                </a:solidFill>
                <a:latin typeface="Bodoni MT Black"/>
              </a:rPr>
              <a:t>red</a:t>
            </a: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 under the sun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798840" y="4102200"/>
            <a:ext cx="37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You’re </a:t>
            </a:r>
            <a:r>
              <a:rPr b="0" lang="en-US" sz="2000" spc="-1" strike="noStrike">
                <a:solidFill>
                  <a:srgbClr val="00ffff"/>
                </a:solidFill>
                <a:latin typeface="Bodoni MT Black"/>
              </a:rPr>
              <a:t>blue</a:t>
            </a:r>
            <a:r>
              <a:rPr b="0" lang="en-US" sz="2000" spc="-1" strike="noStrike">
                <a:solidFill>
                  <a:srgbClr val="99ff66"/>
                </a:solidFill>
                <a:latin typeface="Bodoni MT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when you’re cold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10"/>
          <p:cNvSpPr/>
          <p:nvPr/>
        </p:nvSpPr>
        <p:spPr>
          <a:xfrm>
            <a:off x="833400" y="45720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You are </a:t>
            </a:r>
            <a:r>
              <a:rPr b="0" lang="en-US" sz="2000" spc="-1" strike="noStrike">
                <a:solidFill>
                  <a:srgbClr val="ffc000"/>
                </a:solidFill>
                <a:latin typeface="Bodoni MT Black"/>
              </a:rPr>
              <a:t>yellow</a:t>
            </a: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 when you’re afraid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11"/>
          <p:cNvSpPr/>
          <p:nvPr/>
        </p:nvSpPr>
        <p:spPr>
          <a:xfrm>
            <a:off x="807120" y="4964040"/>
            <a:ext cx="38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You’re </a:t>
            </a:r>
            <a:r>
              <a:rPr b="0" lang="en-US" sz="2000" spc="-1" strike="noStrike">
                <a:solidFill>
                  <a:srgbClr val="00ff00"/>
                </a:solidFill>
                <a:latin typeface="Bodoni MT Black"/>
              </a:rPr>
              <a:t>green</a:t>
            </a: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 when you’re sick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762480" y="5373720"/>
            <a:ext cx="33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You’re </a:t>
            </a:r>
            <a:r>
              <a:rPr b="0" lang="en-US" sz="2000" spc="-1" strike="noStrike">
                <a:solidFill>
                  <a:srgbClr val="7f7f7f"/>
                </a:solidFill>
                <a:latin typeface="Bodoni MT Black"/>
              </a:rPr>
              <a:t>gray</a:t>
            </a: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 when you die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2000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3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3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3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3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5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3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2AA-84B3-40B1-9C76-066E0664FD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"/>
          <p:cNvSpPr/>
          <p:nvPr/>
        </p:nvSpPr>
        <p:spPr>
          <a:xfrm>
            <a:off x="2379960" y="2624040"/>
            <a:ext cx="43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 Black"/>
              </a:rPr>
              <a:t>And you, call me "color"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矩形 2" descr=""/>
          <p:cNvPicPr/>
          <p:nvPr/>
        </p:nvPicPr>
        <p:blipFill>
          <a:blip r:embed="rId1"/>
          <a:stretch/>
        </p:blipFill>
        <p:spPr>
          <a:xfrm>
            <a:off x="-2052720" y="-8524800"/>
            <a:ext cx="20925000" cy="23123520"/>
          </a:xfrm>
          <a:prstGeom prst="rect">
            <a:avLst/>
          </a:prstGeom>
          <a:ln w="0">
            <a:noFill/>
          </a:ln>
        </p:spPr>
      </p:pic>
      <p:sp>
        <p:nvSpPr>
          <p:cNvPr id="80" name="矩形 3"/>
          <p:cNvSpPr/>
          <p:nvPr/>
        </p:nvSpPr>
        <p:spPr>
          <a:xfrm>
            <a:off x="0" y="5373720"/>
            <a:ext cx="87487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同心圆 4" descr=""/>
          <p:cNvPicPr/>
          <p:nvPr/>
        </p:nvPicPr>
        <p:blipFill>
          <a:blip r:embed="rId2"/>
          <a:stretch/>
        </p:blipFill>
        <p:spPr>
          <a:xfrm>
            <a:off x="536400" y="4218120"/>
            <a:ext cx="2249640" cy="1920600"/>
          </a:xfrm>
          <a:prstGeom prst="rect">
            <a:avLst/>
          </a:prstGeom>
          <a:ln w="0">
            <a:noFill/>
          </a:ln>
        </p:spPr>
      </p:pic>
      <p:pic>
        <p:nvPicPr>
          <p:cNvPr id="82" name="图文框 5" descr=""/>
          <p:cNvPicPr/>
          <p:nvPr/>
        </p:nvPicPr>
        <p:blipFill>
          <a:blip r:embed="rId3"/>
          <a:stretch/>
        </p:blipFill>
        <p:spPr>
          <a:xfrm>
            <a:off x="-1074600" y="4340160"/>
            <a:ext cx="2617560" cy="1895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circl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2783880" y="15238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亲爱的白种人，有几件事你必须知道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1409400" y="193032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当我出生时，我是黑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1184040" y="232236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我长大了，我是黑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1204560" y="272736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我在阳光下，我是黑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1216440" y="31478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我寒冷时，我是黑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1240200" y="352584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我害怕时，我是黑 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1295280" y="39020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我生病了，我是黑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1295280" y="44355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我死了，我仍是黑色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6369480" y="1523880"/>
            <a:ext cx="12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你</a:t>
            </a:r>
            <a:r>
              <a:rPr b="0" lang="en-US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---</a:t>
            </a: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白种人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0"/>
          <p:cNvSpPr/>
          <p:nvPr/>
        </p:nvSpPr>
        <p:spPr>
          <a:xfrm>
            <a:off x="6502320" y="211464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当你出生时，你是粉红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1"/>
          <p:cNvSpPr/>
          <p:nvPr/>
        </p:nvSpPr>
        <p:spPr>
          <a:xfrm>
            <a:off x="6750000" y="255096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你长大了，变成白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6546600" y="309708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你在阳光下，你是红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6495120" y="355608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你寒冷时，你是青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6610320" y="406728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你害怕时，你是黄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6726240" y="445788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你生病时，你是绿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6629400" y="48276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当你死时，你是灰色的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7"/>
          <p:cNvSpPr/>
          <p:nvPr/>
        </p:nvSpPr>
        <p:spPr>
          <a:xfrm>
            <a:off x="6638400" y="53737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隶书"/>
                <a:ea typeface="华文隶书"/>
              </a:rPr>
              <a:t>而你，却叫我「有色人种」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图文框 18"/>
          <p:cNvSpPr/>
          <p:nvPr/>
        </p:nvSpPr>
        <p:spPr>
          <a:xfrm>
            <a:off x="1631880" y="5143680"/>
            <a:ext cx="1068480" cy="1068120"/>
          </a:xfrm>
          <a:custGeom>
            <a:avLst/>
            <a:gdLst/>
            <a:ahLst/>
            <a:rect l="l" t="t" r="r" b="b"/>
            <a:pathLst>
              <a:path w="1068388" h="1068388">
                <a:moveTo>
                  <a:pt x="0" y="0"/>
                </a:moveTo>
                <a:lnTo>
                  <a:pt x="1068388" y="0"/>
                </a:lnTo>
                <a:lnTo>
                  <a:pt x="1068388" y="1068388"/>
                </a:lnTo>
                <a:lnTo>
                  <a:pt x="0" y="1068388"/>
                </a:lnTo>
                <a:lnTo>
                  <a:pt x="0" y="0"/>
                </a:lnTo>
                <a:close/>
                <a:moveTo>
                  <a:pt x="133549" y="133549"/>
                </a:moveTo>
                <a:lnTo>
                  <a:pt x="133549" y="934840"/>
                </a:lnTo>
                <a:lnTo>
                  <a:pt x="934840" y="934840"/>
                </a:lnTo>
                <a:lnTo>
                  <a:pt x="934840" y="133549"/>
                </a:lnTo>
                <a:lnTo>
                  <a:pt x="133549" y="1335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同心圆 19"/>
          <p:cNvSpPr/>
          <p:nvPr/>
        </p:nvSpPr>
        <p:spPr>
          <a:xfrm>
            <a:off x="5321160" y="911160"/>
            <a:ext cx="812880" cy="812880"/>
          </a:xfrm>
          <a:custGeom>
            <a:avLst/>
            <a:gdLst/>
            <a:ahLst/>
            <a:rect l="l" t="t" r="r" b="b"/>
            <a:pathLst>
              <a:path w="812800" h="812800">
                <a:moveTo>
                  <a:pt x="0" y="406400"/>
                </a:moveTo>
                <a:cubicBezTo>
                  <a:pt x="0" y="181951"/>
                  <a:pt x="181951" y="0"/>
                  <a:pt x="406400" y="0"/>
                </a:cubicBezTo>
                <a:cubicBezTo>
                  <a:pt x="630849" y="0"/>
                  <a:pt x="812800" y="181951"/>
                  <a:pt x="812800" y="406400"/>
                </a:cubicBezTo>
                <a:cubicBezTo>
                  <a:pt x="812800" y="630849"/>
                  <a:pt x="630849" y="812800"/>
                  <a:pt x="406400" y="812800"/>
                </a:cubicBezTo>
                <a:cubicBezTo>
                  <a:pt x="181951" y="812800"/>
                  <a:pt x="0" y="630849"/>
                  <a:pt x="0" y="406400"/>
                </a:cubicBezTo>
                <a:close/>
                <a:moveTo>
                  <a:pt x="104615" y="406400"/>
                </a:moveTo>
                <a:cubicBezTo>
                  <a:pt x="104615" y="573071"/>
                  <a:pt x="239729" y="708185"/>
                  <a:pt x="406400" y="708185"/>
                </a:cubicBezTo>
                <a:cubicBezTo>
                  <a:pt x="573071" y="708185"/>
                  <a:pt x="708185" y="573071"/>
                  <a:pt x="708185" y="406400"/>
                </a:cubicBezTo>
                <a:cubicBezTo>
                  <a:pt x="708185" y="239729"/>
                  <a:pt x="573071" y="104615"/>
                  <a:pt x="406400" y="104615"/>
                </a:cubicBezTo>
                <a:cubicBezTo>
                  <a:pt x="239729" y="104615"/>
                  <a:pt x="104615" y="239729"/>
                  <a:pt x="104615" y="4064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0"/>
          <p:cNvSpPr/>
          <p:nvPr/>
        </p:nvSpPr>
        <p:spPr>
          <a:xfrm>
            <a:off x="179280" y="0"/>
            <a:ext cx="261324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1392120" y="-166680"/>
            <a:ext cx="17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译文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08:44:19Z</dcterms:created>
  <dc:creator/>
  <dc:description/>
  <dc:language>en-US</dc:language>
  <cp:lastModifiedBy/>
  <dcterms:modified xsi:type="dcterms:W3CDTF">2015-07-11T09:41:00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