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F37E-63C3-474E-B755-40F9471B6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7760" y="37497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04A4-CADA-455C-8936-F0A23B6E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776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17148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CD9B-8698-432F-81D2-D1518D792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09120" y="1600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70120" y="1600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7760" y="37497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09120" y="37497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70120" y="37497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65C7-89FB-42B6-85A0-5528F811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CF92-3CE9-4C61-AC66-0F825693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776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DC9B-4BBB-4A41-95DB-3A5CFCC7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DB4F-D068-4D27-9A32-31FDE75F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E531-7C03-4ACB-A847-5828977B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0D29-0386-4B86-82B8-F18A233E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D2F1-86B6-4B4A-824B-73037166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776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F512-8556-45DD-915C-A92CF3C5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776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ACA3-8057-4B18-B7E8-E5157CCD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7148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92B8-DCF1-4AE5-86A2-FF7C6D43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7760" y="37497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184E-D232-4EA5-BB40-6265F981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7760" y="37497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2F0E-E8EF-4C44-9D0B-307B232F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776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17148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B4DE-DAFB-468D-A4BC-974327616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09120" y="1600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170120" y="1600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7760" y="37497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109120" y="37497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170120" y="37497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9E54-50A6-4F1B-97D1-4B0627B51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1728-190B-453F-B3AE-631CCF00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5EAD-340F-426C-96DE-2BEEF486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87E2-4059-4AC6-8215-F189198C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1761-8540-4F6C-ADA2-9A118032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776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C838-96CE-462E-B61A-F598AF74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7148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3DF8-7550-4407-88F7-A291D5F1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7760" y="37497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E555-F18B-4460-924E-34D219A4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7217-00DC-475C-A9E7-E0BCB3308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6A93-6D34-4893-825F-260DD9DC9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animationfactory.com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hop57233999.taobao.com/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宋体"/>
              </a:rPr>
              <a:t>印象派音乐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1294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宋体"/>
              </a:rPr>
              <a:t>Add Title Her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Add Text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  <a:ea typeface="宋体"/>
              </a:rPr>
              <a:t>Print Pag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dd Text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rId3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sassy_saxaphone_qx" descr=""/>
          <p:cNvPicPr/>
          <p:nvPr/>
        </p:nvPicPr>
        <p:blipFill>
          <a:blip r:embed="rId4"/>
          <a:stretch/>
        </p:blipFill>
        <p:spPr>
          <a:xfrm>
            <a:off x="2590920" y="15238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3" name="sassy_saxaphone_sld" descr=""/>
          <p:cNvPicPr/>
          <p:nvPr/>
        </p:nvPicPr>
        <p:blipFill>
          <a:blip r:embed="rId5"/>
          <a:stretch/>
        </p:blipFill>
        <p:spPr>
          <a:xfrm>
            <a:off x="5486400" y="152388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94" name="sassy_saxaphone_prt" descr=""/>
          <p:cNvPicPr/>
          <p:nvPr/>
        </p:nvPicPr>
        <p:blipFill>
          <a:blip r:embed="rId6"/>
          <a:stretch/>
        </p:blipFill>
        <p:spPr>
          <a:xfrm>
            <a:off x="2590920" y="3733920"/>
            <a:ext cx="2590560" cy="1942920"/>
          </a:xfrm>
          <a:prstGeom prst="rect">
            <a:avLst/>
          </a:prstGeom>
          <a:ln w="0">
            <a:noFill/>
          </a:ln>
        </p:spPr>
      </p:pic>
      <p:pic>
        <p:nvPicPr>
          <p:cNvPr id="95" name="sassy_saxaphone_trs" descr=""/>
          <p:cNvPicPr/>
          <p:nvPr/>
        </p:nvPicPr>
        <p:blipFill>
          <a:blip r:embed="rId7"/>
          <a:stretch/>
        </p:blipFill>
        <p:spPr>
          <a:xfrm>
            <a:off x="5486400" y="3733920"/>
            <a:ext cx="259092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1692360" y="4869000"/>
            <a:ext cx="619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cc00"/>
                </a:solidFill>
                <a:latin typeface="Arial"/>
                <a:ea typeface="黑体"/>
              </a:rPr>
              <a:t>青苹果出品   必属精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  <a:ea typeface="宋体"/>
              </a:rPr>
              <a:t>http://www.docin.com/cuiyuli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ccff"/>
                </a:solidFill>
                <a:latin typeface="Arial"/>
                <a:ea typeface="宋体"/>
              </a:rPr>
              <a:t>淘宝店：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http://shop57233999.taoba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771640" y="1125360"/>
            <a:ext cx="398484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4:18:58Z</dcterms:created>
  <dc:creator>eclipse</dc:creator>
  <dc:description/>
  <dc:language>en-US</dc:language>
  <cp:lastModifiedBy>微软用户</cp:lastModifiedBy>
  <dcterms:modified xsi:type="dcterms:W3CDTF">2015-07-05T06:58:35Z</dcterms:modified>
  <cp:revision>4</cp:revision>
  <dc:subject/>
  <dc:title>Liquid A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