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E7F2-931B-40BE-97DE-CF8D96A7E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67FE-DD70-43E2-8A3F-6171FCD1A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75D7-7DA7-4056-B195-864DF5D33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521E-059A-4419-BF6B-C8F47748B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41BB7-0B88-4F9E-B2FE-F89BC7D15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DF741-FBE4-427E-9959-75E1EE4F2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17843-D647-42D6-A61E-993401DF5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217AE-EE4A-4AAE-B6C6-B9FDED4B1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687F5-A69F-47B2-9ACD-5567AF0C5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9FE69-4300-4558-9D42-1D86B179D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AB4DC-4A2B-470C-AA67-EF506E72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50B3-C928-40CA-B9A3-A166A409B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C839D-D9F4-47BB-9086-EF35B72A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63DC7-688A-426C-976D-36A87135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82EB6-A8E7-487D-A259-F43B0B431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48340-19DA-42A1-8050-20AEEFF4E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E1D6D-D135-4EFA-9BAF-E73C6B448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263E-079A-490A-A8DB-5E83B90A4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D80D-2D2E-42D0-ADE3-2BF339275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2418-EFD0-4121-89F5-970D4F95D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E088-E942-4B07-8F10-208E48561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E78D-F3FF-4516-BFE6-7A57ED83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051A-F3A8-49F7-9D82-2B9DB014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9DE7-C3AA-4B0E-B5DA-BB85A484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7481E-67AE-44E1-943F-9B244BCDEC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82870-07FF-4761-A8E9-7642A4F121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hi.baidu.com/mahengliang/album/item/0daf28085c40dfc963d986c5.html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blog.doule.net/user1/91/archives/2005/236.html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0daf28085c40dfc963d986c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87280" y="907920"/>
            <a:ext cx="6266160" cy="4869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9"/>
          <p:cNvSpPr/>
          <p:nvPr/>
        </p:nvSpPr>
        <p:spPr>
          <a:xfrm>
            <a:off x="1193760" y="522360"/>
            <a:ext cx="30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6064200" y="6242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4">
            <a:hlinkClick r:id="" action="ppaction://hlinkshowjump?jump=nextslide"/>
          </p:cNvPr>
          <p:cNvSpPr/>
          <p:nvPr/>
        </p:nvSpPr>
        <p:spPr>
          <a:xfrm>
            <a:off x="311040" y="6118200"/>
            <a:ext cx="936720" cy="503280"/>
          </a:xfrm>
          <a:custGeom>
            <a:avLst/>
            <a:gdLst>
              <a:gd name="textAreaLeft" fmla="*/ 31320 w 936720"/>
              <a:gd name="textAreaRight" fmla="*/ 905400 w 936720"/>
              <a:gd name="textAreaTop" fmla="*/ 31320 h 503280"/>
              <a:gd name="textAreaBottom" fmla="*/ 471960 h 503280"/>
            </a:gdLst>
            <a:ahLst/>
            <a:rect l="textAreaLeft" t="textAreaTop" r="textAreaRight" b="textAreaBottom"/>
            <a:pathLst>
              <a:path w="40189" h="21600">
                <a:moveTo>
                  <a:pt x="0" y="0"/>
                </a:moveTo>
                <a:lnTo>
                  <a:pt x="40189" y="0"/>
                </a:lnTo>
                <a:lnTo>
                  <a:pt x="40189" y="21600"/>
                </a:lnTo>
                <a:lnTo>
                  <a:pt x="0" y="21600"/>
                </a:lnTo>
                <a:close/>
              </a:path>
              <a:path fill="lightenLess" w="40189" h="21600">
                <a:moveTo>
                  <a:pt x="0" y="0"/>
                </a:moveTo>
                <a:lnTo>
                  <a:pt x="40189" y="0"/>
                </a:lnTo>
                <a:lnTo>
                  <a:pt x="38839" y="1350"/>
                </a:lnTo>
                <a:lnTo>
                  <a:pt x="1350" y="1350"/>
                </a:lnTo>
                <a:close/>
              </a:path>
              <a:path fill="darken" w="40189" h="21600">
                <a:moveTo>
                  <a:pt x="40189" y="0"/>
                </a:moveTo>
                <a:lnTo>
                  <a:pt x="40189" y="21600"/>
                </a:lnTo>
                <a:lnTo>
                  <a:pt x="38839" y="20250"/>
                </a:lnTo>
                <a:lnTo>
                  <a:pt x="38839" y="1350"/>
                </a:lnTo>
                <a:close/>
              </a:path>
              <a:path fill="darkenLess" w="40189" h="21600">
                <a:moveTo>
                  <a:pt x="4018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8839" y="20250"/>
                </a:lnTo>
                <a:close/>
              </a:path>
              <a:path fill="lighten" w="4018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40189" h="21600">
                <a:moveTo>
                  <a:pt x="13051" y="3756"/>
                </a:moveTo>
                <a:lnTo>
                  <a:pt x="27138" y="10800"/>
                </a:lnTo>
                <a:lnTo>
                  <a:pt x="13051" y="17844"/>
                </a:lnTo>
                <a:close/>
              </a:path>
            </a:pathLst>
          </a:custGeom>
          <a:solidFill>
            <a:srgbClr val="ffff99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8"/>
          <p:cNvSpPr/>
          <p:nvPr/>
        </p:nvSpPr>
        <p:spPr>
          <a:xfrm>
            <a:off x="1116000" y="5734080"/>
            <a:ext cx="1513080" cy="360360"/>
          </a:xfrm>
          <a:prstGeom prst="wedgeRectCallout">
            <a:avLst>
              <a:gd name="adj1" fmla="val -17365"/>
              <a:gd name="adj2" fmla="val 5220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句子赏  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9"/>
          <p:cNvSpPr/>
          <p:nvPr/>
        </p:nvSpPr>
        <p:spPr>
          <a:xfrm>
            <a:off x="2916360" y="5734080"/>
            <a:ext cx="1366560" cy="358920"/>
          </a:xfrm>
          <a:prstGeom prst="wedgeRectCallout">
            <a:avLst>
              <a:gd name="adj1" fmla="val -24217"/>
              <a:gd name="adj2" fmla="val 4778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拓展延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20"/>
          <p:cNvSpPr/>
          <p:nvPr/>
        </p:nvSpPr>
        <p:spPr>
          <a:xfrm>
            <a:off x="4500720" y="5734080"/>
            <a:ext cx="1296720" cy="360360"/>
          </a:xfrm>
          <a:prstGeom prst="wedgeRectCallout">
            <a:avLst>
              <a:gd name="adj1" fmla="val -37759"/>
              <a:gd name="adj2" fmla="val 3590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伟人生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21"/>
          <p:cNvSpPr/>
          <p:nvPr/>
        </p:nvSpPr>
        <p:spPr>
          <a:xfrm>
            <a:off x="6012000" y="5734080"/>
            <a:ext cx="1296720" cy="358920"/>
          </a:xfrm>
          <a:prstGeom prst="wedgeRectCallout">
            <a:avLst>
              <a:gd name="adj1" fmla="val -21115"/>
              <a:gd name="adj2" fmla="val 4734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怀念 的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23"/>
          <p:cNvSpPr/>
          <p:nvPr/>
        </p:nvSpPr>
        <p:spPr>
          <a:xfrm>
            <a:off x="2484360" y="5877000"/>
            <a:ext cx="71640" cy="73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25"/>
          <p:cNvSpPr/>
          <p:nvPr/>
        </p:nvSpPr>
        <p:spPr>
          <a:xfrm>
            <a:off x="5580000" y="5877000"/>
            <a:ext cx="144360" cy="73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27"/>
          <p:cNvSpPr/>
          <p:nvPr/>
        </p:nvSpPr>
        <p:spPr>
          <a:xfrm>
            <a:off x="4140360" y="5877000"/>
            <a:ext cx="71280" cy="73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28"/>
          <p:cNvSpPr/>
          <p:nvPr/>
        </p:nvSpPr>
        <p:spPr>
          <a:xfrm>
            <a:off x="7164360" y="5877000"/>
            <a:ext cx="144360" cy="73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nt"/>
          <p:cNvSpPr/>
          <p:nvPr/>
        </p:nvSpPr>
        <p:spPr>
          <a:xfrm>
            <a:off x="8028000" y="5661000"/>
            <a:ext cx="512640" cy="576360"/>
          </a:xfrm>
          <a:custGeom>
            <a:avLst/>
            <a:gdLst>
              <a:gd name="textAreaLeft" fmla="*/ 168480 w 512640"/>
              <a:gd name="textAreaRight" fmla="*/ 345240 w 512640"/>
              <a:gd name="textAreaTop" fmla="*/ 269280 h 576360"/>
              <a:gd name="textAreaBottom" fmla="*/ 362160 h 57636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093080" y="630864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708360" y="7650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46760" y="260280"/>
            <a:ext cx="206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夜的工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页脚占位符 3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950760" y="1851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823680" y="3141720"/>
            <a:ext cx="1200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把所有的心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装进你心里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你的胸前写下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是这样的人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718920" y="4869000"/>
            <a:ext cx="120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把所有的爱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握在你手中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用你的眼睛诉说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是这样的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3196800" y="3213000"/>
            <a:ext cx="114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用多想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用多问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就是这样的人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3105360" y="4869000"/>
            <a:ext cx="866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能不想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能不问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真心有多重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爱有多深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4738680" y="831960"/>
            <a:ext cx="396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把所有的伤痛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藏在你身上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用你的微笑回答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是这样的人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用多想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用多问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 就是这样的人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5662800" y="3860640"/>
            <a:ext cx="1250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能不想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能不问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真心有多重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爱有多深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把所有的生命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归还世界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人们在心 里呼唤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是这样的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3" descr="2004122220183079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260280"/>
            <a:ext cx="3809880" cy="2705040"/>
          </a:xfrm>
          <a:prstGeom prst="rect">
            <a:avLst/>
          </a:prstGeom>
          <a:ln w="0">
            <a:noFill/>
          </a:ln>
        </p:spPr>
      </p:pic>
      <p:pic>
        <p:nvPicPr>
          <p:cNvPr id="107" name="9.wma" descr=""/>
          <p:cNvPicPr/>
          <p:nvPr/>
        </p:nvPicPr>
        <p:blipFill>
          <a:blip r:embed="rId4"/>
          <a:stretch/>
        </p:blipFill>
        <p:spPr>
          <a:xfrm>
            <a:off x="7812000" y="364500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108" name="plant"/>
          <p:cNvSpPr/>
          <p:nvPr/>
        </p:nvSpPr>
        <p:spPr>
          <a:xfrm>
            <a:off x="7885080" y="5589720"/>
            <a:ext cx="1089000" cy="792000"/>
          </a:xfrm>
          <a:custGeom>
            <a:avLst/>
            <a:gdLst>
              <a:gd name="textAreaLeft" fmla="*/ 357840 w 1089000"/>
              <a:gd name="textAreaRight" fmla="*/ 733320 w 1089000"/>
              <a:gd name="textAreaTop" fmla="*/ 370080 h 792000"/>
              <a:gd name="textAreaBottom" fmla="*/ 497880 h 79200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216659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页脚占位符 3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324000" y="1628640"/>
            <a:ext cx="59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那是一间高大的宫殿式的房子，室内陈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3529800" y="2276640"/>
            <a:ext cx="108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张不大写字台，两把小转椅，一盏台灯，如此而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6135480" y="1628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极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6783120" y="1628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简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7551360" y="16336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nt"/>
          <p:cNvSpPr/>
          <p:nvPr/>
        </p:nvSpPr>
        <p:spPr>
          <a:xfrm>
            <a:off x="7667640" y="4581360"/>
            <a:ext cx="1008000" cy="1295640"/>
          </a:xfrm>
          <a:custGeom>
            <a:avLst/>
            <a:gdLst>
              <a:gd name="textAreaLeft" fmla="*/ 331200 w 1008000"/>
              <a:gd name="textAreaRight" fmla="*/ 678960 w 1008000"/>
              <a:gd name="textAreaTop" fmla="*/ 605520 h 1295640"/>
              <a:gd name="textAreaBottom" fmla="*/ 814320 h 129564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920" y="616572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0000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00080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页脚占位符 4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24000" y="1628640"/>
            <a:ext cx="8540640" cy="8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总理招呼我坐在他的写字台对面，要我陪他审阅我整理的记录稿，其实是备咨询的意思。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7450560" y="19162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他一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781080" y="2421000"/>
            <a:ext cx="16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句地审阅，看完一句就用笔在那一句后面画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755640" y="292428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小圆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3784680" y="3429000"/>
            <a:ext cx="159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边思索，有时停笔想一想，有时问我一两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679840" y="4010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4975560" y="292428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他不是浏览一遍就算了，而是一边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0"/>
          <p:cNvSpPr/>
          <p:nvPr/>
        </p:nvSpPr>
        <p:spPr>
          <a:xfrm>
            <a:off x="7164360" y="2421000"/>
            <a:ext cx="1079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2"/>
          <p:cNvSpPr/>
          <p:nvPr/>
        </p:nvSpPr>
        <p:spPr>
          <a:xfrm>
            <a:off x="1042920" y="2924280"/>
            <a:ext cx="1728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nt"/>
          <p:cNvSpPr/>
          <p:nvPr/>
        </p:nvSpPr>
        <p:spPr>
          <a:xfrm>
            <a:off x="7596360" y="4724280"/>
            <a:ext cx="936360" cy="1225800"/>
          </a:xfrm>
          <a:custGeom>
            <a:avLst/>
            <a:gdLst>
              <a:gd name="textAreaLeft" fmla="*/ 307800 w 936360"/>
              <a:gd name="textAreaRight" fmla="*/ 630720 w 936360"/>
              <a:gd name="textAreaTop" fmla="*/ 572760 h 1225800"/>
              <a:gd name="textAreaBottom" fmla="*/ 770400 h 122580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页脚占位符 5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250920" y="98100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夜很静，周总理一句一句地审阅着文件，那不是普通的浏览，他一边看一边思索：－－－－－－－－－－－－－－－－－－－－－－－－－－－－－－－－－－－－－－－－－－－－－－－－－－－－－－－－－－－－－－－－－－－－－－－－－－－－－－－－－－－－－－－－－－－－－－－－－－－－－－－－－－－－－－－－－－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WordArt 10"/>
          <p:cNvSpPr txBox="1"/>
          <p:nvPr/>
        </p:nvSpPr>
        <p:spPr>
          <a:xfrm>
            <a:off x="250920" y="33336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请同学们写一写</a:t>
            </a:r>
            <a:endParaRPr b="0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2" name="Text Box 29"/>
          <p:cNvSpPr/>
          <p:nvPr/>
        </p:nvSpPr>
        <p:spPr>
          <a:xfrm>
            <a:off x="395280" y="407664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看啊，这就是我们中华人民共和国的总理。我看见了他一夜的工作。他每个夜晚都是这样工作的。你们见过这样的总理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nt"/>
          <p:cNvSpPr/>
          <p:nvPr/>
        </p:nvSpPr>
        <p:spPr>
          <a:xfrm>
            <a:off x="8172360" y="4941720"/>
            <a:ext cx="585720" cy="1081080"/>
          </a:xfrm>
          <a:custGeom>
            <a:avLst/>
            <a:gdLst>
              <a:gd name="textAreaLeft" fmla="*/ 192600 w 585720"/>
              <a:gd name="textAreaRight" fmla="*/ 394560 w 585720"/>
              <a:gd name="textAreaTop" fmla="*/ 505080 h 1081080"/>
              <a:gd name="textAreaBottom" fmla="*/ 679320 h 108108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4920" y="616572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页脚占位符 5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20050830195900331"/>
          <p:cNvPicPr/>
          <p:nvPr/>
        </p:nvPicPr>
        <p:blipFill>
          <a:blip r:embed="rId2"/>
          <a:stretch/>
        </p:blipFill>
        <p:spPr>
          <a:xfrm>
            <a:off x="755640" y="981000"/>
            <a:ext cx="7920000" cy="5265720"/>
          </a:xfrm>
          <a:prstGeom prst="rect">
            <a:avLst/>
          </a:prstGeom>
          <a:ln w="0">
            <a:noFill/>
          </a:ln>
        </p:spPr>
      </p:pic>
      <p:sp>
        <p:nvSpPr>
          <p:cNvPr id="137" name="WordArt 8"/>
          <p:cNvSpPr txBox="1"/>
          <p:nvPr/>
        </p:nvSpPr>
        <p:spPr>
          <a:xfrm>
            <a:off x="250920" y="765000"/>
            <a:ext cx="338436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伟人生平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38" name="plant"/>
          <p:cNvSpPr/>
          <p:nvPr/>
        </p:nvSpPr>
        <p:spPr>
          <a:xfrm>
            <a:off x="8028000" y="5589720"/>
            <a:ext cx="585720" cy="647640"/>
          </a:xfrm>
          <a:custGeom>
            <a:avLst/>
            <a:gdLst>
              <a:gd name="textAreaLeft" fmla="*/ 192600 w 585720"/>
              <a:gd name="textAreaRight" fmla="*/ 394560 w 585720"/>
              <a:gd name="textAreaTop" fmla="*/ 302760 h 647640"/>
              <a:gd name="textAreaBottom" fmla="*/ 407160 h 64764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800080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7616-51A2-417A-A98B-741DAB1A6F21}" type="slidenum">
              <a:t>7</a:t>
            </a:fld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页脚占位符 5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78920" y="981000"/>
            <a:ext cx="8713800" cy="55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7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                                        周总理确诊癌症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7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                                       病情恶化，体重只有三十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斤，仍坚持工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7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                           会见菲律宾总统马科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                                      会见西哈努克亲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                                        会见罗马尼亚党政代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                                      第四次手术前向邓小平同志交待工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                                    第五次手术后，总理对妻子说，死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不留骨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                                   询问台湾近况，不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分钟就昏迷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7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深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       生前最后一句话：“你们去照顾别的病人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那里更需要你们。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7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上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分                总理永远离开了我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WordArt 5"/>
          <p:cNvSpPr txBox="1"/>
          <p:nvPr/>
        </p:nvSpPr>
        <p:spPr>
          <a:xfrm>
            <a:off x="179280" y="0"/>
            <a:ext cx="2718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77000"/>
                    </a:srgbClr>
                  </a:outerShdw>
                </a:effectLst>
                <a:latin typeface="宋体"/>
              </a:rPr>
              <a:t>最后的日子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5" name="plant"/>
          <p:cNvSpPr/>
          <p:nvPr/>
        </p:nvSpPr>
        <p:spPr>
          <a:xfrm>
            <a:off x="7956720" y="5300640"/>
            <a:ext cx="728640" cy="936720"/>
          </a:xfrm>
          <a:custGeom>
            <a:avLst/>
            <a:gdLst>
              <a:gd name="textAreaLeft" fmla="*/ 239400 w 728640"/>
              <a:gd name="textAreaRight" fmla="*/ 490680 w 728640"/>
              <a:gd name="textAreaTop" fmla="*/ 437760 h 936720"/>
              <a:gd name="textAreaBottom" fmla="*/ 588600 h 93672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1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1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页脚占位符 5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3" descr="u=3511588821,411910552&amp;fm=0&amp;gp=16"/>
          <p:cNvPicPr/>
          <p:nvPr/>
        </p:nvPicPr>
        <p:blipFill>
          <a:blip r:embed="rId2"/>
          <a:stretch/>
        </p:blipFill>
        <p:spPr>
          <a:xfrm>
            <a:off x="5292720" y="3429000"/>
            <a:ext cx="4032360" cy="2879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780d58efa840b90ffcfa3c24"/>
          <p:cNvPicPr/>
          <p:nvPr/>
        </p:nvPicPr>
        <p:blipFill>
          <a:blip r:embed="rId3"/>
          <a:stretch/>
        </p:blipFill>
        <p:spPr>
          <a:xfrm>
            <a:off x="684360" y="260280"/>
            <a:ext cx="4592520" cy="5832720"/>
          </a:xfrm>
          <a:prstGeom prst="rect">
            <a:avLst/>
          </a:prstGeom>
          <a:ln w="0">
            <a:noFill/>
          </a:ln>
        </p:spPr>
      </p:pic>
      <p:sp>
        <p:nvSpPr>
          <p:cNvPr id="149" name="WordArt 8"/>
          <p:cNvSpPr txBox="1"/>
          <p:nvPr/>
        </p:nvSpPr>
        <p:spPr>
          <a:xfrm rot="5400000">
            <a:off x="5555880" y="2013120"/>
            <a:ext cx="3529080" cy="1176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永远怀念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50" name=""/>
          <p:cNvSpPr/>
          <p:nvPr/>
        </p:nvSpPr>
        <p:spPr>
          <a:xfrm>
            <a:off x="900000" y="6308640"/>
            <a:ext cx="676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800080"/>
                </a:solidFill>
                <a:uFillTx/>
                <a:latin typeface="Verdana"/>
                <a:hlinkClick r:id="rId4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13:11:46Z</dcterms:created>
  <dc:creator>An</dc:creator>
  <dc:description/>
  <dc:language>en-US</dc:language>
  <cp:lastModifiedBy/>
  <dcterms:modified xsi:type="dcterms:W3CDTF">2015-07-11T09:20:14Z</dcterms:modified>
  <cp:revision>1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