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camera.wav" ContentType="audio/x-wav"/>
  <Override PartName="/ppt/media/image21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B9F-210F-4E54-8529-34766E13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88F-BEE7-47E6-94F6-B29D9D59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D11-9F2F-4B70-8DAD-BA9FDA33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4CC-DC24-43C8-A3E7-6A343C4A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DD5F-4588-42AB-8A0E-957F00B1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E95-3474-4E3B-9914-8356978C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8A3-F333-4A95-A997-6BDCFF4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C0B9-A2A5-4C34-B84D-4DB94599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FFC4-AEF2-41CA-B1EC-85C46043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CFC9-3725-4DA9-92E5-6F09CB9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78F2-56C0-40DE-ACDD-925CA99C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3A1-6855-4697-98D6-B80BD8D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38DD-5E8F-4EDB-A2AC-E9F8125B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80C0-0859-451F-B29F-D3330EB4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D8A-04CD-4764-B4C6-F06973E4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0CED-9066-48B6-AC1F-C8DB0C5D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B51B-E926-4485-837A-4BA0AD20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9A31-64D1-4CD7-9E84-5FD1E735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B7BF-A844-4879-91EB-DB71F7FB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3707-3A75-411B-A578-3A57C44E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BEED-45BA-4C44-9FF6-F985355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2346-382E-4978-AB0F-4A8D4DD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519-13C1-4D71-985C-66A8D05C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D84F-3624-4E88-9157-B5BD6070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8FB5-AD33-4C94-B4D7-D05EBFD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0FCA-5F22-46B0-8F3E-CC763996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78D1-096E-4525-8310-9D01CA75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6999-D428-4D4F-95E9-81D70DF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6C6D-1AB0-46D1-B945-757C137B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F7F5-D2DD-41E3-B519-17BD3B69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279-FCDF-42A5-9E1E-89ACAB42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080-BEC1-4DB9-B233-93C057B5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7FE-47C4-418E-8E46-E1844ED5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842-A212-4335-95A4-43D0269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B97-F717-4147-98DE-28AF1D8E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2E2-538A-4B4F-8333-33FC451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A3BF-AFE4-4C55-8997-1F544E2F88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5225-776A-47D4-B1F6-3F1EF8FB722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F3BA-5FE2-4D8A-9F9F-A62AB440D8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574490427467622296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9080" y="1844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25720" y="836640"/>
            <a:ext cx="12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夜的工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04920" y="30492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那是一间高大的宫殿式的房子，室内陈设极其简单，一张不大的写字台，两把小转椅，一盏台灯，如此而已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8101080" y="6093000"/>
            <a:ext cx="718920" cy="765000"/>
          </a:xfrm>
          <a:custGeom>
            <a:avLst/>
            <a:gdLst>
              <a:gd name="textAreaLeft" fmla="*/ 44640 w 718920"/>
              <a:gd name="textAreaRight" fmla="*/ 674280 w 718920"/>
              <a:gd name="textAreaTop" fmla="*/ 44640 h 765000"/>
              <a:gd name="textAreaBottom" fmla="*/ 720360 h 765000"/>
            </a:gdLst>
            <a:ahLst/>
            <a:rect l="textAreaLeft" t="textAreaTop" r="textAreaRight" b="textAreaBottom"/>
            <a:pathLst>
              <a:path w="21600" h="22984">
                <a:moveTo>
                  <a:pt x="0" y="0"/>
                </a:moveTo>
                <a:lnTo>
                  <a:pt x="21600" y="0"/>
                </a:lnTo>
                <a:lnTo>
                  <a:pt x="21600" y="22984"/>
                </a:lnTo>
                <a:lnTo>
                  <a:pt x="0" y="22984"/>
                </a:lnTo>
                <a:close/>
              </a:path>
              <a:path fill="lightenLess" w="21600" h="2298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984">
                <a:moveTo>
                  <a:pt x="21600" y="0"/>
                </a:moveTo>
                <a:lnTo>
                  <a:pt x="21600" y="22984"/>
                </a:lnTo>
                <a:lnTo>
                  <a:pt x="20250" y="21634"/>
                </a:lnTo>
                <a:lnTo>
                  <a:pt x="20250" y="1350"/>
                </a:lnTo>
                <a:close/>
              </a:path>
              <a:path fill="darkenLess" w="21600" h="22984">
                <a:moveTo>
                  <a:pt x="21600" y="22984"/>
                </a:moveTo>
                <a:lnTo>
                  <a:pt x="0" y="22984"/>
                </a:lnTo>
                <a:lnTo>
                  <a:pt x="1350" y="21634"/>
                </a:lnTo>
                <a:lnTo>
                  <a:pt x="20250" y="21634"/>
                </a:lnTo>
                <a:close/>
              </a:path>
              <a:path fill="lighten" w="21600" h="22984">
                <a:moveTo>
                  <a:pt x="0" y="22984"/>
                </a:moveTo>
                <a:lnTo>
                  <a:pt x="0" y="0"/>
                </a:lnTo>
                <a:lnTo>
                  <a:pt x="1350" y="1350"/>
                </a:lnTo>
                <a:lnTo>
                  <a:pt x="1350" y="21634"/>
                </a:lnTo>
                <a:close/>
              </a:path>
              <a:path fill="darken" w="21600" h="22984">
                <a:moveTo>
                  <a:pt x="3756" y="11492"/>
                </a:moveTo>
                <a:lnTo>
                  <a:pt x="17844" y="4448"/>
                </a:lnTo>
                <a:lnTo>
                  <a:pt x="17844" y="185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25280" y="946080"/>
            <a:ext cx="8839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如此而已”中的“如”是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 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意思，“此”是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意思，“如此”在文中指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这句话用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行对比，突出了总理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04920" y="3049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1" lang="zh-CN" sz="5000" spc="-1" strike="noStrike">
                <a:solidFill>
                  <a:srgbClr val="6666ff"/>
                </a:solidFill>
                <a:latin typeface="Arial"/>
              </a:rPr>
              <a:t>我看见了他一夜的工作。他每个夜晚都是这样工作的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71680" y="304920"/>
            <a:ext cx="80010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        </a:t>
            </a:r>
            <a:r>
              <a:rPr b="0" lang="zh-CN" sz="6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花生米并不多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可以数得清颗数，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像并没有因为多了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个人而增加分量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885080" y="6093000"/>
            <a:ext cx="790560" cy="765000"/>
          </a:xfrm>
          <a:custGeom>
            <a:avLst/>
            <a:gdLst>
              <a:gd name="textAreaLeft" fmla="*/ 47520 w 790560"/>
              <a:gd name="textAreaRight" fmla="*/ 743040 w 79056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71" y="1350"/>
                </a:lnTo>
                <a:lnTo>
                  <a:pt x="1350" y="135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71" y="20250"/>
                </a:lnTo>
                <a:lnTo>
                  <a:pt x="20971" y="135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971" y="2025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321" h="21600">
                <a:moveTo>
                  <a:pt x="4117" y="10800"/>
                </a:moveTo>
                <a:lnTo>
                  <a:pt x="18204" y="3756"/>
                </a:lnTo>
                <a:lnTo>
                  <a:pt x="1820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隶书"/>
              </a:rPr>
              <a:t>生活简朴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557000"/>
            <a:ext cx="31370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是一间高大的宫殿式的房子。室内陈设极其简单，一张不大的写字台，两把小转椅，一盏台灯，如此而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生米并不多，可以数得清颗数，好像并没有因为多了一个人而增加分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02040" y="1600200"/>
            <a:ext cx="3136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隶书"/>
              </a:rPr>
              <a:t>陈设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"/>
                <a:ea typeface="隶书"/>
              </a:rPr>
              <a:t>夜宵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 flipV="1">
            <a:off x="4067280" y="263628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5050"/>
                </a:solidFill>
                <a:latin typeface="宋体"/>
                <a:ea typeface="宋体"/>
              </a:rPr>
              <a:t>●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76720" y="256536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5050"/>
                </a:solidFill>
                <a:latin typeface="宋体"/>
                <a:ea typeface="宋体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843280" y="3357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5050"/>
                </a:solidFill>
                <a:latin typeface="Arial"/>
                <a:ea typeface="宋体"/>
              </a:rPr>
              <a:t>●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 flipV="1">
            <a:off x="4572000" y="33267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5050"/>
                </a:solidFill>
                <a:latin typeface="Arial"/>
                <a:ea typeface="宋体"/>
              </a:rPr>
              <a:t>●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635280" y="3716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5050"/>
                </a:solidFill>
                <a:latin typeface="Arial"/>
                <a:ea typeface="宋体"/>
              </a:rPr>
              <a:t>●        ●       ●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8432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000" spc="-1" strike="noStrike">
                <a:solidFill>
                  <a:srgbClr val="ff5050"/>
                </a:solidFill>
                <a:latin typeface="Arial"/>
                <a:ea typeface="宋体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2771640" y="260280"/>
            <a:ext cx="315612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50920" y="206064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有的同学认为，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花生米并不多，可以数得清颗数，好像并没有因为多一个人而增加了分量。</a:t>
            </a: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”这句话，意思是花生米跟平时一样多，没有增加分量。你同意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617880" y="2820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好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Times New Roman"/>
              </a:rPr>
              <a:t>         “</a:t>
            </a:r>
            <a:r>
              <a:rPr b="1" lang="zh-CN" sz="5400" spc="-1" strike="noStrike">
                <a:solidFill>
                  <a:srgbClr val="6666ff"/>
                </a:solidFill>
                <a:latin typeface="Times New Roman"/>
              </a:rPr>
              <a:t>看啊，这就是我们中华人民共和国的总理。我看见了他一夜的工作。他每个夜晚都是这样工作的。你们看见过这样的总理吗？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f6cd"/>
            </a:gs>
            <a:gs pos="100000">
              <a:srgbClr val="ecf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0"/>
            <a:ext cx="9144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用上“虽然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……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但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……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一词说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周总理的工作是劳苦的，他的生活是简朴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周总理要审阅的稿子有一尺来高，他审阅每一篇稿子时都是严肃认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那是一间高大的宫殿式的房子，室内陈设极其简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95280" y="620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24000" y="549360"/>
            <a:ext cx="8496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、周总理的工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虽然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是劳苦的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的生活是简朴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虽然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周总理要审阅的稿子有一尺来高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审阅每一篇稿子时都是严肃认真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虽然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那是一间高大的宫殿式的房子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室内陈设极其简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154263"/>
          <p:cNvPicPr/>
          <p:nvPr/>
        </p:nvPicPr>
        <p:blipFill>
          <a:blip r:embed="rId2"/>
          <a:stretch/>
        </p:blipFill>
        <p:spPr>
          <a:xfrm>
            <a:off x="2484360" y="189000"/>
            <a:ext cx="4434120" cy="63370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1440" y="3213000"/>
            <a:ext cx="784692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7000" spc="-1" strike="noStrike">
                <a:solidFill>
                  <a:srgbClr val="ff0000"/>
                </a:solidFill>
                <a:latin typeface="Times New Roman"/>
              </a:rPr>
              <a:t>周总理最后的日子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025"/>
          <p:cNvPicPr/>
          <p:nvPr/>
        </p:nvPicPr>
        <p:blipFill>
          <a:blip r:embed="rId1"/>
          <a:stretch/>
        </p:blipFill>
        <p:spPr>
          <a:xfrm>
            <a:off x="108000" y="476280"/>
            <a:ext cx="8928000" cy="60674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3"/>
          <p:cNvSpPr txBox="1"/>
          <p:nvPr/>
        </p:nvSpPr>
        <p:spPr>
          <a:xfrm>
            <a:off x="1403280" y="2854440"/>
            <a:ext cx="675648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是这样的人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a022"/>
          <p:cNvPicPr/>
          <p:nvPr/>
        </p:nvPicPr>
        <p:blipFill>
          <a:blip r:embed="rId1"/>
          <a:stretch/>
        </p:blipFill>
        <p:spPr>
          <a:xfrm>
            <a:off x="-392040" y="-237960"/>
            <a:ext cx="9967680" cy="74739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8000" y="692280"/>
            <a:ext cx="885816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1971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年，周总理被确诊患癌症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1975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年周总理的病情开始恶化，但他仍然拖着只剩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30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公斤的重病之躯继续顽强的工作着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日，总理会见非礼宾总统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8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26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，总理会见柬埔寨的西哈努克亲王和宾努亲王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日，周恩来不顾病情的严重恶化和医护人员的一再劝阻，坚持会见罗马尼亚党政代表团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20</a:t>
            </a:r>
            <a:r>
              <a:rPr b="1" lang="zh-CN" sz="3000" spc="-1" strike="noStrike">
                <a:solidFill>
                  <a:srgbClr val="6666ff"/>
                </a:solidFill>
                <a:latin typeface="Times New Roman"/>
              </a:rPr>
              <a:t>日下午，总理做住院后的第四次大手术，在进入手术室的前一刻，吃力地握住邓小平的手说：“把工作做好</a:t>
            </a:r>
            <a:r>
              <a:rPr b="1" lang="en-US" sz="3000" spc="-1" strike="noStrike">
                <a:solidFill>
                  <a:srgbClr val="6666ff"/>
                </a:solidFill>
                <a:latin typeface="Times New Roman"/>
              </a:rPr>
              <a:t>!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a022"/>
          <p:cNvPicPr/>
          <p:nvPr/>
        </p:nvPicPr>
        <p:blipFill>
          <a:blip r:embed="rId1"/>
          <a:stretch/>
        </p:blipFill>
        <p:spPr>
          <a:xfrm>
            <a:off x="-392040" y="-237960"/>
            <a:ext cx="9967680" cy="7473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28036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10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24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日，总理做了第五次大手术，这次手术后，一再叮嘱邓颖超：死后不要保留骨灰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12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20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日，生命正处于垂危状态的总理，向应约前来的罗青长询问台湾近况，谈话不到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15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分钟，总理就昏迷不止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1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7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日，深夜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11</a:t>
            </a:r>
            <a:r>
              <a:rPr b="1" lang="zh-CN" sz="3400" spc="-1" strike="noStrike">
                <a:solidFill>
                  <a:srgbClr val="6666ff"/>
                </a:solidFill>
                <a:latin typeface="Times New Roman"/>
              </a:rPr>
              <a:t>时，从昏迷中苏醒。用微弱的声音说道：“我这里没有什么事了。你们还是去照顾别的生病的同志，那里更需要你们……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这是周恩来留下的最后一句话。</a:t>
            </a:r>
            <a:r>
              <a:rPr b="1" lang="en-US" sz="34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a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2560" y="236664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公元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1976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年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月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日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时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57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0000"/>
                </a:solidFill>
                <a:latin typeface="Times New Roman"/>
              </a:rPr>
              <a:t>总理的心脏停止了跳动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a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7240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988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年春天，中南海西花厅院里的海棠花又盛开了。这是周恩来最喜爱的花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..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d8b8c92a3328cd19d42af183"/>
          <p:cNvPicPr/>
          <p:nvPr/>
        </p:nvPicPr>
        <p:blipFill>
          <a:blip r:embed="rId1"/>
          <a:stretch/>
        </p:blipFill>
        <p:spPr>
          <a:xfrm>
            <a:off x="73080" y="54000"/>
            <a:ext cx="8999640" cy="84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200303031101_267119"/>
          <p:cNvPicPr/>
          <p:nvPr/>
        </p:nvPicPr>
        <p:blipFill>
          <a:blip r:embed="rId1"/>
          <a:stretch/>
        </p:blipFill>
        <p:spPr>
          <a:xfrm>
            <a:off x="0" y="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200303040733_267329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678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200303040739_267331"/>
          <p:cNvPicPr/>
          <p:nvPr/>
        </p:nvPicPr>
        <p:blipFill>
          <a:blip r:embed="rId3"/>
          <a:stretch/>
        </p:blipFill>
        <p:spPr>
          <a:xfrm>
            <a:off x="0" y="3765600"/>
            <a:ext cx="4284720" cy="3092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200303040770_267383"/>
          <p:cNvPicPr/>
          <p:nvPr/>
        </p:nvPicPr>
        <p:blipFill>
          <a:blip r:embed="rId4"/>
          <a:stretch/>
        </p:blipFill>
        <p:spPr>
          <a:xfrm>
            <a:off x="4932360" y="3782880"/>
            <a:ext cx="4211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200303040775_267393"/>
          <p:cNvPicPr/>
          <p:nvPr/>
        </p:nvPicPr>
        <p:blipFill>
          <a:blip r:embed="rId1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200303040810_267452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319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200303040859_267501"/>
          <p:cNvPicPr/>
          <p:nvPr/>
        </p:nvPicPr>
        <p:blipFill>
          <a:blip r:embed="rId3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NewsMedia_84364"/>
          <p:cNvPicPr/>
          <p:nvPr/>
        </p:nvPicPr>
        <p:blipFill>
          <a:blip r:embed="rId4"/>
          <a:stretch/>
        </p:blipFill>
        <p:spPr>
          <a:xfrm>
            <a:off x="4643280" y="3571920"/>
            <a:ext cx="45007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7"/>
          <p:cNvPicPr/>
          <p:nvPr/>
        </p:nvPicPr>
        <p:blipFill>
          <a:blip r:embed="rId1"/>
          <a:stretch/>
        </p:blipFill>
        <p:spPr>
          <a:xfrm>
            <a:off x="0" y="-10800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8"/>
          <p:cNvSpPr/>
          <p:nvPr/>
        </p:nvSpPr>
        <p:spPr>
          <a:xfrm>
            <a:off x="3635280" y="10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a025"/>
          <p:cNvPicPr/>
          <p:nvPr/>
        </p:nvPicPr>
        <p:blipFill>
          <a:blip r:embed="rId1"/>
          <a:stretch/>
        </p:blipFill>
        <p:spPr>
          <a:xfrm>
            <a:off x="-923760" y="-668160"/>
            <a:ext cx="11256840" cy="838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154263"/>
          <p:cNvPicPr/>
          <p:nvPr/>
        </p:nvPicPr>
        <p:blipFill>
          <a:blip r:embed="rId2"/>
          <a:stretch/>
        </p:blipFill>
        <p:spPr>
          <a:xfrm>
            <a:off x="2484360" y="476280"/>
            <a:ext cx="4032360" cy="5762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395280" y="95400"/>
            <a:ext cx="4464000" cy="74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把所有的心装进你心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在你的胸前写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你是这样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把所有的爱握在你手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用你的眼睛诉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你是这样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不用多想 不用多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你就是这样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不能不想 不能不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真心有多重 爱有多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859280" y="117360"/>
            <a:ext cx="446580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把所有的伤痛藏在你身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用你的微笑回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你是这样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不用多想 不用多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你就是这样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不能不想 不能不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真心有多重 爱有多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把所有的生命归还世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人们在心里呼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你是这样的人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...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4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228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jec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3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9EF1-D1CE-4492-80FA-5CD91DBCBA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3711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1" lang="zh-CN" sz="6000" spc="-1" strike="noStrike">
                <a:solidFill>
                  <a:srgbClr val="3333ff"/>
                </a:solidFill>
                <a:latin typeface="隶书"/>
                <a:ea typeface="隶书"/>
              </a:rPr>
              <a:t>、作一首小诗或写一段话歌颂敬爱的周总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1" lang="zh-CN" sz="6000" spc="-1" strike="noStrike">
                <a:solidFill>
                  <a:srgbClr val="3333ff"/>
                </a:solidFill>
                <a:latin typeface="隶书"/>
                <a:ea typeface="隶书"/>
              </a:rPr>
              <a:t>、读关于周总理的故事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3543"/>
          <p:cNvPicPr/>
          <p:nvPr/>
        </p:nvPicPr>
        <p:blipFill>
          <a:blip r:embed="rId1"/>
          <a:stretch/>
        </p:blipFill>
        <p:spPr>
          <a:xfrm>
            <a:off x="2457360" y="115920"/>
            <a:ext cx="4229280" cy="3441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00000" y="645336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df2"/>
            </a:gs>
            <a:gs pos="100000">
              <a:srgbClr val="a8f6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00" y="620640"/>
            <a:ext cx="85690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舒体"/>
              </a:rPr>
              <a:t>自读提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</a:rPr>
              <a:t>、读准字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</a:rPr>
              <a:t>、边读边思考：课文从哪些方面讲了周总理一夜的工作情况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</a:rPr>
              <a:t>、用一个词语表达出你的感触，把你感受最深的地方进行标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f6c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95280" y="620640"/>
            <a:ext cx="8353440" cy="28515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姚体"/>
              </a:rPr>
              <a:t>小组合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用你们喜欢的方式读文，用“             ”画出说明周总理工作劳苦的句子，用“              ”画出表现周总理生活简朴的句子。并把相关句子读一读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55640" y="32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558000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f6cd"/>
            </a:gs>
            <a:gs pos="50000">
              <a:srgbClr val="ecfdf4"/>
            </a:gs>
            <a:gs pos="100000">
              <a:srgbClr val="a8f6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685800"/>
            <a:ext cx="83818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be0e3"/>
                </a:solidFill>
                <a:latin typeface="Times New Roman"/>
                <a:ea typeface="宋体"/>
              </a:rPr>
              <a:t>  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</a:t>
            </a:r>
            <a:r>
              <a:rPr b="0" lang="zh-CN" sz="6000" spc="-1" strike="noStrike">
                <a:solidFill>
                  <a:srgbClr val="ff7c80"/>
                </a:solidFill>
                <a:latin typeface="Times New Roman"/>
                <a:ea typeface="华文彩云"/>
              </a:rPr>
              <a:t>周总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5050"/>
                </a:solidFill>
                <a:latin typeface="Times New Roman"/>
                <a:ea typeface="宋体"/>
              </a:rPr>
              <a:t>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  </a:t>
            </a:r>
            <a:r>
              <a:rPr b="0" lang="zh-CN" sz="6000" spc="-1" strike="noStrike">
                <a:solidFill>
                  <a:srgbClr val="ff5050"/>
                </a:solidFill>
                <a:latin typeface="Times New Roman"/>
                <a:ea typeface="宋体"/>
              </a:rPr>
              <a:t>   </a:t>
            </a:r>
            <a:r>
              <a:rPr b="0" lang="zh-CN" sz="8000" spc="-1" strike="noStrike">
                <a:solidFill>
                  <a:srgbClr val="ff00ff"/>
                </a:solidFill>
                <a:latin typeface="Times New Roman"/>
                <a:ea typeface="隶书"/>
              </a:rPr>
              <a:t>工作劳苦</a:t>
            </a: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宋体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宋体"/>
              </a:rPr>
              <a:t>         </a:t>
            </a:r>
            <a:r>
              <a:rPr b="0" lang="zh-CN" sz="8000" spc="-1" strike="noStrike">
                <a:solidFill>
                  <a:srgbClr val="ff00ff"/>
                </a:solidFill>
                <a:latin typeface="Times New Roman"/>
                <a:ea typeface="隶书"/>
              </a:rPr>
              <a:t>生活简朴</a:t>
            </a: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宋体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0" y="5334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572000" y="5105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948360" y="3213000"/>
            <a:ext cx="576360" cy="57636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8028000" y="3213000"/>
            <a:ext cx="576360" cy="57636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020000" y="4869000"/>
            <a:ext cx="647640" cy="431640"/>
          </a:xfrm>
          <a:custGeom>
            <a:avLst/>
            <a:gdLst>
              <a:gd name="textAreaLeft" fmla="*/ 27000 w 647640"/>
              <a:gd name="textAreaRight" fmla="*/ 621000 w 647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3756"/>
                </a:moveTo>
                <a:lnTo>
                  <a:pt x="23244" y="10800"/>
                </a:lnTo>
                <a:lnTo>
                  <a:pt x="91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7524720" y="3933720"/>
            <a:ext cx="576360" cy="432000"/>
          </a:xfrm>
          <a:custGeom>
            <a:avLst/>
            <a:gdLst>
              <a:gd name="textAreaLeft" fmla="*/ 27000 w 576360"/>
              <a:gd name="textAreaRight" fmla="*/ 549360 w 57636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62" y="1350"/>
                </a:lnTo>
                <a:lnTo>
                  <a:pt x="1350" y="135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62" y="20250"/>
                </a:lnTo>
                <a:lnTo>
                  <a:pt x="27462" y="135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62" y="2025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12" h="21600">
                <a:moveTo>
                  <a:pt x="7362" y="3756"/>
                </a:moveTo>
                <a:lnTo>
                  <a:pt x="21450" y="10800"/>
                </a:lnTo>
                <a:lnTo>
                  <a:pt x="736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948360" y="29145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一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7956720" y="292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一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948360" y="537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陈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8101080" y="5373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3203640" y="6237360"/>
            <a:ext cx="1008000" cy="620640"/>
          </a:xfrm>
          <a:custGeom>
            <a:avLst/>
            <a:gdLst>
              <a:gd name="textAreaLeft" fmla="*/ 38520 w 1008000"/>
              <a:gd name="textAreaRight" fmla="*/ 969480 w 1008000"/>
              <a:gd name="textAreaTop" fmla="*/ 38520 h 620640"/>
              <a:gd name="textAreaBottom" fmla="*/ 58212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723" y="1350"/>
                </a:lnTo>
                <a:lnTo>
                  <a:pt x="1350" y="135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723" y="20250"/>
                </a:lnTo>
                <a:lnTo>
                  <a:pt x="33723" y="135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723" y="2025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073" h="21600">
                <a:moveTo>
                  <a:pt x="21054" y="10800"/>
                </a:moveTo>
                <a:lnTo>
                  <a:pt x="10493" y="17844"/>
                </a:lnTo>
                <a:lnTo>
                  <a:pt x="10493" y="3756"/>
                </a:lnTo>
                <a:close/>
              </a:path>
              <a:path fill="darken" w="35073" h="21600">
                <a:moveTo>
                  <a:pt x="22909" y="3756"/>
                </a:moveTo>
                <a:lnTo>
                  <a:pt x="22909" y="17844"/>
                </a:lnTo>
                <a:lnTo>
                  <a:pt x="24580" y="17844"/>
                </a:lnTo>
                <a:lnTo>
                  <a:pt x="24580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8172360" y="4797360"/>
            <a:ext cx="503280" cy="432000"/>
          </a:xfrm>
          <a:custGeom>
            <a:avLst/>
            <a:gdLst>
              <a:gd name="textAreaLeft" fmla="*/ 27000 w 503280"/>
              <a:gd name="textAreaRight" fmla="*/ 476280 w 50328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811" y="1350"/>
                </a:lnTo>
                <a:lnTo>
                  <a:pt x="1350" y="135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811" y="20250"/>
                </a:lnTo>
                <a:lnTo>
                  <a:pt x="23811" y="135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11" y="2025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161" h="21600">
                <a:moveTo>
                  <a:pt x="5537" y="3756"/>
                </a:moveTo>
                <a:lnTo>
                  <a:pt x="19624" y="10800"/>
                </a:lnTo>
                <a:lnTo>
                  <a:pt x="5537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7524720" y="2205000"/>
            <a:ext cx="576360" cy="57636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7597800" y="5734080"/>
            <a:ext cx="576360" cy="431640"/>
          </a:xfrm>
          <a:custGeom>
            <a:avLst/>
            <a:gdLst>
              <a:gd name="textAreaLeft" fmla="*/ 27000 w 576360"/>
              <a:gd name="textAreaRight" fmla="*/ 549720 w 57636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86" y="1350"/>
                </a:lnTo>
                <a:lnTo>
                  <a:pt x="1350" y="135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86" y="20250"/>
                </a:lnTo>
                <a:lnTo>
                  <a:pt x="27486" y="135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86" y="2025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36" h="21600">
                <a:moveTo>
                  <a:pt x="7374" y="3756"/>
                </a:moveTo>
                <a:lnTo>
                  <a:pt x="21462" y="10800"/>
                </a:lnTo>
                <a:lnTo>
                  <a:pt x="737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4480" y="2286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0" lang="zh-CN" sz="60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总理见了我，指着写字台上一尺来高的一叠文件，说：“我今晚上要批这些文件。你们送来的稿子，我放在最后。你到隔壁值班室去睡一觉，到时候叫你。”</a:t>
            </a:r>
            <a:r>
              <a:rPr b="0" lang="zh-CN" sz="60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3200 w 826920"/>
              <a:gd name="textAreaRight" fmla="*/ 783720 w 82692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449" y="1350"/>
                </a:lnTo>
                <a:lnTo>
                  <a:pt x="1350" y="135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449" y="20250"/>
                </a:lnTo>
                <a:lnTo>
                  <a:pt x="24449" y="135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449" y="2025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799" h="21600">
                <a:moveTo>
                  <a:pt x="5856" y="10800"/>
                </a:moveTo>
                <a:lnTo>
                  <a:pt x="19943" y="3756"/>
                </a:lnTo>
                <a:lnTo>
                  <a:pt x="1994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04920" y="1825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他一句一句地审阅，看完一句就用笔在那一句后面画一个小圆圈。他不是浏览一遍就算了，而是一边看一边思索，有时停笔想一想，有时问我一两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8028000" y="6021360"/>
            <a:ext cx="792000" cy="83664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836640"/>
              <a:gd name="textAreaBottom" fmla="*/ 787320 h 836640"/>
            </a:gdLst>
            <a:ahLst/>
            <a:rect l="textAreaLeft" t="textAreaTop" r="textAreaRight" b="textAreaBottom"/>
            <a:pathLst>
              <a:path w="21600" h="22817">
                <a:moveTo>
                  <a:pt x="0" y="0"/>
                </a:moveTo>
                <a:lnTo>
                  <a:pt x="21600" y="0"/>
                </a:lnTo>
                <a:lnTo>
                  <a:pt x="21600" y="22817"/>
                </a:lnTo>
                <a:lnTo>
                  <a:pt x="0" y="22817"/>
                </a:lnTo>
                <a:close/>
              </a:path>
              <a:path fill="lightenLess" w="21600" h="2281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817">
                <a:moveTo>
                  <a:pt x="21600" y="0"/>
                </a:moveTo>
                <a:lnTo>
                  <a:pt x="21600" y="22817"/>
                </a:lnTo>
                <a:lnTo>
                  <a:pt x="20250" y="21467"/>
                </a:lnTo>
                <a:lnTo>
                  <a:pt x="20250" y="1350"/>
                </a:lnTo>
                <a:close/>
              </a:path>
              <a:path fill="darkenLess" w="21600" h="22817">
                <a:moveTo>
                  <a:pt x="21600" y="22817"/>
                </a:moveTo>
                <a:lnTo>
                  <a:pt x="0" y="22817"/>
                </a:lnTo>
                <a:lnTo>
                  <a:pt x="1350" y="21467"/>
                </a:lnTo>
                <a:lnTo>
                  <a:pt x="20250" y="21467"/>
                </a:lnTo>
                <a:close/>
              </a:path>
              <a:path fill="lighten" w="21600" h="22817">
                <a:moveTo>
                  <a:pt x="0" y="22817"/>
                </a:moveTo>
                <a:lnTo>
                  <a:pt x="0" y="0"/>
                </a:lnTo>
                <a:lnTo>
                  <a:pt x="1350" y="1350"/>
                </a:lnTo>
                <a:lnTo>
                  <a:pt x="1350" y="21467"/>
                </a:lnTo>
                <a:close/>
              </a:path>
              <a:path fill="darken" w="21600" h="22817">
                <a:moveTo>
                  <a:pt x="3756" y="11408"/>
                </a:moveTo>
                <a:lnTo>
                  <a:pt x="17844" y="4365"/>
                </a:lnTo>
                <a:lnTo>
                  <a:pt x="17844" y="1845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工作劳苦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尺来高的一叠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一句一句地审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完一句就用笔在那一句后面画一个小圆圈。他 不是浏览一遍就算了，而是一边看一边思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时停笔想一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时问我一两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156360" y="1916280"/>
            <a:ext cx="273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Arial"/>
                <a:ea typeface="黑体"/>
              </a:rPr>
              <a:t>工作量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Arial"/>
                <a:ea typeface="黑体"/>
              </a:rPr>
              <a:t>态度认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771640" y="4149720"/>
            <a:ext cx="58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5050"/>
                </a:solidFill>
                <a:latin typeface="宋体"/>
                <a:ea typeface="宋体"/>
              </a:rPr>
              <a:t>●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 flipV="1" rot="21072000">
            <a:off x="2795400" y="4487760"/>
            <a:ext cx="57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5050"/>
                </a:solidFill>
                <a:latin typeface="Arial"/>
                <a:ea typeface="宋体"/>
              </a:rPr>
              <a:t>●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348000" y="45054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5050"/>
                </a:solidFill>
                <a:latin typeface="Arial"/>
                <a:ea typeface="宋体"/>
              </a:rPr>
              <a:t>●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380360" y="1566720"/>
            <a:ext cx="345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284720" y="4491000"/>
            <a:ext cx="60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5050"/>
                </a:solidFill>
                <a:latin typeface="Arial"/>
                <a:ea typeface="宋体"/>
              </a:rPr>
              <a:t>● 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003640" y="508464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5050"/>
                </a:solidFill>
                <a:latin typeface="Arial"/>
                <a:ea typeface="宋体"/>
              </a:rPr>
              <a:t>● 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 rot="20874000">
            <a:off x="2749680" y="5006520"/>
            <a:ext cx="6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5050"/>
                </a:solidFill>
                <a:latin typeface="Arial"/>
                <a:ea typeface="宋体"/>
              </a:rPr>
              <a:t>● 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8172360" y="5805360"/>
            <a:ext cx="827280" cy="692280"/>
          </a:xfrm>
          <a:custGeom>
            <a:avLst/>
            <a:gdLst>
              <a:gd name="textAreaLeft" fmla="*/ 43200 w 827280"/>
              <a:gd name="textAreaRight" fmla="*/ 784080 w 82728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25810" h="21600">
                <a:moveTo>
                  <a:pt x="0" y="0"/>
                </a:moveTo>
                <a:lnTo>
                  <a:pt x="25810" y="0"/>
                </a:lnTo>
                <a:lnTo>
                  <a:pt x="25810" y="21600"/>
                </a:lnTo>
                <a:lnTo>
                  <a:pt x="0" y="21600"/>
                </a:lnTo>
                <a:close/>
              </a:path>
              <a:path fill="lightenLess" w="25810" h="21600">
                <a:moveTo>
                  <a:pt x="0" y="0"/>
                </a:moveTo>
                <a:lnTo>
                  <a:pt x="25810" y="0"/>
                </a:lnTo>
                <a:lnTo>
                  <a:pt x="24460" y="1350"/>
                </a:lnTo>
                <a:lnTo>
                  <a:pt x="1350" y="1350"/>
                </a:lnTo>
                <a:close/>
              </a:path>
              <a:path fill="darken" w="25810" h="21600">
                <a:moveTo>
                  <a:pt x="25810" y="0"/>
                </a:moveTo>
                <a:lnTo>
                  <a:pt x="25810" y="21600"/>
                </a:lnTo>
                <a:lnTo>
                  <a:pt x="24460" y="20250"/>
                </a:lnTo>
                <a:lnTo>
                  <a:pt x="24460" y="1350"/>
                </a:lnTo>
                <a:close/>
              </a:path>
              <a:path fill="darkenLess" w="25810" h="21600">
                <a:moveTo>
                  <a:pt x="258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460" y="20250"/>
                </a:lnTo>
                <a:close/>
              </a:path>
              <a:path fill="lighten" w="258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10" h="21600">
                <a:moveTo>
                  <a:pt x="5861" y="10800"/>
                </a:moveTo>
                <a:lnTo>
                  <a:pt x="19949" y="3756"/>
                </a:lnTo>
                <a:lnTo>
                  <a:pt x="19949" y="1784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amera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09:43:20Z</dcterms:created>
  <dc:creator>An</dc:creator>
  <dc:description/>
  <dc:language>en-US</dc:language>
  <cp:lastModifiedBy/>
  <dcterms:modified xsi:type="dcterms:W3CDTF">2015-07-11T09:42:24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