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C02-8A30-4BAE-ACC8-F03EADC6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8CD-F211-4BF7-B9C3-E8A1C876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072-DEBE-4C58-AFC0-4A660619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A58-AAA0-44BE-AD10-191B8FEE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0B7-3357-4291-8D71-B1B94704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C97-F313-44E5-8887-957811D4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DE5-48BE-4196-A755-086E9A56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7E8-67E6-45FB-AB39-636FD829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B16-BDBD-4F2F-AFAE-F21609CE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547-345A-4647-AAE5-D3020FF5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159-22E9-4DE9-BD5A-944EE4CC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37B-7DEB-41CB-82AC-E79FECF1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1600-1479-4D2A-BC46-C5D81C661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908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0" y="838080"/>
            <a:ext cx="6019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048120" y="5486400"/>
            <a:ext cx="761760" cy="1371600"/>
            <a:chOff x="3048120" y="5486400"/>
            <a:chExt cx="761760" cy="1371600"/>
          </a:xfrm>
        </p:grpSpPr>
        <p:sp>
          <p:nvSpPr>
            <p:cNvPr id="45" name=""/>
            <p:cNvSpPr/>
            <p:nvPr/>
          </p:nvSpPr>
          <p:spPr>
            <a:xfrm>
              <a:off x="3352680" y="5791320"/>
              <a:ext cx="7560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8120" y="5791320"/>
              <a:ext cx="761760" cy="7617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8120" y="5486400"/>
              <a:ext cx="761760" cy="7621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7010280" y="5486400"/>
            <a:ext cx="762120" cy="1371600"/>
            <a:chOff x="7010280" y="5486400"/>
            <a:chExt cx="762120" cy="1371600"/>
          </a:xfrm>
        </p:grpSpPr>
        <p:sp>
          <p:nvSpPr>
            <p:cNvPr id="49" name=""/>
            <p:cNvSpPr/>
            <p:nvPr/>
          </p:nvSpPr>
          <p:spPr>
            <a:xfrm>
              <a:off x="7315200" y="5791320"/>
              <a:ext cx="7596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010280" y="5791320"/>
              <a:ext cx="762120" cy="7617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5486400"/>
              <a:ext cx="762120" cy="7621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715000" y="5486400"/>
            <a:ext cx="762120" cy="1371600"/>
            <a:chOff x="5715000" y="5486400"/>
            <a:chExt cx="762120" cy="1371600"/>
          </a:xfrm>
        </p:grpSpPr>
        <p:sp>
          <p:nvSpPr>
            <p:cNvPr id="53" name=""/>
            <p:cNvSpPr/>
            <p:nvPr/>
          </p:nvSpPr>
          <p:spPr>
            <a:xfrm>
              <a:off x="6019920" y="5791320"/>
              <a:ext cx="7596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791320"/>
              <a:ext cx="762120" cy="7617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15000" y="5486400"/>
              <a:ext cx="762120" cy="7621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343400" y="5486400"/>
            <a:ext cx="762120" cy="1371600"/>
            <a:chOff x="4343400" y="5486400"/>
            <a:chExt cx="762120" cy="1371600"/>
          </a:xfrm>
        </p:grpSpPr>
        <p:sp>
          <p:nvSpPr>
            <p:cNvPr id="57" name=""/>
            <p:cNvSpPr/>
            <p:nvPr/>
          </p:nvSpPr>
          <p:spPr>
            <a:xfrm>
              <a:off x="4648320" y="5791320"/>
              <a:ext cx="7596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43400" y="5791320"/>
              <a:ext cx="762120" cy="7617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43400" y="5486400"/>
              <a:ext cx="762120" cy="7621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203640" y="5867280"/>
            <a:ext cx="546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33160" y="5791320"/>
            <a:ext cx="91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04760" y="5791320"/>
            <a:ext cx="91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5800" y="5791320"/>
            <a:ext cx="546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8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83080" y="1494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46280" y="549360"/>
            <a:ext cx="22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爷爷和小树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wu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3962520" cy="3762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686800" y="6248520"/>
            <a:ext cx="304920" cy="38088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80880"/>
              <a:gd name="textAreaBottom" fmla="*/ 36216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50" y="25625"/>
                </a:lnTo>
                <a:lnTo>
                  <a:pt x="20250" y="135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350" y="25625"/>
                </a:lnTo>
                <a:lnTo>
                  <a:pt x="20250" y="2562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25"/>
                </a:lnTo>
                <a:close/>
              </a:path>
              <a:path fill="darken" w="21600" h="26975">
                <a:moveTo>
                  <a:pt x="3756" y="13487"/>
                </a:moveTo>
                <a:lnTo>
                  <a:pt x="17844" y="6444"/>
                </a:lnTo>
                <a:lnTo>
                  <a:pt x="17844" y="2053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422-1F7C-45E9-B7C4-C3A3646ACA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99072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Times New Roman"/>
                <a:ea typeface="幼圆"/>
              </a:rPr>
              <a:t>        </a:t>
            </a:r>
            <a:r>
              <a:rPr b="1" lang="zh-CN" sz="6000" spc="-1" strike="noStrike">
                <a:solidFill>
                  <a:srgbClr val="00cc99"/>
                </a:solidFill>
                <a:latin typeface="Times New Roman"/>
                <a:ea typeface="幼圆"/>
              </a:rPr>
              <a:t>想知道小树的生长过程吗？一起来看看吧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5791320"/>
            <a:ext cx="533160" cy="457200"/>
          </a:xfrm>
          <a:custGeom>
            <a:avLst/>
            <a:gdLst>
              <a:gd name="textAreaLeft" fmla="*/ 28440 w 533160"/>
              <a:gd name="textAreaRight" fmla="*/ 504720 w 53316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836" y="1350"/>
                </a:lnTo>
                <a:lnTo>
                  <a:pt x="1350" y="135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836" y="20250"/>
                </a:lnTo>
                <a:lnTo>
                  <a:pt x="23836" y="135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36" y="2025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186" h="21600">
                <a:moveTo>
                  <a:pt x="5549" y="3756"/>
                </a:moveTo>
                <a:lnTo>
                  <a:pt x="19637" y="10800"/>
                </a:lnTo>
                <a:lnTo>
                  <a:pt x="5549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AN02479_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752480" cy="1568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08660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儿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304920"/>
            <a:ext cx="64008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幼圆"/>
              </a:rPr>
              <a:t>爷爷和小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幼圆"/>
              </a:rPr>
              <a:t>下雪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幼圆"/>
              </a:rPr>
              <a:t>爷爷给小树穿上稻草衣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幼圆"/>
              </a:rPr>
              <a:t>小树不冷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幼圆"/>
              </a:rPr>
              <a:t>大热天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幼圆"/>
              </a:rPr>
              <a:t>小树给爷爷撑开绿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幼圆"/>
              </a:rPr>
              <a:t>爷爷不热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幼圆"/>
              </a:rPr>
              <a:t>爷爷，真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幼圆"/>
              </a:rPr>
              <a:t>小树，真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080 w 380880"/>
              <a:gd name="textAreaRight" fmla="*/ 362160 w 38088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625" y="1350"/>
                </a:lnTo>
                <a:lnTo>
                  <a:pt x="1350" y="135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625" y="20250"/>
                </a:lnTo>
                <a:lnTo>
                  <a:pt x="25625" y="135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25" y="2025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75" h="21600">
                <a:moveTo>
                  <a:pt x="6444" y="10800"/>
                </a:moveTo>
                <a:lnTo>
                  <a:pt x="20531" y="3756"/>
                </a:lnTo>
                <a:lnTo>
                  <a:pt x="20531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2057400"/>
            <a:ext cx="121932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133720" y="22860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33720" y="19051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191120" y="3657600"/>
            <a:ext cx="609480" cy="990720"/>
            <a:chOff x="4191120" y="3657600"/>
            <a:chExt cx="609480" cy="990720"/>
          </a:xfrm>
        </p:grpSpPr>
        <p:sp>
          <p:nvSpPr>
            <p:cNvPr id="73" name=""/>
            <p:cNvSpPr/>
            <p:nvPr/>
          </p:nvSpPr>
          <p:spPr>
            <a:xfrm>
              <a:off x="4191120" y="3657600"/>
              <a:ext cx="609480" cy="9907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37339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581280" y="3581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344600">
            <a:off x="6019560" y="1905120"/>
            <a:ext cx="1295280" cy="120960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142200 h 1209600"/>
              <a:gd name="textAreaBottom" fmla="*/ 758880 h 1209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7339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Times New Roman"/>
              </a:rPr>
              <a:t>第一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21880" y="2362320"/>
            <a:ext cx="79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cc99"/>
                </a:solidFill>
                <a:latin typeface="Times New Roman"/>
              </a:rPr>
              <a:t>第二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34280" y="2209680"/>
            <a:ext cx="42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三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5345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198108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我家门口有一棵小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10480" y="632448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7619760" cy="6840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8380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冬天到了，爷爷给小树穿上了暖和的衣裳。小树不冷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0" y="6477120"/>
            <a:ext cx="380880" cy="380880"/>
          </a:xfrm>
          <a:custGeom>
            <a:avLst/>
            <a:gdLst>
              <a:gd name="textAreaLeft" fmla="*/ 23760 w 380880"/>
              <a:gd name="textAreaRight" fmla="*/ 357120 w 3808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0592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324480"/>
            <a:ext cx="304920" cy="30492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14300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夏天到了，小树给爷爷撑开绿色的小伞。爷爷不热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3760 w 380880"/>
              <a:gd name="textAreaRight" fmla="*/ 357120 w 3808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240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6324480"/>
            <a:ext cx="380880" cy="304920"/>
          </a:xfrm>
          <a:custGeom>
            <a:avLst/>
            <a:gdLst>
              <a:gd name="textAreaLeft" fmla="*/ 19080 w 380880"/>
              <a:gd name="textAreaRight" fmla="*/ 362160 w 38088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625" y="1350"/>
                </a:lnTo>
                <a:lnTo>
                  <a:pt x="1350" y="135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625" y="20250"/>
                </a:lnTo>
                <a:lnTo>
                  <a:pt x="25625" y="135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25" y="2025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75" h="21600">
                <a:moveTo>
                  <a:pt x="6444" y="10800"/>
                </a:moveTo>
                <a:lnTo>
                  <a:pt x="20531" y="3756"/>
                </a:lnTo>
                <a:lnTo>
                  <a:pt x="20531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85800" y="685800"/>
            <a:ext cx="1142640" cy="1599840"/>
            <a:chOff x="685800" y="685800"/>
            <a:chExt cx="1142640" cy="1599840"/>
          </a:xfrm>
        </p:grpSpPr>
        <p:sp>
          <p:nvSpPr>
            <p:cNvPr id="98" name=""/>
            <p:cNvSpPr/>
            <p:nvPr/>
          </p:nvSpPr>
          <p:spPr>
            <a:xfrm>
              <a:off x="1143000" y="1041480"/>
              <a:ext cx="113760" cy="124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5800" y="1041480"/>
              <a:ext cx="1142640" cy="888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" y="685800"/>
              <a:ext cx="1142640" cy="8888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019920" y="2666880"/>
            <a:ext cx="1142640" cy="1599840"/>
            <a:chOff x="6019920" y="2666880"/>
            <a:chExt cx="1142640" cy="1599840"/>
          </a:xfrm>
        </p:grpSpPr>
        <p:sp>
          <p:nvSpPr>
            <p:cNvPr id="102" name=""/>
            <p:cNvSpPr/>
            <p:nvPr/>
          </p:nvSpPr>
          <p:spPr>
            <a:xfrm>
              <a:off x="6477120" y="3022560"/>
              <a:ext cx="113760" cy="124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19920" y="3022560"/>
              <a:ext cx="1142640" cy="888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9920" y="2666880"/>
              <a:ext cx="1142640" cy="8888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752480" y="2666880"/>
            <a:ext cx="1142640" cy="1599840"/>
            <a:chOff x="1752480" y="2666880"/>
            <a:chExt cx="1142640" cy="1599840"/>
          </a:xfrm>
        </p:grpSpPr>
        <p:sp>
          <p:nvSpPr>
            <p:cNvPr id="106" name=""/>
            <p:cNvSpPr/>
            <p:nvPr/>
          </p:nvSpPr>
          <p:spPr>
            <a:xfrm>
              <a:off x="2209680" y="3022560"/>
              <a:ext cx="113760" cy="124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52480" y="3022560"/>
              <a:ext cx="1142640" cy="888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52480" y="2666880"/>
              <a:ext cx="1142640" cy="8888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895480" y="609480"/>
            <a:ext cx="1142640" cy="1599840"/>
            <a:chOff x="2895480" y="609480"/>
            <a:chExt cx="1142640" cy="1599840"/>
          </a:xfrm>
        </p:grpSpPr>
        <p:sp>
          <p:nvSpPr>
            <p:cNvPr id="110" name=""/>
            <p:cNvSpPr/>
            <p:nvPr/>
          </p:nvSpPr>
          <p:spPr>
            <a:xfrm>
              <a:off x="3352680" y="965160"/>
              <a:ext cx="113760" cy="124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95480" y="965160"/>
              <a:ext cx="1142640" cy="888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95480" y="609480"/>
              <a:ext cx="1142640" cy="8888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181480" y="685800"/>
            <a:ext cx="1142640" cy="1599840"/>
            <a:chOff x="5181480" y="685800"/>
            <a:chExt cx="1142640" cy="1599840"/>
          </a:xfrm>
        </p:grpSpPr>
        <p:sp>
          <p:nvSpPr>
            <p:cNvPr id="114" name=""/>
            <p:cNvSpPr/>
            <p:nvPr/>
          </p:nvSpPr>
          <p:spPr>
            <a:xfrm>
              <a:off x="5638680" y="1041480"/>
              <a:ext cx="113760" cy="124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81480" y="1041480"/>
              <a:ext cx="1142640" cy="888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81480" y="685800"/>
              <a:ext cx="1142640" cy="8888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086600" y="609480"/>
            <a:ext cx="1142640" cy="1599840"/>
            <a:chOff x="7086600" y="609480"/>
            <a:chExt cx="1142640" cy="1599840"/>
          </a:xfrm>
        </p:grpSpPr>
        <p:sp>
          <p:nvSpPr>
            <p:cNvPr id="118" name=""/>
            <p:cNvSpPr/>
            <p:nvPr/>
          </p:nvSpPr>
          <p:spPr>
            <a:xfrm>
              <a:off x="7543800" y="965160"/>
              <a:ext cx="113760" cy="124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86600" y="965160"/>
              <a:ext cx="1142640" cy="888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86600" y="609480"/>
              <a:ext cx="1142640" cy="8888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086600" y="4648320"/>
            <a:ext cx="1142640" cy="1599840"/>
            <a:chOff x="7086600" y="4648320"/>
            <a:chExt cx="1142640" cy="1599840"/>
          </a:xfrm>
        </p:grpSpPr>
        <p:sp>
          <p:nvSpPr>
            <p:cNvPr id="122" name=""/>
            <p:cNvSpPr/>
            <p:nvPr/>
          </p:nvSpPr>
          <p:spPr>
            <a:xfrm>
              <a:off x="7543800" y="5004000"/>
              <a:ext cx="113760" cy="124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86600" y="5004000"/>
              <a:ext cx="1142640" cy="888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86600" y="4648320"/>
              <a:ext cx="1142640" cy="8888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257800" y="4572000"/>
            <a:ext cx="1142640" cy="1599840"/>
            <a:chOff x="5257800" y="4572000"/>
            <a:chExt cx="1142640" cy="1599840"/>
          </a:xfrm>
        </p:grpSpPr>
        <p:sp>
          <p:nvSpPr>
            <p:cNvPr id="126" name=""/>
            <p:cNvSpPr/>
            <p:nvPr/>
          </p:nvSpPr>
          <p:spPr>
            <a:xfrm>
              <a:off x="5715000" y="4927680"/>
              <a:ext cx="113760" cy="124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57800" y="4927680"/>
              <a:ext cx="1142640" cy="888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7800" y="4572000"/>
              <a:ext cx="1142640" cy="8888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8120" y="4572000"/>
            <a:ext cx="1142640" cy="1599840"/>
            <a:chOff x="3048120" y="4572000"/>
            <a:chExt cx="1142640" cy="1599840"/>
          </a:xfrm>
        </p:grpSpPr>
        <p:sp>
          <p:nvSpPr>
            <p:cNvPr id="130" name=""/>
            <p:cNvSpPr/>
            <p:nvPr/>
          </p:nvSpPr>
          <p:spPr>
            <a:xfrm>
              <a:off x="3505320" y="4927680"/>
              <a:ext cx="113760" cy="124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4927680"/>
              <a:ext cx="1142640" cy="888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4572000"/>
              <a:ext cx="1142640" cy="8888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62120" y="4648320"/>
            <a:ext cx="1142640" cy="1599840"/>
            <a:chOff x="762120" y="4648320"/>
            <a:chExt cx="1142640" cy="1599840"/>
          </a:xfrm>
        </p:grpSpPr>
        <p:sp>
          <p:nvSpPr>
            <p:cNvPr id="134" name=""/>
            <p:cNvSpPr/>
            <p:nvPr/>
          </p:nvSpPr>
          <p:spPr>
            <a:xfrm>
              <a:off x="1219320" y="5004000"/>
              <a:ext cx="113760" cy="124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2120" y="5004000"/>
              <a:ext cx="1142640" cy="888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120" y="4648320"/>
              <a:ext cx="1142640" cy="8888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幼圆"/>
              </a:rPr>
              <a:t>认一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9907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9907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990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9144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29718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30481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50292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8769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4876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38880" y="50292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bu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kai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114800" cy="390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si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3962520" cy="354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82720" y="86364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1:05:23Z</dcterms:created>
  <dc:creator>An</dc:creator>
  <dc:description/>
  <dc:language>en-US</dc:language>
  <cp:lastModifiedBy/>
  <dcterms:modified xsi:type="dcterms:W3CDTF">2015-07-11T09:31:1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