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26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0.gif" ContentType="image/gif"/>
  <Override PartName="/ppt/media/image6.gif" ContentType="image/gif"/>
  <Override PartName="/ppt/media/image29.gif" ContentType="image/gif"/>
  <Override PartName="/ppt/media/image22.jpeg" ContentType="image/jpeg"/>
  <Override PartName="/ppt/media/image9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11.gif" ContentType="image/gif"/>
  <Override PartName="/ppt/media/image14.png" ContentType="image/png"/>
  <Override PartName="/ppt/media/image4.png" ContentType="image/png"/>
  <Override PartName="/ppt/media/image27.png" ContentType="image/png"/>
  <Override PartName="/ppt/media/image17.gif" ContentType="image/gif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6.png" ContentType="image/png"/>
  <Override PartName="/ppt/media/image2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1-10-23T13:46:27.563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936-5AE8-4E63-BA47-C024A8AD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87A-4E96-4BDA-B897-B23F8348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928-58BC-4265-975A-C384313F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D2B-E69C-4CDA-86EF-3960C030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648-4C81-45DA-8999-21D6886F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501-F13A-41E8-A144-0394A919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BDC-C072-4DDB-87E2-7868A078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01D-D354-4A3A-B8ED-A594C07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3DB-7BDC-4973-BD8B-1F5A86E0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2B9-C187-4AC5-80F5-3391AE6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A95-5448-4252-95D0-B3D89BE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3B8-391E-434E-8C14-5AE63C06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DE6-DC60-49CA-9FA6-5EA6DF93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72360" y="4581360"/>
            <a:ext cx="1452600" cy="184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99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19240" y="206064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爷爷和小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755640" y="184464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941760" y="1808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59280" y="1773360"/>
          <a:ext cx="3384360" cy="3384360"/>
        </p:xfrm>
        <a:graphic>
          <a:graphicData uri="http://schemas.openxmlformats.org/drawingml/2006/table">
            <a:tbl>
              <a:tblPr/>
              <a:tblGrid>
                <a:gridCol w="1692000"/>
                <a:gridCol w="1692360"/>
              </a:tblGrid>
              <a:tr h="17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832200" y="329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360" y="2560680"/>
            <a:ext cx="1876320" cy="581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325760" y="2565360"/>
            <a:ext cx="533520" cy="171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067280" y="3213000"/>
            <a:ext cx="1361880" cy="112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490920" y="3933720"/>
            <a:ext cx="2809800" cy="51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24600" y="1773360"/>
            <a:ext cx="470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   棵   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   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6040" y="3378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8480" y="486900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  开  伞  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465360" cy="16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34520" y="569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53600" y="549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080" y="1052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MS Gothic"/>
                <a:ea typeface="MS Gothic"/>
              </a:rPr>
              <a:t>y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24800" y="1128600"/>
            <a:ext cx="8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rebuchet MS"/>
                <a:ea typeface="MS Gothic"/>
              </a:rPr>
              <a:t>k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29600" y="1182600"/>
            <a:ext cx="121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Comic Sans MS"/>
                <a:ea typeface="MS UI Gothic"/>
              </a:rPr>
              <a:t>d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à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  <a:ea typeface="MS UI Gothic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5160" y="2811600"/>
            <a:ext cx="9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ɡ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  <a:ea typeface="MS UI Gothic"/>
              </a:rPr>
              <a:t>ě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48160" y="2781360"/>
            <a:ext cx="19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MS UI Gothic"/>
                <a:ea typeface="MS UI Gothic"/>
              </a:rPr>
              <a:t>chu</a:t>
            </a:r>
            <a:r>
              <a:rPr b="1" lang="en-US" sz="4400" spc="-1" strike="noStrike">
                <a:solidFill>
                  <a:srgbClr val="660033"/>
                </a:solidFill>
                <a:latin typeface="Comic Sans MS"/>
              </a:rPr>
              <a:t>ā</a:t>
            </a:r>
            <a:r>
              <a:rPr b="1" lang="en-US" sz="4400" spc="-1" strike="noStrike">
                <a:solidFill>
                  <a:srgbClr val="660033"/>
                </a:solidFill>
                <a:latin typeface="MS UI Gothic"/>
                <a:ea typeface="MS UI Gothic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34360" y="2771640"/>
            <a:ext cx="139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nu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4320" y="4282920"/>
            <a:ext cx="12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lě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3080" y="4282920"/>
            <a:ext cx="92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kā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1440" y="4211640"/>
            <a:ext cx="99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s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12560" y="425124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387684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72240" y="2695680"/>
            <a:ext cx="4707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爷   棵   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   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2400" y="3882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508464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  开  伞  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18160" y="836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65600" y="836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306600" cy="295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981000"/>
            <a:ext cx="489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听音举卡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651640" y="3429000"/>
            <a:ext cx="2981160" cy="261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22720" y="27082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弟弟来到一棵小树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8440" y="34592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爸爸给爷爷打电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77520" y="42512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穿好衣服打开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22720" y="51148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妈妈有一把漂亮的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5640" y="836640"/>
            <a:ext cx="3168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捉迷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98764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4941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5877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5400000">
            <a:off x="-288000" y="2888280"/>
            <a:ext cx="324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0"/>
                </a:gradFill>
                <a:latin typeface="宋体"/>
              </a:rPr>
              <a:t>我会写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771640" y="126828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2938680" y="1231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78000" y="2637000"/>
          <a:ext cx="3222720" cy="3165480"/>
        </p:xfrm>
        <a:graphic>
          <a:graphicData uri="http://schemas.openxmlformats.org/drawingml/2006/table">
            <a:tbl>
              <a:tblPr/>
              <a:tblGrid>
                <a:gridCol w="1704960"/>
                <a:gridCol w="15177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3573360"/>
            <a:ext cx="176220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3479760"/>
            <a:ext cx="1314360" cy="1533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575240" y="3871800"/>
            <a:ext cx="428400" cy="128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948200" y="4121280"/>
            <a:ext cx="847800" cy="676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55640" y="184464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941760" y="1773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771640" y="1268280"/>
          <a:ext cx="3456000" cy="33847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</a:tblGrid>
              <a:tr h="17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63800" y="2044800"/>
            <a:ext cx="1600200" cy="447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419640" y="2665440"/>
            <a:ext cx="216216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635280" y="1989000"/>
            <a:ext cx="79056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500720" y="2021040"/>
            <a:ext cx="647640" cy="21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277-A009-41F9-B646-4466223325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55640" y="1844640"/>
          <a:ext cx="1066680" cy="1125360"/>
        </p:xfrm>
        <a:graphic>
          <a:graphicData uri="http://schemas.openxmlformats.org/drawingml/2006/table">
            <a:tbl>
              <a:tblPr/>
              <a:tblGrid>
                <a:gridCol w="533520"/>
                <a:gridCol w="533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910440" y="1773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87640" y="1628640"/>
          <a:ext cx="3311640" cy="309564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5238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708360" y="2421000"/>
            <a:ext cx="1962360" cy="1571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157640" y="2565360"/>
            <a:ext cx="485640" cy="981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649760" y="2637000"/>
            <a:ext cx="714240" cy="79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995640" y="3500280"/>
            <a:ext cx="1390680" cy="27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2:02:10Z</dcterms:created>
  <dc:creator>An</dc:creator>
  <dc:description/>
  <dc:language>en-US</dc:language>
  <cp:lastModifiedBy/>
  <dcterms:modified xsi:type="dcterms:W3CDTF">2015-07-11T09:39:5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