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A94-FEC4-4610-A7BE-50A596B4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11F-04EC-431C-A72A-A158AD5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238-8595-48BF-8861-4EFD4A4D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D2E-10AA-4052-B765-7771EF9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76D-7CD7-4741-8CD9-F7DCF28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A63-EF28-4941-AC39-1880CF5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CC5-D299-4653-ADAE-1A84011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07F-2F14-414B-8D44-2A96A862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9BF-E25F-4AAA-A4A8-35B25500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159-1254-4694-8E83-B46A2DF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BD6-3A71-49AE-A3E5-074ABCB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E2B-1C71-47FC-A5CB-8D0B06F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B35D-D561-4733-B9DD-D4339848F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240" y="6308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72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37360" y="83664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字母表示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　　用字母表示数可以简明地表达数量关系、运算定律和计算公式，为研究和解决问题带来很多方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58000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90720" y="2819520"/>
            <a:ext cx="7238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路程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速度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时间，那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8098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266480" y="1295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219320" y="609480"/>
            <a:ext cx="182880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14400" y="1676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在一个含有字母的式子里，数与字母、字母与字母相乘，应该怎样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828800" y="4952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还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9320" y="4114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×4.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990720" y="3352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838080" y="685800"/>
            <a:ext cx="2133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说一说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校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足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又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篮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66680" y="2590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3352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066680" y="4114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 – 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90720" y="4952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 + 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线段把左右两边相等的数连接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219320" y="1752480"/>
            <a:ext cx="2895480" cy="4443480"/>
            <a:chOff x="1219320" y="1752480"/>
            <a:chExt cx="2895480" cy="4443480"/>
          </a:xfrm>
        </p:grpSpPr>
        <p:sp>
          <p:nvSpPr>
            <p:cNvPr id="62" name="Text Box 5"/>
            <p:cNvSpPr/>
            <p:nvPr/>
          </p:nvSpPr>
          <p:spPr>
            <a:xfrm>
              <a:off x="1219320" y="17524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1219320" y="2438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少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7"/>
            <p:cNvSpPr/>
            <p:nvPr/>
          </p:nvSpPr>
          <p:spPr>
            <a:xfrm>
              <a:off x="1219320" y="32763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加的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1219320" y="40384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乘的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1295640" y="4800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1219320" y="5562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Picture 12" descr=""/>
            <p:cNvPicPr/>
            <p:nvPr/>
          </p:nvPicPr>
          <p:blipFill>
            <a:blip r:embed="rId2"/>
            <a:stretch/>
          </p:blipFill>
          <p:spPr>
            <a:xfrm>
              <a:off x="2133720" y="5410080"/>
              <a:ext cx="2541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Line 19"/>
          <p:cNvSpPr/>
          <p:nvPr/>
        </p:nvSpPr>
        <p:spPr>
          <a:xfrm>
            <a:off x="3276720" y="2057400"/>
            <a:ext cx="30477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200400" y="274320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 flipV="1">
            <a:off x="3429000" y="266652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"/>
          <p:cNvSpPr/>
          <p:nvPr/>
        </p:nvSpPr>
        <p:spPr>
          <a:xfrm flipV="1">
            <a:off x="3429000" y="1905120"/>
            <a:ext cx="297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3"/>
          <p:cNvSpPr/>
          <p:nvPr/>
        </p:nvSpPr>
        <p:spPr>
          <a:xfrm flipV="1">
            <a:off x="2895480" y="266688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2743200" y="5791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6"/>
          <p:cNvGrpSpPr/>
          <p:nvPr/>
        </p:nvGrpSpPr>
        <p:grpSpPr>
          <a:xfrm>
            <a:off x="6250680" y="1447920"/>
            <a:ext cx="968760" cy="4671360"/>
            <a:chOff x="6250680" y="1447920"/>
            <a:chExt cx="968760" cy="4671360"/>
          </a:xfrm>
        </p:grpSpPr>
        <p:pic>
          <p:nvPicPr>
            <p:cNvPr id="76" name="Picture 3" descr=""/>
            <p:cNvPicPr/>
            <p:nvPr/>
          </p:nvPicPr>
          <p:blipFill>
            <a:blip r:embed="rId3"/>
            <a:stretch/>
          </p:blipFill>
          <p:spPr>
            <a:xfrm>
              <a:off x="6400800" y="5181480"/>
              <a:ext cx="304920" cy="93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4"/>
            <p:cNvSpPr/>
            <p:nvPr/>
          </p:nvSpPr>
          <p:spPr>
            <a:xfrm>
              <a:off x="6400800" y="1523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6250680" y="4267080"/>
              <a:ext cx="8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6327000" y="320004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+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6402240" y="22856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655344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WordArt 28"/>
          <p:cNvSpPr txBox="1"/>
          <p:nvPr/>
        </p:nvSpPr>
        <p:spPr>
          <a:xfrm>
            <a:off x="380880" y="304920"/>
            <a:ext cx="1752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练一练</a:t>
            </a:r>
            <a:endParaRPr b="0" lang="en-US" sz="2400" spc="-1" strike="noStrike">
              <a:ln w="936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3CD-DBFD-4212-A843-EB503E35B623}" type="slidenum">
              <a:t>7</a:t>
            </a:fld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685800" y="3049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做一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00200" y="1600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含有字母的式子表示下面的数量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1932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学校去年植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比去年多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193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练习本每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要用多少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5120" y="2362320"/>
            <a:ext cx="5257800" cy="18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再见</a:t>
            </a:r>
            <a:endParaRPr b="0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00:36:58Z</dcterms:created>
  <dc:creator>An</dc:creator>
  <dc:description/>
  <dc:language>en-US</dc:language>
  <cp:lastModifiedBy/>
  <dcterms:modified xsi:type="dcterms:W3CDTF">2015-07-11T14:36:1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