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FAE-CA85-4FCB-A722-675E3F9A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D69-2829-47B2-A678-06818D53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17A-54B7-42E8-9559-567BCEE9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D3B-6B02-46BC-925A-BA47AF5C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DB6-2AA6-404C-96FE-3127A12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005-E095-4553-86D5-1AB502C3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DB8-E3DE-4E32-ADCE-CDF3F159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F1A-0C85-42A2-9B43-3C73D714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200-F52F-42EB-A30D-0FC1B32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1C5-B60A-4213-9598-FC445335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EDD-920F-4A50-A52C-DF61A838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BCE-3251-4EFE-92FB-3BF532E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1CD6-4E39-4A39-A7A4-2DF7D21E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730600" y="501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rcRect l="10309" t="0" r="7244" b="3842"/>
          <a:stretch/>
        </p:blipFill>
        <p:spPr>
          <a:xfrm>
            <a:off x="2081160" y="2133720"/>
            <a:ext cx="4942080" cy="3832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88748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0600" y="1052640"/>
            <a:ext cx="37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走遍天下书为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582560" y="981000"/>
            <a:ext cx="658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乐  　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盒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　犹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趟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诵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编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73D-ACE4-47B3-83EF-A980F84B7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00000" y="476280"/>
            <a:ext cx="741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你总能从一本书中发现新东西，不管你看过多少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愿意坐在自己的船里，一遍又一遍地读那本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一本你喜爱的书就是一位朋友，也是一处你随时想去就去的故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042920" y="595440"/>
            <a:ext cx="748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这有什么关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不会因为以前见过你有朋友就不愿再见到他们了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不会因为熟悉家中的一切就弃家而去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6093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23:12:42Z</dcterms:created>
  <dc:creator>Administrator</dc:creator>
  <dc:description>第一PPT模板网-WWW.1PPT.COM</dc:description>
  <dc:language>en-US</dc:language>
  <cp:lastModifiedBy>USER</cp:lastModifiedBy>
  <dcterms:modified xsi:type="dcterms:W3CDTF">2015-07-10T13:19:00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