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33E-3E65-4B36-A35C-5B1152F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211-52C7-480D-A195-60E86138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472-6B47-4FFF-BED9-1AFFA84E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C6B-C55C-47BE-BEFF-E3B7B87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611-B4C1-490A-9196-65E6AD0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250-DF9B-4D32-A69B-8CF69E03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8F9-17DC-43D0-909D-DFB361C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BF3-1309-4749-BABD-856DE6A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041-7783-4B27-90B0-BF0D1E8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D5A-943E-4AEE-BCF5-F1218A3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312-4A21-44E2-B1DF-C9BF062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EA3-1958-4808-8484-0CC0A39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E559-60DA-4FE6-BDA8-1E47C8F73BE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D8B-703D-4A79-8C8F-9944AC7B9F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240" y="1638360"/>
            <a:ext cx="9140760" cy="521964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500200" y="2428920"/>
            <a:ext cx="407196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接點 11"/>
          <p:cNvSpPr/>
          <p:nvPr/>
        </p:nvSpPr>
        <p:spPr>
          <a:xfrm>
            <a:off x="2071800" y="2428920"/>
            <a:ext cx="4857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4357800" y="271476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584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88160" y="160020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炫彩多色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-31680" y="1643040"/>
            <a:ext cx="917568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橢圓 3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橢圓 4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橢圓 5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橢圓 6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橢圓 7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橢圓 10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字方塊 11"/>
          <p:cNvSpPr/>
          <p:nvPr/>
        </p:nvSpPr>
        <p:spPr>
          <a:xfrm rot="19323600">
            <a:off x="137520" y="411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12"/>
          <p:cNvSpPr/>
          <p:nvPr/>
        </p:nvSpPr>
        <p:spPr>
          <a:xfrm>
            <a:off x="2500200" y="385776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13"/>
          <p:cNvSpPr/>
          <p:nvPr/>
        </p:nvSpPr>
        <p:spPr>
          <a:xfrm>
            <a:off x="4246560" y="4324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橢圓 14"/>
          <p:cNvSpPr/>
          <p:nvPr/>
        </p:nvSpPr>
        <p:spPr>
          <a:xfrm>
            <a:off x="7246800" y="33577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橢圓 15"/>
          <p:cNvSpPr/>
          <p:nvPr/>
        </p:nvSpPr>
        <p:spPr>
          <a:xfrm>
            <a:off x="6072120" y="392904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16"/>
          <p:cNvSpPr/>
          <p:nvPr/>
        </p:nvSpPr>
        <p:spPr>
          <a:xfrm rot="19045800">
            <a:off x="1190160" y="5140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17"/>
          <p:cNvSpPr/>
          <p:nvPr/>
        </p:nvSpPr>
        <p:spPr>
          <a:xfrm rot="5400000">
            <a:off x="4015080" y="5651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字方塊 18"/>
          <p:cNvSpPr/>
          <p:nvPr/>
        </p:nvSpPr>
        <p:spPr>
          <a:xfrm rot="3461400">
            <a:off x="6579000" y="528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19"/>
          <p:cNvSpPr/>
          <p:nvPr/>
        </p:nvSpPr>
        <p:spPr>
          <a:xfrm rot="2300400">
            <a:off x="7833960" y="4186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2500200" y="2286000"/>
            <a:ext cx="407196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21"/>
          <p:cNvSpPr/>
          <p:nvPr/>
        </p:nvSpPr>
        <p:spPr>
          <a:xfrm>
            <a:off x="2071800" y="2286000"/>
            <a:ext cx="4857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2395440" y="25718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5214960" cy="4686480"/>
          </a:xfrm>
          <a:prstGeom prst="rect">
            <a:avLst/>
          </a:prstGeom>
          <a:ln w="0">
            <a:noFill/>
          </a:ln>
        </p:spPr>
      </p:pic>
      <p:sp>
        <p:nvSpPr>
          <p:cNvPr id="71" name="橢圓 3"/>
          <p:cNvSpPr/>
          <p:nvPr/>
        </p:nvSpPr>
        <p:spPr>
          <a:xfrm>
            <a:off x="4500720" y="5429160"/>
            <a:ext cx="1071360" cy="10000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接點 5"/>
          <p:cNvSpPr/>
          <p:nvPr/>
        </p:nvSpPr>
        <p:spPr>
          <a:xfrm flipH="1">
            <a:off x="4998600" y="4071960"/>
            <a:ext cx="1800" cy="157176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橢圓 7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字方塊 8"/>
          <p:cNvSpPr/>
          <p:nvPr/>
        </p:nvSpPr>
        <p:spPr>
          <a:xfrm rot="19323600">
            <a:off x="137520" y="411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橢圓 9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橢圓 10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橢圓 11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橢圓 12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橢圓 13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14"/>
          <p:cNvSpPr/>
          <p:nvPr/>
        </p:nvSpPr>
        <p:spPr>
          <a:xfrm>
            <a:off x="5671800" y="320184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 Black"/>
              </a:rPr>
              <a:t>ABOUT PPT 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線接點 15"/>
          <p:cNvSpPr/>
          <p:nvPr/>
        </p:nvSpPr>
        <p:spPr>
          <a:xfrm>
            <a:off x="5357880" y="4714920"/>
            <a:ext cx="3240000" cy="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線接點 16"/>
          <p:cNvSpPr/>
          <p:nvPr/>
        </p:nvSpPr>
        <p:spPr>
          <a:xfrm>
            <a:off x="5357880" y="5072040"/>
            <a:ext cx="3240000" cy="144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線接點 17"/>
          <p:cNvSpPr/>
          <p:nvPr/>
        </p:nvSpPr>
        <p:spPr>
          <a:xfrm>
            <a:off x="5357880" y="5429160"/>
            <a:ext cx="3240000" cy="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接點 18"/>
          <p:cNvSpPr/>
          <p:nvPr/>
        </p:nvSpPr>
        <p:spPr>
          <a:xfrm>
            <a:off x="5357880" y="4357800"/>
            <a:ext cx="3240000" cy="144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6357960"/>
            <a:ext cx="1357200" cy="49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0" y="1638360"/>
            <a:ext cx="4643280" cy="5219640"/>
          </a:xfrm>
          <a:prstGeom prst="rect">
            <a:avLst/>
          </a:prstGeom>
          <a:ln w="0">
            <a:noFill/>
          </a:ln>
        </p:spPr>
      </p:pic>
      <p:sp>
        <p:nvSpPr>
          <p:cNvPr id="88" name="橢圓 5"/>
          <p:cNvSpPr/>
          <p:nvPr/>
        </p:nvSpPr>
        <p:spPr>
          <a:xfrm>
            <a:off x="2674800" y="371484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字方塊 6"/>
          <p:cNvSpPr/>
          <p:nvPr/>
        </p:nvSpPr>
        <p:spPr>
          <a:xfrm rot="18615000">
            <a:off x="1362960" y="4996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5214960" y="2899080"/>
            <a:ext cx="3857760" cy="3932280"/>
            <a:chOff x="5214960" y="2899080"/>
            <a:chExt cx="3857760" cy="3932280"/>
          </a:xfrm>
        </p:grpSpPr>
        <p:sp>
          <p:nvSpPr>
            <p:cNvPr id="91" name="矩形 17"/>
            <p:cNvSpPr/>
            <p:nvPr/>
          </p:nvSpPr>
          <p:spPr>
            <a:xfrm rot="16200000">
              <a:off x="5531040" y="4870800"/>
              <a:ext cx="3305880" cy="6148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8"/>
            <p:cNvSpPr/>
            <p:nvPr/>
          </p:nvSpPr>
          <p:spPr>
            <a:xfrm rot="2847000">
              <a:off x="5479920" y="4777560"/>
              <a:ext cx="3664080" cy="6393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9"/>
            <p:cNvSpPr/>
            <p:nvPr/>
          </p:nvSpPr>
          <p:spPr>
            <a:xfrm rot="18942000">
              <a:off x="5332320" y="4836960"/>
              <a:ext cx="3445200" cy="565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0"/>
            <p:cNvSpPr/>
            <p:nvPr/>
          </p:nvSpPr>
          <p:spPr>
            <a:xfrm>
              <a:off x="5497920" y="4563000"/>
              <a:ext cx="3574800" cy="712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橢圓 11"/>
            <p:cNvSpPr/>
            <p:nvPr/>
          </p:nvSpPr>
          <p:spPr>
            <a:xfrm>
              <a:off x="6543000" y="4303800"/>
              <a:ext cx="1328040" cy="12963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6922440" y="4563000"/>
              <a:ext cx="569160" cy="84240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295" h="1946">
                  <a:moveTo>
                    <a:pt x="1021" y="376"/>
                  </a:moveTo>
                  <a:cubicBezTo>
                    <a:pt x="1021" y="583"/>
                    <a:pt x="853" y="751"/>
                    <a:pt x="645" y="751"/>
                  </a:cubicBezTo>
                  <a:cubicBezTo>
                    <a:pt x="438" y="751"/>
                    <a:pt x="270" y="583"/>
                    <a:pt x="270" y="376"/>
                  </a:cubicBezTo>
                  <a:cubicBezTo>
                    <a:pt x="270" y="168"/>
                    <a:pt x="438" y="0"/>
                    <a:pt x="645" y="0"/>
                  </a:cubicBezTo>
                  <a:cubicBezTo>
                    <a:pt x="853" y="0"/>
                    <a:pt x="1021" y="168"/>
                    <a:pt x="1021" y="376"/>
                  </a:cubicBezTo>
                  <a:close/>
                  <a:moveTo>
                    <a:pt x="645" y="922"/>
                  </a:moveTo>
                  <a:cubicBezTo>
                    <a:pt x="589" y="815"/>
                    <a:pt x="589" y="815"/>
                    <a:pt x="589" y="815"/>
                  </a:cubicBezTo>
                  <a:cubicBezTo>
                    <a:pt x="589" y="815"/>
                    <a:pt x="424" y="757"/>
                    <a:pt x="327" y="668"/>
                  </a:cubicBezTo>
                  <a:cubicBezTo>
                    <a:pt x="174" y="922"/>
                    <a:pt x="4" y="1196"/>
                    <a:pt x="4" y="1504"/>
                  </a:cubicBezTo>
                  <a:cubicBezTo>
                    <a:pt x="4" y="1574"/>
                    <a:pt x="0" y="1652"/>
                    <a:pt x="34" y="1717"/>
                  </a:cubicBezTo>
                  <a:cubicBezTo>
                    <a:pt x="73" y="1791"/>
                    <a:pt x="139" y="1821"/>
                    <a:pt x="209" y="1857"/>
                  </a:cubicBezTo>
                  <a:cubicBezTo>
                    <a:pt x="342" y="1926"/>
                    <a:pt x="498" y="1933"/>
                    <a:pt x="645" y="1946"/>
                  </a:cubicBezTo>
                  <a:cubicBezTo>
                    <a:pt x="650" y="1946"/>
                    <a:pt x="650" y="1946"/>
                    <a:pt x="650" y="1946"/>
                  </a:cubicBezTo>
                  <a:cubicBezTo>
                    <a:pt x="797" y="1933"/>
                    <a:pt x="953" y="1926"/>
                    <a:pt x="1086" y="1857"/>
                  </a:cubicBezTo>
                  <a:cubicBezTo>
                    <a:pt x="1156" y="1821"/>
                    <a:pt x="1223" y="1791"/>
                    <a:pt x="1261" y="1717"/>
                  </a:cubicBezTo>
                  <a:cubicBezTo>
                    <a:pt x="1295" y="1652"/>
                    <a:pt x="1291" y="1574"/>
                    <a:pt x="1291" y="1504"/>
                  </a:cubicBezTo>
                  <a:cubicBezTo>
                    <a:pt x="1291" y="1196"/>
                    <a:pt x="1122" y="922"/>
                    <a:pt x="969" y="668"/>
                  </a:cubicBezTo>
                  <a:cubicBezTo>
                    <a:pt x="872" y="757"/>
                    <a:pt x="821" y="775"/>
                    <a:pt x="695" y="811"/>
                  </a:cubicBezTo>
                  <a:lnTo>
                    <a:pt x="645" y="922"/>
                  </a:lnTo>
                  <a:close/>
                  <a:moveTo>
                    <a:pt x="644" y="1592"/>
                  </a:moveTo>
                  <a:cubicBezTo>
                    <a:pt x="571" y="1492"/>
                    <a:pt x="571" y="1492"/>
                    <a:pt x="571" y="1492"/>
                  </a:cubicBezTo>
                  <a:cubicBezTo>
                    <a:pt x="601" y="1038"/>
                    <a:pt x="601" y="1038"/>
                    <a:pt x="601" y="1038"/>
                  </a:cubicBezTo>
                  <a:cubicBezTo>
                    <a:pt x="644" y="983"/>
                    <a:pt x="644" y="983"/>
                    <a:pt x="644" y="983"/>
                  </a:cubicBezTo>
                  <a:cubicBezTo>
                    <a:pt x="689" y="1038"/>
                    <a:pt x="689" y="1038"/>
                    <a:pt x="689" y="1038"/>
                  </a:cubicBezTo>
                  <a:cubicBezTo>
                    <a:pt x="720" y="1492"/>
                    <a:pt x="720" y="1492"/>
                    <a:pt x="720" y="1492"/>
                  </a:cubicBezTo>
                  <a:lnTo>
                    <a:pt x="644" y="159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橢圓 13"/>
            <p:cNvSpPr/>
            <p:nvPr/>
          </p:nvSpPr>
          <p:spPr>
            <a:xfrm>
              <a:off x="5214960" y="443340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橢圓 15"/>
            <p:cNvSpPr/>
            <p:nvPr/>
          </p:nvSpPr>
          <p:spPr>
            <a:xfrm rot="1010400">
              <a:off x="5673960" y="330696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橢圓 16"/>
            <p:cNvSpPr/>
            <p:nvPr/>
          </p:nvSpPr>
          <p:spPr>
            <a:xfrm rot="693600">
              <a:off x="7800840" y="345348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橢圓 18"/>
            <p:cNvSpPr/>
            <p:nvPr/>
          </p:nvSpPr>
          <p:spPr>
            <a:xfrm rot="912600">
              <a:off x="6796080" y="299988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8"/>
            <p:cNvGrpSpPr/>
            <p:nvPr/>
          </p:nvGrpSpPr>
          <p:grpSpPr>
            <a:xfrm>
              <a:off x="8313840" y="4561560"/>
              <a:ext cx="695520" cy="714240"/>
              <a:chOff x="8313840" y="4561560"/>
              <a:chExt cx="695520" cy="714240"/>
            </a:xfrm>
          </p:grpSpPr>
          <p:sp>
            <p:nvSpPr>
              <p:cNvPr id="102" name="Freeform 31"/>
              <p:cNvSpPr/>
              <p:nvPr/>
            </p:nvSpPr>
            <p:spPr>
              <a:xfrm>
                <a:off x="8481600" y="4954320"/>
                <a:ext cx="463320" cy="28476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2278" h="1363">
                    <a:moveTo>
                      <a:pt x="837" y="1356"/>
                    </a:moveTo>
                    <a:lnTo>
                      <a:pt x="839" y="1357"/>
                    </a:lnTo>
                    <a:lnTo>
                      <a:pt x="840" y="1358"/>
                    </a:lnTo>
                    <a:lnTo>
                      <a:pt x="841" y="1361"/>
                    </a:lnTo>
                    <a:lnTo>
                      <a:pt x="840" y="1363"/>
                    </a:lnTo>
                    <a:lnTo>
                      <a:pt x="839" y="1363"/>
                    </a:lnTo>
                    <a:lnTo>
                      <a:pt x="836" y="1361"/>
                    </a:lnTo>
                    <a:lnTo>
                      <a:pt x="835" y="1360"/>
                    </a:lnTo>
                    <a:lnTo>
                      <a:pt x="834" y="1360"/>
                    </a:lnTo>
                    <a:lnTo>
                      <a:pt x="833" y="1360"/>
                    </a:lnTo>
                    <a:lnTo>
                      <a:pt x="833" y="1359"/>
                    </a:lnTo>
                    <a:lnTo>
                      <a:pt x="833" y="1359"/>
                    </a:lnTo>
                    <a:lnTo>
                      <a:pt x="834" y="1358"/>
                    </a:lnTo>
                    <a:lnTo>
                      <a:pt x="835" y="1357"/>
                    </a:lnTo>
                    <a:lnTo>
                      <a:pt x="837" y="1356"/>
                    </a:lnTo>
                    <a:close/>
                    <a:moveTo>
                      <a:pt x="1014" y="1341"/>
                    </a:moveTo>
                    <a:lnTo>
                      <a:pt x="1015" y="1341"/>
                    </a:lnTo>
                    <a:lnTo>
                      <a:pt x="1016" y="1343"/>
                    </a:lnTo>
                    <a:lnTo>
                      <a:pt x="1015" y="1345"/>
                    </a:lnTo>
                    <a:lnTo>
                      <a:pt x="1015" y="1346"/>
                    </a:lnTo>
                    <a:lnTo>
                      <a:pt x="1012" y="1346"/>
                    </a:lnTo>
                    <a:lnTo>
                      <a:pt x="1012" y="1346"/>
                    </a:lnTo>
                    <a:lnTo>
                      <a:pt x="1011" y="1346"/>
                    </a:lnTo>
                    <a:lnTo>
                      <a:pt x="1010" y="1348"/>
                    </a:lnTo>
                    <a:lnTo>
                      <a:pt x="1008" y="1349"/>
                    </a:lnTo>
                    <a:lnTo>
                      <a:pt x="1007" y="1350"/>
                    </a:lnTo>
                    <a:lnTo>
                      <a:pt x="1006" y="1350"/>
                    </a:lnTo>
                    <a:lnTo>
                      <a:pt x="1006" y="1350"/>
                    </a:lnTo>
                    <a:lnTo>
                      <a:pt x="1006" y="1349"/>
                    </a:lnTo>
                    <a:lnTo>
                      <a:pt x="1005" y="1348"/>
                    </a:lnTo>
                    <a:lnTo>
                      <a:pt x="1004" y="1346"/>
                    </a:lnTo>
                    <a:lnTo>
                      <a:pt x="1001" y="1347"/>
                    </a:lnTo>
                    <a:lnTo>
                      <a:pt x="1000" y="1348"/>
                    </a:lnTo>
                    <a:lnTo>
                      <a:pt x="998" y="1350"/>
                    </a:lnTo>
                    <a:lnTo>
                      <a:pt x="997" y="1352"/>
                    </a:lnTo>
                    <a:lnTo>
                      <a:pt x="996" y="1354"/>
                    </a:lnTo>
                    <a:lnTo>
                      <a:pt x="994" y="1354"/>
                    </a:lnTo>
                    <a:lnTo>
                      <a:pt x="992" y="1354"/>
                    </a:lnTo>
                    <a:lnTo>
                      <a:pt x="990" y="1353"/>
                    </a:lnTo>
                    <a:lnTo>
                      <a:pt x="990" y="1352"/>
                    </a:lnTo>
                    <a:lnTo>
                      <a:pt x="992" y="1350"/>
                    </a:lnTo>
                    <a:lnTo>
                      <a:pt x="994" y="1350"/>
                    </a:lnTo>
                    <a:lnTo>
                      <a:pt x="995" y="1348"/>
                    </a:lnTo>
                    <a:lnTo>
                      <a:pt x="995" y="1347"/>
                    </a:lnTo>
                    <a:lnTo>
                      <a:pt x="995" y="1347"/>
                    </a:lnTo>
                    <a:lnTo>
                      <a:pt x="994" y="1346"/>
                    </a:lnTo>
                    <a:lnTo>
                      <a:pt x="994" y="1345"/>
                    </a:lnTo>
                    <a:lnTo>
                      <a:pt x="994" y="1344"/>
                    </a:lnTo>
                    <a:lnTo>
                      <a:pt x="994" y="1343"/>
                    </a:lnTo>
                    <a:lnTo>
                      <a:pt x="995" y="1343"/>
                    </a:lnTo>
                    <a:lnTo>
                      <a:pt x="996" y="1342"/>
                    </a:lnTo>
                    <a:lnTo>
                      <a:pt x="998" y="1342"/>
                    </a:lnTo>
                    <a:lnTo>
                      <a:pt x="999" y="1342"/>
                    </a:lnTo>
                    <a:lnTo>
                      <a:pt x="1000" y="1341"/>
                    </a:lnTo>
                    <a:lnTo>
                      <a:pt x="1001" y="1342"/>
                    </a:lnTo>
                    <a:lnTo>
                      <a:pt x="1001" y="1343"/>
                    </a:lnTo>
                    <a:lnTo>
                      <a:pt x="1003" y="1344"/>
                    </a:lnTo>
                    <a:lnTo>
                      <a:pt x="1004" y="1343"/>
                    </a:lnTo>
                    <a:lnTo>
                      <a:pt x="1006" y="1343"/>
                    </a:lnTo>
                    <a:lnTo>
                      <a:pt x="1008" y="1342"/>
                    </a:lnTo>
                    <a:lnTo>
                      <a:pt x="1009" y="1341"/>
                    </a:lnTo>
                    <a:lnTo>
                      <a:pt x="1011" y="1341"/>
                    </a:lnTo>
                    <a:lnTo>
                      <a:pt x="1014" y="1341"/>
                    </a:lnTo>
                    <a:close/>
                    <a:moveTo>
                      <a:pt x="824" y="1335"/>
                    </a:moveTo>
                    <a:lnTo>
                      <a:pt x="826" y="1335"/>
                    </a:lnTo>
                    <a:lnTo>
                      <a:pt x="826" y="1336"/>
                    </a:lnTo>
                    <a:lnTo>
                      <a:pt x="828" y="1337"/>
                    </a:lnTo>
                    <a:lnTo>
                      <a:pt x="829" y="1337"/>
                    </a:lnTo>
                    <a:lnTo>
                      <a:pt x="830" y="1337"/>
                    </a:lnTo>
                    <a:lnTo>
                      <a:pt x="831" y="1338"/>
                    </a:lnTo>
                    <a:lnTo>
                      <a:pt x="831" y="1338"/>
                    </a:lnTo>
                    <a:lnTo>
                      <a:pt x="831" y="1339"/>
                    </a:lnTo>
                    <a:lnTo>
                      <a:pt x="831" y="1341"/>
                    </a:lnTo>
                    <a:lnTo>
                      <a:pt x="831" y="1341"/>
                    </a:lnTo>
                    <a:lnTo>
                      <a:pt x="831" y="1342"/>
                    </a:lnTo>
                    <a:lnTo>
                      <a:pt x="830" y="1342"/>
                    </a:lnTo>
                    <a:lnTo>
                      <a:pt x="829" y="1342"/>
                    </a:lnTo>
                    <a:lnTo>
                      <a:pt x="826" y="1343"/>
                    </a:lnTo>
                    <a:lnTo>
                      <a:pt x="825" y="1343"/>
                    </a:lnTo>
                    <a:lnTo>
                      <a:pt x="824" y="1343"/>
                    </a:lnTo>
                    <a:lnTo>
                      <a:pt x="824" y="1342"/>
                    </a:lnTo>
                    <a:lnTo>
                      <a:pt x="823" y="1339"/>
                    </a:lnTo>
                    <a:lnTo>
                      <a:pt x="823" y="1338"/>
                    </a:lnTo>
                    <a:lnTo>
                      <a:pt x="823" y="1337"/>
                    </a:lnTo>
                    <a:lnTo>
                      <a:pt x="824" y="1335"/>
                    </a:lnTo>
                    <a:close/>
                    <a:moveTo>
                      <a:pt x="812" y="1320"/>
                    </a:moveTo>
                    <a:lnTo>
                      <a:pt x="813" y="1320"/>
                    </a:lnTo>
                    <a:lnTo>
                      <a:pt x="813" y="1322"/>
                    </a:lnTo>
                    <a:lnTo>
                      <a:pt x="813" y="1323"/>
                    </a:lnTo>
                    <a:lnTo>
                      <a:pt x="812" y="1325"/>
                    </a:lnTo>
                    <a:lnTo>
                      <a:pt x="810" y="1325"/>
                    </a:lnTo>
                    <a:lnTo>
                      <a:pt x="808" y="1326"/>
                    </a:lnTo>
                    <a:lnTo>
                      <a:pt x="806" y="1326"/>
                    </a:lnTo>
                    <a:lnTo>
                      <a:pt x="804" y="1326"/>
                    </a:lnTo>
                    <a:lnTo>
                      <a:pt x="804" y="1324"/>
                    </a:lnTo>
                    <a:lnTo>
                      <a:pt x="806" y="1323"/>
                    </a:lnTo>
                    <a:lnTo>
                      <a:pt x="808" y="1321"/>
                    </a:lnTo>
                    <a:lnTo>
                      <a:pt x="809" y="1321"/>
                    </a:lnTo>
                    <a:lnTo>
                      <a:pt x="811" y="1320"/>
                    </a:lnTo>
                    <a:lnTo>
                      <a:pt x="812" y="1320"/>
                    </a:lnTo>
                    <a:close/>
                    <a:moveTo>
                      <a:pt x="825" y="1319"/>
                    </a:moveTo>
                    <a:lnTo>
                      <a:pt x="825" y="1319"/>
                    </a:lnTo>
                    <a:lnTo>
                      <a:pt x="826" y="1319"/>
                    </a:lnTo>
                    <a:lnTo>
                      <a:pt x="828" y="1320"/>
                    </a:lnTo>
                    <a:lnTo>
                      <a:pt x="829" y="1321"/>
                    </a:lnTo>
                    <a:lnTo>
                      <a:pt x="829" y="1321"/>
                    </a:lnTo>
                    <a:lnTo>
                      <a:pt x="830" y="1321"/>
                    </a:lnTo>
                    <a:lnTo>
                      <a:pt x="831" y="1322"/>
                    </a:lnTo>
                    <a:lnTo>
                      <a:pt x="831" y="1323"/>
                    </a:lnTo>
                    <a:lnTo>
                      <a:pt x="831" y="1324"/>
                    </a:lnTo>
                    <a:lnTo>
                      <a:pt x="830" y="1325"/>
                    </a:lnTo>
                    <a:lnTo>
                      <a:pt x="829" y="1325"/>
                    </a:lnTo>
                    <a:lnTo>
                      <a:pt x="829" y="1324"/>
                    </a:lnTo>
                    <a:lnTo>
                      <a:pt x="828" y="1324"/>
                    </a:lnTo>
                    <a:lnTo>
                      <a:pt x="826" y="1324"/>
                    </a:lnTo>
                    <a:lnTo>
                      <a:pt x="825" y="1324"/>
                    </a:lnTo>
                    <a:lnTo>
                      <a:pt x="824" y="1324"/>
                    </a:lnTo>
                    <a:lnTo>
                      <a:pt x="824" y="1323"/>
                    </a:lnTo>
                    <a:lnTo>
                      <a:pt x="824" y="1322"/>
                    </a:lnTo>
                    <a:lnTo>
                      <a:pt x="824" y="1320"/>
                    </a:lnTo>
                    <a:lnTo>
                      <a:pt x="824" y="1319"/>
                    </a:lnTo>
                    <a:lnTo>
                      <a:pt x="825" y="1319"/>
                    </a:lnTo>
                    <a:close/>
                    <a:moveTo>
                      <a:pt x="813" y="1301"/>
                    </a:moveTo>
                    <a:lnTo>
                      <a:pt x="815" y="1301"/>
                    </a:lnTo>
                    <a:lnTo>
                      <a:pt x="818" y="1302"/>
                    </a:lnTo>
                    <a:lnTo>
                      <a:pt x="819" y="1302"/>
                    </a:lnTo>
                    <a:lnTo>
                      <a:pt x="819" y="1302"/>
                    </a:lnTo>
                    <a:lnTo>
                      <a:pt x="819" y="1303"/>
                    </a:lnTo>
                    <a:lnTo>
                      <a:pt x="818" y="1304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6"/>
                    </a:lnTo>
                    <a:lnTo>
                      <a:pt x="819" y="1308"/>
                    </a:lnTo>
                    <a:lnTo>
                      <a:pt x="820" y="1310"/>
                    </a:lnTo>
                    <a:lnTo>
                      <a:pt x="821" y="1310"/>
                    </a:lnTo>
                    <a:lnTo>
                      <a:pt x="821" y="1311"/>
                    </a:lnTo>
                    <a:lnTo>
                      <a:pt x="821" y="1312"/>
                    </a:lnTo>
                    <a:lnTo>
                      <a:pt x="821" y="1314"/>
                    </a:lnTo>
                    <a:lnTo>
                      <a:pt x="820" y="1316"/>
                    </a:lnTo>
                    <a:lnTo>
                      <a:pt x="820" y="1316"/>
                    </a:lnTo>
                    <a:lnTo>
                      <a:pt x="818" y="1316"/>
                    </a:lnTo>
                    <a:lnTo>
                      <a:pt x="817" y="1316"/>
                    </a:lnTo>
                    <a:lnTo>
                      <a:pt x="814" y="1316"/>
                    </a:lnTo>
                    <a:lnTo>
                      <a:pt x="812" y="1315"/>
                    </a:lnTo>
                    <a:lnTo>
                      <a:pt x="810" y="1314"/>
                    </a:lnTo>
                    <a:lnTo>
                      <a:pt x="810" y="1313"/>
                    </a:lnTo>
                    <a:lnTo>
                      <a:pt x="810" y="1313"/>
                    </a:lnTo>
                    <a:lnTo>
                      <a:pt x="811" y="1312"/>
                    </a:lnTo>
                    <a:lnTo>
                      <a:pt x="812" y="1310"/>
                    </a:lnTo>
                    <a:lnTo>
                      <a:pt x="813" y="1308"/>
                    </a:lnTo>
                    <a:lnTo>
                      <a:pt x="812" y="1305"/>
                    </a:lnTo>
                    <a:lnTo>
                      <a:pt x="810" y="1305"/>
                    </a:lnTo>
                    <a:lnTo>
                      <a:pt x="809" y="1304"/>
                    </a:lnTo>
                    <a:lnTo>
                      <a:pt x="809" y="1303"/>
                    </a:lnTo>
                    <a:lnTo>
                      <a:pt x="810" y="1302"/>
                    </a:lnTo>
                    <a:lnTo>
                      <a:pt x="811" y="1301"/>
                    </a:lnTo>
                    <a:lnTo>
                      <a:pt x="813" y="1301"/>
                    </a:lnTo>
                    <a:close/>
                    <a:moveTo>
                      <a:pt x="481" y="918"/>
                    </a:moveTo>
                    <a:lnTo>
                      <a:pt x="488" y="922"/>
                    </a:lnTo>
                    <a:lnTo>
                      <a:pt x="493" y="927"/>
                    </a:lnTo>
                    <a:lnTo>
                      <a:pt x="497" y="932"/>
                    </a:lnTo>
                    <a:lnTo>
                      <a:pt x="504" y="933"/>
                    </a:lnTo>
                    <a:lnTo>
                      <a:pt x="509" y="935"/>
                    </a:lnTo>
                    <a:lnTo>
                      <a:pt x="516" y="935"/>
                    </a:lnTo>
                    <a:lnTo>
                      <a:pt x="520" y="937"/>
                    </a:lnTo>
                    <a:lnTo>
                      <a:pt x="524" y="940"/>
                    </a:lnTo>
                    <a:lnTo>
                      <a:pt x="524" y="942"/>
                    </a:lnTo>
                    <a:lnTo>
                      <a:pt x="524" y="943"/>
                    </a:lnTo>
                    <a:lnTo>
                      <a:pt x="523" y="944"/>
                    </a:lnTo>
                    <a:lnTo>
                      <a:pt x="520" y="945"/>
                    </a:lnTo>
                    <a:lnTo>
                      <a:pt x="518" y="945"/>
                    </a:lnTo>
                    <a:lnTo>
                      <a:pt x="517" y="945"/>
                    </a:lnTo>
                    <a:lnTo>
                      <a:pt x="515" y="946"/>
                    </a:lnTo>
                    <a:lnTo>
                      <a:pt x="514" y="946"/>
                    </a:lnTo>
                    <a:lnTo>
                      <a:pt x="504" y="944"/>
                    </a:lnTo>
                    <a:lnTo>
                      <a:pt x="494" y="940"/>
                    </a:lnTo>
                    <a:lnTo>
                      <a:pt x="491" y="940"/>
                    </a:lnTo>
                    <a:lnTo>
                      <a:pt x="486" y="940"/>
                    </a:lnTo>
                    <a:lnTo>
                      <a:pt x="483" y="939"/>
                    </a:lnTo>
                    <a:lnTo>
                      <a:pt x="481" y="939"/>
                    </a:lnTo>
                    <a:lnTo>
                      <a:pt x="479" y="937"/>
                    </a:lnTo>
                    <a:lnTo>
                      <a:pt x="474" y="931"/>
                    </a:lnTo>
                    <a:lnTo>
                      <a:pt x="473" y="926"/>
                    </a:lnTo>
                    <a:lnTo>
                      <a:pt x="475" y="920"/>
                    </a:lnTo>
                    <a:lnTo>
                      <a:pt x="481" y="918"/>
                    </a:lnTo>
                    <a:close/>
                    <a:moveTo>
                      <a:pt x="497" y="911"/>
                    </a:moveTo>
                    <a:lnTo>
                      <a:pt x="503" y="912"/>
                    </a:lnTo>
                    <a:lnTo>
                      <a:pt x="509" y="913"/>
                    </a:lnTo>
                    <a:lnTo>
                      <a:pt x="514" y="917"/>
                    </a:lnTo>
                    <a:lnTo>
                      <a:pt x="515" y="921"/>
                    </a:lnTo>
                    <a:lnTo>
                      <a:pt x="510" y="923"/>
                    </a:lnTo>
                    <a:lnTo>
                      <a:pt x="505" y="923"/>
                    </a:lnTo>
                    <a:lnTo>
                      <a:pt x="498" y="922"/>
                    </a:lnTo>
                    <a:lnTo>
                      <a:pt x="494" y="919"/>
                    </a:lnTo>
                    <a:lnTo>
                      <a:pt x="492" y="916"/>
                    </a:lnTo>
                    <a:lnTo>
                      <a:pt x="493" y="912"/>
                    </a:lnTo>
                    <a:lnTo>
                      <a:pt x="497" y="911"/>
                    </a:lnTo>
                    <a:close/>
                    <a:moveTo>
                      <a:pt x="466" y="909"/>
                    </a:moveTo>
                    <a:lnTo>
                      <a:pt x="469" y="909"/>
                    </a:lnTo>
                    <a:lnTo>
                      <a:pt x="471" y="910"/>
                    </a:lnTo>
                    <a:lnTo>
                      <a:pt x="473" y="911"/>
                    </a:lnTo>
                    <a:lnTo>
                      <a:pt x="475" y="912"/>
                    </a:lnTo>
                    <a:lnTo>
                      <a:pt x="477" y="912"/>
                    </a:lnTo>
                    <a:lnTo>
                      <a:pt x="477" y="913"/>
                    </a:lnTo>
                    <a:lnTo>
                      <a:pt x="479" y="915"/>
                    </a:lnTo>
                    <a:lnTo>
                      <a:pt x="479" y="916"/>
                    </a:lnTo>
                    <a:lnTo>
                      <a:pt x="477" y="917"/>
                    </a:lnTo>
                    <a:lnTo>
                      <a:pt x="477" y="918"/>
                    </a:lnTo>
                    <a:lnTo>
                      <a:pt x="475" y="918"/>
                    </a:lnTo>
                    <a:lnTo>
                      <a:pt x="471" y="918"/>
                    </a:lnTo>
                    <a:lnTo>
                      <a:pt x="466" y="917"/>
                    </a:lnTo>
                    <a:lnTo>
                      <a:pt x="464" y="915"/>
                    </a:lnTo>
                    <a:lnTo>
                      <a:pt x="463" y="913"/>
                    </a:lnTo>
                    <a:lnTo>
                      <a:pt x="462" y="911"/>
                    </a:lnTo>
                    <a:lnTo>
                      <a:pt x="462" y="910"/>
                    </a:lnTo>
                    <a:lnTo>
                      <a:pt x="464" y="909"/>
                    </a:lnTo>
                    <a:lnTo>
                      <a:pt x="466" y="909"/>
                    </a:lnTo>
                    <a:close/>
                    <a:moveTo>
                      <a:pt x="623" y="892"/>
                    </a:moveTo>
                    <a:lnTo>
                      <a:pt x="624" y="894"/>
                    </a:lnTo>
                    <a:lnTo>
                      <a:pt x="626" y="896"/>
                    </a:lnTo>
                    <a:lnTo>
                      <a:pt x="627" y="898"/>
                    </a:lnTo>
                    <a:lnTo>
                      <a:pt x="627" y="901"/>
                    </a:lnTo>
                    <a:lnTo>
                      <a:pt x="627" y="906"/>
                    </a:lnTo>
                    <a:lnTo>
                      <a:pt x="626" y="908"/>
                    </a:lnTo>
                    <a:lnTo>
                      <a:pt x="625" y="908"/>
                    </a:lnTo>
                    <a:lnTo>
                      <a:pt x="624" y="908"/>
                    </a:lnTo>
                    <a:lnTo>
                      <a:pt x="622" y="906"/>
                    </a:lnTo>
                    <a:lnTo>
                      <a:pt x="621" y="905"/>
                    </a:lnTo>
                    <a:lnTo>
                      <a:pt x="621" y="902"/>
                    </a:lnTo>
                    <a:lnTo>
                      <a:pt x="619" y="900"/>
                    </a:lnTo>
                    <a:lnTo>
                      <a:pt x="619" y="897"/>
                    </a:lnTo>
                    <a:lnTo>
                      <a:pt x="621" y="895"/>
                    </a:lnTo>
                    <a:lnTo>
                      <a:pt x="622" y="894"/>
                    </a:lnTo>
                    <a:lnTo>
                      <a:pt x="623" y="892"/>
                    </a:lnTo>
                    <a:close/>
                    <a:moveTo>
                      <a:pt x="487" y="883"/>
                    </a:moveTo>
                    <a:lnTo>
                      <a:pt x="491" y="883"/>
                    </a:lnTo>
                    <a:lnTo>
                      <a:pt x="492" y="883"/>
                    </a:lnTo>
                    <a:lnTo>
                      <a:pt x="494" y="883"/>
                    </a:lnTo>
                    <a:lnTo>
                      <a:pt x="496" y="884"/>
                    </a:lnTo>
                    <a:lnTo>
                      <a:pt x="496" y="884"/>
                    </a:lnTo>
                    <a:lnTo>
                      <a:pt x="496" y="885"/>
                    </a:lnTo>
                    <a:lnTo>
                      <a:pt x="497" y="886"/>
                    </a:lnTo>
                    <a:lnTo>
                      <a:pt x="496" y="887"/>
                    </a:lnTo>
                    <a:lnTo>
                      <a:pt x="496" y="888"/>
                    </a:lnTo>
                    <a:lnTo>
                      <a:pt x="495" y="888"/>
                    </a:lnTo>
                    <a:lnTo>
                      <a:pt x="492" y="889"/>
                    </a:lnTo>
                    <a:lnTo>
                      <a:pt x="490" y="889"/>
                    </a:lnTo>
                    <a:lnTo>
                      <a:pt x="487" y="888"/>
                    </a:lnTo>
                    <a:lnTo>
                      <a:pt x="486" y="888"/>
                    </a:lnTo>
                    <a:lnTo>
                      <a:pt x="485" y="886"/>
                    </a:lnTo>
                    <a:lnTo>
                      <a:pt x="484" y="885"/>
                    </a:lnTo>
                    <a:lnTo>
                      <a:pt x="484" y="884"/>
                    </a:lnTo>
                    <a:lnTo>
                      <a:pt x="485" y="883"/>
                    </a:lnTo>
                    <a:lnTo>
                      <a:pt x="487" y="883"/>
                    </a:lnTo>
                    <a:close/>
                    <a:moveTo>
                      <a:pt x="1347" y="881"/>
                    </a:moveTo>
                    <a:lnTo>
                      <a:pt x="1348" y="883"/>
                    </a:lnTo>
                    <a:lnTo>
                      <a:pt x="1349" y="883"/>
                    </a:lnTo>
                    <a:lnTo>
                      <a:pt x="1350" y="884"/>
                    </a:lnTo>
                    <a:lnTo>
                      <a:pt x="1349" y="885"/>
                    </a:lnTo>
                    <a:lnTo>
                      <a:pt x="1348" y="887"/>
                    </a:lnTo>
                    <a:lnTo>
                      <a:pt x="1347" y="888"/>
                    </a:lnTo>
                    <a:lnTo>
                      <a:pt x="1346" y="887"/>
                    </a:lnTo>
                    <a:lnTo>
                      <a:pt x="1345" y="886"/>
                    </a:lnTo>
                    <a:lnTo>
                      <a:pt x="1345" y="884"/>
                    </a:lnTo>
                    <a:lnTo>
                      <a:pt x="1347" y="881"/>
                    </a:lnTo>
                    <a:close/>
                    <a:moveTo>
                      <a:pt x="515" y="874"/>
                    </a:moveTo>
                    <a:lnTo>
                      <a:pt x="517" y="874"/>
                    </a:lnTo>
                    <a:lnTo>
                      <a:pt x="520" y="875"/>
                    </a:lnTo>
                    <a:lnTo>
                      <a:pt x="524" y="876"/>
                    </a:lnTo>
                    <a:lnTo>
                      <a:pt x="526" y="877"/>
                    </a:lnTo>
                    <a:lnTo>
                      <a:pt x="526" y="885"/>
                    </a:lnTo>
                    <a:lnTo>
                      <a:pt x="525" y="887"/>
                    </a:lnTo>
                    <a:lnTo>
                      <a:pt x="524" y="887"/>
                    </a:lnTo>
                    <a:lnTo>
                      <a:pt x="521" y="887"/>
                    </a:lnTo>
                    <a:lnTo>
                      <a:pt x="519" y="886"/>
                    </a:lnTo>
                    <a:lnTo>
                      <a:pt x="517" y="885"/>
                    </a:lnTo>
                    <a:lnTo>
                      <a:pt x="516" y="884"/>
                    </a:lnTo>
                    <a:lnTo>
                      <a:pt x="515" y="883"/>
                    </a:lnTo>
                    <a:lnTo>
                      <a:pt x="513" y="879"/>
                    </a:lnTo>
                    <a:lnTo>
                      <a:pt x="513" y="877"/>
                    </a:lnTo>
                    <a:lnTo>
                      <a:pt x="513" y="875"/>
                    </a:lnTo>
                    <a:lnTo>
                      <a:pt x="514" y="874"/>
                    </a:lnTo>
                    <a:lnTo>
                      <a:pt x="515" y="874"/>
                    </a:lnTo>
                    <a:close/>
                    <a:moveTo>
                      <a:pt x="1421" y="818"/>
                    </a:moveTo>
                    <a:lnTo>
                      <a:pt x="1422" y="818"/>
                    </a:lnTo>
                    <a:lnTo>
                      <a:pt x="1423" y="819"/>
                    </a:lnTo>
                    <a:lnTo>
                      <a:pt x="1423" y="820"/>
                    </a:lnTo>
                    <a:lnTo>
                      <a:pt x="1422" y="822"/>
                    </a:lnTo>
                    <a:lnTo>
                      <a:pt x="1421" y="823"/>
                    </a:lnTo>
                    <a:lnTo>
                      <a:pt x="1420" y="824"/>
                    </a:lnTo>
                    <a:lnTo>
                      <a:pt x="1418" y="824"/>
                    </a:lnTo>
                    <a:lnTo>
                      <a:pt x="1418" y="823"/>
                    </a:lnTo>
                    <a:lnTo>
                      <a:pt x="1418" y="821"/>
                    </a:lnTo>
                    <a:lnTo>
                      <a:pt x="1419" y="820"/>
                    </a:lnTo>
                    <a:lnTo>
                      <a:pt x="1420" y="819"/>
                    </a:lnTo>
                    <a:lnTo>
                      <a:pt x="1421" y="818"/>
                    </a:lnTo>
                    <a:close/>
                    <a:moveTo>
                      <a:pt x="924" y="789"/>
                    </a:moveTo>
                    <a:lnTo>
                      <a:pt x="927" y="790"/>
                    </a:lnTo>
                    <a:lnTo>
                      <a:pt x="929" y="790"/>
                    </a:lnTo>
                    <a:lnTo>
                      <a:pt x="929" y="791"/>
                    </a:lnTo>
                    <a:lnTo>
                      <a:pt x="928" y="792"/>
                    </a:lnTo>
                    <a:lnTo>
                      <a:pt x="927" y="793"/>
                    </a:lnTo>
                    <a:lnTo>
                      <a:pt x="924" y="793"/>
                    </a:lnTo>
                    <a:lnTo>
                      <a:pt x="922" y="795"/>
                    </a:lnTo>
                    <a:lnTo>
                      <a:pt x="920" y="795"/>
                    </a:lnTo>
                    <a:lnTo>
                      <a:pt x="919" y="793"/>
                    </a:lnTo>
                    <a:lnTo>
                      <a:pt x="918" y="792"/>
                    </a:lnTo>
                    <a:lnTo>
                      <a:pt x="917" y="791"/>
                    </a:lnTo>
                    <a:lnTo>
                      <a:pt x="916" y="791"/>
                    </a:lnTo>
                    <a:lnTo>
                      <a:pt x="917" y="790"/>
                    </a:lnTo>
                    <a:lnTo>
                      <a:pt x="918" y="790"/>
                    </a:lnTo>
                    <a:lnTo>
                      <a:pt x="921" y="789"/>
                    </a:lnTo>
                    <a:lnTo>
                      <a:pt x="924" y="789"/>
                    </a:lnTo>
                    <a:close/>
                    <a:moveTo>
                      <a:pt x="886" y="780"/>
                    </a:moveTo>
                    <a:lnTo>
                      <a:pt x="889" y="780"/>
                    </a:lnTo>
                    <a:lnTo>
                      <a:pt x="891" y="781"/>
                    </a:lnTo>
                    <a:lnTo>
                      <a:pt x="894" y="782"/>
                    </a:lnTo>
                    <a:lnTo>
                      <a:pt x="896" y="784"/>
                    </a:lnTo>
                    <a:lnTo>
                      <a:pt x="899" y="785"/>
                    </a:lnTo>
                    <a:lnTo>
                      <a:pt x="902" y="784"/>
                    </a:lnTo>
                    <a:lnTo>
                      <a:pt x="905" y="785"/>
                    </a:lnTo>
                    <a:lnTo>
                      <a:pt x="905" y="785"/>
                    </a:lnTo>
                    <a:lnTo>
                      <a:pt x="905" y="786"/>
                    </a:lnTo>
                    <a:lnTo>
                      <a:pt x="905" y="787"/>
                    </a:lnTo>
                    <a:lnTo>
                      <a:pt x="902" y="787"/>
                    </a:lnTo>
                    <a:lnTo>
                      <a:pt x="900" y="787"/>
                    </a:lnTo>
                    <a:lnTo>
                      <a:pt x="898" y="788"/>
                    </a:lnTo>
                    <a:lnTo>
                      <a:pt x="896" y="788"/>
                    </a:lnTo>
                    <a:lnTo>
                      <a:pt x="892" y="788"/>
                    </a:lnTo>
                    <a:lnTo>
                      <a:pt x="889" y="787"/>
                    </a:lnTo>
                    <a:lnTo>
                      <a:pt x="887" y="786"/>
                    </a:lnTo>
                    <a:lnTo>
                      <a:pt x="885" y="785"/>
                    </a:lnTo>
                    <a:lnTo>
                      <a:pt x="883" y="784"/>
                    </a:lnTo>
                    <a:lnTo>
                      <a:pt x="881" y="782"/>
                    </a:lnTo>
                    <a:lnTo>
                      <a:pt x="881" y="782"/>
                    </a:lnTo>
                    <a:lnTo>
                      <a:pt x="881" y="781"/>
                    </a:lnTo>
                    <a:lnTo>
                      <a:pt x="884" y="780"/>
                    </a:lnTo>
                    <a:lnTo>
                      <a:pt x="886" y="780"/>
                    </a:lnTo>
                    <a:close/>
                    <a:moveTo>
                      <a:pt x="1000" y="771"/>
                    </a:moveTo>
                    <a:lnTo>
                      <a:pt x="1004" y="771"/>
                    </a:lnTo>
                    <a:lnTo>
                      <a:pt x="1005" y="772"/>
                    </a:lnTo>
                    <a:lnTo>
                      <a:pt x="1006" y="774"/>
                    </a:lnTo>
                    <a:lnTo>
                      <a:pt x="1006" y="776"/>
                    </a:lnTo>
                    <a:lnTo>
                      <a:pt x="1003" y="777"/>
                    </a:lnTo>
                    <a:lnTo>
                      <a:pt x="1000" y="777"/>
                    </a:lnTo>
                    <a:lnTo>
                      <a:pt x="997" y="777"/>
                    </a:lnTo>
                    <a:lnTo>
                      <a:pt x="995" y="776"/>
                    </a:lnTo>
                    <a:lnTo>
                      <a:pt x="994" y="775"/>
                    </a:lnTo>
                    <a:lnTo>
                      <a:pt x="994" y="774"/>
                    </a:lnTo>
                    <a:lnTo>
                      <a:pt x="995" y="771"/>
                    </a:lnTo>
                    <a:lnTo>
                      <a:pt x="998" y="771"/>
                    </a:lnTo>
                    <a:lnTo>
                      <a:pt x="1000" y="771"/>
                    </a:lnTo>
                    <a:close/>
                    <a:moveTo>
                      <a:pt x="1003" y="752"/>
                    </a:moveTo>
                    <a:lnTo>
                      <a:pt x="1004" y="753"/>
                    </a:lnTo>
                    <a:lnTo>
                      <a:pt x="1005" y="754"/>
                    </a:lnTo>
                    <a:lnTo>
                      <a:pt x="1006" y="755"/>
                    </a:lnTo>
                    <a:lnTo>
                      <a:pt x="1006" y="755"/>
                    </a:lnTo>
                    <a:lnTo>
                      <a:pt x="1006" y="756"/>
                    </a:lnTo>
                    <a:lnTo>
                      <a:pt x="1005" y="757"/>
                    </a:lnTo>
                    <a:lnTo>
                      <a:pt x="1004" y="759"/>
                    </a:lnTo>
                    <a:lnTo>
                      <a:pt x="1001" y="759"/>
                    </a:lnTo>
                    <a:lnTo>
                      <a:pt x="1000" y="759"/>
                    </a:lnTo>
                    <a:lnTo>
                      <a:pt x="999" y="759"/>
                    </a:lnTo>
                    <a:lnTo>
                      <a:pt x="999" y="757"/>
                    </a:lnTo>
                    <a:lnTo>
                      <a:pt x="999" y="757"/>
                    </a:lnTo>
                    <a:lnTo>
                      <a:pt x="1000" y="756"/>
                    </a:lnTo>
                    <a:lnTo>
                      <a:pt x="1001" y="755"/>
                    </a:lnTo>
                    <a:lnTo>
                      <a:pt x="1001" y="753"/>
                    </a:lnTo>
                    <a:lnTo>
                      <a:pt x="1003" y="752"/>
                    </a:lnTo>
                    <a:close/>
                    <a:moveTo>
                      <a:pt x="1000" y="735"/>
                    </a:moveTo>
                    <a:lnTo>
                      <a:pt x="1003" y="735"/>
                    </a:lnTo>
                    <a:lnTo>
                      <a:pt x="1003" y="736"/>
                    </a:lnTo>
                    <a:lnTo>
                      <a:pt x="1004" y="737"/>
                    </a:lnTo>
                    <a:lnTo>
                      <a:pt x="1006" y="738"/>
                    </a:lnTo>
                    <a:lnTo>
                      <a:pt x="1007" y="739"/>
                    </a:lnTo>
                    <a:lnTo>
                      <a:pt x="1007" y="742"/>
                    </a:lnTo>
                    <a:lnTo>
                      <a:pt x="1007" y="744"/>
                    </a:lnTo>
                    <a:lnTo>
                      <a:pt x="1006" y="747"/>
                    </a:lnTo>
                    <a:lnTo>
                      <a:pt x="1004" y="749"/>
                    </a:lnTo>
                    <a:lnTo>
                      <a:pt x="1003" y="750"/>
                    </a:lnTo>
                    <a:lnTo>
                      <a:pt x="1001" y="750"/>
                    </a:lnTo>
                    <a:lnTo>
                      <a:pt x="1000" y="750"/>
                    </a:lnTo>
                    <a:lnTo>
                      <a:pt x="1000" y="749"/>
                    </a:lnTo>
                    <a:lnTo>
                      <a:pt x="1000" y="748"/>
                    </a:lnTo>
                    <a:lnTo>
                      <a:pt x="1000" y="747"/>
                    </a:lnTo>
                    <a:lnTo>
                      <a:pt x="1001" y="745"/>
                    </a:lnTo>
                    <a:lnTo>
                      <a:pt x="1003" y="744"/>
                    </a:lnTo>
                    <a:lnTo>
                      <a:pt x="1003" y="743"/>
                    </a:lnTo>
                    <a:lnTo>
                      <a:pt x="1001" y="742"/>
                    </a:lnTo>
                    <a:lnTo>
                      <a:pt x="1001" y="741"/>
                    </a:lnTo>
                    <a:lnTo>
                      <a:pt x="1000" y="739"/>
                    </a:lnTo>
                    <a:lnTo>
                      <a:pt x="1000" y="738"/>
                    </a:lnTo>
                    <a:lnTo>
                      <a:pt x="999" y="737"/>
                    </a:lnTo>
                    <a:lnTo>
                      <a:pt x="999" y="736"/>
                    </a:lnTo>
                    <a:lnTo>
                      <a:pt x="1000" y="735"/>
                    </a:lnTo>
                    <a:lnTo>
                      <a:pt x="1000" y="735"/>
                    </a:lnTo>
                    <a:close/>
                    <a:moveTo>
                      <a:pt x="1964" y="712"/>
                    </a:moveTo>
                    <a:lnTo>
                      <a:pt x="1963" y="713"/>
                    </a:lnTo>
                    <a:lnTo>
                      <a:pt x="1961" y="714"/>
                    </a:lnTo>
                    <a:lnTo>
                      <a:pt x="1960" y="716"/>
                    </a:lnTo>
                    <a:lnTo>
                      <a:pt x="1959" y="719"/>
                    </a:lnTo>
                    <a:lnTo>
                      <a:pt x="1959" y="719"/>
                    </a:lnTo>
                    <a:lnTo>
                      <a:pt x="1959" y="721"/>
                    </a:lnTo>
                    <a:lnTo>
                      <a:pt x="1958" y="723"/>
                    </a:lnTo>
                    <a:lnTo>
                      <a:pt x="1957" y="725"/>
                    </a:lnTo>
                    <a:lnTo>
                      <a:pt x="1956" y="727"/>
                    </a:lnTo>
                    <a:lnTo>
                      <a:pt x="1955" y="730"/>
                    </a:lnTo>
                    <a:lnTo>
                      <a:pt x="1955" y="732"/>
                    </a:lnTo>
                    <a:lnTo>
                      <a:pt x="1954" y="737"/>
                    </a:lnTo>
                    <a:lnTo>
                      <a:pt x="1952" y="744"/>
                    </a:lnTo>
                    <a:lnTo>
                      <a:pt x="1952" y="748"/>
                    </a:lnTo>
                    <a:lnTo>
                      <a:pt x="1953" y="752"/>
                    </a:lnTo>
                    <a:lnTo>
                      <a:pt x="1953" y="747"/>
                    </a:lnTo>
                    <a:lnTo>
                      <a:pt x="1954" y="745"/>
                    </a:lnTo>
                    <a:lnTo>
                      <a:pt x="1955" y="743"/>
                    </a:lnTo>
                    <a:lnTo>
                      <a:pt x="1955" y="741"/>
                    </a:lnTo>
                    <a:lnTo>
                      <a:pt x="1961" y="727"/>
                    </a:lnTo>
                    <a:lnTo>
                      <a:pt x="1961" y="726"/>
                    </a:lnTo>
                    <a:lnTo>
                      <a:pt x="1963" y="724"/>
                    </a:lnTo>
                    <a:lnTo>
                      <a:pt x="1963" y="722"/>
                    </a:lnTo>
                    <a:lnTo>
                      <a:pt x="1964" y="719"/>
                    </a:lnTo>
                    <a:lnTo>
                      <a:pt x="1965" y="716"/>
                    </a:lnTo>
                    <a:lnTo>
                      <a:pt x="1965" y="714"/>
                    </a:lnTo>
                    <a:lnTo>
                      <a:pt x="1965" y="713"/>
                    </a:lnTo>
                    <a:lnTo>
                      <a:pt x="1964" y="712"/>
                    </a:lnTo>
                    <a:close/>
                    <a:moveTo>
                      <a:pt x="986" y="708"/>
                    </a:moveTo>
                    <a:lnTo>
                      <a:pt x="989" y="708"/>
                    </a:lnTo>
                    <a:lnTo>
                      <a:pt x="994" y="710"/>
                    </a:lnTo>
                    <a:lnTo>
                      <a:pt x="996" y="713"/>
                    </a:lnTo>
                    <a:lnTo>
                      <a:pt x="997" y="715"/>
                    </a:lnTo>
                    <a:lnTo>
                      <a:pt x="998" y="717"/>
                    </a:lnTo>
                    <a:lnTo>
                      <a:pt x="997" y="720"/>
                    </a:lnTo>
                    <a:lnTo>
                      <a:pt x="997" y="721"/>
                    </a:lnTo>
                    <a:lnTo>
                      <a:pt x="998" y="721"/>
                    </a:lnTo>
                    <a:lnTo>
                      <a:pt x="999" y="721"/>
                    </a:lnTo>
                    <a:lnTo>
                      <a:pt x="1000" y="722"/>
                    </a:lnTo>
                    <a:lnTo>
                      <a:pt x="1001" y="722"/>
                    </a:lnTo>
                    <a:lnTo>
                      <a:pt x="1003" y="723"/>
                    </a:lnTo>
                    <a:lnTo>
                      <a:pt x="1005" y="724"/>
                    </a:lnTo>
                    <a:lnTo>
                      <a:pt x="1005" y="725"/>
                    </a:lnTo>
                    <a:lnTo>
                      <a:pt x="1004" y="726"/>
                    </a:lnTo>
                    <a:lnTo>
                      <a:pt x="1001" y="728"/>
                    </a:lnTo>
                    <a:lnTo>
                      <a:pt x="999" y="730"/>
                    </a:lnTo>
                    <a:lnTo>
                      <a:pt x="997" y="730"/>
                    </a:lnTo>
                    <a:lnTo>
                      <a:pt x="995" y="730"/>
                    </a:lnTo>
                    <a:lnTo>
                      <a:pt x="993" y="727"/>
                    </a:lnTo>
                    <a:lnTo>
                      <a:pt x="993" y="723"/>
                    </a:lnTo>
                    <a:lnTo>
                      <a:pt x="990" y="722"/>
                    </a:lnTo>
                    <a:lnTo>
                      <a:pt x="989" y="722"/>
                    </a:lnTo>
                    <a:lnTo>
                      <a:pt x="988" y="722"/>
                    </a:lnTo>
                    <a:lnTo>
                      <a:pt x="987" y="721"/>
                    </a:lnTo>
                    <a:lnTo>
                      <a:pt x="987" y="720"/>
                    </a:lnTo>
                    <a:lnTo>
                      <a:pt x="988" y="719"/>
                    </a:lnTo>
                    <a:lnTo>
                      <a:pt x="987" y="717"/>
                    </a:lnTo>
                    <a:lnTo>
                      <a:pt x="987" y="716"/>
                    </a:lnTo>
                    <a:lnTo>
                      <a:pt x="985" y="716"/>
                    </a:lnTo>
                    <a:lnTo>
                      <a:pt x="984" y="716"/>
                    </a:lnTo>
                    <a:lnTo>
                      <a:pt x="982" y="716"/>
                    </a:lnTo>
                    <a:lnTo>
                      <a:pt x="978" y="715"/>
                    </a:lnTo>
                    <a:lnTo>
                      <a:pt x="977" y="715"/>
                    </a:lnTo>
                    <a:lnTo>
                      <a:pt x="976" y="714"/>
                    </a:lnTo>
                    <a:lnTo>
                      <a:pt x="976" y="713"/>
                    </a:lnTo>
                    <a:lnTo>
                      <a:pt x="977" y="711"/>
                    </a:lnTo>
                    <a:lnTo>
                      <a:pt x="978" y="710"/>
                    </a:lnTo>
                    <a:lnTo>
                      <a:pt x="981" y="709"/>
                    </a:lnTo>
                    <a:lnTo>
                      <a:pt x="983" y="708"/>
                    </a:lnTo>
                    <a:lnTo>
                      <a:pt x="986" y="708"/>
                    </a:lnTo>
                    <a:close/>
                    <a:moveTo>
                      <a:pt x="977" y="695"/>
                    </a:moveTo>
                    <a:lnTo>
                      <a:pt x="981" y="697"/>
                    </a:lnTo>
                    <a:lnTo>
                      <a:pt x="983" y="698"/>
                    </a:lnTo>
                    <a:lnTo>
                      <a:pt x="985" y="699"/>
                    </a:lnTo>
                    <a:lnTo>
                      <a:pt x="986" y="700"/>
                    </a:lnTo>
                    <a:lnTo>
                      <a:pt x="986" y="702"/>
                    </a:lnTo>
                    <a:lnTo>
                      <a:pt x="985" y="703"/>
                    </a:lnTo>
                    <a:lnTo>
                      <a:pt x="984" y="704"/>
                    </a:lnTo>
                    <a:lnTo>
                      <a:pt x="981" y="705"/>
                    </a:lnTo>
                    <a:lnTo>
                      <a:pt x="977" y="704"/>
                    </a:lnTo>
                    <a:lnTo>
                      <a:pt x="975" y="703"/>
                    </a:lnTo>
                    <a:lnTo>
                      <a:pt x="974" y="702"/>
                    </a:lnTo>
                    <a:lnTo>
                      <a:pt x="974" y="700"/>
                    </a:lnTo>
                    <a:lnTo>
                      <a:pt x="975" y="698"/>
                    </a:lnTo>
                    <a:lnTo>
                      <a:pt x="977" y="695"/>
                    </a:lnTo>
                    <a:close/>
                    <a:moveTo>
                      <a:pt x="2044" y="693"/>
                    </a:moveTo>
                    <a:lnTo>
                      <a:pt x="2044" y="693"/>
                    </a:lnTo>
                    <a:lnTo>
                      <a:pt x="2045" y="695"/>
                    </a:lnTo>
                    <a:lnTo>
                      <a:pt x="2045" y="697"/>
                    </a:lnTo>
                    <a:lnTo>
                      <a:pt x="2045" y="699"/>
                    </a:lnTo>
                    <a:lnTo>
                      <a:pt x="2044" y="702"/>
                    </a:lnTo>
                    <a:lnTo>
                      <a:pt x="2044" y="704"/>
                    </a:lnTo>
                    <a:lnTo>
                      <a:pt x="2044" y="705"/>
                    </a:lnTo>
                    <a:lnTo>
                      <a:pt x="2044" y="706"/>
                    </a:lnTo>
                    <a:lnTo>
                      <a:pt x="2045" y="708"/>
                    </a:lnTo>
                    <a:lnTo>
                      <a:pt x="2046" y="709"/>
                    </a:lnTo>
                    <a:lnTo>
                      <a:pt x="2046" y="711"/>
                    </a:lnTo>
                    <a:lnTo>
                      <a:pt x="2045" y="713"/>
                    </a:lnTo>
                    <a:lnTo>
                      <a:pt x="2044" y="715"/>
                    </a:lnTo>
                    <a:lnTo>
                      <a:pt x="2044" y="719"/>
                    </a:lnTo>
                    <a:lnTo>
                      <a:pt x="2044" y="721"/>
                    </a:lnTo>
                    <a:lnTo>
                      <a:pt x="2042" y="723"/>
                    </a:lnTo>
                    <a:lnTo>
                      <a:pt x="2040" y="725"/>
                    </a:lnTo>
                    <a:lnTo>
                      <a:pt x="2038" y="727"/>
                    </a:lnTo>
                    <a:lnTo>
                      <a:pt x="2036" y="731"/>
                    </a:lnTo>
                    <a:lnTo>
                      <a:pt x="2036" y="734"/>
                    </a:lnTo>
                    <a:lnTo>
                      <a:pt x="2035" y="738"/>
                    </a:lnTo>
                    <a:lnTo>
                      <a:pt x="2033" y="741"/>
                    </a:lnTo>
                    <a:lnTo>
                      <a:pt x="2032" y="743"/>
                    </a:lnTo>
                    <a:lnTo>
                      <a:pt x="2031" y="745"/>
                    </a:lnTo>
                    <a:lnTo>
                      <a:pt x="2030" y="748"/>
                    </a:lnTo>
                    <a:lnTo>
                      <a:pt x="2029" y="750"/>
                    </a:lnTo>
                    <a:lnTo>
                      <a:pt x="2027" y="753"/>
                    </a:lnTo>
                    <a:lnTo>
                      <a:pt x="2026" y="756"/>
                    </a:lnTo>
                    <a:lnTo>
                      <a:pt x="2013" y="784"/>
                    </a:lnTo>
                    <a:lnTo>
                      <a:pt x="2009" y="795"/>
                    </a:lnTo>
                    <a:lnTo>
                      <a:pt x="2003" y="806"/>
                    </a:lnTo>
                    <a:lnTo>
                      <a:pt x="1997" y="819"/>
                    </a:lnTo>
                    <a:lnTo>
                      <a:pt x="1996" y="821"/>
                    </a:lnTo>
                    <a:lnTo>
                      <a:pt x="1994" y="822"/>
                    </a:lnTo>
                    <a:lnTo>
                      <a:pt x="1992" y="824"/>
                    </a:lnTo>
                    <a:lnTo>
                      <a:pt x="1992" y="825"/>
                    </a:lnTo>
                    <a:lnTo>
                      <a:pt x="1989" y="828"/>
                    </a:lnTo>
                    <a:lnTo>
                      <a:pt x="1987" y="830"/>
                    </a:lnTo>
                    <a:lnTo>
                      <a:pt x="1985" y="832"/>
                    </a:lnTo>
                    <a:lnTo>
                      <a:pt x="1982" y="833"/>
                    </a:lnTo>
                    <a:lnTo>
                      <a:pt x="1980" y="833"/>
                    </a:lnTo>
                    <a:lnTo>
                      <a:pt x="1979" y="833"/>
                    </a:lnTo>
                    <a:lnTo>
                      <a:pt x="1978" y="831"/>
                    </a:lnTo>
                    <a:lnTo>
                      <a:pt x="1976" y="830"/>
                    </a:lnTo>
                    <a:lnTo>
                      <a:pt x="1975" y="829"/>
                    </a:lnTo>
                    <a:lnTo>
                      <a:pt x="1974" y="826"/>
                    </a:lnTo>
                    <a:lnTo>
                      <a:pt x="1974" y="824"/>
                    </a:lnTo>
                    <a:lnTo>
                      <a:pt x="1975" y="821"/>
                    </a:lnTo>
                    <a:lnTo>
                      <a:pt x="1976" y="819"/>
                    </a:lnTo>
                    <a:lnTo>
                      <a:pt x="1977" y="817"/>
                    </a:lnTo>
                    <a:lnTo>
                      <a:pt x="1977" y="815"/>
                    </a:lnTo>
                    <a:lnTo>
                      <a:pt x="1977" y="814"/>
                    </a:lnTo>
                    <a:lnTo>
                      <a:pt x="1977" y="813"/>
                    </a:lnTo>
                    <a:lnTo>
                      <a:pt x="1977" y="812"/>
                    </a:lnTo>
                    <a:lnTo>
                      <a:pt x="1977" y="810"/>
                    </a:lnTo>
                    <a:lnTo>
                      <a:pt x="1977" y="808"/>
                    </a:lnTo>
                    <a:lnTo>
                      <a:pt x="1978" y="806"/>
                    </a:lnTo>
                    <a:lnTo>
                      <a:pt x="1978" y="803"/>
                    </a:lnTo>
                    <a:lnTo>
                      <a:pt x="1980" y="802"/>
                    </a:lnTo>
                    <a:lnTo>
                      <a:pt x="1981" y="801"/>
                    </a:lnTo>
                    <a:lnTo>
                      <a:pt x="1982" y="799"/>
                    </a:lnTo>
                    <a:lnTo>
                      <a:pt x="1983" y="797"/>
                    </a:lnTo>
                    <a:lnTo>
                      <a:pt x="1985" y="795"/>
                    </a:lnTo>
                    <a:lnTo>
                      <a:pt x="1986" y="792"/>
                    </a:lnTo>
                    <a:lnTo>
                      <a:pt x="1991" y="782"/>
                    </a:lnTo>
                    <a:lnTo>
                      <a:pt x="1994" y="771"/>
                    </a:lnTo>
                    <a:lnTo>
                      <a:pt x="1996" y="767"/>
                    </a:lnTo>
                    <a:lnTo>
                      <a:pt x="1997" y="763"/>
                    </a:lnTo>
                    <a:lnTo>
                      <a:pt x="1999" y="758"/>
                    </a:lnTo>
                    <a:lnTo>
                      <a:pt x="1999" y="756"/>
                    </a:lnTo>
                    <a:lnTo>
                      <a:pt x="2000" y="754"/>
                    </a:lnTo>
                    <a:lnTo>
                      <a:pt x="2000" y="752"/>
                    </a:lnTo>
                    <a:lnTo>
                      <a:pt x="2001" y="749"/>
                    </a:lnTo>
                    <a:lnTo>
                      <a:pt x="2002" y="747"/>
                    </a:lnTo>
                    <a:lnTo>
                      <a:pt x="2004" y="745"/>
                    </a:lnTo>
                    <a:lnTo>
                      <a:pt x="2007" y="743"/>
                    </a:lnTo>
                    <a:lnTo>
                      <a:pt x="2009" y="741"/>
                    </a:lnTo>
                    <a:lnTo>
                      <a:pt x="2009" y="738"/>
                    </a:lnTo>
                    <a:lnTo>
                      <a:pt x="2011" y="736"/>
                    </a:lnTo>
                    <a:lnTo>
                      <a:pt x="2013" y="735"/>
                    </a:lnTo>
                    <a:lnTo>
                      <a:pt x="2015" y="734"/>
                    </a:lnTo>
                    <a:lnTo>
                      <a:pt x="2022" y="727"/>
                    </a:lnTo>
                    <a:lnTo>
                      <a:pt x="2023" y="726"/>
                    </a:lnTo>
                    <a:lnTo>
                      <a:pt x="2024" y="724"/>
                    </a:lnTo>
                    <a:lnTo>
                      <a:pt x="2026" y="722"/>
                    </a:lnTo>
                    <a:lnTo>
                      <a:pt x="2029" y="721"/>
                    </a:lnTo>
                    <a:lnTo>
                      <a:pt x="2031" y="719"/>
                    </a:lnTo>
                    <a:lnTo>
                      <a:pt x="2031" y="716"/>
                    </a:lnTo>
                    <a:lnTo>
                      <a:pt x="2031" y="715"/>
                    </a:lnTo>
                    <a:lnTo>
                      <a:pt x="2031" y="715"/>
                    </a:lnTo>
                    <a:lnTo>
                      <a:pt x="2030" y="715"/>
                    </a:lnTo>
                    <a:lnTo>
                      <a:pt x="2030" y="715"/>
                    </a:lnTo>
                    <a:lnTo>
                      <a:pt x="2029" y="713"/>
                    </a:lnTo>
                    <a:lnTo>
                      <a:pt x="2030" y="711"/>
                    </a:lnTo>
                    <a:lnTo>
                      <a:pt x="2031" y="709"/>
                    </a:lnTo>
                    <a:lnTo>
                      <a:pt x="2031" y="706"/>
                    </a:lnTo>
                    <a:lnTo>
                      <a:pt x="2033" y="705"/>
                    </a:lnTo>
                    <a:lnTo>
                      <a:pt x="2035" y="704"/>
                    </a:lnTo>
                    <a:lnTo>
                      <a:pt x="2037" y="702"/>
                    </a:lnTo>
                    <a:lnTo>
                      <a:pt x="2038" y="701"/>
                    </a:lnTo>
                    <a:lnTo>
                      <a:pt x="2040" y="699"/>
                    </a:lnTo>
                    <a:lnTo>
                      <a:pt x="2042" y="698"/>
                    </a:lnTo>
                    <a:lnTo>
                      <a:pt x="2042" y="695"/>
                    </a:lnTo>
                    <a:lnTo>
                      <a:pt x="2043" y="693"/>
                    </a:lnTo>
                    <a:lnTo>
                      <a:pt x="2044" y="693"/>
                    </a:lnTo>
                    <a:close/>
                    <a:moveTo>
                      <a:pt x="975" y="687"/>
                    </a:moveTo>
                    <a:lnTo>
                      <a:pt x="975" y="688"/>
                    </a:lnTo>
                    <a:lnTo>
                      <a:pt x="976" y="688"/>
                    </a:lnTo>
                    <a:lnTo>
                      <a:pt x="976" y="689"/>
                    </a:lnTo>
                    <a:lnTo>
                      <a:pt x="977" y="690"/>
                    </a:lnTo>
                    <a:lnTo>
                      <a:pt x="977" y="691"/>
                    </a:lnTo>
                    <a:lnTo>
                      <a:pt x="977" y="692"/>
                    </a:lnTo>
                    <a:lnTo>
                      <a:pt x="976" y="693"/>
                    </a:lnTo>
                    <a:lnTo>
                      <a:pt x="974" y="693"/>
                    </a:lnTo>
                    <a:lnTo>
                      <a:pt x="973" y="693"/>
                    </a:lnTo>
                    <a:lnTo>
                      <a:pt x="973" y="692"/>
                    </a:lnTo>
                    <a:lnTo>
                      <a:pt x="972" y="691"/>
                    </a:lnTo>
                    <a:lnTo>
                      <a:pt x="972" y="690"/>
                    </a:lnTo>
                    <a:lnTo>
                      <a:pt x="973" y="689"/>
                    </a:lnTo>
                    <a:lnTo>
                      <a:pt x="973" y="688"/>
                    </a:lnTo>
                    <a:lnTo>
                      <a:pt x="974" y="688"/>
                    </a:lnTo>
                    <a:lnTo>
                      <a:pt x="974" y="687"/>
                    </a:lnTo>
                    <a:lnTo>
                      <a:pt x="975" y="687"/>
                    </a:lnTo>
                    <a:close/>
                    <a:moveTo>
                      <a:pt x="717" y="687"/>
                    </a:moveTo>
                    <a:lnTo>
                      <a:pt x="722" y="688"/>
                    </a:lnTo>
                    <a:lnTo>
                      <a:pt x="725" y="689"/>
                    </a:lnTo>
                    <a:lnTo>
                      <a:pt x="728" y="689"/>
                    </a:lnTo>
                    <a:lnTo>
                      <a:pt x="732" y="690"/>
                    </a:lnTo>
                    <a:lnTo>
                      <a:pt x="736" y="690"/>
                    </a:lnTo>
                    <a:lnTo>
                      <a:pt x="739" y="689"/>
                    </a:lnTo>
                    <a:lnTo>
                      <a:pt x="743" y="689"/>
                    </a:lnTo>
                    <a:lnTo>
                      <a:pt x="746" y="690"/>
                    </a:lnTo>
                    <a:lnTo>
                      <a:pt x="748" y="691"/>
                    </a:lnTo>
                    <a:lnTo>
                      <a:pt x="748" y="693"/>
                    </a:lnTo>
                    <a:lnTo>
                      <a:pt x="747" y="693"/>
                    </a:lnTo>
                    <a:lnTo>
                      <a:pt x="745" y="694"/>
                    </a:lnTo>
                    <a:lnTo>
                      <a:pt x="743" y="694"/>
                    </a:lnTo>
                    <a:lnTo>
                      <a:pt x="741" y="694"/>
                    </a:lnTo>
                    <a:lnTo>
                      <a:pt x="738" y="694"/>
                    </a:lnTo>
                    <a:lnTo>
                      <a:pt x="736" y="694"/>
                    </a:lnTo>
                    <a:lnTo>
                      <a:pt x="726" y="694"/>
                    </a:lnTo>
                    <a:lnTo>
                      <a:pt x="724" y="694"/>
                    </a:lnTo>
                    <a:lnTo>
                      <a:pt x="722" y="693"/>
                    </a:lnTo>
                    <a:lnTo>
                      <a:pt x="721" y="693"/>
                    </a:lnTo>
                    <a:lnTo>
                      <a:pt x="717" y="692"/>
                    </a:lnTo>
                    <a:lnTo>
                      <a:pt x="715" y="692"/>
                    </a:lnTo>
                    <a:lnTo>
                      <a:pt x="714" y="691"/>
                    </a:lnTo>
                    <a:lnTo>
                      <a:pt x="714" y="690"/>
                    </a:lnTo>
                    <a:lnTo>
                      <a:pt x="714" y="689"/>
                    </a:lnTo>
                    <a:lnTo>
                      <a:pt x="715" y="688"/>
                    </a:lnTo>
                    <a:lnTo>
                      <a:pt x="716" y="687"/>
                    </a:lnTo>
                    <a:lnTo>
                      <a:pt x="717" y="687"/>
                    </a:lnTo>
                    <a:close/>
                    <a:moveTo>
                      <a:pt x="1946" y="676"/>
                    </a:moveTo>
                    <a:lnTo>
                      <a:pt x="1946" y="676"/>
                    </a:lnTo>
                    <a:lnTo>
                      <a:pt x="1945" y="677"/>
                    </a:lnTo>
                    <a:lnTo>
                      <a:pt x="1944" y="679"/>
                    </a:lnTo>
                    <a:lnTo>
                      <a:pt x="1943" y="681"/>
                    </a:lnTo>
                    <a:lnTo>
                      <a:pt x="1942" y="684"/>
                    </a:lnTo>
                    <a:lnTo>
                      <a:pt x="1941" y="687"/>
                    </a:lnTo>
                    <a:lnTo>
                      <a:pt x="1939" y="690"/>
                    </a:lnTo>
                    <a:lnTo>
                      <a:pt x="1938" y="693"/>
                    </a:lnTo>
                    <a:lnTo>
                      <a:pt x="1938" y="697"/>
                    </a:lnTo>
                    <a:lnTo>
                      <a:pt x="1938" y="699"/>
                    </a:lnTo>
                    <a:lnTo>
                      <a:pt x="1939" y="700"/>
                    </a:lnTo>
                    <a:lnTo>
                      <a:pt x="1941" y="701"/>
                    </a:lnTo>
                    <a:lnTo>
                      <a:pt x="1943" y="702"/>
                    </a:lnTo>
                    <a:lnTo>
                      <a:pt x="1944" y="703"/>
                    </a:lnTo>
                    <a:lnTo>
                      <a:pt x="1944" y="704"/>
                    </a:lnTo>
                    <a:lnTo>
                      <a:pt x="1944" y="704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5" y="702"/>
                    </a:lnTo>
                    <a:lnTo>
                      <a:pt x="1945" y="701"/>
                    </a:lnTo>
                    <a:lnTo>
                      <a:pt x="1944" y="701"/>
                    </a:lnTo>
                    <a:lnTo>
                      <a:pt x="1944" y="683"/>
                    </a:lnTo>
                    <a:lnTo>
                      <a:pt x="1946" y="681"/>
                    </a:lnTo>
                    <a:lnTo>
                      <a:pt x="1946" y="679"/>
                    </a:lnTo>
                    <a:lnTo>
                      <a:pt x="1946" y="677"/>
                    </a:lnTo>
                    <a:lnTo>
                      <a:pt x="1946" y="676"/>
                    </a:lnTo>
                    <a:lnTo>
                      <a:pt x="1946" y="676"/>
                    </a:lnTo>
                    <a:close/>
                    <a:moveTo>
                      <a:pt x="1012" y="661"/>
                    </a:moveTo>
                    <a:lnTo>
                      <a:pt x="1015" y="661"/>
                    </a:lnTo>
                    <a:lnTo>
                      <a:pt x="1016" y="662"/>
                    </a:lnTo>
                    <a:lnTo>
                      <a:pt x="1017" y="665"/>
                    </a:lnTo>
                    <a:lnTo>
                      <a:pt x="1018" y="666"/>
                    </a:lnTo>
                    <a:lnTo>
                      <a:pt x="1017" y="667"/>
                    </a:lnTo>
                    <a:lnTo>
                      <a:pt x="1016" y="667"/>
                    </a:lnTo>
                    <a:lnTo>
                      <a:pt x="1014" y="667"/>
                    </a:lnTo>
                    <a:lnTo>
                      <a:pt x="1011" y="666"/>
                    </a:lnTo>
                    <a:lnTo>
                      <a:pt x="1010" y="666"/>
                    </a:lnTo>
                    <a:lnTo>
                      <a:pt x="1009" y="665"/>
                    </a:lnTo>
                    <a:lnTo>
                      <a:pt x="1008" y="664"/>
                    </a:lnTo>
                    <a:lnTo>
                      <a:pt x="1010" y="661"/>
                    </a:lnTo>
                    <a:lnTo>
                      <a:pt x="1012" y="661"/>
                    </a:lnTo>
                    <a:close/>
                    <a:moveTo>
                      <a:pt x="75" y="659"/>
                    </a:moveTo>
                    <a:lnTo>
                      <a:pt x="77" y="659"/>
                    </a:lnTo>
                    <a:lnTo>
                      <a:pt x="80" y="660"/>
                    </a:lnTo>
                    <a:lnTo>
                      <a:pt x="83" y="661"/>
                    </a:lnTo>
                    <a:lnTo>
                      <a:pt x="86" y="661"/>
                    </a:lnTo>
                    <a:lnTo>
                      <a:pt x="86" y="665"/>
                    </a:lnTo>
                    <a:lnTo>
                      <a:pt x="88" y="667"/>
                    </a:lnTo>
                    <a:lnTo>
                      <a:pt x="89" y="669"/>
                    </a:lnTo>
                    <a:lnTo>
                      <a:pt x="90" y="670"/>
                    </a:lnTo>
                    <a:lnTo>
                      <a:pt x="91" y="672"/>
                    </a:lnTo>
                    <a:lnTo>
                      <a:pt x="89" y="673"/>
                    </a:lnTo>
                    <a:lnTo>
                      <a:pt x="88" y="675"/>
                    </a:lnTo>
                    <a:lnTo>
                      <a:pt x="86" y="673"/>
                    </a:lnTo>
                    <a:lnTo>
                      <a:pt x="83" y="673"/>
                    </a:lnTo>
                    <a:lnTo>
                      <a:pt x="81" y="672"/>
                    </a:lnTo>
                    <a:lnTo>
                      <a:pt x="79" y="670"/>
                    </a:lnTo>
                    <a:lnTo>
                      <a:pt x="78" y="669"/>
                    </a:lnTo>
                    <a:lnTo>
                      <a:pt x="76" y="667"/>
                    </a:lnTo>
                    <a:lnTo>
                      <a:pt x="75" y="665"/>
                    </a:lnTo>
                    <a:lnTo>
                      <a:pt x="73" y="662"/>
                    </a:lnTo>
                    <a:lnTo>
                      <a:pt x="73" y="660"/>
                    </a:lnTo>
                    <a:lnTo>
                      <a:pt x="75" y="659"/>
                    </a:lnTo>
                    <a:close/>
                    <a:moveTo>
                      <a:pt x="50" y="647"/>
                    </a:moveTo>
                    <a:lnTo>
                      <a:pt x="51" y="648"/>
                    </a:lnTo>
                    <a:lnTo>
                      <a:pt x="55" y="649"/>
                    </a:lnTo>
                    <a:lnTo>
                      <a:pt x="57" y="652"/>
                    </a:lnTo>
                    <a:lnTo>
                      <a:pt x="58" y="655"/>
                    </a:lnTo>
                    <a:lnTo>
                      <a:pt x="59" y="657"/>
                    </a:lnTo>
                    <a:lnTo>
                      <a:pt x="60" y="658"/>
                    </a:lnTo>
                    <a:lnTo>
                      <a:pt x="61" y="659"/>
                    </a:lnTo>
                    <a:lnTo>
                      <a:pt x="61" y="660"/>
                    </a:lnTo>
                    <a:lnTo>
                      <a:pt x="61" y="662"/>
                    </a:lnTo>
                    <a:lnTo>
                      <a:pt x="60" y="665"/>
                    </a:lnTo>
                    <a:lnTo>
                      <a:pt x="59" y="666"/>
                    </a:lnTo>
                    <a:lnTo>
                      <a:pt x="58" y="666"/>
                    </a:lnTo>
                    <a:lnTo>
                      <a:pt x="56" y="665"/>
                    </a:lnTo>
                    <a:lnTo>
                      <a:pt x="54" y="665"/>
                    </a:lnTo>
                    <a:lnTo>
                      <a:pt x="51" y="662"/>
                    </a:lnTo>
                    <a:lnTo>
                      <a:pt x="50" y="660"/>
                    </a:lnTo>
                    <a:lnTo>
                      <a:pt x="48" y="657"/>
                    </a:lnTo>
                    <a:lnTo>
                      <a:pt x="48" y="654"/>
                    </a:lnTo>
                    <a:lnTo>
                      <a:pt x="47" y="651"/>
                    </a:lnTo>
                    <a:lnTo>
                      <a:pt x="48" y="649"/>
                    </a:lnTo>
                    <a:lnTo>
                      <a:pt x="48" y="648"/>
                    </a:lnTo>
                    <a:lnTo>
                      <a:pt x="50" y="647"/>
                    </a:lnTo>
                    <a:close/>
                    <a:moveTo>
                      <a:pt x="997" y="640"/>
                    </a:moveTo>
                    <a:lnTo>
                      <a:pt x="997" y="640"/>
                    </a:lnTo>
                    <a:lnTo>
                      <a:pt x="997" y="641"/>
                    </a:lnTo>
                    <a:lnTo>
                      <a:pt x="997" y="644"/>
                    </a:lnTo>
                    <a:lnTo>
                      <a:pt x="996" y="645"/>
                    </a:lnTo>
                    <a:lnTo>
                      <a:pt x="995" y="646"/>
                    </a:lnTo>
                    <a:lnTo>
                      <a:pt x="993" y="647"/>
                    </a:lnTo>
                    <a:lnTo>
                      <a:pt x="992" y="646"/>
                    </a:lnTo>
                    <a:lnTo>
                      <a:pt x="992" y="645"/>
                    </a:lnTo>
                    <a:lnTo>
                      <a:pt x="992" y="643"/>
                    </a:lnTo>
                    <a:lnTo>
                      <a:pt x="994" y="641"/>
                    </a:lnTo>
                    <a:lnTo>
                      <a:pt x="995" y="640"/>
                    </a:lnTo>
                    <a:lnTo>
                      <a:pt x="997" y="640"/>
                    </a:lnTo>
                    <a:close/>
                    <a:moveTo>
                      <a:pt x="866" y="633"/>
                    </a:moveTo>
                    <a:lnTo>
                      <a:pt x="867" y="633"/>
                    </a:lnTo>
                    <a:lnTo>
                      <a:pt x="868" y="634"/>
                    </a:lnTo>
                    <a:lnTo>
                      <a:pt x="869" y="635"/>
                    </a:lnTo>
                    <a:lnTo>
                      <a:pt x="870" y="636"/>
                    </a:lnTo>
                    <a:lnTo>
                      <a:pt x="872" y="637"/>
                    </a:lnTo>
                    <a:lnTo>
                      <a:pt x="874" y="637"/>
                    </a:lnTo>
                    <a:lnTo>
                      <a:pt x="875" y="639"/>
                    </a:lnTo>
                    <a:lnTo>
                      <a:pt x="875" y="640"/>
                    </a:lnTo>
                    <a:lnTo>
                      <a:pt x="876" y="643"/>
                    </a:lnTo>
                    <a:lnTo>
                      <a:pt x="878" y="644"/>
                    </a:lnTo>
                    <a:lnTo>
                      <a:pt x="880" y="644"/>
                    </a:lnTo>
                    <a:lnTo>
                      <a:pt x="888" y="644"/>
                    </a:lnTo>
                    <a:lnTo>
                      <a:pt x="890" y="645"/>
                    </a:lnTo>
                    <a:lnTo>
                      <a:pt x="891" y="646"/>
                    </a:lnTo>
                    <a:lnTo>
                      <a:pt x="890" y="647"/>
                    </a:lnTo>
                    <a:lnTo>
                      <a:pt x="889" y="648"/>
                    </a:lnTo>
                    <a:lnTo>
                      <a:pt x="887" y="649"/>
                    </a:lnTo>
                    <a:lnTo>
                      <a:pt x="885" y="650"/>
                    </a:lnTo>
                    <a:lnTo>
                      <a:pt x="883" y="651"/>
                    </a:lnTo>
                    <a:lnTo>
                      <a:pt x="881" y="652"/>
                    </a:lnTo>
                    <a:lnTo>
                      <a:pt x="880" y="654"/>
                    </a:lnTo>
                    <a:lnTo>
                      <a:pt x="874" y="655"/>
                    </a:lnTo>
                    <a:lnTo>
                      <a:pt x="867" y="657"/>
                    </a:lnTo>
                    <a:lnTo>
                      <a:pt x="861" y="658"/>
                    </a:lnTo>
                    <a:lnTo>
                      <a:pt x="858" y="658"/>
                    </a:lnTo>
                    <a:lnTo>
                      <a:pt x="856" y="658"/>
                    </a:lnTo>
                    <a:lnTo>
                      <a:pt x="854" y="658"/>
                    </a:lnTo>
                    <a:lnTo>
                      <a:pt x="852" y="660"/>
                    </a:lnTo>
                    <a:lnTo>
                      <a:pt x="851" y="661"/>
                    </a:lnTo>
                    <a:lnTo>
                      <a:pt x="851" y="662"/>
                    </a:lnTo>
                    <a:lnTo>
                      <a:pt x="851" y="664"/>
                    </a:lnTo>
                    <a:lnTo>
                      <a:pt x="850" y="664"/>
                    </a:lnTo>
                    <a:lnTo>
                      <a:pt x="847" y="665"/>
                    </a:lnTo>
                    <a:lnTo>
                      <a:pt x="845" y="667"/>
                    </a:lnTo>
                    <a:lnTo>
                      <a:pt x="844" y="668"/>
                    </a:lnTo>
                    <a:lnTo>
                      <a:pt x="843" y="670"/>
                    </a:lnTo>
                    <a:lnTo>
                      <a:pt x="842" y="672"/>
                    </a:lnTo>
                    <a:lnTo>
                      <a:pt x="841" y="673"/>
                    </a:lnTo>
                    <a:lnTo>
                      <a:pt x="839" y="675"/>
                    </a:lnTo>
                    <a:lnTo>
                      <a:pt x="836" y="676"/>
                    </a:lnTo>
                    <a:lnTo>
                      <a:pt x="831" y="676"/>
                    </a:lnTo>
                    <a:lnTo>
                      <a:pt x="824" y="676"/>
                    </a:lnTo>
                    <a:lnTo>
                      <a:pt x="818" y="678"/>
                    </a:lnTo>
                    <a:lnTo>
                      <a:pt x="807" y="683"/>
                    </a:lnTo>
                    <a:lnTo>
                      <a:pt x="796" y="684"/>
                    </a:lnTo>
                    <a:lnTo>
                      <a:pt x="783" y="684"/>
                    </a:lnTo>
                    <a:lnTo>
                      <a:pt x="781" y="684"/>
                    </a:lnTo>
                    <a:lnTo>
                      <a:pt x="780" y="683"/>
                    </a:lnTo>
                    <a:lnTo>
                      <a:pt x="780" y="682"/>
                    </a:lnTo>
                    <a:lnTo>
                      <a:pt x="781" y="681"/>
                    </a:lnTo>
                    <a:lnTo>
                      <a:pt x="782" y="680"/>
                    </a:lnTo>
                    <a:lnTo>
                      <a:pt x="785" y="679"/>
                    </a:lnTo>
                    <a:lnTo>
                      <a:pt x="787" y="678"/>
                    </a:lnTo>
                    <a:lnTo>
                      <a:pt x="789" y="678"/>
                    </a:lnTo>
                    <a:lnTo>
                      <a:pt x="792" y="678"/>
                    </a:lnTo>
                    <a:lnTo>
                      <a:pt x="795" y="678"/>
                    </a:lnTo>
                    <a:lnTo>
                      <a:pt x="797" y="678"/>
                    </a:lnTo>
                    <a:lnTo>
                      <a:pt x="798" y="676"/>
                    </a:lnTo>
                    <a:lnTo>
                      <a:pt x="799" y="675"/>
                    </a:lnTo>
                    <a:lnTo>
                      <a:pt x="801" y="672"/>
                    </a:lnTo>
                    <a:lnTo>
                      <a:pt x="804" y="671"/>
                    </a:lnTo>
                    <a:lnTo>
                      <a:pt x="807" y="670"/>
                    </a:lnTo>
                    <a:lnTo>
                      <a:pt x="809" y="670"/>
                    </a:lnTo>
                    <a:lnTo>
                      <a:pt x="811" y="669"/>
                    </a:lnTo>
                    <a:lnTo>
                      <a:pt x="813" y="669"/>
                    </a:lnTo>
                    <a:lnTo>
                      <a:pt x="814" y="668"/>
                    </a:lnTo>
                    <a:lnTo>
                      <a:pt x="815" y="667"/>
                    </a:lnTo>
                    <a:lnTo>
                      <a:pt x="813" y="662"/>
                    </a:lnTo>
                    <a:lnTo>
                      <a:pt x="811" y="659"/>
                    </a:lnTo>
                    <a:lnTo>
                      <a:pt x="809" y="656"/>
                    </a:lnTo>
                    <a:lnTo>
                      <a:pt x="808" y="654"/>
                    </a:lnTo>
                    <a:lnTo>
                      <a:pt x="808" y="651"/>
                    </a:lnTo>
                    <a:lnTo>
                      <a:pt x="808" y="649"/>
                    </a:lnTo>
                    <a:lnTo>
                      <a:pt x="809" y="646"/>
                    </a:lnTo>
                    <a:lnTo>
                      <a:pt x="809" y="644"/>
                    </a:lnTo>
                    <a:lnTo>
                      <a:pt x="809" y="641"/>
                    </a:lnTo>
                    <a:lnTo>
                      <a:pt x="812" y="641"/>
                    </a:lnTo>
                    <a:lnTo>
                      <a:pt x="815" y="641"/>
                    </a:lnTo>
                    <a:lnTo>
                      <a:pt x="818" y="640"/>
                    </a:lnTo>
                    <a:lnTo>
                      <a:pt x="820" y="640"/>
                    </a:lnTo>
                    <a:lnTo>
                      <a:pt x="822" y="639"/>
                    </a:lnTo>
                    <a:lnTo>
                      <a:pt x="825" y="640"/>
                    </a:lnTo>
                    <a:lnTo>
                      <a:pt x="829" y="640"/>
                    </a:lnTo>
                    <a:lnTo>
                      <a:pt x="832" y="640"/>
                    </a:lnTo>
                    <a:lnTo>
                      <a:pt x="834" y="639"/>
                    </a:lnTo>
                    <a:lnTo>
                      <a:pt x="845" y="638"/>
                    </a:lnTo>
                    <a:lnTo>
                      <a:pt x="855" y="636"/>
                    </a:lnTo>
                    <a:lnTo>
                      <a:pt x="865" y="633"/>
                    </a:lnTo>
                    <a:lnTo>
                      <a:pt x="866" y="633"/>
                    </a:lnTo>
                    <a:close/>
                    <a:moveTo>
                      <a:pt x="1533" y="625"/>
                    </a:moveTo>
                    <a:lnTo>
                      <a:pt x="1534" y="626"/>
                    </a:lnTo>
                    <a:lnTo>
                      <a:pt x="1535" y="627"/>
                    </a:lnTo>
                    <a:lnTo>
                      <a:pt x="1535" y="628"/>
                    </a:lnTo>
                    <a:lnTo>
                      <a:pt x="1535" y="630"/>
                    </a:lnTo>
                    <a:lnTo>
                      <a:pt x="1535" y="633"/>
                    </a:lnTo>
                    <a:lnTo>
                      <a:pt x="1534" y="635"/>
                    </a:lnTo>
                    <a:lnTo>
                      <a:pt x="1533" y="637"/>
                    </a:lnTo>
                    <a:lnTo>
                      <a:pt x="1532" y="638"/>
                    </a:lnTo>
                    <a:lnTo>
                      <a:pt x="1531" y="638"/>
                    </a:lnTo>
                    <a:lnTo>
                      <a:pt x="1530" y="636"/>
                    </a:lnTo>
                    <a:lnTo>
                      <a:pt x="1530" y="635"/>
                    </a:lnTo>
                    <a:lnTo>
                      <a:pt x="1530" y="632"/>
                    </a:lnTo>
                    <a:lnTo>
                      <a:pt x="1530" y="629"/>
                    </a:lnTo>
                    <a:lnTo>
                      <a:pt x="1531" y="627"/>
                    </a:lnTo>
                    <a:lnTo>
                      <a:pt x="1532" y="626"/>
                    </a:lnTo>
                    <a:lnTo>
                      <a:pt x="1533" y="625"/>
                    </a:lnTo>
                    <a:close/>
                    <a:moveTo>
                      <a:pt x="790" y="624"/>
                    </a:moveTo>
                    <a:lnTo>
                      <a:pt x="792" y="624"/>
                    </a:lnTo>
                    <a:lnTo>
                      <a:pt x="793" y="625"/>
                    </a:lnTo>
                    <a:lnTo>
                      <a:pt x="793" y="625"/>
                    </a:lnTo>
                    <a:lnTo>
                      <a:pt x="793" y="626"/>
                    </a:lnTo>
                    <a:lnTo>
                      <a:pt x="793" y="628"/>
                    </a:lnTo>
                    <a:lnTo>
                      <a:pt x="792" y="629"/>
                    </a:lnTo>
                    <a:lnTo>
                      <a:pt x="791" y="630"/>
                    </a:lnTo>
                    <a:lnTo>
                      <a:pt x="790" y="629"/>
                    </a:lnTo>
                    <a:lnTo>
                      <a:pt x="789" y="628"/>
                    </a:lnTo>
                    <a:lnTo>
                      <a:pt x="788" y="626"/>
                    </a:lnTo>
                    <a:lnTo>
                      <a:pt x="789" y="625"/>
                    </a:lnTo>
                    <a:lnTo>
                      <a:pt x="789" y="624"/>
                    </a:lnTo>
                    <a:lnTo>
                      <a:pt x="790" y="624"/>
                    </a:lnTo>
                    <a:close/>
                    <a:moveTo>
                      <a:pt x="945" y="623"/>
                    </a:moveTo>
                    <a:lnTo>
                      <a:pt x="949" y="623"/>
                    </a:lnTo>
                    <a:lnTo>
                      <a:pt x="951" y="624"/>
                    </a:lnTo>
                    <a:lnTo>
                      <a:pt x="952" y="626"/>
                    </a:lnTo>
                    <a:lnTo>
                      <a:pt x="953" y="628"/>
                    </a:lnTo>
                    <a:lnTo>
                      <a:pt x="951" y="630"/>
                    </a:lnTo>
                    <a:lnTo>
                      <a:pt x="945" y="633"/>
                    </a:lnTo>
                    <a:lnTo>
                      <a:pt x="939" y="635"/>
                    </a:lnTo>
                    <a:lnTo>
                      <a:pt x="932" y="635"/>
                    </a:lnTo>
                    <a:lnTo>
                      <a:pt x="927" y="633"/>
                    </a:lnTo>
                    <a:lnTo>
                      <a:pt x="924" y="628"/>
                    </a:lnTo>
                    <a:lnTo>
                      <a:pt x="926" y="627"/>
                    </a:lnTo>
                    <a:lnTo>
                      <a:pt x="926" y="626"/>
                    </a:lnTo>
                    <a:lnTo>
                      <a:pt x="927" y="626"/>
                    </a:lnTo>
                    <a:lnTo>
                      <a:pt x="928" y="626"/>
                    </a:lnTo>
                    <a:lnTo>
                      <a:pt x="929" y="627"/>
                    </a:lnTo>
                    <a:lnTo>
                      <a:pt x="930" y="628"/>
                    </a:lnTo>
                    <a:lnTo>
                      <a:pt x="932" y="628"/>
                    </a:lnTo>
                    <a:lnTo>
                      <a:pt x="935" y="626"/>
                    </a:lnTo>
                    <a:lnTo>
                      <a:pt x="938" y="624"/>
                    </a:lnTo>
                    <a:lnTo>
                      <a:pt x="940" y="623"/>
                    </a:lnTo>
                    <a:lnTo>
                      <a:pt x="943" y="623"/>
                    </a:lnTo>
                    <a:lnTo>
                      <a:pt x="945" y="623"/>
                    </a:lnTo>
                    <a:close/>
                    <a:moveTo>
                      <a:pt x="1991" y="617"/>
                    </a:moveTo>
                    <a:lnTo>
                      <a:pt x="1990" y="618"/>
                    </a:lnTo>
                    <a:lnTo>
                      <a:pt x="1987" y="618"/>
                    </a:lnTo>
                    <a:lnTo>
                      <a:pt x="1983" y="618"/>
                    </a:lnTo>
                    <a:lnTo>
                      <a:pt x="1981" y="621"/>
                    </a:lnTo>
                    <a:lnTo>
                      <a:pt x="1979" y="621"/>
                    </a:lnTo>
                    <a:lnTo>
                      <a:pt x="1978" y="622"/>
                    </a:lnTo>
                    <a:lnTo>
                      <a:pt x="1977" y="623"/>
                    </a:lnTo>
                    <a:lnTo>
                      <a:pt x="1976" y="624"/>
                    </a:lnTo>
                    <a:lnTo>
                      <a:pt x="1975" y="627"/>
                    </a:lnTo>
                    <a:lnTo>
                      <a:pt x="1972" y="632"/>
                    </a:lnTo>
                    <a:lnTo>
                      <a:pt x="1970" y="637"/>
                    </a:lnTo>
                    <a:lnTo>
                      <a:pt x="1968" y="643"/>
                    </a:lnTo>
                    <a:lnTo>
                      <a:pt x="1968" y="646"/>
                    </a:lnTo>
                    <a:lnTo>
                      <a:pt x="1970" y="646"/>
                    </a:lnTo>
                    <a:lnTo>
                      <a:pt x="1972" y="646"/>
                    </a:lnTo>
                    <a:lnTo>
                      <a:pt x="1975" y="644"/>
                    </a:lnTo>
                    <a:lnTo>
                      <a:pt x="1977" y="643"/>
                    </a:lnTo>
                    <a:lnTo>
                      <a:pt x="1978" y="641"/>
                    </a:lnTo>
                    <a:lnTo>
                      <a:pt x="1979" y="641"/>
                    </a:lnTo>
                    <a:lnTo>
                      <a:pt x="1979" y="639"/>
                    </a:lnTo>
                    <a:lnTo>
                      <a:pt x="1981" y="638"/>
                    </a:lnTo>
                    <a:lnTo>
                      <a:pt x="1981" y="637"/>
                    </a:lnTo>
                    <a:lnTo>
                      <a:pt x="1982" y="636"/>
                    </a:lnTo>
                    <a:lnTo>
                      <a:pt x="1983" y="636"/>
                    </a:lnTo>
                    <a:lnTo>
                      <a:pt x="1986" y="633"/>
                    </a:lnTo>
                    <a:lnTo>
                      <a:pt x="1988" y="628"/>
                    </a:lnTo>
                    <a:lnTo>
                      <a:pt x="1990" y="625"/>
                    </a:lnTo>
                    <a:lnTo>
                      <a:pt x="1990" y="623"/>
                    </a:lnTo>
                    <a:lnTo>
                      <a:pt x="1991" y="622"/>
                    </a:lnTo>
                    <a:lnTo>
                      <a:pt x="1991" y="621"/>
                    </a:lnTo>
                    <a:lnTo>
                      <a:pt x="1991" y="618"/>
                    </a:lnTo>
                    <a:lnTo>
                      <a:pt x="1991" y="618"/>
                    </a:lnTo>
                    <a:lnTo>
                      <a:pt x="1991" y="617"/>
                    </a:lnTo>
                    <a:close/>
                    <a:moveTo>
                      <a:pt x="659" y="613"/>
                    </a:moveTo>
                    <a:lnTo>
                      <a:pt x="661" y="613"/>
                    </a:lnTo>
                    <a:lnTo>
                      <a:pt x="663" y="613"/>
                    </a:lnTo>
                    <a:lnTo>
                      <a:pt x="667" y="613"/>
                    </a:lnTo>
                    <a:lnTo>
                      <a:pt x="668" y="615"/>
                    </a:lnTo>
                    <a:lnTo>
                      <a:pt x="670" y="615"/>
                    </a:lnTo>
                    <a:lnTo>
                      <a:pt x="672" y="616"/>
                    </a:lnTo>
                    <a:lnTo>
                      <a:pt x="675" y="616"/>
                    </a:lnTo>
                    <a:lnTo>
                      <a:pt x="677" y="616"/>
                    </a:lnTo>
                    <a:lnTo>
                      <a:pt x="679" y="617"/>
                    </a:lnTo>
                    <a:lnTo>
                      <a:pt x="689" y="618"/>
                    </a:lnTo>
                    <a:lnTo>
                      <a:pt x="698" y="622"/>
                    </a:lnTo>
                    <a:lnTo>
                      <a:pt x="700" y="623"/>
                    </a:lnTo>
                    <a:lnTo>
                      <a:pt x="703" y="623"/>
                    </a:lnTo>
                    <a:lnTo>
                      <a:pt x="705" y="623"/>
                    </a:lnTo>
                    <a:lnTo>
                      <a:pt x="709" y="623"/>
                    </a:lnTo>
                    <a:lnTo>
                      <a:pt x="713" y="624"/>
                    </a:lnTo>
                    <a:lnTo>
                      <a:pt x="715" y="625"/>
                    </a:lnTo>
                    <a:lnTo>
                      <a:pt x="717" y="627"/>
                    </a:lnTo>
                    <a:lnTo>
                      <a:pt x="720" y="629"/>
                    </a:lnTo>
                    <a:lnTo>
                      <a:pt x="723" y="630"/>
                    </a:lnTo>
                    <a:lnTo>
                      <a:pt x="726" y="630"/>
                    </a:lnTo>
                    <a:lnTo>
                      <a:pt x="731" y="633"/>
                    </a:lnTo>
                    <a:lnTo>
                      <a:pt x="735" y="633"/>
                    </a:lnTo>
                    <a:lnTo>
                      <a:pt x="739" y="633"/>
                    </a:lnTo>
                    <a:lnTo>
                      <a:pt x="747" y="636"/>
                    </a:lnTo>
                    <a:lnTo>
                      <a:pt x="755" y="637"/>
                    </a:lnTo>
                    <a:lnTo>
                      <a:pt x="761" y="638"/>
                    </a:lnTo>
                    <a:lnTo>
                      <a:pt x="767" y="641"/>
                    </a:lnTo>
                    <a:lnTo>
                      <a:pt x="774" y="643"/>
                    </a:lnTo>
                    <a:lnTo>
                      <a:pt x="779" y="643"/>
                    </a:lnTo>
                    <a:lnTo>
                      <a:pt x="782" y="644"/>
                    </a:lnTo>
                    <a:lnTo>
                      <a:pt x="783" y="646"/>
                    </a:lnTo>
                    <a:lnTo>
                      <a:pt x="783" y="647"/>
                    </a:lnTo>
                    <a:lnTo>
                      <a:pt x="782" y="649"/>
                    </a:lnTo>
                    <a:lnTo>
                      <a:pt x="779" y="651"/>
                    </a:lnTo>
                    <a:lnTo>
                      <a:pt x="770" y="656"/>
                    </a:lnTo>
                    <a:lnTo>
                      <a:pt x="760" y="659"/>
                    </a:lnTo>
                    <a:lnTo>
                      <a:pt x="749" y="661"/>
                    </a:lnTo>
                    <a:lnTo>
                      <a:pt x="739" y="661"/>
                    </a:lnTo>
                    <a:lnTo>
                      <a:pt x="736" y="660"/>
                    </a:lnTo>
                    <a:lnTo>
                      <a:pt x="734" y="659"/>
                    </a:lnTo>
                    <a:lnTo>
                      <a:pt x="732" y="658"/>
                    </a:lnTo>
                    <a:lnTo>
                      <a:pt x="730" y="658"/>
                    </a:lnTo>
                    <a:lnTo>
                      <a:pt x="728" y="659"/>
                    </a:lnTo>
                    <a:lnTo>
                      <a:pt x="726" y="661"/>
                    </a:lnTo>
                    <a:lnTo>
                      <a:pt x="725" y="664"/>
                    </a:lnTo>
                    <a:lnTo>
                      <a:pt x="723" y="666"/>
                    </a:lnTo>
                    <a:lnTo>
                      <a:pt x="721" y="667"/>
                    </a:lnTo>
                    <a:lnTo>
                      <a:pt x="719" y="668"/>
                    </a:lnTo>
                    <a:lnTo>
                      <a:pt x="715" y="668"/>
                    </a:lnTo>
                    <a:lnTo>
                      <a:pt x="715" y="666"/>
                    </a:lnTo>
                    <a:lnTo>
                      <a:pt x="715" y="662"/>
                    </a:lnTo>
                    <a:lnTo>
                      <a:pt x="714" y="659"/>
                    </a:lnTo>
                    <a:lnTo>
                      <a:pt x="713" y="656"/>
                    </a:lnTo>
                    <a:lnTo>
                      <a:pt x="712" y="654"/>
                    </a:lnTo>
                    <a:lnTo>
                      <a:pt x="711" y="651"/>
                    </a:lnTo>
                    <a:lnTo>
                      <a:pt x="709" y="650"/>
                    </a:lnTo>
                    <a:lnTo>
                      <a:pt x="706" y="650"/>
                    </a:lnTo>
                    <a:lnTo>
                      <a:pt x="703" y="649"/>
                    </a:lnTo>
                    <a:lnTo>
                      <a:pt x="701" y="649"/>
                    </a:lnTo>
                    <a:lnTo>
                      <a:pt x="700" y="649"/>
                    </a:lnTo>
                    <a:lnTo>
                      <a:pt x="693" y="644"/>
                    </a:lnTo>
                    <a:lnTo>
                      <a:pt x="687" y="639"/>
                    </a:lnTo>
                    <a:lnTo>
                      <a:pt x="679" y="636"/>
                    </a:lnTo>
                    <a:lnTo>
                      <a:pt x="678" y="635"/>
                    </a:lnTo>
                    <a:lnTo>
                      <a:pt x="677" y="636"/>
                    </a:lnTo>
                    <a:lnTo>
                      <a:pt x="675" y="637"/>
                    </a:lnTo>
                    <a:lnTo>
                      <a:pt x="673" y="638"/>
                    </a:lnTo>
                    <a:lnTo>
                      <a:pt x="672" y="639"/>
                    </a:lnTo>
                    <a:lnTo>
                      <a:pt x="670" y="640"/>
                    </a:lnTo>
                    <a:lnTo>
                      <a:pt x="668" y="641"/>
                    </a:lnTo>
                    <a:lnTo>
                      <a:pt x="666" y="641"/>
                    </a:lnTo>
                    <a:lnTo>
                      <a:pt x="663" y="640"/>
                    </a:lnTo>
                    <a:lnTo>
                      <a:pt x="662" y="639"/>
                    </a:lnTo>
                    <a:lnTo>
                      <a:pt x="659" y="638"/>
                    </a:lnTo>
                    <a:lnTo>
                      <a:pt x="657" y="637"/>
                    </a:lnTo>
                    <a:lnTo>
                      <a:pt x="655" y="638"/>
                    </a:lnTo>
                    <a:lnTo>
                      <a:pt x="652" y="639"/>
                    </a:lnTo>
                    <a:lnTo>
                      <a:pt x="650" y="640"/>
                    </a:lnTo>
                    <a:lnTo>
                      <a:pt x="647" y="640"/>
                    </a:lnTo>
                    <a:lnTo>
                      <a:pt x="644" y="640"/>
                    </a:lnTo>
                    <a:lnTo>
                      <a:pt x="643" y="638"/>
                    </a:lnTo>
                    <a:lnTo>
                      <a:pt x="640" y="637"/>
                    </a:lnTo>
                    <a:lnTo>
                      <a:pt x="638" y="636"/>
                    </a:lnTo>
                    <a:lnTo>
                      <a:pt x="635" y="636"/>
                    </a:lnTo>
                    <a:lnTo>
                      <a:pt x="632" y="636"/>
                    </a:lnTo>
                    <a:lnTo>
                      <a:pt x="629" y="636"/>
                    </a:lnTo>
                    <a:lnTo>
                      <a:pt x="626" y="636"/>
                    </a:lnTo>
                    <a:lnTo>
                      <a:pt x="624" y="638"/>
                    </a:lnTo>
                    <a:lnTo>
                      <a:pt x="622" y="640"/>
                    </a:lnTo>
                    <a:lnTo>
                      <a:pt x="621" y="641"/>
                    </a:lnTo>
                    <a:lnTo>
                      <a:pt x="619" y="643"/>
                    </a:lnTo>
                    <a:lnTo>
                      <a:pt x="617" y="644"/>
                    </a:lnTo>
                    <a:lnTo>
                      <a:pt x="615" y="644"/>
                    </a:lnTo>
                    <a:lnTo>
                      <a:pt x="613" y="644"/>
                    </a:lnTo>
                    <a:lnTo>
                      <a:pt x="611" y="645"/>
                    </a:lnTo>
                    <a:lnTo>
                      <a:pt x="603" y="650"/>
                    </a:lnTo>
                    <a:lnTo>
                      <a:pt x="591" y="651"/>
                    </a:lnTo>
                    <a:lnTo>
                      <a:pt x="589" y="651"/>
                    </a:lnTo>
                    <a:lnTo>
                      <a:pt x="586" y="650"/>
                    </a:lnTo>
                    <a:lnTo>
                      <a:pt x="585" y="649"/>
                    </a:lnTo>
                    <a:lnTo>
                      <a:pt x="584" y="648"/>
                    </a:lnTo>
                    <a:lnTo>
                      <a:pt x="584" y="647"/>
                    </a:lnTo>
                    <a:lnTo>
                      <a:pt x="584" y="645"/>
                    </a:lnTo>
                    <a:lnTo>
                      <a:pt x="586" y="644"/>
                    </a:lnTo>
                    <a:lnTo>
                      <a:pt x="588" y="643"/>
                    </a:lnTo>
                    <a:lnTo>
                      <a:pt x="590" y="643"/>
                    </a:lnTo>
                    <a:lnTo>
                      <a:pt x="592" y="641"/>
                    </a:lnTo>
                    <a:lnTo>
                      <a:pt x="594" y="641"/>
                    </a:lnTo>
                    <a:lnTo>
                      <a:pt x="595" y="640"/>
                    </a:lnTo>
                    <a:lnTo>
                      <a:pt x="600" y="637"/>
                    </a:lnTo>
                    <a:lnTo>
                      <a:pt x="603" y="633"/>
                    </a:lnTo>
                    <a:lnTo>
                      <a:pt x="606" y="628"/>
                    </a:lnTo>
                    <a:lnTo>
                      <a:pt x="610" y="626"/>
                    </a:lnTo>
                    <a:lnTo>
                      <a:pt x="615" y="626"/>
                    </a:lnTo>
                    <a:lnTo>
                      <a:pt x="622" y="627"/>
                    </a:lnTo>
                    <a:lnTo>
                      <a:pt x="628" y="628"/>
                    </a:lnTo>
                    <a:lnTo>
                      <a:pt x="635" y="629"/>
                    </a:lnTo>
                    <a:lnTo>
                      <a:pt x="640" y="629"/>
                    </a:lnTo>
                    <a:lnTo>
                      <a:pt x="644" y="626"/>
                    </a:lnTo>
                    <a:lnTo>
                      <a:pt x="648" y="623"/>
                    </a:lnTo>
                    <a:lnTo>
                      <a:pt x="651" y="619"/>
                    </a:lnTo>
                    <a:lnTo>
                      <a:pt x="655" y="616"/>
                    </a:lnTo>
                    <a:lnTo>
                      <a:pt x="659" y="613"/>
                    </a:lnTo>
                    <a:close/>
                    <a:moveTo>
                      <a:pt x="626" y="606"/>
                    </a:moveTo>
                    <a:lnTo>
                      <a:pt x="627" y="606"/>
                    </a:lnTo>
                    <a:lnTo>
                      <a:pt x="628" y="607"/>
                    </a:lnTo>
                    <a:lnTo>
                      <a:pt x="628" y="610"/>
                    </a:lnTo>
                    <a:lnTo>
                      <a:pt x="628" y="611"/>
                    </a:lnTo>
                    <a:lnTo>
                      <a:pt x="627" y="611"/>
                    </a:lnTo>
                    <a:lnTo>
                      <a:pt x="626" y="611"/>
                    </a:lnTo>
                    <a:lnTo>
                      <a:pt x="625" y="610"/>
                    </a:lnTo>
                    <a:lnTo>
                      <a:pt x="624" y="610"/>
                    </a:lnTo>
                    <a:lnTo>
                      <a:pt x="623" y="610"/>
                    </a:lnTo>
                    <a:lnTo>
                      <a:pt x="622" y="608"/>
                    </a:lnTo>
                    <a:lnTo>
                      <a:pt x="622" y="608"/>
                    </a:lnTo>
                    <a:lnTo>
                      <a:pt x="623" y="607"/>
                    </a:lnTo>
                    <a:lnTo>
                      <a:pt x="624" y="607"/>
                    </a:lnTo>
                    <a:lnTo>
                      <a:pt x="626" y="606"/>
                    </a:lnTo>
                    <a:close/>
                    <a:moveTo>
                      <a:pt x="828" y="605"/>
                    </a:moveTo>
                    <a:lnTo>
                      <a:pt x="829" y="605"/>
                    </a:lnTo>
                    <a:lnTo>
                      <a:pt x="830" y="606"/>
                    </a:lnTo>
                    <a:lnTo>
                      <a:pt x="831" y="607"/>
                    </a:lnTo>
                    <a:lnTo>
                      <a:pt x="830" y="610"/>
                    </a:lnTo>
                    <a:lnTo>
                      <a:pt x="830" y="611"/>
                    </a:lnTo>
                    <a:lnTo>
                      <a:pt x="829" y="612"/>
                    </a:lnTo>
                    <a:lnTo>
                      <a:pt x="828" y="612"/>
                    </a:lnTo>
                    <a:lnTo>
                      <a:pt x="826" y="612"/>
                    </a:lnTo>
                    <a:lnTo>
                      <a:pt x="825" y="611"/>
                    </a:lnTo>
                    <a:lnTo>
                      <a:pt x="824" y="610"/>
                    </a:lnTo>
                    <a:lnTo>
                      <a:pt x="825" y="607"/>
                    </a:lnTo>
                    <a:lnTo>
                      <a:pt x="826" y="606"/>
                    </a:lnTo>
                    <a:lnTo>
                      <a:pt x="828" y="605"/>
                    </a:lnTo>
                    <a:close/>
                    <a:moveTo>
                      <a:pt x="801" y="601"/>
                    </a:moveTo>
                    <a:lnTo>
                      <a:pt x="802" y="602"/>
                    </a:lnTo>
                    <a:lnTo>
                      <a:pt x="803" y="604"/>
                    </a:lnTo>
                    <a:lnTo>
                      <a:pt x="803" y="605"/>
                    </a:lnTo>
                    <a:lnTo>
                      <a:pt x="803" y="606"/>
                    </a:lnTo>
                    <a:lnTo>
                      <a:pt x="803" y="606"/>
                    </a:lnTo>
                    <a:lnTo>
                      <a:pt x="802" y="607"/>
                    </a:lnTo>
                    <a:lnTo>
                      <a:pt x="801" y="608"/>
                    </a:lnTo>
                    <a:lnTo>
                      <a:pt x="800" y="608"/>
                    </a:lnTo>
                    <a:lnTo>
                      <a:pt x="799" y="608"/>
                    </a:lnTo>
                    <a:lnTo>
                      <a:pt x="798" y="607"/>
                    </a:lnTo>
                    <a:lnTo>
                      <a:pt x="798" y="605"/>
                    </a:lnTo>
                    <a:lnTo>
                      <a:pt x="799" y="604"/>
                    </a:lnTo>
                    <a:lnTo>
                      <a:pt x="799" y="602"/>
                    </a:lnTo>
                    <a:lnTo>
                      <a:pt x="800" y="601"/>
                    </a:lnTo>
                    <a:lnTo>
                      <a:pt x="801" y="601"/>
                    </a:lnTo>
                    <a:close/>
                    <a:moveTo>
                      <a:pt x="757" y="595"/>
                    </a:moveTo>
                    <a:lnTo>
                      <a:pt x="759" y="595"/>
                    </a:lnTo>
                    <a:lnTo>
                      <a:pt x="760" y="595"/>
                    </a:lnTo>
                    <a:lnTo>
                      <a:pt x="763" y="596"/>
                    </a:lnTo>
                    <a:lnTo>
                      <a:pt x="764" y="597"/>
                    </a:lnTo>
                    <a:lnTo>
                      <a:pt x="766" y="600"/>
                    </a:lnTo>
                    <a:lnTo>
                      <a:pt x="767" y="603"/>
                    </a:lnTo>
                    <a:lnTo>
                      <a:pt x="767" y="605"/>
                    </a:lnTo>
                    <a:lnTo>
                      <a:pt x="767" y="607"/>
                    </a:lnTo>
                    <a:lnTo>
                      <a:pt x="767" y="611"/>
                    </a:lnTo>
                    <a:lnTo>
                      <a:pt x="766" y="612"/>
                    </a:lnTo>
                    <a:lnTo>
                      <a:pt x="766" y="612"/>
                    </a:lnTo>
                    <a:lnTo>
                      <a:pt x="764" y="612"/>
                    </a:lnTo>
                    <a:lnTo>
                      <a:pt x="763" y="611"/>
                    </a:lnTo>
                    <a:lnTo>
                      <a:pt x="761" y="608"/>
                    </a:lnTo>
                    <a:lnTo>
                      <a:pt x="759" y="606"/>
                    </a:lnTo>
                    <a:lnTo>
                      <a:pt x="758" y="604"/>
                    </a:lnTo>
                    <a:lnTo>
                      <a:pt x="757" y="602"/>
                    </a:lnTo>
                    <a:lnTo>
                      <a:pt x="755" y="600"/>
                    </a:lnTo>
                    <a:lnTo>
                      <a:pt x="754" y="599"/>
                    </a:lnTo>
                    <a:lnTo>
                      <a:pt x="754" y="597"/>
                    </a:lnTo>
                    <a:lnTo>
                      <a:pt x="753" y="596"/>
                    </a:lnTo>
                    <a:lnTo>
                      <a:pt x="753" y="596"/>
                    </a:lnTo>
                    <a:lnTo>
                      <a:pt x="754" y="595"/>
                    </a:lnTo>
                    <a:lnTo>
                      <a:pt x="755" y="595"/>
                    </a:lnTo>
                    <a:lnTo>
                      <a:pt x="757" y="595"/>
                    </a:lnTo>
                    <a:close/>
                    <a:moveTo>
                      <a:pt x="1551" y="594"/>
                    </a:moveTo>
                    <a:lnTo>
                      <a:pt x="1555" y="594"/>
                    </a:lnTo>
                    <a:lnTo>
                      <a:pt x="1555" y="596"/>
                    </a:lnTo>
                    <a:lnTo>
                      <a:pt x="1554" y="600"/>
                    </a:lnTo>
                    <a:lnTo>
                      <a:pt x="1554" y="603"/>
                    </a:lnTo>
                    <a:lnTo>
                      <a:pt x="1553" y="606"/>
                    </a:lnTo>
                    <a:lnTo>
                      <a:pt x="1552" y="608"/>
                    </a:lnTo>
                    <a:lnTo>
                      <a:pt x="1550" y="610"/>
                    </a:lnTo>
                    <a:lnTo>
                      <a:pt x="1549" y="610"/>
                    </a:lnTo>
                    <a:lnTo>
                      <a:pt x="1549" y="607"/>
                    </a:lnTo>
                    <a:lnTo>
                      <a:pt x="1548" y="604"/>
                    </a:lnTo>
                    <a:lnTo>
                      <a:pt x="1548" y="602"/>
                    </a:lnTo>
                    <a:lnTo>
                      <a:pt x="1548" y="599"/>
                    </a:lnTo>
                    <a:lnTo>
                      <a:pt x="1549" y="595"/>
                    </a:lnTo>
                    <a:lnTo>
                      <a:pt x="1551" y="594"/>
                    </a:lnTo>
                    <a:close/>
                    <a:moveTo>
                      <a:pt x="1536" y="594"/>
                    </a:moveTo>
                    <a:lnTo>
                      <a:pt x="1541" y="599"/>
                    </a:lnTo>
                    <a:lnTo>
                      <a:pt x="1542" y="606"/>
                    </a:lnTo>
                    <a:lnTo>
                      <a:pt x="1539" y="616"/>
                    </a:lnTo>
                    <a:lnTo>
                      <a:pt x="1538" y="618"/>
                    </a:lnTo>
                    <a:lnTo>
                      <a:pt x="1535" y="618"/>
                    </a:lnTo>
                    <a:lnTo>
                      <a:pt x="1533" y="618"/>
                    </a:lnTo>
                    <a:lnTo>
                      <a:pt x="1531" y="617"/>
                    </a:lnTo>
                    <a:lnTo>
                      <a:pt x="1529" y="616"/>
                    </a:lnTo>
                    <a:lnTo>
                      <a:pt x="1527" y="615"/>
                    </a:lnTo>
                    <a:lnTo>
                      <a:pt x="1525" y="614"/>
                    </a:lnTo>
                    <a:lnTo>
                      <a:pt x="1525" y="614"/>
                    </a:lnTo>
                    <a:lnTo>
                      <a:pt x="1523" y="611"/>
                    </a:lnTo>
                    <a:lnTo>
                      <a:pt x="1524" y="606"/>
                    </a:lnTo>
                    <a:lnTo>
                      <a:pt x="1529" y="602"/>
                    </a:lnTo>
                    <a:lnTo>
                      <a:pt x="1533" y="597"/>
                    </a:lnTo>
                    <a:lnTo>
                      <a:pt x="1536" y="594"/>
                    </a:lnTo>
                    <a:close/>
                    <a:moveTo>
                      <a:pt x="661" y="594"/>
                    </a:moveTo>
                    <a:lnTo>
                      <a:pt x="662" y="595"/>
                    </a:lnTo>
                    <a:lnTo>
                      <a:pt x="662" y="596"/>
                    </a:lnTo>
                    <a:lnTo>
                      <a:pt x="662" y="597"/>
                    </a:lnTo>
                    <a:lnTo>
                      <a:pt x="661" y="600"/>
                    </a:lnTo>
                    <a:lnTo>
                      <a:pt x="659" y="601"/>
                    </a:lnTo>
                    <a:lnTo>
                      <a:pt x="658" y="602"/>
                    </a:lnTo>
                    <a:lnTo>
                      <a:pt x="657" y="603"/>
                    </a:lnTo>
                    <a:lnTo>
                      <a:pt x="654" y="605"/>
                    </a:lnTo>
                    <a:lnTo>
                      <a:pt x="648" y="607"/>
                    </a:lnTo>
                    <a:lnTo>
                      <a:pt x="640" y="608"/>
                    </a:lnTo>
                    <a:lnTo>
                      <a:pt x="635" y="610"/>
                    </a:lnTo>
                    <a:lnTo>
                      <a:pt x="630" y="608"/>
                    </a:lnTo>
                    <a:lnTo>
                      <a:pt x="630" y="607"/>
                    </a:lnTo>
                    <a:lnTo>
                      <a:pt x="632" y="606"/>
                    </a:lnTo>
                    <a:lnTo>
                      <a:pt x="634" y="606"/>
                    </a:lnTo>
                    <a:lnTo>
                      <a:pt x="636" y="605"/>
                    </a:lnTo>
                    <a:lnTo>
                      <a:pt x="638" y="605"/>
                    </a:lnTo>
                    <a:lnTo>
                      <a:pt x="640" y="605"/>
                    </a:lnTo>
                    <a:lnTo>
                      <a:pt x="643" y="605"/>
                    </a:lnTo>
                    <a:lnTo>
                      <a:pt x="643" y="605"/>
                    </a:lnTo>
                    <a:lnTo>
                      <a:pt x="646" y="604"/>
                    </a:lnTo>
                    <a:lnTo>
                      <a:pt x="649" y="604"/>
                    </a:lnTo>
                    <a:lnTo>
                      <a:pt x="652" y="603"/>
                    </a:lnTo>
                    <a:lnTo>
                      <a:pt x="655" y="601"/>
                    </a:lnTo>
                    <a:lnTo>
                      <a:pt x="657" y="600"/>
                    </a:lnTo>
                    <a:lnTo>
                      <a:pt x="658" y="596"/>
                    </a:lnTo>
                    <a:lnTo>
                      <a:pt x="660" y="594"/>
                    </a:lnTo>
                    <a:lnTo>
                      <a:pt x="661" y="594"/>
                    </a:lnTo>
                    <a:close/>
                    <a:moveTo>
                      <a:pt x="737" y="569"/>
                    </a:moveTo>
                    <a:lnTo>
                      <a:pt x="743" y="569"/>
                    </a:lnTo>
                    <a:lnTo>
                      <a:pt x="746" y="571"/>
                    </a:lnTo>
                    <a:lnTo>
                      <a:pt x="748" y="575"/>
                    </a:lnTo>
                    <a:lnTo>
                      <a:pt x="747" y="577"/>
                    </a:lnTo>
                    <a:lnTo>
                      <a:pt x="748" y="578"/>
                    </a:lnTo>
                    <a:lnTo>
                      <a:pt x="748" y="578"/>
                    </a:lnTo>
                    <a:lnTo>
                      <a:pt x="750" y="578"/>
                    </a:lnTo>
                    <a:lnTo>
                      <a:pt x="752" y="578"/>
                    </a:lnTo>
                    <a:lnTo>
                      <a:pt x="753" y="578"/>
                    </a:lnTo>
                    <a:lnTo>
                      <a:pt x="755" y="578"/>
                    </a:lnTo>
                    <a:lnTo>
                      <a:pt x="756" y="579"/>
                    </a:lnTo>
                    <a:lnTo>
                      <a:pt x="756" y="581"/>
                    </a:lnTo>
                    <a:lnTo>
                      <a:pt x="756" y="583"/>
                    </a:lnTo>
                    <a:lnTo>
                      <a:pt x="756" y="585"/>
                    </a:lnTo>
                    <a:lnTo>
                      <a:pt x="755" y="589"/>
                    </a:lnTo>
                    <a:lnTo>
                      <a:pt x="753" y="591"/>
                    </a:lnTo>
                    <a:lnTo>
                      <a:pt x="750" y="591"/>
                    </a:lnTo>
                    <a:lnTo>
                      <a:pt x="749" y="591"/>
                    </a:lnTo>
                    <a:lnTo>
                      <a:pt x="747" y="589"/>
                    </a:lnTo>
                    <a:lnTo>
                      <a:pt x="746" y="586"/>
                    </a:lnTo>
                    <a:lnTo>
                      <a:pt x="745" y="584"/>
                    </a:lnTo>
                    <a:lnTo>
                      <a:pt x="745" y="582"/>
                    </a:lnTo>
                    <a:lnTo>
                      <a:pt x="744" y="580"/>
                    </a:lnTo>
                    <a:lnTo>
                      <a:pt x="742" y="579"/>
                    </a:lnTo>
                    <a:lnTo>
                      <a:pt x="741" y="579"/>
                    </a:lnTo>
                    <a:lnTo>
                      <a:pt x="726" y="579"/>
                    </a:lnTo>
                    <a:lnTo>
                      <a:pt x="724" y="577"/>
                    </a:lnTo>
                    <a:lnTo>
                      <a:pt x="723" y="574"/>
                    </a:lnTo>
                    <a:lnTo>
                      <a:pt x="724" y="573"/>
                    </a:lnTo>
                    <a:lnTo>
                      <a:pt x="726" y="572"/>
                    </a:lnTo>
                    <a:lnTo>
                      <a:pt x="728" y="572"/>
                    </a:lnTo>
                    <a:lnTo>
                      <a:pt x="733" y="570"/>
                    </a:lnTo>
                    <a:lnTo>
                      <a:pt x="737" y="569"/>
                    </a:lnTo>
                    <a:close/>
                    <a:moveTo>
                      <a:pt x="714" y="557"/>
                    </a:moveTo>
                    <a:lnTo>
                      <a:pt x="715" y="557"/>
                    </a:lnTo>
                    <a:lnTo>
                      <a:pt x="717" y="558"/>
                    </a:lnTo>
                    <a:lnTo>
                      <a:pt x="720" y="559"/>
                    </a:lnTo>
                    <a:lnTo>
                      <a:pt x="722" y="560"/>
                    </a:lnTo>
                    <a:lnTo>
                      <a:pt x="724" y="562"/>
                    </a:lnTo>
                    <a:lnTo>
                      <a:pt x="726" y="564"/>
                    </a:lnTo>
                    <a:lnTo>
                      <a:pt x="726" y="567"/>
                    </a:lnTo>
                    <a:lnTo>
                      <a:pt x="725" y="569"/>
                    </a:lnTo>
                    <a:lnTo>
                      <a:pt x="723" y="571"/>
                    </a:lnTo>
                    <a:lnTo>
                      <a:pt x="721" y="571"/>
                    </a:lnTo>
                    <a:lnTo>
                      <a:pt x="719" y="570"/>
                    </a:lnTo>
                    <a:lnTo>
                      <a:pt x="716" y="568"/>
                    </a:lnTo>
                    <a:lnTo>
                      <a:pt x="715" y="564"/>
                    </a:lnTo>
                    <a:lnTo>
                      <a:pt x="714" y="562"/>
                    </a:lnTo>
                    <a:lnTo>
                      <a:pt x="713" y="559"/>
                    </a:lnTo>
                    <a:lnTo>
                      <a:pt x="714" y="557"/>
                    </a:lnTo>
                    <a:close/>
                    <a:moveTo>
                      <a:pt x="1885" y="525"/>
                    </a:moveTo>
                    <a:lnTo>
                      <a:pt x="1885" y="525"/>
                    </a:lnTo>
                    <a:lnTo>
                      <a:pt x="1883" y="526"/>
                    </a:lnTo>
                    <a:lnTo>
                      <a:pt x="1882" y="528"/>
                    </a:lnTo>
                    <a:lnTo>
                      <a:pt x="1881" y="530"/>
                    </a:lnTo>
                    <a:lnTo>
                      <a:pt x="1881" y="531"/>
                    </a:lnTo>
                    <a:lnTo>
                      <a:pt x="1882" y="534"/>
                    </a:lnTo>
                    <a:lnTo>
                      <a:pt x="1883" y="535"/>
                    </a:lnTo>
                    <a:lnTo>
                      <a:pt x="1885" y="536"/>
                    </a:lnTo>
                    <a:lnTo>
                      <a:pt x="1887" y="537"/>
                    </a:lnTo>
                    <a:lnTo>
                      <a:pt x="1888" y="538"/>
                    </a:lnTo>
                    <a:lnTo>
                      <a:pt x="1889" y="538"/>
                    </a:lnTo>
                    <a:lnTo>
                      <a:pt x="1890" y="538"/>
                    </a:lnTo>
                    <a:lnTo>
                      <a:pt x="1892" y="536"/>
                    </a:lnTo>
                    <a:lnTo>
                      <a:pt x="1893" y="534"/>
                    </a:lnTo>
                    <a:lnTo>
                      <a:pt x="1895" y="530"/>
                    </a:lnTo>
                    <a:lnTo>
                      <a:pt x="1895" y="529"/>
                    </a:lnTo>
                    <a:lnTo>
                      <a:pt x="1895" y="528"/>
                    </a:lnTo>
                    <a:lnTo>
                      <a:pt x="1894" y="528"/>
                    </a:lnTo>
                    <a:lnTo>
                      <a:pt x="1893" y="528"/>
                    </a:lnTo>
                    <a:lnTo>
                      <a:pt x="1891" y="528"/>
                    </a:lnTo>
                    <a:lnTo>
                      <a:pt x="1890" y="528"/>
                    </a:lnTo>
                    <a:lnTo>
                      <a:pt x="1889" y="528"/>
                    </a:lnTo>
                    <a:lnTo>
                      <a:pt x="1888" y="527"/>
                    </a:lnTo>
                    <a:lnTo>
                      <a:pt x="1888" y="526"/>
                    </a:lnTo>
                    <a:lnTo>
                      <a:pt x="1887" y="525"/>
                    </a:lnTo>
                    <a:lnTo>
                      <a:pt x="1885" y="525"/>
                    </a:lnTo>
                    <a:close/>
                    <a:moveTo>
                      <a:pt x="32" y="496"/>
                    </a:moveTo>
                    <a:lnTo>
                      <a:pt x="36" y="497"/>
                    </a:lnTo>
                    <a:lnTo>
                      <a:pt x="40" y="498"/>
                    </a:lnTo>
                    <a:lnTo>
                      <a:pt x="45" y="499"/>
                    </a:lnTo>
                    <a:lnTo>
                      <a:pt x="48" y="501"/>
                    </a:lnTo>
                    <a:lnTo>
                      <a:pt x="50" y="504"/>
                    </a:lnTo>
                    <a:lnTo>
                      <a:pt x="50" y="505"/>
                    </a:lnTo>
                    <a:lnTo>
                      <a:pt x="50" y="507"/>
                    </a:lnTo>
                    <a:lnTo>
                      <a:pt x="48" y="509"/>
                    </a:lnTo>
                    <a:lnTo>
                      <a:pt x="46" y="510"/>
                    </a:lnTo>
                    <a:lnTo>
                      <a:pt x="44" y="510"/>
                    </a:lnTo>
                    <a:lnTo>
                      <a:pt x="39" y="508"/>
                    </a:lnTo>
                    <a:lnTo>
                      <a:pt x="36" y="506"/>
                    </a:lnTo>
                    <a:lnTo>
                      <a:pt x="33" y="504"/>
                    </a:lnTo>
                    <a:lnTo>
                      <a:pt x="30" y="501"/>
                    </a:lnTo>
                    <a:lnTo>
                      <a:pt x="30" y="497"/>
                    </a:lnTo>
                    <a:lnTo>
                      <a:pt x="32" y="496"/>
                    </a:lnTo>
                    <a:close/>
                    <a:moveTo>
                      <a:pt x="1" y="479"/>
                    </a:moveTo>
                    <a:lnTo>
                      <a:pt x="2" y="480"/>
                    </a:lnTo>
                    <a:lnTo>
                      <a:pt x="3" y="481"/>
                    </a:lnTo>
                    <a:lnTo>
                      <a:pt x="3" y="481"/>
                    </a:lnTo>
                    <a:lnTo>
                      <a:pt x="3" y="482"/>
                    </a:lnTo>
                    <a:lnTo>
                      <a:pt x="4" y="482"/>
                    </a:lnTo>
                    <a:lnTo>
                      <a:pt x="5" y="483"/>
                    </a:lnTo>
                    <a:lnTo>
                      <a:pt x="7" y="484"/>
                    </a:lnTo>
                    <a:lnTo>
                      <a:pt x="7" y="486"/>
                    </a:lnTo>
                    <a:lnTo>
                      <a:pt x="6" y="488"/>
                    </a:lnTo>
                    <a:lnTo>
                      <a:pt x="5" y="490"/>
                    </a:lnTo>
                    <a:lnTo>
                      <a:pt x="3" y="490"/>
                    </a:lnTo>
                    <a:lnTo>
                      <a:pt x="2" y="488"/>
                    </a:lnTo>
                    <a:lnTo>
                      <a:pt x="1" y="486"/>
                    </a:lnTo>
                    <a:lnTo>
                      <a:pt x="1" y="485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481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1" y="479"/>
                    </a:lnTo>
                    <a:close/>
                    <a:moveTo>
                      <a:pt x="1028" y="447"/>
                    </a:moveTo>
                    <a:lnTo>
                      <a:pt x="1030" y="448"/>
                    </a:lnTo>
                    <a:lnTo>
                      <a:pt x="1033" y="448"/>
                    </a:lnTo>
                    <a:lnTo>
                      <a:pt x="1036" y="449"/>
                    </a:lnTo>
                    <a:lnTo>
                      <a:pt x="1038" y="450"/>
                    </a:lnTo>
                    <a:lnTo>
                      <a:pt x="1038" y="451"/>
                    </a:lnTo>
                    <a:lnTo>
                      <a:pt x="1038" y="453"/>
                    </a:lnTo>
                    <a:lnTo>
                      <a:pt x="1037" y="454"/>
                    </a:lnTo>
                    <a:lnTo>
                      <a:pt x="1034" y="455"/>
                    </a:lnTo>
                    <a:lnTo>
                      <a:pt x="1032" y="457"/>
                    </a:lnTo>
                    <a:lnTo>
                      <a:pt x="1029" y="458"/>
                    </a:lnTo>
                    <a:lnTo>
                      <a:pt x="1027" y="458"/>
                    </a:lnTo>
                    <a:lnTo>
                      <a:pt x="1025" y="458"/>
                    </a:lnTo>
                    <a:lnTo>
                      <a:pt x="1021" y="457"/>
                    </a:lnTo>
                    <a:lnTo>
                      <a:pt x="1020" y="454"/>
                    </a:lnTo>
                    <a:lnTo>
                      <a:pt x="1020" y="452"/>
                    </a:lnTo>
                    <a:lnTo>
                      <a:pt x="1020" y="450"/>
                    </a:lnTo>
                    <a:lnTo>
                      <a:pt x="1022" y="449"/>
                    </a:lnTo>
                    <a:lnTo>
                      <a:pt x="1025" y="448"/>
                    </a:lnTo>
                    <a:lnTo>
                      <a:pt x="1028" y="447"/>
                    </a:lnTo>
                    <a:close/>
                    <a:moveTo>
                      <a:pt x="962" y="441"/>
                    </a:moveTo>
                    <a:lnTo>
                      <a:pt x="963" y="441"/>
                    </a:lnTo>
                    <a:lnTo>
                      <a:pt x="965" y="442"/>
                    </a:lnTo>
                    <a:lnTo>
                      <a:pt x="967" y="444"/>
                    </a:lnTo>
                    <a:lnTo>
                      <a:pt x="967" y="447"/>
                    </a:lnTo>
                    <a:lnTo>
                      <a:pt x="967" y="450"/>
                    </a:lnTo>
                    <a:lnTo>
                      <a:pt x="966" y="452"/>
                    </a:lnTo>
                    <a:lnTo>
                      <a:pt x="964" y="455"/>
                    </a:lnTo>
                    <a:lnTo>
                      <a:pt x="962" y="457"/>
                    </a:lnTo>
                    <a:lnTo>
                      <a:pt x="961" y="458"/>
                    </a:lnTo>
                    <a:lnTo>
                      <a:pt x="959" y="457"/>
                    </a:lnTo>
                    <a:lnTo>
                      <a:pt x="957" y="454"/>
                    </a:lnTo>
                    <a:lnTo>
                      <a:pt x="956" y="452"/>
                    </a:lnTo>
                    <a:lnTo>
                      <a:pt x="956" y="450"/>
                    </a:lnTo>
                    <a:lnTo>
                      <a:pt x="956" y="447"/>
                    </a:lnTo>
                    <a:lnTo>
                      <a:pt x="957" y="443"/>
                    </a:lnTo>
                    <a:lnTo>
                      <a:pt x="960" y="441"/>
                    </a:lnTo>
                    <a:lnTo>
                      <a:pt x="962" y="441"/>
                    </a:lnTo>
                    <a:close/>
                    <a:moveTo>
                      <a:pt x="2269" y="427"/>
                    </a:moveTo>
                    <a:lnTo>
                      <a:pt x="2271" y="428"/>
                    </a:lnTo>
                    <a:lnTo>
                      <a:pt x="2273" y="429"/>
                    </a:lnTo>
                    <a:lnTo>
                      <a:pt x="2274" y="431"/>
                    </a:lnTo>
                    <a:lnTo>
                      <a:pt x="2275" y="433"/>
                    </a:lnTo>
                    <a:lnTo>
                      <a:pt x="2276" y="436"/>
                    </a:lnTo>
                    <a:lnTo>
                      <a:pt x="2277" y="439"/>
                    </a:lnTo>
                    <a:lnTo>
                      <a:pt x="2278" y="442"/>
                    </a:lnTo>
                    <a:lnTo>
                      <a:pt x="2278" y="446"/>
                    </a:lnTo>
                    <a:lnTo>
                      <a:pt x="2275" y="450"/>
                    </a:lnTo>
                    <a:lnTo>
                      <a:pt x="2272" y="453"/>
                    </a:lnTo>
                    <a:lnTo>
                      <a:pt x="2269" y="457"/>
                    </a:lnTo>
                    <a:lnTo>
                      <a:pt x="2266" y="459"/>
                    </a:lnTo>
                    <a:lnTo>
                      <a:pt x="2265" y="460"/>
                    </a:lnTo>
                    <a:lnTo>
                      <a:pt x="2263" y="462"/>
                    </a:lnTo>
                    <a:lnTo>
                      <a:pt x="2261" y="462"/>
                    </a:lnTo>
                    <a:lnTo>
                      <a:pt x="2260" y="462"/>
                    </a:lnTo>
                    <a:lnTo>
                      <a:pt x="2260" y="452"/>
                    </a:lnTo>
                    <a:lnTo>
                      <a:pt x="2260" y="449"/>
                    </a:lnTo>
                    <a:lnTo>
                      <a:pt x="2260" y="447"/>
                    </a:lnTo>
                    <a:lnTo>
                      <a:pt x="2261" y="444"/>
                    </a:lnTo>
                    <a:lnTo>
                      <a:pt x="2263" y="441"/>
                    </a:lnTo>
                    <a:lnTo>
                      <a:pt x="2263" y="439"/>
                    </a:lnTo>
                    <a:lnTo>
                      <a:pt x="2263" y="437"/>
                    </a:lnTo>
                    <a:lnTo>
                      <a:pt x="2264" y="433"/>
                    </a:lnTo>
                    <a:lnTo>
                      <a:pt x="2265" y="431"/>
                    </a:lnTo>
                    <a:lnTo>
                      <a:pt x="2267" y="429"/>
                    </a:lnTo>
                    <a:lnTo>
                      <a:pt x="2269" y="427"/>
                    </a:lnTo>
                    <a:close/>
                    <a:moveTo>
                      <a:pt x="1691" y="390"/>
                    </a:moveTo>
                    <a:lnTo>
                      <a:pt x="1693" y="390"/>
                    </a:lnTo>
                    <a:lnTo>
                      <a:pt x="1694" y="393"/>
                    </a:lnTo>
                    <a:lnTo>
                      <a:pt x="1692" y="399"/>
                    </a:lnTo>
                    <a:lnTo>
                      <a:pt x="1690" y="407"/>
                    </a:lnTo>
                    <a:lnTo>
                      <a:pt x="1686" y="414"/>
                    </a:lnTo>
                    <a:lnTo>
                      <a:pt x="1682" y="418"/>
                    </a:lnTo>
                    <a:lnTo>
                      <a:pt x="1681" y="416"/>
                    </a:lnTo>
                    <a:lnTo>
                      <a:pt x="1681" y="412"/>
                    </a:lnTo>
                    <a:lnTo>
                      <a:pt x="1683" y="407"/>
                    </a:lnTo>
                    <a:lnTo>
                      <a:pt x="1685" y="400"/>
                    </a:lnTo>
                    <a:lnTo>
                      <a:pt x="1687" y="396"/>
                    </a:lnTo>
                    <a:lnTo>
                      <a:pt x="1690" y="393"/>
                    </a:lnTo>
                    <a:lnTo>
                      <a:pt x="1691" y="390"/>
                    </a:lnTo>
                    <a:close/>
                    <a:moveTo>
                      <a:pt x="1691" y="324"/>
                    </a:moveTo>
                    <a:lnTo>
                      <a:pt x="1692" y="328"/>
                    </a:lnTo>
                    <a:lnTo>
                      <a:pt x="1692" y="330"/>
                    </a:lnTo>
                    <a:lnTo>
                      <a:pt x="1692" y="333"/>
                    </a:lnTo>
                    <a:lnTo>
                      <a:pt x="1691" y="335"/>
                    </a:lnTo>
                    <a:lnTo>
                      <a:pt x="1688" y="339"/>
                    </a:lnTo>
                    <a:lnTo>
                      <a:pt x="1686" y="342"/>
                    </a:lnTo>
                    <a:lnTo>
                      <a:pt x="1686" y="345"/>
                    </a:lnTo>
                    <a:lnTo>
                      <a:pt x="1685" y="348"/>
                    </a:lnTo>
                    <a:lnTo>
                      <a:pt x="1684" y="350"/>
                    </a:lnTo>
                    <a:lnTo>
                      <a:pt x="1683" y="350"/>
                    </a:lnTo>
                    <a:lnTo>
                      <a:pt x="1681" y="350"/>
                    </a:lnTo>
                    <a:lnTo>
                      <a:pt x="1680" y="349"/>
                    </a:lnTo>
                    <a:lnTo>
                      <a:pt x="1679" y="346"/>
                    </a:lnTo>
                    <a:lnTo>
                      <a:pt x="1677" y="345"/>
                    </a:lnTo>
                    <a:lnTo>
                      <a:pt x="1677" y="342"/>
                    </a:lnTo>
                    <a:lnTo>
                      <a:pt x="1677" y="339"/>
                    </a:lnTo>
                    <a:lnTo>
                      <a:pt x="1680" y="335"/>
                    </a:lnTo>
                    <a:lnTo>
                      <a:pt x="1682" y="333"/>
                    </a:lnTo>
                    <a:lnTo>
                      <a:pt x="1684" y="331"/>
                    </a:lnTo>
                    <a:lnTo>
                      <a:pt x="1686" y="329"/>
                    </a:lnTo>
                    <a:lnTo>
                      <a:pt x="1688" y="328"/>
                    </a:lnTo>
                    <a:lnTo>
                      <a:pt x="1690" y="327"/>
                    </a:lnTo>
                    <a:lnTo>
                      <a:pt x="1691" y="327"/>
                    </a:lnTo>
                    <a:lnTo>
                      <a:pt x="1691" y="324"/>
                    </a:lnTo>
                    <a:close/>
                    <a:moveTo>
                      <a:pt x="1555" y="269"/>
                    </a:moveTo>
                    <a:lnTo>
                      <a:pt x="1555" y="270"/>
                    </a:lnTo>
                    <a:lnTo>
                      <a:pt x="1555" y="272"/>
                    </a:lnTo>
                    <a:lnTo>
                      <a:pt x="1555" y="274"/>
                    </a:lnTo>
                    <a:lnTo>
                      <a:pt x="1554" y="277"/>
                    </a:lnTo>
                    <a:lnTo>
                      <a:pt x="1554" y="279"/>
                    </a:lnTo>
                    <a:lnTo>
                      <a:pt x="1553" y="283"/>
                    </a:lnTo>
                    <a:lnTo>
                      <a:pt x="1553" y="285"/>
                    </a:lnTo>
                    <a:lnTo>
                      <a:pt x="1551" y="286"/>
                    </a:lnTo>
                    <a:lnTo>
                      <a:pt x="1550" y="285"/>
                    </a:lnTo>
                    <a:lnTo>
                      <a:pt x="1548" y="284"/>
                    </a:lnTo>
                    <a:lnTo>
                      <a:pt x="1546" y="280"/>
                    </a:lnTo>
                    <a:lnTo>
                      <a:pt x="1546" y="278"/>
                    </a:lnTo>
                    <a:lnTo>
                      <a:pt x="1545" y="275"/>
                    </a:lnTo>
                    <a:lnTo>
                      <a:pt x="1548" y="272"/>
                    </a:lnTo>
                    <a:lnTo>
                      <a:pt x="1549" y="270"/>
                    </a:lnTo>
                    <a:lnTo>
                      <a:pt x="1551" y="269"/>
                    </a:lnTo>
                    <a:lnTo>
                      <a:pt x="1553" y="269"/>
                    </a:lnTo>
                    <a:lnTo>
                      <a:pt x="1555" y="269"/>
                    </a:lnTo>
                    <a:close/>
                    <a:moveTo>
                      <a:pt x="1582" y="251"/>
                    </a:moveTo>
                    <a:lnTo>
                      <a:pt x="1582" y="253"/>
                    </a:lnTo>
                    <a:lnTo>
                      <a:pt x="1582" y="255"/>
                    </a:lnTo>
                    <a:lnTo>
                      <a:pt x="1584" y="256"/>
                    </a:lnTo>
                    <a:lnTo>
                      <a:pt x="1586" y="258"/>
                    </a:lnTo>
                    <a:lnTo>
                      <a:pt x="1587" y="259"/>
                    </a:lnTo>
                    <a:lnTo>
                      <a:pt x="1589" y="261"/>
                    </a:lnTo>
                    <a:lnTo>
                      <a:pt x="1589" y="262"/>
                    </a:lnTo>
                    <a:lnTo>
                      <a:pt x="1590" y="265"/>
                    </a:lnTo>
                    <a:lnTo>
                      <a:pt x="1592" y="268"/>
                    </a:lnTo>
                    <a:lnTo>
                      <a:pt x="1592" y="272"/>
                    </a:lnTo>
                    <a:lnTo>
                      <a:pt x="1590" y="274"/>
                    </a:lnTo>
                    <a:lnTo>
                      <a:pt x="1589" y="277"/>
                    </a:lnTo>
                    <a:lnTo>
                      <a:pt x="1587" y="278"/>
                    </a:lnTo>
                    <a:lnTo>
                      <a:pt x="1585" y="278"/>
                    </a:lnTo>
                    <a:lnTo>
                      <a:pt x="1582" y="278"/>
                    </a:lnTo>
                    <a:lnTo>
                      <a:pt x="1579" y="277"/>
                    </a:lnTo>
                    <a:lnTo>
                      <a:pt x="1577" y="275"/>
                    </a:lnTo>
                    <a:lnTo>
                      <a:pt x="1575" y="274"/>
                    </a:lnTo>
                    <a:lnTo>
                      <a:pt x="1574" y="270"/>
                    </a:lnTo>
                    <a:lnTo>
                      <a:pt x="1574" y="267"/>
                    </a:lnTo>
                    <a:lnTo>
                      <a:pt x="1574" y="265"/>
                    </a:lnTo>
                    <a:lnTo>
                      <a:pt x="1574" y="262"/>
                    </a:lnTo>
                    <a:lnTo>
                      <a:pt x="1575" y="258"/>
                    </a:lnTo>
                    <a:lnTo>
                      <a:pt x="1576" y="256"/>
                    </a:lnTo>
                    <a:lnTo>
                      <a:pt x="1577" y="253"/>
                    </a:lnTo>
                    <a:lnTo>
                      <a:pt x="1579" y="252"/>
                    </a:lnTo>
                    <a:lnTo>
                      <a:pt x="1582" y="251"/>
                    </a:lnTo>
                    <a:close/>
                    <a:moveTo>
                      <a:pt x="1560" y="235"/>
                    </a:moveTo>
                    <a:lnTo>
                      <a:pt x="1563" y="235"/>
                    </a:lnTo>
                    <a:lnTo>
                      <a:pt x="1566" y="236"/>
                    </a:lnTo>
                    <a:lnTo>
                      <a:pt x="1568" y="239"/>
                    </a:lnTo>
                    <a:lnTo>
                      <a:pt x="1571" y="241"/>
                    </a:lnTo>
                    <a:lnTo>
                      <a:pt x="1572" y="243"/>
                    </a:lnTo>
                    <a:lnTo>
                      <a:pt x="1572" y="247"/>
                    </a:lnTo>
                    <a:lnTo>
                      <a:pt x="1572" y="250"/>
                    </a:lnTo>
                    <a:lnTo>
                      <a:pt x="1571" y="252"/>
                    </a:lnTo>
                    <a:lnTo>
                      <a:pt x="1568" y="253"/>
                    </a:lnTo>
                    <a:lnTo>
                      <a:pt x="1567" y="254"/>
                    </a:lnTo>
                    <a:lnTo>
                      <a:pt x="1565" y="255"/>
                    </a:lnTo>
                    <a:lnTo>
                      <a:pt x="1563" y="255"/>
                    </a:lnTo>
                    <a:lnTo>
                      <a:pt x="1561" y="256"/>
                    </a:lnTo>
                    <a:lnTo>
                      <a:pt x="1559" y="257"/>
                    </a:lnTo>
                    <a:lnTo>
                      <a:pt x="1557" y="258"/>
                    </a:lnTo>
                    <a:lnTo>
                      <a:pt x="1556" y="261"/>
                    </a:lnTo>
                    <a:lnTo>
                      <a:pt x="1554" y="263"/>
                    </a:lnTo>
                    <a:lnTo>
                      <a:pt x="1552" y="265"/>
                    </a:lnTo>
                    <a:lnTo>
                      <a:pt x="1550" y="265"/>
                    </a:lnTo>
                    <a:lnTo>
                      <a:pt x="1546" y="265"/>
                    </a:lnTo>
                    <a:lnTo>
                      <a:pt x="1544" y="265"/>
                    </a:lnTo>
                    <a:lnTo>
                      <a:pt x="1542" y="263"/>
                    </a:lnTo>
                    <a:lnTo>
                      <a:pt x="1541" y="262"/>
                    </a:lnTo>
                    <a:lnTo>
                      <a:pt x="1540" y="259"/>
                    </a:lnTo>
                    <a:lnTo>
                      <a:pt x="1541" y="256"/>
                    </a:lnTo>
                    <a:lnTo>
                      <a:pt x="1542" y="255"/>
                    </a:lnTo>
                    <a:lnTo>
                      <a:pt x="1544" y="254"/>
                    </a:lnTo>
                    <a:lnTo>
                      <a:pt x="1546" y="253"/>
                    </a:lnTo>
                    <a:lnTo>
                      <a:pt x="1549" y="252"/>
                    </a:lnTo>
                    <a:lnTo>
                      <a:pt x="1550" y="250"/>
                    </a:lnTo>
                    <a:lnTo>
                      <a:pt x="1551" y="246"/>
                    </a:lnTo>
                    <a:lnTo>
                      <a:pt x="1553" y="242"/>
                    </a:lnTo>
                    <a:lnTo>
                      <a:pt x="1554" y="239"/>
                    </a:lnTo>
                    <a:lnTo>
                      <a:pt x="1556" y="236"/>
                    </a:lnTo>
                    <a:lnTo>
                      <a:pt x="1560" y="235"/>
                    </a:lnTo>
                    <a:close/>
                    <a:moveTo>
                      <a:pt x="864" y="234"/>
                    </a:moveTo>
                    <a:lnTo>
                      <a:pt x="862" y="235"/>
                    </a:lnTo>
                    <a:lnTo>
                      <a:pt x="859" y="237"/>
                    </a:lnTo>
                    <a:lnTo>
                      <a:pt x="862" y="237"/>
                    </a:lnTo>
                    <a:lnTo>
                      <a:pt x="864" y="239"/>
                    </a:lnTo>
                    <a:lnTo>
                      <a:pt x="866" y="240"/>
                    </a:lnTo>
                    <a:lnTo>
                      <a:pt x="868" y="241"/>
                    </a:lnTo>
                    <a:lnTo>
                      <a:pt x="869" y="242"/>
                    </a:lnTo>
                    <a:lnTo>
                      <a:pt x="868" y="237"/>
                    </a:lnTo>
                    <a:lnTo>
                      <a:pt x="867" y="235"/>
                    </a:lnTo>
                    <a:lnTo>
                      <a:pt x="865" y="234"/>
                    </a:lnTo>
                    <a:lnTo>
                      <a:pt x="864" y="234"/>
                    </a:lnTo>
                    <a:close/>
                    <a:moveTo>
                      <a:pt x="2014" y="207"/>
                    </a:moveTo>
                    <a:lnTo>
                      <a:pt x="2015" y="207"/>
                    </a:lnTo>
                    <a:lnTo>
                      <a:pt x="2016" y="208"/>
                    </a:lnTo>
                    <a:lnTo>
                      <a:pt x="2019" y="208"/>
                    </a:lnTo>
                    <a:lnTo>
                      <a:pt x="2020" y="208"/>
                    </a:lnTo>
                    <a:lnTo>
                      <a:pt x="2020" y="208"/>
                    </a:lnTo>
                    <a:lnTo>
                      <a:pt x="2021" y="208"/>
                    </a:lnTo>
                    <a:lnTo>
                      <a:pt x="2023" y="207"/>
                    </a:lnTo>
                    <a:lnTo>
                      <a:pt x="2024" y="207"/>
                    </a:lnTo>
                    <a:lnTo>
                      <a:pt x="2026" y="208"/>
                    </a:lnTo>
                    <a:lnTo>
                      <a:pt x="2027" y="208"/>
                    </a:lnTo>
                    <a:lnTo>
                      <a:pt x="2027" y="210"/>
                    </a:lnTo>
                    <a:lnTo>
                      <a:pt x="2026" y="210"/>
                    </a:lnTo>
                    <a:lnTo>
                      <a:pt x="2025" y="211"/>
                    </a:lnTo>
                    <a:lnTo>
                      <a:pt x="2025" y="212"/>
                    </a:lnTo>
                    <a:lnTo>
                      <a:pt x="2024" y="212"/>
                    </a:lnTo>
                    <a:lnTo>
                      <a:pt x="2023" y="213"/>
                    </a:lnTo>
                    <a:lnTo>
                      <a:pt x="2023" y="213"/>
                    </a:lnTo>
                    <a:lnTo>
                      <a:pt x="2022" y="213"/>
                    </a:lnTo>
                    <a:lnTo>
                      <a:pt x="2022" y="213"/>
                    </a:lnTo>
                    <a:lnTo>
                      <a:pt x="2020" y="213"/>
                    </a:lnTo>
                    <a:lnTo>
                      <a:pt x="2018" y="212"/>
                    </a:lnTo>
                    <a:lnTo>
                      <a:pt x="2015" y="212"/>
                    </a:lnTo>
                    <a:lnTo>
                      <a:pt x="2015" y="212"/>
                    </a:lnTo>
                    <a:lnTo>
                      <a:pt x="2014" y="212"/>
                    </a:lnTo>
                    <a:lnTo>
                      <a:pt x="2012" y="211"/>
                    </a:lnTo>
                    <a:lnTo>
                      <a:pt x="2011" y="211"/>
                    </a:lnTo>
                    <a:lnTo>
                      <a:pt x="2011" y="210"/>
                    </a:lnTo>
                    <a:lnTo>
                      <a:pt x="2011" y="208"/>
                    </a:lnTo>
                    <a:lnTo>
                      <a:pt x="2012" y="207"/>
                    </a:lnTo>
                    <a:lnTo>
                      <a:pt x="2014" y="207"/>
                    </a:lnTo>
                    <a:close/>
                    <a:moveTo>
                      <a:pt x="1841" y="189"/>
                    </a:moveTo>
                    <a:lnTo>
                      <a:pt x="1840" y="196"/>
                    </a:lnTo>
                    <a:lnTo>
                      <a:pt x="1838" y="203"/>
                    </a:lnTo>
                    <a:lnTo>
                      <a:pt x="1835" y="220"/>
                    </a:lnTo>
                    <a:lnTo>
                      <a:pt x="1827" y="233"/>
                    </a:lnTo>
                    <a:lnTo>
                      <a:pt x="1825" y="236"/>
                    </a:lnTo>
                    <a:lnTo>
                      <a:pt x="1822" y="240"/>
                    </a:lnTo>
                    <a:lnTo>
                      <a:pt x="1819" y="244"/>
                    </a:lnTo>
                    <a:lnTo>
                      <a:pt x="1816" y="246"/>
                    </a:lnTo>
                    <a:lnTo>
                      <a:pt x="1814" y="248"/>
                    </a:lnTo>
                    <a:lnTo>
                      <a:pt x="1812" y="250"/>
                    </a:lnTo>
                    <a:lnTo>
                      <a:pt x="1811" y="250"/>
                    </a:lnTo>
                    <a:lnTo>
                      <a:pt x="1810" y="250"/>
                    </a:lnTo>
                    <a:lnTo>
                      <a:pt x="1808" y="248"/>
                    </a:lnTo>
                    <a:lnTo>
                      <a:pt x="1806" y="248"/>
                    </a:lnTo>
                    <a:lnTo>
                      <a:pt x="1805" y="247"/>
                    </a:lnTo>
                    <a:lnTo>
                      <a:pt x="1804" y="247"/>
                    </a:lnTo>
                    <a:lnTo>
                      <a:pt x="1803" y="248"/>
                    </a:lnTo>
                    <a:lnTo>
                      <a:pt x="1801" y="251"/>
                    </a:lnTo>
                    <a:lnTo>
                      <a:pt x="1800" y="253"/>
                    </a:lnTo>
                    <a:lnTo>
                      <a:pt x="1797" y="255"/>
                    </a:lnTo>
                    <a:lnTo>
                      <a:pt x="1796" y="257"/>
                    </a:lnTo>
                    <a:lnTo>
                      <a:pt x="1794" y="259"/>
                    </a:lnTo>
                    <a:lnTo>
                      <a:pt x="1793" y="261"/>
                    </a:lnTo>
                    <a:lnTo>
                      <a:pt x="1792" y="257"/>
                    </a:lnTo>
                    <a:lnTo>
                      <a:pt x="1791" y="255"/>
                    </a:lnTo>
                    <a:lnTo>
                      <a:pt x="1790" y="253"/>
                    </a:lnTo>
                    <a:lnTo>
                      <a:pt x="1789" y="251"/>
                    </a:lnTo>
                    <a:lnTo>
                      <a:pt x="1787" y="248"/>
                    </a:lnTo>
                    <a:lnTo>
                      <a:pt x="1786" y="246"/>
                    </a:lnTo>
                    <a:lnTo>
                      <a:pt x="1785" y="245"/>
                    </a:lnTo>
                    <a:lnTo>
                      <a:pt x="1783" y="245"/>
                    </a:lnTo>
                    <a:lnTo>
                      <a:pt x="1781" y="246"/>
                    </a:lnTo>
                    <a:lnTo>
                      <a:pt x="1778" y="248"/>
                    </a:lnTo>
                    <a:lnTo>
                      <a:pt x="1776" y="250"/>
                    </a:lnTo>
                    <a:lnTo>
                      <a:pt x="1775" y="250"/>
                    </a:lnTo>
                    <a:lnTo>
                      <a:pt x="1773" y="251"/>
                    </a:lnTo>
                    <a:lnTo>
                      <a:pt x="1771" y="251"/>
                    </a:lnTo>
                    <a:lnTo>
                      <a:pt x="1770" y="251"/>
                    </a:lnTo>
                    <a:lnTo>
                      <a:pt x="1769" y="248"/>
                    </a:lnTo>
                    <a:lnTo>
                      <a:pt x="1769" y="247"/>
                    </a:lnTo>
                    <a:lnTo>
                      <a:pt x="1769" y="244"/>
                    </a:lnTo>
                    <a:lnTo>
                      <a:pt x="1770" y="242"/>
                    </a:lnTo>
                    <a:lnTo>
                      <a:pt x="1771" y="240"/>
                    </a:lnTo>
                    <a:lnTo>
                      <a:pt x="1772" y="237"/>
                    </a:lnTo>
                    <a:lnTo>
                      <a:pt x="1772" y="234"/>
                    </a:lnTo>
                    <a:lnTo>
                      <a:pt x="1771" y="232"/>
                    </a:lnTo>
                    <a:lnTo>
                      <a:pt x="1771" y="230"/>
                    </a:lnTo>
                    <a:lnTo>
                      <a:pt x="1770" y="228"/>
                    </a:lnTo>
                    <a:lnTo>
                      <a:pt x="1770" y="226"/>
                    </a:lnTo>
                    <a:lnTo>
                      <a:pt x="1806" y="207"/>
                    </a:lnTo>
                    <a:lnTo>
                      <a:pt x="1807" y="206"/>
                    </a:lnTo>
                    <a:lnTo>
                      <a:pt x="1812" y="203"/>
                    </a:lnTo>
                    <a:lnTo>
                      <a:pt x="1841" y="189"/>
                    </a:lnTo>
                    <a:close/>
                    <a:moveTo>
                      <a:pt x="1942" y="186"/>
                    </a:moveTo>
                    <a:lnTo>
                      <a:pt x="1944" y="187"/>
                    </a:lnTo>
                    <a:lnTo>
                      <a:pt x="1945" y="188"/>
                    </a:lnTo>
                    <a:lnTo>
                      <a:pt x="1947" y="190"/>
                    </a:lnTo>
                    <a:lnTo>
                      <a:pt x="1949" y="191"/>
                    </a:lnTo>
                    <a:lnTo>
                      <a:pt x="1950" y="193"/>
                    </a:lnTo>
                    <a:lnTo>
                      <a:pt x="1952" y="195"/>
                    </a:lnTo>
                    <a:lnTo>
                      <a:pt x="1953" y="196"/>
                    </a:lnTo>
                    <a:lnTo>
                      <a:pt x="1954" y="197"/>
                    </a:lnTo>
                    <a:lnTo>
                      <a:pt x="1954" y="199"/>
                    </a:lnTo>
                    <a:lnTo>
                      <a:pt x="1954" y="200"/>
                    </a:lnTo>
                    <a:lnTo>
                      <a:pt x="1954" y="202"/>
                    </a:lnTo>
                    <a:lnTo>
                      <a:pt x="1953" y="203"/>
                    </a:lnTo>
                    <a:lnTo>
                      <a:pt x="1952" y="204"/>
                    </a:lnTo>
                    <a:lnTo>
                      <a:pt x="1949" y="204"/>
                    </a:lnTo>
                    <a:lnTo>
                      <a:pt x="1948" y="204"/>
                    </a:lnTo>
                    <a:lnTo>
                      <a:pt x="1947" y="203"/>
                    </a:lnTo>
                    <a:lnTo>
                      <a:pt x="1947" y="203"/>
                    </a:lnTo>
                    <a:lnTo>
                      <a:pt x="1945" y="203"/>
                    </a:lnTo>
                    <a:lnTo>
                      <a:pt x="1944" y="202"/>
                    </a:lnTo>
                    <a:lnTo>
                      <a:pt x="1943" y="202"/>
                    </a:lnTo>
                    <a:lnTo>
                      <a:pt x="1942" y="201"/>
                    </a:lnTo>
                    <a:lnTo>
                      <a:pt x="1941" y="200"/>
                    </a:lnTo>
                    <a:lnTo>
                      <a:pt x="1941" y="198"/>
                    </a:lnTo>
                    <a:lnTo>
                      <a:pt x="1939" y="197"/>
                    </a:lnTo>
                    <a:lnTo>
                      <a:pt x="1937" y="196"/>
                    </a:lnTo>
                    <a:lnTo>
                      <a:pt x="1936" y="195"/>
                    </a:lnTo>
                    <a:lnTo>
                      <a:pt x="1935" y="192"/>
                    </a:lnTo>
                    <a:lnTo>
                      <a:pt x="1935" y="190"/>
                    </a:lnTo>
                    <a:lnTo>
                      <a:pt x="1936" y="188"/>
                    </a:lnTo>
                    <a:lnTo>
                      <a:pt x="1938" y="187"/>
                    </a:lnTo>
                    <a:lnTo>
                      <a:pt x="1939" y="186"/>
                    </a:lnTo>
                    <a:lnTo>
                      <a:pt x="1942" y="186"/>
                    </a:lnTo>
                    <a:close/>
                    <a:moveTo>
                      <a:pt x="1857" y="186"/>
                    </a:moveTo>
                    <a:lnTo>
                      <a:pt x="1858" y="187"/>
                    </a:lnTo>
                    <a:lnTo>
                      <a:pt x="1858" y="187"/>
                    </a:lnTo>
                    <a:lnTo>
                      <a:pt x="1858" y="188"/>
                    </a:lnTo>
                    <a:lnTo>
                      <a:pt x="1858" y="190"/>
                    </a:lnTo>
                    <a:lnTo>
                      <a:pt x="1857" y="191"/>
                    </a:lnTo>
                    <a:lnTo>
                      <a:pt x="1857" y="191"/>
                    </a:lnTo>
                    <a:lnTo>
                      <a:pt x="1857" y="192"/>
                    </a:lnTo>
                    <a:lnTo>
                      <a:pt x="1855" y="192"/>
                    </a:lnTo>
                    <a:lnTo>
                      <a:pt x="1854" y="192"/>
                    </a:lnTo>
                    <a:lnTo>
                      <a:pt x="1852" y="191"/>
                    </a:lnTo>
                    <a:lnTo>
                      <a:pt x="1852" y="189"/>
                    </a:lnTo>
                    <a:lnTo>
                      <a:pt x="1854" y="188"/>
                    </a:lnTo>
                    <a:lnTo>
                      <a:pt x="1855" y="187"/>
                    </a:lnTo>
                    <a:lnTo>
                      <a:pt x="1857" y="186"/>
                    </a:lnTo>
                    <a:close/>
                    <a:moveTo>
                      <a:pt x="1862" y="177"/>
                    </a:moveTo>
                    <a:lnTo>
                      <a:pt x="1862" y="177"/>
                    </a:lnTo>
                    <a:lnTo>
                      <a:pt x="1861" y="177"/>
                    </a:lnTo>
                    <a:lnTo>
                      <a:pt x="1862" y="177"/>
                    </a:lnTo>
                    <a:close/>
                    <a:moveTo>
                      <a:pt x="1869" y="175"/>
                    </a:moveTo>
                    <a:lnTo>
                      <a:pt x="1869" y="175"/>
                    </a:lnTo>
                    <a:lnTo>
                      <a:pt x="1869" y="178"/>
                    </a:lnTo>
                    <a:lnTo>
                      <a:pt x="1868" y="181"/>
                    </a:lnTo>
                    <a:lnTo>
                      <a:pt x="1867" y="182"/>
                    </a:lnTo>
                    <a:lnTo>
                      <a:pt x="1866" y="184"/>
                    </a:lnTo>
                    <a:lnTo>
                      <a:pt x="1865" y="184"/>
                    </a:lnTo>
                    <a:lnTo>
                      <a:pt x="1863" y="184"/>
                    </a:lnTo>
                    <a:lnTo>
                      <a:pt x="1863" y="181"/>
                    </a:lnTo>
                    <a:lnTo>
                      <a:pt x="1862" y="180"/>
                    </a:lnTo>
                    <a:lnTo>
                      <a:pt x="1862" y="177"/>
                    </a:lnTo>
                    <a:lnTo>
                      <a:pt x="1862" y="177"/>
                    </a:lnTo>
                    <a:lnTo>
                      <a:pt x="1863" y="177"/>
                    </a:lnTo>
                    <a:lnTo>
                      <a:pt x="1865" y="177"/>
                    </a:lnTo>
                    <a:lnTo>
                      <a:pt x="1867" y="176"/>
                    </a:lnTo>
                    <a:lnTo>
                      <a:pt x="1868" y="175"/>
                    </a:lnTo>
                    <a:lnTo>
                      <a:pt x="1869" y="175"/>
                    </a:lnTo>
                    <a:close/>
                    <a:moveTo>
                      <a:pt x="1866" y="170"/>
                    </a:moveTo>
                    <a:lnTo>
                      <a:pt x="1866" y="171"/>
                    </a:lnTo>
                    <a:lnTo>
                      <a:pt x="1866" y="174"/>
                    </a:lnTo>
                    <a:lnTo>
                      <a:pt x="1865" y="176"/>
                    </a:lnTo>
                    <a:lnTo>
                      <a:pt x="1865" y="176"/>
                    </a:lnTo>
                    <a:lnTo>
                      <a:pt x="1863" y="177"/>
                    </a:lnTo>
                    <a:lnTo>
                      <a:pt x="1862" y="177"/>
                    </a:lnTo>
                    <a:lnTo>
                      <a:pt x="1862" y="175"/>
                    </a:lnTo>
                    <a:lnTo>
                      <a:pt x="1862" y="172"/>
                    </a:lnTo>
                    <a:lnTo>
                      <a:pt x="1862" y="170"/>
                    </a:lnTo>
                    <a:lnTo>
                      <a:pt x="1865" y="170"/>
                    </a:lnTo>
                    <a:lnTo>
                      <a:pt x="1866" y="170"/>
                    </a:lnTo>
                    <a:lnTo>
                      <a:pt x="1866" y="170"/>
                    </a:lnTo>
                    <a:close/>
                    <a:moveTo>
                      <a:pt x="1880" y="167"/>
                    </a:moveTo>
                    <a:lnTo>
                      <a:pt x="1879" y="169"/>
                    </a:lnTo>
                    <a:lnTo>
                      <a:pt x="1878" y="170"/>
                    </a:lnTo>
                    <a:lnTo>
                      <a:pt x="1877" y="172"/>
                    </a:lnTo>
                    <a:lnTo>
                      <a:pt x="1876" y="174"/>
                    </a:lnTo>
                    <a:lnTo>
                      <a:pt x="1874" y="174"/>
                    </a:lnTo>
                    <a:lnTo>
                      <a:pt x="1873" y="174"/>
                    </a:lnTo>
                    <a:lnTo>
                      <a:pt x="1873" y="172"/>
                    </a:lnTo>
                    <a:lnTo>
                      <a:pt x="1873" y="171"/>
                    </a:lnTo>
                    <a:lnTo>
                      <a:pt x="1872" y="171"/>
                    </a:lnTo>
                    <a:lnTo>
                      <a:pt x="1872" y="170"/>
                    </a:lnTo>
                    <a:lnTo>
                      <a:pt x="1872" y="169"/>
                    </a:lnTo>
                    <a:lnTo>
                      <a:pt x="1873" y="169"/>
                    </a:lnTo>
                    <a:lnTo>
                      <a:pt x="1873" y="168"/>
                    </a:lnTo>
                    <a:lnTo>
                      <a:pt x="1876" y="168"/>
                    </a:lnTo>
                    <a:lnTo>
                      <a:pt x="1877" y="167"/>
                    </a:lnTo>
                    <a:lnTo>
                      <a:pt x="1880" y="167"/>
                    </a:lnTo>
                    <a:close/>
                    <a:moveTo>
                      <a:pt x="1867" y="167"/>
                    </a:moveTo>
                    <a:lnTo>
                      <a:pt x="1870" y="167"/>
                    </a:lnTo>
                    <a:lnTo>
                      <a:pt x="1870" y="170"/>
                    </a:lnTo>
                    <a:lnTo>
                      <a:pt x="1869" y="174"/>
                    </a:lnTo>
                    <a:lnTo>
                      <a:pt x="1869" y="175"/>
                    </a:lnTo>
                    <a:lnTo>
                      <a:pt x="1868" y="172"/>
                    </a:lnTo>
                    <a:lnTo>
                      <a:pt x="1868" y="169"/>
                    </a:lnTo>
                    <a:lnTo>
                      <a:pt x="1867" y="167"/>
                    </a:lnTo>
                    <a:close/>
                    <a:moveTo>
                      <a:pt x="1866" y="167"/>
                    </a:moveTo>
                    <a:lnTo>
                      <a:pt x="1867" y="167"/>
                    </a:lnTo>
                    <a:lnTo>
                      <a:pt x="1867" y="169"/>
                    </a:lnTo>
                    <a:lnTo>
                      <a:pt x="1866" y="170"/>
                    </a:lnTo>
                    <a:lnTo>
                      <a:pt x="1866" y="167"/>
                    </a:lnTo>
                    <a:close/>
                    <a:moveTo>
                      <a:pt x="1921" y="139"/>
                    </a:moveTo>
                    <a:lnTo>
                      <a:pt x="1923" y="142"/>
                    </a:lnTo>
                    <a:lnTo>
                      <a:pt x="1923" y="144"/>
                    </a:lnTo>
                    <a:lnTo>
                      <a:pt x="1923" y="146"/>
                    </a:lnTo>
                    <a:lnTo>
                      <a:pt x="1924" y="148"/>
                    </a:lnTo>
                    <a:lnTo>
                      <a:pt x="1924" y="149"/>
                    </a:lnTo>
                    <a:lnTo>
                      <a:pt x="1924" y="152"/>
                    </a:lnTo>
                    <a:lnTo>
                      <a:pt x="1923" y="155"/>
                    </a:lnTo>
                    <a:lnTo>
                      <a:pt x="1923" y="164"/>
                    </a:lnTo>
                    <a:lnTo>
                      <a:pt x="1915" y="177"/>
                    </a:lnTo>
                    <a:lnTo>
                      <a:pt x="1914" y="180"/>
                    </a:lnTo>
                    <a:lnTo>
                      <a:pt x="1912" y="181"/>
                    </a:lnTo>
                    <a:lnTo>
                      <a:pt x="1911" y="184"/>
                    </a:lnTo>
                    <a:lnTo>
                      <a:pt x="1909" y="184"/>
                    </a:lnTo>
                    <a:lnTo>
                      <a:pt x="1907" y="181"/>
                    </a:lnTo>
                    <a:lnTo>
                      <a:pt x="1907" y="178"/>
                    </a:lnTo>
                    <a:lnTo>
                      <a:pt x="1909" y="174"/>
                    </a:lnTo>
                    <a:lnTo>
                      <a:pt x="1910" y="169"/>
                    </a:lnTo>
                    <a:lnTo>
                      <a:pt x="1910" y="166"/>
                    </a:lnTo>
                    <a:lnTo>
                      <a:pt x="1911" y="163"/>
                    </a:lnTo>
                    <a:lnTo>
                      <a:pt x="1912" y="160"/>
                    </a:lnTo>
                    <a:lnTo>
                      <a:pt x="1912" y="157"/>
                    </a:lnTo>
                    <a:lnTo>
                      <a:pt x="1911" y="155"/>
                    </a:lnTo>
                    <a:lnTo>
                      <a:pt x="1910" y="153"/>
                    </a:lnTo>
                    <a:lnTo>
                      <a:pt x="1910" y="147"/>
                    </a:lnTo>
                    <a:lnTo>
                      <a:pt x="1910" y="146"/>
                    </a:lnTo>
                    <a:lnTo>
                      <a:pt x="1914" y="144"/>
                    </a:lnTo>
                    <a:lnTo>
                      <a:pt x="1915" y="143"/>
                    </a:lnTo>
                    <a:lnTo>
                      <a:pt x="1917" y="142"/>
                    </a:lnTo>
                    <a:lnTo>
                      <a:pt x="1921" y="139"/>
                    </a:lnTo>
                    <a:close/>
                    <a:moveTo>
                      <a:pt x="1914" y="139"/>
                    </a:moveTo>
                    <a:lnTo>
                      <a:pt x="1916" y="139"/>
                    </a:lnTo>
                    <a:lnTo>
                      <a:pt x="1916" y="141"/>
                    </a:lnTo>
                    <a:lnTo>
                      <a:pt x="1916" y="142"/>
                    </a:lnTo>
                    <a:lnTo>
                      <a:pt x="1915" y="143"/>
                    </a:lnTo>
                    <a:lnTo>
                      <a:pt x="1913" y="144"/>
                    </a:lnTo>
                    <a:lnTo>
                      <a:pt x="1910" y="146"/>
                    </a:lnTo>
                    <a:lnTo>
                      <a:pt x="1910" y="147"/>
                    </a:lnTo>
                    <a:lnTo>
                      <a:pt x="1907" y="149"/>
                    </a:lnTo>
                    <a:lnTo>
                      <a:pt x="1907" y="146"/>
                    </a:lnTo>
                    <a:lnTo>
                      <a:pt x="1909" y="146"/>
                    </a:lnTo>
                    <a:lnTo>
                      <a:pt x="1910" y="145"/>
                    </a:lnTo>
                    <a:lnTo>
                      <a:pt x="1910" y="145"/>
                    </a:lnTo>
                    <a:lnTo>
                      <a:pt x="1911" y="145"/>
                    </a:lnTo>
                    <a:lnTo>
                      <a:pt x="1912" y="144"/>
                    </a:lnTo>
                    <a:lnTo>
                      <a:pt x="1912" y="143"/>
                    </a:lnTo>
                    <a:lnTo>
                      <a:pt x="1912" y="141"/>
                    </a:lnTo>
                    <a:lnTo>
                      <a:pt x="1913" y="141"/>
                    </a:lnTo>
                    <a:lnTo>
                      <a:pt x="1914" y="139"/>
                    </a:lnTo>
                    <a:close/>
                    <a:moveTo>
                      <a:pt x="1970" y="116"/>
                    </a:moveTo>
                    <a:lnTo>
                      <a:pt x="1970" y="116"/>
                    </a:lnTo>
                    <a:lnTo>
                      <a:pt x="1971" y="119"/>
                    </a:lnTo>
                    <a:lnTo>
                      <a:pt x="1974" y="122"/>
                    </a:lnTo>
                    <a:lnTo>
                      <a:pt x="1976" y="125"/>
                    </a:lnTo>
                    <a:lnTo>
                      <a:pt x="1977" y="127"/>
                    </a:lnTo>
                    <a:lnTo>
                      <a:pt x="1980" y="130"/>
                    </a:lnTo>
                    <a:lnTo>
                      <a:pt x="1981" y="134"/>
                    </a:lnTo>
                    <a:lnTo>
                      <a:pt x="1981" y="141"/>
                    </a:lnTo>
                    <a:lnTo>
                      <a:pt x="1981" y="148"/>
                    </a:lnTo>
                    <a:lnTo>
                      <a:pt x="1980" y="148"/>
                    </a:lnTo>
                    <a:lnTo>
                      <a:pt x="1980" y="147"/>
                    </a:lnTo>
                    <a:lnTo>
                      <a:pt x="1979" y="145"/>
                    </a:lnTo>
                    <a:lnTo>
                      <a:pt x="1978" y="143"/>
                    </a:lnTo>
                    <a:lnTo>
                      <a:pt x="1977" y="141"/>
                    </a:lnTo>
                    <a:lnTo>
                      <a:pt x="1976" y="138"/>
                    </a:lnTo>
                    <a:lnTo>
                      <a:pt x="1976" y="136"/>
                    </a:lnTo>
                    <a:lnTo>
                      <a:pt x="1974" y="136"/>
                    </a:lnTo>
                    <a:lnTo>
                      <a:pt x="1972" y="137"/>
                    </a:lnTo>
                    <a:lnTo>
                      <a:pt x="1972" y="139"/>
                    </a:lnTo>
                    <a:lnTo>
                      <a:pt x="1971" y="142"/>
                    </a:lnTo>
                    <a:lnTo>
                      <a:pt x="1971" y="143"/>
                    </a:lnTo>
                    <a:lnTo>
                      <a:pt x="1970" y="147"/>
                    </a:lnTo>
                    <a:lnTo>
                      <a:pt x="1969" y="149"/>
                    </a:lnTo>
                    <a:lnTo>
                      <a:pt x="1969" y="152"/>
                    </a:lnTo>
                    <a:lnTo>
                      <a:pt x="1970" y="154"/>
                    </a:lnTo>
                    <a:lnTo>
                      <a:pt x="1971" y="157"/>
                    </a:lnTo>
                    <a:lnTo>
                      <a:pt x="1971" y="163"/>
                    </a:lnTo>
                    <a:lnTo>
                      <a:pt x="1969" y="169"/>
                    </a:lnTo>
                    <a:lnTo>
                      <a:pt x="1967" y="177"/>
                    </a:lnTo>
                    <a:lnTo>
                      <a:pt x="1966" y="178"/>
                    </a:lnTo>
                    <a:lnTo>
                      <a:pt x="1965" y="179"/>
                    </a:lnTo>
                    <a:lnTo>
                      <a:pt x="1964" y="180"/>
                    </a:lnTo>
                    <a:lnTo>
                      <a:pt x="1963" y="181"/>
                    </a:lnTo>
                    <a:lnTo>
                      <a:pt x="1960" y="181"/>
                    </a:lnTo>
                    <a:lnTo>
                      <a:pt x="1959" y="181"/>
                    </a:lnTo>
                    <a:lnTo>
                      <a:pt x="1959" y="179"/>
                    </a:lnTo>
                    <a:lnTo>
                      <a:pt x="1959" y="177"/>
                    </a:lnTo>
                    <a:lnTo>
                      <a:pt x="1960" y="174"/>
                    </a:lnTo>
                    <a:lnTo>
                      <a:pt x="1963" y="170"/>
                    </a:lnTo>
                    <a:lnTo>
                      <a:pt x="1963" y="166"/>
                    </a:lnTo>
                    <a:lnTo>
                      <a:pt x="1963" y="155"/>
                    </a:lnTo>
                    <a:lnTo>
                      <a:pt x="1961" y="147"/>
                    </a:lnTo>
                    <a:lnTo>
                      <a:pt x="1959" y="142"/>
                    </a:lnTo>
                    <a:lnTo>
                      <a:pt x="1957" y="136"/>
                    </a:lnTo>
                    <a:lnTo>
                      <a:pt x="1956" y="134"/>
                    </a:lnTo>
                    <a:lnTo>
                      <a:pt x="1955" y="132"/>
                    </a:lnTo>
                    <a:lnTo>
                      <a:pt x="1954" y="130"/>
                    </a:lnTo>
                    <a:lnTo>
                      <a:pt x="1953" y="127"/>
                    </a:lnTo>
                    <a:lnTo>
                      <a:pt x="1950" y="126"/>
                    </a:lnTo>
                    <a:lnTo>
                      <a:pt x="1948" y="125"/>
                    </a:lnTo>
                    <a:lnTo>
                      <a:pt x="1946" y="125"/>
                    </a:lnTo>
                    <a:lnTo>
                      <a:pt x="1944" y="125"/>
                    </a:lnTo>
                    <a:lnTo>
                      <a:pt x="1944" y="123"/>
                    </a:lnTo>
                    <a:lnTo>
                      <a:pt x="1947" y="121"/>
                    </a:lnTo>
                    <a:lnTo>
                      <a:pt x="1948" y="122"/>
                    </a:lnTo>
                    <a:lnTo>
                      <a:pt x="1950" y="125"/>
                    </a:lnTo>
                    <a:lnTo>
                      <a:pt x="1953" y="126"/>
                    </a:lnTo>
                    <a:lnTo>
                      <a:pt x="1963" y="121"/>
                    </a:lnTo>
                    <a:lnTo>
                      <a:pt x="1970" y="116"/>
                    </a:lnTo>
                    <a:close/>
                    <a:moveTo>
                      <a:pt x="1923" y="104"/>
                    </a:moveTo>
                    <a:lnTo>
                      <a:pt x="1924" y="105"/>
                    </a:lnTo>
                    <a:lnTo>
                      <a:pt x="1924" y="108"/>
                    </a:lnTo>
                    <a:lnTo>
                      <a:pt x="1924" y="110"/>
                    </a:lnTo>
                    <a:lnTo>
                      <a:pt x="1923" y="113"/>
                    </a:lnTo>
                    <a:lnTo>
                      <a:pt x="1923" y="116"/>
                    </a:lnTo>
                    <a:lnTo>
                      <a:pt x="1922" y="119"/>
                    </a:lnTo>
                    <a:lnTo>
                      <a:pt x="1922" y="121"/>
                    </a:lnTo>
                    <a:lnTo>
                      <a:pt x="1922" y="122"/>
                    </a:lnTo>
                    <a:lnTo>
                      <a:pt x="1922" y="124"/>
                    </a:lnTo>
                    <a:lnTo>
                      <a:pt x="1922" y="126"/>
                    </a:lnTo>
                    <a:lnTo>
                      <a:pt x="1922" y="127"/>
                    </a:lnTo>
                    <a:lnTo>
                      <a:pt x="1921" y="128"/>
                    </a:lnTo>
                    <a:lnTo>
                      <a:pt x="1921" y="128"/>
                    </a:lnTo>
                    <a:lnTo>
                      <a:pt x="1919" y="126"/>
                    </a:lnTo>
                    <a:lnTo>
                      <a:pt x="1919" y="124"/>
                    </a:lnTo>
                    <a:lnTo>
                      <a:pt x="1919" y="121"/>
                    </a:lnTo>
                    <a:lnTo>
                      <a:pt x="1917" y="119"/>
                    </a:lnTo>
                    <a:lnTo>
                      <a:pt x="1917" y="116"/>
                    </a:lnTo>
                    <a:lnTo>
                      <a:pt x="1916" y="114"/>
                    </a:lnTo>
                    <a:lnTo>
                      <a:pt x="1917" y="113"/>
                    </a:lnTo>
                    <a:lnTo>
                      <a:pt x="1919" y="111"/>
                    </a:lnTo>
                    <a:lnTo>
                      <a:pt x="1920" y="110"/>
                    </a:lnTo>
                    <a:lnTo>
                      <a:pt x="1921" y="109"/>
                    </a:lnTo>
                    <a:lnTo>
                      <a:pt x="1922" y="106"/>
                    </a:lnTo>
                    <a:lnTo>
                      <a:pt x="1922" y="104"/>
                    </a:lnTo>
                    <a:lnTo>
                      <a:pt x="1923" y="104"/>
                    </a:lnTo>
                    <a:close/>
                    <a:moveTo>
                      <a:pt x="503" y="89"/>
                    </a:moveTo>
                    <a:lnTo>
                      <a:pt x="506" y="90"/>
                    </a:lnTo>
                    <a:lnTo>
                      <a:pt x="508" y="93"/>
                    </a:lnTo>
                    <a:lnTo>
                      <a:pt x="507" y="97"/>
                    </a:lnTo>
                    <a:lnTo>
                      <a:pt x="507" y="100"/>
                    </a:lnTo>
                    <a:lnTo>
                      <a:pt x="507" y="100"/>
                    </a:lnTo>
                    <a:lnTo>
                      <a:pt x="502" y="98"/>
                    </a:lnTo>
                    <a:lnTo>
                      <a:pt x="493" y="94"/>
                    </a:lnTo>
                    <a:lnTo>
                      <a:pt x="491" y="97"/>
                    </a:lnTo>
                    <a:lnTo>
                      <a:pt x="490" y="95"/>
                    </a:lnTo>
                    <a:lnTo>
                      <a:pt x="494" y="93"/>
                    </a:lnTo>
                    <a:lnTo>
                      <a:pt x="498" y="90"/>
                    </a:lnTo>
                    <a:lnTo>
                      <a:pt x="503" y="89"/>
                    </a:lnTo>
                    <a:close/>
                    <a:moveTo>
                      <a:pt x="2053" y="57"/>
                    </a:moveTo>
                    <a:lnTo>
                      <a:pt x="2052" y="62"/>
                    </a:lnTo>
                    <a:lnTo>
                      <a:pt x="2050" y="70"/>
                    </a:lnTo>
                    <a:lnTo>
                      <a:pt x="2047" y="77"/>
                    </a:lnTo>
                    <a:lnTo>
                      <a:pt x="2046" y="80"/>
                    </a:lnTo>
                    <a:lnTo>
                      <a:pt x="2046" y="82"/>
                    </a:lnTo>
                    <a:lnTo>
                      <a:pt x="2045" y="84"/>
                    </a:lnTo>
                    <a:lnTo>
                      <a:pt x="2045" y="88"/>
                    </a:lnTo>
                    <a:lnTo>
                      <a:pt x="2045" y="90"/>
                    </a:lnTo>
                    <a:lnTo>
                      <a:pt x="2045" y="92"/>
                    </a:lnTo>
                    <a:lnTo>
                      <a:pt x="2046" y="94"/>
                    </a:lnTo>
                    <a:lnTo>
                      <a:pt x="2046" y="98"/>
                    </a:lnTo>
                    <a:lnTo>
                      <a:pt x="2047" y="101"/>
                    </a:lnTo>
                    <a:lnTo>
                      <a:pt x="2046" y="104"/>
                    </a:lnTo>
                    <a:lnTo>
                      <a:pt x="2045" y="108"/>
                    </a:lnTo>
                    <a:lnTo>
                      <a:pt x="2044" y="110"/>
                    </a:lnTo>
                    <a:lnTo>
                      <a:pt x="2043" y="111"/>
                    </a:lnTo>
                    <a:lnTo>
                      <a:pt x="2041" y="111"/>
                    </a:lnTo>
                    <a:lnTo>
                      <a:pt x="2038" y="113"/>
                    </a:lnTo>
                    <a:lnTo>
                      <a:pt x="2036" y="114"/>
                    </a:lnTo>
                    <a:lnTo>
                      <a:pt x="2034" y="115"/>
                    </a:lnTo>
                    <a:lnTo>
                      <a:pt x="2032" y="119"/>
                    </a:lnTo>
                    <a:lnTo>
                      <a:pt x="2031" y="120"/>
                    </a:lnTo>
                    <a:lnTo>
                      <a:pt x="2029" y="120"/>
                    </a:lnTo>
                    <a:lnTo>
                      <a:pt x="2027" y="120"/>
                    </a:lnTo>
                    <a:lnTo>
                      <a:pt x="2025" y="120"/>
                    </a:lnTo>
                    <a:lnTo>
                      <a:pt x="2023" y="121"/>
                    </a:lnTo>
                    <a:lnTo>
                      <a:pt x="2021" y="122"/>
                    </a:lnTo>
                    <a:lnTo>
                      <a:pt x="2020" y="125"/>
                    </a:lnTo>
                    <a:lnTo>
                      <a:pt x="2019" y="128"/>
                    </a:lnTo>
                    <a:lnTo>
                      <a:pt x="2018" y="132"/>
                    </a:lnTo>
                    <a:lnTo>
                      <a:pt x="2016" y="135"/>
                    </a:lnTo>
                    <a:lnTo>
                      <a:pt x="2015" y="137"/>
                    </a:lnTo>
                    <a:lnTo>
                      <a:pt x="2014" y="139"/>
                    </a:lnTo>
                    <a:lnTo>
                      <a:pt x="2012" y="139"/>
                    </a:lnTo>
                    <a:lnTo>
                      <a:pt x="2011" y="142"/>
                    </a:lnTo>
                    <a:lnTo>
                      <a:pt x="2010" y="144"/>
                    </a:lnTo>
                    <a:lnTo>
                      <a:pt x="2010" y="146"/>
                    </a:lnTo>
                    <a:lnTo>
                      <a:pt x="2011" y="147"/>
                    </a:lnTo>
                    <a:lnTo>
                      <a:pt x="2011" y="148"/>
                    </a:lnTo>
                    <a:lnTo>
                      <a:pt x="2012" y="149"/>
                    </a:lnTo>
                    <a:lnTo>
                      <a:pt x="2012" y="150"/>
                    </a:lnTo>
                    <a:lnTo>
                      <a:pt x="2012" y="153"/>
                    </a:lnTo>
                    <a:lnTo>
                      <a:pt x="2012" y="156"/>
                    </a:lnTo>
                    <a:lnTo>
                      <a:pt x="2012" y="158"/>
                    </a:lnTo>
                    <a:lnTo>
                      <a:pt x="2012" y="160"/>
                    </a:lnTo>
                    <a:lnTo>
                      <a:pt x="2012" y="163"/>
                    </a:lnTo>
                    <a:lnTo>
                      <a:pt x="2014" y="165"/>
                    </a:lnTo>
                    <a:lnTo>
                      <a:pt x="2016" y="165"/>
                    </a:lnTo>
                    <a:lnTo>
                      <a:pt x="2018" y="167"/>
                    </a:lnTo>
                    <a:lnTo>
                      <a:pt x="2018" y="170"/>
                    </a:lnTo>
                    <a:lnTo>
                      <a:pt x="2018" y="174"/>
                    </a:lnTo>
                    <a:lnTo>
                      <a:pt x="2018" y="176"/>
                    </a:lnTo>
                    <a:lnTo>
                      <a:pt x="2016" y="178"/>
                    </a:lnTo>
                    <a:lnTo>
                      <a:pt x="2014" y="178"/>
                    </a:lnTo>
                    <a:lnTo>
                      <a:pt x="2013" y="177"/>
                    </a:lnTo>
                    <a:lnTo>
                      <a:pt x="2011" y="177"/>
                    </a:lnTo>
                    <a:lnTo>
                      <a:pt x="2010" y="178"/>
                    </a:lnTo>
                    <a:lnTo>
                      <a:pt x="2009" y="180"/>
                    </a:lnTo>
                    <a:lnTo>
                      <a:pt x="2008" y="182"/>
                    </a:lnTo>
                    <a:lnTo>
                      <a:pt x="2007" y="186"/>
                    </a:lnTo>
                    <a:lnTo>
                      <a:pt x="2005" y="189"/>
                    </a:lnTo>
                    <a:lnTo>
                      <a:pt x="2004" y="191"/>
                    </a:lnTo>
                    <a:lnTo>
                      <a:pt x="2002" y="192"/>
                    </a:lnTo>
                    <a:lnTo>
                      <a:pt x="2000" y="193"/>
                    </a:lnTo>
                    <a:lnTo>
                      <a:pt x="1998" y="192"/>
                    </a:lnTo>
                    <a:lnTo>
                      <a:pt x="1996" y="192"/>
                    </a:lnTo>
                    <a:lnTo>
                      <a:pt x="1994" y="191"/>
                    </a:lnTo>
                    <a:lnTo>
                      <a:pt x="1994" y="189"/>
                    </a:lnTo>
                    <a:lnTo>
                      <a:pt x="1994" y="186"/>
                    </a:lnTo>
                    <a:lnTo>
                      <a:pt x="1994" y="182"/>
                    </a:lnTo>
                    <a:lnTo>
                      <a:pt x="1994" y="179"/>
                    </a:lnTo>
                    <a:lnTo>
                      <a:pt x="1994" y="176"/>
                    </a:lnTo>
                    <a:lnTo>
                      <a:pt x="1994" y="175"/>
                    </a:lnTo>
                    <a:lnTo>
                      <a:pt x="1994" y="172"/>
                    </a:lnTo>
                    <a:lnTo>
                      <a:pt x="1993" y="171"/>
                    </a:lnTo>
                    <a:lnTo>
                      <a:pt x="1992" y="171"/>
                    </a:lnTo>
                    <a:lnTo>
                      <a:pt x="1991" y="171"/>
                    </a:lnTo>
                    <a:lnTo>
                      <a:pt x="1989" y="171"/>
                    </a:lnTo>
                    <a:lnTo>
                      <a:pt x="1988" y="170"/>
                    </a:lnTo>
                    <a:lnTo>
                      <a:pt x="1987" y="169"/>
                    </a:lnTo>
                    <a:lnTo>
                      <a:pt x="1986" y="167"/>
                    </a:lnTo>
                    <a:lnTo>
                      <a:pt x="1985" y="161"/>
                    </a:lnTo>
                    <a:lnTo>
                      <a:pt x="1986" y="154"/>
                    </a:lnTo>
                    <a:lnTo>
                      <a:pt x="1987" y="146"/>
                    </a:lnTo>
                    <a:lnTo>
                      <a:pt x="1988" y="139"/>
                    </a:lnTo>
                    <a:lnTo>
                      <a:pt x="1989" y="136"/>
                    </a:lnTo>
                    <a:lnTo>
                      <a:pt x="1989" y="133"/>
                    </a:lnTo>
                    <a:lnTo>
                      <a:pt x="1989" y="130"/>
                    </a:lnTo>
                    <a:lnTo>
                      <a:pt x="1989" y="127"/>
                    </a:lnTo>
                    <a:lnTo>
                      <a:pt x="1990" y="124"/>
                    </a:lnTo>
                    <a:lnTo>
                      <a:pt x="1990" y="122"/>
                    </a:lnTo>
                    <a:lnTo>
                      <a:pt x="1991" y="120"/>
                    </a:lnTo>
                    <a:lnTo>
                      <a:pt x="1991" y="117"/>
                    </a:lnTo>
                    <a:lnTo>
                      <a:pt x="1991" y="116"/>
                    </a:lnTo>
                    <a:lnTo>
                      <a:pt x="1990" y="113"/>
                    </a:lnTo>
                    <a:lnTo>
                      <a:pt x="1990" y="110"/>
                    </a:lnTo>
                    <a:lnTo>
                      <a:pt x="1989" y="106"/>
                    </a:lnTo>
                    <a:lnTo>
                      <a:pt x="1988" y="104"/>
                    </a:lnTo>
                    <a:lnTo>
                      <a:pt x="1987" y="102"/>
                    </a:lnTo>
                    <a:lnTo>
                      <a:pt x="1985" y="101"/>
                    </a:lnTo>
                    <a:lnTo>
                      <a:pt x="1983" y="99"/>
                    </a:lnTo>
                    <a:lnTo>
                      <a:pt x="1990" y="94"/>
                    </a:lnTo>
                    <a:lnTo>
                      <a:pt x="1991" y="95"/>
                    </a:lnTo>
                    <a:lnTo>
                      <a:pt x="1992" y="98"/>
                    </a:lnTo>
                    <a:lnTo>
                      <a:pt x="1994" y="100"/>
                    </a:lnTo>
                    <a:lnTo>
                      <a:pt x="2053" y="57"/>
                    </a:lnTo>
                    <a:close/>
                    <a:moveTo>
                      <a:pt x="2090" y="28"/>
                    </a:moveTo>
                    <a:lnTo>
                      <a:pt x="2090" y="29"/>
                    </a:lnTo>
                    <a:lnTo>
                      <a:pt x="2090" y="30"/>
                    </a:lnTo>
                    <a:lnTo>
                      <a:pt x="2089" y="32"/>
                    </a:lnTo>
                    <a:lnTo>
                      <a:pt x="2089" y="32"/>
                    </a:lnTo>
                    <a:lnTo>
                      <a:pt x="2089" y="30"/>
                    </a:lnTo>
                    <a:lnTo>
                      <a:pt x="2089" y="33"/>
                    </a:lnTo>
                    <a:lnTo>
                      <a:pt x="2089" y="36"/>
                    </a:lnTo>
                    <a:lnTo>
                      <a:pt x="2090" y="38"/>
                    </a:lnTo>
                    <a:lnTo>
                      <a:pt x="2090" y="40"/>
                    </a:lnTo>
                    <a:lnTo>
                      <a:pt x="2090" y="44"/>
                    </a:lnTo>
                    <a:lnTo>
                      <a:pt x="2089" y="46"/>
                    </a:lnTo>
                    <a:lnTo>
                      <a:pt x="2087" y="48"/>
                    </a:lnTo>
                    <a:lnTo>
                      <a:pt x="2085" y="50"/>
                    </a:lnTo>
                    <a:lnTo>
                      <a:pt x="2085" y="52"/>
                    </a:lnTo>
                    <a:lnTo>
                      <a:pt x="2085" y="55"/>
                    </a:lnTo>
                    <a:lnTo>
                      <a:pt x="2084" y="55"/>
                    </a:lnTo>
                    <a:lnTo>
                      <a:pt x="2084" y="56"/>
                    </a:lnTo>
                    <a:lnTo>
                      <a:pt x="2083" y="55"/>
                    </a:lnTo>
                    <a:lnTo>
                      <a:pt x="2083" y="55"/>
                    </a:lnTo>
                    <a:lnTo>
                      <a:pt x="2081" y="52"/>
                    </a:lnTo>
                    <a:lnTo>
                      <a:pt x="2080" y="50"/>
                    </a:lnTo>
                    <a:lnTo>
                      <a:pt x="2080" y="48"/>
                    </a:lnTo>
                    <a:lnTo>
                      <a:pt x="2080" y="46"/>
                    </a:lnTo>
                    <a:lnTo>
                      <a:pt x="2080" y="45"/>
                    </a:lnTo>
                    <a:lnTo>
                      <a:pt x="2078" y="43"/>
                    </a:lnTo>
                    <a:lnTo>
                      <a:pt x="2077" y="43"/>
                    </a:lnTo>
                    <a:lnTo>
                      <a:pt x="2076" y="43"/>
                    </a:lnTo>
                    <a:lnTo>
                      <a:pt x="2076" y="41"/>
                    </a:lnTo>
                    <a:lnTo>
                      <a:pt x="2075" y="40"/>
                    </a:lnTo>
                    <a:lnTo>
                      <a:pt x="2076" y="40"/>
                    </a:lnTo>
                    <a:lnTo>
                      <a:pt x="2076" y="39"/>
                    </a:lnTo>
                    <a:lnTo>
                      <a:pt x="2076" y="38"/>
                    </a:lnTo>
                    <a:lnTo>
                      <a:pt x="2079" y="35"/>
                    </a:lnTo>
                    <a:lnTo>
                      <a:pt x="2084" y="33"/>
                    </a:lnTo>
                    <a:lnTo>
                      <a:pt x="2086" y="30"/>
                    </a:lnTo>
                    <a:lnTo>
                      <a:pt x="2086" y="32"/>
                    </a:lnTo>
                    <a:lnTo>
                      <a:pt x="2086" y="33"/>
                    </a:lnTo>
                    <a:lnTo>
                      <a:pt x="2086" y="33"/>
                    </a:lnTo>
                    <a:lnTo>
                      <a:pt x="2090" y="29"/>
                    </a:lnTo>
                    <a:lnTo>
                      <a:pt x="2090" y="28"/>
                    </a:lnTo>
                    <a:close/>
                    <a:moveTo>
                      <a:pt x="501" y="1"/>
                    </a:moveTo>
                    <a:lnTo>
                      <a:pt x="498" y="2"/>
                    </a:lnTo>
                    <a:lnTo>
                      <a:pt x="496" y="4"/>
                    </a:lnTo>
                    <a:lnTo>
                      <a:pt x="493" y="6"/>
                    </a:lnTo>
                    <a:lnTo>
                      <a:pt x="491" y="8"/>
                    </a:lnTo>
                    <a:lnTo>
                      <a:pt x="488" y="12"/>
                    </a:lnTo>
                    <a:lnTo>
                      <a:pt x="487" y="14"/>
                    </a:lnTo>
                    <a:lnTo>
                      <a:pt x="487" y="16"/>
                    </a:lnTo>
                    <a:lnTo>
                      <a:pt x="488" y="21"/>
                    </a:lnTo>
                    <a:lnTo>
                      <a:pt x="495" y="24"/>
                    </a:lnTo>
                    <a:lnTo>
                      <a:pt x="502" y="25"/>
                    </a:lnTo>
                    <a:lnTo>
                      <a:pt x="507" y="23"/>
                    </a:lnTo>
                    <a:lnTo>
                      <a:pt x="509" y="15"/>
                    </a:lnTo>
                    <a:lnTo>
                      <a:pt x="507" y="7"/>
                    </a:lnTo>
                    <a:lnTo>
                      <a:pt x="503" y="1"/>
                    </a:lnTo>
                    <a:lnTo>
                      <a:pt x="501" y="1"/>
                    </a:lnTo>
                    <a:close/>
                    <a:moveTo>
                      <a:pt x="2232" y="0"/>
                    </a:moveTo>
                    <a:lnTo>
                      <a:pt x="2232" y="0"/>
                    </a:lnTo>
                    <a:lnTo>
                      <a:pt x="2230" y="1"/>
                    </a:lnTo>
                    <a:lnTo>
                      <a:pt x="2229" y="2"/>
                    </a:lnTo>
                    <a:lnTo>
                      <a:pt x="2228" y="3"/>
                    </a:lnTo>
                    <a:lnTo>
                      <a:pt x="2227" y="4"/>
                    </a:lnTo>
                    <a:lnTo>
                      <a:pt x="2226" y="5"/>
                    </a:lnTo>
                    <a:lnTo>
                      <a:pt x="2223" y="7"/>
                    </a:lnTo>
                    <a:lnTo>
                      <a:pt x="2222" y="11"/>
                    </a:lnTo>
                    <a:lnTo>
                      <a:pt x="2220" y="15"/>
                    </a:lnTo>
                    <a:lnTo>
                      <a:pt x="2220" y="19"/>
                    </a:lnTo>
                    <a:lnTo>
                      <a:pt x="2219" y="24"/>
                    </a:lnTo>
                    <a:lnTo>
                      <a:pt x="2218" y="28"/>
                    </a:lnTo>
                    <a:lnTo>
                      <a:pt x="2218" y="29"/>
                    </a:lnTo>
                    <a:lnTo>
                      <a:pt x="2218" y="33"/>
                    </a:lnTo>
                    <a:lnTo>
                      <a:pt x="2218" y="36"/>
                    </a:lnTo>
                    <a:lnTo>
                      <a:pt x="2219" y="39"/>
                    </a:lnTo>
                    <a:lnTo>
                      <a:pt x="2219" y="41"/>
                    </a:lnTo>
                    <a:lnTo>
                      <a:pt x="2220" y="44"/>
                    </a:lnTo>
                    <a:lnTo>
                      <a:pt x="2222" y="44"/>
                    </a:lnTo>
                    <a:lnTo>
                      <a:pt x="2223" y="43"/>
                    </a:lnTo>
                    <a:lnTo>
                      <a:pt x="2225" y="43"/>
                    </a:lnTo>
                    <a:lnTo>
                      <a:pt x="2226" y="43"/>
                    </a:lnTo>
                    <a:lnTo>
                      <a:pt x="2226" y="43"/>
                    </a:lnTo>
                    <a:lnTo>
                      <a:pt x="2227" y="41"/>
                    </a:lnTo>
                    <a:lnTo>
                      <a:pt x="2228" y="40"/>
                    </a:lnTo>
                    <a:lnTo>
                      <a:pt x="2230" y="38"/>
                    </a:lnTo>
                    <a:lnTo>
                      <a:pt x="2230" y="36"/>
                    </a:lnTo>
                    <a:lnTo>
                      <a:pt x="2231" y="33"/>
                    </a:lnTo>
                    <a:lnTo>
                      <a:pt x="2231" y="30"/>
                    </a:lnTo>
                    <a:lnTo>
                      <a:pt x="2232" y="28"/>
                    </a:lnTo>
                    <a:lnTo>
                      <a:pt x="2233" y="26"/>
                    </a:lnTo>
                    <a:lnTo>
                      <a:pt x="2234" y="23"/>
                    </a:lnTo>
                    <a:lnTo>
                      <a:pt x="2236" y="21"/>
                    </a:lnTo>
                    <a:lnTo>
                      <a:pt x="2236" y="17"/>
                    </a:lnTo>
                    <a:lnTo>
                      <a:pt x="2236" y="15"/>
                    </a:lnTo>
                    <a:lnTo>
                      <a:pt x="2234" y="13"/>
                    </a:lnTo>
                    <a:lnTo>
                      <a:pt x="2234" y="11"/>
                    </a:lnTo>
                    <a:lnTo>
                      <a:pt x="2233" y="8"/>
                    </a:lnTo>
                    <a:lnTo>
                      <a:pt x="2234" y="6"/>
                    </a:lnTo>
                    <a:lnTo>
                      <a:pt x="2236" y="5"/>
                    </a:lnTo>
                    <a:lnTo>
                      <a:pt x="2236" y="3"/>
                    </a:lnTo>
                    <a:lnTo>
                      <a:pt x="2234" y="2"/>
                    </a:lnTo>
                    <a:lnTo>
                      <a:pt x="2233" y="2"/>
                    </a:lnTo>
                    <a:lnTo>
                      <a:pt x="2233" y="1"/>
                    </a:lnTo>
                    <a:lnTo>
                      <a:pt x="2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2"/>
              <p:cNvSpPr/>
              <p:nvPr/>
            </p:nvSpPr>
            <p:spPr>
              <a:xfrm>
                <a:off x="8349120" y="4900320"/>
                <a:ext cx="624240" cy="262800"/>
              </a:xfrm>
              <a:custGeom>
                <a:avLst/>
                <a:gdLst/>
                <a:ahLst/>
                <a:rect l="l" t="t" r="r" b="b"/>
                <a:pathLst>
                  <a:path w="3068" h="1258">
                    <a:moveTo>
                      <a:pt x="2843" y="243"/>
                    </a:moveTo>
                    <a:lnTo>
                      <a:pt x="2840" y="245"/>
                    </a:lnTo>
                    <a:lnTo>
                      <a:pt x="2838" y="246"/>
                    </a:lnTo>
                    <a:lnTo>
                      <a:pt x="2836" y="248"/>
                    </a:lnTo>
                    <a:lnTo>
                      <a:pt x="2836" y="250"/>
                    </a:lnTo>
                    <a:lnTo>
                      <a:pt x="2835" y="252"/>
                    </a:lnTo>
                    <a:lnTo>
                      <a:pt x="2834" y="254"/>
                    </a:lnTo>
                    <a:lnTo>
                      <a:pt x="2832" y="256"/>
                    </a:lnTo>
                    <a:lnTo>
                      <a:pt x="2830" y="257"/>
                    </a:lnTo>
                    <a:lnTo>
                      <a:pt x="2828" y="257"/>
                    </a:lnTo>
                    <a:lnTo>
                      <a:pt x="2827" y="257"/>
                    </a:lnTo>
                    <a:lnTo>
                      <a:pt x="2825" y="257"/>
                    </a:lnTo>
                    <a:lnTo>
                      <a:pt x="2823" y="259"/>
                    </a:lnTo>
                    <a:lnTo>
                      <a:pt x="2822" y="261"/>
                    </a:lnTo>
                    <a:lnTo>
                      <a:pt x="2821" y="264"/>
                    </a:lnTo>
                    <a:lnTo>
                      <a:pt x="2821" y="268"/>
                    </a:lnTo>
                    <a:lnTo>
                      <a:pt x="2819" y="271"/>
                    </a:lnTo>
                    <a:lnTo>
                      <a:pt x="2818" y="274"/>
                    </a:lnTo>
                    <a:lnTo>
                      <a:pt x="2816" y="281"/>
                    </a:lnTo>
                    <a:lnTo>
                      <a:pt x="2815" y="287"/>
                    </a:lnTo>
                    <a:lnTo>
                      <a:pt x="2814" y="296"/>
                    </a:lnTo>
                    <a:lnTo>
                      <a:pt x="2814" y="318"/>
                    </a:lnTo>
                    <a:lnTo>
                      <a:pt x="2815" y="323"/>
                    </a:lnTo>
                    <a:lnTo>
                      <a:pt x="2816" y="327"/>
                    </a:lnTo>
                    <a:lnTo>
                      <a:pt x="2816" y="332"/>
                    </a:lnTo>
                    <a:lnTo>
                      <a:pt x="2817" y="334"/>
                    </a:lnTo>
                    <a:lnTo>
                      <a:pt x="2818" y="336"/>
                    </a:lnTo>
                    <a:lnTo>
                      <a:pt x="2819" y="338"/>
                    </a:lnTo>
                    <a:lnTo>
                      <a:pt x="2821" y="340"/>
                    </a:lnTo>
                    <a:lnTo>
                      <a:pt x="2821" y="349"/>
                    </a:lnTo>
                    <a:lnTo>
                      <a:pt x="2822" y="350"/>
                    </a:lnTo>
                    <a:lnTo>
                      <a:pt x="2823" y="354"/>
                    </a:lnTo>
                    <a:lnTo>
                      <a:pt x="2823" y="357"/>
                    </a:lnTo>
                    <a:lnTo>
                      <a:pt x="2823" y="360"/>
                    </a:lnTo>
                    <a:lnTo>
                      <a:pt x="2822" y="363"/>
                    </a:lnTo>
                    <a:lnTo>
                      <a:pt x="2819" y="367"/>
                    </a:lnTo>
                    <a:lnTo>
                      <a:pt x="2818" y="370"/>
                    </a:lnTo>
                    <a:lnTo>
                      <a:pt x="2818" y="372"/>
                    </a:lnTo>
                    <a:lnTo>
                      <a:pt x="2817" y="377"/>
                    </a:lnTo>
                    <a:lnTo>
                      <a:pt x="2816" y="381"/>
                    </a:lnTo>
                    <a:lnTo>
                      <a:pt x="2816" y="385"/>
                    </a:lnTo>
                    <a:lnTo>
                      <a:pt x="2816" y="388"/>
                    </a:lnTo>
                    <a:lnTo>
                      <a:pt x="2815" y="391"/>
                    </a:lnTo>
                    <a:lnTo>
                      <a:pt x="2815" y="393"/>
                    </a:lnTo>
                    <a:lnTo>
                      <a:pt x="2816" y="396"/>
                    </a:lnTo>
                    <a:lnTo>
                      <a:pt x="2816" y="398"/>
                    </a:lnTo>
                    <a:lnTo>
                      <a:pt x="2817" y="398"/>
                    </a:lnTo>
                    <a:lnTo>
                      <a:pt x="2817" y="398"/>
                    </a:lnTo>
                    <a:lnTo>
                      <a:pt x="2818" y="399"/>
                    </a:lnTo>
                    <a:lnTo>
                      <a:pt x="2818" y="399"/>
                    </a:lnTo>
                    <a:lnTo>
                      <a:pt x="2821" y="401"/>
                    </a:lnTo>
                    <a:lnTo>
                      <a:pt x="2822" y="403"/>
                    </a:lnTo>
                    <a:lnTo>
                      <a:pt x="2823" y="405"/>
                    </a:lnTo>
                    <a:lnTo>
                      <a:pt x="2823" y="409"/>
                    </a:lnTo>
                    <a:lnTo>
                      <a:pt x="2823" y="410"/>
                    </a:lnTo>
                    <a:lnTo>
                      <a:pt x="2824" y="411"/>
                    </a:lnTo>
                    <a:lnTo>
                      <a:pt x="2825" y="412"/>
                    </a:lnTo>
                    <a:lnTo>
                      <a:pt x="2826" y="413"/>
                    </a:lnTo>
                    <a:lnTo>
                      <a:pt x="2828" y="412"/>
                    </a:lnTo>
                    <a:lnTo>
                      <a:pt x="2829" y="410"/>
                    </a:lnTo>
                    <a:lnTo>
                      <a:pt x="2832" y="407"/>
                    </a:lnTo>
                    <a:lnTo>
                      <a:pt x="2834" y="405"/>
                    </a:lnTo>
                    <a:lnTo>
                      <a:pt x="2835" y="405"/>
                    </a:lnTo>
                    <a:lnTo>
                      <a:pt x="2836" y="404"/>
                    </a:lnTo>
                    <a:lnTo>
                      <a:pt x="2837" y="404"/>
                    </a:lnTo>
                    <a:lnTo>
                      <a:pt x="2838" y="403"/>
                    </a:lnTo>
                    <a:lnTo>
                      <a:pt x="2839" y="402"/>
                    </a:lnTo>
                    <a:lnTo>
                      <a:pt x="2840" y="401"/>
                    </a:lnTo>
                    <a:lnTo>
                      <a:pt x="2840" y="400"/>
                    </a:lnTo>
                    <a:lnTo>
                      <a:pt x="2840" y="396"/>
                    </a:lnTo>
                    <a:lnTo>
                      <a:pt x="2841" y="382"/>
                    </a:lnTo>
                    <a:lnTo>
                      <a:pt x="2843" y="368"/>
                    </a:lnTo>
                    <a:lnTo>
                      <a:pt x="2843" y="366"/>
                    </a:lnTo>
                    <a:lnTo>
                      <a:pt x="2843" y="363"/>
                    </a:lnTo>
                    <a:lnTo>
                      <a:pt x="2843" y="361"/>
                    </a:lnTo>
                    <a:lnTo>
                      <a:pt x="2841" y="360"/>
                    </a:lnTo>
                    <a:lnTo>
                      <a:pt x="2840" y="360"/>
                    </a:lnTo>
                    <a:lnTo>
                      <a:pt x="2839" y="359"/>
                    </a:lnTo>
                    <a:lnTo>
                      <a:pt x="2838" y="358"/>
                    </a:lnTo>
                    <a:lnTo>
                      <a:pt x="2838" y="356"/>
                    </a:lnTo>
                    <a:lnTo>
                      <a:pt x="2838" y="354"/>
                    </a:lnTo>
                    <a:lnTo>
                      <a:pt x="2838" y="351"/>
                    </a:lnTo>
                    <a:lnTo>
                      <a:pt x="2839" y="350"/>
                    </a:lnTo>
                    <a:lnTo>
                      <a:pt x="2839" y="350"/>
                    </a:lnTo>
                    <a:lnTo>
                      <a:pt x="2840" y="350"/>
                    </a:lnTo>
                    <a:lnTo>
                      <a:pt x="2840" y="351"/>
                    </a:lnTo>
                    <a:lnTo>
                      <a:pt x="2843" y="351"/>
                    </a:lnTo>
                    <a:lnTo>
                      <a:pt x="2844" y="351"/>
                    </a:lnTo>
                    <a:lnTo>
                      <a:pt x="2846" y="351"/>
                    </a:lnTo>
                    <a:lnTo>
                      <a:pt x="2847" y="351"/>
                    </a:lnTo>
                    <a:lnTo>
                      <a:pt x="2848" y="349"/>
                    </a:lnTo>
                    <a:lnTo>
                      <a:pt x="2848" y="347"/>
                    </a:lnTo>
                    <a:lnTo>
                      <a:pt x="2848" y="344"/>
                    </a:lnTo>
                    <a:lnTo>
                      <a:pt x="2847" y="341"/>
                    </a:lnTo>
                    <a:lnTo>
                      <a:pt x="2847" y="340"/>
                    </a:lnTo>
                    <a:lnTo>
                      <a:pt x="2846" y="338"/>
                    </a:lnTo>
                    <a:lnTo>
                      <a:pt x="2846" y="336"/>
                    </a:lnTo>
                    <a:lnTo>
                      <a:pt x="2845" y="334"/>
                    </a:lnTo>
                    <a:lnTo>
                      <a:pt x="2844" y="333"/>
                    </a:lnTo>
                    <a:lnTo>
                      <a:pt x="2843" y="333"/>
                    </a:lnTo>
                    <a:lnTo>
                      <a:pt x="2840" y="334"/>
                    </a:lnTo>
                    <a:lnTo>
                      <a:pt x="2839" y="333"/>
                    </a:lnTo>
                    <a:lnTo>
                      <a:pt x="2839" y="332"/>
                    </a:lnTo>
                    <a:lnTo>
                      <a:pt x="2839" y="329"/>
                    </a:lnTo>
                    <a:lnTo>
                      <a:pt x="2839" y="327"/>
                    </a:lnTo>
                    <a:lnTo>
                      <a:pt x="2840" y="325"/>
                    </a:lnTo>
                    <a:lnTo>
                      <a:pt x="2840" y="323"/>
                    </a:lnTo>
                    <a:lnTo>
                      <a:pt x="2840" y="321"/>
                    </a:lnTo>
                    <a:lnTo>
                      <a:pt x="2840" y="318"/>
                    </a:lnTo>
                    <a:lnTo>
                      <a:pt x="2839" y="316"/>
                    </a:lnTo>
                    <a:lnTo>
                      <a:pt x="2837" y="315"/>
                    </a:lnTo>
                    <a:lnTo>
                      <a:pt x="2836" y="314"/>
                    </a:lnTo>
                    <a:lnTo>
                      <a:pt x="2836" y="312"/>
                    </a:lnTo>
                    <a:lnTo>
                      <a:pt x="2836" y="301"/>
                    </a:lnTo>
                    <a:lnTo>
                      <a:pt x="2836" y="298"/>
                    </a:lnTo>
                    <a:lnTo>
                      <a:pt x="2835" y="296"/>
                    </a:lnTo>
                    <a:lnTo>
                      <a:pt x="2834" y="294"/>
                    </a:lnTo>
                    <a:lnTo>
                      <a:pt x="2834" y="290"/>
                    </a:lnTo>
                    <a:lnTo>
                      <a:pt x="2835" y="285"/>
                    </a:lnTo>
                    <a:lnTo>
                      <a:pt x="2837" y="282"/>
                    </a:lnTo>
                    <a:lnTo>
                      <a:pt x="2838" y="279"/>
                    </a:lnTo>
                    <a:lnTo>
                      <a:pt x="2839" y="276"/>
                    </a:lnTo>
                    <a:lnTo>
                      <a:pt x="2841" y="274"/>
                    </a:lnTo>
                    <a:lnTo>
                      <a:pt x="2843" y="274"/>
                    </a:lnTo>
                    <a:lnTo>
                      <a:pt x="2845" y="274"/>
                    </a:lnTo>
                    <a:lnTo>
                      <a:pt x="2847" y="276"/>
                    </a:lnTo>
                    <a:lnTo>
                      <a:pt x="2847" y="276"/>
                    </a:lnTo>
                    <a:lnTo>
                      <a:pt x="2848" y="278"/>
                    </a:lnTo>
                    <a:lnTo>
                      <a:pt x="2849" y="278"/>
                    </a:lnTo>
                    <a:lnTo>
                      <a:pt x="2850" y="279"/>
                    </a:lnTo>
                    <a:lnTo>
                      <a:pt x="2851" y="278"/>
                    </a:lnTo>
                    <a:lnTo>
                      <a:pt x="2851" y="276"/>
                    </a:lnTo>
                    <a:lnTo>
                      <a:pt x="2851" y="272"/>
                    </a:lnTo>
                    <a:lnTo>
                      <a:pt x="2850" y="268"/>
                    </a:lnTo>
                    <a:lnTo>
                      <a:pt x="2849" y="263"/>
                    </a:lnTo>
                    <a:lnTo>
                      <a:pt x="2847" y="256"/>
                    </a:lnTo>
                    <a:lnTo>
                      <a:pt x="2845" y="248"/>
                    </a:lnTo>
                    <a:lnTo>
                      <a:pt x="2843" y="243"/>
                    </a:lnTo>
                    <a:close/>
                    <a:moveTo>
                      <a:pt x="2956" y="241"/>
                    </a:moveTo>
                    <a:lnTo>
                      <a:pt x="2953" y="241"/>
                    </a:lnTo>
                    <a:lnTo>
                      <a:pt x="2950" y="242"/>
                    </a:lnTo>
                    <a:lnTo>
                      <a:pt x="2948" y="243"/>
                    </a:lnTo>
                    <a:lnTo>
                      <a:pt x="2947" y="247"/>
                    </a:lnTo>
                    <a:lnTo>
                      <a:pt x="2946" y="250"/>
                    </a:lnTo>
                    <a:lnTo>
                      <a:pt x="2945" y="252"/>
                    </a:lnTo>
                    <a:lnTo>
                      <a:pt x="2944" y="254"/>
                    </a:lnTo>
                    <a:lnTo>
                      <a:pt x="2944" y="258"/>
                    </a:lnTo>
                    <a:lnTo>
                      <a:pt x="2944" y="261"/>
                    </a:lnTo>
                    <a:lnTo>
                      <a:pt x="2944" y="264"/>
                    </a:lnTo>
                    <a:lnTo>
                      <a:pt x="2944" y="268"/>
                    </a:lnTo>
                    <a:lnTo>
                      <a:pt x="2945" y="267"/>
                    </a:lnTo>
                    <a:lnTo>
                      <a:pt x="2945" y="265"/>
                    </a:lnTo>
                    <a:lnTo>
                      <a:pt x="2945" y="263"/>
                    </a:lnTo>
                    <a:lnTo>
                      <a:pt x="2946" y="260"/>
                    </a:lnTo>
                    <a:lnTo>
                      <a:pt x="2946" y="258"/>
                    </a:lnTo>
                    <a:lnTo>
                      <a:pt x="2946" y="257"/>
                    </a:lnTo>
                    <a:lnTo>
                      <a:pt x="2947" y="256"/>
                    </a:lnTo>
                    <a:lnTo>
                      <a:pt x="2948" y="253"/>
                    </a:lnTo>
                    <a:lnTo>
                      <a:pt x="2949" y="251"/>
                    </a:lnTo>
                    <a:lnTo>
                      <a:pt x="2949" y="250"/>
                    </a:lnTo>
                    <a:lnTo>
                      <a:pt x="2950" y="250"/>
                    </a:lnTo>
                    <a:lnTo>
                      <a:pt x="2953" y="249"/>
                    </a:lnTo>
                    <a:lnTo>
                      <a:pt x="2955" y="248"/>
                    </a:lnTo>
                    <a:lnTo>
                      <a:pt x="2958" y="247"/>
                    </a:lnTo>
                    <a:lnTo>
                      <a:pt x="2959" y="246"/>
                    </a:lnTo>
                    <a:lnTo>
                      <a:pt x="2960" y="246"/>
                    </a:lnTo>
                    <a:lnTo>
                      <a:pt x="2960" y="246"/>
                    </a:lnTo>
                    <a:lnTo>
                      <a:pt x="2961" y="245"/>
                    </a:lnTo>
                    <a:lnTo>
                      <a:pt x="2963" y="243"/>
                    </a:lnTo>
                    <a:lnTo>
                      <a:pt x="2960" y="245"/>
                    </a:lnTo>
                    <a:lnTo>
                      <a:pt x="2959" y="243"/>
                    </a:lnTo>
                    <a:lnTo>
                      <a:pt x="2958" y="242"/>
                    </a:lnTo>
                    <a:lnTo>
                      <a:pt x="2957" y="241"/>
                    </a:lnTo>
                    <a:lnTo>
                      <a:pt x="2956" y="241"/>
                    </a:lnTo>
                    <a:close/>
                    <a:moveTo>
                      <a:pt x="0" y="174"/>
                    </a:moveTo>
                    <a:lnTo>
                      <a:pt x="2" y="174"/>
                    </a:lnTo>
                    <a:lnTo>
                      <a:pt x="4" y="175"/>
                    </a:lnTo>
                    <a:lnTo>
                      <a:pt x="4" y="176"/>
                    </a:lnTo>
                    <a:lnTo>
                      <a:pt x="4" y="178"/>
                    </a:lnTo>
                    <a:lnTo>
                      <a:pt x="3" y="180"/>
                    </a:lnTo>
                    <a:lnTo>
                      <a:pt x="2" y="181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74"/>
                    </a:lnTo>
                    <a:close/>
                    <a:moveTo>
                      <a:pt x="17" y="165"/>
                    </a:moveTo>
                    <a:lnTo>
                      <a:pt x="28" y="165"/>
                    </a:lnTo>
                    <a:lnTo>
                      <a:pt x="28" y="166"/>
                    </a:lnTo>
                    <a:lnTo>
                      <a:pt x="26" y="167"/>
                    </a:lnTo>
                    <a:lnTo>
                      <a:pt x="25" y="167"/>
                    </a:lnTo>
                    <a:lnTo>
                      <a:pt x="24" y="167"/>
                    </a:lnTo>
                    <a:lnTo>
                      <a:pt x="22" y="166"/>
                    </a:lnTo>
                    <a:lnTo>
                      <a:pt x="21" y="166"/>
                    </a:lnTo>
                    <a:lnTo>
                      <a:pt x="19" y="167"/>
                    </a:lnTo>
                    <a:lnTo>
                      <a:pt x="18" y="169"/>
                    </a:lnTo>
                    <a:lnTo>
                      <a:pt x="17" y="170"/>
                    </a:lnTo>
                    <a:lnTo>
                      <a:pt x="15" y="172"/>
                    </a:lnTo>
                    <a:lnTo>
                      <a:pt x="14" y="173"/>
                    </a:lnTo>
                    <a:lnTo>
                      <a:pt x="13" y="172"/>
                    </a:lnTo>
                    <a:lnTo>
                      <a:pt x="12" y="171"/>
                    </a:lnTo>
                    <a:lnTo>
                      <a:pt x="12" y="170"/>
                    </a:lnTo>
                    <a:lnTo>
                      <a:pt x="13" y="169"/>
                    </a:lnTo>
                    <a:lnTo>
                      <a:pt x="15" y="167"/>
                    </a:lnTo>
                    <a:lnTo>
                      <a:pt x="17" y="166"/>
                    </a:lnTo>
                    <a:lnTo>
                      <a:pt x="17" y="165"/>
                    </a:lnTo>
                    <a:close/>
                    <a:moveTo>
                      <a:pt x="908" y="161"/>
                    </a:moveTo>
                    <a:lnTo>
                      <a:pt x="904" y="161"/>
                    </a:lnTo>
                    <a:lnTo>
                      <a:pt x="901" y="163"/>
                    </a:lnTo>
                    <a:lnTo>
                      <a:pt x="901" y="167"/>
                    </a:lnTo>
                    <a:lnTo>
                      <a:pt x="902" y="171"/>
                    </a:lnTo>
                    <a:lnTo>
                      <a:pt x="903" y="172"/>
                    </a:lnTo>
                    <a:lnTo>
                      <a:pt x="905" y="174"/>
                    </a:lnTo>
                    <a:lnTo>
                      <a:pt x="908" y="175"/>
                    </a:lnTo>
                    <a:lnTo>
                      <a:pt x="910" y="176"/>
                    </a:lnTo>
                    <a:lnTo>
                      <a:pt x="914" y="178"/>
                    </a:lnTo>
                    <a:lnTo>
                      <a:pt x="915" y="181"/>
                    </a:lnTo>
                    <a:lnTo>
                      <a:pt x="916" y="183"/>
                    </a:lnTo>
                    <a:lnTo>
                      <a:pt x="917" y="186"/>
                    </a:lnTo>
                    <a:lnTo>
                      <a:pt x="917" y="188"/>
                    </a:lnTo>
                    <a:lnTo>
                      <a:pt x="918" y="192"/>
                    </a:lnTo>
                    <a:lnTo>
                      <a:pt x="919" y="195"/>
                    </a:lnTo>
                    <a:lnTo>
                      <a:pt x="920" y="201"/>
                    </a:lnTo>
                    <a:lnTo>
                      <a:pt x="921" y="206"/>
                    </a:lnTo>
                    <a:lnTo>
                      <a:pt x="924" y="209"/>
                    </a:lnTo>
                    <a:lnTo>
                      <a:pt x="925" y="209"/>
                    </a:lnTo>
                    <a:lnTo>
                      <a:pt x="926" y="204"/>
                    </a:lnTo>
                    <a:lnTo>
                      <a:pt x="926" y="197"/>
                    </a:lnTo>
                    <a:lnTo>
                      <a:pt x="925" y="192"/>
                    </a:lnTo>
                    <a:lnTo>
                      <a:pt x="926" y="182"/>
                    </a:lnTo>
                    <a:lnTo>
                      <a:pt x="925" y="172"/>
                    </a:lnTo>
                    <a:lnTo>
                      <a:pt x="923" y="169"/>
                    </a:lnTo>
                    <a:lnTo>
                      <a:pt x="918" y="165"/>
                    </a:lnTo>
                    <a:lnTo>
                      <a:pt x="914" y="162"/>
                    </a:lnTo>
                    <a:lnTo>
                      <a:pt x="908" y="161"/>
                    </a:lnTo>
                    <a:close/>
                    <a:moveTo>
                      <a:pt x="401" y="148"/>
                    </a:moveTo>
                    <a:lnTo>
                      <a:pt x="402" y="149"/>
                    </a:lnTo>
                    <a:lnTo>
                      <a:pt x="403" y="149"/>
                    </a:lnTo>
                    <a:lnTo>
                      <a:pt x="405" y="150"/>
                    </a:lnTo>
                    <a:lnTo>
                      <a:pt x="406" y="151"/>
                    </a:lnTo>
                    <a:lnTo>
                      <a:pt x="407" y="152"/>
                    </a:lnTo>
                    <a:lnTo>
                      <a:pt x="408" y="152"/>
                    </a:lnTo>
                    <a:lnTo>
                      <a:pt x="408" y="155"/>
                    </a:lnTo>
                    <a:lnTo>
                      <a:pt x="408" y="156"/>
                    </a:lnTo>
                    <a:lnTo>
                      <a:pt x="407" y="158"/>
                    </a:lnTo>
                    <a:lnTo>
                      <a:pt x="406" y="159"/>
                    </a:lnTo>
                    <a:lnTo>
                      <a:pt x="406" y="160"/>
                    </a:lnTo>
                    <a:lnTo>
                      <a:pt x="406" y="161"/>
                    </a:lnTo>
                    <a:lnTo>
                      <a:pt x="406" y="163"/>
                    </a:lnTo>
                    <a:lnTo>
                      <a:pt x="407" y="165"/>
                    </a:lnTo>
                    <a:lnTo>
                      <a:pt x="410" y="169"/>
                    </a:lnTo>
                    <a:lnTo>
                      <a:pt x="412" y="174"/>
                    </a:lnTo>
                    <a:lnTo>
                      <a:pt x="413" y="177"/>
                    </a:lnTo>
                    <a:lnTo>
                      <a:pt x="412" y="181"/>
                    </a:lnTo>
                    <a:lnTo>
                      <a:pt x="410" y="182"/>
                    </a:lnTo>
                    <a:lnTo>
                      <a:pt x="407" y="180"/>
                    </a:lnTo>
                    <a:lnTo>
                      <a:pt x="406" y="176"/>
                    </a:lnTo>
                    <a:lnTo>
                      <a:pt x="405" y="173"/>
                    </a:lnTo>
                    <a:lnTo>
                      <a:pt x="404" y="169"/>
                    </a:lnTo>
                    <a:lnTo>
                      <a:pt x="403" y="165"/>
                    </a:lnTo>
                    <a:lnTo>
                      <a:pt x="402" y="163"/>
                    </a:lnTo>
                    <a:lnTo>
                      <a:pt x="401" y="160"/>
                    </a:lnTo>
                    <a:lnTo>
                      <a:pt x="399" y="156"/>
                    </a:lnTo>
                    <a:lnTo>
                      <a:pt x="399" y="154"/>
                    </a:lnTo>
                    <a:lnTo>
                      <a:pt x="400" y="153"/>
                    </a:lnTo>
                    <a:lnTo>
                      <a:pt x="400" y="152"/>
                    </a:lnTo>
                    <a:lnTo>
                      <a:pt x="401" y="151"/>
                    </a:lnTo>
                    <a:lnTo>
                      <a:pt x="401" y="149"/>
                    </a:lnTo>
                    <a:lnTo>
                      <a:pt x="401" y="148"/>
                    </a:lnTo>
                    <a:close/>
                    <a:moveTo>
                      <a:pt x="40" y="141"/>
                    </a:moveTo>
                    <a:lnTo>
                      <a:pt x="41" y="142"/>
                    </a:lnTo>
                    <a:lnTo>
                      <a:pt x="42" y="143"/>
                    </a:lnTo>
                    <a:lnTo>
                      <a:pt x="43" y="144"/>
                    </a:lnTo>
                    <a:lnTo>
                      <a:pt x="43" y="147"/>
                    </a:lnTo>
                    <a:lnTo>
                      <a:pt x="43" y="148"/>
                    </a:lnTo>
                    <a:lnTo>
                      <a:pt x="44" y="149"/>
                    </a:lnTo>
                    <a:lnTo>
                      <a:pt x="44" y="150"/>
                    </a:lnTo>
                    <a:lnTo>
                      <a:pt x="43" y="151"/>
                    </a:lnTo>
                    <a:lnTo>
                      <a:pt x="42" y="151"/>
                    </a:lnTo>
                    <a:lnTo>
                      <a:pt x="41" y="151"/>
                    </a:lnTo>
                    <a:lnTo>
                      <a:pt x="40" y="151"/>
                    </a:lnTo>
                    <a:lnTo>
                      <a:pt x="39" y="150"/>
                    </a:lnTo>
                    <a:lnTo>
                      <a:pt x="37" y="148"/>
                    </a:lnTo>
                    <a:lnTo>
                      <a:pt x="37" y="145"/>
                    </a:lnTo>
                    <a:lnTo>
                      <a:pt x="39" y="142"/>
                    </a:lnTo>
                    <a:lnTo>
                      <a:pt x="40" y="141"/>
                    </a:lnTo>
                    <a:close/>
                    <a:moveTo>
                      <a:pt x="941" y="138"/>
                    </a:moveTo>
                    <a:lnTo>
                      <a:pt x="936" y="139"/>
                    </a:lnTo>
                    <a:lnTo>
                      <a:pt x="932" y="142"/>
                    </a:lnTo>
                    <a:lnTo>
                      <a:pt x="931" y="148"/>
                    </a:lnTo>
                    <a:lnTo>
                      <a:pt x="932" y="151"/>
                    </a:lnTo>
                    <a:lnTo>
                      <a:pt x="934" y="154"/>
                    </a:lnTo>
                    <a:lnTo>
                      <a:pt x="936" y="156"/>
                    </a:lnTo>
                    <a:lnTo>
                      <a:pt x="938" y="159"/>
                    </a:lnTo>
                    <a:lnTo>
                      <a:pt x="941" y="161"/>
                    </a:lnTo>
                    <a:lnTo>
                      <a:pt x="943" y="162"/>
                    </a:lnTo>
                    <a:lnTo>
                      <a:pt x="945" y="163"/>
                    </a:lnTo>
                    <a:lnTo>
                      <a:pt x="945" y="164"/>
                    </a:lnTo>
                    <a:lnTo>
                      <a:pt x="945" y="166"/>
                    </a:lnTo>
                    <a:lnTo>
                      <a:pt x="945" y="170"/>
                    </a:lnTo>
                    <a:lnTo>
                      <a:pt x="947" y="178"/>
                    </a:lnTo>
                    <a:lnTo>
                      <a:pt x="952" y="187"/>
                    </a:lnTo>
                    <a:lnTo>
                      <a:pt x="958" y="194"/>
                    </a:lnTo>
                    <a:lnTo>
                      <a:pt x="961" y="197"/>
                    </a:lnTo>
                    <a:lnTo>
                      <a:pt x="967" y="202"/>
                    </a:lnTo>
                    <a:lnTo>
                      <a:pt x="972" y="207"/>
                    </a:lnTo>
                    <a:lnTo>
                      <a:pt x="978" y="210"/>
                    </a:lnTo>
                    <a:lnTo>
                      <a:pt x="980" y="212"/>
                    </a:lnTo>
                    <a:lnTo>
                      <a:pt x="981" y="208"/>
                    </a:lnTo>
                    <a:lnTo>
                      <a:pt x="980" y="203"/>
                    </a:lnTo>
                    <a:lnTo>
                      <a:pt x="978" y="196"/>
                    </a:lnTo>
                    <a:lnTo>
                      <a:pt x="975" y="192"/>
                    </a:lnTo>
                    <a:lnTo>
                      <a:pt x="973" y="187"/>
                    </a:lnTo>
                    <a:lnTo>
                      <a:pt x="972" y="180"/>
                    </a:lnTo>
                    <a:lnTo>
                      <a:pt x="971" y="170"/>
                    </a:lnTo>
                    <a:lnTo>
                      <a:pt x="971" y="160"/>
                    </a:lnTo>
                    <a:lnTo>
                      <a:pt x="969" y="151"/>
                    </a:lnTo>
                    <a:lnTo>
                      <a:pt x="966" y="143"/>
                    </a:lnTo>
                    <a:lnTo>
                      <a:pt x="958" y="139"/>
                    </a:lnTo>
                    <a:lnTo>
                      <a:pt x="953" y="139"/>
                    </a:lnTo>
                    <a:lnTo>
                      <a:pt x="948" y="138"/>
                    </a:lnTo>
                    <a:lnTo>
                      <a:pt x="941" y="138"/>
                    </a:lnTo>
                    <a:close/>
                    <a:moveTo>
                      <a:pt x="58" y="128"/>
                    </a:moveTo>
                    <a:lnTo>
                      <a:pt x="61" y="128"/>
                    </a:lnTo>
                    <a:lnTo>
                      <a:pt x="63" y="130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34"/>
                    </a:lnTo>
                    <a:lnTo>
                      <a:pt x="62" y="137"/>
                    </a:lnTo>
                    <a:lnTo>
                      <a:pt x="59" y="138"/>
                    </a:lnTo>
                    <a:lnTo>
                      <a:pt x="58" y="139"/>
                    </a:lnTo>
                    <a:lnTo>
                      <a:pt x="56" y="140"/>
                    </a:lnTo>
                    <a:lnTo>
                      <a:pt x="55" y="140"/>
                    </a:lnTo>
                    <a:lnTo>
                      <a:pt x="55" y="140"/>
                    </a:lnTo>
                    <a:lnTo>
                      <a:pt x="54" y="140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2" y="144"/>
                    </a:lnTo>
                    <a:lnTo>
                      <a:pt x="51" y="144"/>
                    </a:lnTo>
                    <a:lnTo>
                      <a:pt x="50" y="144"/>
                    </a:lnTo>
                    <a:lnTo>
                      <a:pt x="48" y="143"/>
                    </a:lnTo>
                    <a:lnTo>
                      <a:pt x="47" y="141"/>
                    </a:lnTo>
                    <a:lnTo>
                      <a:pt x="47" y="140"/>
                    </a:lnTo>
                    <a:lnTo>
                      <a:pt x="48" y="138"/>
                    </a:lnTo>
                    <a:lnTo>
                      <a:pt x="48" y="137"/>
                    </a:lnTo>
                    <a:lnTo>
                      <a:pt x="50" y="136"/>
                    </a:lnTo>
                    <a:lnTo>
                      <a:pt x="51" y="136"/>
                    </a:lnTo>
                    <a:lnTo>
                      <a:pt x="52" y="136"/>
                    </a:lnTo>
                    <a:lnTo>
                      <a:pt x="53" y="137"/>
                    </a:lnTo>
                    <a:lnTo>
                      <a:pt x="53" y="137"/>
                    </a:lnTo>
                    <a:lnTo>
                      <a:pt x="54" y="137"/>
                    </a:lnTo>
                    <a:lnTo>
                      <a:pt x="55" y="136"/>
                    </a:lnTo>
                    <a:lnTo>
                      <a:pt x="56" y="136"/>
                    </a:lnTo>
                    <a:lnTo>
                      <a:pt x="57" y="136"/>
                    </a:lnTo>
                    <a:lnTo>
                      <a:pt x="57" y="134"/>
                    </a:lnTo>
                    <a:lnTo>
                      <a:pt x="56" y="133"/>
                    </a:lnTo>
                    <a:lnTo>
                      <a:pt x="55" y="131"/>
                    </a:lnTo>
                    <a:lnTo>
                      <a:pt x="56" y="130"/>
                    </a:lnTo>
                    <a:lnTo>
                      <a:pt x="57" y="128"/>
                    </a:lnTo>
                    <a:lnTo>
                      <a:pt x="58" y="128"/>
                    </a:lnTo>
                    <a:close/>
                    <a:moveTo>
                      <a:pt x="73" y="110"/>
                    </a:moveTo>
                    <a:lnTo>
                      <a:pt x="75" y="110"/>
                    </a:lnTo>
                    <a:lnTo>
                      <a:pt x="77" y="110"/>
                    </a:lnTo>
                    <a:lnTo>
                      <a:pt x="77" y="111"/>
                    </a:lnTo>
                    <a:lnTo>
                      <a:pt x="79" y="112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79" y="122"/>
                    </a:lnTo>
                    <a:lnTo>
                      <a:pt x="77" y="123"/>
                    </a:lnTo>
                    <a:lnTo>
                      <a:pt x="75" y="123"/>
                    </a:lnTo>
                    <a:lnTo>
                      <a:pt x="72" y="123"/>
                    </a:lnTo>
                    <a:lnTo>
                      <a:pt x="68" y="126"/>
                    </a:lnTo>
                    <a:lnTo>
                      <a:pt x="66" y="127"/>
                    </a:lnTo>
                    <a:lnTo>
                      <a:pt x="65" y="127"/>
                    </a:lnTo>
                    <a:lnTo>
                      <a:pt x="64" y="127"/>
                    </a:lnTo>
                    <a:lnTo>
                      <a:pt x="62" y="126"/>
                    </a:lnTo>
                    <a:lnTo>
                      <a:pt x="61" y="123"/>
                    </a:lnTo>
                    <a:lnTo>
                      <a:pt x="59" y="121"/>
                    </a:lnTo>
                    <a:lnTo>
                      <a:pt x="61" y="119"/>
                    </a:lnTo>
                    <a:lnTo>
                      <a:pt x="62" y="118"/>
                    </a:lnTo>
                    <a:lnTo>
                      <a:pt x="64" y="116"/>
                    </a:lnTo>
                    <a:lnTo>
                      <a:pt x="65" y="114"/>
                    </a:lnTo>
                    <a:lnTo>
                      <a:pt x="65" y="111"/>
                    </a:lnTo>
                    <a:lnTo>
                      <a:pt x="67" y="110"/>
                    </a:lnTo>
                    <a:lnTo>
                      <a:pt x="69" y="110"/>
                    </a:lnTo>
                    <a:lnTo>
                      <a:pt x="73" y="110"/>
                    </a:lnTo>
                    <a:close/>
                    <a:moveTo>
                      <a:pt x="399" y="109"/>
                    </a:moveTo>
                    <a:lnTo>
                      <a:pt x="402" y="110"/>
                    </a:lnTo>
                    <a:lnTo>
                      <a:pt x="404" y="111"/>
                    </a:lnTo>
                    <a:lnTo>
                      <a:pt x="406" y="115"/>
                    </a:lnTo>
                    <a:lnTo>
                      <a:pt x="407" y="118"/>
                    </a:lnTo>
                    <a:lnTo>
                      <a:pt x="408" y="122"/>
                    </a:lnTo>
                    <a:lnTo>
                      <a:pt x="406" y="125"/>
                    </a:lnTo>
                    <a:lnTo>
                      <a:pt x="404" y="126"/>
                    </a:lnTo>
                    <a:lnTo>
                      <a:pt x="402" y="128"/>
                    </a:lnTo>
                    <a:lnTo>
                      <a:pt x="401" y="130"/>
                    </a:lnTo>
                    <a:lnTo>
                      <a:pt x="399" y="132"/>
                    </a:lnTo>
                    <a:lnTo>
                      <a:pt x="399" y="134"/>
                    </a:lnTo>
                    <a:lnTo>
                      <a:pt x="396" y="137"/>
                    </a:lnTo>
                    <a:lnTo>
                      <a:pt x="394" y="137"/>
                    </a:lnTo>
                    <a:lnTo>
                      <a:pt x="393" y="134"/>
                    </a:lnTo>
                    <a:lnTo>
                      <a:pt x="392" y="132"/>
                    </a:lnTo>
                    <a:lnTo>
                      <a:pt x="392" y="129"/>
                    </a:lnTo>
                    <a:lnTo>
                      <a:pt x="392" y="127"/>
                    </a:lnTo>
                    <a:lnTo>
                      <a:pt x="392" y="125"/>
                    </a:lnTo>
                    <a:lnTo>
                      <a:pt x="391" y="121"/>
                    </a:lnTo>
                    <a:lnTo>
                      <a:pt x="391" y="119"/>
                    </a:lnTo>
                    <a:lnTo>
                      <a:pt x="391" y="117"/>
                    </a:lnTo>
                    <a:lnTo>
                      <a:pt x="392" y="115"/>
                    </a:lnTo>
                    <a:lnTo>
                      <a:pt x="394" y="111"/>
                    </a:lnTo>
                    <a:lnTo>
                      <a:pt x="396" y="110"/>
                    </a:lnTo>
                    <a:lnTo>
                      <a:pt x="399" y="109"/>
                    </a:lnTo>
                    <a:close/>
                    <a:moveTo>
                      <a:pt x="105" y="109"/>
                    </a:moveTo>
                    <a:lnTo>
                      <a:pt x="106" y="110"/>
                    </a:lnTo>
                    <a:lnTo>
                      <a:pt x="108" y="111"/>
                    </a:lnTo>
                    <a:lnTo>
                      <a:pt x="109" y="112"/>
                    </a:lnTo>
                    <a:lnTo>
                      <a:pt x="109" y="115"/>
                    </a:lnTo>
                    <a:lnTo>
                      <a:pt x="109" y="117"/>
                    </a:lnTo>
                    <a:lnTo>
                      <a:pt x="108" y="118"/>
                    </a:lnTo>
                    <a:lnTo>
                      <a:pt x="107" y="119"/>
                    </a:lnTo>
                    <a:lnTo>
                      <a:pt x="107" y="118"/>
                    </a:lnTo>
                    <a:lnTo>
                      <a:pt x="105" y="118"/>
                    </a:lnTo>
                    <a:lnTo>
                      <a:pt x="104" y="118"/>
                    </a:lnTo>
                    <a:lnTo>
                      <a:pt x="102" y="117"/>
                    </a:lnTo>
                    <a:lnTo>
                      <a:pt x="102" y="115"/>
                    </a:lnTo>
                    <a:lnTo>
                      <a:pt x="102" y="114"/>
                    </a:lnTo>
                    <a:lnTo>
                      <a:pt x="102" y="112"/>
                    </a:lnTo>
                    <a:lnTo>
                      <a:pt x="102" y="110"/>
                    </a:lnTo>
                    <a:lnTo>
                      <a:pt x="104" y="109"/>
                    </a:lnTo>
                    <a:lnTo>
                      <a:pt x="105" y="109"/>
                    </a:lnTo>
                    <a:close/>
                    <a:moveTo>
                      <a:pt x="2451" y="90"/>
                    </a:moveTo>
                    <a:lnTo>
                      <a:pt x="2455" y="97"/>
                    </a:lnTo>
                    <a:lnTo>
                      <a:pt x="2458" y="105"/>
                    </a:lnTo>
                    <a:lnTo>
                      <a:pt x="2459" y="111"/>
                    </a:lnTo>
                    <a:lnTo>
                      <a:pt x="2462" y="118"/>
                    </a:lnTo>
                    <a:lnTo>
                      <a:pt x="2461" y="125"/>
                    </a:lnTo>
                    <a:lnTo>
                      <a:pt x="2458" y="130"/>
                    </a:lnTo>
                    <a:lnTo>
                      <a:pt x="2456" y="134"/>
                    </a:lnTo>
                    <a:lnTo>
                      <a:pt x="2456" y="155"/>
                    </a:lnTo>
                    <a:lnTo>
                      <a:pt x="2456" y="159"/>
                    </a:lnTo>
                    <a:lnTo>
                      <a:pt x="2456" y="162"/>
                    </a:lnTo>
                    <a:lnTo>
                      <a:pt x="2455" y="164"/>
                    </a:lnTo>
                    <a:lnTo>
                      <a:pt x="2455" y="166"/>
                    </a:lnTo>
                    <a:lnTo>
                      <a:pt x="2454" y="169"/>
                    </a:lnTo>
                    <a:lnTo>
                      <a:pt x="2452" y="174"/>
                    </a:lnTo>
                    <a:lnTo>
                      <a:pt x="2451" y="181"/>
                    </a:lnTo>
                    <a:lnTo>
                      <a:pt x="2448" y="187"/>
                    </a:lnTo>
                    <a:lnTo>
                      <a:pt x="2447" y="192"/>
                    </a:lnTo>
                    <a:lnTo>
                      <a:pt x="2444" y="194"/>
                    </a:lnTo>
                    <a:lnTo>
                      <a:pt x="2441" y="192"/>
                    </a:lnTo>
                    <a:lnTo>
                      <a:pt x="2440" y="191"/>
                    </a:lnTo>
                    <a:lnTo>
                      <a:pt x="2440" y="188"/>
                    </a:lnTo>
                    <a:lnTo>
                      <a:pt x="2438" y="186"/>
                    </a:lnTo>
                    <a:lnTo>
                      <a:pt x="2438" y="185"/>
                    </a:lnTo>
                    <a:lnTo>
                      <a:pt x="2437" y="185"/>
                    </a:lnTo>
                    <a:lnTo>
                      <a:pt x="2436" y="185"/>
                    </a:lnTo>
                    <a:lnTo>
                      <a:pt x="2434" y="188"/>
                    </a:lnTo>
                    <a:lnTo>
                      <a:pt x="2432" y="190"/>
                    </a:lnTo>
                    <a:lnTo>
                      <a:pt x="2431" y="191"/>
                    </a:lnTo>
                    <a:lnTo>
                      <a:pt x="2429" y="188"/>
                    </a:lnTo>
                    <a:lnTo>
                      <a:pt x="2425" y="185"/>
                    </a:lnTo>
                    <a:lnTo>
                      <a:pt x="2423" y="178"/>
                    </a:lnTo>
                    <a:lnTo>
                      <a:pt x="2422" y="171"/>
                    </a:lnTo>
                    <a:lnTo>
                      <a:pt x="2425" y="164"/>
                    </a:lnTo>
                    <a:lnTo>
                      <a:pt x="2426" y="162"/>
                    </a:lnTo>
                    <a:lnTo>
                      <a:pt x="2426" y="160"/>
                    </a:lnTo>
                    <a:lnTo>
                      <a:pt x="2427" y="156"/>
                    </a:lnTo>
                    <a:lnTo>
                      <a:pt x="2427" y="153"/>
                    </a:lnTo>
                    <a:lnTo>
                      <a:pt x="2429" y="151"/>
                    </a:lnTo>
                    <a:lnTo>
                      <a:pt x="2429" y="149"/>
                    </a:lnTo>
                    <a:lnTo>
                      <a:pt x="2430" y="147"/>
                    </a:lnTo>
                    <a:lnTo>
                      <a:pt x="2431" y="145"/>
                    </a:lnTo>
                    <a:lnTo>
                      <a:pt x="2431" y="142"/>
                    </a:lnTo>
                    <a:lnTo>
                      <a:pt x="2429" y="140"/>
                    </a:lnTo>
                    <a:lnTo>
                      <a:pt x="2426" y="137"/>
                    </a:lnTo>
                    <a:lnTo>
                      <a:pt x="2424" y="133"/>
                    </a:lnTo>
                    <a:lnTo>
                      <a:pt x="2423" y="130"/>
                    </a:lnTo>
                    <a:lnTo>
                      <a:pt x="2423" y="128"/>
                    </a:lnTo>
                    <a:lnTo>
                      <a:pt x="2423" y="126"/>
                    </a:lnTo>
                    <a:lnTo>
                      <a:pt x="2424" y="122"/>
                    </a:lnTo>
                    <a:lnTo>
                      <a:pt x="2424" y="120"/>
                    </a:lnTo>
                    <a:lnTo>
                      <a:pt x="2426" y="118"/>
                    </a:lnTo>
                    <a:lnTo>
                      <a:pt x="2427" y="116"/>
                    </a:lnTo>
                    <a:lnTo>
                      <a:pt x="2429" y="116"/>
                    </a:lnTo>
                    <a:lnTo>
                      <a:pt x="2431" y="115"/>
                    </a:lnTo>
                    <a:lnTo>
                      <a:pt x="2433" y="114"/>
                    </a:lnTo>
                    <a:lnTo>
                      <a:pt x="2434" y="112"/>
                    </a:lnTo>
                    <a:lnTo>
                      <a:pt x="2435" y="112"/>
                    </a:lnTo>
                    <a:lnTo>
                      <a:pt x="2436" y="114"/>
                    </a:lnTo>
                    <a:lnTo>
                      <a:pt x="2437" y="116"/>
                    </a:lnTo>
                    <a:lnTo>
                      <a:pt x="2438" y="118"/>
                    </a:lnTo>
                    <a:lnTo>
                      <a:pt x="2441" y="121"/>
                    </a:lnTo>
                    <a:lnTo>
                      <a:pt x="2442" y="123"/>
                    </a:lnTo>
                    <a:lnTo>
                      <a:pt x="2443" y="125"/>
                    </a:lnTo>
                    <a:lnTo>
                      <a:pt x="2443" y="125"/>
                    </a:lnTo>
                    <a:lnTo>
                      <a:pt x="2443" y="123"/>
                    </a:lnTo>
                    <a:lnTo>
                      <a:pt x="2443" y="122"/>
                    </a:lnTo>
                    <a:lnTo>
                      <a:pt x="2443" y="121"/>
                    </a:lnTo>
                    <a:lnTo>
                      <a:pt x="2443" y="120"/>
                    </a:lnTo>
                    <a:lnTo>
                      <a:pt x="2443" y="118"/>
                    </a:lnTo>
                    <a:lnTo>
                      <a:pt x="2443" y="118"/>
                    </a:lnTo>
                    <a:lnTo>
                      <a:pt x="2443" y="109"/>
                    </a:lnTo>
                    <a:lnTo>
                      <a:pt x="2443" y="107"/>
                    </a:lnTo>
                    <a:lnTo>
                      <a:pt x="2443" y="106"/>
                    </a:lnTo>
                    <a:lnTo>
                      <a:pt x="2442" y="105"/>
                    </a:lnTo>
                    <a:lnTo>
                      <a:pt x="2440" y="104"/>
                    </a:lnTo>
                    <a:lnTo>
                      <a:pt x="2438" y="104"/>
                    </a:lnTo>
                    <a:lnTo>
                      <a:pt x="2440" y="100"/>
                    </a:lnTo>
                    <a:lnTo>
                      <a:pt x="2440" y="98"/>
                    </a:lnTo>
                    <a:lnTo>
                      <a:pt x="2441" y="97"/>
                    </a:lnTo>
                    <a:lnTo>
                      <a:pt x="2442" y="96"/>
                    </a:lnTo>
                    <a:lnTo>
                      <a:pt x="2443" y="95"/>
                    </a:lnTo>
                    <a:lnTo>
                      <a:pt x="2444" y="95"/>
                    </a:lnTo>
                    <a:lnTo>
                      <a:pt x="2446" y="95"/>
                    </a:lnTo>
                    <a:lnTo>
                      <a:pt x="2448" y="93"/>
                    </a:lnTo>
                    <a:lnTo>
                      <a:pt x="2451" y="90"/>
                    </a:lnTo>
                    <a:close/>
                    <a:moveTo>
                      <a:pt x="87" y="85"/>
                    </a:moveTo>
                    <a:lnTo>
                      <a:pt x="88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4" y="92"/>
                    </a:lnTo>
                    <a:lnTo>
                      <a:pt x="95" y="94"/>
                    </a:lnTo>
                    <a:lnTo>
                      <a:pt x="96" y="95"/>
                    </a:lnTo>
                    <a:lnTo>
                      <a:pt x="97" y="97"/>
                    </a:lnTo>
                    <a:lnTo>
                      <a:pt x="99" y="97"/>
                    </a:lnTo>
                    <a:lnTo>
                      <a:pt x="99" y="98"/>
                    </a:lnTo>
                    <a:lnTo>
                      <a:pt x="100" y="99"/>
                    </a:lnTo>
                    <a:lnTo>
                      <a:pt x="100" y="101"/>
                    </a:lnTo>
                    <a:lnTo>
                      <a:pt x="100" y="104"/>
                    </a:lnTo>
                    <a:lnTo>
                      <a:pt x="99" y="104"/>
                    </a:lnTo>
                    <a:lnTo>
                      <a:pt x="97" y="104"/>
                    </a:lnTo>
                    <a:lnTo>
                      <a:pt x="96" y="104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0" y="101"/>
                    </a:lnTo>
                    <a:lnTo>
                      <a:pt x="89" y="100"/>
                    </a:lnTo>
                    <a:lnTo>
                      <a:pt x="89" y="99"/>
                    </a:lnTo>
                    <a:lnTo>
                      <a:pt x="88" y="99"/>
                    </a:lnTo>
                    <a:lnTo>
                      <a:pt x="87" y="100"/>
                    </a:lnTo>
                    <a:lnTo>
                      <a:pt x="87" y="101"/>
                    </a:lnTo>
                    <a:lnTo>
                      <a:pt x="86" y="104"/>
                    </a:lnTo>
                    <a:lnTo>
                      <a:pt x="86" y="106"/>
                    </a:lnTo>
                    <a:lnTo>
                      <a:pt x="86" y="107"/>
                    </a:lnTo>
                    <a:lnTo>
                      <a:pt x="86" y="109"/>
                    </a:lnTo>
                    <a:lnTo>
                      <a:pt x="85" y="109"/>
                    </a:lnTo>
                    <a:lnTo>
                      <a:pt x="83" y="109"/>
                    </a:lnTo>
                    <a:lnTo>
                      <a:pt x="82" y="108"/>
                    </a:lnTo>
                    <a:lnTo>
                      <a:pt x="80" y="107"/>
                    </a:lnTo>
                    <a:lnTo>
                      <a:pt x="79" y="106"/>
                    </a:lnTo>
                    <a:lnTo>
                      <a:pt x="78" y="106"/>
                    </a:lnTo>
                    <a:lnTo>
                      <a:pt x="77" y="106"/>
                    </a:lnTo>
                    <a:lnTo>
                      <a:pt x="76" y="105"/>
                    </a:lnTo>
                    <a:lnTo>
                      <a:pt x="75" y="105"/>
                    </a:lnTo>
                    <a:lnTo>
                      <a:pt x="74" y="104"/>
                    </a:lnTo>
                    <a:lnTo>
                      <a:pt x="75" y="100"/>
                    </a:lnTo>
                    <a:lnTo>
                      <a:pt x="75" y="99"/>
                    </a:lnTo>
                    <a:lnTo>
                      <a:pt x="75" y="98"/>
                    </a:lnTo>
                    <a:lnTo>
                      <a:pt x="76" y="97"/>
                    </a:lnTo>
                    <a:lnTo>
                      <a:pt x="78" y="97"/>
                    </a:lnTo>
                    <a:lnTo>
                      <a:pt x="79" y="96"/>
                    </a:lnTo>
                    <a:lnTo>
                      <a:pt x="82" y="95"/>
                    </a:lnTo>
                    <a:lnTo>
                      <a:pt x="84" y="93"/>
                    </a:lnTo>
                    <a:lnTo>
                      <a:pt x="85" y="89"/>
                    </a:lnTo>
                    <a:lnTo>
                      <a:pt x="85" y="87"/>
                    </a:lnTo>
                    <a:lnTo>
                      <a:pt x="86" y="86"/>
                    </a:lnTo>
                    <a:lnTo>
                      <a:pt x="87" y="85"/>
                    </a:lnTo>
                    <a:close/>
                    <a:moveTo>
                      <a:pt x="389" y="72"/>
                    </a:moveTo>
                    <a:lnTo>
                      <a:pt x="389" y="73"/>
                    </a:lnTo>
                    <a:lnTo>
                      <a:pt x="391" y="74"/>
                    </a:lnTo>
                    <a:lnTo>
                      <a:pt x="393" y="75"/>
                    </a:lnTo>
                    <a:lnTo>
                      <a:pt x="395" y="76"/>
                    </a:lnTo>
                    <a:lnTo>
                      <a:pt x="397" y="77"/>
                    </a:lnTo>
                    <a:lnTo>
                      <a:pt x="400" y="78"/>
                    </a:lnTo>
                    <a:lnTo>
                      <a:pt x="402" y="83"/>
                    </a:lnTo>
                    <a:lnTo>
                      <a:pt x="403" y="87"/>
                    </a:lnTo>
                    <a:lnTo>
                      <a:pt x="405" y="92"/>
                    </a:lnTo>
                    <a:lnTo>
                      <a:pt x="405" y="93"/>
                    </a:lnTo>
                    <a:lnTo>
                      <a:pt x="405" y="95"/>
                    </a:lnTo>
                    <a:lnTo>
                      <a:pt x="406" y="97"/>
                    </a:lnTo>
                    <a:lnTo>
                      <a:pt x="406" y="99"/>
                    </a:lnTo>
                    <a:lnTo>
                      <a:pt x="406" y="101"/>
                    </a:lnTo>
                    <a:lnTo>
                      <a:pt x="406" y="103"/>
                    </a:lnTo>
                    <a:lnTo>
                      <a:pt x="405" y="103"/>
                    </a:lnTo>
                    <a:lnTo>
                      <a:pt x="403" y="104"/>
                    </a:lnTo>
                    <a:lnTo>
                      <a:pt x="402" y="104"/>
                    </a:lnTo>
                    <a:lnTo>
                      <a:pt x="401" y="103"/>
                    </a:lnTo>
                    <a:lnTo>
                      <a:pt x="400" y="103"/>
                    </a:lnTo>
                    <a:lnTo>
                      <a:pt x="399" y="101"/>
                    </a:lnTo>
                    <a:lnTo>
                      <a:pt x="397" y="103"/>
                    </a:lnTo>
                    <a:lnTo>
                      <a:pt x="396" y="103"/>
                    </a:lnTo>
                    <a:lnTo>
                      <a:pt x="394" y="105"/>
                    </a:lnTo>
                    <a:lnTo>
                      <a:pt x="393" y="106"/>
                    </a:lnTo>
                    <a:lnTo>
                      <a:pt x="392" y="107"/>
                    </a:lnTo>
                    <a:lnTo>
                      <a:pt x="390" y="108"/>
                    </a:lnTo>
                    <a:lnTo>
                      <a:pt x="388" y="108"/>
                    </a:lnTo>
                    <a:lnTo>
                      <a:pt x="385" y="107"/>
                    </a:lnTo>
                    <a:lnTo>
                      <a:pt x="386" y="103"/>
                    </a:lnTo>
                    <a:lnTo>
                      <a:pt x="388" y="98"/>
                    </a:lnTo>
                    <a:lnTo>
                      <a:pt x="389" y="94"/>
                    </a:lnTo>
                    <a:lnTo>
                      <a:pt x="388" y="88"/>
                    </a:lnTo>
                    <a:lnTo>
                      <a:pt x="385" y="83"/>
                    </a:lnTo>
                    <a:lnTo>
                      <a:pt x="385" y="77"/>
                    </a:lnTo>
                    <a:lnTo>
                      <a:pt x="389" y="72"/>
                    </a:lnTo>
                    <a:close/>
                    <a:moveTo>
                      <a:pt x="368" y="46"/>
                    </a:moveTo>
                    <a:lnTo>
                      <a:pt x="369" y="47"/>
                    </a:lnTo>
                    <a:lnTo>
                      <a:pt x="370" y="47"/>
                    </a:lnTo>
                    <a:lnTo>
                      <a:pt x="370" y="47"/>
                    </a:lnTo>
                    <a:lnTo>
                      <a:pt x="370" y="49"/>
                    </a:lnTo>
                    <a:lnTo>
                      <a:pt x="370" y="50"/>
                    </a:lnTo>
                    <a:lnTo>
                      <a:pt x="369" y="51"/>
                    </a:lnTo>
                    <a:lnTo>
                      <a:pt x="368" y="52"/>
                    </a:lnTo>
                    <a:lnTo>
                      <a:pt x="366" y="51"/>
                    </a:lnTo>
                    <a:lnTo>
                      <a:pt x="364" y="50"/>
                    </a:lnTo>
                    <a:lnTo>
                      <a:pt x="363" y="49"/>
                    </a:lnTo>
                    <a:lnTo>
                      <a:pt x="364" y="47"/>
                    </a:lnTo>
                    <a:lnTo>
                      <a:pt x="366" y="46"/>
                    </a:lnTo>
                    <a:lnTo>
                      <a:pt x="368" y="46"/>
                    </a:lnTo>
                    <a:close/>
                    <a:moveTo>
                      <a:pt x="22" y="46"/>
                    </a:moveTo>
                    <a:lnTo>
                      <a:pt x="23" y="46"/>
                    </a:lnTo>
                    <a:lnTo>
                      <a:pt x="24" y="47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20" y="51"/>
                    </a:lnTo>
                    <a:lnTo>
                      <a:pt x="19" y="50"/>
                    </a:lnTo>
                    <a:lnTo>
                      <a:pt x="19" y="47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2" y="46"/>
                    </a:lnTo>
                    <a:close/>
                    <a:moveTo>
                      <a:pt x="3068" y="35"/>
                    </a:moveTo>
                    <a:lnTo>
                      <a:pt x="3068" y="155"/>
                    </a:lnTo>
                    <a:lnTo>
                      <a:pt x="3060" y="253"/>
                    </a:lnTo>
                    <a:lnTo>
                      <a:pt x="3046" y="349"/>
                    </a:lnTo>
                    <a:lnTo>
                      <a:pt x="3027" y="444"/>
                    </a:lnTo>
                    <a:lnTo>
                      <a:pt x="3002" y="535"/>
                    </a:lnTo>
                    <a:lnTo>
                      <a:pt x="3002" y="533"/>
                    </a:lnTo>
                    <a:lnTo>
                      <a:pt x="3000" y="532"/>
                    </a:lnTo>
                    <a:lnTo>
                      <a:pt x="2999" y="533"/>
                    </a:lnTo>
                    <a:lnTo>
                      <a:pt x="2998" y="534"/>
                    </a:lnTo>
                    <a:lnTo>
                      <a:pt x="2998" y="535"/>
                    </a:lnTo>
                    <a:lnTo>
                      <a:pt x="2998" y="537"/>
                    </a:lnTo>
                    <a:lnTo>
                      <a:pt x="2994" y="541"/>
                    </a:lnTo>
                    <a:lnTo>
                      <a:pt x="2992" y="544"/>
                    </a:lnTo>
                    <a:lnTo>
                      <a:pt x="2989" y="546"/>
                    </a:lnTo>
                    <a:lnTo>
                      <a:pt x="2987" y="548"/>
                    </a:lnTo>
                    <a:lnTo>
                      <a:pt x="2983" y="549"/>
                    </a:lnTo>
                    <a:lnTo>
                      <a:pt x="2981" y="553"/>
                    </a:lnTo>
                    <a:lnTo>
                      <a:pt x="2980" y="555"/>
                    </a:lnTo>
                    <a:lnTo>
                      <a:pt x="2978" y="558"/>
                    </a:lnTo>
                    <a:lnTo>
                      <a:pt x="2976" y="562"/>
                    </a:lnTo>
                    <a:lnTo>
                      <a:pt x="2974" y="564"/>
                    </a:lnTo>
                    <a:lnTo>
                      <a:pt x="2971" y="567"/>
                    </a:lnTo>
                    <a:lnTo>
                      <a:pt x="2969" y="570"/>
                    </a:lnTo>
                    <a:lnTo>
                      <a:pt x="2967" y="573"/>
                    </a:lnTo>
                    <a:lnTo>
                      <a:pt x="2967" y="575"/>
                    </a:lnTo>
                    <a:lnTo>
                      <a:pt x="2966" y="577"/>
                    </a:lnTo>
                    <a:lnTo>
                      <a:pt x="2965" y="579"/>
                    </a:lnTo>
                    <a:lnTo>
                      <a:pt x="2963" y="583"/>
                    </a:lnTo>
                    <a:lnTo>
                      <a:pt x="2959" y="586"/>
                    </a:lnTo>
                    <a:lnTo>
                      <a:pt x="2958" y="588"/>
                    </a:lnTo>
                    <a:lnTo>
                      <a:pt x="2956" y="590"/>
                    </a:lnTo>
                    <a:lnTo>
                      <a:pt x="2955" y="592"/>
                    </a:lnTo>
                    <a:lnTo>
                      <a:pt x="2953" y="595"/>
                    </a:lnTo>
                    <a:lnTo>
                      <a:pt x="2952" y="598"/>
                    </a:lnTo>
                    <a:lnTo>
                      <a:pt x="2949" y="602"/>
                    </a:lnTo>
                    <a:lnTo>
                      <a:pt x="2947" y="607"/>
                    </a:lnTo>
                    <a:lnTo>
                      <a:pt x="2945" y="610"/>
                    </a:lnTo>
                    <a:lnTo>
                      <a:pt x="2942" y="612"/>
                    </a:lnTo>
                    <a:lnTo>
                      <a:pt x="2941" y="614"/>
                    </a:lnTo>
                    <a:lnTo>
                      <a:pt x="2938" y="617"/>
                    </a:lnTo>
                    <a:lnTo>
                      <a:pt x="2936" y="620"/>
                    </a:lnTo>
                    <a:lnTo>
                      <a:pt x="2934" y="623"/>
                    </a:lnTo>
                    <a:lnTo>
                      <a:pt x="2933" y="628"/>
                    </a:lnTo>
                    <a:lnTo>
                      <a:pt x="2932" y="630"/>
                    </a:lnTo>
                    <a:lnTo>
                      <a:pt x="2932" y="633"/>
                    </a:lnTo>
                    <a:lnTo>
                      <a:pt x="2931" y="635"/>
                    </a:lnTo>
                    <a:lnTo>
                      <a:pt x="2931" y="638"/>
                    </a:lnTo>
                    <a:lnTo>
                      <a:pt x="2931" y="640"/>
                    </a:lnTo>
                    <a:lnTo>
                      <a:pt x="2932" y="640"/>
                    </a:lnTo>
                    <a:lnTo>
                      <a:pt x="2932" y="641"/>
                    </a:lnTo>
                    <a:lnTo>
                      <a:pt x="2933" y="642"/>
                    </a:lnTo>
                    <a:lnTo>
                      <a:pt x="2933" y="644"/>
                    </a:lnTo>
                    <a:lnTo>
                      <a:pt x="2932" y="646"/>
                    </a:lnTo>
                    <a:lnTo>
                      <a:pt x="2931" y="650"/>
                    </a:lnTo>
                    <a:lnTo>
                      <a:pt x="2929" y="652"/>
                    </a:lnTo>
                    <a:lnTo>
                      <a:pt x="2928" y="653"/>
                    </a:lnTo>
                    <a:lnTo>
                      <a:pt x="2927" y="656"/>
                    </a:lnTo>
                    <a:lnTo>
                      <a:pt x="2926" y="658"/>
                    </a:lnTo>
                    <a:lnTo>
                      <a:pt x="2925" y="662"/>
                    </a:lnTo>
                    <a:lnTo>
                      <a:pt x="2924" y="664"/>
                    </a:lnTo>
                    <a:lnTo>
                      <a:pt x="2922" y="668"/>
                    </a:lnTo>
                    <a:lnTo>
                      <a:pt x="2921" y="671"/>
                    </a:lnTo>
                    <a:lnTo>
                      <a:pt x="2920" y="673"/>
                    </a:lnTo>
                    <a:lnTo>
                      <a:pt x="2918" y="676"/>
                    </a:lnTo>
                    <a:lnTo>
                      <a:pt x="2917" y="678"/>
                    </a:lnTo>
                    <a:lnTo>
                      <a:pt x="2917" y="682"/>
                    </a:lnTo>
                    <a:lnTo>
                      <a:pt x="2915" y="684"/>
                    </a:lnTo>
                    <a:lnTo>
                      <a:pt x="2915" y="685"/>
                    </a:lnTo>
                    <a:lnTo>
                      <a:pt x="2915" y="687"/>
                    </a:lnTo>
                    <a:lnTo>
                      <a:pt x="2914" y="690"/>
                    </a:lnTo>
                    <a:lnTo>
                      <a:pt x="2913" y="693"/>
                    </a:lnTo>
                    <a:lnTo>
                      <a:pt x="2911" y="696"/>
                    </a:lnTo>
                    <a:lnTo>
                      <a:pt x="2910" y="698"/>
                    </a:lnTo>
                    <a:lnTo>
                      <a:pt x="2909" y="699"/>
                    </a:lnTo>
                    <a:lnTo>
                      <a:pt x="2907" y="700"/>
                    </a:lnTo>
                    <a:lnTo>
                      <a:pt x="2906" y="699"/>
                    </a:lnTo>
                    <a:lnTo>
                      <a:pt x="2906" y="699"/>
                    </a:lnTo>
                    <a:lnTo>
                      <a:pt x="2905" y="698"/>
                    </a:lnTo>
                    <a:lnTo>
                      <a:pt x="2906" y="696"/>
                    </a:lnTo>
                    <a:lnTo>
                      <a:pt x="2906" y="695"/>
                    </a:lnTo>
                    <a:lnTo>
                      <a:pt x="2906" y="693"/>
                    </a:lnTo>
                    <a:lnTo>
                      <a:pt x="2905" y="690"/>
                    </a:lnTo>
                    <a:lnTo>
                      <a:pt x="2905" y="687"/>
                    </a:lnTo>
                    <a:lnTo>
                      <a:pt x="2904" y="685"/>
                    </a:lnTo>
                    <a:lnTo>
                      <a:pt x="2904" y="682"/>
                    </a:lnTo>
                    <a:lnTo>
                      <a:pt x="2904" y="660"/>
                    </a:lnTo>
                    <a:lnTo>
                      <a:pt x="2903" y="650"/>
                    </a:lnTo>
                    <a:lnTo>
                      <a:pt x="2902" y="638"/>
                    </a:lnTo>
                    <a:lnTo>
                      <a:pt x="2902" y="627"/>
                    </a:lnTo>
                    <a:lnTo>
                      <a:pt x="2902" y="614"/>
                    </a:lnTo>
                    <a:lnTo>
                      <a:pt x="2902" y="610"/>
                    </a:lnTo>
                    <a:lnTo>
                      <a:pt x="2903" y="606"/>
                    </a:lnTo>
                    <a:lnTo>
                      <a:pt x="2904" y="601"/>
                    </a:lnTo>
                    <a:lnTo>
                      <a:pt x="2904" y="590"/>
                    </a:lnTo>
                    <a:lnTo>
                      <a:pt x="2905" y="585"/>
                    </a:lnTo>
                    <a:lnTo>
                      <a:pt x="2905" y="581"/>
                    </a:lnTo>
                    <a:lnTo>
                      <a:pt x="2906" y="577"/>
                    </a:lnTo>
                    <a:lnTo>
                      <a:pt x="2906" y="573"/>
                    </a:lnTo>
                    <a:lnTo>
                      <a:pt x="2906" y="572"/>
                    </a:lnTo>
                    <a:lnTo>
                      <a:pt x="2906" y="569"/>
                    </a:lnTo>
                    <a:lnTo>
                      <a:pt x="2906" y="568"/>
                    </a:lnTo>
                    <a:lnTo>
                      <a:pt x="2905" y="567"/>
                    </a:lnTo>
                    <a:lnTo>
                      <a:pt x="2905" y="567"/>
                    </a:lnTo>
                    <a:lnTo>
                      <a:pt x="2904" y="568"/>
                    </a:lnTo>
                    <a:lnTo>
                      <a:pt x="2904" y="570"/>
                    </a:lnTo>
                    <a:lnTo>
                      <a:pt x="2902" y="575"/>
                    </a:lnTo>
                    <a:lnTo>
                      <a:pt x="2900" y="578"/>
                    </a:lnTo>
                    <a:lnTo>
                      <a:pt x="2898" y="579"/>
                    </a:lnTo>
                    <a:lnTo>
                      <a:pt x="2895" y="580"/>
                    </a:lnTo>
                    <a:lnTo>
                      <a:pt x="2893" y="581"/>
                    </a:lnTo>
                    <a:lnTo>
                      <a:pt x="2892" y="581"/>
                    </a:lnTo>
                    <a:lnTo>
                      <a:pt x="2891" y="580"/>
                    </a:lnTo>
                    <a:lnTo>
                      <a:pt x="2890" y="579"/>
                    </a:lnTo>
                    <a:lnTo>
                      <a:pt x="2890" y="577"/>
                    </a:lnTo>
                    <a:lnTo>
                      <a:pt x="2889" y="575"/>
                    </a:lnTo>
                    <a:lnTo>
                      <a:pt x="2889" y="573"/>
                    </a:lnTo>
                    <a:lnTo>
                      <a:pt x="2889" y="570"/>
                    </a:lnTo>
                    <a:lnTo>
                      <a:pt x="2889" y="559"/>
                    </a:lnTo>
                    <a:lnTo>
                      <a:pt x="2889" y="557"/>
                    </a:lnTo>
                    <a:lnTo>
                      <a:pt x="2889" y="555"/>
                    </a:lnTo>
                    <a:lnTo>
                      <a:pt x="2887" y="553"/>
                    </a:lnTo>
                    <a:lnTo>
                      <a:pt x="2887" y="552"/>
                    </a:lnTo>
                    <a:lnTo>
                      <a:pt x="2887" y="551"/>
                    </a:lnTo>
                    <a:lnTo>
                      <a:pt x="2887" y="549"/>
                    </a:lnTo>
                    <a:lnTo>
                      <a:pt x="2885" y="548"/>
                    </a:lnTo>
                    <a:lnTo>
                      <a:pt x="2884" y="548"/>
                    </a:lnTo>
                    <a:lnTo>
                      <a:pt x="2883" y="546"/>
                    </a:lnTo>
                    <a:lnTo>
                      <a:pt x="2882" y="544"/>
                    </a:lnTo>
                    <a:lnTo>
                      <a:pt x="2882" y="542"/>
                    </a:lnTo>
                    <a:lnTo>
                      <a:pt x="2882" y="540"/>
                    </a:lnTo>
                    <a:lnTo>
                      <a:pt x="2882" y="538"/>
                    </a:lnTo>
                    <a:lnTo>
                      <a:pt x="2882" y="536"/>
                    </a:lnTo>
                    <a:lnTo>
                      <a:pt x="2881" y="535"/>
                    </a:lnTo>
                    <a:lnTo>
                      <a:pt x="2880" y="535"/>
                    </a:lnTo>
                    <a:lnTo>
                      <a:pt x="2878" y="535"/>
                    </a:lnTo>
                    <a:lnTo>
                      <a:pt x="2876" y="537"/>
                    </a:lnTo>
                    <a:lnTo>
                      <a:pt x="2873" y="540"/>
                    </a:lnTo>
                    <a:lnTo>
                      <a:pt x="2871" y="540"/>
                    </a:lnTo>
                    <a:lnTo>
                      <a:pt x="2869" y="540"/>
                    </a:lnTo>
                    <a:lnTo>
                      <a:pt x="2867" y="542"/>
                    </a:lnTo>
                    <a:lnTo>
                      <a:pt x="2865" y="542"/>
                    </a:lnTo>
                    <a:lnTo>
                      <a:pt x="2862" y="543"/>
                    </a:lnTo>
                    <a:lnTo>
                      <a:pt x="2860" y="544"/>
                    </a:lnTo>
                    <a:lnTo>
                      <a:pt x="2851" y="544"/>
                    </a:lnTo>
                    <a:lnTo>
                      <a:pt x="2849" y="544"/>
                    </a:lnTo>
                    <a:lnTo>
                      <a:pt x="2847" y="545"/>
                    </a:lnTo>
                    <a:lnTo>
                      <a:pt x="2845" y="546"/>
                    </a:lnTo>
                    <a:lnTo>
                      <a:pt x="2844" y="546"/>
                    </a:lnTo>
                    <a:lnTo>
                      <a:pt x="2843" y="546"/>
                    </a:lnTo>
                    <a:lnTo>
                      <a:pt x="2841" y="547"/>
                    </a:lnTo>
                    <a:lnTo>
                      <a:pt x="2840" y="547"/>
                    </a:lnTo>
                    <a:lnTo>
                      <a:pt x="2839" y="547"/>
                    </a:lnTo>
                    <a:lnTo>
                      <a:pt x="2838" y="546"/>
                    </a:lnTo>
                    <a:lnTo>
                      <a:pt x="2838" y="544"/>
                    </a:lnTo>
                    <a:lnTo>
                      <a:pt x="2838" y="542"/>
                    </a:lnTo>
                    <a:lnTo>
                      <a:pt x="2838" y="538"/>
                    </a:lnTo>
                    <a:lnTo>
                      <a:pt x="2838" y="535"/>
                    </a:lnTo>
                    <a:lnTo>
                      <a:pt x="2838" y="532"/>
                    </a:lnTo>
                    <a:lnTo>
                      <a:pt x="2837" y="530"/>
                    </a:lnTo>
                    <a:lnTo>
                      <a:pt x="2837" y="529"/>
                    </a:lnTo>
                    <a:lnTo>
                      <a:pt x="2836" y="529"/>
                    </a:lnTo>
                    <a:lnTo>
                      <a:pt x="2835" y="529"/>
                    </a:lnTo>
                    <a:lnTo>
                      <a:pt x="2834" y="530"/>
                    </a:lnTo>
                    <a:lnTo>
                      <a:pt x="2834" y="532"/>
                    </a:lnTo>
                    <a:lnTo>
                      <a:pt x="2833" y="533"/>
                    </a:lnTo>
                    <a:lnTo>
                      <a:pt x="2832" y="535"/>
                    </a:lnTo>
                    <a:lnTo>
                      <a:pt x="2829" y="537"/>
                    </a:lnTo>
                    <a:lnTo>
                      <a:pt x="2828" y="540"/>
                    </a:lnTo>
                    <a:lnTo>
                      <a:pt x="2827" y="542"/>
                    </a:lnTo>
                    <a:lnTo>
                      <a:pt x="2825" y="543"/>
                    </a:lnTo>
                    <a:lnTo>
                      <a:pt x="2823" y="544"/>
                    </a:lnTo>
                    <a:lnTo>
                      <a:pt x="2821" y="544"/>
                    </a:lnTo>
                    <a:lnTo>
                      <a:pt x="2819" y="543"/>
                    </a:lnTo>
                    <a:lnTo>
                      <a:pt x="2817" y="542"/>
                    </a:lnTo>
                    <a:lnTo>
                      <a:pt x="2816" y="540"/>
                    </a:lnTo>
                    <a:lnTo>
                      <a:pt x="2815" y="536"/>
                    </a:lnTo>
                    <a:lnTo>
                      <a:pt x="2814" y="533"/>
                    </a:lnTo>
                    <a:lnTo>
                      <a:pt x="2813" y="529"/>
                    </a:lnTo>
                    <a:lnTo>
                      <a:pt x="2812" y="524"/>
                    </a:lnTo>
                    <a:lnTo>
                      <a:pt x="2812" y="523"/>
                    </a:lnTo>
                    <a:lnTo>
                      <a:pt x="2811" y="522"/>
                    </a:lnTo>
                    <a:lnTo>
                      <a:pt x="2811" y="521"/>
                    </a:lnTo>
                    <a:lnTo>
                      <a:pt x="2809" y="520"/>
                    </a:lnTo>
                    <a:lnTo>
                      <a:pt x="2809" y="518"/>
                    </a:lnTo>
                    <a:lnTo>
                      <a:pt x="2808" y="515"/>
                    </a:lnTo>
                    <a:lnTo>
                      <a:pt x="2807" y="513"/>
                    </a:lnTo>
                    <a:lnTo>
                      <a:pt x="2807" y="511"/>
                    </a:lnTo>
                    <a:lnTo>
                      <a:pt x="2807" y="509"/>
                    </a:lnTo>
                    <a:lnTo>
                      <a:pt x="2807" y="507"/>
                    </a:lnTo>
                    <a:lnTo>
                      <a:pt x="2806" y="505"/>
                    </a:lnTo>
                    <a:lnTo>
                      <a:pt x="2805" y="504"/>
                    </a:lnTo>
                    <a:lnTo>
                      <a:pt x="2803" y="504"/>
                    </a:lnTo>
                    <a:lnTo>
                      <a:pt x="2801" y="504"/>
                    </a:lnTo>
                    <a:lnTo>
                      <a:pt x="2800" y="504"/>
                    </a:lnTo>
                    <a:lnTo>
                      <a:pt x="2798" y="505"/>
                    </a:lnTo>
                    <a:lnTo>
                      <a:pt x="2797" y="509"/>
                    </a:lnTo>
                    <a:lnTo>
                      <a:pt x="2796" y="512"/>
                    </a:lnTo>
                    <a:lnTo>
                      <a:pt x="2796" y="518"/>
                    </a:lnTo>
                    <a:lnTo>
                      <a:pt x="2795" y="525"/>
                    </a:lnTo>
                    <a:lnTo>
                      <a:pt x="2796" y="533"/>
                    </a:lnTo>
                    <a:lnTo>
                      <a:pt x="2798" y="540"/>
                    </a:lnTo>
                    <a:lnTo>
                      <a:pt x="2800" y="548"/>
                    </a:lnTo>
                    <a:lnTo>
                      <a:pt x="2803" y="559"/>
                    </a:lnTo>
                    <a:lnTo>
                      <a:pt x="2803" y="562"/>
                    </a:lnTo>
                    <a:lnTo>
                      <a:pt x="2803" y="564"/>
                    </a:lnTo>
                    <a:lnTo>
                      <a:pt x="2804" y="566"/>
                    </a:lnTo>
                    <a:lnTo>
                      <a:pt x="2805" y="568"/>
                    </a:lnTo>
                    <a:lnTo>
                      <a:pt x="2805" y="569"/>
                    </a:lnTo>
                    <a:lnTo>
                      <a:pt x="2805" y="572"/>
                    </a:lnTo>
                    <a:lnTo>
                      <a:pt x="2805" y="573"/>
                    </a:lnTo>
                    <a:lnTo>
                      <a:pt x="2806" y="574"/>
                    </a:lnTo>
                    <a:lnTo>
                      <a:pt x="2807" y="575"/>
                    </a:lnTo>
                    <a:lnTo>
                      <a:pt x="2807" y="575"/>
                    </a:lnTo>
                    <a:lnTo>
                      <a:pt x="2809" y="575"/>
                    </a:lnTo>
                    <a:lnTo>
                      <a:pt x="2811" y="574"/>
                    </a:lnTo>
                    <a:lnTo>
                      <a:pt x="2813" y="573"/>
                    </a:lnTo>
                    <a:lnTo>
                      <a:pt x="2814" y="570"/>
                    </a:lnTo>
                    <a:lnTo>
                      <a:pt x="2816" y="567"/>
                    </a:lnTo>
                    <a:lnTo>
                      <a:pt x="2818" y="564"/>
                    </a:lnTo>
                    <a:lnTo>
                      <a:pt x="2821" y="562"/>
                    </a:lnTo>
                    <a:lnTo>
                      <a:pt x="2822" y="559"/>
                    </a:lnTo>
                    <a:lnTo>
                      <a:pt x="2824" y="557"/>
                    </a:lnTo>
                    <a:lnTo>
                      <a:pt x="2825" y="555"/>
                    </a:lnTo>
                    <a:lnTo>
                      <a:pt x="2826" y="553"/>
                    </a:lnTo>
                    <a:lnTo>
                      <a:pt x="2827" y="551"/>
                    </a:lnTo>
                    <a:lnTo>
                      <a:pt x="2829" y="548"/>
                    </a:lnTo>
                    <a:lnTo>
                      <a:pt x="2830" y="546"/>
                    </a:lnTo>
                    <a:lnTo>
                      <a:pt x="2832" y="544"/>
                    </a:lnTo>
                    <a:lnTo>
                      <a:pt x="2832" y="544"/>
                    </a:lnTo>
                    <a:lnTo>
                      <a:pt x="2833" y="544"/>
                    </a:lnTo>
                    <a:lnTo>
                      <a:pt x="2833" y="546"/>
                    </a:lnTo>
                    <a:lnTo>
                      <a:pt x="2832" y="548"/>
                    </a:lnTo>
                    <a:lnTo>
                      <a:pt x="2832" y="551"/>
                    </a:lnTo>
                    <a:lnTo>
                      <a:pt x="2830" y="553"/>
                    </a:lnTo>
                    <a:lnTo>
                      <a:pt x="2830" y="556"/>
                    </a:lnTo>
                    <a:lnTo>
                      <a:pt x="2829" y="558"/>
                    </a:lnTo>
                    <a:lnTo>
                      <a:pt x="2829" y="559"/>
                    </a:lnTo>
                    <a:lnTo>
                      <a:pt x="2830" y="563"/>
                    </a:lnTo>
                    <a:lnTo>
                      <a:pt x="2833" y="565"/>
                    </a:lnTo>
                    <a:lnTo>
                      <a:pt x="2835" y="566"/>
                    </a:lnTo>
                    <a:lnTo>
                      <a:pt x="2837" y="567"/>
                    </a:lnTo>
                    <a:lnTo>
                      <a:pt x="2838" y="568"/>
                    </a:lnTo>
                    <a:lnTo>
                      <a:pt x="2838" y="568"/>
                    </a:lnTo>
                    <a:lnTo>
                      <a:pt x="2839" y="567"/>
                    </a:lnTo>
                    <a:lnTo>
                      <a:pt x="2839" y="567"/>
                    </a:lnTo>
                    <a:lnTo>
                      <a:pt x="2840" y="567"/>
                    </a:lnTo>
                    <a:lnTo>
                      <a:pt x="2840" y="568"/>
                    </a:lnTo>
                    <a:lnTo>
                      <a:pt x="2840" y="570"/>
                    </a:lnTo>
                    <a:lnTo>
                      <a:pt x="2840" y="574"/>
                    </a:lnTo>
                    <a:lnTo>
                      <a:pt x="2841" y="576"/>
                    </a:lnTo>
                    <a:lnTo>
                      <a:pt x="2843" y="579"/>
                    </a:lnTo>
                    <a:lnTo>
                      <a:pt x="2843" y="586"/>
                    </a:lnTo>
                    <a:lnTo>
                      <a:pt x="2840" y="592"/>
                    </a:lnTo>
                    <a:lnTo>
                      <a:pt x="2836" y="599"/>
                    </a:lnTo>
                    <a:lnTo>
                      <a:pt x="2835" y="600"/>
                    </a:lnTo>
                    <a:lnTo>
                      <a:pt x="2833" y="602"/>
                    </a:lnTo>
                    <a:lnTo>
                      <a:pt x="2832" y="605"/>
                    </a:lnTo>
                    <a:lnTo>
                      <a:pt x="2832" y="608"/>
                    </a:lnTo>
                    <a:lnTo>
                      <a:pt x="2830" y="610"/>
                    </a:lnTo>
                    <a:lnTo>
                      <a:pt x="2829" y="612"/>
                    </a:lnTo>
                    <a:lnTo>
                      <a:pt x="2829" y="617"/>
                    </a:lnTo>
                    <a:lnTo>
                      <a:pt x="2828" y="618"/>
                    </a:lnTo>
                    <a:lnTo>
                      <a:pt x="2827" y="620"/>
                    </a:lnTo>
                    <a:lnTo>
                      <a:pt x="2825" y="622"/>
                    </a:lnTo>
                    <a:lnTo>
                      <a:pt x="2824" y="624"/>
                    </a:lnTo>
                    <a:lnTo>
                      <a:pt x="2823" y="625"/>
                    </a:lnTo>
                    <a:lnTo>
                      <a:pt x="2822" y="627"/>
                    </a:lnTo>
                    <a:lnTo>
                      <a:pt x="2821" y="627"/>
                    </a:lnTo>
                    <a:lnTo>
                      <a:pt x="2821" y="628"/>
                    </a:lnTo>
                    <a:lnTo>
                      <a:pt x="2819" y="630"/>
                    </a:lnTo>
                    <a:lnTo>
                      <a:pt x="2818" y="631"/>
                    </a:lnTo>
                    <a:lnTo>
                      <a:pt x="2816" y="634"/>
                    </a:lnTo>
                    <a:lnTo>
                      <a:pt x="2814" y="638"/>
                    </a:lnTo>
                    <a:lnTo>
                      <a:pt x="2812" y="641"/>
                    </a:lnTo>
                    <a:lnTo>
                      <a:pt x="2809" y="643"/>
                    </a:lnTo>
                    <a:lnTo>
                      <a:pt x="2807" y="644"/>
                    </a:lnTo>
                    <a:lnTo>
                      <a:pt x="2806" y="646"/>
                    </a:lnTo>
                    <a:lnTo>
                      <a:pt x="2805" y="649"/>
                    </a:lnTo>
                    <a:lnTo>
                      <a:pt x="2804" y="652"/>
                    </a:lnTo>
                    <a:lnTo>
                      <a:pt x="2803" y="654"/>
                    </a:lnTo>
                    <a:lnTo>
                      <a:pt x="2801" y="655"/>
                    </a:lnTo>
                    <a:lnTo>
                      <a:pt x="2801" y="656"/>
                    </a:lnTo>
                    <a:lnTo>
                      <a:pt x="2800" y="656"/>
                    </a:lnTo>
                    <a:lnTo>
                      <a:pt x="2798" y="656"/>
                    </a:lnTo>
                    <a:lnTo>
                      <a:pt x="2797" y="657"/>
                    </a:lnTo>
                    <a:lnTo>
                      <a:pt x="2796" y="657"/>
                    </a:lnTo>
                    <a:lnTo>
                      <a:pt x="2790" y="671"/>
                    </a:lnTo>
                    <a:lnTo>
                      <a:pt x="2786" y="674"/>
                    </a:lnTo>
                    <a:lnTo>
                      <a:pt x="2784" y="676"/>
                    </a:lnTo>
                    <a:lnTo>
                      <a:pt x="2781" y="678"/>
                    </a:lnTo>
                    <a:lnTo>
                      <a:pt x="2778" y="681"/>
                    </a:lnTo>
                    <a:lnTo>
                      <a:pt x="2774" y="684"/>
                    </a:lnTo>
                    <a:lnTo>
                      <a:pt x="2774" y="685"/>
                    </a:lnTo>
                    <a:lnTo>
                      <a:pt x="2773" y="686"/>
                    </a:lnTo>
                    <a:lnTo>
                      <a:pt x="2771" y="687"/>
                    </a:lnTo>
                    <a:lnTo>
                      <a:pt x="2770" y="688"/>
                    </a:lnTo>
                    <a:lnTo>
                      <a:pt x="2769" y="689"/>
                    </a:lnTo>
                    <a:lnTo>
                      <a:pt x="2768" y="690"/>
                    </a:lnTo>
                    <a:lnTo>
                      <a:pt x="2768" y="692"/>
                    </a:lnTo>
                    <a:lnTo>
                      <a:pt x="2767" y="694"/>
                    </a:lnTo>
                    <a:lnTo>
                      <a:pt x="2765" y="695"/>
                    </a:lnTo>
                    <a:lnTo>
                      <a:pt x="2763" y="696"/>
                    </a:lnTo>
                    <a:lnTo>
                      <a:pt x="2762" y="697"/>
                    </a:lnTo>
                    <a:lnTo>
                      <a:pt x="2760" y="699"/>
                    </a:lnTo>
                    <a:lnTo>
                      <a:pt x="2759" y="701"/>
                    </a:lnTo>
                    <a:lnTo>
                      <a:pt x="2757" y="704"/>
                    </a:lnTo>
                    <a:lnTo>
                      <a:pt x="2753" y="706"/>
                    </a:lnTo>
                    <a:lnTo>
                      <a:pt x="2750" y="708"/>
                    </a:lnTo>
                    <a:lnTo>
                      <a:pt x="2748" y="710"/>
                    </a:lnTo>
                    <a:lnTo>
                      <a:pt x="2746" y="711"/>
                    </a:lnTo>
                    <a:lnTo>
                      <a:pt x="2743" y="712"/>
                    </a:lnTo>
                    <a:lnTo>
                      <a:pt x="2741" y="715"/>
                    </a:lnTo>
                    <a:lnTo>
                      <a:pt x="2740" y="716"/>
                    </a:lnTo>
                    <a:lnTo>
                      <a:pt x="2738" y="716"/>
                    </a:lnTo>
                    <a:lnTo>
                      <a:pt x="2737" y="715"/>
                    </a:lnTo>
                    <a:lnTo>
                      <a:pt x="2736" y="714"/>
                    </a:lnTo>
                    <a:lnTo>
                      <a:pt x="2736" y="712"/>
                    </a:lnTo>
                    <a:lnTo>
                      <a:pt x="2735" y="711"/>
                    </a:lnTo>
                    <a:lnTo>
                      <a:pt x="2734" y="709"/>
                    </a:lnTo>
                    <a:lnTo>
                      <a:pt x="2734" y="707"/>
                    </a:lnTo>
                    <a:lnTo>
                      <a:pt x="2735" y="704"/>
                    </a:lnTo>
                    <a:lnTo>
                      <a:pt x="2736" y="696"/>
                    </a:lnTo>
                    <a:lnTo>
                      <a:pt x="2737" y="689"/>
                    </a:lnTo>
                    <a:lnTo>
                      <a:pt x="2737" y="682"/>
                    </a:lnTo>
                    <a:lnTo>
                      <a:pt x="2737" y="674"/>
                    </a:lnTo>
                    <a:lnTo>
                      <a:pt x="2736" y="668"/>
                    </a:lnTo>
                    <a:lnTo>
                      <a:pt x="2735" y="662"/>
                    </a:lnTo>
                    <a:lnTo>
                      <a:pt x="2735" y="658"/>
                    </a:lnTo>
                    <a:lnTo>
                      <a:pt x="2735" y="654"/>
                    </a:lnTo>
                    <a:lnTo>
                      <a:pt x="2734" y="650"/>
                    </a:lnTo>
                    <a:lnTo>
                      <a:pt x="2734" y="646"/>
                    </a:lnTo>
                    <a:lnTo>
                      <a:pt x="2732" y="644"/>
                    </a:lnTo>
                    <a:lnTo>
                      <a:pt x="2731" y="644"/>
                    </a:lnTo>
                    <a:lnTo>
                      <a:pt x="2729" y="643"/>
                    </a:lnTo>
                    <a:lnTo>
                      <a:pt x="2728" y="643"/>
                    </a:lnTo>
                    <a:lnTo>
                      <a:pt x="2727" y="643"/>
                    </a:lnTo>
                    <a:lnTo>
                      <a:pt x="2727" y="642"/>
                    </a:lnTo>
                    <a:lnTo>
                      <a:pt x="2728" y="640"/>
                    </a:lnTo>
                    <a:lnTo>
                      <a:pt x="2728" y="635"/>
                    </a:lnTo>
                    <a:lnTo>
                      <a:pt x="2729" y="632"/>
                    </a:lnTo>
                    <a:lnTo>
                      <a:pt x="2730" y="628"/>
                    </a:lnTo>
                    <a:lnTo>
                      <a:pt x="2730" y="623"/>
                    </a:lnTo>
                    <a:lnTo>
                      <a:pt x="2730" y="619"/>
                    </a:lnTo>
                    <a:lnTo>
                      <a:pt x="2730" y="617"/>
                    </a:lnTo>
                    <a:lnTo>
                      <a:pt x="2730" y="612"/>
                    </a:lnTo>
                    <a:lnTo>
                      <a:pt x="2730" y="609"/>
                    </a:lnTo>
                    <a:lnTo>
                      <a:pt x="2730" y="606"/>
                    </a:lnTo>
                    <a:lnTo>
                      <a:pt x="2728" y="599"/>
                    </a:lnTo>
                    <a:lnTo>
                      <a:pt x="2726" y="595"/>
                    </a:lnTo>
                    <a:lnTo>
                      <a:pt x="2724" y="590"/>
                    </a:lnTo>
                    <a:lnTo>
                      <a:pt x="2721" y="579"/>
                    </a:lnTo>
                    <a:lnTo>
                      <a:pt x="2721" y="568"/>
                    </a:lnTo>
                    <a:lnTo>
                      <a:pt x="2720" y="566"/>
                    </a:lnTo>
                    <a:lnTo>
                      <a:pt x="2720" y="564"/>
                    </a:lnTo>
                    <a:lnTo>
                      <a:pt x="2719" y="562"/>
                    </a:lnTo>
                    <a:lnTo>
                      <a:pt x="2719" y="559"/>
                    </a:lnTo>
                    <a:lnTo>
                      <a:pt x="2718" y="558"/>
                    </a:lnTo>
                    <a:lnTo>
                      <a:pt x="2717" y="557"/>
                    </a:lnTo>
                    <a:lnTo>
                      <a:pt x="2716" y="558"/>
                    </a:lnTo>
                    <a:lnTo>
                      <a:pt x="2715" y="559"/>
                    </a:lnTo>
                    <a:lnTo>
                      <a:pt x="2714" y="561"/>
                    </a:lnTo>
                    <a:lnTo>
                      <a:pt x="2713" y="562"/>
                    </a:lnTo>
                    <a:lnTo>
                      <a:pt x="2712" y="563"/>
                    </a:lnTo>
                    <a:lnTo>
                      <a:pt x="2710" y="564"/>
                    </a:lnTo>
                    <a:lnTo>
                      <a:pt x="2710" y="570"/>
                    </a:lnTo>
                    <a:lnTo>
                      <a:pt x="2712" y="584"/>
                    </a:lnTo>
                    <a:lnTo>
                      <a:pt x="2713" y="597"/>
                    </a:lnTo>
                    <a:lnTo>
                      <a:pt x="2713" y="598"/>
                    </a:lnTo>
                    <a:lnTo>
                      <a:pt x="2714" y="601"/>
                    </a:lnTo>
                    <a:lnTo>
                      <a:pt x="2714" y="605"/>
                    </a:lnTo>
                    <a:lnTo>
                      <a:pt x="2715" y="608"/>
                    </a:lnTo>
                    <a:lnTo>
                      <a:pt x="2713" y="609"/>
                    </a:lnTo>
                    <a:lnTo>
                      <a:pt x="2713" y="612"/>
                    </a:lnTo>
                    <a:lnTo>
                      <a:pt x="2713" y="616"/>
                    </a:lnTo>
                    <a:lnTo>
                      <a:pt x="2713" y="619"/>
                    </a:lnTo>
                    <a:lnTo>
                      <a:pt x="2712" y="621"/>
                    </a:lnTo>
                    <a:lnTo>
                      <a:pt x="2712" y="623"/>
                    </a:lnTo>
                    <a:lnTo>
                      <a:pt x="2713" y="624"/>
                    </a:lnTo>
                    <a:lnTo>
                      <a:pt x="2714" y="627"/>
                    </a:lnTo>
                    <a:lnTo>
                      <a:pt x="2715" y="630"/>
                    </a:lnTo>
                    <a:lnTo>
                      <a:pt x="2715" y="631"/>
                    </a:lnTo>
                    <a:lnTo>
                      <a:pt x="2715" y="634"/>
                    </a:lnTo>
                    <a:lnTo>
                      <a:pt x="2715" y="636"/>
                    </a:lnTo>
                    <a:lnTo>
                      <a:pt x="2715" y="640"/>
                    </a:lnTo>
                    <a:lnTo>
                      <a:pt x="2714" y="646"/>
                    </a:lnTo>
                    <a:lnTo>
                      <a:pt x="2713" y="653"/>
                    </a:lnTo>
                    <a:lnTo>
                      <a:pt x="2710" y="660"/>
                    </a:lnTo>
                    <a:lnTo>
                      <a:pt x="2710" y="664"/>
                    </a:lnTo>
                    <a:lnTo>
                      <a:pt x="2713" y="666"/>
                    </a:lnTo>
                    <a:lnTo>
                      <a:pt x="2714" y="666"/>
                    </a:lnTo>
                    <a:lnTo>
                      <a:pt x="2715" y="666"/>
                    </a:lnTo>
                    <a:lnTo>
                      <a:pt x="2716" y="668"/>
                    </a:lnTo>
                    <a:lnTo>
                      <a:pt x="2717" y="671"/>
                    </a:lnTo>
                    <a:lnTo>
                      <a:pt x="2717" y="673"/>
                    </a:lnTo>
                    <a:lnTo>
                      <a:pt x="2717" y="677"/>
                    </a:lnTo>
                    <a:lnTo>
                      <a:pt x="2716" y="684"/>
                    </a:lnTo>
                    <a:lnTo>
                      <a:pt x="2715" y="690"/>
                    </a:lnTo>
                    <a:lnTo>
                      <a:pt x="2715" y="697"/>
                    </a:lnTo>
                    <a:lnTo>
                      <a:pt x="2715" y="700"/>
                    </a:lnTo>
                    <a:lnTo>
                      <a:pt x="2716" y="703"/>
                    </a:lnTo>
                    <a:lnTo>
                      <a:pt x="2717" y="704"/>
                    </a:lnTo>
                    <a:lnTo>
                      <a:pt x="2718" y="705"/>
                    </a:lnTo>
                    <a:lnTo>
                      <a:pt x="2720" y="705"/>
                    </a:lnTo>
                    <a:lnTo>
                      <a:pt x="2721" y="706"/>
                    </a:lnTo>
                    <a:lnTo>
                      <a:pt x="2724" y="707"/>
                    </a:lnTo>
                    <a:lnTo>
                      <a:pt x="2726" y="708"/>
                    </a:lnTo>
                    <a:lnTo>
                      <a:pt x="2728" y="710"/>
                    </a:lnTo>
                    <a:lnTo>
                      <a:pt x="2728" y="711"/>
                    </a:lnTo>
                    <a:lnTo>
                      <a:pt x="2729" y="712"/>
                    </a:lnTo>
                    <a:lnTo>
                      <a:pt x="2729" y="712"/>
                    </a:lnTo>
                    <a:lnTo>
                      <a:pt x="2730" y="712"/>
                    </a:lnTo>
                    <a:lnTo>
                      <a:pt x="2730" y="715"/>
                    </a:lnTo>
                    <a:lnTo>
                      <a:pt x="2731" y="716"/>
                    </a:lnTo>
                    <a:lnTo>
                      <a:pt x="2730" y="719"/>
                    </a:lnTo>
                    <a:lnTo>
                      <a:pt x="2730" y="721"/>
                    </a:lnTo>
                    <a:lnTo>
                      <a:pt x="2730" y="723"/>
                    </a:lnTo>
                    <a:lnTo>
                      <a:pt x="2730" y="728"/>
                    </a:lnTo>
                    <a:lnTo>
                      <a:pt x="2730" y="730"/>
                    </a:lnTo>
                    <a:lnTo>
                      <a:pt x="2730" y="732"/>
                    </a:lnTo>
                    <a:lnTo>
                      <a:pt x="2730" y="736"/>
                    </a:lnTo>
                    <a:lnTo>
                      <a:pt x="2731" y="739"/>
                    </a:lnTo>
                    <a:lnTo>
                      <a:pt x="2732" y="741"/>
                    </a:lnTo>
                    <a:lnTo>
                      <a:pt x="2735" y="743"/>
                    </a:lnTo>
                    <a:lnTo>
                      <a:pt x="2737" y="743"/>
                    </a:lnTo>
                    <a:lnTo>
                      <a:pt x="2739" y="742"/>
                    </a:lnTo>
                    <a:lnTo>
                      <a:pt x="2741" y="740"/>
                    </a:lnTo>
                    <a:lnTo>
                      <a:pt x="2743" y="737"/>
                    </a:lnTo>
                    <a:lnTo>
                      <a:pt x="2745" y="736"/>
                    </a:lnTo>
                    <a:lnTo>
                      <a:pt x="2746" y="734"/>
                    </a:lnTo>
                    <a:lnTo>
                      <a:pt x="2747" y="734"/>
                    </a:lnTo>
                    <a:lnTo>
                      <a:pt x="2748" y="734"/>
                    </a:lnTo>
                    <a:lnTo>
                      <a:pt x="2750" y="733"/>
                    </a:lnTo>
                    <a:lnTo>
                      <a:pt x="2752" y="732"/>
                    </a:lnTo>
                    <a:lnTo>
                      <a:pt x="2754" y="730"/>
                    </a:lnTo>
                    <a:lnTo>
                      <a:pt x="2756" y="728"/>
                    </a:lnTo>
                    <a:lnTo>
                      <a:pt x="2758" y="726"/>
                    </a:lnTo>
                    <a:lnTo>
                      <a:pt x="2759" y="725"/>
                    </a:lnTo>
                    <a:lnTo>
                      <a:pt x="2761" y="723"/>
                    </a:lnTo>
                    <a:lnTo>
                      <a:pt x="2763" y="722"/>
                    </a:lnTo>
                    <a:lnTo>
                      <a:pt x="2765" y="721"/>
                    </a:lnTo>
                    <a:lnTo>
                      <a:pt x="2768" y="719"/>
                    </a:lnTo>
                    <a:lnTo>
                      <a:pt x="2769" y="718"/>
                    </a:lnTo>
                    <a:lnTo>
                      <a:pt x="2771" y="716"/>
                    </a:lnTo>
                    <a:lnTo>
                      <a:pt x="2771" y="716"/>
                    </a:lnTo>
                    <a:lnTo>
                      <a:pt x="2772" y="715"/>
                    </a:lnTo>
                    <a:lnTo>
                      <a:pt x="2773" y="716"/>
                    </a:lnTo>
                    <a:lnTo>
                      <a:pt x="2773" y="720"/>
                    </a:lnTo>
                    <a:lnTo>
                      <a:pt x="2771" y="727"/>
                    </a:lnTo>
                    <a:lnTo>
                      <a:pt x="2769" y="732"/>
                    </a:lnTo>
                    <a:lnTo>
                      <a:pt x="2768" y="737"/>
                    </a:lnTo>
                    <a:lnTo>
                      <a:pt x="2761" y="751"/>
                    </a:lnTo>
                    <a:lnTo>
                      <a:pt x="2754" y="765"/>
                    </a:lnTo>
                    <a:lnTo>
                      <a:pt x="2741" y="792"/>
                    </a:lnTo>
                    <a:lnTo>
                      <a:pt x="2735" y="805"/>
                    </a:lnTo>
                    <a:lnTo>
                      <a:pt x="2728" y="816"/>
                    </a:lnTo>
                    <a:lnTo>
                      <a:pt x="2726" y="818"/>
                    </a:lnTo>
                    <a:lnTo>
                      <a:pt x="2724" y="821"/>
                    </a:lnTo>
                    <a:lnTo>
                      <a:pt x="2721" y="825"/>
                    </a:lnTo>
                    <a:lnTo>
                      <a:pt x="2719" y="826"/>
                    </a:lnTo>
                    <a:lnTo>
                      <a:pt x="2717" y="827"/>
                    </a:lnTo>
                    <a:lnTo>
                      <a:pt x="2715" y="827"/>
                    </a:lnTo>
                    <a:lnTo>
                      <a:pt x="2713" y="829"/>
                    </a:lnTo>
                    <a:lnTo>
                      <a:pt x="2710" y="832"/>
                    </a:lnTo>
                    <a:lnTo>
                      <a:pt x="2708" y="836"/>
                    </a:lnTo>
                    <a:lnTo>
                      <a:pt x="2706" y="839"/>
                    </a:lnTo>
                    <a:lnTo>
                      <a:pt x="2704" y="842"/>
                    </a:lnTo>
                    <a:lnTo>
                      <a:pt x="2704" y="845"/>
                    </a:lnTo>
                    <a:lnTo>
                      <a:pt x="2702" y="847"/>
                    </a:lnTo>
                    <a:lnTo>
                      <a:pt x="2702" y="849"/>
                    </a:lnTo>
                    <a:lnTo>
                      <a:pt x="2701" y="851"/>
                    </a:lnTo>
                    <a:lnTo>
                      <a:pt x="2699" y="853"/>
                    </a:lnTo>
                    <a:lnTo>
                      <a:pt x="2697" y="856"/>
                    </a:lnTo>
                    <a:lnTo>
                      <a:pt x="2695" y="858"/>
                    </a:lnTo>
                    <a:lnTo>
                      <a:pt x="2695" y="860"/>
                    </a:lnTo>
                    <a:lnTo>
                      <a:pt x="2685" y="872"/>
                    </a:lnTo>
                    <a:lnTo>
                      <a:pt x="2676" y="885"/>
                    </a:lnTo>
                    <a:lnTo>
                      <a:pt x="2667" y="898"/>
                    </a:lnTo>
                    <a:lnTo>
                      <a:pt x="2665" y="903"/>
                    </a:lnTo>
                    <a:lnTo>
                      <a:pt x="2662" y="907"/>
                    </a:lnTo>
                    <a:lnTo>
                      <a:pt x="2659" y="912"/>
                    </a:lnTo>
                    <a:lnTo>
                      <a:pt x="2659" y="914"/>
                    </a:lnTo>
                    <a:lnTo>
                      <a:pt x="2658" y="916"/>
                    </a:lnTo>
                    <a:lnTo>
                      <a:pt x="2658" y="919"/>
                    </a:lnTo>
                    <a:lnTo>
                      <a:pt x="2656" y="921"/>
                    </a:lnTo>
                    <a:lnTo>
                      <a:pt x="2655" y="927"/>
                    </a:lnTo>
                    <a:lnTo>
                      <a:pt x="2653" y="935"/>
                    </a:lnTo>
                    <a:lnTo>
                      <a:pt x="2652" y="943"/>
                    </a:lnTo>
                    <a:lnTo>
                      <a:pt x="2652" y="948"/>
                    </a:lnTo>
                    <a:lnTo>
                      <a:pt x="2652" y="952"/>
                    </a:lnTo>
                    <a:lnTo>
                      <a:pt x="2652" y="957"/>
                    </a:lnTo>
                    <a:lnTo>
                      <a:pt x="2652" y="960"/>
                    </a:lnTo>
                    <a:lnTo>
                      <a:pt x="2652" y="965"/>
                    </a:lnTo>
                    <a:lnTo>
                      <a:pt x="2651" y="968"/>
                    </a:lnTo>
                    <a:lnTo>
                      <a:pt x="2650" y="973"/>
                    </a:lnTo>
                    <a:lnTo>
                      <a:pt x="2648" y="978"/>
                    </a:lnTo>
                    <a:lnTo>
                      <a:pt x="2645" y="987"/>
                    </a:lnTo>
                    <a:lnTo>
                      <a:pt x="2643" y="993"/>
                    </a:lnTo>
                    <a:lnTo>
                      <a:pt x="2641" y="1000"/>
                    </a:lnTo>
                    <a:lnTo>
                      <a:pt x="2640" y="1003"/>
                    </a:lnTo>
                    <a:lnTo>
                      <a:pt x="2639" y="1007"/>
                    </a:lnTo>
                    <a:lnTo>
                      <a:pt x="2637" y="1011"/>
                    </a:lnTo>
                    <a:lnTo>
                      <a:pt x="2634" y="1014"/>
                    </a:lnTo>
                    <a:lnTo>
                      <a:pt x="2630" y="1017"/>
                    </a:lnTo>
                    <a:lnTo>
                      <a:pt x="2629" y="1020"/>
                    </a:lnTo>
                    <a:lnTo>
                      <a:pt x="2627" y="1021"/>
                    </a:lnTo>
                    <a:lnTo>
                      <a:pt x="2625" y="1023"/>
                    </a:lnTo>
                    <a:lnTo>
                      <a:pt x="2621" y="1026"/>
                    </a:lnTo>
                    <a:lnTo>
                      <a:pt x="2619" y="1028"/>
                    </a:lnTo>
                    <a:lnTo>
                      <a:pt x="2617" y="1032"/>
                    </a:lnTo>
                    <a:lnTo>
                      <a:pt x="2615" y="1035"/>
                    </a:lnTo>
                    <a:lnTo>
                      <a:pt x="2612" y="1036"/>
                    </a:lnTo>
                    <a:lnTo>
                      <a:pt x="2610" y="1037"/>
                    </a:lnTo>
                    <a:lnTo>
                      <a:pt x="2608" y="1039"/>
                    </a:lnTo>
                    <a:lnTo>
                      <a:pt x="2606" y="1042"/>
                    </a:lnTo>
                    <a:lnTo>
                      <a:pt x="2604" y="1045"/>
                    </a:lnTo>
                    <a:lnTo>
                      <a:pt x="2601" y="1048"/>
                    </a:lnTo>
                    <a:lnTo>
                      <a:pt x="2597" y="1054"/>
                    </a:lnTo>
                    <a:lnTo>
                      <a:pt x="2592" y="1060"/>
                    </a:lnTo>
                    <a:lnTo>
                      <a:pt x="2586" y="1068"/>
                    </a:lnTo>
                    <a:lnTo>
                      <a:pt x="2584" y="1070"/>
                    </a:lnTo>
                    <a:lnTo>
                      <a:pt x="2584" y="1074"/>
                    </a:lnTo>
                    <a:lnTo>
                      <a:pt x="2584" y="1076"/>
                    </a:lnTo>
                    <a:lnTo>
                      <a:pt x="2584" y="1078"/>
                    </a:lnTo>
                    <a:lnTo>
                      <a:pt x="2584" y="1081"/>
                    </a:lnTo>
                    <a:lnTo>
                      <a:pt x="2582" y="1086"/>
                    </a:lnTo>
                    <a:lnTo>
                      <a:pt x="2581" y="1090"/>
                    </a:lnTo>
                    <a:lnTo>
                      <a:pt x="2579" y="1094"/>
                    </a:lnTo>
                    <a:lnTo>
                      <a:pt x="2578" y="1097"/>
                    </a:lnTo>
                    <a:lnTo>
                      <a:pt x="2577" y="1099"/>
                    </a:lnTo>
                    <a:lnTo>
                      <a:pt x="2576" y="1102"/>
                    </a:lnTo>
                    <a:lnTo>
                      <a:pt x="2575" y="1105"/>
                    </a:lnTo>
                    <a:lnTo>
                      <a:pt x="2573" y="1110"/>
                    </a:lnTo>
                    <a:lnTo>
                      <a:pt x="2570" y="1113"/>
                    </a:lnTo>
                    <a:lnTo>
                      <a:pt x="2566" y="1115"/>
                    </a:lnTo>
                    <a:lnTo>
                      <a:pt x="2563" y="1118"/>
                    </a:lnTo>
                    <a:lnTo>
                      <a:pt x="2560" y="1121"/>
                    </a:lnTo>
                    <a:lnTo>
                      <a:pt x="2555" y="1124"/>
                    </a:lnTo>
                    <a:lnTo>
                      <a:pt x="2552" y="1129"/>
                    </a:lnTo>
                    <a:lnTo>
                      <a:pt x="2549" y="1133"/>
                    </a:lnTo>
                    <a:lnTo>
                      <a:pt x="2546" y="1138"/>
                    </a:lnTo>
                    <a:lnTo>
                      <a:pt x="2541" y="1148"/>
                    </a:lnTo>
                    <a:lnTo>
                      <a:pt x="2535" y="1157"/>
                    </a:lnTo>
                    <a:lnTo>
                      <a:pt x="2522" y="1177"/>
                    </a:lnTo>
                    <a:lnTo>
                      <a:pt x="2519" y="1180"/>
                    </a:lnTo>
                    <a:lnTo>
                      <a:pt x="2516" y="1184"/>
                    </a:lnTo>
                    <a:lnTo>
                      <a:pt x="2513" y="1187"/>
                    </a:lnTo>
                    <a:lnTo>
                      <a:pt x="2510" y="1191"/>
                    </a:lnTo>
                    <a:lnTo>
                      <a:pt x="2507" y="1195"/>
                    </a:lnTo>
                    <a:lnTo>
                      <a:pt x="2503" y="1198"/>
                    </a:lnTo>
                    <a:lnTo>
                      <a:pt x="2501" y="1200"/>
                    </a:lnTo>
                    <a:lnTo>
                      <a:pt x="2499" y="1202"/>
                    </a:lnTo>
                    <a:lnTo>
                      <a:pt x="2496" y="1203"/>
                    </a:lnTo>
                    <a:lnTo>
                      <a:pt x="2494" y="1208"/>
                    </a:lnTo>
                    <a:lnTo>
                      <a:pt x="2491" y="1211"/>
                    </a:lnTo>
                    <a:lnTo>
                      <a:pt x="2489" y="1214"/>
                    </a:lnTo>
                    <a:lnTo>
                      <a:pt x="2485" y="1217"/>
                    </a:lnTo>
                    <a:lnTo>
                      <a:pt x="2481" y="1219"/>
                    </a:lnTo>
                    <a:lnTo>
                      <a:pt x="2478" y="1221"/>
                    </a:lnTo>
                    <a:lnTo>
                      <a:pt x="2476" y="1223"/>
                    </a:lnTo>
                    <a:lnTo>
                      <a:pt x="2475" y="1224"/>
                    </a:lnTo>
                    <a:lnTo>
                      <a:pt x="2473" y="1225"/>
                    </a:lnTo>
                    <a:lnTo>
                      <a:pt x="2470" y="1227"/>
                    </a:lnTo>
                    <a:lnTo>
                      <a:pt x="2469" y="1228"/>
                    </a:lnTo>
                    <a:lnTo>
                      <a:pt x="2466" y="1230"/>
                    </a:lnTo>
                    <a:lnTo>
                      <a:pt x="2464" y="1232"/>
                    </a:lnTo>
                    <a:lnTo>
                      <a:pt x="2461" y="1234"/>
                    </a:lnTo>
                    <a:lnTo>
                      <a:pt x="2458" y="1236"/>
                    </a:lnTo>
                    <a:lnTo>
                      <a:pt x="2456" y="1236"/>
                    </a:lnTo>
                    <a:lnTo>
                      <a:pt x="2454" y="1238"/>
                    </a:lnTo>
                    <a:lnTo>
                      <a:pt x="2452" y="1239"/>
                    </a:lnTo>
                    <a:lnTo>
                      <a:pt x="2450" y="1239"/>
                    </a:lnTo>
                    <a:lnTo>
                      <a:pt x="2446" y="1241"/>
                    </a:lnTo>
                    <a:lnTo>
                      <a:pt x="2443" y="1243"/>
                    </a:lnTo>
                    <a:lnTo>
                      <a:pt x="2438" y="1243"/>
                    </a:lnTo>
                    <a:lnTo>
                      <a:pt x="2432" y="1250"/>
                    </a:lnTo>
                    <a:lnTo>
                      <a:pt x="2427" y="1253"/>
                    </a:lnTo>
                    <a:lnTo>
                      <a:pt x="2422" y="1256"/>
                    </a:lnTo>
                    <a:lnTo>
                      <a:pt x="2416" y="1257"/>
                    </a:lnTo>
                    <a:lnTo>
                      <a:pt x="2414" y="1258"/>
                    </a:lnTo>
                    <a:lnTo>
                      <a:pt x="2412" y="1258"/>
                    </a:lnTo>
                    <a:lnTo>
                      <a:pt x="2412" y="1257"/>
                    </a:lnTo>
                    <a:lnTo>
                      <a:pt x="2411" y="1256"/>
                    </a:lnTo>
                    <a:lnTo>
                      <a:pt x="2410" y="1256"/>
                    </a:lnTo>
                    <a:lnTo>
                      <a:pt x="2408" y="1256"/>
                    </a:lnTo>
                    <a:lnTo>
                      <a:pt x="2408" y="1255"/>
                    </a:lnTo>
                    <a:lnTo>
                      <a:pt x="2408" y="1254"/>
                    </a:lnTo>
                    <a:lnTo>
                      <a:pt x="2408" y="1252"/>
                    </a:lnTo>
                    <a:lnTo>
                      <a:pt x="2408" y="1251"/>
                    </a:lnTo>
                    <a:lnTo>
                      <a:pt x="2408" y="1250"/>
                    </a:lnTo>
                    <a:lnTo>
                      <a:pt x="2408" y="1249"/>
                    </a:lnTo>
                    <a:lnTo>
                      <a:pt x="2409" y="1247"/>
                    </a:lnTo>
                    <a:lnTo>
                      <a:pt x="2410" y="1245"/>
                    </a:lnTo>
                    <a:lnTo>
                      <a:pt x="2410" y="1244"/>
                    </a:lnTo>
                    <a:lnTo>
                      <a:pt x="2411" y="1243"/>
                    </a:lnTo>
                    <a:lnTo>
                      <a:pt x="2412" y="1241"/>
                    </a:lnTo>
                    <a:lnTo>
                      <a:pt x="2413" y="1239"/>
                    </a:lnTo>
                    <a:lnTo>
                      <a:pt x="2414" y="1236"/>
                    </a:lnTo>
                    <a:lnTo>
                      <a:pt x="2415" y="1233"/>
                    </a:lnTo>
                    <a:lnTo>
                      <a:pt x="2415" y="1230"/>
                    </a:lnTo>
                    <a:lnTo>
                      <a:pt x="2415" y="1228"/>
                    </a:lnTo>
                    <a:lnTo>
                      <a:pt x="2414" y="1225"/>
                    </a:lnTo>
                    <a:lnTo>
                      <a:pt x="2413" y="1225"/>
                    </a:lnTo>
                    <a:lnTo>
                      <a:pt x="2413" y="1224"/>
                    </a:lnTo>
                    <a:lnTo>
                      <a:pt x="2412" y="1224"/>
                    </a:lnTo>
                    <a:lnTo>
                      <a:pt x="2412" y="1224"/>
                    </a:lnTo>
                    <a:lnTo>
                      <a:pt x="2411" y="1223"/>
                    </a:lnTo>
                    <a:lnTo>
                      <a:pt x="2411" y="1223"/>
                    </a:lnTo>
                    <a:lnTo>
                      <a:pt x="2412" y="1221"/>
                    </a:lnTo>
                    <a:lnTo>
                      <a:pt x="2412" y="1220"/>
                    </a:lnTo>
                    <a:lnTo>
                      <a:pt x="2412" y="1218"/>
                    </a:lnTo>
                    <a:lnTo>
                      <a:pt x="2413" y="1217"/>
                    </a:lnTo>
                    <a:lnTo>
                      <a:pt x="2413" y="1216"/>
                    </a:lnTo>
                    <a:lnTo>
                      <a:pt x="2414" y="1214"/>
                    </a:lnTo>
                    <a:lnTo>
                      <a:pt x="2412" y="1211"/>
                    </a:lnTo>
                    <a:lnTo>
                      <a:pt x="2411" y="1209"/>
                    </a:lnTo>
                    <a:lnTo>
                      <a:pt x="2410" y="1206"/>
                    </a:lnTo>
                    <a:lnTo>
                      <a:pt x="2410" y="1203"/>
                    </a:lnTo>
                    <a:lnTo>
                      <a:pt x="2409" y="1202"/>
                    </a:lnTo>
                    <a:lnTo>
                      <a:pt x="2409" y="1200"/>
                    </a:lnTo>
                    <a:lnTo>
                      <a:pt x="2409" y="1198"/>
                    </a:lnTo>
                    <a:lnTo>
                      <a:pt x="2409" y="1197"/>
                    </a:lnTo>
                    <a:lnTo>
                      <a:pt x="2410" y="1195"/>
                    </a:lnTo>
                    <a:lnTo>
                      <a:pt x="2410" y="1186"/>
                    </a:lnTo>
                    <a:lnTo>
                      <a:pt x="2410" y="1185"/>
                    </a:lnTo>
                    <a:lnTo>
                      <a:pt x="2411" y="1183"/>
                    </a:lnTo>
                    <a:lnTo>
                      <a:pt x="2412" y="1180"/>
                    </a:lnTo>
                    <a:lnTo>
                      <a:pt x="2413" y="1179"/>
                    </a:lnTo>
                    <a:lnTo>
                      <a:pt x="2414" y="1177"/>
                    </a:lnTo>
                    <a:lnTo>
                      <a:pt x="2415" y="1174"/>
                    </a:lnTo>
                    <a:lnTo>
                      <a:pt x="2416" y="1172"/>
                    </a:lnTo>
                    <a:lnTo>
                      <a:pt x="2418" y="1168"/>
                    </a:lnTo>
                    <a:lnTo>
                      <a:pt x="2419" y="1166"/>
                    </a:lnTo>
                    <a:lnTo>
                      <a:pt x="2421" y="1156"/>
                    </a:lnTo>
                    <a:lnTo>
                      <a:pt x="2421" y="1147"/>
                    </a:lnTo>
                    <a:lnTo>
                      <a:pt x="2419" y="1141"/>
                    </a:lnTo>
                    <a:lnTo>
                      <a:pt x="2416" y="1134"/>
                    </a:lnTo>
                    <a:lnTo>
                      <a:pt x="2415" y="1131"/>
                    </a:lnTo>
                    <a:lnTo>
                      <a:pt x="2414" y="1129"/>
                    </a:lnTo>
                    <a:lnTo>
                      <a:pt x="2414" y="1125"/>
                    </a:lnTo>
                    <a:lnTo>
                      <a:pt x="2415" y="1121"/>
                    </a:lnTo>
                    <a:lnTo>
                      <a:pt x="2416" y="1116"/>
                    </a:lnTo>
                    <a:lnTo>
                      <a:pt x="2419" y="1113"/>
                    </a:lnTo>
                    <a:lnTo>
                      <a:pt x="2420" y="1110"/>
                    </a:lnTo>
                    <a:lnTo>
                      <a:pt x="2421" y="1105"/>
                    </a:lnTo>
                    <a:lnTo>
                      <a:pt x="2422" y="1103"/>
                    </a:lnTo>
                    <a:lnTo>
                      <a:pt x="2423" y="1101"/>
                    </a:lnTo>
                    <a:lnTo>
                      <a:pt x="2423" y="1098"/>
                    </a:lnTo>
                    <a:lnTo>
                      <a:pt x="2425" y="1097"/>
                    </a:lnTo>
                    <a:lnTo>
                      <a:pt x="2429" y="1092"/>
                    </a:lnTo>
                    <a:lnTo>
                      <a:pt x="2432" y="1088"/>
                    </a:lnTo>
                    <a:lnTo>
                      <a:pt x="2434" y="1086"/>
                    </a:lnTo>
                    <a:lnTo>
                      <a:pt x="2434" y="1082"/>
                    </a:lnTo>
                    <a:lnTo>
                      <a:pt x="2435" y="1080"/>
                    </a:lnTo>
                    <a:lnTo>
                      <a:pt x="2436" y="1078"/>
                    </a:lnTo>
                    <a:lnTo>
                      <a:pt x="2438" y="1075"/>
                    </a:lnTo>
                    <a:lnTo>
                      <a:pt x="2442" y="1071"/>
                    </a:lnTo>
                    <a:lnTo>
                      <a:pt x="2446" y="1068"/>
                    </a:lnTo>
                    <a:lnTo>
                      <a:pt x="2450" y="1064"/>
                    </a:lnTo>
                    <a:lnTo>
                      <a:pt x="2454" y="1059"/>
                    </a:lnTo>
                    <a:lnTo>
                      <a:pt x="2456" y="1056"/>
                    </a:lnTo>
                    <a:lnTo>
                      <a:pt x="2457" y="1053"/>
                    </a:lnTo>
                    <a:lnTo>
                      <a:pt x="2458" y="1048"/>
                    </a:lnTo>
                    <a:lnTo>
                      <a:pt x="2458" y="1047"/>
                    </a:lnTo>
                    <a:lnTo>
                      <a:pt x="2458" y="1046"/>
                    </a:lnTo>
                    <a:lnTo>
                      <a:pt x="2458" y="1046"/>
                    </a:lnTo>
                    <a:lnTo>
                      <a:pt x="2457" y="1045"/>
                    </a:lnTo>
                    <a:lnTo>
                      <a:pt x="2456" y="1044"/>
                    </a:lnTo>
                    <a:lnTo>
                      <a:pt x="2456" y="1042"/>
                    </a:lnTo>
                    <a:lnTo>
                      <a:pt x="2456" y="1041"/>
                    </a:lnTo>
                    <a:lnTo>
                      <a:pt x="2457" y="1038"/>
                    </a:lnTo>
                    <a:lnTo>
                      <a:pt x="2458" y="1035"/>
                    </a:lnTo>
                    <a:lnTo>
                      <a:pt x="2459" y="1032"/>
                    </a:lnTo>
                    <a:lnTo>
                      <a:pt x="2459" y="1029"/>
                    </a:lnTo>
                    <a:lnTo>
                      <a:pt x="2461" y="1027"/>
                    </a:lnTo>
                    <a:lnTo>
                      <a:pt x="2461" y="1024"/>
                    </a:lnTo>
                    <a:lnTo>
                      <a:pt x="2461" y="1015"/>
                    </a:lnTo>
                    <a:lnTo>
                      <a:pt x="2461" y="1013"/>
                    </a:lnTo>
                    <a:lnTo>
                      <a:pt x="2461" y="1011"/>
                    </a:lnTo>
                    <a:lnTo>
                      <a:pt x="2462" y="1009"/>
                    </a:lnTo>
                    <a:lnTo>
                      <a:pt x="2463" y="1006"/>
                    </a:lnTo>
                    <a:lnTo>
                      <a:pt x="2464" y="1002"/>
                    </a:lnTo>
                    <a:lnTo>
                      <a:pt x="2464" y="998"/>
                    </a:lnTo>
                    <a:lnTo>
                      <a:pt x="2464" y="995"/>
                    </a:lnTo>
                    <a:lnTo>
                      <a:pt x="2464" y="993"/>
                    </a:lnTo>
                    <a:lnTo>
                      <a:pt x="2463" y="991"/>
                    </a:lnTo>
                    <a:lnTo>
                      <a:pt x="2459" y="988"/>
                    </a:lnTo>
                    <a:lnTo>
                      <a:pt x="2457" y="983"/>
                    </a:lnTo>
                    <a:lnTo>
                      <a:pt x="2455" y="979"/>
                    </a:lnTo>
                    <a:lnTo>
                      <a:pt x="2454" y="976"/>
                    </a:lnTo>
                    <a:lnTo>
                      <a:pt x="2453" y="974"/>
                    </a:lnTo>
                    <a:lnTo>
                      <a:pt x="2452" y="973"/>
                    </a:lnTo>
                    <a:lnTo>
                      <a:pt x="2451" y="972"/>
                    </a:lnTo>
                    <a:lnTo>
                      <a:pt x="2450" y="971"/>
                    </a:lnTo>
                    <a:lnTo>
                      <a:pt x="2450" y="969"/>
                    </a:lnTo>
                    <a:lnTo>
                      <a:pt x="2450" y="966"/>
                    </a:lnTo>
                    <a:lnTo>
                      <a:pt x="2452" y="962"/>
                    </a:lnTo>
                    <a:lnTo>
                      <a:pt x="2458" y="949"/>
                    </a:lnTo>
                    <a:lnTo>
                      <a:pt x="2465" y="936"/>
                    </a:lnTo>
                    <a:lnTo>
                      <a:pt x="2467" y="933"/>
                    </a:lnTo>
                    <a:lnTo>
                      <a:pt x="2469" y="929"/>
                    </a:lnTo>
                    <a:lnTo>
                      <a:pt x="2472" y="925"/>
                    </a:lnTo>
                    <a:lnTo>
                      <a:pt x="2473" y="924"/>
                    </a:lnTo>
                    <a:lnTo>
                      <a:pt x="2474" y="921"/>
                    </a:lnTo>
                    <a:lnTo>
                      <a:pt x="2475" y="917"/>
                    </a:lnTo>
                    <a:lnTo>
                      <a:pt x="2476" y="914"/>
                    </a:lnTo>
                    <a:lnTo>
                      <a:pt x="2476" y="913"/>
                    </a:lnTo>
                    <a:lnTo>
                      <a:pt x="2475" y="912"/>
                    </a:lnTo>
                    <a:lnTo>
                      <a:pt x="2474" y="912"/>
                    </a:lnTo>
                    <a:lnTo>
                      <a:pt x="2473" y="911"/>
                    </a:lnTo>
                    <a:lnTo>
                      <a:pt x="2472" y="909"/>
                    </a:lnTo>
                    <a:lnTo>
                      <a:pt x="2470" y="909"/>
                    </a:lnTo>
                    <a:lnTo>
                      <a:pt x="2470" y="908"/>
                    </a:lnTo>
                    <a:lnTo>
                      <a:pt x="2470" y="907"/>
                    </a:lnTo>
                    <a:lnTo>
                      <a:pt x="2470" y="906"/>
                    </a:lnTo>
                    <a:lnTo>
                      <a:pt x="2469" y="905"/>
                    </a:lnTo>
                    <a:lnTo>
                      <a:pt x="2468" y="904"/>
                    </a:lnTo>
                    <a:lnTo>
                      <a:pt x="2466" y="905"/>
                    </a:lnTo>
                    <a:lnTo>
                      <a:pt x="2464" y="906"/>
                    </a:lnTo>
                    <a:lnTo>
                      <a:pt x="2462" y="907"/>
                    </a:lnTo>
                    <a:lnTo>
                      <a:pt x="2459" y="909"/>
                    </a:lnTo>
                    <a:lnTo>
                      <a:pt x="2456" y="913"/>
                    </a:lnTo>
                    <a:lnTo>
                      <a:pt x="2454" y="914"/>
                    </a:lnTo>
                    <a:lnTo>
                      <a:pt x="2451" y="916"/>
                    </a:lnTo>
                    <a:lnTo>
                      <a:pt x="2447" y="918"/>
                    </a:lnTo>
                    <a:lnTo>
                      <a:pt x="2445" y="918"/>
                    </a:lnTo>
                    <a:lnTo>
                      <a:pt x="2444" y="918"/>
                    </a:lnTo>
                    <a:lnTo>
                      <a:pt x="2443" y="917"/>
                    </a:lnTo>
                    <a:lnTo>
                      <a:pt x="2443" y="914"/>
                    </a:lnTo>
                    <a:lnTo>
                      <a:pt x="2443" y="912"/>
                    </a:lnTo>
                    <a:lnTo>
                      <a:pt x="2442" y="909"/>
                    </a:lnTo>
                    <a:lnTo>
                      <a:pt x="2442" y="907"/>
                    </a:lnTo>
                    <a:lnTo>
                      <a:pt x="2441" y="905"/>
                    </a:lnTo>
                    <a:lnTo>
                      <a:pt x="2440" y="904"/>
                    </a:lnTo>
                    <a:lnTo>
                      <a:pt x="2438" y="903"/>
                    </a:lnTo>
                    <a:lnTo>
                      <a:pt x="2436" y="904"/>
                    </a:lnTo>
                    <a:lnTo>
                      <a:pt x="2435" y="905"/>
                    </a:lnTo>
                    <a:lnTo>
                      <a:pt x="2433" y="906"/>
                    </a:lnTo>
                    <a:lnTo>
                      <a:pt x="2431" y="907"/>
                    </a:lnTo>
                    <a:lnTo>
                      <a:pt x="2430" y="907"/>
                    </a:lnTo>
                    <a:lnTo>
                      <a:pt x="2423" y="907"/>
                    </a:lnTo>
                    <a:lnTo>
                      <a:pt x="2421" y="908"/>
                    </a:lnTo>
                    <a:lnTo>
                      <a:pt x="2419" y="908"/>
                    </a:lnTo>
                    <a:lnTo>
                      <a:pt x="2416" y="909"/>
                    </a:lnTo>
                    <a:lnTo>
                      <a:pt x="2414" y="912"/>
                    </a:lnTo>
                    <a:lnTo>
                      <a:pt x="2414" y="914"/>
                    </a:lnTo>
                    <a:lnTo>
                      <a:pt x="2413" y="917"/>
                    </a:lnTo>
                    <a:lnTo>
                      <a:pt x="2412" y="918"/>
                    </a:lnTo>
                    <a:lnTo>
                      <a:pt x="2408" y="922"/>
                    </a:lnTo>
                    <a:lnTo>
                      <a:pt x="2404" y="925"/>
                    </a:lnTo>
                    <a:lnTo>
                      <a:pt x="2400" y="927"/>
                    </a:lnTo>
                    <a:lnTo>
                      <a:pt x="2397" y="929"/>
                    </a:lnTo>
                    <a:lnTo>
                      <a:pt x="2393" y="929"/>
                    </a:lnTo>
                    <a:lnTo>
                      <a:pt x="2392" y="930"/>
                    </a:lnTo>
                    <a:lnTo>
                      <a:pt x="2390" y="932"/>
                    </a:lnTo>
                    <a:lnTo>
                      <a:pt x="2388" y="933"/>
                    </a:lnTo>
                    <a:lnTo>
                      <a:pt x="2386" y="935"/>
                    </a:lnTo>
                    <a:lnTo>
                      <a:pt x="2385" y="937"/>
                    </a:lnTo>
                    <a:lnTo>
                      <a:pt x="2382" y="938"/>
                    </a:lnTo>
                    <a:lnTo>
                      <a:pt x="2377" y="941"/>
                    </a:lnTo>
                    <a:lnTo>
                      <a:pt x="2371" y="945"/>
                    </a:lnTo>
                    <a:lnTo>
                      <a:pt x="2366" y="947"/>
                    </a:lnTo>
                    <a:lnTo>
                      <a:pt x="2363" y="945"/>
                    </a:lnTo>
                    <a:lnTo>
                      <a:pt x="2360" y="940"/>
                    </a:lnTo>
                    <a:lnTo>
                      <a:pt x="2357" y="940"/>
                    </a:lnTo>
                    <a:lnTo>
                      <a:pt x="2352" y="943"/>
                    </a:lnTo>
                    <a:lnTo>
                      <a:pt x="2345" y="947"/>
                    </a:lnTo>
                    <a:lnTo>
                      <a:pt x="2334" y="955"/>
                    </a:lnTo>
                    <a:lnTo>
                      <a:pt x="2321" y="962"/>
                    </a:lnTo>
                    <a:lnTo>
                      <a:pt x="2317" y="963"/>
                    </a:lnTo>
                    <a:lnTo>
                      <a:pt x="2314" y="962"/>
                    </a:lnTo>
                    <a:lnTo>
                      <a:pt x="2311" y="961"/>
                    </a:lnTo>
                    <a:lnTo>
                      <a:pt x="2309" y="959"/>
                    </a:lnTo>
                    <a:lnTo>
                      <a:pt x="2305" y="956"/>
                    </a:lnTo>
                    <a:lnTo>
                      <a:pt x="2305" y="954"/>
                    </a:lnTo>
                    <a:lnTo>
                      <a:pt x="2303" y="952"/>
                    </a:lnTo>
                    <a:lnTo>
                      <a:pt x="2301" y="951"/>
                    </a:lnTo>
                    <a:lnTo>
                      <a:pt x="2300" y="950"/>
                    </a:lnTo>
                    <a:lnTo>
                      <a:pt x="2298" y="950"/>
                    </a:lnTo>
                    <a:lnTo>
                      <a:pt x="2296" y="950"/>
                    </a:lnTo>
                    <a:lnTo>
                      <a:pt x="2294" y="949"/>
                    </a:lnTo>
                    <a:lnTo>
                      <a:pt x="2294" y="948"/>
                    </a:lnTo>
                    <a:lnTo>
                      <a:pt x="2294" y="946"/>
                    </a:lnTo>
                    <a:lnTo>
                      <a:pt x="2294" y="945"/>
                    </a:lnTo>
                    <a:lnTo>
                      <a:pt x="2293" y="944"/>
                    </a:lnTo>
                    <a:lnTo>
                      <a:pt x="2292" y="943"/>
                    </a:lnTo>
                    <a:lnTo>
                      <a:pt x="2291" y="943"/>
                    </a:lnTo>
                    <a:lnTo>
                      <a:pt x="2289" y="941"/>
                    </a:lnTo>
                    <a:lnTo>
                      <a:pt x="2287" y="943"/>
                    </a:lnTo>
                    <a:lnTo>
                      <a:pt x="2285" y="943"/>
                    </a:lnTo>
                    <a:lnTo>
                      <a:pt x="2283" y="943"/>
                    </a:lnTo>
                    <a:lnTo>
                      <a:pt x="2281" y="943"/>
                    </a:lnTo>
                    <a:lnTo>
                      <a:pt x="2280" y="941"/>
                    </a:lnTo>
                    <a:lnTo>
                      <a:pt x="2279" y="940"/>
                    </a:lnTo>
                    <a:lnTo>
                      <a:pt x="2279" y="938"/>
                    </a:lnTo>
                    <a:lnTo>
                      <a:pt x="2279" y="936"/>
                    </a:lnTo>
                    <a:lnTo>
                      <a:pt x="2279" y="934"/>
                    </a:lnTo>
                    <a:lnTo>
                      <a:pt x="2279" y="930"/>
                    </a:lnTo>
                    <a:lnTo>
                      <a:pt x="2278" y="928"/>
                    </a:lnTo>
                    <a:lnTo>
                      <a:pt x="2277" y="925"/>
                    </a:lnTo>
                    <a:lnTo>
                      <a:pt x="2276" y="924"/>
                    </a:lnTo>
                    <a:lnTo>
                      <a:pt x="2274" y="921"/>
                    </a:lnTo>
                    <a:lnTo>
                      <a:pt x="2274" y="917"/>
                    </a:lnTo>
                    <a:lnTo>
                      <a:pt x="2274" y="914"/>
                    </a:lnTo>
                    <a:lnTo>
                      <a:pt x="2274" y="913"/>
                    </a:lnTo>
                    <a:lnTo>
                      <a:pt x="2274" y="909"/>
                    </a:lnTo>
                    <a:lnTo>
                      <a:pt x="2273" y="907"/>
                    </a:lnTo>
                    <a:lnTo>
                      <a:pt x="2272" y="905"/>
                    </a:lnTo>
                    <a:lnTo>
                      <a:pt x="2272" y="904"/>
                    </a:lnTo>
                    <a:lnTo>
                      <a:pt x="2270" y="902"/>
                    </a:lnTo>
                    <a:lnTo>
                      <a:pt x="2269" y="902"/>
                    </a:lnTo>
                    <a:lnTo>
                      <a:pt x="2266" y="902"/>
                    </a:lnTo>
                    <a:lnTo>
                      <a:pt x="2263" y="903"/>
                    </a:lnTo>
                    <a:lnTo>
                      <a:pt x="2260" y="903"/>
                    </a:lnTo>
                    <a:lnTo>
                      <a:pt x="2259" y="902"/>
                    </a:lnTo>
                    <a:lnTo>
                      <a:pt x="2257" y="901"/>
                    </a:lnTo>
                    <a:lnTo>
                      <a:pt x="2257" y="898"/>
                    </a:lnTo>
                    <a:lnTo>
                      <a:pt x="2256" y="895"/>
                    </a:lnTo>
                    <a:lnTo>
                      <a:pt x="2257" y="889"/>
                    </a:lnTo>
                    <a:lnTo>
                      <a:pt x="2260" y="883"/>
                    </a:lnTo>
                    <a:lnTo>
                      <a:pt x="2263" y="878"/>
                    </a:lnTo>
                    <a:lnTo>
                      <a:pt x="2266" y="868"/>
                    </a:lnTo>
                    <a:lnTo>
                      <a:pt x="2268" y="858"/>
                    </a:lnTo>
                    <a:lnTo>
                      <a:pt x="2272" y="849"/>
                    </a:lnTo>
                    <a:lnTo>
                      <a:pt x="2278" y="839"/>
                    </a:lnTo>
                    <a:lnTo>
                      <a:pt x="2282" y="830"/>
                    </a:lnTo>
                    <a:lnTo>
                      <a:pt x="2285" y="820"/>
                    </a:lnTo>
                    <a:lnTo>
                      <a:pt x="2287" y="816"/>
                    </a:lnTo>
                    <a:lnTo>
                      <a:pt x="2287" y="813"/>
                    </a:lnTo>
                    <a:lnTo>
                      <a:pt x="2287" y="810"/>
                    </a:lnTo>
                    <a:lnTo>
                      <a:pt x="2285" y="807"/>
                    </a:lnTo>
                    <a:lnTo>
                      <a:pt x="2285" y="805"/>
                    </a:lnTo>
                    <a:lnTo>
                      <a:pt x="2285" y="789"/>
                    </a:lnTo>
                    <a:lnTo>
                      <a:pt x="2288" y="780"/>
                    </a:lnTo>
                    <a:lnTo>
                      <a:pt x="2290" y="769"/>
                    </a:lnTo>
                    <a:lnTo>
                      <a:pt x="2294" y="759"/>
                    </a:lnTo>
                    <a:lnTo>
                      <a:pt x="2306" y="743"/>
                    </a:lnTo>
                    <a:lnTo>
                      <a:pt x="2314" y="728"/>
                    </a:lnTo>
                    <a:lnTo>
                      <a:pt x="2321" y="716"/>
                    </a:lnTo>
                    <a:lnTo>
                      <a:pt x="2327" y="705"/>
                    </a:lnTo>
                    <a:lnTo>
                      <a:pt x="2332" y="693"/>
                    </a:lnTo>
                    <a:lnTo>
                      <a:pt x="2336" y="688"/>
                    </a:lnTo>
                    <a:lnTo>
                      <a:pt x="2339" y="684"/>
                    </a:lnTo>
                    <a:lnTo>
                      <a:pt x="2343" y="679"/>
                    </a:lnTo>
                    <a:lnTo>
                      <a:pt x="2345" y="675"/>
                    </a:lnTo>
                    <a:lnTo>
                      <a:pt x="2347" y="672"/>
                    </a:lnTo>
                    <a:lnTo>
                      <a:pt x="2349" y="668"/>
                    </a:lnTo>
                    <a:lnTo>
                      <a:pt x="2353" y="666"/>
                    </a:lnTo>
                    <a:lnTo>
                      <a:pt x="2355" y="664"/>
                    </a:lnTo>
                    <a:lnTo>
                      <a:pt x="2357" y="662"/>
                    </a:lnTo>
                    <a:lnTo>
                      <a:pt x="2358" y="660"/>
                    </a:lnTo>
                    <a:lnTo>
                      <a:pt x="2361" y="658"/>
                    </a:lnTo>
                    <a:lnTo>
                      <a:pt x="2364" y="656"/>
                    </a:lnTo>
                    <a:lnTo>
                      <a:pt x="2367" y="654"/>
                    </a:lnTo>
                    <a:lnTo>
                      <a:pt x="2369" y="651"/>
                    </a:lnTo>
                    <a:lnTo>
                      <a:pt x="2377" y="643"/>
                    </a:lnTo>
                    <a:lnTo>
                      <a:pt x="2383" y="635"/>
                    </a:lnTo>
                    <a:lnTo>
                      <a:pt x="2390" y="625"/>
                    </a:lnTo>
                    <a:lnTo>
                      <a:pt x="2391" y="621"/>
                    </a:lnTo>
                    <a:lnTo>
                      <a:pt x="2391" y="617"/>
                    </a:lnTo>
                    <a:lnTo>
                      <a:pt x="2391" y="612"/>
                    </a:lnTo>
                    <a:lnTo>
                      <a:pt x="2392" y="608"/>
                    </a:lnTo>
                    <a:lnTo>
                      <a:pt x="2399" y="595"/>
                    </a:lnTo>
                    <a:lnTo>
                      <a:pt x="2402" y="584"/>
                    </a:lnTo>
                    <a:lnTo>
                      <a:pt x="2407" y="574"/>
                    </a:lnTo>
                    <a:lnTo>
                      <a:pt x="2414" y="566"/>
                    </a:lnTo>
                    <a:lnTo>
                      <a:pt x="2420" y="561"/>
                    </a:lnTo>
                    <a:lnTo>
                      <a:pt x="2425" y="555"/>
                    </a:lnTo>
                    <a:lnTo>
                      <a:pt x="2432" y="546"/>
                    </a:lnTo>
                    <a:lnTo>
                      <a:pt x="2434" y="538"/>
                    </a:lnTo>
                    <a:lnTo>
                      <a:pt x="2437" y="531"/>
                    </a:lnTo>
                    <a:lnTo>
                      <a:pt x="2441" y="524"/>
                    </a:lnTo>
                    <a:lnTo>
                      <a:pt x="2442" y="522"/>
                    </a:lnTo>
                    <a:lnTo>
                      <a:pt x="2443" y="522"/>
                    </a:lnTo>
                    <a:lnTo>
                      <a:pt x="2444" y="522"/>
                    </a:lnTo>
                    <a:lnTo>
                      <a:pt x="2445" y="523"/>
                    </a:lnTo>
                    <a:lnTo>
                      <a:pt x="2447" y="524"/>
                    </a:lnTo>
                    <a:lnTo>
                      <a:pt x="2448" y="524"/>
                    </a:lnTo>
                    <a:lnTo>
                      <a:pt x="2452" y="524"/>
                    </a:lnTo>
                    <a:lnTo>
                      <a:pt x="2454" y="525"/>
                    </a:lnTo>
                    <a:lnTo>
                      <a:pt x="2456" y="526"/>
                    </a:lnTo>
                    <a:lnTo>
                      <a:pt x="2457" y="526"/>
                    </a:lnTo>
                    <a:lnTo>
                      <a:pt x="2459" y="526"/>
                    </a:lnTo>
                    <a:lnTo>
                      <a:pt x="2462" y="525"/>
                    </a:lnTo>
                    <a:lnTo>
                      <a:pt x="2464" y="524"/>
                    </a:lnTo>
                    <a:lnTo>
                      <a:pt x="2467" y="524"/>
                    </a:lnTo>
                    <a:lnTo>
                      <a:pt x="2469" y="523"/>
                    </a:lnTo>
                    <a:lnTo>
                      <a:pt x="2472" y="522"/>
                    </a:lnTo>
                    <a:lnTo>
                      <a:pt x="2476" y="520"/>
                    </a:lnTo>
                    <a:lnTo>
                      <a:pt x="2479" y="516"/>
                    </a:lnTo>
                    <a:lnTo>
                      <a:pt x="2481" y="515"/>
                    </a:lnTo>
                    <a:lnTo>
                      <a:pt x="2485" y="514"/>
                    </a:lnTo>
                    <a:lnTo>
                      <a:pt x="2487" y="512"/>
                    </a:lnTo>
                    <a:lnTo>
                      <a:pt x="2489" y="510"/>
                    </a:lnTo>
                    <a:lnTo>
                      <a:pt x="2491" y="507"/>
                    </a:lnTo>
                    <a:lnTo>
                      <a:pt x="2492" y="503"/>
                    </a:lnTo>
                    <a:lnTo>
                      <a:pt x="2494" y="501"/>
                    </a:lnTo>
                    <a:lnTo>
                      <a:pt x="2496" y="500"/>
                    </a:lnTo>
                    <a:lnTo>
                      <a:pt x="2498" y="500"/>
                    </a:lnTo>
                    <a:lnTo>
                      <a:pt x="2500" y="500"/>
                    </a:lnTo>
                    <a:lnTo>
                      <a:pt x="2501" y="500"/>
                    </a:lnTo>
                    <a:lnTo>
                      <a:pt x="2503" y="500"/>
                    </a:lnTo>
                    <a:lnTo>
                      <a:pt x="2505" y="498"/>
                    </a:lnTo>
                    <a:lnTo>
                      <a:pt x="2507" y="496"/>
                    </a:lnTo>
                    <a:lnTo>
                      <a:pt x="2507" y="493"/>
                    </a:lnTo>
                    <a:lnTo>
                      <a:pt x="2507" y="490"/>
                    </a:lnTo>
                    <a:lnTo>
                      <a:pt x="2507" y="489"/>
                    </a:lnTo>
                    <a:lnTo>
                      <a:pt x="2508" y="487"/>
                    </a:lnTo>
                    <a:lnTo>
                      <a:pt x="2509" y="487"/>
                    </a:lnTo>
                    <a:lnTo>
                      <a:pt x="2511" y="486"/>
                    </a:lnTo>
                    <a:lnTo>
                      <a:pt x="2512" y="486"/>
                    </a:lnTo>
                    <a:lnTo>
                      <a:pt x="2513" y="486"/>
                    </a:lnTo>
                    <a:lnTo>
                      <a:pt x="2514" y="487"/>
                    </a:lnTo>
                    <a:lnTo>
                      <a:pt x="2516" y="487"/>
                    </a:lnTo>
                    <a:lnTo>
                      <a:pt x="2521" y="487"/>
                    </a:lnTo>
                    <a:lnTo>
                      <a:pt x="2527" y="483"/>
                    </a:lnTo>
                    <a:lnTo>
                      <a:pt x="2533" y="480"/>
                    </a:lnTo>
                    <a:lnTo>
                      <a:pt x="2535" y="480"/>
                    </a:lnTo>
                    <a:lnTo>
                      <a:pt x="2536" y="480"/>
                    </a:lnTo>
                    <a:lnTo>
                      <a:pt x="2539" y="479"/>
                    </a:lnTo>
                    <a:lnTo>
                      <a:pt x="2542" y="478"/>
                    </a:lnTo>
                    <a:lnTo>
                      <a:pt x="2543" y="476"/>
                    </a:lnTo>
                    <a:lnTo>
                      <a:pt x="2544" y="474"/>
                    </a:lnTo>
                    <a:lnTo>
                      <a:pt x="2545" y="471"/>
                    </a:lnTo>
                    <a:lnTo>
                      <a:pt x="2546" y="469"/>
                    </a:lnTo>
                    <a:lnTo>
                      <a:pt x="2549" y="469"/>
                    </a:lnTo>
                    <a:lnTo>
                      <a:pt x="2552" y="470"/>
                    </a:lnTo>
                    <a:lnTo>
                      <a:pt x="2554" y="471"/>
                    </a:lnTo>
                    <a:lnTo>
                      <a:pt x="2556" y="472"/>
                    </a:lnTo>
                    <a:lnTo>
                      <a:pt x="2557" y="474"/>
                    </a:lnTo>
                    <a:lnTo>
                      <a:pt x="2560" y="475"/>
                    </a:lnTo>
                    <a:lnTo>
                      <a:pt x="2563" y="474"/>
                    </a:lnTo>
                    <a:lnTo>
                      <a:pt x="2565" y="472"/>
                    </a:lnTo>
                    <a:lnTo>
                      <a:pt x="2567" y="469"/>
                    </a:lnTo>
                    <a:lnTo>
                      <a:pt x="2568" y="467"/>
                    </a:lnTo>
                    <a:lnTo>
                      <a:pt x="2570" y="466"/>
                    </a:lnTo>
                    <a:lnTo>
                      <a:pt x="2571" y="465"/>
                    </a:lnTo>
                    <a:lnTo>
                      <a:pt x="2572" y="464"/>
                    </a:lnTo>
                    <a:lnTo>
                      <a:pt x="2573" y="464"/>
                    </a:lnTo>
                    <a:lnTo>
                      <a:pt x="2574" y="464"/>
                    </a:lnTo>
                    <a:lnTo>
                      <a:pt x="2575" y="465"/>
                    </a:lnTo>
                    <a:lnTo>
                      <a:pt x="2575" y="467"/>
                    </a:lnTo>
                    <a:lnTo>
                      <a:pt x="2575" y="469"/>
                    </a:lnTo>
                    <a:lnTo>
                      <a:pt x="2575" y="471"/>
                    </a:lnTo>
                    <a:lnTo>
                      <a:pt x="2574" y="474"/>
                    </a:lnTo>
                    <a:lnTo>
                      <a:pt x="2574" y="476"/>
                    </a:lnTo>
                    <a:lnTo>
                      <a:pt x="2575" y="478"/>
                    </a:lnTo>
                    <a:lnTo>
                      <a:pt x="2576" y="485"/>
                    </a:lnTo>
                    <a:lnTo>
                      <a:pt x="2578" y="490"/>
                    </a:lnTo>
                    <a:lnTo>
                      <a:pt x="2579" y="498"/>
                    </a:lnTo>
                    <a:lnTo>
                      <a:pt x="2579" y="501"/>
                    </a:lnTo>
                    <a:lnTo>
                      <a:pt x="2577" y="503"/>
                    </a:lnTo>
                    <a:lnTo>
                      <a:pt x="2575" y="507"/>
                    </a:lnTo>
                    <a:lnTo>
                      <a:pt x="2573" y="510"/>
                    </a:lnTo>
                    <a:lnTo>
                      <a:pt x="2571" y="513"/>
                    </a:lnTo>
                    <a:lnTo>
                      <a:pt x="2570" y="515"/>
                    </a:lnTo>
                    <a:lnTo>
                      <a:pt x="2570" y="518"/>
                    </a:lnTo>
                    <a:lnTo>
                      <a:pt x="2571" y="519"/>
                    </a:lnTo>
                    <a:lnTo>
                      <a:pt x="2571" y="520"/>
                    </a:lnTo>
                    <a:lnTo>
                      <a:pt x="2572" y="520"/>
                    </a:lnTo>
                    <a:lnTo>
                      <a:pt x="2573" y="520"/>
                    </a:lnTo>
                    <a:lnTo>
                      <a:pt x="2573" y="522"/>
                    </a:lnTo>
                    <a:lnTo>
                      <a:pt x="2573" y="524"/>
                    </a:lnTo>
                    <a:lnTo>
                      <a:pt x="2574" y="526"/>
                    </a:lnTo>
                    <a:lnTo>
                      <a:pt x="2574" y="529"/>
                    </a:lnTo>
                    <a:lnTo>
                      <a:pt x="2575" y="531"/>
                    </a:lnTo>
                    <a:lnTo>
                      <a:pt x="2576" y="532"/>
                    </a:lnTo>
                    <a:lnTo>
                      <a:pt x="2577" y="532"/>
                    </a:lnTo>
                    <a:lnTo>
                      <a:pt x="2578" y="532"/>
                    </a:lnTo>
                    <a:lnTo>
                      <a:pt x="2581" y="532"/>
                    </a:lnTo>
                    <a:lnTo>
                      <a:pt x="2582" y="533"/>
                    </a:lnTo>
                    <a:lnTo>
                      <a:pt x="2583" y="533"/>
                    </a:lnTo>
                    <a:lnTo>
                      <a:pt x="2584" y="534"/>
                    </a:lnTo>
                    <a:lnTo>
                      <a:pt x="2584" y="535"/>
                    </a:lnTo>
                    <a:lnTo>
                      <a:pt x="2585" y="536"/>
                    </a:lnTo>
                    <a:lnTo>
                      <a:pt x="2586" y="537"/>
                    </a:lnTo>
                    <a:lnTo>
                      <a:pt x="2588" y="536"/>
                    </a:lnTo>
                    <a:lnTo>
                      <a:pt x="2590" y="535"/>
                    </a:lnTo>
                    <a:lnTo>
                      <a:pt x="2593" y="535"/>
                    </a:lnTo>
                    <a:lnTo>
                      <a:pt x="2595" y="535"/>
                    </a:lnTo>
                    <a:lnTo>
                      <a:pt x="2597" y="537"/>
                    </a:lnTo>
                    <a:lnTo>
                      <a:pt x="2597" y="540"/>
                    </a:lnTo>
                    <a:lnTo>
                      <a:pt x="2598" y="542"/>
                    </a:lnTo>
                    <a:lnTo>
                      <a:pt x="2599" y="544"/>
                    </a:lnTo>
                    <a:lnTo>
                      <a:pt x="2600" y="546"/>
                    </a:lnTo>
                    <a:lnTo>
                      <a:pt x="2601" y="548"/>
                    </a:lnTo>
                    <a:lnTo>
                      <a:pt x="2603" y="549"/>
                    </a:lnTo>
                    <a:lnTo>
                      <a:pt x="2603" y="551"/>
                    </a:lnTo>
                    <a:lnTo>
                      <a:pt x="2605" y="551"/>
                    </a:lnTo>
                    <a:lnTo>
                      <a:pt x="2606" y="551"/>
                    </a:lnTo>
                    <a:lnTo>
                      <a:pt x="2608" y="552"/>
                    </a:lnTo>
                    <a:lnTo>
                      <a:pt x="2610" y="553"/>
                    </a:lnTo>
                    <a:lnTo>
                      <a:pt x="2612" y="553"/>
                    </a:lnTo>
                    <a:lnTo>
                      <a:pt x="2614" y="554"/>
                    </a:lnTo>
                    <a:lnTo>
                      <a:pt x="2615" y="556"/>
                    </a:lnTo>
                    <a:lnTo>
                      <a:pt x="2616" y="556"/>
                    </a:lnTo>
                    <a:lnTo>
                      <a:pt x="2617" y="557"/>
                    </a:lnTo>
                    <a:lnTo>
                      <a:pt x="2620" y="557"/>
                    </a:lnTo>
                    <a:lnTo>
                      <a:pt x="2621" y="557"/>
                    </a:lnTo>
                    <a:lnTo>
                      <a:pt x="2623" y="555"/>
                    </a:lnTo>
                    <a:lnTo>
                      <a:pt x="2626" y="553"/>
                    </a:lnTo>
                    <a:lnTo>
                      <a:pt x="2628" y="551"/>
                    </a:lnTo>
                    <a:lnTo>
                      <a:pt x="2631" y="548"/>
                    </a:lnTo>
                    <a:lnTo>
                      <a:pt x="2632" y="546"/>
                    </a:lnTo>
                    <a:lnTo>
                      <a:pt x="2632" y="544"/>
                    </a:lnTo>
                    <a:lnTo>
                      <a:pt x="2632" y="541"/>
                    </a:lnTo>
                    <a:lnTo>
                      <a:pt x="2632" y="538"/>
                    </a:lnTo>
                    <a:lnTo>
                      <a:pt x="2632" y="535"/>
                    </a:lnTo>
                    <a:lnTo>
                      <a:pt x="2633" y="532"/>
                    </a:lnTo>
                    <a:lnTo>
                      <a:pt x="2633" y="531"/>
                    </a:lnTo>
                    <a:lnTo>
                      <a:pt x="2636" y="529"/>
                    </a:lnTo>
                    <a:lnTo>
                      <a:pt x="2637" y="527"/>
                    </a:lnTo>
                    <a:lnTo>
                      <a:pt x="2638" y="526"/>
                    </a:lnTo>
                    <a:lnTo>
                      <a:pt x="2639" y="524"/>
                    </a:lnTo>
                    <a:lnTo>
                      <a:pt x="2641" y="521"/>
                    </a:lnTo>
                    <a:lnTo>
                      <a:pt x="2643" y="518"/>
                    </a:lnTo>
                    <a:lnTo>
                      <a:pt x="2645" y="515"/>
                    </a:lnTo>
                    <a:lnTo>
                      <a:pt x="2648" y="514"/>
                    </a:lnTo>
                    <a:lnTo>
                      <a:pt x="2650" y="513"/>
                    </a:lnTo>
                    <a:lnTo>
                      <a:pt x="2651" y="514"/>
                    </a:lnTo>
                    <a:lnTo>
                      <a:pt x="2653" y="516"/>
                    </a:lnTo>
                    <a:lnTo>
                      <a:pt x="2655" y="519"/>
                    </a:lnTo>
                    <a:lnTo>
                      <a:pt x="2656" y="522"/>
                    </a:lnTo>
                    <a:lnTo>
                      <a:pt x="2659" y="524"/>
                    </a:lnTo>
                    <a:lnTo>
                      <a:pt x="2661" y="525"/>
                    </a:lnTo>
                    <a:lnTo>
                      <a:pt x="2663" y="526"/>
                    </a:lnTo>
                    <a:lnTo>
                      <a:pt x="2665" y="526"/>
                    </a:lnTo>
                    <a:lnTo>
                      <a:pt x="2667" y="526"/>
                    </a:lnTo>
                    <a:lnTo>
                      <a:pt x="2670" y="525"/>
                    </a:lnTo>
                    <a:lnTo>
                      <a:pt x="2672" y="525"/>
                    </a:lnTo>
                    <a:lnTo>
                      <a:pt x="2674" y="526"/>
                    </a:lnTo>
                    <a:lnTo>
                      <a:pt x="2675" y="526"/>
                    </a:lnTo>
                    <a:lnTo>
                      <a:pt x="2675" y="525"/>
                    </a:lnTo>
                    <a:lnTo>
                      <a:pt x="2675" y="523"/>
                    </a:lnTo>
                    <a:lnTo>
                      <a:pt x="2676" y="522"/>
                    </a:lnTo>
                    <a:lnTo>
                      <a:pt x="2676" y="522"/>
                    </a:lnTo>
                    <a:lnTo>
                      <a:pt x="2678" y="521"/>
                    </a:lnTo>
                    <a:lnTo>
                      <a:pt x="2681" y="521"/>
                    </a:lnTo>
                    <a:lnTo>
                      <a:pt x="2682" y="522"/>
                    </a:lnTo>
                    <a:lnTo>
                      <a:pt x="2684" y="523"/>
                    </a:lnTo>
                    <a:lnTo>
                      <a:pt x="2686" y="524"/>
                    </a:lnTo>
                    <a:lnTo>
                      <a:pt x="2686" y="525"/>
                    </a:lnTo>
                    <a:lnTo>
                      <a:pt x="2686" y="525"/>
                    </a:lnTo>
                    <a:lnTo>
                      <a:pt x="2687" y="524"/>
                    </a:lnTo>
                    <a:lnTo>
                      <a:pt x="2688" y="523"/>
                    </a:lnTo>
                    <a:lnTo>
                      <a:pt x="2691" y="522"/>
                    </a:lnTo>
                    <a:lnTo>
                      <a:pt x="2692" y="520"/>
                    </a:lnTo>
                    <a:lnTo>
                      <a:pt x="2692" y="519"/>
                    </a:lnTo>
                    <a:lnTo>
                      <a:pt x="2693" y="518"/>
                    </a:lnTo>
                    <a:lnTo>
                      <a:pt x="2694" y="518"/>
                    </a:lnTo>
                    <a:lnTo>
                      <a:pt x="2695" y="518"/>
                    </a:lnTo>
                    <a:lnTo>
                      <a:pt x="2696" y="515"/>
                    </a:lnTo>
                    <a:lnTo>
                      <a:pt x="2698" y="513"/>
                    </a:lnTo>
                    <a:lnTo>
                      <a:pt x="2701" y="510"/>
                    </a:lnTo>
                    <a:lnTo>
                      <a:pt x="2702" y="508"/>
                    </a:lnTo>
                    <a:lnTo>
                      <a:pt x="2704" y="505"/>
                    </a:lnTo>
                    <a:lnTo>
                      <a:pt x="2706" y="504"/>
                    </a:lnTo>
                    <a:lnTo>
                      <a:pt x="2707" y="504"/>
                    </a:lnTo>
                    <a:lnTo>
                      <a:pt x="2707" y="505"/>
                    </a:lnTo>
                    <a:lnTo>
                      <a:pt x="2708" y="505"/>
                    </a:lnTo>
                    <a:lnTo>
                      <a:pt x="2709" y="505"/>
                    </a:lnTo>
                    <a:lnTo>
                      <a:pt x="2710" y="504"/>
                    </a:lnTo>
                    <a:lnTo>
                      <a:pt x="2712" y="504"/>
                    </a:lnTo>
                    <a:lnTo>
                      <a:pt x="2713" y="503"/>
                    </a:lnTo>
                    <a:lnTo>
                      <a:pt x="2714" y="501"/>
                    </a:lnTo>
                    <a:lnTo>
                      <a:pt x="2714" y="500"/>
                    </a:lnTo>
                    <a:lnTo>
                      <a:pt x="2715" y="500"/>
                    </a:lnTo>
                    <a:lnTo>
                      <a:pt x="2716" y="500"/>
                    </a:lnTo>
                    <a:lnTo>
                      <a:pt x="2718" y="500"/>
                    </a:lnTo>
                    <a:lnTo>
                      <a:pt x="2719" y="500"/>
                    </a:lnTo>
                    <a:lnTo>
                      <a:pt x="2721" y="500"/>
                    </a:lnTo>
                    <a:lnTo>
                      <a:pt x="2723" y="499"/>
                    </a:lnTo>
                    <a:lnTo>
                      <a:pt x="2724" y="498"/>
                    </a:lnTo>
                    <a:lnTo>
                      <a:pt x="2724" y="497"/>
                    </a:lnTo>
                    <a:lnTo>
                      <a:pt x="2724" y="493"/>
                    </a:lnTo>
                    <a:lnTo>
                      <a:pt x="2723" y="491"/>
                    </a:lnTo>
                    <a:lnTo>
                      <a:pt x="2724" y="489"/>
                    </a:lnTo>
                    <a:lnTo>
                      <a:pt x="2725" y="488"/>
                    </a:lnTo>
                    <a:lnTo>
                      <a:pt x="2726" y="487"/>
                    </a:lnTo>
                    <a:lnTo>
                      <a:pt x="2727" y="486"/>
                    </a:lnTo>
                    <a:lnTo>
                      <a:pt x="2729" y="486"/>
                    </a:lnTo>
                    <a:lnTo>
                      <a:pt x="2730" y="485"/>
                    </a:lnTo>
                    <a:lnTo>
                      <a:pt x="2731" y="482"/>
                    </a:lnTo>
                    <a:lnTo>
                      <a:pt x="2732" y="480"/>
                    </a:lnTo>
                    <a:lnTo>
                      <a:pt x="2734" y="477"/>
                    </a:lnTo>
                    <a:lnTo>
                      <a:pt x="2735" y="474"/>
                    </a:lnTo>
                    <a:lnTo>
                      <a:pt x="2736" y="469"/>
                    </a:lnTo>
                    <a:lnTo>
                      <a:pt x="2737" y="465"/>
                    </a:lnTo>
                    <a:lnTo>
                      <a:pt x="2737" y="460"/>
                    </a:lnTo>
                    <a:lnTo>
                      <a:pt x="2739" y="453"/>
                    </a:lnTo>
                    <a:lnTo>
                      <a:pt x="2740" y="444"/>
                    </a:lnTo>
                    <a:lnTo>
                      <a:pt x="2741" y="436"/>
                    </a:lnTo>
                    <a:lnTo>
                      <a:pt x="2740" y="434"/>
                    </a:lnTo>
                    <a:lnTo>
                      <a:pt x="2740" y="432"/>
                    </a:lnTo>
                    <a:lnTo>
                      <a:pt x="2739" y="432"/>
                    </a:lnTo>
                    <a:lnTo>
                      <a:pt x="2737" y="432"/>
                    </a:lnTo>
                    <a:lnTo>
                      <a:pt x="2736" y="432"/>
                    </a:lnTo>
                    <a:lnTo>
                      <a:pt x="2735" y="433"/>
                    </a:lnTo>
                    <a:lnTo>
                      <a:pt x="2734" y="435"/>
                    </a:lnTo>
                    <a:lnTo>
                      <a:pt x="2732" y="436"/>
                    </a:lnTo>
                    <a:lnTo>
                      <a:pt x="2726" y="443"/>
                    </a:lnTo>
                    <a:lnTo>
                      <a:pt x="2725" y="444"/>
                    </a:lnTo>
                    <a:lnTo>
                      <a:pt x="2725" y="445"/>
                    </a:lnTo>
                    <a:lnTo>
                      <a:pt x="2724" y="446"/>
                    </a:lnTo>
                    <a:lnTo>
                      <a:pt x="2724" y="446"/>
                    </a:lnTo>
                    <a:lnTo>
                      <a:pt x="2724" y="445"/>
                    </a:lnTo>
                    <a:lnTo>
                      <a:pt x="2721" y="445"/>
                    </a:lnTo>
                    <a:lnTo>
                      <a:pt x="2720" y="443"/>
                    </a:lnTo>
                    <a:lnTo>
                      <a:pt x="2718" y="441"/>
                    </a:lnTo>
                    <a:lnTo>
                      <a:pt x="2717" y="438"/>
                    </a:lnTo>
                    <a:lnTo>
                      <a:pt x="2715" y="438"/>
                    </a:lnTo>
                    <a:lnTo>
                      <a:pt x="2713" y="438"/>
                    </a:lnTo>
                    <a:lnTo>
                      <a:pt x="2710" y="436"/>
                    </a:lnTo>
                    <a:lnTo>
                      <a:pt x="2708" y="436"/>
                    </a:lnTo>
                    <a:lnTo>
                      <a:pt x="2707" y="437"/>
                    </a:lnTo>
                    <a:lnTo>
                      <a:pt x="2705" y="438"/>
                    </a:lnTo>
                    <a:lnTo>
                      <a:pt x="2704" y="441"/>
                    </a:lnTo>
                    <a:lnTo>
                      <a:pt x="2703" y="442"/>
                    </a:lnTo>
                    <a:lnTo>
                      <a:pt x="2702" y="443"/>
                    </a:lnTo>
                    <a:lnTo>
                      <a:pt x="2699" y="444"/>
                    </a:lnTo>
                    <a:lnTo>
                      <a:pt x="2698" y="445"/>
                    </a:lnTo>
                    <a:lnTo>
                      <a:pt x="2697" y="446"/>
                    </a:lnTo>
                    <a:lnTo>
                      <a:pt x="2696" y="446"/>
                    </a:lnTo>
                    <a:lnTo>
                      <a:pt x="2695" y="445"/>
                    </a:lnTo>
                    <a:lnTo>
                      <a:pt x="2695" y="443"/>
                    </a:lnTo>
                    <a:lnTo>
                      <a:pt x="2694" y="441"/>
                    </a:lnTo>
                    <a:lnTo>
                      <a:pt x="2694" y="438"/>
                    </a:lnTo>
                    <a:lnTo>
                      <a:pt x="2693" y="436"/>
                    </a:lnTo>
                    <a:lnTo>
                      <a:pt x="2692" y="435"/>
                    </a:lnTo>
                    <a:lnTo>
                      <a:pt x="2691" y="433"/>
                    </a:lnTo>
                    <a:lnTo>
                      <a:pt x="2691" y="429"/>
                    </a:lnTo>
                    <a:lnTo>
                      <a:pt x="2689" y="427"/>
                    </a:lnTo>
                    <a:lnTo>
                      <a:pt x="2689" y="424"/>
                    </a:lnTo>
                    <a:lnTo>
                      <a:pt x="2688" y="422"/>
                    </a:lnTo>
                    <a:lnTo>
                      <a:pt x="2688" y="418"/>
                    </a:lnTo>
                    <a:lnTo>
                      <a:pt x="2688" y="416"/>
                    </a:lnTo>
                    <a:lnTo>
                      <a:pt x="2689" y="414"/>
                    </a:lnTo>
                    <a:lnTo>
                      <a:pt x="2689" y="411"/>
                    </a:lnTo>
                    <a:lnTo>
                      <a:pt x="2691" y="407"/>
                    </a:lnTo>
                    <a:lnTo>
                      <a:pt x="2691" y="394"/>
                    </a:lnTo>
                    <a:lnTo>
                      <a:pt x="2691" y="391"/>
                    </a:lnTo>
                    <a:lnTo>
                      <a:pt x="2691" y="388"/>
                    </a:lnTo>
                    <a:lnTo>
                      <a:pt x="2693" y="385"/>
                    </a:lnTo>
                    <a:lnTo>
                      <a:pt x="2694" y="383"/>
                    </a:lnTo>
                    <a:lnTo>
                      <a:pt x="2696" y="381"/>
                    </a:lnTo>
                    <a:lnTo>
                      <a:pt x="2697" y="381"/>
                    </a:lnTo>
                    <a:lnTo>
                      <a:pt x="2698" y="381"/>
                    </a:lnTo>
                    <a:lnTo>
                      <a:pt x="2701" y="381"/>
                    </a:lnTo>
                    <a:lnTo>
                      <a:pt x="2702" y="381"/>
                    </a:lnTo>
                    <a:lnTo>
                      <a:pt x="2704" y="381"/>
                    </a:lnTo>
                    <a:lnTo>
                      <a:pt x="2708" y="381"/>
                    </a:lnTo>
                    <a:lnTo>
                      <a:pt x="2710" y="378"/>
                    </a:lnTo>
                    <a:lnTo>
                      <a:pt x="2713" y="376"/>
                    </a:lnTo>
                    <a:lnTo>
                      <a:pt x="2715" y="374"/>
                    </a:lnTo>
                    <a:lnTo>
                      <a:pt x="2717" y="374"/>
                    </a:lnTo>
                    <a:lnTo>
                      <a:pt x="2719" y="372"/>
                    </a:lnTo>
                    <a:lnTo>
                      <a:pt x="2721" y="371"/>
                    </a:lnTo>
                    <a:lnTo>
                      <a:pt x="2721" y="367"/>
                    </a:lnTo>
                    <a:lnTo>
                      <a:pt x="2724" y="362"/>
                    </a:lnTo>
                    <a:lnTo>
                      <a:pt x="2726" y="360"/>
                    </a:lnTo>
                    <a:lnTo>
                      <a:pt x="2726" y="358"/>
                    </a:lnTo>
                    <a:lnTo>
                      <a:pt x="2727" y="358"/>
                    </a:lnTo>
                    <a:lnTo>
                      <a:pt x="2728" y="357"/>
                    </a:lnTo>
                    <a:lnTo>
                      <a:pt x="2730" y="356"/>
                    </a:lnTo>
                    <a:lnTo>
                      <a:pt x="2732" y="355"/>
                    </a:lnTo>
                    <a:lnTo>
                      <a:pt x="2735" y="352"/>
                    </a:lnTo>
                    <a:lnTo>
                      <a:pt x="2737" y="351"/>
                    </a:lnTo>
                    <a:lnTo>
                      <a:pt x="2742" y="350"/>
                    </a:lnTo>
                    <a:lnTo>
                      <a:pt x="2749" y="352"/>
                    </a:lnTo>
                    <a:lnTo>
                      <a:pt x="2753" y="357"/>
                    </a:lnTo>
                    <a:lnTo>
                      <a:pt x="2759" y="362"/>
                    </a:lnTo>
                    <a:lnTo>
                      <a:pt x="2760" y="363"/>
                    </a:lnTo>
                    <a:lnTo>
                      <a:pt x="2762" y="365"/>
                    </a:lnTo>
                    <a:lnTo>
                      <a:pt x="2764" y="365"/>
                    </a:lnTo>
                    <a:lnTo>
                      <a:pt x="2767" y="363"/>
                    </a:lnTo>
                    <a:lnTo>
                      <a:pt x="2770" y="361"/>
                    </a:lnTo>
                    <a:lnTo>
                      <a:pt x="2772" y="360"/>
                    </a:lnTo>
                    <a:lnTo>
                      <a:pt x="2773" y="358"/>
                    </a:lnTo>
                    <a:lnTo>
                      <a:pt x="2775" y="358"/>
                    </a:lnTo>
                    <a:lnTo>
                      <a:pt x="2778" y="356"/>
                    </a:lnTo>
                    <a:lnTo>
                      <a:pt x="2779" y="354"/>
                    </a:lnTo>
                    <a:lnTo>
                      <a:pt x="2781" y="351"/>
                    </a:lnTo>
                    <a:lnTo>
                      <a:pt x="2781" y="343"/>
                    </a:lnTo>
                    <a:lnTo>
                      <a:pt x="2780" y="341"/>
                    </a:lnTo>
                    <a:lnTo>
                      <a:pt x="2779" y="340"/>
                    </a:lnTo>
                    <a:lnTo>
                      <a:pt x="2778" y="339"/>
                    </a:lnTo>
                    <a:lnTo>
                      <a:pt x="2778" y="339"/>
                    </a:lnTo>
                    <a:lnTo>
                      <a:pt x="2779" y="338"/>
                    </a:lnTo>
                    <a:lnTo>
                      <a:pt x="2779" y="336"/>
                    </a:lnTo>
                    <a:lnTo>
                      <a:pt x="2780" y="334"/>
                    </a:lnTo>
                    <a:lnTo>
                      <a:pt x="2781" y="332"/>
                    </a:lnTo>
                    <a:lnTo>
                      <a:pt x="2781" y="329"/>
                    </a:lnTo>
                    <a:lnTo>
                      <a:pt x="2780" y="329"/>
                    </a:lnTo>
                    <a:lnTo>
                      <a:pt x="2779" y="328"/>
                    </a:lnTo>
                    <a:lnTo>
                      <a:pt x="2779" y="327"/>
                    </a:lnTo>
                    <a:lnTo>
                      <a:pt x="2776" y="324"/>
                    </a:lnTo>
                    <a:lnTo>
                      <a:pt x="2774" y="321"/>
                    </a:lnTo>
                    <a:lnTo>
                      <a:pt x="2772" y="318"/>
                    </a:lnTo>
                    <a:lnTo>
                      <a:pt x="2772" y="316"/>
                    </a:lnTo>
                    <a:lnTo>
                      <a:pt x="2770" y="312"/>
                    </a:lnTo>
                    <a:lnTo>
                      <a:pt x="2770" y="309"/>
                    </a:lnTo>
                    <a:lnTo>
                      <a:pt x="2768" y="307"/>
                    </a:lnTo>
                    <a:lnTo>
                      <a:pt x="2767" y="305"/>
                    </a:lnTo>
                    <a:lnTo>
                      <a:pt x="2765" y="303"/>
                    </a:lnTo>
                    <a:lnTo>
                      <a:pt x="2764" y="303"/>
                    </a:lnTo>
                    <a:lnTo>
                      <a:pt x="2763" y="303"/>
                    </a:lnTo>
                    <a:lnTo>
                      <a:pt x="2762" y="302"/>
                    </a:lnTo>
                    <a:lnTo>
                      <a:pt x="2761" y="301"/>
                    </a:lnTo>
                    <a:lnTo>
                      <a:pt x="2761" y="298"/>
                    </a:lnTo>
                    <a:lnTo>
                      <a:pt x="2760" y="296"/>
                    </a:lnTo>
                    <a:lnTo>
                      <a:pt x="2760" y="295"/>
                    </a:lnTo>
                    <a:lnTo>
                      <a:pt x="2761" y="293"/>
                    </a:lnTo>
                    <a:lnTo>
                      <a:pt x="2762" y="291"/>
                    </a:lnTo>
                    <a:lnTo>
                      <a:pt x="2763" y="290"/>
                    </a:lnTo>
                    <a:lnTo>
                      <a:pt x="2765" y="285"/>
                    </a:lnTo>
                    <a:lnTo>
                      <a:pt x="2768" y="282"/>
                    </a:lnTo>
                    <a:lnTo>
                      <a:pt x="2770" y="279"/>
                    </a:lnTo>
                    <a:lnTo>
                      <a:pt x="2770" y="275"/>
                    </a:lnTo>
                    <a:lnTo>
                      <a:pt x="2769" y="274"/>
                    </a:lnTo>
                    <a:lnTo>
                      <a:pt x="2768" y="272"/>
                    </a:lnTo>
                    <a:lnTo>
                      <a:pt x="2767" y="271"/>
                    </a:lnTo>
                    <a:lnTo>
                      <a:pt x="2765" y="270"/>
                    </a:lnTo>
                    <a:lnTo>
                      <a:pt x="2765" y="268"/>
                    </a:lnTo>
                    <a:lnTo>
                      <a:pt x="2825" y="219"/>
                    </a:lnTo>
                    <a:lnTo>
                      <a:pt x="2882" y="172"/>
                    </a:lnTo>
                    <a:lnTo>
                      <a:pt x="2936" y="127"/>
                    </a:lnTo>
                    <a:lnTo>
                      <a:pt x="2989" y="86"/>
                    </a:lnTo>
                    <a:lnTo>
                      <a:pt x="3042" y="51"/>
                    </a:lnTo>
                    <a:lnTo>
                      <a:pt x="3055" y="43"/>
                    </a:lnTo>
                    <a:lnTo>
                      <a:pt x="3068" y="35"/>
                    </a:lnTo>
                    <a:close/>
                    <a:moveTo>
                      <a:pt x="2655" y="29"/>
                    </a:moveTo>
                    <a:lnTo>
                      <a:pt x="2656" y="30"/>
                    </a:lnTo>
                    <a:lnTo>
                      <a:pt x="2658" y="31"/>
                    </a:lnTo>
                    <a:lnTo>
                      <a:pt x="2659" y="34"/>
                    </a:lnTo>
                    <a:lnTo>
                      <a:pt x="2659" y="36"/>
                    </a:lnTo>
                    <a:lnTo>
                      <a:pt x="2659" y="40"/>
                    </a:lnTo>
                    <a:lnTo>
                      <a:pt x="2658" y="42"/>
                    </a:lnTo>
                    <a:lnTo>
                      <a:pt x="2658" y="44"/>
                    </a:lnTo>
                    <a:lnTo>
                      <a:pt x="2658" y="45"/>
                    </a:lnTo>
                    <a:lnTo>
                      <a:pt x="2656" y="47"/>
                    </a:lnTo>
                    <a:lnTo>
                      <a:pt x="2656" y="49"/>
                    </a:lnTo>
                    <a:lnTo>
                      <a:pt x="2655" y="50"/>
                    </a:lnTo>
                    <a:lnTo>
                      <a:pt x="2654" y="50"/>
                    </a:lnTo>
                    <a:lnTo>
                      <a:pt x="2653" y="49"/>
                    </a:lnTo>
                    <a:lnTo>
                      <a:pt x="2652" y="44"/>
                    </a:lnTo>
                    <a:lnTo>
                      <a:pt x="2652" y="40"/>
                    </a:lnTo>
                    <a:lnTo>
                      <a:pt x="2652" y="36"/>
                    </a:lnTo>
                    <a:lnTo>
                      <a:pt x="2653" y="33"/>
                    </a:lnTo>
                    <a:lnTo>
                      <a:pt x="2653" y="31"/>
                    </a:lnTo>
                    <a:lnTo>
                      <a:pt x="2654" y="30"/>
                    </a:lnTo>
                    <a:lnTo>
                      <a:pt x="2654" y="29"/>
                    </a:lnTo>
                    <a:lnTo>
                      <a:pt x="2655" y="29"/>
                    </a:lnTo>
                    <a:close/>
                    <a:moveTo>
                      <a:pt x="1333" y="18"/>
                    </a:moveTo>
                    <a:lnTo>
                      <a:pt x="1335" y="18"/>
                    </a:lnTo>
                    <a:lnTo>
                      <a:pt x="1338" y="19"/>
                    </a:lnTo>
                    <a:lnTo>
                      <a:pt x="1339" y="21"/>
                    </a:lnTo>
                    <a:lnTo>
                      <a:pt x="1340" y="22"/>
                    </a:lnTo>
                    <a:lnTo>
                      <a:pt x="1340" y="24"/>
                    </a:lnTo>
                    <a:lnTo>
                      <a:pt x="1341" y="31"/>
                    </a:lnTo>
                    <a:lnTo>
                      <a:pt x="1345" y="36"/>
                    </a:lnTo>
                    <a:lnTo>
                      <a:pt x="1350" y="42"/>
                    </a:lnTo>
                    <a:lnTo>
                      <a:pt x="1351" y="47"/>
                    </a:lnTo>
                    <a:lnTo>
                      <a:pt x="1350" y="53"/>
                    </a:lnTo>
                    <a:lnTo>
                      <a:pt x="1343" y="57"/>
                    </a:lnTo>
                    <a:lnTo>
                      <a:pt x="1334" y="61"/>
                    </a:lnTo>
                    <a:lnTo>
                      <a:pt x="1328" y="61"/>
                    </a:lnTo>
                    <a:lnTo>
                      <a:pt x="1324" y="57"/>
                    </a:lnTo>
                    <a:lnTo>
                      <a:pt x="1324" y="52"/>
                    </a:lnTo>
                    <a:lnTo>
                      <a:pt x="1326" y="46"/>
                    </a:lnTo>
                    <a:lnTo>
                      <a:pt x="1328" y="40"/>
                    </a:lnTo>
                    <a:lnTo>
                      <a:pt x="1330" y="34"/>
                    </a:lnTo>
                    <a:lnTo>
                      <a:pt x="1330" y="30"/>
                    </a:lnTo>
                    <a:lnTo>
                      <a:pt x="1330" y="29"/>
                    </a:lnTo>
                    <a:lnTo>
                      <a:pt x="1330" y="28"/>
                    </a:lnTo>
                    <a:lnTo>
                      <a:pt x="1329" y="25"/>
                    </a:lnTo>
                    <a:lnTo>
                      <a:pt x="1328" y="23"/>
                    </a:lnTo>
                    <a:lnTo>
                      <a:pt x="1328" y="21"/>
                    </a:lnTo>
                    <a:lnTo>
                      <a:pt x="1329" y="20"/>
                    </a:lnTo>
                    <a:lnTo>
                      <a:pt x="1330" y="19"/>
                    </a:lnTo>
                    <a:lnTo>
                      <a:pt x="1333" y="18"/>
                    </a:lnTo>
                    <a:close/>
                    <a:moveTo>
                      <a:pt x="2768" y="10"/>
                    </a:moveTo>
                    <a:lnTo>
                      <a:pt x="2768" y="10"/>
                    </a:lnTo>
                    <a:lnTo>
                      <a:pt x="2768" y="11"/>
                    </a:lnTo>
                    <a:lnTo>
                      <a:pt x="2768" y="13"/>
                    </a:lnTo>
                    <a:lnTo>
                      <a:pt x="2768" y="16"/>
                    </a:lnTo>
                    <a:lnTo>
                      <a:pt x="2769" y="17"/>
                    </a:lnTo>
                    <a:lnTo>
                      <a:pt x="2769" y="18"/>
                    </a:lnTo>
                    <a:lnTo>
                      <a:pt x="2770" y="19"/>
                    </a:lnTo>
                    <a:lnTo>
                      <a:pt x="2770" y="20"/>
                    </a:lnTo>
                    <a:lnTo>
                      <a:pt x="2771" y="22"/>
                    </a:lnTo>
                    <a:lnTo>
                      <a:pt x="2772" y="24"/>
                    </a:lnTo>
                    <a:lnTo>
                      <a:pt x="2772" y="27"/>
                    </a:lnTo>
                    <a:lnTo>
                      <a:pt x="2772" y="29"/>
                    </a:lnTo>
                    <a:lnTo>
                      <a:pt x="2773" y="30"/>
                    </a:lnTo>
                    <a:lnTo>
                      <a:pt x="2775" y="30"/>
                    </a:lnTo>
                    <a:lnTo>
                      <a:pt x="2776" y="29"/>
                    </a:lnTo>
                    <a:lnTo>
                      <a:pt x="2776" y="27"/>
                    </a:lnTo>
                    <a:lnTo>
                      <a:pt x="2778" y="24"/>
                    </a:lnTo>
                    <a:lnTo>
                      <a:pt x="2778" y="22"/>
                    </a:lnTo>
                    <a:lnTo>
                      <a:pt x="2776" y="21"/>
                    </a:lnTo>
                    <a:lnTo>
                      <a:pt x="2775" y="20"/>
                    </a:lnTo>
                    <a:lnTo>
                      <a:pt x="2774" y="18"/>
                    </a:lnTo>
                    <a:lnTo>
                      <a:pt x="2774" y="17"/>
                    </a:lnTo>
                    <a:lnTo>
                      <a:pt x="2774" y="16"/>
                    </a:lnTo>
                    <a:lnTo>
                      <a:pt x="2773" y="14"/>
                    </a:lnTo>
                    <a:lnTo>
                      <a:pt x="2772" y="13"/>
                    </a:lnTo>
                    <a:lnTo>
                      <a:pt x="2771" y="13"/>
                    </a:lnTo>
                    <a:lnTo>
                      <a:pt x="2770" y="12"/>
                    </a:lnTo>
                    <a:lnTo>
                      <a:pt x="2769" y="11"/>
                    </a:lnTo>
                    <a:lnTo>
                      <a:pt x="2769" y="11"/>
                    </a:lnTo>
                    <a:lnTo>
                      <a:pt x="2768" y="10"/>
                    </a:lnTo>
                    <a:close/>
                    <a:moveTo>
                      <a:pt x="357" y="2"/>
                    </a:moveTo>
                    <a:lnTo>
                      <a:pt x="359" y="2"/>
                    </a:lnTo>
                    <a:lnTo>
                      <a:pt x="361" y="5"/>
                    </a:lnTo>
                    <a:lnTo>
                      <a:pt x="367" y="17"/>
                    </a:lnTo>
                    <a:lnTo>
                      <a:pt x="368" y="18"/>
                    </a:lnTo>
                    <a:lnTo>
                      <a:pt x="369" y="19"/>
                    </a:lnTo>
                    <a:lnTo>
                      <a:pt x="370" y="20"/>
                    </a:lnTo>
                    <a:lnTo>
                      <a:pt x="371" y="21"/>
                    </a:lnTo>
                    <a:lnTo>
                      <a:pt x="371" y="23"/>
                    </a:lnTo>
                    <a:lnTo>
                      <a:pt x="371" y="27"/>
                    </a:lnTo>
                    <a:lnTo>
                      <a:pt x="370" y="29"/>
                    </a:lnTo>
                    <a:lnTo>
                      <a:pt x="369" y="30"/>
                    </a:lnTo>
                    <a:lnTo>
                      <a:pt x="368" y="30"/>
                    </a:lnTo>
                    <a:lnTo>
                      <a:pt x="367" y="30"/>
                    </a:lnTo>
                    <a:lnTo>
                      <a:pt x="366" y="29"/>
                    </a:lnTo>
                    <a:lnTo>
                      <a:pt x="364" y="28"/>
                    </a:lnTo>
                    <a:lnTo>
                      <a:pt x="362" y="27"/>
                    </a:lnTo>
                    <a:lnTo>
                      <a:pt x="361" y="24"/>
                    </a:lnTo>
                    <a:lnTo>
                      <a:pt x="361" y="23"/>
                    </a:lnTo>
                    <a:lnTo>
                      <a:pt x="360" y="22"/>
                    </a:lnTo>
                    <a:lnTo>
                      <a:pt x="359" y="21"/>
                    </a:lnTo>
                    <a:lnTo>
                      <a:pt x="359" y="21"/>
                    </a:lnTo>
                    <a:lnTo>
                      <a:pt x="357" y="21"/>
                    </a:lnTo>
                    <a:lnTo>
                      <a:pt x="356" y="20"/>
                    </a:lnTo>
                    <a:lnTo>
                      <a:pt x="355" y="19"/>
                    </a:lnTo>
                    <a:lnTo>
                      <a:pt x="353" y="17"/>
                    </a:lnTo>
                    <a:lnTo>
                      <a:pt x="353" y="11"/>
                    </a:lnTo>
                    <a:lnTo>
                      <a:pt x="355" y="7"/>
                    </a:lnTo>
                    <a:lnTo>
                      <a:pt x="356" y="3"/>
                    </a:lnTo>
                    <a:lnTo>
                      <a:pt x="357" y="2"/>
                    </a:lnTo>
                    <a:close/>
                    <a:moveTo>
                      <a:pt x="183" y="0"/>
                    </a:moveTo>
                    <a:lnTo>
                      <a:pt x="183" y="0"/>
                    </a:lnTo>
                    <a:lnTo>
                      <a:pt x="184" y="1"/>
                    </a:lnTo>
                    <a:lnTo>
                      <a:pt x="184" y="3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82" y="9"/>
                    </a:lnTo>
                    <a:lnTo>
                      <a:pt x="181" y="10"/>
                    </a:lnTo>
                    <a:lnTo>
                      <a:pt x="181" y="17"/>
                    </a:lnTo>
                    <a:lnTo>
                      <a:pt x="183" y="23"/>
                    </a:lnTo>
                    <a:lnTo>
                      <a:pt x="181" y="29"/>
                    </a:lnTo>
                    <a:lnTo>
                      <a:pt x="179" y="31"/>
                    </a:lnTo>
                    <a:lnTo>
                      <a:pt x="177" y="33"/>
                    </a:lnTo>
                    <a:lnTo>
                      <a:pt x="175" y="34"/>
                    </a:lnTo>
                    <a:lnTo>
                      <a:pt x="173" y="36"/>
                    </a:lnTo>
                    <a:lnTo>
                      <a:pt x="171" y="38"/>
                    </a:lnTo>
                    <a:lnTo>
                      <a:pt x="170" y="41"/>
                    </a:lnTo>
                    <a:lnTo>
                      <a:pt x="167" y="42"/>
                    </a:lnTo>
                    <a:lnTo>
                      <a:pt x="166" y="42"/>
                    </a:lnTo>
                    <a:lnTo>
                      <a:pt x="166" y="43"/>
                    </a:lnTo>
                    <a:lnTo>
                      <a:pt x="165" y="43"/>
                    </a:lnTo>
                    <a:lnTo>
                      <a:pt x="164" y="43"/>
                    </a:lnTo>
                    <a:lnTo>
                      <a:pt x="162" y="42"/>
                    </a:lnTo>
                    <a:lnTo>
                      <a:pt x="160" y="42"/>
                    </a:lnTo>
                    <a:lnTo>
                      <a:pt x="159" y="41"/>
                    </a:lnTo>
                    <a:lnTo>
                      <a:pt x="157" y="39"/>
                    </a:lnTo>
                    <a:lnTo>
                      <a:pt x="159" y="34"/>
                    </a:lnTo>
                    <a:lnTo>
                      <a:pt x="160" y="31"/>
                    </a:lnTo>
                    <a:lnTo>
                      <a:pt x="162" y="29"/>
                    </a:lnTo>
                    <a:lnTo>
                      <a:pt x="164" y="27"/>
                    </a:lnTo>
                    <a:lnTo>
                      <a:pt x="165" y="24"/>
                    </a:lnTo>
                    <a:lnTo>
                      <a:pt x="168" y="22"/>
                    </a:lnTo>
                    <a:lnTo>
                      <a:pt x="171" y="21"/>
                    </a:lnTo>
                    <a:lnTo>
                      <a:pt x="172" y="18"/>
                    </a:lnTo>
                    <a:lnTo>
                      <a:pt x="174" y="16"/>
                    </a:lnTo>
                    <a:lnTo>
                      <a:pt x="174" y="11"/>
                    </a:lnTo>
                    <a:lnTo>
                      <a:pt x="174" y="8"/>
                    </a:lnTo>
                    <a:lnTo>
                      <a:pt x="176" y="5"/>
                    </a:lnTo>
                    <a:lnTo>
                      <a:pt x="178" y="1"/>
                    </a:lnTo>
                    <a:lnTo>
                      <a:pt x="181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3"/>
              <p:cNvSpPr/>
              <p:nvPr/>
            </p:nvSpPr>
            <p:spPr>
              <a:xfrm>
                <a:off x="8353440" y="4860720"/>
                <a:ext cx="557280" cy="37692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739" h="1807">
                    <a:moveTo>
                      <a:pt x="2459" y="188"/>
                    </a:moveTo>
                    <a:lnTo>
                      <a:pt x="2460" y="189"/>
                    </a:lnTo>
                    <a:lnTo>
                      <a:pt x="2461" y="191"/>
                    </a:lnTo>
                    <a:lnTo>
                      <a:pt x="2461" y="196"/>
                    </a:lnTo>
                    <a:lnTo>
                      <a:pt x="2458" y="202"/>
                    </a:lnTo>
                    <a:lnTo>
                      <a:pt x="2456" y="209"/>
                    </a:lnTo>
                    <a:lnTo>
                      <a:pt x="2455" y="215"/>
                    </a:lnTo>
                    <a:lnTo>
                      <a:pt x="2457" y="220"/>
                    </a:lnTo>
                    <a:lnTo>
                      <a:pt x="2459" y="221"/>
                    </a:lnTo>
                    <a:lnTo>
                      <a:pt x="2460" y="221"/>
                    </a:lnTo>
                    <a:lnTo>
                      <a:pt x="2463" y="220"/>
                    </a:lnTo>
                    <a:lnTo>
                      <a:pt x="2464" y="220"/>
                    </a:lnTo>
                    <a:lnTo>
                      <a:pt x="2466" y="220"/>
                    </a:lnTo>
                    <a:lnTo>
                      <a:pt x="2468" y="221"/>
                    </a:lnTo>
                    <a:lnTo>
                      <a:pt x="2470" y="222"/>
                    </a:lnTo>
                    <a:lnTo>
                      <a:pt x="2471" y="223"/>
                    </a:lnTo>
                    <a:lnTo>
                      <a:pt x="2472" y="224"/>
                    </a:lnTo>
                    <a:lnTo>
                      <a:pt x="2472" y="226"/>
                    </a:lnTo>
                    <a:lnTo>
                      <a:pt x="2474" y="229"/>
                    </a:lnTo>
                    <a:lnTo>
                      <a:pt x="2474" y="232"/>
                    </a:lnTo>
                    <a:lnTo>
                      <a:pt x="2472" y="234"/>
                    </a:lnTo>
                    <a:lnTo>
                      <a:pt x="2471" y="237"/>
                    </a:lnTo>
                    <a:lnTo>
                      <a:pt x="2470" y="240"/>
                    </a:lnTo>
                    <a:lnTo>
                      <a:pt x="2469" y="244"/>
                    </a:lnTo>
                    <a:lnTo>
                      <a:pt x="2468" y="247"/>
                    </a:lnTo>
                    <a:lnTo>
                      <a:pt x="2467" y="252"/>
                    </a:lnTo>
                    <a:lnTo>
                      <a:pt x="2466" y="256"/>
                    </a:lnTo>
                    <a:lnTo>
                      <a:pt x="2466" y="258"/>
                    </a:lnTo>
                    <a:lnTo>
                      <a:pt x="2465" y="261"/>
                    </a:lnTo>
                    <a:lnTo>
                      <a:pt x="2465" y="263"/>
                    </a:lnTo>
                    <a:lnTo>
                      <a:pt x="2466" y="265"/>
                    </a:lnTo>
                    <a:lnTo>
                      <a:pt x="2468" y="266"/>
                    </a:lnTo>
                    <a:lnTo>
                      <a:pt x="2470" y="267"/>
                    </a:lnTo>
                    <a:lnTo>
                      <a:pt x="2472" y="269"/>
                    </a:lnTo>
                    <a:lnTo>
                      <a:pt x="2472" y="270"/>
                    </a:lnTo>
                    <a:lnTo>
                      <a:pt x="2472" y="272"/>
                    </a:lnTo>
                    <a:lnTo>
                      <a:pt x="2474" y="274"/>
                    </a:lnTo>
                    <a:lnTo>
                      <a:pt x="2474" y="277"/>
                    </a:lnTo>
                    <a:lnTo>
                      <a:pt x="2474" y="280"/>
                    </a:lnTo>
                    <a:lnTo>
                      <a:pt x="2475" y="283"/>
                    </a:lnTo>
                    <a:lnTo>
                      <a:pt x="2475" y="284"/>
                    </a:lnTo>
                    <a:lnTo>
                      <a:pt x="2476" y="286"/>
                    </a:lnTo>
                    <a:lnTo>
                      <a:pt x="2476" y="287"/>
                    </a:lnTo>
                    <a:lnTo>
                      <a:pt x="2476" y="289"/>
                    </a:lnTo>
                    <a:lnTo>
                      <a:pt x="2477" y="291"/>
                    </a:lnTo>
                    <a:lnTo>
                      <a:pt x="2477" y="295"/>
                    </a:lnTo>
                    <a:lnTo>
                      <a:pt x="2477" y="297"/>
                    </a:lnTo>
                    <a:lnTo>
                      <a:pt x="2477" y="299"/>
                    </a:lnTo>
                    <a:lnTo>
                      <a:pt x="2478" y="300"/>
                    </a:lnTo>
                    <a:lnTo>
                      <a:pt x="2479" y="302"/>
                    </a:lnTo>
                    <a:lnTo>
                      <a:pt x="2480" y="305"/>
                    </a:lnTo>
                    <a:lnTo>
                      <a:pt x="2481" y="307"/>
                    </a:lnTo>
                    <a:lnTo>
                      <a:pt x="2482" y="308"/>
                    </a:lnTo>
                    <a:lnTo>
                      <a:pt x="2482" y="309"/>
                    </a:lnTo>
                    <a:lnTo>
                      <a:pt x="2483" y="313"/>
                    </a:lnTo>
                    <a:lnTo>
                      <a:pt x="2485" y="318"/>
                    </a:lnTo>
                    <a:lnTo>
                      <a:pt x="2487" y="322"/>
                    </a:lnTo>
                    <a:lnTo>
                      <a:pt x="2489" y="331"/>
                    </a:lnTo>
                    <a:lnTo>
                      <a:pt x="2491" y="341"/>
                    </a:lnTo>
                    <a:lnTo>
                      <a:pt x="2493" y="344"/>
                    </a:lnTo>
                    <a:lnTo>
                      <a:pt x="2494" y="347"/>
                    </a:lnTo>
                    <a:lnTo>
                      <a:pt x="2497" y="352"/>
                    </a:lnTo>
                    <a:lnTo>
                      <a:pt x="2500" y="358"/>
                    </a:lnTo>
                    <a:lnTo>
                      <a:pt x="2500" y="366"/>
                    </a:lnTo>
                    <a:lnTo>
                      <a:pt x="2499" y="376"/>
                    </a:lnTo>
                    <a:lnTo>
                      <a:pt x="2497" y="382"/>
                    </a:lnTo>
                    <a:lnTo>
                      <a:pt x="2496" y="387"/>
                    </a:lnTo>
                    <a:lnTo>
                      <a:pt x="2494" y="394"/>
                    </a:lnTo>
                    <a:lnTo>
                      <a:pt x="2494" y="397"/>
                    </a:lnTo>
                    <a:lnTo>
                      <a:pt x="2494" y="399"/>
                    </a:lnTo>
                    <a:lnTo>
                      <a:pt x="2493" y="400"/>
                    </a:lnTo>
                    <a:lnTo>
                      <a:pt x="2492" y="401"/>
                    </a:lnTo>
                    <a:lnTo>
                      <a:pt x="2491" y="403"/>
                    </a:lnTo>
                    <a:lnTo>
                      <a:pt x="2489" y="405"/>
                    </a:lnTo>
                    <a:lnTo>
                      <a:pt x="2488" y="405"/>
                    </a:lnTo>
                    <a:lnTo>
                      <a:pt x="2487" y="404"/>
                    </a:lnTo>
                    <a:lnTo>
                      <a:pt x="2486" y="403"/>
                    </a:lnTo>
                    <a:lnTo>
                      <a:pt x="2485" y="400"/>
                    </a:lnTo>
                    <a:lnTo>
                      <a:pt x="2480" y="400"/>
                    </a:lnTo>
                    <a:lnTo>
                      <a:pt x="2480" y="401"/>
                    </a:lnTo>
                    <a:lnTo>
                      <a:pt x="2480" y="401"/>
                    </a:lnTo>
                    <a:lnTo>
                      <a:pt x="2479" y="403"/>
                    </a:lnTo>
                    <a:lnTo>
                      <a:pt x="2478" y="403"/>
                    </a:lnTo>
                    <a:lnTo>
                      <a:pt x="2477" y="405"/>
                    </a:lnTo>
                    <a:lnTo>
                      <a:pt x="2474" y="405"/>
                    </a:lnTo>
                    <a:lnTo>
                      <a:pt x="2471" y="405"/>
                    </a:lnTo>
                    <a:lnTo>
                      <a:pt x="2470" y="405"/>
                    </a:lnTo>
                    <a:lnTo>
                      <a:pt x="2467" y="406"/>
                    </a:lnTo>
                    <a:lnTo>
                      <a:pt x="2465" y="407"/>
                    </a:lnTo>
                    <a:lnTo>
                      <a:pt x="2463" y="409"/>
                    </a:lnTo>
                    <a:lnTo>
                      <a:pt x="2461" y="411"/>
                    </a:lnTo>
                    <a:lnTo>
                      <a:pt x="2459" y="414"/>
                    </a:lnTo>
                    <a:lnTo>
                      <a:pt x="2457" y="415"/>
                    </a:lnTo>
                    <a:lnTo>
                      <a:pt x="2455" y="416"/>
                    </a:lnTo>
                    <a:lnTo>
                      <a:pt x="2453" y="417"/>
                    </a:lnTo>
                    <a:lnTo>
                      <a:pt x="2450" y="418"/>
                    </a:lnTo>
                    <a:lnTo>
                      <a:pt x="2448" y="418"/>
                    </a:lnTo>
                    <a:lnTo>
                      <a:pt x="2447" y="417"/>
                    </a:lnTo>
                    <a:lnTo>
                      <a:pt x="2445" y="412"/>
                    </a:lnTo>
                    <a:lnTo>
                      <a:pt x="2447" y="407"/>
                    </a:lnTo>
                    <a:lnTo>
                      <a:pt x="2450" y="403"/>
                    </a:lnTo>
                    <a:lnTo>
                      <a:pt x="2455" y="398"/>
                    </a:lnTo>
                    <a:lnTo>
                      <a:pt x="2457" y="396"/>
                    </a:lnTo>
                    <a:lnTo>
                      <a:pt x="2459" y="393"/>
                    </a:lnTo>
                    <a:lnTo>
                      <a:pt x="2463" y="387"/>
                    </a:lnTo>
                    <a:lnTo>
                      <a:pt x="2464" y="382"/>
                    </a:lnTo>
                    <a:lnTo>
                      <a:pt x="2461" y="376"/>
                    </a:lnTo>
                    <a:lnTo>
                      <a:pt x="2461" y="376"/>
                    </a:lnTo>
                    <a:lnTo>
                      <a:pt x="2460" y="377"/>
                    </a:lnTo>
                    <a:lnTo>
                      <a:pt x="2459" y="377"/>
                    </a:lnTo>
                    <a:lnTo>
                      <a:pt x="2458" y="377"/>
                    </a:lnTo>
                    <a:lnTo>
                      <a:pt x="2457" y="376"/>
                    </a:lnTo>
                    <a:lnTo>
                      <a:pt x="2457" y="369"/>
                    </a:lnTo>
                    <a:lnTo>
                      <a:pt x="2456" y="367"/>
                    </a:lnTo>
                    <a:lnTo>
                      <a:pt x="2455" y="366"/>
                    </a:lnTo>
                    <a:lnTo>
                      <a:pt x="2455" y="364"/>
                    </a:lnTo>
                    <a:lnTo>
                      <a:pt x="2455" y="363"/>
                    </a:lnTo>
                    <a:lnTo>
                      <a:pt x="2455" y="360"/>
                    </a:lnTo>
                    <a:lnTo>
                      <a:pt x="2455" y="356"/>
                    </a:lnTo>
                    <a:lnTo>
                      <a:pt x="2455" y="354"/>
                    </a:lnTo>
                    <a:lnTo>
                      <a:pt x="2454" y="351"/>
                    </a:lnTo>
                    <a:lnTo>
                      <a:pt x="2453" y="347"/>
                    </a:lnTo>
                    <a:lnTo>
                      <a:pt x="2452" y="343"/>
                    </a:lnTo>
                    <a:lnTo>
                      <a:pt x="2452" y="339"/>
                    </a:lnTo>
                    <a:lnTo>
                      <a:pt x="2452" y="334"/>
                    </a:lnTo>
                    <a:lnTo>
                      <a:pt x="2452" y="333"/>
                    </a:lnTo>
                    <a:lnTo>
                      <a:pt x="2453" y="335"/>
                    </a:lnTo>
                    <a:lnTo>
                      <a:pt x="2454" y="336"/>
                    </a:lnTo>
                    <a:lnTo>
                      <a:pt x="2456" y="339"/>
                    </a:lnTo>
                    <a:lnTo>
                      <a:pt x="2457" y="341"/>
                    </a:lnTo>
                    <a:lnTo>
                      <a:pt x="2458" y="343"/>
                    </a:lnTo>
                    <a:lnTo>
                      <a:pt x="2460" y="343"/>
                    </a:lnTo>
                    <a:lnTo>
                      <a:pt x="2461" y="343"/>
                    </a:lnTo>
                    <a:lnTo>
                      <a:pt x="2463" y="340"/>
                    </a:lnTo>
                    <a:lnTo>
                      <a:pt x="2463" y="336"/>
                    </a:lnTo>
                    <a:lnTo>
                      <a:pt x="2463" y="333"/>
                    </a:lnTo>
                    <a:lnTo>
                      <a:pt x="2461" y="330"/>
                    </a:lnTo>
                    <a:lnTo>
                      <a:pt x="2461" y="327"/>
                    </a:lnTo>
                    <a:lnTo>
                      <a:pt x="2463" y="324"/>
                    </a:lnTo>
                    <a:lnTo>
                      <a:pt x="2463" y="323"/>
                    </a:lnTo>
                    <a:lnTo>
                      <a:pt x="2463" y="322"/>
                    </a:lnTo>
                    <a:lnTo>
                      <a:pt x="2463" y="320"/>
                    </a:lnTo>
                    <a:lnTo>
                      <a:pt x="2461" y="318"/>
                    </a:lnTo>
                    <a:lnTo>
                      <a:pt x="2461" y="317"/>
                    </a:lnTo>
                    <a:lnTo>
                      <a:pt x="2461" y="314"/>
                    </a:lnTo>
                    <a:lnTo>
                      <a:pt x="2460" y="312"/>
                    </a:lnTo>
                    <a:lnTo>
                      <a:pt x="2459" y="309"/>
                    </a:lnTo>
                    <a:lnTo>
                      <a:pt x="2459" y="308"/>
                    </a:lnTo>
                    <a:lnTo>
                      <a:pt x="2459" y="306"/>
                    </a:lnTo>
                    <a:lnTo>
                      <a:pt x="2459" y="303"/>
                    </a:lnTo>
                    <a:lnTo>
                      <a:pt x="2459" y="301"/>
                    </a:lnTo>
                    <a:lnTo>
                      <a:pt x="2459" y="299"/>
                    </a:lnTo>
                    <a:lnTo>
                      <a:pt x="2458" y="298"/>
                    </a:lnTo>
                    <a:lnTo>
                      <a:pt x="2457" y="298"/>
                    </a:lnTo>
                    <a:lnTo>
                      <a:pt x="2455" y="298"/>
                    </a:lnTo>
                    <a:lnTo>
                      <a:pt x="2455" y="299"/>
                    </a:lnTo>
                    <a:lnTo>
                      <a:pt x="2454" y="299"/>
                    </a:lnTo>
                    <a:lnTo>
                      <a:pt x="2452" y="300"/>
                    </a:lnTo>
                    <a:lnTo>
                      <a:pt x="2450" y="301"/>
                    </a:lnTo>
                    <a:lnTo>
                      <a:pt x="2449" y="300"/>
                    </a:lnTo>
                    <a:lnTo>
                      <a:pt x="2447" y="298"/>
                    </a:lnTo>
                    <a:lnTo>
                      <a:pt x="2447" y="296"/>
                    </a:lnTo>
                    <a:lnTo>
                      <a:pt x="2447" y="294"/>
                    </a:lnTo>
                    <a:lnTo>
                      <a:pt x="2448" y="291"/>
                    </a:lnTo>
                    <a:lnTo>
                      <a:pt x="2449" y="290"/>
                    </a:lnTo>
                    <a:lnTo>
                      <a:pt x="2449" y="288"/>
                    </a:lnTo>
                    <a:lnTo>
                      <a:pt x="2452" y="285"/>
                    </a:lnTo>
                    <a:lnTo>
                      <a:pt x="2450" y="283"/>
                    </a:lnTo>
                    <a:lnTo>
                      <a:pt x="2450" y="281"/>
                    </a:lnTo>
                    <a:lnTo>
                      <a:pt x="2449" y="279"/>
                    </a:lnTo>
                    <a:lnTo>
                      <a:pt x="2449" y="276"/>
                    </a:lnTo>
                    <a:lnTo>
                      <a:pt x="2448" y="274"/>
                    </a:lnTo>
                    <a:lnTo>
                      <a:pt x="2448" y="272"/>
                    </a:lnTo>
                    <a:lnTo>
                      <a:pt x="2447" y="272"/>
                    </a:lnTo>
                    <a:lnTo>
                      <a:pt x="2446" y="272"/>
                    </a:lnTo>
                    <a:lnTo>
                      <a:pt x="2445" y="270"/>
                    </a:lnTo>
                    <a:lnTo>
                      <a:pt x="2444" y="270"/>
                    </a:lnTo>
                    <a:lnTo>
                      <a:pt x="2444" y="269"/>
                    </a:lnTo>
                    <a:lnTo>
                      <a:pt x="2443" y="267"/>
                    </a:lnTo>
                    <a:lnTo>
                      <a:pt x="2443" y="265"/>
                    </a:lnTo>
                    <a:lnTo>
                      <a:pt x="2443" y="262"/>
                    </a:lnTo>
                    <a:lnTo>
                      <a:pt x="2444" y="259"/>
                    </a:lnTo>
                    <a:lnTo>
                      <a:pt x="2445" y="257"/>
                    </a:lnTo>
                    <a:lnTo>
                      <a:pt x="2445" y="256"/>
                    </a:lnTo>
                    <a:lnTo>
                      <a:pt x="2443" y="254"/>
                    </a:lnTo>
                    <a:lnTo>
                      <a:pt x="2442" y="254"/>
                    </a:lnTo>
                    <a:lnTo>
                      <a:pt x="2441" y="254"/>
                    </a:lnTo>
                    <a:lnTo>
                      <a:pt x="2439" y="252"/>
                    </a:lnTo>
                    <a:lnTo>
                      <a:pt x="2438" y="249"/>
                    </a:lnTo>
                    <a:lnTo>
                      <a:pt x="2438" y="246"/>
                    </a:lnTo>
                    <a:lnTo>
                      <a:pt x="2438" y="244"/>
                    </a:lnTo>
                    <a:lnTo>
                      <a:pt x="2439" y="242"/>
                    </a:lnTo>
                    <a:lnTo>
                      <a:pt x="2441" y="240"/>
                    </a:lnTo>
                    <a:lnTo>
                      <a:pt x="2441" y="237"/>
                    </a:lnTo>
                    <a:lnTo>
                      <a:pt x="2441" y="236"/>
                    </a:lnTo>
                    <a:lnTo>
                      <a:pt x="2439" y="235"/>
                    </a:lnTo>
                    <a:lnTo>
                      <a:pt x="2438" y="233"/>
                    </a:lnTo>
                    <a:lnTo>
                      <a:pt x="2438" y="232"/>
                    </a:lnTo>
                    <a:lnTo>
                      <a:pt x="2439" y="229"/>
                    </a:lnTo>
                    <a:lnTo>
                      <a:pt x="2439" y="226"/>
                    </a:lnTo>
                    <a:lnTo>
                      <a:pt x="2441" y="224"/>
                    </a:lnTo>
                    <a:lnTo>
                      <a:pt x="2441" y="222"/>
                    </a:lnTo>
                    <a:lnTo>
                      <a:pt x="2441" y="219"/>
                    </a:lnTo>
                    <a:lnTo>
                      <a:pt x="2442" y="215"/>
                    </a:lnTo>
                    <a:lnTo>
                      <a:pt x="2443" y="211"/>
                    </a:lnTo>
                    <a:lnTo>
                      <a:pt x="2443" y="207"/>
                    </a:lnTo>
                    <a:lnTo>
                      <a:pt x="2443" y="201"/>
                    </a:lnTo>
                    <a:lnTo>
                      <a:pt x="2445" y="194"/>
                    </a:lnTo>
                    <a:lnTo>
                      <a:pt x="2447" y="189"/>
                    </a:lnTo>
                    <a:lnTo>
                      <a:pt x="2448" y="191"/>
                    </a:lnTo>
                    <a:lnTo>
                      <a:pt x="2450" y="193"/>
                    </a:lnTo>
                    <a:lnTo>
                      <a:pt x="2452" y="193"/>
                    </a:lnTo>
                    <a:lnTo>
                      <a:pt x="2453" y="192"/>
                    </a:lnTo>
                    <a:lnTo>
                      <a:pt x="2455" y="191"/>
                    </a:lnTo>
                    <a:lnTo>
                      <a:pt x="2456" y="190"/>
                    </a:lnTo>
                    <a:lnTo>
                      <a:pt x="2457" y="189"/>
                    </a:lnTo>
                    <a:lnTo>
                      <a:pt x="2458" y="188"/>
                    </a:lnTo>
                    <a:lnTo>
                      <a:pt x="2459" y="188"/>
                    </a:lnTo>
                    <a:close/>
                    <a:moveTo>
                      <a:pt x="1310" y="180"/>
                    </a:moveTo>
                    <a:lnTo>
                      <a:pt x="1312" y="181"/>
                    </a:lnTo>
                    <a:lnTo>
                      <a:pt x="1313" y="182"/>
                    </a:lnTo>
                    <a:lnTo>
                      <a:pt x="1313" y="185"/>
                    </a:lnTo>
                    <a:lnTo>
                      <a:pt x="1314" y="187"/>
                    </a:lnTo>
                    <a:lnTo>
                      <a:pt x="1313" y="188"/>
                    </a:lnTo>
                    <a:lnTo>
                      <a:pt x="1312" y="188"/>
                    </a:lnTo>
                    <a:lnTo>
                      <a:pt x="1310" y="188"/>
                    </a:lnTo>
                    <a:lnTo>
                      <a:pt x="1308" y="187"/>
                    </a:lnTo>
                    <a:lnTo>
                      <a:pt x="1307" y="185"/>
                    </a:lnTo>
                    <a:lnTo>
                      <a:pt x="1307" y="182"/>
                    </a:lnTo>
                    <a:lnTo>
                      <a:pt x="1308" y="181"/>
                    </a:lnTo>
                    <a:lnTo>
                      <a:pt x="1310" y="180"/>
                    </a:lnTo>
                    <a:close/>
                    <a:moveTo>
                      <a:pt x="2459" y="171"/>
                    </a:moveTo>
                    <a:lnTo>
                      <a:pt x="2460" y="171"/>
                    </a:lnTo>
                    <a:lnTo>
                      <a:pt x="2461" y="171"/>
                    </a:lnTo>
                    <a:lnTo>
                      <a:pt x="2461" y="172"/>
                    </a:lnTo>
                    <a:lnTo>
                      <a:pt x="2463" y="175"/>
                    </a:lnTo>
                    <a:lnTo>
                      <a:pt x="2464" y="177"/>
                    </a:lnTo>
                    <a:lnTo>
                      <a:pt x="2464" y="179"/>
                    </a:lnTo>
                    <a:lnTo>
                      <a:pt x="2463" y="181"/>
                    </a:lnTo>
                    <a:lnTo>
                      <a:pt x="2461" y="182"/>
                    </a:lnTo>
                    <a:lnTo>
                      <a:pt x="2461" y="185"/>
                    </a:lnTo>
                    <a:lnTo>
                      <a:pt x="2460" y="185"/>
                    </a:lnTo>
                    <a:lnTo>
                      <a:pt x="2460" y="183"/>
                    </a:lnTo>
                    <a:lnTo>
                      <a:pt x="2458" y="182"/>
                    </a:lnTo>
                    <a:lnTo>
                      <a:pt x="2458" y="180"/>
                    </a:lnTo>
                    <a:lnTo>
                      <a:pt x="2457" y="178"/>
                    </a:lnTo>
                    <a:lnTo>
                      <a:pt x="2457" y="175"/>
                    </a:lnTo>
                    <a:lnTo>
                      <a:pt x="2457" y="172"/>
                    </a:lnTo>
                    <a:lnTo>
                      <a:pt x="2458" y="171"/>
                    </a:lnTo>
                    <a:lnTo>
                      <a:pt x="2459" y="171"/>
                    </a:lnTo>
                    <a:close/>
                    <a:moveTo>
                      <a:pt x="39" y="155"/>
                    </a:moveTo>
                    <a:lnTo>
                      <a:pt x="42" y="155"/>
                    </a:lnTo>
                    <a:lnTo>
                      <a:pt x="43" y="156"/>
                    </a:lnTo>
                    <a:lnTo>
                      <a:pt x="44" y="158"/>
                    </a:lnTo>
                    <a:lnTo>
                      <a:pt x="43" y="161"/>
                    </a:lnTo>
                    <a:lnTo>
                      <a:pt x="42" y="164"/>
                    </a:lnTo>
                    <a:lnTo>
                      <a:pt x="41" y="167"/>
                    </a:lnTo>
                    <a:lnTo>
                      <a:pt x="39" y="169"/>
                    </a:lnTo>
                    <a:lnTo>
                      <a:pt x="38" y="171"/>
                    </a:lnTo>
                    <a:lnTo>
                      <a:pt x="37" y="174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5" y="172"/>
                    </a:lnTo>
                    <a:lnTo>
                      <a:pt x="34" y="170"/>
                    </a:lnTo>
                    <a:lnTo>
                      <a:pt x="34" y="168"/>
                    </a:lnTo>
                    <a:lnTo>
                      <a:pt x="33" y="167"/>
                    </a:lnTo>
                    <a:lnTo>
                      <a:pt x="32" y="166"/>
                    </a:lnTo>
                    <a:lnTo>
                      <a:pt x="31" y="165"/>
                    </a:lnTo>
                    <a:lnTo>
                      <a:pt x="31" y="161"/>
                    </a:lnTo>
                    <a:lnTo>
                      <a:pt x="31" y="159"/>
                    </a:lnTo>
                    <a:lnTo>
                      <a:pt x="32" y="157"/>
                    </a:lnTo>
                    <a:lnTo>
                      <a:pt x="34" y="156"/>
                    </a:lnTo>
                    <a:lnTo>
                      <a:pt x="37" y="155"/>
                    </a:lnTo>
                    <a:lnTo>
                      <a:pt x="39" y="155"/>
                    </a:lnTo>
                    <a:close/>
                    <a:moveTo>
                      <a:pt x="2476" y="134"/>
                    </a:moveTo>
                    <a:lnTo>
                      <a:pt x="2477" y="134"/>
                    </a:lnTo>
                    <a:lnTo>
                      <a:pt x="2479" y="134"/>
                    </a:lnTo>
                    <a:lnTo>
                      <a:pt x="2481" y="134"/>
                    </a:lnTo>
                    <a:lnTo>
                      <a:pt x="2482" y="135"/>
                    </a:lnTo>
                    <a:lnTo>
                      <a:pt x="2482" y="137"/>
                    </a:lnTo>
                    <a:lnTo>
                      <a:pt x="2482" y="139"/>
                    </a:lnTo>
                    <a:lnTo>
                      <a:pt x="2481" y="143"/>
                    </a:lnTo>
                    <a:lnTo>
                      <a:pt x="2480" y="146"/>
                    </a:lnTo>
                    <a:lnTo>
                      <a:pt x="2479" y="148"/>
                    </a:lnTo>
                    <a:lnTo>
                      <a:pt x="2478" y="150"/>
                    </a:lnTo>
                    <a:lnTo>
                      <a:pt x="2477" y="150"/>
                    </a:lnTo>
                    <a:lnTo>
                      <a:pt x="2477" y="148"/>
                    </a:lnTo>
                    <a:lnTo>
                      <a:pt x="2476" y="146"/>
                    </a:lnTo>
                    <a:lnTo>
                      <a:pt x="2475" y="143"/>
                    </a:lnTo>
                    <a:lnTo>
                      <a:pt x="2475" y="139"/>
                    </a:lnTo>
                    <a:lnTo>
                      <a:pt x="2475" y="136"/>
                    </a:lnTo>
                    <a:lnTo>
                      <a:pt x="2475" y="134"/>
                    </a:lnTo>
                    <a:lnTo>
                      <a:pt x="2476" y="134"/>
                    </a:lnTo>
                    <a:close/>
                    <a:moveTo>
                      <a:pt x="2704" y="125"/>
                    </a:moveTo>
                    <a:lnTo>
                      <a:pt x="2701" y="126"/>
                    </a:lnTo>
                    <a:lnTo>
                      <a:pt x="2701" y="129"/>
                    </a:lnTo>
                    <a:lnTo>
                      <a:pt x="2703" y="135"/>
                    </a:lnTo>
                    <a:lnTo>
                      <a:pt x="2704" y="141"/>
                    </a:lnTo>
                    <a:lnTo>
                      <a:pt x="2704" y="145"/>
                    </a:lnTo>
                    <a:lnTo>
                      <a:pt x="2706" y="149"/>
                    </a:lnTo>
                    <a:lnTo>
                      <a:pt x="2708" y="154"/>
                    </a:lnTo>
                    <a:lnTo>
                      <a:pt x="2708" y="158"/>
                    </a:lnTo>
                    <a:lnTo>
                      <a:pt x="2709" y="161"/>
                    </a:lnTo>
                    <a:lnTo>
                      <a:pt x="2709" y="165"/>
                    </a:lnTo>
                    <a:lnTo>
                      <a:pt x="2709" y="168"/>
                    </a:lnTo>
                    <a:lnTo>
                      <a:pt x="2710" y="171"/>
                    </a:lnTo>
                    <a:lnTo>
                      <a:pt x="2711" y="172"/>
                    </a:lnTo>
                    <a:lnTo>
                      <a:pt x="2714" y="174"/>
                    </a:lnTo>
                    <a:lnTo>
                      <a:pt x="2715" y="172"/>
                    </a:lnTo>
                    <a:lnTo>
                      <a:pt x="2716" y="171"/>
                    </a:lnTo>
                    <a:lnTo>
                      <a:pt x="2717" y="170"/>
                    </a:lnTo>
                    <a:lnTo>
                      <a:pt x="2717" y="169"/>
                    </a:lnTo>
                    <a:lnTo>
                      <a:pt x="2717" y="167"/>
                    </a:lnTo>
                    <a:lnTo>
                      <a:pt x="2717" y="165"/>
                    </a:lnTo>
                    <a:lnTo>
                      <a:pt x="2718" y="163"/>
                    </a:lnTo>
                    <a:lnTo>
                      <a:pt x="2719" y="160"/>
                    </a:lnTo>
                    <a:lnTo>
                      <a:pt x="2719" y="154"/>
                    </a:lnTo>
                    <a:lnTo>
                      <a:pt x="2720" y="152"/>
                    </a:lnTo>
                    <a:lnTo>
                      <a:pt x="2720" y="149"/>
                    </a:lnTo>
                    <a:lnTo>
                      <a:pt x="2720" y="147"/>
                    </a:lnTo>
                    <a:lnTo>
                      <a:pt x="2719" y="145"/>
                    </a:lnTo>
                    <a:lnTo>
                      <a:pt x="2719" y="143"/>
                    </a:lnTo>
                    <a:lnTo>
                      <a:pt x="2718" y="142"/>
                    </a:lnTo>
                    <a:lnTo>
                      <a:pt x="2716" y="141"/>
                    </a:lnTo>
                    <a:lnTo>
                      <a:pt x="2715" y="138"/>
                    </a:lnTo>
                    <a:lnTo>
                      <a:pt x="2712" y="136"/>
                    </a:lnTo>
                    <a:lnTo>
                      <a:pt x="2712" y="134"/>
                    </a:lnTo>
                    <a:lnTo>
                      <a:pt x="2712" y="132"/>
                    </a:lnTo>
                    <a:lnTo>
                      <a:pt x="2711" y="129"/>
                    </a:lnTo>
                    <a:lnTo>
                      <a:pt x="2710" y="127"/>
                    </a:lnTo>
                    <a:lnTo>
                      <a:pt x="2708" y="127"/>
                    </a:lnTo>
                    <a:lnTo>
                      <a:pt x="2706" y="126"/>
                    </a:lnTo>
                    <a:lnTo>
                      <a:pt x="2704" y="125"/>
                    </a:lnTo>
                    <a:close/>
                    <a:moveTo>
                      <a:pt x="731" y="113"/>
                    </a:moveTo>
                    <a:lnTo>
                      <a:pt x="729" y="113"/>
                    </a:lnTo>
                    <a:lnTo>
                      <a:pt x="728" y="115"/>
                    </a:lnTo>
                    <a:lnTo>
                      <a:pt x="725" y="118"/>
                    </a:lnTo>
                    <a:lnTo>
                      <a:pt x="719" y="127"/>
                    </a:lnTo>
                    <a:lnTo>
                      <a:pt x="712" y="134"/>
                    </a:lnTo>
                    <a:lnTo>
                      <a:pt x="707" y="141"/>
                    </a:lnTo>
                    <a:lnTo>
                      <a:pt x="703" y="149"/>
                    </a:lnTo>
                    <a:lnTo>
                      <a:pt x="703" y="153"/>
                    </a:lnTo>
                    <a:lnTo>
                      <a:pt x="703" y="154"/>
                    </a:lnTo>
                    <a:lnTo>
                      <a:pt x="703" y="155"/>
                    </a:lnTo>
                    <a:lnTo>
                      <a:pt x="704" y="155"/>
                    </a:lnTo>
                    <a:lnTo>
                      <a:pt x="706" y="154"/>
                    </a:lnTo>
                    <a:lnTo>
                      <a:pt x="707" y="153"/>
                    </a:lnTo>
                    <a:lnTo>
                      <a:pt x="708" y="152"/>
                    </a:lnTo>
                    <a:lnTo>
                      <a:pt x="709" y="149"/>
                    </a:lnTo>
                    <a:lnTo>
                      <a:pt x="710" y="148"/>
                    </a:lnTo>
                    <a:lnTo>
                      <a:pt x="711" y="146"/>
                    </a:lnTo>
                    <a:lnTo>
                      <a:pt x="712" y="145"/>
                    </a:lnTo>
                    <a:lnTo>
                      <a:pt x="717" y="142"/>
                    </a:lnTo>
                    <a:lnTo>
                      <a:pt x="722" y="139"/>
                    </a:lnTo>
                    <a:lnTo>
                      <a:pt x="728" y="139"/>
                    </a:lnTo>
                    <a:lnTo>
                      <a:pt x="733" y="137"/>
                    </a:lnTo>
                    <a:lnTo>
                      <a:pt x="736" y="134"/>
                    </a:lnTo>
                    <a:lnTo>
                      <a:pt x="737" y="131"/>
                    </a:lnTo>
                    <a:lnTo>
                      <a:pt x="739" y="127"/>
                    </a:lnTo>
                    <a:lnTo>
                      <a:pt x="739" y="124"/>
                    </a:lnTo>
                    <a:lnTo>
                      <a:pt x="737" y="121"/>
                    </a:lnTo>
                    <a:lnTo>
                      <a:pt x="736" y="117"/>
                    </a:lnTo>
                    <a:lnTo>
                      <a:pt x="735" y="115"/>
                    </a:lnTo>
                    <a:lnTo>
                      <a:pt x="733" y="113"/>
                    </a:lnTo>
                    <a:lnTo>
                      <a:pt x="731" y="113"/>
                    </a:lnTo>
                    <a:close/>
                    <a:moveTo>
                      <a:pt x="2728" y="103"/>
                    </a:moveTo>
                    <a:lnTo>
                      <a:pt x="2727" y="104"/>
                    </a:lnTo>
                    <a:lnTo>
                      <a:pt x="2726" y="105"/>
                    </a:lnTo>
                    <a:lnTo>
                      <a:pt x="2726" y="118"/>
                    </a:lnTo>
                    <a:lnTo>
                      <a:pt x="2726" y="121"/>
                    </a:lnTo>
                    <a:lnTo>
                      <a:pt x="2726" y="123"/>
                    </a:lnTo>
                    <a:lnTo>
                      <a:pt x="2727" y="125"/>
                    </a:lnTo>
                    <a:lnTo>
                      <a:pt x="2728" y="127"/>
                    </a:lnTo>
                    <a:lnTo>
                      <a:pt x="2728" y="131"/>
                    </a:lnTo>
                    <a:lnTo>
                      <a:pt x="2729" y="133"/>
                    </a:lnTo>
                    <a:lnTo>
                      <a:pt x="2731" y="135"/>
                    </a:lnTo>
                    <a:lnTo>
                      <a:pt x="2732" y="138"/>
                    </a:lnTo>
                    <a:lnTo>
                      <a:pt x="2733" y="142"/>
                    </a:lnTo>
                    <a:lnTo>
                      <a:pt x="2734" y="144"/>
                    </a:lnTo>
                    <a:lnTo>
                      <a:pt x="2736" y="146"/>
                    </a:lnTo>
                    <a:lnTo>
                      <a:pt x="2737" y="149"/>
                    </a:lnTo>
                    <a:lnTo>
                      <a:pt x="2737" y="149"/>
                    </a:lnTo>
                    <a:lnTo>
                      <a:pt x="2737" y="148"/>
                    </a:lnTo>
                    <a:lnTo>
                      <a:pt x="2738" y="147"/>
                    </a:lnTo>
                    <a:lnTo>
                      <a:pt x="2739" y="147"/>
                    </a:lnTo>
                    <a:lnTo>
                      <a:pt x="2739" y="143"/>
                    </a:lnTo>
                    <a:lnTo>
                      <a:pt x="2738" y="138"/>
                    </a:lnTo>
                    <a:lnTo>
                      <a:pt x="2737" y="134"/>
                    </a:lnTo>
                    <a:lnTo>
                      <a:pt x="2736" y="129"/>
                    </a:lnTo>
                    <a:lnTo>
                      <a:pt x="2734" y="125"/>
                    </a:lnTo>
                    <a:lnTo>
                      <a:pt x="2734" y="121"/>
                    </a:lnTo>
                    <a:lnTo>
                      <a:pt x="2734" y="120"/>
                    </a:lnTo>
                    <a:lnTo>
                      <a:pt x="2733" y="116"/>
                    </a:lnTo>
                    <a:lnTo>
                      <a:pt x="2732" y="114"/>
                    </a:lnTo>
                    <a:lnTo>
                      <a:pt x="2731" y="111"/>
                    </a:lnTo>
                    <a:lnTo>
                      <a:pt x="2730" y="109"/>
                    </a:lnTo>
                    <a:lnTo>
                      <a:pt x="2729" y="106"/>
                    </a:lnTo>
                    <a:lnTo>
                      <a:pt x="2728" y="104"/>
                    </a:lnTo>
                    <a:lnTo>
                      <a:pt x="2728" y="103"/>
                    </a:lnTo>
                    <a:close/>
                    <a:moveTo>
                      <a:pt x="1306" y="87"/>
                    </a:moveTo>
                    <a:lnTo>
                      <a:pt x="1308" y="89"/>
                    </a:lnTo>
                    <a:lnTo>
                      <a:pt x="1309" y="91"/>
                    </a:lnTo>
                    <a:lnTo>
                      <a:pt x="1309" y="93"/>
                    </a:lnTo>
                    <a:lnTo>
                      <a:pt x="1308" y="95"/>
                    </a:lnTo>
                    <a:lnTo>
                      <a:pt x="1307" y="98"/>
                    </a:lnTo>
                    <a:lnTo>
                      <a:pt x="1304" y="99"/>
                    </a:lnTo>
                    <a:lnTo>
                      <a:pt x="1302" y="101"/>
                    </a:lnTo>
                    <a:lnTo>
                      <a:pt x="1300" y="102"/>
                    </a:lnTo>
                    <a:lnTo>
                      <a:pt x="1299" y="103"/>
                    </a:lnTo>
                    <a:lnTo>
                      <a:pt x="1292" y="112"/>
                    </a:lnTo>
                    <a:lnTo>
                      <a:pt x="1287" y="122"/>
                    </a:lnTo>
                    <a:lnTo>
                      <a:pt x="1285" y="131"/>
                    </a:lnTo>
                    <a:lnTo>
                      <a:pt x="1282" y="131"/>
                    </a:lnTo>
                    <a:lnTo>
                      <a:pt x="1282" y="126"/>
                    </a:lnTo>
                    <a:lnTo>
                      <a:pt x="1283" y="120"/>
                    </a:lnTo>
                    <a:lnTo>
                      <a:pt x="1285" y="114"/>
                    </a:lnTo>
                    <a:lnTo>
                      <a:pt x="1287" y="109"/>
                    </a:lnTo>
                    <a:lnTo>
                      <a:pt x="1287" y="105"/>
                    </a:lnTo>
                    <a:lnTo>
                      <a:pt x="1289" y="104"/>
                    </a:lnTo>
                    <a:lnTo>
                      <a:pt x="1290" y="102"/>
                    </a:lnTo>
                    <a:lnTo>
                      <a:pt x="1293" y="101"/>
                    </a:lnTo>
                    <a:lnTo>
                      <a:pt x="1296" y="101"/>
                    </a:lnTo>
                    <a:lnTo>
                      <a:pt x="1297" y="100"/>
                    </a:lnTo>
                    <a:lnTo>
                      <a:pt x="1299" y="99"/>
                    </a:lnTo>
                    <a:lnTo>
                      <a:pt x="1300" y="96"/>
                    </a:lnTo>
                    <a:lnTo>
                      <a:pt x="1300" y="94"/>
                    </a:lnTo>
                    <a:lnTo>
                      <a:pt x="1300" y="92"/>
                    </a:lnTo>
                    <a:lnTo>
                      <a:pt x="1300" y="91"/>
                    </a:lnTo>
                    <a:lnTo>
                      <a:pt x="1299" y="90"/>
                    </a:lnTo>
                    <a:lnTo>
                      <a:pt x="1300" y="89"/>
                    </a:lnTo>
                    <a:lnTo>
                      <a:pt x="1301" y="88"/>
                    </a:lnTo>
                    <a:lnTo>
                      <a:pt x="1302" y="88"/>
                    </a:lnTo>
                    <a:lnTo>
                      <a:pt x="1306" y="87"/>
                    </a:lnTo>
                    <a:close/>
                    <a:moveTo>
                      <a:pt x="1540" y="69"/>
                    </a:moveTo>
                    <a:lnTo>
                      <a:pt x="1540" y="69"/>
                    </a:lnTo>
                    <a:lnTo>
                      <a:pt x="1541" y="69"/>
                    </a:lnTo>
                    <a:lnTo>
                      <a:pt x="1541" y="69"/>
                    </a:lnTo>
                    <a:lnTo>
                      <a:pt x="1542" y="69"/>
                    </a:lnTo>
                    <a:lnTo>
                      <a:pt x="1544" y="69"/>
                    </a:lnTo>
                    <a:lnTo>
                      <a:pt x="1547" y="70"/>
                    </a:lnTo>
                    <a:lnTo>
                      <a:pt x="1551" y="70"/>
                    </a:lnTo>
                    <a:lnTo>
                      <a:pt x="1555" y="71"/>
                    </a:lnTo>
                    <a:lnTo>
                      <a:pt x="1555" y="72"/>
                    </a:lnTo>
                    <a:lnTo>
                      <a:pt x="1554" y="74"/>
                    </a:lnTo>
                    <a:lnTo>
                      <a:pt x="1552" y="76"/>
                    </a:lnTo>
                    <a:lnTo>
                      <a:pt x="1550" y="78"/>
                    </a:lnTo>
                    <a:lnTo>
                      <a:pt x="1547" y="78"/>
                    </a:lnTo>
                    <a:lnTo>
                      <a:pt x="1543" y="77"/>
                    </a:lnTo>
                    <a:lnTo>
                      <a:pt x="1541" y="77"/>
                    </a:lnTo>
                    <a:lnTo>
                      <a:pt x="1539" y="76"/>
                    </a:lnTo>
                    <a:lnTo>
                      <a:pt x="1538" y="74"/>
                    </a:lnTo>
                    <a:lnTo>
                      <a:pt x="1538" y="72"/>
                    </a:lnTo>
                    <a:lnTo>
                      <a:pt x="1538" y="72"/>
                    </a:lnTo>
                    <a:lnTo>
                      <a:pt x="1538" y="71"/>
                    </a:lnTo>
                    <a:lnTo>
                      <a:pt x="1538" y="70"/>
                    </a:lnTo>
                    <a:lnTo>
                      <a:pt x="1539" y="69"/>
                    </a:lnTo>
                    <a:lnTo>
                      <a:pt x="1540" y="69"/>
                    </a:lnTo>
                    <a:close/>
                    <a:moveTo>
                      <a:pt x="4" y="51"/>
                    </a:moveTo>
                    <a:lnTo>
                      <a:pt x="5" y="52"/>
                    </a:lnTo>
                    <a:lnTo>
                      <a:pt x="5" y="52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10" y="56"/>
                    </a:lnTo>
                    <a:lnTo>
                      <a:pt x="12" y="57"/>
                    </a:lnTo>
                    <a:lnTo>
                      <a:pt x="13" y="58"/>
                    </a:lnTo>
                    <a:lnTo>
                      <a:pt x="14" y="59"/>
                    </a:lnTo>
                    <a:lnTo>
                      <a:pt x="15" y="61"/>
                    </a:lnTo>
                    <a:lnTo>
                      <a:pt x="17" y="62"/>
                    </a:lnTo>
                    <a:lnTo>
                      <a:pt x="17" y="65"/>
                    </a:lnTo>
                    <a:lnTo>
                      <a:pt x="19" y="65"/>
                    </a:lnTo>
                    <a:lnTo>
                      <a:pt x="20" y="66"/>
                    </a:lnTo>
                    <a:lnTo>
                      <a:pt x="22" y="66"/>
                    </a:lnTo>
                    <a:lnTo>
                      <a:pt x="23" y="67"/>
                    </a:lnTo>
                    <a:lnTo>
                      <a:pt x="23" y="68"/>
                    </a:lnTo>
                    <a:lnTo>
                      <a:pt x="22" y="69"/>
                    </a:lnTo>
                    <a:lnTo>
                      <a:pt x="21" y="70"/>
                    </a:lnTo>
                    <a:lnTo>
                      <a:pt x="19" y="71"/>
                    </a:lnTo>
                    <a:lnTo>
                      <a:pt x="17" y="72"/>
                    </a:lnTo>
                    <a:lnTo>
                      <a:pt x="16" y="74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6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1" y="68"/>
                    </a:lnTo>
                    <a:lnTo>
                      <a:pt x="10" y="67"/>
                    </a:lnTo>
                    <a:lnTo>
                      <a:pt x="8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3" y="70"/>
                    </a:lnTo>
                    <a:lnTo>
                      <a:pt x="1" y="69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3" y="52"/>
                    </a:lnTo>
                    <a:lnTo>
                      <a:pt x="4" y="51"/>
                    </a:lnTo>
                    <a:close/>
                    <a:moveTo>
                      <a:pt x="1602" y="15"/>
                    </a:moveTo>
                    <a:lnTo>
                      <a:pt x="1604" y="15"/>
                    </a:lnTo>
                    <a:lnTo>
                      <a:pt x="1605" y="16"/>
                    </a:lnTo>
                    <a:lnTo>
                      <a:pt x="1607" y="17"/>
                    </a:lnTo>
                    <a:lnTo>
                      <a:pt x="1607" y="19"/>
                    </a:lnTo>
                    <a:lnTo>
                      <a:pt x="1607" y="22"/>
                    </a:lnTo>
                    <a:lnTo>
                      <a:pt x="1606" y="24"/>
                    </a:lnTo>
                    <a:lnTo>
                      <a:pt x="1604" y="25"/>
                    </a:lnTo>
                    <a:lnTo>
                      <a:pt x="1603" y="26"/>
                    </a:lnTo>
                    <a:lnTo>
                      <a:pt x="1601" y="26"/>
                    </a:lnTo>
                    <a:lnTo>
                      <a:pt x="1598" y="26"/>
                    </a:lnTo>
                    <a:lnTo>
                      <a:pt x="1597" y="24"/>
                    </a:lnTo>
                    <a:lnTo>
                      <a:pt x="1596" y="21"/>
                    </a:lnTo>
                    <a:lnTo>
                      <a:pt x="1596" y="18"/>
                    </a:lnTo>
                    <a:lnTo>
                      <a:pt x="1597" y="16"/>
                    </a:lnTo>
                    <a:lnTo>
                      <a:pt x="1599" y="15"/>
                    </a:lnTo>
                    <a:lnTo>
                      <a:pt x="1602" y="15"/>
                    </a:lnTo>
                    <a:close/>
                    <a:moveTo>
                      <a:pt x="90" y="4"/>
                    </a:moveTo>
                    <a:lnTo>
                      <a:pt x="90" y="7"/>
                    </a:lnTo>
                    <a:lnTo>
                      <a:pt x="89" y="8"/>
                    </a:lnTo>
                    <a:lnTo>
                      <a:pt x="88" y="11"/>
                    </a:lnTo>
                    <a:lnTo>
                      <a:pt x="86" y="14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8" y="18"/>
                    </a:lnTo>
                    <a:lnTo>
                      <a:pt x="76" y="21"/>
                    </a:lnTo>
                    <a:lnTo>
                      <a:pt x="74" y="24"/>
                    </a:lnTo>
                    <a:lnTo>
                      <a:pt x="69" y="27"/>
                    </a:lnTo>
                    <a:lnTo>
                      <a:pt x="64" y="27"/>
                    </a:lnTo>
                    <a:lnTo>
                      <a:pt x="59" y="25"/>
                    </a:lnTo>
                    <a:lnTo>
                      <a:pt x="56" y="24"/>
                    </a:lnTo>
                    <a:lnTo>
                      <a:pt x="54" y="25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6" y="17"/>
                    </a:lnTo>
                    <a:lnTo>
                      <a:pt x="45" y="12"/>
                    </a:lnTo>
                    <a:lnTo>
                      <a:pt x="47" y="8"/>
                    </a:lnTo>
                    <a:lnTo>
                      <a:pt x="68" y="5"/>
                    </a:lnTo>
                    <a:lnTo>
                      <a:pt x="90" y="4"/>
                    </a:lnTo>
                    <a:close/>
                    <a:moveTo>
                      <a:pt x="92" y="0"/>
                    </a:move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110" y="2"/>
                    </a:lnTo>
                    <a:lnTo>
                      <a:pt x="155" y="7"/>
                    </a:lnTo>
                    <a:lnTo>
                      <a:pt x="200" y="18"/>
                    </a:lnTo>
                    <a:lnTo>
                      <a:pt x="248" y="36"/>
                    </a:lnTo>
                    <a:lnTo>
                      <a:pt x="296" y="57"/>
                    </a:lnTo>
                    <a:lnTo>
                      <a:pt x="347" y="83"/>
                    </a:lnTo>
                    <a:lnTo>
                      <a:pt x="399" y="114"/>
                    </a:lnTo>
                    <a:lnTo>
                      <a:pt x="456" y="149"/>
                    </a:lnTo>
                    <a:lnTo>
                      <a:pt x="515" y="188"/>
                    </a:lnTo>
                    <a:lnTo>
                      <a:pt x="579" y="230"/>
                    </a:lnTo>
                    <a:lnTo>
                      <a:pt x="646" y="274"/>
                    </a:lnTo>
                    <a:lnTo>
                      <a:pt x="717" y="320"/>
                    </a:lnTo>
                    <a:lnTo>
                      <a:pt x="789" y="366"/>
                    </a:lnTo>
                    <a:lnTo>
                      <a:pt x="866" y="412"/>
                    </a:lnTo>
                    <a:lnTo>
                      <a:pt x="947" y="458"/>
                    </a:lnTo>
                    <a:lnTo>
                      <a:pt x="1020" y="496"/>
                    </a:lnTo>
                    <a:lnTo>
                      <a:pt x="1093" y="531"/>
                    </a:lnTo>
                    <a:lnTo>
                      <a:pt x="1091" y="531"/>
                    </a:lnTo>
                    <a:lnTo>
                      <a:pt x="1088" y="532"/>
                    </a:lnTo>
                    <a:lnTo>
                      <a:pt x="1084" y="534"/>
                    </a:lnTo>
                    <a:lnTo>
                      <a:pt x="1082" y="536"/>
                    </a:lnTo>
                    <a:lnTo>
                      <a:pt x="1079" y="538"/>
                    </a:lnTo>
                    <a:lnTo>
                      <a:pt x="1077" y="540"/>
                    </a:lnTo>
                    <a:lnTo>
                      <a:pt x="1073" y="542"/>
                    </a:lnTo>
                    <a:lnTo>
                      <a:pt x="1071" y="545"/>
                    </a:lnTo>
                    <a:lnTo>
                      <a:pt x="1069" y="546"/>
                    </a:lnTo>
                    <a:lnTo>
                      <a:pt x="1066" y="547"/>
                    </a:lnTo>
                    <a:lnTo>
                      <a:pt x="1062" y="548"/>
                    </a:lnTo>
                    <a:lnTo>
                      <a:pt x="1060" y="549"/>
                    </a:lnTo>
                    <a:lnTo>
                      <a:pt x="1058" y="551"/>
                    </a:lnTo>
                    <a:lnTo>
                      <a:pt x="1056" y="553"/>
                    </a:lnTo>
                    <a:lnTo>
                      <a:pt x="1056" y="554"/>
                    </a:lnTo>
                    <a:lnTo>
                      <a:pt x="1057" y="556"/>
                    </a:lnTo>
                    <a:lnTo>
                      <a:pt x="1059" y="556"/>
                    </a:lnTo>
                    <a:lnTo>
                      <a:pt x="1061" y="556"/>
                    </a:lnTo>
                    <a:lnTo>
                      <a:pt x="1064" y="556"/>
                    </a:lnTo>
                    <a:lnTo>
                      <a:pt x="1067" y="556"/>
                    </a:lnTo>
                    <a:lnTo>
                      <a:pt x="1069" y="556"/>
                    </a:lnTo>
                    <a:lnTo>
                      <a:pt x="1071" y="556"/>
                    </a:lnTo>
                    <a:lnTo>
                      <a:pt x="1071" y="556"/>
                    </a:lnTo>
                    <a:lnTo>
                      <a:pt x="1074" y="556"/>
                    </a:lnTo>
                    <a:lnTo>
                      <a:pt x="1077" y="554"/>
                    </a:lnTo>
                    <a:lnTo>
                      <a:pt x="1080" y="553"/>
                    </a:lnTo>
                    <a:lnTo>
                      <a:pt x="1082" y="553"/>
                    </a:lnTo>
                    <a:lnTo>
                      <a:pt x="1084" y="553"/>
                    </a:lnTo>
                    <a:lnTo>
                      <a:pt x="1086" y="554"/>
                    </a:lnTo>
                    <a:lnTo>
                      <a:pt x="1086" y="557"/>
                    </a:lnTo>
                    <a:lnTo>
                      <a:pt x="1088" y="558"/>
                    </a:lnTo>
                    <a:lnTo>
                      <a:pt x="1089" y="558"/>
                    </a:lnTo>
                    <a:lnTo>
                      <a:pt x="1099" y="556"/>
                    </a:lnTo>
                    <a:lnTo>
                      <a:pt x="1107" y="551"/>
                    </a:lnTo>
                    <a:lnTo>
                      <a:pt x="1115" y="547"/>
                    </a:lnTo>
                    <a:lnTo>
                      <a:pt x="1117" y="546"/>
                    </a:lnTo>
                    <a:lnTo>
                      <a:pt x="1121" y="545"/>
                    </a:lnTo>
                    <a:lnTo>
                      <a:pt x="1122" y="545"/>
                    </a:lnTo>
                    <a:lnTo>
                      <a:pt x="1128" y="547"/>
                    </a:lnTo>
                    <a:lnTo>
                      <a:pt x="1138" y="550"/>
                    </a:lnTo>
                    <a:lnTo>
                      <a:pt x="1138" y="550"/>
                    </a:lnTo>
                    <a:lnTo>
                      <a:pt x="1139" y="550"/>
                    </a:lnTo>
                    <a:lnTo>
                      <a:pt x="1138" y="550"/>
                    </a:lnTo>
                    <a:lnTo>
                      <a:pt x="1138" y="549"/>
                    </a:lnTo>
                    <a:lnTo>
                      <a:pt x="1138" y="548"/>
                    </a:lnTo>
                    <a:lnTo>
                      <a:pt x="1141" y="549"/>
                    </a:lnTo>
                    <a:lnTo>
                      <a:pt x="1143" y="550"/>
                    </a:lnTo>
                    <a:lnTo>
                      <a:pt x="1144" y="551"/>
                    </a:lnTo>
                    <a:lnTo>
                      <a:pt x="1145" y="552"/>
                    </a:lnTo>
                    <a:lnTo>
                      <a:pt x="1146" y="553"/>
                    </a:lnTo>
                    <a:lnTo>
                      <a:pt x="1149" y="554"/>
                    </a:lnTo>
                    <a:lnTo>
                      <a:pt x="1150" y="557"/>
                    </a:lnTo>
                    <a:lnTo>
                      <a:pt x="1152" y="558"/>
                    </a:lnTo>
                    <a:lnTo>
                      <a:pt x="1155" y="560"/>
                    </a:lnTo>
                    <a:lnTo>
                      <a:pt x="1157" y="560"/>
                    </a:lnTo>
                    <a:lnTo>
                      <a:pt x="1163" y="560"/>
                    </a:lnTo>
                    <a:lnTo>
                      <a:pt x="1168" y="561"/>
                    </a:lnTo>
                    <a:lnTo>
                      <a:pt x="1167" y="562"/>
                    </a:lnTo>
                    <a:lnTo>
                      <a:pt x="1165" y="563"/>
                    </a:lnTo>
                    <a:lnTo>
                      <a:pt x="1187" y="573"/>
                    </a:lnTo>
                    <a:lnTo>
                      <a:pt x="1201" y="580"/>
                    </a:lnTo>
                    <a:lnTo>
                      <a:pt x="1197" y="580"/>
                    </a:lnTo>
                    <a:lnTo>
                      <a:pt x="1195" y="580"/>
                    </a:lnTo>
                    <a:lnTo>
                      <a:pt x="1193" y="580"/>
                    </a:lnTo>
                    <a:lnTo>
                      <a:pt x="1191" y="579"/>
                    </a:lnTo>
                    <a:lnTo>
                      <a:pt x="1189" y="579"/>
                    </a:lnTo>
                    <a:lnTo>
                      <a:pt x="1187" y="580"/>
                    </a:lnTo>
                    <a:lnTo>
                      <a:pt x="1186" y="581"/>
                    </a:lnTo>
                    <a:lnTo>
                      <a:pt x="1183" y="582"/>
                    </a:lnTo>
                    <a:lnTo>
                      <a:pt x="1181" y="581"/>
                    </a:lnTo>
                    <a:lnTo>
                      <a:pt x="1177" y="583"/>
                    </a:lnTo>
                    <a:lnTo>
                      <a:pt x="1170" y="587"/>
                    </a:lnTo>
                    <a:lnTo>
                      <a:pt x="1165" y="592"/>
                    </a:lnTo>
                    <a:lnTo>
                      <a:pt x="1160" y="596"/>
                    </a:lnTo>
                    <a:lnTo>
                      <a:pt x="1157" y="600"/>
                    </a:lnTo>
                    <a:lnTo>
                      <a:pt x="1157" y="603"/>
                    </a:lnTo>
                    <a:lnTo>
                      <a:pt x="1156" y="606"/>
                    </a:lnTo>
                    <a:lnTo>
                      <a:pt x="1156" y="609"/>
                    </a:lnTo>
                    <a:lnTo>
                      <a:pt x="1156" y="613"/>
                    </a:lnTo>
                    <a:lnTo>
                      <a:pt x="1155" y="617"/>
                    </a:lnTo>
                    <a:lnTo>
                      <a:pt x="1155" y="620"/>
                    </a:lnTo>
                    <a:lnTo>
                      <a:pt x="1154" y="623"/>
                    </a:lnTo>
                    <a:lnTo>
                      <a:pt x="1151" y="626"/>
                    </a:lnTo>
                    <a:lnTo>
                      <a:pt x="1150" y="628"/>
                    </a:lnTo>
                    <a:lnTo>
                      <a:pt x="1148" y="630"/>
                    </a:lnTo>
                    <a:lnTo>
                      <a:pt x="1141" y="645"/>
                    </a:lnTo>
                    <a:lnTo>
                      <a:pt x="1139" y="660"/>
                    </a:lnTo>
                    <a:lnTo>
                      <a:pt x="1141" y="674"/>
                    </a:lnTo>
                    <a:lnTo>
                      <a:pt x="1143" y="678"/>
                    </a:lnTo>
                    <a:lnTo>
                      <a:pt x="1145" y="683"/>
                    </a:lnTo>
                    <a:lnTo>
                      <a:pt x="1146" y="691"/>
                    </a:lnTo>
                    <a:lnTo>
                      <a:pt x="1148" y="698"/>
                    </a:lnTo>
                    <a:lnTo>
                      <a:pt x="1151" y="701"/>
                    </a:lnTo>
                    <a:lnTo>
                      <a:pt x="1155" y="701"/>
                    </a:lnTo>
                    <a:lnTo>
                      <a:pt x="1157" y="699"/>
                    </a:lnTo>
                    <a:lnTo>
                      <a:pt x="1158" y="694"/>
                    </a:lnTo>
                    <a:lnTo>
                      <a:pt x="1160" y="691"/>
                    </a:lnTo>
                    <a:lnTo>
                      <a:pt x="1161" y="688"/>
                    </a:lnTo>
                    <a:lnTo>
                      <a:pt x="1163" y="685"/>
                    </a:lnTo>
                    <a:lnTo>
                      <a:pt x="1166" y="684"/>
                    </a:lnTo>
                    <a:lnTo>
                      <a:pt x="1168" y="683"/>
                    </a:lnTo>
                    <a:lnTo>
                      <a:pt x="1170" y="681"/>
                    </a:lnTo>
                    <a:lnTo>
                      <a:pt x="1170" y="679"/>
                    </a:lnTo>
                    <a:lnTo>
                      <a:pt x="1171" y="669"/>
                    </a:lnTo>
                    <a:lnTo>
                      <a:pt x="1168" y="659"/>
                    </a:lnTo>
                    <a:lnTo>
                      <a:pt x="1168" y="646"/>
                    </a:lnTo>
                    <a:lnTo>
                      <a:pt x="1168" y="635"/>
                    </a:lnTo>
                    <a:lnTo>
                      <a:pt x="1170" y="628"/>
                    </a:lnTo>
                    <a:lnTo>
                      <a:pt x="1171" y="622"/>
                    </a:lnTo>
                    <a:lnTo>
                      <a:pt x="1173" y="615"/>
                    </a:lnTo>
                    <a:lnTo>
                      <a:pt x="1177" y="611"/>
                    </a:lnTo>
                    <a:lnTo>
                      <a:pt x="1180" y="609"/>
                    </a:lnTo>
                    <a:lnTo>
                      <a:pt x="1183" y="609"/>
                    </a:lnTo>
                    <a:lnTo>
                      <a:pt x="1187" y="609"/>
                    </a:lnTo>
                    <a:lnTo>
                      <a:pt x="1190" y="609"/>
                    </a:lnTo>
                    <a:lnTo>
                      <a:pt x="1192" y="608"/>
                    </a:lnTo>
                    <a:lnTo>
                      <a:pt x="1195" y="603"/>
                    </a:lnTo>
                    <a:lnTo>
                      <a:pt x="1199" y="595"/>
                    </a:lnTo>
                    <a:lnTo>
                      <a:pt x="1202" y="589"/>
                    </a:lnTo>
                    <a:lnTo>
                      <a:pt x="1208" y="584"/>
                    </a:lnTo>
                    <a:lnTo>
                      <a:pt x="1214" y="584"/>
                    </a:lnTo>
                    <a:lnTo>
                      <a:pt x="1217" y="585"/>
                    </a:lnTo>
                    <a:lnTo>
                      <a:pt x="1220" y="587"/>
                    </a:lnTo>
                    <a:lnTo>
                      <a:pt x="1222" y="591"/>
                    </a:lnTo>
                    <a:lnTo>
                      <a:pt x="1223" y="594"/>
                    </a:lnTo>
                    <a:lnTo>
                      <a:pt x="1225" y="596"/>
                    </a:lnTo>
                    <a:lnTo>
                      <a:pt x="1227" y="600"/>
                    </a:lnTo>
                    <a:lnTo>
                      <a:pt x="1230" y="602"/>
                    </a:lnTo>
                    <a:lnTo>
                      <a:pt x="1233" y="604"/>
                    </a:lnTo>
                    <a:lnTo>
                      <a:pt x="1235" y="605"/>
                    </a:lnTo>
                    <a:lnTo>
                      <a:pt x="1237" y="606"/>
                    </a:lnTo>
                    <a:lnTo>
                      <a:pt x="1239" y="608"/>
                    </a:lnTo>
                    <a:lnTo>
                      <a:pt x="1241" y="609"/>
                    </a:lnTo>
                    <a:lnTo>
                      <a:pt x="1241" y="613"/>
                    </a:lnTo>
                    <a:lnTo>
                      <a:pt x="1241" y="619"/>
                    </a:lnTo>
                    <a:lnTo>
                      <a:pt x="1238" y="627"/>
                    </a:lnTo>
                    <a:lnTo>
                      <a:pt x="1238" y="634"/>
                    </a:lnTo>
                    <a:lnTo>
                      <a:pt x="1241" y="639"/>
                    </a:lnTo>
                    <a:lnTo>
                      <a:pt x="1243" y="640"/>
                    </a:lnTo>
                    <a:lnTo>
                      <a:pt x="1245" y="641"/>
                    </a:lnTo>
                    <a:lnTo>
                      <a:pt x="1247" y="641"/>
                    </a:lnTo>
                    <a:lnTo>
                      <a:pt x="1249" y="641"/>
                    </a:lnTo>
                    <a:lnTo>
                      <a:pt x="1252" y="643"/>
                    </a:lnTo>
                    <a:lnTo>
                      <a:pt x="1253" y="644"/>
                    </a:lnTo>
                    <a:lnTo>
                      <a:pt x="1254" y="646"/>
                    </a:lnTo>
                    <a:lnTo>
                      <a:pt x="1256" y="648"/>
                    </a:lnTo>
                    <a:lnTo>
                      <a:pt x="1257" y="650"/>
                    </a:lnTo>
                    <a:lnTo>
                      <a:pt x="1258" y="652"/>
                    </a:lnTo>
                    <a:lnTo>
                      <a:pt x="1259" y="655"/>
                    </a:lnTo>
                    <a:lnTo>
                      <a:pt x="1261" y="657"/>
                    </a:lnTo>
                    <a:lnTo>
                      <a:pt x="1263" y="658"/>
                    </a:lnTo>
                    <a:lnTo>
                      <a:pt x="1265" y="659"/>
                    </a:lnTo>
                    <a:lnTo>
                      <a:pt x="1268" y="658"/>
                    </a:lnTo>
                    <a:lnTo>
                      <a:pt x="1269" y="652"/>
                    </a:lnTo>
                    <a:lnTo>
                      <a:pt x="1269" y="644"/>
                    </a:lnTo>
                    <a:lnTo>
                      <a:pt x="1268" y="634"/>
                    </a:lnTo>
                    <a:lnTo>
                      <a:pt x="1268" y="626"/>
                    </a:lnTo>
                    <a:lnTo>
                      <a:pt x="1267" y="622"/>
                    </a:lnTo>
                    <a:lnTo>
                      <a:pt x="1268" y="620"/>
                    </a:lnTo>
                    <a:lnTo>
                      <a:pt x="1269" y="618"/>
                    </a:lnTo>
                    <a:lnTo>
                      <a:pt x="1269" y="615"/>
                    </a:lnTo>
                    <a:lnTo>
                      <a:pt x="1269" y="613"/>
                    </a:lnTo>
                    <a:lnTo>
                      <a:pt x="1270" y="609"/>
                    </a:lnTo>
                    <a:lnTo>
                      <a:pt x="1271" y="607"/>
                    </a:lnTo>
                    <a:lnTo>
                      <a:pt x="1271" y="606"/>
                    </a:lnTo>
                    <a:lnTo>
                      <a:pt x="1272" y="605"/>
                    </a:lnTo>
                    <a:lnTo>
                      <a:pt x="1274" y="606"/>
                    </a:lnTo>
                    <a:lnTo>
                      <a:pt x="1276" y="608"/>
                    </a:lnTo>
                    <a:lnTo>
                      <a:pt x="1278" y="612"/>
                    </a:lnTo>
                    <a:lnTo>
                      <a:pt x="1280" y="615"/>
                    </a:lnTo>
                    <a:lnTo>
                      <a:pt x="1285" y="617"/>
                    </a:lnTo>
                    <a:lnTo>
                      <a:pt x="1289" y="620"/>
                    </a:lnTo>
                    <a:lnTo>
                      <a:pt x="1294" y="623"/>
                    </a:lnTo>
                    <a:lnTo>
                      <a:pt x="1299" y="624"/>
                    </a:lnTo>
                    <a:lnTo>
                      <a:pt x="1302" y="622"/>
                    </a:lnTo>
                    <a:lnTo>
                      <a:pt x="1304" y="619"/>
                    </a:lnTo>
                    <a:lnTo>
                      <a:pt x="1304" y="617"/>
                    </a:lnTo>
                    <a:lnTo>
                      <a:pt x="1304" y="617"/>
                    </a:lnTo>
                    <a:lnTo>
                      <a:pt x="1306" y="617"/>
                    </a:lnTo>
                    <a:lnTo>
                      <a:pt x="1304" y="620"/>
                    </a:lnTo>
                    <a:lnTo>
                      <a:pt x="1329" y="629"/>
                    </a:lnTo>
                    <a:lnTo>
                      <a:pt x="1347" y="636"/>
                    </a:lnTo>
                    <a:lnTo>
                      <a:pt x="1343" y="638"/>
                    </a:lnTo>
                    <a:lnTo>
                      <a:pt x="1336" y="641"/>
                    </a:lnTo>
                    <a:lnTo>
                      <a:pt x="1329" y="644"/>
                    </a:lnTo>
                    <a:lnTo>
                      <a:pt x="1322" y="646"/>
                    </a:lnTo>
                    <a:lnTo>
                      <a:pt x="1318" y="651"/>
                    </a:lnTo>
                    <a:lnTo>
                      <a:pt x="1315" y="657"/>
                    </a:lnTo>
                    <a:lnTo>
                      <a:pt x="1311" y="663"/>
                    </a:lnTo>
                    <a:lnTo>
                      <a:pt x="1306" y="667"/>
                    </a:lnTo>
                    <a:lnTo>
                      <a:pt x="1299" y="669"/>
                    </a:lnTo>
                    <a:lnTo>
                      <a:pt x="1291" y="672"/>
                    </a:lnTo>
                    <a:lnTo>
                      <a:pt x="1291" y="671"/>
                    </a:lnTo>
                    <a:lnTo>
                      <a:pt x="1289" y="671"/>
                    </a:lnTo>
                    <a:lnTo>
                      <a:pt x="1287" y="670"/>
                    </a:lnTo>
                    <a:lnTo>
                      <a:pt x="1285" y="670"/>
                    </a:lnTo>
                    <a:lnTo>
                      <a:pt x="1282" y="670"/>
                    </a:lnTo>
                    <a:lnTo>
                      <a:pt x="1279" y="672"/>
                    </a:lnTo>
                    <a:lnTo>
                      <a:pt x="1276" y="674"/>
                    </a:lnTo>
                    <a:lnTo>
                      <a:pt x="1274" y="677"/>
                    </a:lnTo>
                    <a:lnTo>
                      <a:pt x="1268" y="681"/>
                    </a:lnTo>
                    <a:lnTo>
                      <a:pt x="1261" y="684"/>
                    </a:lnTo>
                    <a:lnTo>
                      <a:pt x="1254" y="688"/>
                    </a:lnTo>
                    <a:lnTo>
                      <a:pt x="1253" y="689"/>
                    </a:lnTo>
                    <a:lnTo>
                      <a:pt x="1252" y="690"/>
                    </a:lnTo>
                    <a:lnTo>
                      <a:pt x="1250" y="692"/>
                    </a:lnTo>
                    <a:lnTo>
                      <a:pt x="1249" y="693"/>
                    </a:lnTo>
                    <a:lnTo>
                      <a:pt x="1249" y="695"/>
                    </a:lnTo>
                    <a:lnTo>
                      <a:pt x="1249" y="696"/>
                    </a:lnTo>
                    <a:lnTo>
                      <a:pt x="1252" y="698"/>
                    </a:lnTo>
                    <a:lnTo>
                      <a:pt x="1254" y="699"/>
                    </a:lnTo>
                    <a:lnTo>
                      <a:pt x="1268" y="698"/>
                    </a:lnTo>
                    <a:lnTo>
                      <a:pt x="1282" y="694"/>
                    </a:lnTo>
                    <a:lnTo>
                      <a:pt x="1296" y="690"/>
                    </a:lnTo>
                    <a:lnTo>
                      <a:pt x="1303" y="688"/>
                    </a:lnTo>
                    <a:lnTo>
                      <a:pt x="1311" y="684"/>
                    </a:lnTo>
                    <a:lnTo>
                      <a:pt x="1318" y="680"/>
                    </a:lnTo>
                    <a:lnTo>
                      <a:pt x="1322" y="673"/>
                    </a:lnTo>
                    <a:lnTo>
                      <a:pt x="1322" y="666"/>
                    </a:lnTo>
                    <a:lnTo>
                      <a:pt x="1324" y="659"/>
                    </a:lnTo>
                    <a:lnTo>
                      <a:pt x="1330" y="656"/>
                    </a:lnTo>
                    <a:lnTo>
                      <a:pt x="1337" y="654"/>
                    </a:lnTo>
                    <a:lnTo>
                      <a:pt x="1347" y="654"/>
                    </a:lnTo>
                    <a:lnTo>
                      <a:pt x="1357" y="654"/>
                    </a:lnTo>
                    <a:lnTo>
                      <a:pt x="1367" y="655"/>
                    </a:lnTo>
                    <a:lnTo>
                      <a:pt x="1376" y="654"/>
                    </a:lnTo>
                    <a:lnTo>
                      <a:pt x="1383" y="650"/>
                    </a:lnTo>
                    <a:lnTo>
                      <a:pt x="1386" y="646"/>
                    </a:lnTo>
                    <a:lnTo>
                      <a:pt x="1386" y="649"/>
                    </a:lnTo>
                    <a:lnTo>
                      <a:pt x="1437" y="666"/>
                    </a:lnTo>
                    <a:lnTo>
                      <a:pt x="1487" y="680"/>
                    </a:lnTo>
                    <a:lnTo>
                      <a:pt x="1486" y="679"/>
                    </a:lnTo>
                    <a:lnTo>
                      <a:pt x="1487" y="677"/>
                    </a:lnTo>
                    <a:lnTo>
                      <a:pt x="1487" y="677"/>
                    </a:lnTo>
                    <a:lnTo>
                      <a:pt x="1488" y="677"/>
                    </a:lnTo>
                    <a:lnTo>
                      <a:pt x="1488" y="678"/>
                    </a:lnTo>
                    <a:lnTo>
                      <a:pt x="1489" y="678"/>
                    </a:lnTo>
                    <a:lnTo>
                      <a:pt x="1490" y="679"/>
                    </a:lnTo>
                    <a:lnTo>
                      <a:pt x="1493" y="679"/>
                    </a:lnTo>
                    <a:lnTo>
                      <a:pt x="1494" y="680"/>
                    </a:lnTo>
                    <a:lnTo>
                      <a:pt x="1495" y="680"/>
                    </a:lnTo>
                    <a:lnTo>
                      <a:pt x="1495" y="681"/>
                    </a:lnTo>
                    <a:lnTo>
                      <a:pt x="1497" y="681"/>
                    </a:lnTo>
                    <a:lnTo>
                      <a:pt x="1500" y="681"/>
                    </a:lnTo>
                    <a:lnTo>
                      <a:pt x="1503" y="682"/>
                    </a:lnTo>
                    <a:lnTo>
                      <a:pt x="1506" y="682"/>
                    </a:lnTo>
                    <a:lnTo>
                      <a:pt x="1508" y="683"/>
                    </a:lnTo>
                    <a:lnTo>
                      <a:pt x="1509" y="688"/>
                    </a:lnTo>
                    <a:lnTo>
                      <a:pt x="1508" y="691"/>
                    </a:lnTo>
                    <a:lnTo>
                      <a:pt x="1504" y="693"/>
                    </a:lnTo>
                    <a:lnTo>
                      <a:pt x="1498" y="693"/>
                    </a:lnTo>
                    <a:lnTo>
                      <a:pt x="1493" y="694"/>
                    </a:lnTo>
                    <a:lnTo>
                      <a:pt x="1488" y="696"/>
                    </a:lnTo>
                    <a:lnTo>
                      <a:pt x="1485" y="696"/>
                    </a:lnTo>
                    <a:lnTo>
                      <a:pt x="1484" y="698"/>
                    </a:lnTo>
                    <a:lnTo>
                      <a:pt x="1482" y="700"/>
                    </a:lnTo>
                    <a:lnTo>
                      <a:pt x="1481" y="701"/>
                    </a:lnTo>
                    <a:lnTo>
                      <a:pt x="1479" y="703"/>
                    </a:lnTo>
                    <a:lnTo>
                      <a:pt x="1466" y="703"/>
                    </a:lnTo>
                    <a:lnTo>
                      <a:pt x="1453" y="703"/>
                    </a:lnTo>
                    <a:lnTo>
                      <a:pt x="1440" y="703"/>
                    </a:lnTo>
                    <a:lnTo>
                      <a:pt x="1438" y="704"/>
                    </a:lnTo>
                    <a:lnTo>
                      <a:pt x="1435" y="705"/>
                    </a:lnTo>
                    <a:lnTo>
                      <a:pt x="1434" y="707"/>
                    </a:lnTo>
                    <a:lnTo>
                      <a:pt x="1433" y="710"/>
                    </a:lnTo>
                    <a:lnTo>
                      <a:pt x="1434" y="712"/>
                    </a:lnTo>
                    <a:lnTo>
                      <a:pt x="1438" y="714"/>
                    </a:lnTo>
                    <a:lnTo>
                      <a:pt x="1439" y="714"/>
                    </a:lnTo>
                    <a:lnTo>
                      <a:pt x="1441" y="714"/>
                    </a:lnTo>
                    <a:lnTo>
                      <a:pt x="1444" y="714"/>
                    </a:lnTo>
                    <a:lnTo>
                      <a:pt x="1448" y="713"/>
                    </a:lnTo>
                    <a:lnTo>
                      <a:pt x="1451" y="712"/>
                    </a:lnTo>
                    <a:lnTo>
                      <a:pt x="1453" y="711"/>
                    </a:lnTo>
                    <a:lnTo>
                      <a:pt x="1455" y="710"/>
                    </a:lnTo>
                    <a:lnTo>
                      <a:pt x="1456" y="709"/>
                    </a:lnTo>
                    <a:lnTo>
                      <a:pt x="1459" y="709"/>
                    </a:lnTo>
                    <a:lnTo>
                      <a:pt x="1462" y="709"/>
                    </a:lnTo>
                    <a:lnTo>
                      <a:pt x="1464" y="709"/>
                    </a:lnTo>
                    <a:lnTo>
                      <a:pt x="1466" y="710"/>
                    </a:lnTo>
                    <a:lnTo>
                      <a:pt x="1466" y="710"/>
                    </a:lnTo>
                    <a:lnTo>
                      <a:pt x="1464" y="711"/>
                    </a:lnTo>
                    <a:lnTo>
                      <a:pt x="1462" y="712"/>
                    </a:lnTo>
                    <a:lnTo>
                      <a:pt x="1460" y="713"/>
                    </a:lnTo>
                    <a:lnTo>
                      <a:pt x="1457" y="714"/>
                    </a:lnTo>
                    <a:lnTo>
                      <a:pt x="1455" y="715"/>
                    </a:lnTo>
                    <a:lnTo>
                      <a:pt x="1455" y="716"/>
                    </a:lnTo>
                    <a:lnTo>
                      <a:pt x="1446" y="718"/>
                    </a:lnTo>
                    <a:lnTo>
                      <a:pt x="1438" y="721"/>
                    </a:lnTo>
                    <a:lnTo>
                      <a:pt x="1430" y="723"/>
                    </a:lnTo>
                    <a:lnTo>
                      <a:pt x="1427" y="727"/>
                    </a:lnTo>
                    <a:lnTo>
                      <a:pt x="1420" y="742"/>
                    </a:lnTo>
                    <a:lnTo>
                      <a:pt x="1412" y="755"/>
                    </a:lnTo>
                    <a:lnTo>
                      <a:pt x="1407" y="768"/>
                    </a:lnTo>
                    <a:lnTo>
                      <a:pt x="1405" y="772"/>
                    </a:lnTo>
                    <a:lnTo>
                      <a:pt x="1401" y="780"/>
                    </a:lnTo>
                    <a:lnTo>
                      <a:pt x="1398" y="788"/>
                    </a:lnTo>
                    <a:lnTo>
                      <a:pt x="1396" y="790"/>
                    </a:lnTo>
                    <a:lnTo>
                      <a:pt x="1391" y="789"/>
                    </a:lnTo>
                    <a:lnTo>
                      <a:pt x="1388" y="785"/>
                    </a:lnTo>
                    <a:lnTo>
                      <a:pt x="1387" y="779"/>
                    </a:lnTo>
                    <a:lnTo>
                      <a:pt x="1386" y="775"/>
                    </a:lnTo>
                    <a:lnTo>
                      <a:pt x="1385" y="770"/>
                    </a:lnTo>
                    <a:lnTo>
                      <a:pt x="1381" y="768"/>
                    </a:lnTo>
                    <a:lnTo>
                      <a:pt x="1380" y="769"/>
                    </a:lnTo>
                    <a:lnTo>
                      <a:pt x="1379" y="770"/>
                    </a:lnTo>
                    <a:lnTo>
                      <a:pt x="1379" y="772"/>
                    </a:lnTo>
                    <a:lnTo>
                      <a:pt x="1379" y="775"/>
                    </a:lnTo>
                    <a:lnTo>
                      <a:pt x="1379" y="778"/>
                    </a:lnTo>
                    <a:lnTo>
                      <a:pt x="1380" y="780"/>
                    </a:lnTo>
                    <a:lnTo>
                      <a:pt x="1381" y="783"/>
                    </a:lnTo>
                    <a:lnTo>
                      <a:pt x="1381" y="785"/>
                    </a:lnTo>
                    <a:lnTo>
                      <a:pt x="1381" y="786"/>
                    </a:lnTo>
                    <a:lnTo>
                      <a:pt x="1383" y="789"/>
                    </a:lnTo>
                    <a:lnTo>
                      <a:pt x="1383" y="792"/>
                    </a:lnTo>
                    <a:lnTo>
                      <a:pt x="1383" y="796"/>
                    </a:lnTo>
                    <a:lnTo>
                      <a:pt x="1383" y="800"/>
                    </a:lnTo>
                    <a:lnTo>
                      <a:pt x="1381" y="803"/>
                    </a:lnTo>
                    <a:lnTo>
                      <a:pt x="1384" y="810"/>
                    </a:lnTo>
                    <a:lnTo>
                      <a:pt x="1387" y="814"/>
                    </a:lnTo>
                    <a:lnTo>
                      <a:pt x="1390" y="820"/>
                    </a:lnTo>
                    <a:lnTo>
                      <a:pt x="1392" y="825"/>
                    </a:lnTo>
                    <a:lnTo>
                      <a:pt x="1390" y="832"/>
                    </a:lnTo>
                    <a:lnTo>
                      <a:pt x="1388" y="836"/>
                    </a:lnTo>
                    <a:lnTo>
                      <a:pt x="1384" y="840"/>
                    </a:lnTo>
                    <a:lnTo>
                      <a:pt x="1379" y="842"/>
                    </a:lnTo>
                    <a:lnTo>
                      <a:pt x="1376" y="844"/>
                    </a:lnTo>
                    <a:lnTo>
                      <a:pt x="1375" y="847"/>
                    </a:lnTo>
                    <a:lnTo>
                      <a:pt x="1375" y="852"/>
                    </a:lnTo>
                    <a:lnTo>
                      <a:pt x="1376" y="855"/>
                    </a:lnTo>
                    <a:lnTo>
                      <a:pt x="1375" y="856"/>
                    </a:lnTo>
                    <a:lnTo>
                      <a:pt x="1374" y="857"/>
                    </a:lnTo>
                    <a:lnTo>
                      <a:pt x="1372" y="858"/>
                    </a:lnTo>
                    <a:lnTo>
                      <a:pt x="1369" y="859"/>
                    </a:lnTo>
                    <a:lnTo>
                      <a:pt x="1368" y="859"/>
                    </a:lnTo>
                    <a:lnTo>
                      <a:pt x="1366" y="860"/>
                    </a:lnTo>
                    <a:lnTo>
                      <a:pt x="1362" y="863"/>
                    </a:lnTo>
                    <a:lnTo>
                      <a:pt x="1357" y="865"/>
                    </a:lnTo>
                    <a:lnTo>
                      <a:pt x="1353" y="867"/>
                    </a:lnTo>
                    <a:lnTo>
                      <a:pt x="1348" y="869"/>
                    </a:lnTo>
                    <a:lnTo>
                      <a:pt x="1340" y="875"/>
                    </a:lnTo>
                    <a:lnTo>
                      <a:pt x="1331" y="879"/>
                    </a:lnTo>
                    <a:lnTo>
                      <a:pt x="1321" y="885"/>
                    </a:lnTo>
                    <a:lnTo>
                      <a:pt x="1313" y="891"/>
                    </a:lnTo>
                    <a:lnTo>
                      <a:pt x="1308" y="896"/>
                    </a:lnTo>
                    <a:lnTo>
                      <a:pt x="1300" y="898"/>
                    </a:lnTo>
                    <a:lnTo>
                      <a:pt x="1293" y="900"/>
                    </a:lnTo>
                    <a:lnTo>
                      <a:pt x="1290" y="902"/>
                    </a:lnTo>
                    <a:lnTo>
                      <a:pt x="1286" y="905"/>
                    </a:lnTo>
                    <a:lnTo>
                      <a:pt x="1282" y="908"/>
                    </a:lnTo>
                    <a:lnTo>
                      <a:pt x="1280" y="910"/>
                    </a:lnTo>
                    <a:lnTo>
                      <a:pt x="1278" y="913"/>
                    </a:lnTo>
                    <a:lnTo>
                      <a:pt x="1278" y="918"/>
                    </a:lnTo>
                    <a:lnTo>
                      <a:pt x="1278" y="921"/>
                    </a:lnTo>
                    <a:lnTo>
                      <a:pt x="1278" y="924"/>
                    </a:lnTo>
                    <a:lnTo>
                      <a:pt x="1276" y="928"/>
                    </a:lnTo>
                    <a:lnTo>
                      <a:pt x="1274" y="931"/>
                    </a:lnTo>
                    <a:lnTo>
                      <a:pt x="1274" y="936"/>
                    </a:lnTo>
                    <a:lnTo>
                      <a:pt x="1275" y="942"/>
                    </a:lnTo>
                    <a:lnTo>
                      <a:pt x="1276" y="949"/>
                    </a:lnTo>
                    <a:lnTo>
                      <a:pt x="1279" y="956"/>
                    </a:lnTo>
                    <a:lnTo>
                      <a:pt x="1283" y="963"/>
                    </a:lnTo>
                    <a:lnTo>
                      <a:pt x="1287" y="971"/>
                    </a:lnTo>
                    <a:lnTo>
                      <a:pt x="1288" y="973"/>
                    </a:lnTo>
                    <a:lnTo>
                      <a:pt x="1288" y="975"/>
                    </a:lnTo>
                    <a:lnTo>
                      <a:pt x="1289" y="978"/>
                    </a:lnTo>
                    <a:lnTo>
                      <a:pt x="1289" y="980"/>
                    </a:lnTo>
                    <a:lnTo>
                      <a:pt x="1290" y="983"/>
                    </a:lnTo>
                    <a:lnTo>
                      <a:pt x="1291" y="984"/>
                    </a:lnTo>
                    <a:lnTo>
                      <a:pt x="1297" y="995"/>
                    </a:lnTo>
                    <a:lnTo>
                      <a:pt x="1298" y="1007"/>
                    </a:lnTo>
                    <a:lnTo>
                      <a:pt x="1298" y="1019"/>
                    </a:lnTo>
                    <a:lnTo>
                      <a:pt x="1299" y="1021"/>
                    </a:lnTo>
                    <a:lnTo>
                      <a:pt x="1299" y="1025"/>
                    </a:lnTo>
                    <a:lnTo>
                      <a:pt x="1298" y="1027"/>
                    </a:lnTo>
                    <a:lnTo>
                      <a:pt x="1297" y="1029"/>
                    </a:lnTo>
                    <a:lnTo>
                      <a:pt x="1293" y="1032"/>
                    </a:lnTo>
                    <a:lnTo>
                      <a:pt x="1292" y="1034"/>
                    </a:lnTo>
                    <a:lnTo>
                      <a:pt x="1290" y="1037"/>
                    </a:lnTo>
                    <a:lnTo>
                      <a:pt x="1288" y="1039"/>
                    </a:lnTo>
                    <a:lnTo>
                      <a:pt x="1286" y="1039"/>
                    </a:lnTo>
                    <a:lnTo>
                      <a:pt x="1282" y="1039"/>
                    </a:lnTo>
                    <a:lnTo>
                      <a:pt x="1278" y="1033"/>
                    </a:lnTo>
                    <a:lnTo>
                      <a:pt x="1275" y="1026"/>
                    </a:lnTo>
                    <a:lnTo>
                      <a:pt x="1271" y="1019"/>
                    </a:lnTo>
                    <a:lnTo>
                      <a:pt x="1269" y="1015"/>
                    </a:lnTo>
                    <a:lnTo>
                      <a:pt x="1265" y="1011"/>
                    </a:lnTo>
                    <a:lnTo>
                      <a:pt x="1260" y="1008"/>
                    </a:lnTo>
                    <a:lnTo>
                      <a:pt x="1257" y="1006"/>
                    </a:lnTo>
                    <a:lnTo>
                      <a:pt x="1255" y="1005"/>
                    </a:lnTo>
                    <a:lnTo>
                      <a:pt x="1253" y="1001"/>
                    </a:lnTo>
                    <a:lnTo>
                      <a:pt x="1253" y="998"/>
                    </a:lnTo>
                    <a:lnTo>
                      <a:pt x="1252" y="995"/>
                    </a:lnTo>
                    <a:lnTo>
                      <a:pt x="1250" y="990"/>
                    </a:lnTo>
                    <a:lnTo>
                      <a:pt x="1248" y="987"/>
                    </a:lnTo>
                    <a:lnTo>
                      <a:pt x="1247" y="984"/>
                    </a:lnTo>
                    <a:lnTo>
                      <a:pt x="1245" y="979"/>
                    </a:lnTo>
                    <a:lnTo>
                      <a:pt x="1245" y="977"/>
                    </a:lnTo>
                    <a:lnTo>
                      <a:pt x="1245" y="974"/>
                    </a:lnTo>
                    <a:lnTo>
                      <a:pt x="1245" y="972"/>
                    </a:lnTo>
                    <a:lnTo>
                      <a:pt x="1245" y="969"/>
                    </a:lnTo>
                    <a:lnTo>
                      <a:pt x="1245" y="966"/>
                    </a:lnTo>
                    <a:lnTo>
                      <a:pt x="1243" y="964"/>
                    </a:lnTo>
                    <a:lnTo>
                      <a:pt x="1239" y="958"/>
                    </a:lnTo>
                    <a:lnTo>
                      <a:pt x="1235" y="953"/>
                    </a:lnTo>
                    <a:lnTo>
                      <a:pt x="1231" y="950"/>
                    </a:lnTo>
                    <a:lnTo>
                      <a:pt x="1226" y="950"/>
                    </a:lnTo>
                    <a:lnTo>
                      <a:pt x="1221" y="953"/>
                    </a:lnTo>
                    <a:lnTo>
                      <a:pt x="1213" y="957"/>
                    </a:lnTo>
                    <a:lnTo>
                      <a:pt x="1204" y="957"/>
                    </a:lnTo>
                    <a:lnTo>
                      <a:pt x="1195" y="954"/>
                    </a:lnTo>
                    <a:lnTo>
                      <a:pt x="1188" y="951"/>
                    </a:lnTo>
                    <a:lnTo>
                      <a:pt x="1178" y="945"/>
                    </a:lnTo>
                    <a:lnTo>
                      <a:pt x="1167" y="943"/>
                    </a:lnTo>
                    <a:lnTo>
                      <a:pt x="1156" y="944"/>
                    </a:lnTo>
                    <a:lnTo>
                      <a:pt x="1144" y="944"/>
                    </a:lnTo>
                    <a:lnTo>
                      <a:pt x="1140" y="943"/>
                    </a:lnTo>
                    <a:lnTo>
                      <a:pt x="1133" y="941"/>
                    </a:lnTo>
                    <a:lnTo>
                      <a:pt x="1124" y="940"/>
                    </a:lnTo>
                    <a:lnTo>
                      <a:pt x="1117" y="940"/>
                    </a:lnTo>
                    <a:lnTo>
                      <a:pt x="1113" y="940"/>
                    </a:lnTo>
                    <a:lnTo>
                      <a:pt x="1114" y="941"/>
                    </a:lnTo>
                    <a:lnTo>
                      <a:pt x="1115" y="943"/>
                    </a:lnTo>
                    <a:lnTo>
                      <a:pt x="1116" y="944"/>
                    </a:lnTo>
                    <a:lnTo>
                      <a:pt x="1117" y="946"/>
                    </a:lnTo>
                    <a:lnTo>
                      <a:pt x="1119" y="949"/>
                    </a:lnTo>
                    <a:lnTo>
                      <a:pt x="1122" y="950"/>
                    </a:lnTo>
                    <a:lnTo>
                      <a:pt x="1123" y="952"/>
                    </a:lnTo>
                    <a:lnTo>
                      <a:pt x="1124" y="953"/>
                    </a:lnTo>
                    <a:lnTo>
                      <a:pt x="1124" y="954"/>
                    </a:lnTo>
                    <a:lnTo>
                      <a:pt x="1123" y="955"/>
                    </a:lnTo>
                    <a:lnTo>
                      <a:pt x="1121" y="955"/>
                    </a:lnTo>
                    <a:lnTo>
                      <a:pt x="1117" y="955"/>
                    </a:lnTo>
                    <a:lnTo>
                      <a:pt x="1113" y="956"/>
                    </a:lnTo>
                    <a:lnTo>
                      <a:pt x="1110" y="960"/>
                    </a:lnTo>
                    <a:lnTo>
                      <a:pt x="1107" y="963"/>
                    </a:lnTo>
                    <a:lnTo>
                      <a:pt x="1105" y="965"/>
                    </a:lnTo>
                    <a:lnTo>
                      <a:pt x="1100" y="964"/>
                    </a:lnTo>
                    <a:lnTo>
                      <a:pt x="1093" y="961"/>
                    </a:lnTo>
                    <a:lnTo>
                      <a:pt x="1088" y="956"/>
                    </a:lnTo>
                    <a:lnTo>
                      <a:pt x="1083" y="953"/>
                    </a:lnTo>
                    <a:lnTo>
                      <a:pt x="1077" y="951"/>
                    </a:lnTo>
                    <a:lnTo>
                      <a:pt x="1069" y="953"/>
                    </a:lnTo>
                    <a:lnTo>
                      <a:pt x="1061" y="954"/>
                    </a:lnTo>
                    <a:lnTo>
                      <a:pt x="1052" y="953"/>
                    </a:lnTo>
                    <a:lnTo>
                      <a:pt x="1043" y="951"/>
                    </a:lnTo>
                    <a:lnTo>
                      <a:pt x="1035" y="950"/>
                    </a:lnTo>
                    <a:lnTo>
                      <a:pt x="1027" y="951"/>
                    </a:lnTo>
                    <a:lnTo>
                      <a:pt x="1026" y="953"/>
                    </a:lnTo>
                    <a:lnTo>
                      <a:pt x="1025" y="955"/>
                    </a:lnTo>
                    <a:lnTo>
                      <a:pt x="1023" y="957"/>
                    </a:lnTo>
                    <a:lnTo>
                      <a:pt x="1020" y="957"/>
                    </a:lnTo>
                    <a:lnTo>
                      <a:pt x="1018" y="958"/>
                    </a:lnTo>
                    <a:lnTo>
                      <a:pt x="1016" y="960"/>
                    </a:lnTo>
                    <a:lnTo>
                      <a:pt x="1006" y="962"/>
                    </a:lnTo>
                    <a:lnTo>
                      <a:pt x="996" y="966"/>
                    </a:lnTo>
                    <a:lnTo>
                      <a:pt x="987" y="969"/>
                    </a:lnTo>
                    <a:lnTo>
                      <a:pt x="981" y="973"/>
                    </a:lnTo>
                    <a:lnTo>
                      <a:pt x="977" y="978"/>
                    </a:lnTo>
                    <a:lnTo>
                      <a:pt x="974" y="986"/>
                    </a:lnTo>
                    <a:lnTo>
                      <a:pt x="974" y="989"/>
                    </a:lnTo>
                    <a:lnTo>
                      <a:pt x="974" y="992"/>
                    </a:lnTo>
                    <a:lnTo>
                      <a:pt x="973" y="995"/>
                    </a:lnTo>
                    <a:lnTo>
                      <a:pt x="973" y="998"/>
                    </a:lnTo>
                    <a:lnTo>
                      <a:pt x="974" y="1001"/>
                    </a:lnTo>
                    <a:lnTo>
                      <a:pt x="976" y="1005"/>
                    </a:lnTo>
                    <a:lnTo>
                      <a:pt x="977" y="1008"/>
                    </a:lnTo>
                    <a:lnTo>
                      <a:pt x="980" y="1010"/>
                    </a:lnTo>
                    <a:lnTo>
                      <a:pt x="982" y="1014"/>
                    </a:lnTo>
                    <a:lnTo>
                      <a:pt x="983" y="1017"/>
                    </a:lnTo>
                    <a:lnTo>
                      <a:pt x="983" y="1027"/>
                    </a:lnTo>
                    <a:lnTo>
                      <a:pt x="981" y="1036"/>
                    </a:lnTo>
                    <a:lnTo>
                      <a:pt x="977" y="1044"/>
                    </a:lnTo>
                    <a:lnTo>
                      <a:pt x="976" y="1054"/>
                    </a:lnTo>
                    <a:lnTo>
                      <a:pt x="977" y="1061"/>
                    </a:lnTo>
                    <a:lnTo>
                      <a:pt x="980" y="1067"/>
                    </a:lnTo>
                    <a:lnTo>
                      <a:pt x="981" y="1076"/>
                    </a:lnTo>
                    <a:lnTo>
                      <a:pt x="983" y="1078"/>
                    </a:lnTo>
                    <a:lnTo>
                      <a:pt x="984" y="1080"/>
                    </a:lnTo>
                    <a:lnTo>
                      <a:pt x="986" y="1081"/>
                    </a:lnTo>
                    <a:lnTo>
                      <a:pt x="988" y="1083"/>
                    </a:lnTo>
                    <a:lnTo>
                      <a:pt x="990" y="1085"/>
                    </a:lnTo>
                    <a:lnTo>
                      <a:pt x="993" y="1088"/>
                    </a:lnTo>
                    <a:lnTo>
                      <a:pt x="994" y="1092"/>
                    </a:lnTo>
                    <a:lnTo>
                      <a:pt x="995" y="1095"/>
                    </a:lnTo>
                    <a:lnTo>
                      <a:pt x="996" y="1098"/>
                    </a:lnTo>
                    <a:lnTo>
                      <a:pt x="1001" y="1104"/>
                    </a:lnTo>
                    <a:lnTo>
                      <a:pt x="1005" y="1109"/>
                    </a:lnTo>
                    <a:lnTo>
                      <a:pt x="1009" y="1114"/>
                    </a:lnTo>
                    <a:lnTo>
                      <a:pt x="1012" y="1116"/>
                    </a:lnTo>
                    <a:lnTo>
                      <a:pt x="1014" y="1119"/>
                    </a:lnTo>
                    <a:lnTo>
                      <a:pt x="1015" y="1123"/>
                    </a:lnTo>
                    <a:lnTo>
                      <a:pt x="1016" y="1126"/>
                    </a:lnTo>
                    <a:lnTo>
                      <a:pt x="1018" y="1129"/>
                    </a:lnTo>
                    <a:lnTo>
                      <a:pt x="1023" y="1130"/>
                    </a:lnTo>
                    <a:lnTo>
                      <a:pt x="1026" y="1131"/>
                    </a:lnTo>
                    <a:lnTo>
                      <a:pt x="1029" y="1131"/>
                    </a:lnTo>
                    <a:lnTo>
                      <a:pt x="1032" y="1132"/>
                    </a:lnTo>
                    <a:lnTo>
                      <a:pt x="1036" y="1134"/>
                    </a:lnTo>
                    <a:lnTo>
                      <a:pt x="1038" y="1135"/>
                    </a:lnTo>
                    <a:lnTo>
                      <a:pt x="1040" y="1136"/>
                    </a:lnTo>
                    <a:lnTo>
                      <a:pt x="1042" y="1137"/>
                    </a:lnTo>
                    <a:lnTo>
                      <a:pt x="1046" y="1138"/>
                    </a:lnTo>
                    <a:lnTo>
                      <a:pt x="1048" y="1138"/>
                    </a:lnTo>
                    <a:lnTo>
                      <a:pt x="1049" y="1138"/>
                    </a:lnTo>
                    <a:lnTo>
                      <a:pt x="1052" y="1136"/>
                    </a:lnTo>
                    <a:lnTo>
                      <a:pt x="1055" y="1135"/>
                    </a:lnTo>
                    <a:lnTo>
                      <a:pt x="1057" y="1135"/>
                    </a:lnTo>
                    <a:lnTo>
                      <a:pt x="1059" y="1135"/>
                    </a:lnTo>
                    <a:lnTo>
                      <a:pt x="1062" y="1136"/>
                    </a:lnTo>
                    <a:lnTo>
                      <a:pt x="1075" y="1136"/>
                    </a:lnTo>
                    <a:lnTo>
                      <a:pt x="1078" y="1135"/>
                    </a:lnTo>
                    <a:lnTo>
                      <a:pt x="1080" y="1134"/>
                    </a:lnTo>
                    <a:lnTo>
                      <a:pt x="1082" y="1134"/>
                    </a:lnTo>
                    <a:lnTo>
                      <a:pt x="1085" y="1135"/>
                    </a:lnTo>
                    <a:lnTo>
                      <a:pt x="1088" y="1136"/>
                    </a:lnTo>
                    <a:lnTo>
                      <a:pt x="1089" y="1137"/>
                    </a:lnTo>
                    <a:lnTo>
                      <a:pt x="1091" y="1138"/>
                    </a:lnTo>
                    <a:lnTo>
                      <a:pt x="1093" y="1138"/>
                    </a:lnTo>
                    <a:lnTo>
                      <a:pt x="1095" y="1138"/>
                    </a:lnTo>
                    <a:lnTo>
                      <a:pt x="1099" y="1137"/>
                    </a:lnTo>
                    <a:lnTo>
                      <a:pt x="1100" y="1137"/>
                    </a:lnTo>
                    <a:lnTo>
                      <a:pt x="1101" y="1135"/>
                    </a:lnTo>
                    <a:lnTo>
                      <a:pt x="1101" y="1134"/>
                    </a:lnTo>
                    <a:lnTo>
                      <a:pt x="1101" y="1132"/>
                    </a:lnTo>
                    <a:lnTo>
                      <a:pt x="1100" y="1131"/>
                    </a:lnTo>
                    <a:lnTo>
                      <a:pt x="1101" y="1129"/>
                    </a:lnTo>
                    <a:lnTo>
                      <a:pt x="1101" y="1127"/>
                    </a:lnTo>
                    <a:lnTo>
                      <a:pt x="1102" y="1126"/>
                    </a:lnTo>
                    <a:lnTo>
                      <a:pt x="1104" y="1125"/>
                    </a:lnTo>
                    <a:lnTo>
                      <a:pt x="1106" y="1123"/>
                    </a:lnTo>
                    <a:lnTo>
                      <a:pt x="1108" y="1119"/>
                    </a:lnTo>
                    <a:lnTo>
                      <a:pt x="1110" y="1116"/>
                    </a:lnTo>
                    <a:lnTo>
                      <a:pt x="1111" y="1113"/>
                    </a:lnTo>
                    <a:lnTo>
                      <a:pt x="1111" y="1108"/>
                    </a:lnTo>
                    <a:lnTo>
                      <a:pt x="1111" y="1105"/>
                    </a:lnTo>
                    <a:lnTo>
                      <a:pt x="1114" y="1100"/>
                    </a:lnTo>
                    <a:lnTo>
                      <a:pt x="1121" y="1099"/>
                    </a:lnTo>
                    <a:lnTo>
                      <a:pt x="1128" y="1098"/>
                    </a:lnTo>
                    <a:lnTo>
                      <a:pt x="1136" y="1098"/>
                    </a:lnTo>
                    <a:lnTo>
                      <a:pt x="1141" y="1098"/>
                    </a:lnTo>
                    <a:lnTo>
                      <a:pt x="1148" y="1097"/>
                    </a:lnTo>
                    <a:lnTo>
                      <a:pt x="1156" y="1096"/>
                    </a:lnTo>
                    <a:lnTo>
                      <a:pt x="1163" y="1096"/>
                    </a:lnTo>
                    <a:lnTo>
                      <a:pt x="1171" y="1097"/>
                    </a:lnTo>
                    <a:lnTo>
                      <a:pt x="1176" y="1100"/>
                    </a:lnTo>
                    <a:lnTo>
                      <a:pt x="1177" y="1105"/>
                    </a:lnTo>
                    <a:lnTo>
                      <a:pt x="1174" y="1108"/>
                    </a:lnTo>
                    <a:lnTo>
                      <a:pt x="1172" y="1112"/>
                    </a:lnTo>
                    <a:lnTo>
                      <a:pt x="1170" y="1114"/>
                    </a:lnTo>
                    <a:lnTo>
                      <a:pt x="1168" y="1117"/>
                    </a:lnTo>
                    <a:lnTo>
                      <a:pt x="1167" y="1120"/>
                    </a:lnTo>
                    <a:lnTo>
                      <a:pt x="1166" y="1124"/>
                    </a:lnTo>
                    <a:lnTo>
                      <a:pt x="1166" y="1127"/>
                    </a:lnTo>
                    <a:lnTo>
                      <a:pt x="1165" y="1137"/>
                    </a:lnTo>
                    <a:lnTo>
                      <a:pt x="1159" y="1145"/>
                    </a:lnTo>
                    <a:lnTo>
                      <a:pt x="1150" y="1149"/>
                    </a:lnTo>
                    <a:lnTo>
                      <a:pt x="1148" y="1149"/>
                    </a:lnTo>
                    <a:lnTo>
                      <a:pt x="1145" y="1149"/>
                    </a:lnTo>
                    <a:lnTo>
                      <a:pt x="1143" y="1150"/>
                    </a:lnTo>
                    <a:lnTo>
                      <a:pt x="1140" y="1151"/>
                    </a:lnTo>
                    <a:lnTo>
                      <a:pt x="1139" y="1153"/>
                    </a:lnTo>
                    <a:lnTo>
                      <a:pt x="1141" y="1156"/>
                    </a:lnTo>
                    <a:lnTo>
                      <a:pt x="1144" y="1157"/>
                    </a:lnTo>
                    <a:lnTo>
                      <a:pt x="1146" y="1158"/>
                    </a:lnTo>
                    <a:lnTo>
                      <a:pt x="1148" y="1160"/>
                    </a:lnTo>
                    <a:lnTo>
                      <a:pt x="1150" y="1163"/>
                    </a:lnTo>
                    <a:lnTo>
                      <a:pt x="1152" y="1169"/>
                    </a:lnTo>
                    <a:lnTo>
                      <a:pt x="1155" y="1173"/>
                    </a:lnTo>
                    <a:lnTo>
                      <a:pt x="1158" y="1178"/>
                    </a:lnTo>
                    <a:lnTo>
                      <a:pt x="1163" y="1180"/>
                    </a:lnTo>
                    <a:lnTo>
                      <a:pt x="1172" y="1180"/>
                    </a:lnTo>
                    <a:lnTo>
                      <a:pt x="1181" y="1178"/>
                    </a:lnTo>
                    <a:lnTo>
                      <a:pt x="1188" y="1180"/>
                    </a:lnTo>
                    <a:lnTo>
                      <a:pt x="1197" y="1180"/>
                    </a:lnTo>
                    <a:lnTo>
                      <a:pt x="1204" y="1179"/>
                    </a:lnTo>
                    <a:lnTo>
                      <a:pt x="1212" y="1178"/>
                    </a:lnTo>
                    <a:lnTo>
                      <a:pt x="1215" y="1178"/>
                    </a:lnTo>
                    <a:lnTo>
                      <a:pt x="1219" y="1178"/>
                    </a:lnTo>
                    <a:lnTo>
                      <a:pt x="1223" y="1178"/>
                    </a:lnTo>
                    <a:lnTo>
                      <a:pt x="1226" y="1179"/>
                    </a:lnTo>
                    <a:lnTo>
                      <a:pt x="1227" y="1180"/>
                    </a:lnTo>
                    <a:lnTo>
                      <a:pt x="1230" y="1182"/>
                    </a:lnTo>
                    <a:lnTo>
                      <a:pt x="1231" y="1184"/>
                    </a:lnTo>
                    <a:lnTo>
                      <a:pt x="1232" y="1185"/>
                    </a:lnTo>
                    <a:lnTo>
                      <a:pt x="1234" y="1186"/>
                    </a:lnTo>
                    <a:lnTo>
                      <a:pt x="1236" y="1186"/>
                    </a:lnTo>
                    <a:lnTo>
                      <a:pt x="1238" y="1186"/>
                    </a:lnTo>
                    <a:lnTo>
                      <a:pt x="1241" y="1186"/>
                    </a:lnTo>
                    <a:lnTo>
                      <a:pt x="1243" y="1185"/>
                    </a:lnTo>
                    <a:lnTo>
                      <a:pt x="1248" y="1187"/>
                    </a:lnTo>
                    <a:lnTo>
                      <a:pt x="1250" y="1192"/>
                    </a:lnTo>
                    <a:lnTo>
                      <a:pt x="1250" y="1198"/>
                    </a:lnTo>
                    <a:lnTo>
                      <a:pt x="1250" y="1204"/>
                    </a:lnTo>
                    <a:lnTo>
                      <a:pt x="1249" y="1207"/>
                    </a:lnTo>
                    <a:lnTo>
                      <a:pt x="1248" y="1212"/>
                    </a:lnTo>
                    <a:lnTo>
                      <a:pt x="1247" y="1215"/>
                    </a:lnTo>
                    <a:lnTo>
                      <a:pt x="1247" y="1219"/>
                    </a:lnTo>
                    <a:lnTo>
                      <a:pt x="1245" y="1223"/>
                    </a:lnTo>
                    <a:lnTo>
                      <a:pt x="1245" y="1227"/>
                    </a:lnTo>
                    <a:lnTo>
                      <a:pt x="1244" y="1230"/>
                    </a:lnTo>
                    <a:lnTo>
                      <a:pt x="1243" y="1233"/>
                    </a:lnTo>
                    <a:lnTo>
                      <a:pt x="1242" y="1236"/>
                    </a:lnTo>
                    <a:lnTo>
                      <a:pt x="1241" y="1238"/>
                    </a:lnTo>
                    <a:lnTo>
                      <a:pt x="1241" y="1254"/>
                    </a:lnTo>
                    <a:lnTo>
                      <a:pt x="1243" y="1257"/>
                    </a:lnTo>
                    <a:lnTo>
                      <a:pt x="1245" y="1258"/>
                    </a:lnTo>
                    <a:lnTo>
                      <a:pt x="1248" y="1260"/>
                    </a:lnTo>
                    <a:lnTo>
                      <a:pt x="1252" y="1261"/>
                    </a:lnTo>
                    <a:lnTo>
                      <a:pt x="1254" y="1262"/>
                    </a:lnTo>
                    <a:lnTo>
                      <a:pt x="1255" y="1263"/>
                    </a:lnTo>
                    <a:lnTo>
                      <a:pt x="1256" y="1266"/>
                    </a:lnTo>
                    <a:lnTo>
                      <a:pt x="1258" y="1267"/>
                    </a:lnTo>
                    <a:lnTo>
                      <a:pt x="1259" y="1268"/>
                    </a:lnTo>
                    <a:lnTo>
                      <a:pt x="1263" y="1269"/>
                    </a:lnTo>
                    <a:lnTo>
                      <a:pt x="1267" y="1271"/>
                    </a:lnTo>
                    <a:lnTo>
                      <a:pt x="1271" y="1271"/>
                    </a:lnTo>
                    <a:lnTo>
                      <a:pt x="1276" y="1271"/>
                    </a:lnTo>
                    <a:lnTo>
                      <a:pt x="1288" y="1270"/>
                    </a:lnTo>
                    <a:lnTo>
                      <a:pt x="1297" y="1268"/>
                    </a:lnTo>
                    <a:lnTo>
                      <a:pt x="1304" y="1265"/>
                    </a:lnTo>
                    <a:lnTo>
                      <a:pt x="1317" y="1263"/>
                    </a:lnTo>
                    <a:lnTo>
                      <a:pt x="1328" y="1266"/>
                    </a:lnTo>
                    <a:lnTo>
                      <a:pt x="1337" y="1269"/>
                    </a:lnTo>
                    <a:lnTo>
                      <a:pt x="1339" y="1270"/>
                    </a:lnTo>
                    <a:lnTo>
                      <a:pt x="1340" y="1271"/>
                    </a:lnTo>
                    <a:lnTo>
                      <a:pt x="1342" y="1272"/>
                    </a:lnTo>
                    <a:lnTo>
                      <a:pt x="1345" y="1273"/>
                    </a:lnTo>
                    <a:lnTo>
                      <a:pt x="1347" y="1274"/>
                    </a:lnTo>
                    <a:lnTo>
                      <a:pt x="1350" y="1276"/>
                    </a:lnTo>
                    <a:lnTo>
                      <a:pt x="1352" y="1277"/>
                    </a:lnTo>
                    <a:lnTo>
                      <a:pt x="1353" y="1276"/>
                    </a:lnTo>
                    <a:lnTo>
                      <a:pt x="1357" y="1274"/>
                    </a:lnTo>
                    <a:lnTo>
                      <a:pt x="1359" y="1272"/>
                    </a:lnTo>
                    <a:lnTo>
                      <a:pt x="1363" y="1270"/>
                    </a:lnTo>
                    <a:lnTo>
                      <a:pt x="1365" y="1268"/>
                    </a:lnTo>
                    <a:lnTo>
                      <a:pt x="1368" y="1265"/>
                    </a:lnTo>
                    <a:lnTo>
                      <a:pt x="1375" y="1261"/>
                    </a:lnTo>
                    <a:lnTo>
                      <a:pt x="1377" y="1257"/>
                    </a:lnTo>
                    <a:lnTo>
                      <a:pt x="1379" y="1252"/>
                    </a:lnTo>
                    <a:lnTo>
                      <a:pt x="1381" y="1247"/>
                    </a:lnTo>
                    <a:lnTo>
                      <a:pt x="1386" y="1243"/>
                    </a:lnTo>
                    <a:lnTo>
                      <a:pt x="1388" y="1243"/>
                    </a:lnTo>
                    <a:lnTo>
                      <a:pt x="1389" y="1240"/>
                    </a:lnTo>
                    <a:lnTo>
                      <a:pt x="1391" y="1239"/>
                    </a:lnTo>
                    <a:lnTo>
                      <a:pt x="1392" y="1238"/>
                    </a:lnTo>
                    <a:lnTo>
                      <a:pt x="1395" y="1239"/>
                    </a:lnTo>
                    <a:lnTo>
                      <a:pt x="1397" y="1239"/>
                    </a:lnTo>
                    <a:lnTo>
                      <a:pt x="1398" y="1240"/>
                    </a:lnTo>
                    <a:lnTo>
                      <a:pt x="1398" y="1240"/>
                    </a:lnTo>
                    <a:lnTo>
                      <a:pt x="1400" y="1240"/>
                    </a:lnTo>
                    <a:lnTo>
                      <a:pt x="1401" y="1241"/>
                    </a:lnTo>
                    <a:lnTo>
                      <a:pt x="1402" y="1240"/>
                    </a:lnTo>
                    <a:lnTo>
                      <a:pt x="1403" y="1239"/>
                    </a:lnTo>
                    <a:lnTo>
                      <a:pt x="1405" y="1238"/>
                    </a:lnTo>
                    <a:lnTo>
                      <a:pt x="1406" y="1237"/>
                    </a:lnTo>
                    <a:lnTo>
                      <a:pt x="1407" y="1235"/>
                    </a:lnTo>
                    <a:lnTo>
                      <a:pt x="1408" y="1234"/>
                    </a:lnTo>
                    <a:lnTo>
                      <a:pt x="1430" y="1229"/>
                    </a:lnTo>
                    <a:lnTo>
                      <a:pt x="1449" y="1220"/>
                    </a:lnTo>
                    <a:lnTo>
                      <a:pt x="1450" y="1219"/>
                    </a:lnTo>
                    <a:lnTo>
                      <a:pt x="1452" y="1218"/>
                    </a:lnTo>
                    <a:lnTo>
                      <a:pt x="1454" y="1217"/>
                    </a:lnTo>
                    <a:lnTo>
                      <a:pt x="1457" y="1217"/>
                    </a:lnTo>
                    <a:lnTo>
                      <a:pt x="1460" y="1217"/>
                    </a:lnTo>
                    <a:lnTo>
                      <a:pt x="1462" y="1217"/>
                    </a:lnTo>
                    <a:lnTo>
                      <a:pt x="1463" y="1218"/>
                    </a:lnTo>
                    <a:lnTo>
                      <a:pt x="1464" y="1219"/>
                    </a:lnTo>
                    <a:lnTo>
                      <a:pt x="1464" y="1220"/>
                    </a:lnTo>
                    <a:lnTo>
                      <a:pt x="1462" y="1224"/>
                    </a:lnTo>
                    <a:lnTo>
                      <a:pt x="1460" y="1225"/>
                    </a:lnTo>
                    <a:lnTo>
                      <a:pt x="1457" y="1226"/>
                    </a:lnTo>
                    <a:lnTo>
                      <a:pt x="1454" y="1226"/>
                    </a:lnTo>
                    <a:lnTo>
                      <a:pt x="1452" y="1227"/>
                    </a:lnTo>
                    <a:lnTo>
                      <a:pt x="1450" y="1228"/>
                    </a:lnTo>
                    <a:lnTo>
                      <a:pt x="1449" y="1229"/>
                    </a:lnTo>
                    <a:lnTo>
                      <a:pt x="1446" y="1232"/>
                    </a:lnTo>
                    <a:lnTo>
                      <a:pt x="1448" y="1234"/>
                    </a:lnTo>
                    <a:lnTo>
                      <a:pt x="1448" y="1236"/>
                    </a:lnTo>
                    <a:lnTo>
                      <a:pt x="1449" y="1238"/>
                    </a:lnTo>
                    <a:lnTo>
                      <a:pt x="1450" y="1241"/>
                    </a:lnTo>
                    <a:lnTo>
                      <a:pt x="1451" y="1244"/>
                    </a:lnTo>
                    <a:lnTo>
                      <a:pt x="1451" y="1245"/>
                    </a:lnTo>
                    <a:lnTo>
                      <a:pt x="1449" y="1247"/>
                    </a:lnTo>
                    <a:lnTo>
                      <a:pt x="1446" y="1249"/>
                    </a:lnTo>
                    <a:lnTo>
                      <a:pt x="1443" y="1250"/>
                    </a:lnTo>
                    <a:lnTo>
                      <a:pt x="1440" y="1252"/>
                    </a:lnTo>
                    <a:lnTo>
                      <a:pt x="1438" y="1255"/>
                    </a:lnTo>
                    <a:lnTo>
                      <a:pt x="1438" y="1256"/>
                    </a:lnTo>
                    <a:lnTo>
                      <a:pt x="1438" y="1257"/>
                    </a:lnTo>
                    <a:lnTo>
                      <a:pt x="1439" y="1258"/>
                    </a:lnTo>
                    <a:lnTo>
                      <a:pt x="1441" y="1259"/>
                    </a:lnTo>
                    <a:lnTo>
                      <a:pt x="1442" y="1259"/>
                    </a:lnTo>
                    <a:lnTo>
                      <a:pt x="1444" y="1260"/>
                    </a:lnTo>
                    <a:lnTo>
                      <a:pt x="1445" y="1261"/>
                    </a:lnTo>
                    <a:lnTo>
                      <a:pt x="1446" y="1262"/>
                    </a:lnTo>
                    <a:lnTo>
                      <a:pt x="1446" y="1263"/>
                    </a:lnTo>
                    <a:lnTo>
                      <a:pt x="1449" y="1265"/>
                    </a:lnTo>
                    <a:lnTo>
                      <a:pt x="1450" y="1266"/>
                    </a:lnTo>
                    <a:lnTo>
                      <a:pt x="1451" y="1265"/>
                    </a:lnTo>
                    <a:lnTo>
                      <a:pt x="1453" y="1263"/>
                    </a:lnTo>
                    <a:lnTo>
                      <a:pt x="1454" y="1261"/>
                    </a:lnTo>
                    <a:lnTo>
                      <a:pt x="1455" y="1260"/>
                    </a:lnTo>
                    <a:lnTo>
                      <a:pt x="1457" y="1258"/>
                    </a:lnTo>
                    <a:lnTo>
                      <a:pt x="1459" y="1256"/>
                    </a:lnTo>
                    <a:lnTo>
                      <a:pt x="1459" y="1254"/>
                    </a:lnTo>
                    <a:lnTo>
                      <a:pt x="1457" y="1251"/>
                    </a:lnTo>
                    <a:lnTo>
                      <a:pt x="1456" y="1250"/>
                    </a:lnTo>
                    <a:lnTo>
                      <a:pt x="1455" y="1248"/>
                    </a:lnTo>
                    <a:lnTo>
                      <a:pt x="1454" y="1245"/>
                    </a:lnTo>
                    <a:lnTo>
                      <a:pt x="1453" y="1243"/>
                    </a:lnTo>
                    <a:lnTo>
                      <a:pt x="1454" y="1240"/>
                    </a:lnTo>
                    <a:lnTo>
                      <a:pt x="1455" y="1238"/>
                    </a:lnTo>
                    <a:lnTo>
                      <a:pt x="1457" y="1236"/>
                    </a:lnTo>
                    <a:lnTo>
                      <a:pt x="1465" y="1234"/>
                    </a:lnTo>
                    <a:lnTo>
                      <a:pt x="1474" y="1232"/>
                    </a:lnTo>
                    <a:lnTo>
                      <a:pt x="1484" y="1229"/>
                    </a:lnTo>
                    <a:lnTo>
                      <a:pt x="1482" y="1227"/>
                    </a:lnTo>
                    <a:lnTo>
                      <a:pt x="1481" y="1226"/>
                    </a:lnTo>
                    <a:lnTo>
                      <a:pt x="1478" y="1225"/>
                    </a:lnTo>
                    <a:lnTo>
                      <a:pt x="1477" y="1223"/>
                    </a:lnTo>
                    <a:lnTo>
                      <a:pt x="1477" y="1220"/>
                    </a:lnTo>
                    <a:lnTo>
                      <a:pt x="1478" y="1219"/>
                    </a:lnTo>
                    <a:lnTo>
                      <a:pt x="1481" y="1219"/>
                    </a:lnTo>
                    <a:lnTo>
                      <a:pt x="1483" y="1219"/>
                    </a:lnTo>
                    <a:lnTo>
                      <a:pt x="1485" y="1220"/>
                    </a:lnTo>
                    <a:lnTo>
                      <a:pt x="1486" y="1222"/>
                    </a:lnTo>
                    <a:lnTo>
                      <a:pt x="1488" y="1223"/>
                    </a:lnTo>
                    <a:lnTo>
                      <a:pt x="1487" y="1224"/>
                    </a:lnTo>
                    <a:lnTo>
                      <a:pt x="1487" y="1225"/>
                    </a:lnTo>
                    <a:lnTo>
                      <a:pt x="1486" y="1226"/>
                    </a:lnTo>
                    <a:lnTo>
                      <a:pt x="1486" y="1227"/>
                    </a:lnTo>
                    <a:lnTo>
                      <a:pt x="1486" y="1227"/>
                    </a:lnTo>
                    <a:lnTo>
                      <a:pt x="1488" y="1227"/>
                    </a:lnTo>
                    <a:lnTo>
                      <a:pt x="1499" y="1227"/>
                    </a:lnTo>
                    <a:lnTo>
                      <a:pt x="1503" y="1228"/>
                    </a:lnTo>
                    <a:lnTo>
                      <a:pt x="1505" y="1228"/>
                    </a:lnTo>
                    <a:lnTo>
                      <a:pt x="1506" y="1229"/>
                    </a:lnTo>
                    <a:lnTo>
                      <a:pt x="1507" y="1230"/>
                    </a:lnTo>
                    <a:lnTo>
                      <a:pt x="1508" y="1232"/>
                    </a:lnTo>
                    <a:lnTo>
                      <a:pt x="1508" y="1234"/>
                    </a:lnTo>
                    <a:lnTo>
                      <a:pt x="1508" y="1236"/>
                    </a:lnTo>
                    <a:lnTo>
                      <a:pt x="1508" y="1238"/>
                    </a:lnTo>
                    <a:lnTo>
                      <a:pt x="1509" y="1239"/>
                    </a:lnTo>
                    <a:lnTo>
                      <a:pt x="1511" y="1240"/>
                    </a:lnTo>
                    <a:lnTo>
                      <a:pt x="1515" y="1240"/>
                    </a:lnTo>
                    <a:lnTo>
                      <a:pt x="1521" y="1239"/>
                    </a:lnTo>
                    <a:lnTo>
                      <a:pt x="1530" y="1237"/>
                    </a:lnTo>
                    <a:lnTo>
                      <a:pt x="1539" y="1237"/>
                    </a:lnTo>
                    <a:lnTo>
                      <a:pt x="1545" y="1238"/>
                    </a:lnTo>
                    <a:lnTo>
                      <a:pt x="1547" y="1239"/>
                    </a:lnTo>
                    <a:lnTo>
                      <a:pt x="1547" y="1239"/>
                    </a:lnTo>
                    <a:lnTo>
                      <a:pt x="1547" y="1241"/>
                    </a:lnTo>
                    <a:lnTo>
                      <a:pt x="1549" y="1241"/>
                    </a:lnTo>
                    <a:lnTo>
                      <a:pt x="1550" y="1243"/>
                    </a:lnTo>
                    <a:lnTo>
                      <a:pt x="1551" y="1243"/>
                    </a:lnTo>
                    <a:lnTo>
                      <a:pt x="1552" y="1243"/>
                    </a:lnTo>
                    <a:lnTo>
                      <a:pt x="1554" y="1243"/>
                    </a:lnTo>
                    <a:lnTo>
                      <a:pt x="1563" y="1241"/>
                    </a:lnTo>
                    <a:lnTo>
                      <a:pt x="1572" y="1238"/>
                    </a:lnTo>
                    <a:lnTo>
                      <a:pt x="1574" y="1236"/>
                    </a:lnTo>
                    <a:lnTo>
                      <a:pt x="1576" y="1235"/>
                    </a:lnTo>
                    <a:lnTo>
                      <a:pt x="1580" y="1234"/>
                    </a:lnTo>
                    <a:lnTo>
                      <a:pt x="1583" y="1234"/>
                    </a:lnTo>
                    <a:lnTo>
                      <a:pt x="1586" y="1233"/>
                    </a:lnTo>
                    <a:lnTo>
                      <a:pt x="1590" y="1229"/>
                    </a:lnTo>
                    <a:lnTo>
                      <a:pt x="1592" y="1228"/>
                    </a:lnTo>
                    <a:lnTo>
                      <a:pt x="1594" y="1228"/>
                    </a:lnTo>
                    <a:lnTo>
                      <a:pt x="1596" y="1228"/>
                    </a:lnTo>
                    <a:lnTo>
                      <a:pt x="1597" y="1228"/>
                    </a:lnTo>
                    <a:lnTo>
                      <a:pt x="1598" y="1229"/>
                    </a:lnTo>
                    <a:lnTo>
                      <a:pt x="1599" y="1230"/>
                    </a:lnTo>
                    <a:lnTo>
                      <a:pt x="1599" y="1232"/>
                    </a:lnTo>
                    <a:lnTo>
                      <a:pt x="1601" y="1233"/>
                    </a:lnTo>
                    <a:lnTo>
                      <a:pt x="1602" y="1234"/>
                    </a:lnTo>
                    <a:lnTo>
                      <a:pt x="1603" y="1234"/>
                    </a:lnTo>
                    <a:lnTo>
                      <a:pt x="1604" y="1235"/>
                    </a:lnTo>
                    <a:lnTo>
                      <a:pt x="1604" y="1236"/>
                    </a:lnTo>
                    <a:lnTo>
                      <a:pt x="1604" y="1237"/>
                    </a:lnTo>
                    <a:lnTo>
                      <a:pt x="1604" y="1238"/>
                    </a:lnTo>
                    <a:lnTo>
                      <a:pt x="1604" y="1239"/>
                    </a:lnTo>
                    <a:lnTo>
                      <a:pt x="1605" y="1239"/>
                    </a:lnTo>
                    <a:lnTo>
                      <a:pt x="1607" y="1240"/>
                    </a:lnTo>
                    <a:lnTo>
                      <a:pt x="1609" y="1241"/>
                    </a:lnTo>
                    <a:lnTo>
                      <a:pt x="1613" y="1243"/>
                    </a:lnTo>
                    <a:lnTo>
                      <a:pt x="1615" y="1244"/>
                    </a:lnTo>
                    <a:lnTo>
                      <a:pt x="1618" y="1245"/>
                    </a:lnTo>
                    <a:lnTo>
                      <a:pt x="1618" y="1243"/>
                    </a:lnTo>
                    <a:lnTo>
                      <a:pt x="1619" y="1241"/>
                    </a:lnTo>
                    <a:lnTo>
                      <a:pt x="1620" y="1241"/>
                    </a:lnTo>
                    <a:lnTo>
                      <a:pt x="1621" y="1241"/>
                    </a:lnTo>
                    <a:lnTo>
                      <a:pt x="1625" y="1243"/>
                    </a:lnTo>
                    <a:lnTo>
                      <a:pt x="1626" y="1244"/>
                    </a:lnTo>
                    <a:lnTo>
                      <a:pt x="1628" y="1245"/>
                    </a:lnTo>
                    <a:lnTo>
                      <a:pt x="1629" y="1246"/>
                    </a:lnTo>
                    <a:lnTo>
                      <a:pt x="1630" y="1246"/>
                    </a:lnTo>
                    <a:lnTo>
                      <a:pt x="1631" y="1247"/>
                    </a:lnTo>
                    <a:lnTo>
                      <a:pt x="1632" y="1249"/>
                    </a:lnTo>
                    <a:lnTo>
                      <a:pt x="1631" y="1250"/>
                    </a:lnTo>
                    <a:lnTo>
                      <a:pt x="1630" y="1252"/>
                    </a:lnTo>
                    <a:lnTo>
                      <a:pt x="1628" y="1254"/>
                    </a:lnTo>
                    <a:lnTo>
                      <a:pt x="1626" y="1255"/>
                    </a:lnTo>
                    <a:lnTo>
                      <a:pt x="1624" y="1255"/>
                    </a:lnTo>
                    <a:lnTo>
                      <a:pt x="1623" y="1256"/>
                    </a:lnTo>
                    <a:lnTo>
                      <a:pt x="1621" y="1257"/>
                    </a:lnTo>
                    <a:lnTo>
                      <a:pt x="1621" y="1258"/>
                    </a:lnTo>
                    <a:lnTo>
                      <a:pt x="1621" y="1258"/>
                    </a:lnTo>
                    <a:lnTo>
                      <a:pt x="1624" y="1258"/>
                    </a:lnTo>
                    <a:lnTo>
                      <a:pt x="1625" y="1258"/>
                    </a:lnTo>
                    <a:lnTo>
                      <a:pt x="1627" y="1257"/>
                    </a:lnTo>
                    <a:lnTo>
                      <a:pt x="1628" y="1257"/>
                    </a:lnTo>
                    <a:lnTo>
                      <a:pt x="1630" y="1256"/>
                    </a:lnTo>
                    <a:lnTo>
                      <a:pt x="1631" y="1256"/>
                    </a:lnTo>
                    <a:lnTo>
                      <a:pt x="1641" y="1255"/>
                    </a:lnTo>
                    <a:lnTo>
                      <a:pt x="1651" y="1257"/>
                    </a:lnTo>
                    <a:lnTo>
                      <a:pt x="1658" y="1262"/>
                    </a:lnTo>
                    <a:lnTo>
                      <a:pt x="1659" y="1265"/>
                    </a:lnTo>
                    <a:lnTo>
                      <a:pt x="1661" y="1266"/>
                    </a:lnTo>
                    <a:lnTo>
                      <a:pt x="1662" y="1268"/>
                    </a:lnTo>
                    <a:lnTo>
                      <a:pt x="1663" y="1270"/>
                    </a:lnTo>
                    <a:lnTo>
                      <a:pt x="1664" y="1271"/>
                    </a:lnTo>
                    <a:lnTo>
                      <a:pt x="1662" y="1278"/>
                    </a:lnTo>
                    <a:lnTo>
                      <a:pt x="1664" y="1276"/>
                    </a:lnTo>
                    <a:lnTo>
                      <a:pt x="1669" y="1276"/>
                    </a:lnTo>
                    <a:lnTo>
                      <a:pt x="1673" y="1277"/>
                    </a:lnTo>
                    <a:lnTo>
                      <a:pt x="1677" y="1279"/>
                    </a:lnTo>
                    <a:lnTo>
                      <a:pt x="1680" y="1280"/>
                    </a:lnTo>
                    <a:lnTo>
                      <a:pt x="1681" y="1281"/>
                    </a:lnTo>
                    <a:lnTo>
                      <a:pt x="1682" y="1281"/>
                    </a:lnTo>
                    <a:lnTo>
                      <a:pt x="1682" y="1283"/>
                    </a:lnTo>
                    <a:lnTo>
                      <a:pt x="1684" y="1284"/>
                    </a:lnTo>
                    <a:lnTo>
                      <a:pt x="1685" y="1285"/>
                    </a:lnTo>
                    <a:lnTo>
                      <a:pt x="1688" y="1285"/>
                    </a:lnTo>
                    <a:lnTo>
                      <a:pt x="1690" y="1285"/>
                    </a:lnTo>
                    <a:lnTo>
                      <a:pt x="1693" y="1285"/>
                    </a:lnTo>
                    <a:lnTo>
                      <a:pt x="1695" y="1285"/>
                    </a:lnTo>
                    <a:lnTo>
                      <a:pt x="1697" y="1284"/>
                    </a:lnTo>
                    <a:lnTo>
                      <a:pt x="1700" y="1284"/>
                    </a:lnTo>
                    <a:lnTo>
                      <a:pt x="1717" y="1280"/>
                    </a:lnTo>
                    <a:lnTo>
                      <a:pt x="1735" y="1280"/>
                    </a:lnTo>
                    <a:lnTo>
                      <a:pt x="1739" y="1281"/>
                    </a:lnTo>
                    <a:lnTo>
                      <a:pt x="1744" y="1282"/>
                    </a:lnTo>
                    <a:lnTo>
                      <a:pt x="1748" y="1284"/>
                    </a:lnTo>
                    <a:lnTo>
                      <a:pt x="1754" y="1287"/>
                    </a:lnTo>
                    <a:lnTo>
                      <a:pt x="1759" y="1289"/>
                    </a:lnTo>
                    <a:lnTo>
                      <a:pt x="1763" y="1291"/>
                    </a:lnTo>
                    <a:lnTo>
                      <a:pt x="1765" y="1293"/>
                    </a:lnTo>
                    <a:lnTo>
                      <a:pt x="1766" y="1295"/>
                    </a:lnTo>
                    <a:lnTo>
                      <a:pt x="1767" y="1296"/>
                    </a:lnTo>
                    <a:lnTo>
                      <a:pt x="1767" y="1299"/>
                    </a:lnTo>
                    <a:lnTo>
                      <a:pt x="1768" y="1302"/>
                    </a:lnTo>
                    <a:lnTo>
                      <a:pt x="1768" y="1306"/>
                    </a:lnTo>
                    <a:lnTo>
                      <a:pt x="1768" y="1311"/>
                    </a:lnTo>
                    <a:lnTo>
                      <a:pt x="1770" y="1315"/>
                    </a:lnTo>
                    <a:lnTo>
                      <a:pt x="1771" y="1316"/>
                    </a:lnTo>
                    <a:lnTo>
                      <a:pt x="1773" y="1318"/>
                    </a:lnTo>
                    <a:lnTo>
                      <a:pt x="1774" y="1320"/>
                    </a:lnTo>
                    <a:lnTo>
                      <a:pt x="1777" y="1321"/>
                    </a:lnTo>
                    <a:lnTo>
                      <a:pt x="1778" y="1323"/>
                    </a:lnTo>
                    <a:lnTo>
                      <a:pt x="1779" y="1324"/>
                    </a:lnTo>
                    <a:lnTo>
                      <a:pt x="1779" y="1327"/>
                    </a:lnTo>
                    <a:lnTo>
                      <a:pt x="1778" y="1329"/>
                    </a:lnTo>
                    <a:lnTo>
                      <a:pt x="1777" y="1333"/>
                    </a:lnTo>
                    <a:lnTo>
                      <a:pt x="1773" y="1336"/>
                    </a:lnTo>
                    <a:lnTo>
                      <a:pt x="1771" y="1338"/>
                    </a:lnTo>
                    <a:lnTo>
                      <a:pt x="1768" y="1340"/>
                    </a:lnTo>
                    <a:lnTo>
                      <a:pt x="1766" y="1344"/>
                    </a:lnTo>
                    <a:lnTo>
                      <a:pt x="1752" y="1350"/>
                    </a:lnTo>
                    <a:lnTo>
                      <a:pt x="1751" y="1352"/>
                    </a:lnTo>
                    <a:lnTo>
                      <a:pt x="1750" y="1354"/>
                    </a:lnTo>
                    <a:lnTo>
                      <a:pt x="1749" y="1356"/>
                    </a:lnTo>
                    <a:lnTo>
                      <a:pt x="1747" y="1359"/>
                    </a:lnTo>
                    <a:lnTo>
                      <a:pt x="1744" y="1361"/>
                    </a:lnTo>
                    <a:lnTo>
                      <a:pt x="1741" y="1364"/>
                    </a:lnTo>
                    <a:lnTo>
                      <a:pt x="1739" y="1366"/>
                    </a:lnTo>
                    <a:lnTo>
                      <a:pt x="1738" y="1368"/>
                    </a:lnTo>
                    <a:lnTo>
                      <a:pt x="1737" y="1368"/>
                    </a:lnTo>
                    <a:lnTo>
                      <a:pt x="1744" y="1366"/>
                    </a:lnTo>
                    <a:lnTo>
                      <a:pt x="1749" y="1363"/>
                    </a:lnTo>
                    <a:lnTo>
                      <a:pt x="1755" y="1359"/>
                    </a:lnTo>
                    <a:lnTo>
                      <a:pt x="1756" y="1359"/>
                    </a:lnTo>
                    <a:lnTo>
                      <a:pt x="1757" y="1359"/>
                    </a:lnTo>
                    <a:lnTo>
                      <a:pt x="1757" y="1361"/>
                    </a:lnTo>
                    <a:lnTo>
                      <a:pt x="1757" y="1363"/>
                    </a:lnTo>
                    <a:lnTo>
                      <a:pt x="1758" y="1365"/>
                    </a:lnTo>
                    <a:lnTo>
                      <a:pt x="1758" y="1367"/>
                    </a:lnTo>
                    <a:lnTo>
                      <a:pt x="1758" y="1368"/>
                    </a:lnTo>
                    <a:lnTo>
                      <a:pt x="1759" y="1368"/>
                    </a:lnTo>
                    <a:lnTo>
                      <a:pt x="1763" y="1368"/>
                    </a:lnTo>
                    <a:lnTo>
                      <a:pt x="1772" y="1366"/>
                    </a:lnTo>
                    <a:lnTo>
                      <a:pt x="1779" y="1364"/>
                    </a:lnTo>
                    <a:lnTo>
                      <a:pt x="1780" y="1364"/>
                    </a:lnTo>
                    <a:lnTo>
                      <a:pt x="1781" y="1363"/>
                    </a:lnTo>
                    <a:lnTo>
                      <a:pt x="1780" y="1363"/>
                    </a:lnTo>
                    <a:lnTo>
                      <a:pt x="1779" y="1361"/>
                    </a:lnTo>
                    <a:lnTo>
                      <a:pt x="1777" y="1361"/>
                    </a:lnTo>
                    <a:lnTo>
                      <a:pt x="1773" y="1363"/>
                    </a:lnTo>
                    <a:lnTo>
                      <a:pt x="1771" y="1364"/>
                    </a:lnTo>
                    <a:lnTo>
                      <a:pt x="1768" y="1365"/>
                    </a:lnTo>
                    <a:lnTo>
                      <a:pt x="1766" y="1366"/>
                    </a:lnTo>
                    <a:lnTo>
                      <a:pt x="1763" y="1366"/>
                    </a:lnTo>
                    <a:lnTo>
                      <a:pt x="1762" y="1365"/>
                    </a:lnTo>
                    <a:lnTo>
                      <a:pt x="1761" y="1364"/>
                    </a:lnTo>
                    <a:lnTo>
                      <a:pt x="1760" y="1361"/>
                    </a:lnTo>
                    <a:lnTo>
                      <a:pt x="1760" y="1359"/>
                    </a:lnTo>
                    <a:lnTo>
                      <a:pt x="1761" y="1356"/>
                    </a:lnTo>
                    <a:lnTo>
                      <a:pt x="1762" y="1354"/>
                    </a:lnTo>
                    <a:lnTo>
                      <a:pt x="1763" y="1350"/>
                    </a:lnTo>
                    <a:lnTo>
                      <a:pt x="1769" y="1346"/>
                    </a:lnTo>
                    <a:lnTo>
                      <a:pt x="1776" y="1345"/>
                    </a:lnTo>
                    <a:lnTo>
                      <a:pt x="1781" y="1346"/>
                    </a:lnTo>
                    <a:lnTo>
                      <a:pt x="1783" y="1346"/>
                    </a:lnTo>
                    <a:lnTo>
                      <a:pt x="1785" y="1345"/>
                    </a:lnTo>
                    <a:lnTo>
                      <a:pt x="1789" y="1345"/>
                    </a:lnTo>
                    <a:lnTo>
                      <a:pt x="1791" y="1344"/>
                    </a:lnTo>
                    <a:lnTo>
                      <a:pt x="1794" y="1344"/>
                    </a:lnTo>
                    <a:lnTo>
                      <a:pt x="1795" y="1344"/>
                    </a:lnTo>
                    <a:lnTo>
                      <a:pt x="1796" y="1344"/>
                    </a:lnTo>
                    <a:lnTo>
                      <a:pt x="1796" y="1345"/>
                    </a:lnTo>
                    <a:lnTo>
                      <a:pt x="1796" y="1347"/>
                    </a:lnTo>
                    <a:lnTo>
                      <a:pt x="1794" y="1348"/>
                    </a:lnTo>
                    <a:lnTo>
                      <a:pt x="1793" y="1350"/>
                    </a:lnTo>
                    <a:lnTo>
                      <a:pt x="1791" y="1352"/>
                    </a:lnTo>
                    <a:lnTo>
                      <a:pt x="1790" y="1353"/>
                    </a:lnTo>
                    <a:lnTo>
                      <a:pt x="1790" y="1354"/>
                    </a:lnTo>
                    <a:lnTo>
                      <a:pt x="1789" y="1355"/>
                    </a:lnTo>
                    <a:lnTo>
                      <a:pt x="1788" y="1356"/>
                    </a:lnTo>
                    <a:lnTo>
                      <a:pt x="1788" y="1358"/>
                    </a:lnTo>
                    <a:lnTo>
                      <a:pt x="1787" y="1359"/>
                    </a:lnTo>
                    <a:lnTo>
                      <a:pt x="1787" y="1359"/>
                    </a:lnTo>
                    <a:lnTo>
                      <a:pt x="1788" y="1359"/>
                    </a:lnTo>
                    <a:lnTo>
                      <a:pt x="1793" y="1356"/>
                    </a:lnTo>
                    <a:lnTo>
                      <a:pt x="1798" y="1350"/>
                    </a:lnTo>
                    <a:lnTo>
                      <a:pt x="1803" y="1347"/>
                    </a:lnTo>
                    <a:lnTo>
                      <a:pt x="1812" y="1344"/>
                    </a:lnTo>
                    <a:lnTo>
                      <a:pt x="1814" y="1345"/>
                    </a:lnTo>
                    <a:lnTo>
                      <a:pt x="1816" y="1346"/>
                    </a:lnTo>
                    <a:lnTo>
                      <a:pt x="1819" y="1346"/>
                    </a:lnTo>
                    <a:lnTo>
                      <a:pt x="1827" y="1346"/>
                    </a:lnTo>
                    <a:lnTo>
                      <a:pt x="1828" y="1345"/>
                    </a:lnTo>
                    <a:lnTo>
                      <a:pt x="1831" y="1345"/>
                    </a:lnTo>
                    <a:lnTo>
                      <a:pt x="1831" y="1346"/>
                    </a:lnTo>
                    <a:lnTo>
                      <a:pt x="1832" y="1346"/>
                    </a:lnTo>
                    <a:lnTo>
                      <a:pt x="1833" y="1347"/>
                    </a:lnTo>
                    <a:lnTo>
                      <a:pt x="1835" y="1347"/>
                    </a:lnTo>
                    <a:lnTo>
                      <a:pt x="1836" y="1347"/>
                    </a:lnTo>
                    <a:lnTo>
                      <a:pt x="1838" y="1348"/>
                    </a:lnTo>
                    <a:lnTo>
                      <a:pt x="1842" y="1349"/>
                    </a:lnTo>
                    <a:lnTo>
                      <a:pt x="1845" y="1350"/>
                    </a:lnTo>
                    <a:lnTo>
                      <a:pt x="1847" y="1353"/>
                    </a:lnTo>
                    <a:lnTo>
                      <a:pt x="1849" y="1355"/>
                    </a:lnTo>
                    <a:lnTo>
                      <a:pt x="1848" y="1357"/>
                    </a:lnTo>
                    <a:lnTo>
                      <a:pt x="1847" y="1359"/>
                    </a:lnTo>
                    <a:lnTo>
                      <a:pt x="1845" y="1361"/>
                    </a:lnTo>
                    <a:lnTo>
                      <a:pt x="1844" y="1361"/>
                    </a:lnTo>
                    <a:lnTo>
                      <a:pt x="1844" y="1363"/>
                    </a:lnTo>
                    <a:lnTo>
                      <a:pt x="1844" y="1363"/>
                    </a:lnTo>
                    <a:lnTo>
                      <a:pt x="1845" y="1364"/>
                    </a:lnTo>
                    <a:lnTo>
                      <a:pt x="1845" y="1364"/>
                    </a:lnTo>
                    <a:lnTo>
                      <a:pt x="1848" y="1364"/>
                    </a:lnTo>
                    <a:lnTo>
                      <a:pt x="1850" y="1361"/>
                    </a:lnTo>
                    <a:lnTo>
                      <a:pt x="1854" y="1359"/>
                    </a:lnTo>
                    <a:lnTo>
                      <a:pt x="1856" y="1357"/>
                    </a:lnTo>
                    <a:lnTo>
                      <a:pt x="1859" y="1356"/>
                    </a:lnTo>
                    <a:lnTo>
                      <a:pt x="1863" y="1355"/>
                    </a:lnTo>
                    <a:lnTo>
                      <a:pt x="1866" y="1355"/>
                    </a:lnTo>
                    <a:lnTo>
                      <a:pt x="1868" y="1356"/>
                    </a:lnTo>
                    <a:lnTo>
                      <a:pt x="1871" y="1356"/>
                    </a:lnTo>
                    <a:lnTo>
                      <a:pt x="1874" y="1357"/>
                    </a:lnTo>
                    <a:lnTo>
                      <a:pt x="1876" y="1357"/>
                    </a:lnTo>
                    <a:lnTo>
                      <a:pt x="1878" y="1357"/>
                    </a:lnTo>
                    <a:lnTo>
                      <a:pt x="1880" y="1356"/>
                    </a:lnTo>
                    <a:lnTo>
                      <a:pt x="1882" y="1355"/>
                    </a:lnTo>
                    <a:lnTo>
                      <a:pt x="1883" y="1356"/>
                    </a:lnTo>
                    <a:lnTo>
                      <a:pt x="1886" y="1357"/>
                    </a:lnTo>
                    <a:lnTo>
                      <a:pt x="1888" y="1356"/>
                    </a:lnTo>
                    <a:lnTo>
                      <a:pt x="1891" y="1355"/>
                    </a:lnTo>
                    <a:lnTo>
                      <a:pt x="1893" y="1355"/>
                    </a:lnTo>
                    <a:lnTo>
                      <a:pt x="1896" y="1354"/>
                    </a:lnTo>
                    <a:lnTo>
                      <a:pt x="1899" y="1353"/>
                    </a:lnTo>
                    <a:lnTo>
                      <a:pt x="1902" y="1350"/>
                    </a:lnTo>
                    <a:lnTo>
                      <a:pt x="1909" y="1350"/>
                    </a:lnTo>
                    <a:lnTo>
                      <a:pt x="1912" y="1352"/>
                    </a:lnTo>
                    <a:lnTo>
                      <a:pt x="1915" y="1353"/>
                    </a:lnTo>
                    <a:lnTo>
                      <a:pt x="1918" y="1354"/>
                    </a:lnTo>
                    <a:lnTo>
                      <a:pt x="1920" y="1356"/>
                    </a:lnTo>
                    <a:lnTo>
                      <a:pt x="1922" y="1357"/>
                    </a:lnTo>
                    <a:lnTo>
                      <a:pt x="1925" y="1358"/>
                    </a:lnTo>
                    <a:lnTo>
                      <a:pt x="1930" y="1359"/>
                    </a:lnTo>
                    <a:lnTo>
                      <a:pt x="1933" y="1360"/>
                    </a:lnTo>
                    <a:lnTo>
                      <a:pt x="1935" y="1361"/>
                    </a:lnTo>
                    <a:lnTo>
                      <a:pt x="1937" y="1364"/>
                    </a:lnTo>
                    <a:lnTo>
                      <a:pt x="1942" y="1365"/>
                    </a:lnTo>
                    <a:lnTo>
                      <a:pt x="1946" y="1365"/>
                    </a:lnTo>
                    <a:lnTo>
                      <a:pt x="1952" y="1364"/>
                    </a:lnTo>
                    <a:lnTo>
                      <a:pt x="1956" y="1363"/>
                    </a:lnTo>
                    <a:lnTo>
                      <a:pt x="1961" y="1363"/>
                    </a:lnTo>
                    <a:lnTo>
                      <a:pt x="1962" y="1366"/>
                    </a:lnTo>
                    <a:lnTo>
                      <a:pt x="1962" y="1375"/>
                    </a:lnTo>
                    <a:lnTo>
                      <a:pt x="1962" y="1382"/>
                    </a:lnTo>
                    <a:lnTo>
                      <a:pt x="1958" y="1391"/>
                    </a:lnTo>
                    <a:lnTo>
                      <a:pt x="1953" y="1399"/>
                    </a:lnTo>
                    <a:lnTo>
                      <a:pt x="1933" y="1419"/>
                    </a:lnTo>
                    <a:lnTo>
                      <a:pt x="1930" y="1421"/>
                    </a:lnTo>
                    <a:lnTo>
                      <a:pt x="1926" y="1424"/>
                    </a:lnTo>
                    <a:lnTo>
                      <a:pt x="1922" y="1427"/>
                    </a:lnTo>
                    <a:lnTo>
                      <a:pt x="1920" y="1431"/>
                    </a:lnTo>
                    <a:lnTo>
                      <a:pt x="1918" y="1434"/>
                    </a:lnTo>
                    <a:lnTo>
                      <a:pt x="1915" y="1437"/>
                    </a:lnTo>
                    <a:lnTo>
                      <a:pt x="1911" y="1442"/>
                    </a:lnTo>
                    <a:lnTo>
                      <a:pt x="1907" y="1447"/>
                    </a:lnTo>
                    <a:lnTo>
                      <a:pt x="1902" y="1452"/>
                    </a:lnTo>
                    <a:lnTo>
                      <a:pt x="1898" y="1454"/>
                    </a:lnTo>
                    <a:lnTo>
                      <a:pt x="1894" y="1454"/>
                    </a:lnTo>
                    <a:lnTo>
                      <a:pt x="1891" y="1455"/>
                    </a:lnTo>
                    <a:lnTo>
                      <a:pt x="1889" y="1457"/>
                    </a:lnTo>
                    <a:lnTo>
                      <a:pt x="1887" y="1460"/>
                    </a:lnTo>
                    <a:lnTo>
                      <a:pt x="1885" y="1464"/>
                    </a:lnTo>
                    <a:lnTo>
                      <a:pt x="1883" y="1466"/>
                    </a:lnTo>
                    <a:lnTo>
                      <a:pt x="1882" y="1469"/>
                    </a:lnTo>
                    <a:lnTo>
                      <a:pt x="1882" y="1472"/>
                    </a:lnTo>
                    <a:lnTo>
                      <a:pt x="1882" y="1474"/>
                    </a:lnTo>
                    <a:lnTo>
                      <a:pt x="1882" y="1477"/>
                    </a:lnTo>
                    <a:lnTo>
                      <a:pt x="1883" y="1479"/>
                    </a:lnTo>
                    <a:lnTo>
                      <a:pt x="1883" y="1483"/>
                    </a:lnTo>
                    <a:lnTo>
                      <a:pt x="1882" y="1487"/>
                    </a:lnTo>
                    <a:lnTo>
                      <a:pt x="1880" y="1491"/>
                    </a:lnTo>
                    <a:lnTo>
                      <a:pt x="1877" y="1498"/>
                    </a:lnTo>
                    <a:lnTo>
                      <a:pt x="1874" y="1505"/>
                    </a:lnTo>
                    <a:lnTo>
                      <a:pt x="1870" y="1507"/>
                    </a:lnTo>
                    <a:lnTo>
                      <a:pt x="1868" y="1509"/>
                    </a:lnTo>
                    <a:lnTo>
                      <a:pt x="1866" y="1511"/>
                    </a:lnTo>
                    <a:lnTo>
                      <a:pt x="1865" y="1513"/>
                    </a:lnTo>
                    <a:lnTo>
                      <a:pt x="1865" y="1516"/>
                    </a:lnTo>
                    <a:lnTo>
                      <a:pt x="1865" y="1518"/>
                    </a:lnTo>
                    <a:lnTo>
                      <a:pt x="1864" y="1521"/>
                    </a:lnTo>
                    <a:lnTo>
                      <a:pt x="1860" y="1523"/>
                    </a:lnTo>
                    <a:lnTo>
                      <a:pt x="1857" y="1527"/>
                    </a:lnTo>
                    <a:lnTo>
                      <a:pt x="1854" y="1531"/>
                    </a:lnTo>
                    <a:lnTo>
                      <a:pt x="1847" y="1538"/>
                    </a:lnTo>
                    <a:lnTo>
                      <a:pt x="1845" y="1539"/>
                    </a:lnTo>
                    <a:lnTo>
                      <a:pt x="1844" y="1540"/>
                    </a:lnTo>
                    <a:lnTo>
                      <a:pt x="1844" y="1542"/>
                    </a:lnTo>
                    <a:lnTo>
                      <a:pt x="1844" y="1543"/>
                    </a:lnTo>
                    <a:lnTo>
                      <a:pt x="1843" y="1546"/>
                    </a:lnTo>
                    <a:lnTo>
                      <a:pt x="1841" y="1547"/>
                    </a:lnTo>
                    <a:lnTo>
                      <a:pt x="1838" y="1549"/>
                    </a:lnTo>
                    <a:lnTo>
                      <a:pt x="1835" y="1549"/>
                    </a:lnTo>
                    <a:lnTo>
                      <a:pt x="1832" y="1551"/>
                    </a:lnTo>
                    <a:lnTo>
                      <a:pt x="1830" y="1553"/>
                    </a:lnTo>
                    <a:lnTo>
                      <a:pt x="1827" y="1555"/>
                    </a:lnTo>
                    <a:lnTo>
                      <a:pt x="1826" y="1556"/>
                    </a:lnTo>
                    <a:lnTo>
                      <a:pt x="1824" y="1557"/>
                    </a:lnTo>
                    <a:lnTo>
                      <a:pt x="1821" y="1560"/>
                    </a:lnTo>
                    <a:lnTo>
                      <a:pt x="1819" y="1560"/>
                    </a:lnTo>
                    <a:lnTo>
                      <a:pt x="1817" y="1560"/>
                    </a:lnTo>
                    <a:lnTo>
                      <a:pt x="1815" y="1561"/>
                    </a:lnTo>
                    <a:lnTo>
                      <a:pt x="1814" y="1561"/>
                    </a:lnTo>
                    <a:lnTo>
                      <a:pt x="1814" y="1562"/>
                    </a:lnTo>
                    <a:lnTo>
                      <a:pt x="1814" y="1560"/>
                    </a:lnTo>
                    <a:lnTo>
                      <a:pt x="1814" y="1560"/>
                    </a:lnTo>
                    <a:lnTo>
                      <a:pt x="1815" y="1558"/>
                    </a:lnTo>
                    <a:lnTo>
                      <a:pt x="1815" y="1558"/>
                    </a:lnTo>
                    <a:lnTo>
                      <a:pt x="1814" y="1560"/>
                    </a:lnTo>
                    <a:lnTo>
                      <a:pt x="1813" y="1561"/>
                    </a:lnTo>
                    <a:lnTo>
                      <a:pt x="1812" y="1561"/>
                    </a:lnTo>
                    <a:lnTo>
                      <a:pt x="1811" y="1562"/>
                    </a:lnTo>
                    <a:lnTo>
                      <a:pt x="1810" y="1562"/>
                    </a:lnTo>
                    <a:lnTo>
                      <a:pt x="1806" y="1562"/>
                    </a:lnTo>
                    <a:lnTo>
                      <a:pt x="1804" y="1563"/>
                    </a:lnTo>
                    <a:lnTo>
                      <a:pt x="1802" y="1563"/>
                    </a:lnTo>
                    <a:lnTo>
                      <a:pt x="1801" y="1564"/>
                    </a:lnTo>
                    <a:lnTo>
                      <a:pt x="1801" y="1563"/>
                    </a:lnTo>
                    <a:lnTo>
                      <a:pt x="1801" y="1563"/>
                    </a:lnTo>
                    <a:lnTo>
                      <a:pt x="1802" y="1562"/>
                    </a:lnTo>
                    <a:lnTo>
                      <a:pt x="1802" y="1562"/>
                    </a:lnTo>
                    <a:lnTo>
                      <a:pt x="1801" y="1562"/>
                    </a:lnTo>
                    <a:lnTo>
                      <a:pt x="1799" y="1562"/>
                    </a:lnTo>
                    <a:lnTo>
                      <a:pt x="1798" y="1563"/>
                    </a:lnTo>
                    <a:lnTo>
                      <a:pt x="1796" y="1563"/>
                    </a:lnTo>
                    <a:lnTo>
                      <a:pt x="1796" y="1564"/>
                    </a:lnTo>
                    <a:lnTo>
                      <a:pt x="1792" y="1566"/>
                    </a:lnTo>
                    <a:lnTo>
                      <a:pt x="1790" y="1568"/>
                    </a:lnTo>
                    <a:lnTo>
                      <a:pt x="1788" y="1571"/>
                    </a:lnTo>
                    <a:lnTo>
                      <a:pt x="1787" y="1571"/>
                    </a:lnTo>
                    <a:lnTo>
                      <a:pt x="1785" y="1572"/>
                    </a:lnTo>
                    <a:lnTo>
                      <a:pt x="1784" y="1573"/>
                    </a:lnTo>
                    <a:lnTo>
                      <a:pt x="1784" y="1574"/>
                    </a:lnTo>
                    <a:lnTo>
                      <a:pt x="1783" y="1575"/>
                    </a:lnTo>
                    <a:lnTo>
                      <a:pt x="1780" y="1575"/>
                    </a:lnTo>
                    <a:lnTo>
                      <a:pt x="1778" y="1575"/>
                    </a:lnTo>
                    <a:lnTo>
                      <a:pt x="1774" y="1575"/>
                    </a:lnTo>
                    <a:lnTo>
                      <a:pt x="1772" y="1577"/>
                    </a:lnTo>
                    <a:lnTo>
                      <a:pt x="1759" y="1584"/>
                    </a:lnTo>
                    <a:lnTo>
                      <a:pt x="1750" y="1590"/>
                    </a:lnTo>
                    <a:lnTo>
                      <a:pt x="1746" y="1593"/>
                    </a:lnTo>
                    <a:lnTo>
                      <a:pt x="1744" y="1595"/>
                    </a:lnTo>
                    <a:lnTo>
                      <a:pt x="1744" y="1597"/>
                    </a:lnTo>
                    <a:lnTo>
                      <a:pt x="1743" y="1599"/>
                    </a:lnTo>
                    <a:lnTo>
                      <a:pt x="1741" y="1601"/>
                    </a:lnTo>
                    <a:lnTo>
                      <a:pt x="1740" y="1604"/>
                    </a:lnTo>
                    <a:lnTo>
                      <a:pt x="1739" y="1606"/>
                    </a:lnTo>
                    <a:lnTo>
                      <a:pt x="1739" y="1608"/>
                    </a:lnTo>
                    <a:lnTo>
                      <a:pt x="1739" y="1610"/>
                    </a:lnTo>
                    <a:lnTo>
                      <a:pt x="1739" y="1612"/>
                    </a:lnTo>
                    <a:lnTo>
                      <a:pt x="1738" y="1616"/>
                    </a:lnTo>
                    <a:lnTo>
                      <a:pt x="1737" y="1618"/>
                    </a:lnTo>
                    <a:lnTo>
                      <a:pt x="1734" y="1620"/>
                    </a:lnTo>
                    <a:lnTo>
                      <a:pt x="1730" y="1622"/>
                    </a:lnTo>
                    <a:lnTo>
                      <a:pt x="1728" y="1623"/>
                    </a:lnTo>
                    <a:lnTo>
                      <a:pt x="1726" y="1626"/>
                    </a:lnTo>
                    <a:lnTo>
                      <a:pt x="1724" y="1627"/>
                    </a:lnTo>
                    <a:lnTo>
                      <a:pt x="1722" y="1629"/>
                    </a:lnTo>
                    <a:lnTo>
                      <a:pt x="1719" y="1630"/>
                    </a:lnTo>
                    <a:lnTo>
                      <a:pt x="1717" y="1632"/>
                    </a:lnTo>
                    <a:lnTo>
                      <a:pt x="1717" y="1633"/>
                    </a:lnTo>
                    <a:lnTo>
                      <a:pt x="1716" y="1636"/>
                    </a:lnTo>
                    <a:lnTo>
                      <a:pt x="1716" y="1637"/>
                    </a:lnTo>
                    <a:lnTo>
                      <a:pt x="1715" y="1638"/>
                    </a:lnTo>
                    <a:lnTo>
                      <a:pt x="1714" y="1638"/>
                    </a:lnTo>
                    <a:lnTo>
                      <a:pt x="1713" y="1638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8"/>
                    </a:lnTo>
                    <a:lnTo>
                      <a:pt x="1713" y="1636"/>
                    </a:lnTo>
                    <a:lnTo>
                      <a:pt x="1710" y="1637"/>
                    </a:lnTo>
                    <a:lnTo>
                      <a:pt x="1707" y="1638"/>
                    </a:lnTo>
                    <a:lnTo>
                      <a:pt x="1705" y="1639"/>
                    </a:lnTo>
                    <a:lnTo>
                      <a:pt x="1704" y="1640"/>
                    </a:lnTo>
                    <a:lnTo>
                      <a:pt x="1701" y="1642"/>
                    </a:lnTo>
                    <a:lnTo>
                      <a:pt x="1697" y="1644"/>
                    </a:lnTo>
                    <a:lnTo>
                      <a:pt x="1695" y="1647"/>
                    </a:lnTo>
                    <a:lnTo>
                      <a:pt x="1694" y="1649"/>
                    </a:lnTo>
                    <a:lnTo>
                      <a:pt x="1694" y="1650"/>
                    </a:lnTo>
                    <a:lnTo>
                      <a:pt x="1693" y="1651"/>
                    </a:lnTo>
                    <a:lnTo>
                      <a:pt x="1692" y="1652"/>
                    </a:lnTo>
                    <a:lnTo>
                      <a:pt x="1691" y="1653"/>
                    </a:lnTo>
                    <a:lnTo>
                      <a:pt x="1690" y="1655"/>
                    </a:lnTo>
                    <a:lnTo>
                      <a:pt x="1689" y="1658"/>
                    </a:lnTo>
                    <a:lnTo>
                      <a:pt x="1688" y="1661"/>
                    </a:lnTo>
                    <a:lnTo>
                      <a:pt x="1686" y="1662"/>
                    </a:lnTo>
                    <a:lnTo>
                      <a:pt x="1684" y="1664"/>
                    </a:lnTo>
                    <a:lnTo>
                      <a:pt x="1682" y="1665"/>
                    </a:lnTo>
                    <a:lnTo>
                      <a:pt x="1680" y="1666"/>
                    </a:lnTo>
                    <a:lnTo>
                      <a:pt x="1678" y="1666"/>
                    </a:lnTo>
                    <a:lnTo>
                      <a:pt x="1674" y="1669"/>
                    </a:lnTo>
                    <a:lnTo>
                      <a:pt x="1673" y="1670"/>
                    </a:lnTo>
                    <a:lnTo>
                      <a:pt x="1672" y="1672"/>
                    </a:lnTo>
                    <a:lnTo>
                      <a:pt x="1671" y="1673"/>
                    </a:lnTo>
                    <a:lnTo>
                      <a:pt x="1656" y="1678"/>
                    </a:lnTo>
                    <a:lnTo>
                      <a:pt x="1640" y="1680"/>
                    </a:lnTo>
                    <a:lnTo>
                      <a:pt x="1638" y="1680"/>
                    </a:lnTo>
                    <a:lnTo>
                      <a:pt x="1636" y="1680"/>
                    </a:lnTo>
                    <a:lnTo>
                      <a:pt x="1635" y="1678"/>
                    </a:lnTo>
                    <a:lnTo>
                      <a:pt x="1634" y="1678"/>
                    </a:lnTo>
                    <a:lnTo>
                      <a:pt x="1631" y="1677"/>
                    </a:lnTo>
                    <a:lnTo>
                      <a:pt x="1620" y="1677"/>
                    </a:lnTo>
                    <a:lnTo>
                      <a:pt x="1618" y="1677"/>
                    </a:lnTo>
                    <a:lnTo>
                      <a:pt x="1617" y="1677"/>
                    </a:lnTo>
                    <a:lnTo>
                      <a:pt x="1617" y="1680"/>
                    </a:lnTo>
                    <a:lnTo>
                      <a:pt x="1617" y="1681"/>
                    </a:lnTo>
                    <a:lnTo>
                      <a:pt x="1618" y="1682"/>
                    </a:lnTo>
                    <a:lnTo>
                      <a:pt x="1620" y="1682"/>
                    </a:lnTo>
                    <a:lnTo>
                      <a:pt x="1623" y="1683"/>
                    </a:lnTo>
                    <a:lnTo>
                      <a:pt x="1625" y="1683"/>
                    </a:lnTo>
                    <a:lnTo>
                      <a:pt x="1627" y="1684"/>
                    </a:lnTo>
                    <a:lnTo>
                      <a:pt x="1630" y="1684"/>
                    </a:lnTo>
                    <a:lnTo>
                      <a:pt x="1631" y="1685"/>
                    </a:lnTo>
                    <a:lnTo>
                      <a:pt x="1634" y="1686"/>
                    </a:lnTo>
                    <a:lnTo>
                      <a:pt x="1632" y="1687"/>
                    </a:lnTo>
                    <a:lnTo>
                      <a:pt x="1632" y="1688"/>
                    </a:lnTo>
                    <a:lnTo>
                      <a:pt x="1632" y="1689"/>
                    </a:lnTo>
                    <a:lnTo>
                      <a:pt x="1634" y="1691"/>
                    </a:lnTo>
                    <a:lnTo>
                      <a:pt x="1635" y="1691"/>
                    </a:lnTo>
                    <a:lnTo>
                      <a:pt x="1637" y="1691"/>
                    </a:lnTo>
                    <a:lnTo>
                      <a:pt x="1638" y="1692"/>
                    </a:lnTo>
                    <a:lnTo>
                      <a:pt x="1639" y="1692"/>
                    </a:lnTo>
                    <a:lnTo>
                      <a:pt x="1640" y="1693"/>
                    </a:lnTo>
                    <a:lnTo>
                      <a:pt x="1639" y="1696"/>
                    </a:lnTo>
                    <a:lnTo>
                      <a:pt x="1637" y="1698"/>
                    </a:lnTo>
                    <a:lnTo>
                      <a:pt x="1635" y="1700"/>
                    </a:lnTo>
                    <a:lnTo>
                      <a:pt x="1631" y="1703"/>
                    </a:lnTo>
                    <a:lnTo>
                      <a:pt x="1629" y="1704"/>
                    </a:lnTo>
                    <a:lnTo>
                      <a:pt x="1623" y="1708"/>
                    </a:lnTo>
                    <a:lnTo>
                      <a:pt x="1615" y="1710"/>
                    </a:lnTo>
                    <a:lnTo>
                      <a:pt x="1607" y="1713"/>
                    </a:lnTo>
                    <a:lnTo>
                      <a:pt x="1603" y="1714"/>
                    </a:lnTo>
                    <a:lnTo>
                      <a:pt x="1598" y="1715"/>
                    </a:lnTo>
                    <a:lnTo>
                      <a:pt x="1594" y="1715"/>
                    </a:lnTo>
                    <a:lnTo>
                      <a:pt x="1583" y="1715"/>
                    </a:lnTo>
                    <a:lnTo>
                      <a:pt x="1581" y="1716"/>
                    </a:lnTo>
                    <a:lnTo>
                      <a:pt x="1580" y="1718"/>
                    </a:lnTo>
                    <a:lnTo>
                      <a:pt x="1580" y="1719"/>
                    </a:lnTo>
                    <a:lnTo>
                      <a:pt x="1580" y="1720"/>
                    </a:lnTo>
                    <a:lnTo>
                      <a:pt x="1581" y="1721"/>
                    </a:lnTo>
                    <a:lnTo>
                      <a:pt x="1581" y="1723"/>
                    </a:lnTo>
                    <a:lnTo>
                      <a:pt x="1580" y="1723"/>
                    </a:lnTo>
                    <a:lnTo>
                      <a:pt x="1580" y="1724"/>
                    </a:lnTo>
                    <a:lnTo>
                      <a:pt x="1579" y="1724"/>
                    </a:lnTo>
                    <a:lnTo>
                      <a:pt x="1576" y="1725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7" y="1728"/>
                    </a:lnTo>
                    <a:lnTo>
                      <a:pt x="1577" y="1729"/>
                    </a:lnTo>
                    <a:lnTo>
                      <a:pt x="1576" y="1730"/>
                    </a:lnTo>
                    <a:lnTo>
                      <a:pt x="1574" y="1731"/>
                    </a:lnTo>
                    <a:lnTo>
                      <a:pt x="1572" y="1731"/>
                    </a:lnTo>
                    <a:lnTo>
                      <a:pt x="1569" y="1732"/>
                    </a:lnTo>
                    <a:lnTo>
                      <a:pt x="1565" y="1732"/>
                    </a:lnTo>
                    <a:lnTo>
                      <a:pt x="1563" y="1732"/>
                    </a:lnTo>
                    <a:lnTo>
                      <a:pt x="1561" y="1732"/>
                    </a:lnTo>
                    <a:lnTo>
                      <a:pt x="1559" y="1732"/>
                    </a:lnTo>
                    <a:lnTo>
                      <a:pt x="1555" y="1731"/>
                    </a:lnTo>
                    <a:lnTo>
                      <a:pt x="1554" y="1730"/>
                    </a:lnTo>
                    <a:lnTo>
                      <a:pt x="1551" y="1730"/>
                    </a:lnTo>
                    <a:lnTo>
                      <a:pt x="1550" y="1731"/>
                    </a:lnTo>
                    <a:lnTo>
                      <a:pt x="1549" y="1732"/>
                    </a:lnTo>
                    <a:lnTo>
                      <a:pt x="1549" y="1734"/>
                    </a:lnTo>
                    <a:lnTo>
                      <a:pt x="1549" y="1734"/>
                    </a:lnTo>
                    <a:lnTo>
                      <a:pt x="1550" y="1735"/>
                    </a:lnTo>
                    <a:lnTo>
                      <a:pt x="1550" y="1735"/>
                    </a:lnTo>
                    <a:lnTo>
                      <a:pt x="1551" y="1737"/>
                    </a:lnTo>
                    <a:lnTo>
                      <a:pt x="1552" y="1738"/>
                    </a:lnTo>
                    <a:lnTo>
                      <a:pt x="1552" y="1739"/>
                    </a:lnTo>
                    <a:lnTo>
                      <a:pt x="1554" y="1739"/>
                    </a:lnTo>
                    <a:lnTo>
                      <a:pt x="1555" y="1740"/>
                    </a:lnTo>
                    <a:lnTo>
                      <a:pt x="1557" y="1741"/>
                    </a:lnTo>
                    <a:lnTo>
                      <a:pt x="1557" y="1741"/>
                    </a:lnTo>
                    <a:lnTo>
                      <a:pt x="1557" y="1742"/>
                    </a:lnTo>
                    <a:lnTo>
                      <a:pt x="1557" y="1743"/>
                    </a:lnTo>
                    <a:lnTo>
                      <a:pt x="1555" y="1745"/>
                    </a:lnTo>
                    <a:lnTo>
                      <a:pt x="1555" y="1745"/>
                    </a:lnTo>
                    <a:lnTo>
                      <a:pt x="1557" y="1745"/>
                    </a:lnTo>
                    <a:lnTo>
                      <a:pt x="1558" y="1745"/>
                    </a:lnTo>
                    <a:lnTo>
                      <a:pt x="1559" y="1745"/>
                    </a:lnTo>
                    <a:lnTo>
                      <a:pt x="1559" y="1746"/>
                    </a:lnTo>
                    <a:lnTo>
                      <a:pt x="1559" y="1746"/>
                    </a:lnTo>
                    <a:lnTo>
                      <a:pt x="1558" y="1747"/>
                    </a:lnTo>
                    <a:lnTo>
                      <a:pt x="1557" y="1748"/>
                    </a:lnTo>
                    <a:lnTo>
                      <a:pt x="1555" y="1749"/>
                    </a:lnTo>
                    <a:lnTo>
                      <a:pt x="1554" y="1749"/>
                    </a:lnTo>
                    <a:lnTo>
                      <a:pt x="1554" y="1750"/>
                    </a:lnTo>
                    <a:lnTo>
                      <a:pt x="1554" y="1752"/>
                    </a:lnTo>
                    <a:lnTo>
                      <a:pt x="1554" y="1753"/>
                    </a:lnTo>
                    <a:lnTo>
                      <a:pt x="1554" y="1756"/>
                    </a:lnTo>
                    <a:lnTo>
                      <a:pt x="1553" y="1758"/>
                    </a:lnTo>
                    <a:lnTo>
                      <a:pt x="1552" y="1759"/>
                    </a:lnTo>
                    <a:lnTo>
                      <a:pt x="1549" y="1759"/>
                    </a:lnTo>
                    <a:lnTo>
                      <a:pt x="1547" y="1759"/>
                    </a:lnTo>
                    <a:lnTo>
                      <a:pt x="1543" y="1760"/>
                    </a:lnTo>
                    <a:lnTo>
                      <a:pt x="1541" y="1761"/>
                    </a:lnTo>
                    <a:lnTo>
                      <a:pt x="1539" y="1761"/>
                    </a:lnTo>
                    <a:lnTo>
                      <a:pt x="1539" y="1762"/>
                    </a:lnTo>
                    <a:lnTo>
                      <a:pt x="1538" y="1763"/>
                    </a:lnTo>
                    <a:lnTo>
                      <a:pt x="1537" y="1763"/>
                    </a:lnTo>
                    <a:lnTo>
                      <a:pt x="1536" y="1765"/>
                    </a:lnTo>
                    <a:lnTo>
                      <a:pt x="1536" y="1767"/>
                    </a:lnTo>
                    <a:lnTo>
                      <a:pt x="1536" y="1769"/>
                    </a:lnTo>
                    <a:lnTo>
                      <a:pt x="1537" y="1770"/>
                    </a:lnTo>
                    <a:lnTo>
                      <a:pt x="1539" y="1770"/>
                    </a:lnTo>
                    <a:lnTo>
                      <a:pt x="1540" y="1771"/>
                    </a:lnTo>
                    <a:lnTo>
                      <a:pt x="1542" y="1772"/>
                    </a:lnTo>
                    <a:lnTo>
                      <a:pt x="1545" y="1772"/>
                    </a:lnTo>
                    <a:lnTo>
                      <a:pt x="1548" y="1772"/>
                    </a:lnTo>
                    <a:lnTo>
                      <a:pt x="1550" y="1772"/>
                    </a:lnTo>
                    <a:lnTo>
                      <a:pt x="1559" y="1772"/>
                    </a:lnTo>
                    <a:lnTo>
                      <a:pt x="1560" y="1774"/>
                    </a:lnTo>
                    <a:lnTo>
                      <a:pt x="1560" y="1775"/>
                    </a:lnTo>
                    <a:lnTo>
                      <a:pt x="1560" y="1776"/>
                    </a:lnTo>
                    <a:lnTo>
                      <a:pt x="1559" y="1776"/>
                    </a:lnTo>
                    <a:lnTo>
                      <a:pt x="1557" y="1779"/>
                    </a:lnTo>
                    <a:lnTo>
                      <a:pt x="1554" y="1780"/>
                    </a:lnTo>
                    <a:lnTo>
                      <a:pt x="1552" y="1781"/>
                    </a:lnTo>
                    <a:lnTo>
                      <a:pt x="1550" y="1781"/>
                    </a:lnTo>
                    <a:lnTo>
                      <a:pt x="1550" y="1781"/>
                    </a:lnTo>
                    <a:lnTo>
                      <a:pt x="1549" y="1782"/>
                    </a:lnTo>
                    <a:lnTo>
                      <a:pt x="1548" y="1783"/>
                    </a:lnTo>
                    <a:lnTo>
                      <a:pt x="1545" y="1783"/>
                    </a:lnTo>
                    <a:lnTo>
                      <a:pt x="1545" y="1790"/>
                    </a:lnTo>
                    <a:lnTo>
                      <a:pt x="1543" y="1791"/>
                    </a:lnTo>
                    <a:lnTo>
                      <a:pt x="1541" y="1792"/>
                    </a:lnTo>
                    <a:lnTo>
                      <a:pt x="1539" y="1792"/>
                    </a:lnTo>
                    <a:lnTo>
                      <a:pt x="1536" y="1793"/>
                    </a:lnTo>
                    <a:lnTo>
                      <a:pt x="1534" y="1794"/>
                    </a:lnTo>
                    <a:lnTo>
                      <a:pt x="1536" y="1795"/>
                    </a:lnTo>
                    <a:lnTo>
                      <a:pt x="1536" y="1796"/>
                    </a:lnTo>
                    <a:lnTo>
                      <a:pt x="1537" y="1797"/>
                    </a:lnTo>
                    <a:lnTo>
                      <a:pt x="1539" y="1798"/>
                    </a:lnTo>
                    <a:lnTo>
                      <a:pt x="1541" y="1801"/>
                    </a:lnTo>
                    <a:lnTo>
                      <a:pt x="1542" y="1801"/>
                    </a:lnTo>
                    <a:lnTo>
                      <a:pt x="1544" y="1802"/>
                    </a:lnTo>
                    <a:lnTo>
                      <a:pt x="1545" y="1802"/>
                    </a:lnTo>
                    <a:lnTo>
                      <a:pt x="1547" y="1803"/>
                    </a:lnTo>
                    <a:lnTo>
                      <a:pt x="1548" y="1803"/>
                    </a:lnTo>
                    <a:lnTo>
                      <a:pt x="1547" y="1803"/>
                    </a:lnTo>
                    <a:lnTo>
                      <a:pt x="1544" y="1803"/>
                    </a:lnTo>
                    <a:lnTo>
                      <a:pt x="1543" y="1804"/>
                    </a:lnTo>
                    <a:lnTo>
                      <a:pt x="1541" y="1804"/>
                    </a:lnTo>
                    <a:lnTo>
                      <a:pt x="1541" y="1805"/>
                    </a:lnTo>
                    <a:lnTo>
                      <a:pt x="1550" y="1805"/>
                    </a:lnTo>
                    <a:lnTo>
                      <a:pt x="1532" y="1806"/>
                    </a:lnTo>
                    <a:lnTo>
                      <a:pt x="1515" y="1807"/>
                    </a:lnTo>
                    <a:lnTo>
                      <a:pt x="1510" y="1807"/>
                    </a:lnTo>
                    <a:lnTo>
                      <a:pt x="1506" y="1806"/>
                    </a:lnTo>
                    <a:lnTo>
                      <a:pt x="1501" y="1805"/>
                    </a:lnTo>
                    <a:lnTo>
                      <a:pt x="1497" y="1805"/>
                    </a:lnTo>
                    <a:lnTo>
                      <a:pt x="1498" y="1805"/>
                    </a:lnTo>
                    <a:lnTo>
                      <a:pt x="1499" y="1805"/>
                    </a:lnTo>
                    <a:lnTo>
                      <a:pt x="1501" y="1805"/>
                    </a:lnTo>
                    <a:lnTo>
                      <a:pt x="1501" y="1804"/>
                    </a:lnTo>
                    <a:lnTo>
                      <a:pt x="1501" y="1803"/>
                    </a:lnTo>
                    <a:lnTo>
                      <a:pt x="1486" y="1803"/>
                    </a:lnTo>
                    <a:lnTo>
                      <a:pt x="1485" y="1802"/>
                    </a:lnTo>
                    <a:lnTo>
                      <a:pt x="1484" y="1801"/>
                    </a:lnTo>
                    <a:lnTo>
                      <a:pt x="1483" y="1800"/>
                    </a:lnTo>
                    <a:lnTo>
                      <a:pt x="1482" y="1798"/>
                    </a:lnTo>
                    <a:lnTo>
                      <a:pt x="1482" y="1796"/>
                    </a:lnTo>
                    <a:lnTo>
                      <a:pt x="1479" y="1795"/>
                    </a:lnTo>
                    <a:lnTo>
                      <a:pt x="1478" y="1795"/>
                    </a:lnTo>
                    <a:lnTo>
                      <a:pt x="1477" y="1795"/>
                    </a:lnTo>
                    <a:lnTo>
                      <a:pt x="1477" y="1795"/>
                    </a:lnTo>
                    <a:lnTo>
                      <a:pt x="1477" y="1794"/>
                    </a:lnTo>
                    <a:lnTo>
                      <a:pt x="1477" y="1792"/>
                    </a:lnTo>
                    <a:lnTo>
                      <a:pt x="1475" y="1793"/>
                    </a:lnTo>
                    <a:lnTo>
                      <a:pt x="1474" y="1794"/>
                    </a:lnTo>
                    <a:lnTo>
                      <a:pt x="1472" y="1795"/>
                    </a:lnTo>
                    <a:lnTo>
                      <a:pt x="1471" y="1796"/>
                    </a:lnTo>
                    <a:lnTo>
                      <a:pt x="1468" y="1796"/>
                    </a:lnTo>
                    <a:lnTo>
                      <a:pt x="1466" y="1795"/>
                    </a:lnTo>
                    <a:lnTo>
                      <a:pt x="1466" y="1794"/>
                    </a:lnTo>
                    <a:lnTo>
                      <a:pt x="1466" y="1793"/>
                    </a:lnTo>
                    <a:lnTo>
                      <a:pt x="1466" y="1792"/>
                    </a:lnTo>
                    <a:lnTo>
                      <a:pt x="1464" y="1793"/>
                    </a:lnTo>
                    <a:lnTo>
                      <a:pt x="1463" y="1793"/>
                    </a:lnTo>
                    <a:lnTo>
                      <a:pt x="1462" y="1792"/>
                    </a:lnTo>
                    <a:lnTo>
                      <a:pt x="1462" y="1790"/>
                    </a:lnTo>
                    <a:lnTo>
                      <a:pt x="1468" y="1790"/>
                    </a:lnTo>
                    <a:lnTo>
                      <a:pt x="1471" y="1789"/>
                    </a:lnTo>
                    <a:lnTo>
                      <a:pt x="1472" y="1786"/>
                    </a:lnTo>
                    <a:lnTo>
                      <a:pt x="1472" y="1785"/>
                    </a:lnTo>
                    <a:lnTo>
                      <a:pt x="1471" y="1783"/>
                    </a:lnTo>
                    <a:lnTo>
                      <a:pt x="1466" y="1783"/>
                    </a:lnTo>
                    <a:lnTo>
                      <a:pt x="1465" y="1783"/>
                    </a:lnTo>
                    <a:lnTo>
                      <a:pt x="1465" y="1783"/>
                    </a:lnTo>
                    <a:lnTo>
                      <a:pt x="1465" y="1782"/>
                    </a:lnTo>
                    <a:lnTo>
                      <a:pt x="1466" y="1781"/>
                    </a:lnTo>
                    <a:lnTo>
                      <a:pt x="1462" y="1779"/>
                    </a:lnTo>
                    <a:lnTo>
                      <a:pt x="1455" y="1779"/>
                    </a:lnTo>
                    <a:lnTo>
                      <a:pt x="1453" y="1778"/>
                    </a:lnTo>
                    <a:lnTo>
                      <a:pt x="1452" y="1776"/>
                    </a:lnTo>
                    <a:lnTo>
                      <a:pt x="1451" y="1776"/>
                    </a:lnTo>
                    <a:lnTo>
                      <a:pt x="1452" y="1775"/>
                    </a:lnTo>
                    <a:lnTo>
                      <a:pt x="1453" y="1774"/>
                    </a:lnTo>
                    <a:lnTo>
                      <a:pt x="1453" y="1774"/>
                    </a:lnTo>
                    <a:lnTo>
                      <a:pt x="1453" y="1773"/>
                    </a:lnTo>
                    <a:lnTo>
                      <a:pt x="1453" y="1773"/>
                    </a:lnTo>
                    <a:lnTo>
                      <a:pt x="1455" y="1772"/>
                    </a:lnTo>
                    <a:lnTo>
                      <a:pt x="1456" y="1772"/>
                    </a:lnTo>
                    <a:lnTo>
                      <a:pt x="1456" y="1772"/>
                    </a:lnTo>
                    <a:lnTo>
                      <a:pt x="1457" y="1773"/>
                    </a:lnTo>
                    <a:lnTo>
                      <a:pt x="1460" y="1773"/>
                    </a:lnTo>
                    <a:lnTo>
                      <a:pt x="1460" y="1773"/>
                    </a:lnTo>
                    <a:lnTo>
                      <a:pt x="1461" y="1773"/>
                    </a:lnTo>
                    <a:lnTo>
                      <a:pt x="1462" y="1774"/>
                    </a:lnTo>
                    <a:lnTo>
                      <a:pt x="1464" y="1775"/>
                    </a:lnTo>
                    <a:lnTo>
                      <a:pt x="1466" y="1774"/>
                    </a:lnTo>
                    <a:lnTo>
                      <a:pt x="1464" y="1772"/>
                    </a:lnTo>
                    <a:lnTo>
                      <a:pt x="1468" y="1772"/>
                    </a:lnTo>
                    <a:lnTo>
                      <a:pt x="1468" y="1768"/>
                    </a:lnTo>
                    <a:lnTo>
                      <a:pt x="1468" y="1767"/>
                    </a:lnTo>
                    <a:lnTo>
                      <a:pt x="1468" y="1765"/>
                    </a:lnTo>
                    <a:lnTo>
                      <a:pt x="1467" y="1765"/>
                    </a:lnTo>
                    <a:lnTo>
                      <a:pt x="1466" y="1764"/>
                    </a:lnTo>
                    <a:lnTo>
                      <a:pt x="1466" y="1763"/>
                    </a:lnTo>
                    <a:lnTo>
                      <a:pt x="1465" y="1761"/>
                    </a:lnTo>
                    <a:lnTo>
                      <a:pt x="1465" y="1759"/>
                    </a:lnTo>
                    <a:lnTo>
                      <a:pt x="1465" y="1757"/>
                    </a:lnTo>
                    <a:lnTo>
                      <a:pt x="1465" y="1754"/>
                    </a:lnTo>
                    <a:lnTo>
                      <a:pt x="1466" y="1752"/>
                    </a:lnTo>
                    <a:lnTo>
                      <a:pt x="1466" y="1751"/>
                    </a:lnTo>
                    <a:lnTo>
                      <a:pt x="1466" y="1750"/>
                    </a:lnTo>
                    <a:lnTo>
                      <a:pt x="1466" y="1748"/>
                    </a:lnTo>
                    <a:lnTo>
                      <a:pt x="1466" y="1747"/>
                    </a:lnTo>
                    <a:lnTo>
                      <a:pt x="1465" y="1745"/>
                    </a:lnTo>
                    <a:lnTo>
                      <a:pt x="1464" y="1743"/>
                    </a:lnTo>
                    <a:lnTo>
                      <a:pt x="1462" y="1743"/>
                    </a:lnTo>
                    <a:lnTo>
                      <a:pt x="1459" y="1745"/>
                    </a:lnTo>
                    <a:lnTo>
                      <a:pt x="1456" y="1745"/>
                    </a:lnTo>
                    <a:lnTo>
                      <a:pt x="1455" y="1746"/>
                    </a:lnTo>
                    <a:lnTo>
                      <a:pt x="1453" y="1747"/>
                    </a:lnTo>
                    <a:lnTo>
                      <a:pt x="1451" y="1746"/>
                    </a:lnTo>
                    <a:lnTo>
                      <a:pt x="1448" y="1745"/>
                    </a:lnTo>
                    <a:lnTo>
                      <a:pt x="1445" y="1742"/>
                    </a:lnTo>
                    <a:lnTo>
                      <a:pt x="1444" y="1740"/>
                    </a:lnTo>
                    <a:lnTo>
                      <a:pt x="1443" y="1739"/>
                    </a:lnTo>
                    <a:lnTo>
                      <a:pt x="1444" y="1737"/>
                    </a:lnTo>
                    <a:lnTo>
                      <a:pt x="1444" y="1736"/>
                    </a:lnTo>
                    <a:lnTo>
                      <a:pt x="1445" y="1736"/>
                    </a:lnTo>
                    <a:lnTo>
                      <a:pt x="1446" y="1735"/>
                    </a:lnTo>
                    <a:lnTo>
                      <a:pt x="1449" y="1735"/>
                    </a:lnTo>
                    <a:lnTo>
                      <a:pt x="1449" y="1730"/>
                    </a:lnTo>
                    <a:lnTo>
                      <a:pt x="1446" y="1729"/>
                    </a:lnTo>
                    <a:lnTo>
                      <a:pt x="1445" y="1729"/>
                    </a:lnTo>
                    <a:lnTo>
                      <a:pt x="1443" y="1728"/>
                    </a:lnTo>
                    <a:lnTo>
                      <a:pt x="1442" y="1727"/>
                    </a:lnTo>
                    <a:lnTo>
                      <a:pt x="1442" y="1726"/>
                    </a:lnTo>
                    <a:lnTo>
                      <a:pt x="1440" y="1724"/>
                    </a:lnTo>
                    <a:lnTo>
                      <a:pt x="1439" y="1721"/>
                    </a:lnTo>
                    <a:lnTo>
                      <a:pt x="1437" y="1720"/>
                    </a:lnTo>
                    <a:lnTo>
                      <a:pt x="1437" y="1718"/>
                    </a:lnTo>
                    <a:lnTo>
                      <a:pt x="1438" y="1717"/>
                    </a:lnTo>
                    <a:lnTo>
                      <a:pt x="1439" y="1717"/>
                    </a:lnTo>
                    <a:lnTo>
                      <a:pt x="1439" y="1718"/>
                    </a:lnTo>
                    <a:lnTo>
                      <a:pt x="1440" y="1718"/>
                    </a:lnTo>
                    <a:lnTo>
                      <a:pt x="1441" y="1718"/>
                    </a:lnTo>
                    <a:lnTo>
                      <a:pt x="1442" y="1717"/>
                    </a:lnTo>
                    <a:lnTo>
                      <a:pt x="1442" y="1716"/>
                    </a:lnTo>
                    <a:lnTo>
                      <a:pt x="1442" y="1716"/>
                    </a:lnTo>
                    <a:lnTo>
                      <a:pt x="1442" y="1715"/>
                    </a:lnTo>
                    <a:lnTo>
                      <a:pt x="1442" y="1714"/>
                    </a:lnTo>
                    <a:lnTo>
                      <a:pt x="1442" y="1713"/>
                    </a:lnTo>
                    <a:lnTo>
                      <a:pt x="1443" y="1710"/>
                    </a:lnTo>
                    <a:lnTo>
                      <a:pt x="1443" y="1708"/>
                    </a:lnTo>
                    <a:lnTo>
                      <a:pt x="1444" y="1706"/>
                    </a:lnTo>
                    <a:lnTo>
                      <a:pt x="1445" y="1703"/>
                    </a:lnTo>
                    <a:lnTo>
                      <a:pt x="1448" y="1699"/>
                    </a:lnTo>
                    <a:lnTo>
                      <a:pt x="1449" y="1697"/>
                    </a:lnTo>
                    <a:lnTo>
                      <a:pt x="1450" y="1695"/>
                    </a:lnTo>
                    <a:lnTo>
                      <a:pt x="1450" y="1692"/>
                    </a:lnTo>
                    <a:lnTo>
                      <a:pt x="1450" y="1689"/>
                    </a:lnTo>
                    <a:lnTo>
                      <a:pt x="1451" y="1686"/>
                    </a:lnTo>
                    <a:lnTo>
                      <a:pt x="1451" y="1684"/>
                    </a:lnTo>
                    <a:lnTo>
                      <a:pt x="1450" y="1682"/>
                    </a:lnTo>
                    <a:lnTo>
                      <a:pt x="1448" y="1680"/>
                    </a:lnTo>
                    <a:lnTo>
                      <a:pt x="1445" y="1677"/>
                    </a:lnTo>
                    <a:lnTo>
                      <a:pt x="1443" y="1675"/>
                    </a:lnTo>
                    <a:lnTo>
                      <a:pt x="1442" y="1673"/>
                    </a:lnTo>
                    <a:lnTo>
                      <a:pt x="1442" y="1671"/>
                    </a:lnTo>
                    <a:lnTo>
                      <a:pt x="1443" y="1667"/>
                    </a:lnTo>
                    <a:lnTo>
                      <a:pt x="1444" y="1665"/>
                    </a:lnTo>
                    <a:lnTo>
                      <a:pt x="1446" y="1662"/>
                    </a:lnTo>
                    <a:lnTo>
                      <a:pt x="1445" y="1661"/>
                    </a:lnTo>
                    <a:lnTo>
                      <a:pt x="1444" y="1660"/>
                    </a:lnTo>
                    <a:lnTo>
                      <a:pt x="1443" y="1659"/>
                    </a:lnTo>
                    <a:lnTo>
                      <a:pt x="1443" y="1658"/>
                    </a:lnTo>
                    <a:lnTo>
                      <a:pt x="1444" y="1655"/>
                    </a:lnTo>
                    <a:lnTo>
                      <a:pt x="1444" y="1654"/>
                    </a:lnTo>
                    <a:lnTo>
                      <a:pt x="1445" y="1652"/>
                    </a:lnTo>
                    <a:lnTo>
                      <a:pt x="1445" y="1651"/>
                    </a:lnTo>
                    <a:lnTo>
                      <a:pt x="1446" y="1649"/>
                    </a:lnTo>
                    <a:lnTo>
                      <a:pt x="1446" y="1648"/>
                    </a:lnTo>
                    <a:lnTo>
                      <a:pt x="1448" y="1647"/>
                    </a:lnTo>
                    <a:lnTo>
                      <a:pt x="1448" y="1647"/>
                    </a:lnTo>
                    <a:lnTo>
                      <a:pt x="1449" y="1644"/>
                    </a:lnTo>
                    <a:lnTo>
                      <a:pt x="1449" y="1642"/>
                    </a:lnTo>
                    <a:lnTo>
                      <a:pt x="1449" y="1641"/>
                    </a:lnTo>
                    <a:lnTo>
                      <a:pt x="1450" y="1640"/>
                    </a:lnTo>
                    <a:lnTo>
                      <a:pt x="1450" y="1639"/>
                    </a:lnTo>
                    <a:lnTo>
                      <a:pt x="1451" y="1638"/>
                    </a:lnTo>
                    <a:lnTo>
                      <a:pt x="1451" y="1632"/>
                    </a:lnTo>
                    <a:lnTo>
                      <a:pt x="1451" y="1630"/>
                    </a:lnTo>
                    <a:lnTo>
                      <a:pt x="1452" y="1629"/>
                    </a:lnTo>
                    <a:lnTo>
                      <a:pt x="1452" y="1628"/>
                    </a:lnTo>
                    <a:lnTo>
                      <a:pt x="1453" y="1627"/>
                    </a:lnTo>
                    <a:lnTo>
                      <a:pt x="1452" y="1625"/>
                    </a:lnTo>
                    <a:lnTo>
                      <a:pt x="1451" y="1622"/>
                    </a:lnTo>
                    <a:lnTo>
                      <a:pt x="1451" y="1620"/>
                    </a:lnTo>
                    <a:lnTo>
                      <a:pt x="1450" y="1619"/>
                    </a:lnTo>
                    <a:lnTo>
                      <a:pt x="1450" y="1617"/>
                    </a:lnTo>
                    <a:lnTo>
                      <a:pt x="1451" y="1616"/>
                    </a:lnTo>
                    <a:lnTo>
                      <a:pt x="1451" y="1614"/>
                    </a:lnTo>
                    <a:lnTo>
                      <a:pt x="1451" y="1612"/>
                    </a:lnTo>
                    <a:lnTo>
                      <a:pt x="1449" y="1611"/>
                    </a:lnTo>
                    <a:lnTo>
                      <a:pt x="1449" y="1610"/>
                    </a:lnTo>
                    <a:lnTo>
                      <a:pt x="1450" y="1609"/>
                    </a:lnTo>
                    <a:lnTo>
                      <a:pt x="1451" y="1608"/>
                    </a:lnTo>
                    <a:lnTo>
                      <a:pt x="1452" y="1607"/>
                    </a:lnTo>
                    <a:lnTo>
                      <a:pt x="1453" y="1606"/>
                    </a:lnTo>
                    <a:lnTo>
                      <a:pt x="1452" y="1604"/>
                    </a:lnTo>
                    <a:lnTo>
                      <a:pt x="1452" y="1603"/>
                    </a:lnTo>
                    <a:lnTo>
                      <a:pt x="1452" y="1600"/>
                    </a:lnTo>
                    <a:lnTo>
                      <a:pt x="1453" y="1599"/>
                    </a:lnTo>
                    <a:lnTo>
                      <a:pt x="1454" y="1598"/>
                    </a:lnTo>
                    <a:lnTo>
                      <a:pt x="1456" y="1597"/>
                    </a:lnTo>
                    <a:lnTo>
                      <a:pt x="1456" y="1596"/>
                    </a:lnTo>
                    <a:lnTo>
                      <a:pt x="1455" y="1596"/>
                    </a:lnTo>
                    <a:lnTo>
                      <a:pt x="1455" y="1595"/>
                    </a:lnTo>
                    <a:lnTo>
                      <a:pt x="1455" y="1590"/>
                    </a:lnTo>
                    <a:lnTo>
                      <a:pt x="1454" y="1590"/>
                    </a:lnTo>
                    <a:lnTo>
                      <a:pt x="1454" y="1589"/>
                    </a:lnTo>
                    <a:lnTo>
                      <a:pt x="1453" y="1589"/>
                    </a:lnTo>
                    <a:lnTo>
                      <a:pt x="1453" y="1588"/>
                    </a:lnTo>
                    <a:lnTo>
                      <a:pt x="1453" y="1582"/>
                    </a:lnTo>
                    <a:lnTo>
                      <a:pt x="1451" y="1579"/>
                    </a:lnTo>
                    <a:lnTo>
                      <a:pt x="1450" y="1577"/>
                    </a:lnTo>
                    <a:lnTo>
                      <a:pt x="1449" y="1576"/>
                    </a:lnTo>
                    <a:lnTo>
                      <a:pt x="1449" y="1575"/>
                    </a:lnTo>
                    <a:lnTo>
                      <a:pt x="1449" y="1573"/>
                    </a:lnTo>
                    <a:lnTo>
                      <a:pt x="1449" y="1572"/>
                    </a:lnTo>
                    <a:lnTo>
                      <a:pt x="1450" y="1571"/>
                    </a:lnTo>
                    <a:lnTo>
                      <a:pt x="1450" y="1569"/>
                    </a:lnTo>
                    <a:lnTo>
                      <a:pt x="1448" y="1569"/>
                    </a:lnTo>
                    <a:lnTo>
                      <a:pt x="1446" y="1568"/>
                    </a:lnTo>
                    <a:lnTo>
                      <a:pt x="1439" y="1565"/>
                    </a:lnTo>
                    <a:lnTo>
                      <a:pt x="1432" y="1562"/>
                    </a:lnTo>
                    <a:lnTo>
                      <a:pt x="1427" y="1560"/>
                    </a:lnTo>
                    <a:lnTo>
                      <a:pt x="1422" y="1557"/>
                    </a:lnTo>
                    <a:lnTo>
                      <a:pt x="1418" y="1556"/>
                    </a:lnTo>
                    <a:lnTo>
                      <a:pt x="1413" y="1555"/>
                    </a:lnTo>
                    <a:lnTo>
                      <a:pt x="1411" y="1554"/>
                    </a:lnTo>
                    <a:lnTo>
                      <a:pt x="1409" y="1554"/>
                    </a:lnTo>
                    <a:lnTo>
                      <a:pt x="1408" y="1553"/>
                    </a:lnTo>
                    <a:lnTo>
                      <a:pt x="1406" y="1553"/>
                    </a:lnTo>
                    <a:lnTo>
                      <a:pt x="1403" y="1553"/>
                    </a:lnTo>
                    <a:lnTo>
                      <a:pt x="1392" y="1551"/>
                    </a:lnTo>
                    <a:lnTo>
                      <a:pt x="1381" y="1549"/>
                    </a:lnTo>
                    <a:lnTo>
                      <a:pt x="1379" y="1546"/>
                    </a:lnTo>
                    <a:lnTo>
                      <a:pt x="1377" y="1545"/>
                    </a:lnTo>
                    <a:lnTo>
                      <a:pt x="1376" y="1543"/>
                    </a:lnTo>
                    <a:lnTo>
                      <a:pt x="1373" y="1542"/>
                    </a:lnTo>
                    <a:lnTo>
                      <a:pt x="1370" y="1541"/>
                    </a:lnTo>
                    <a:lnTo>
                      <a:pt x="1368" y="1540"/>
                    </a:lnTo>
                    <a:lnTo>
                      <a:pt x="1366" y="1539"/>
                    </a:lnTo>
                    <a:lnTo>
                      <a:pt x="1364" y="1538"/>
                    </a:lnTo>
                    <a:lnTo>
                      <a:pt x="1362" y="1534"/>
                    </a:lnTo>
                    <a:lnTo>
                      <a:pt x="1359" y="1532"/>
                    </a:lnTo>
                    <a:lnTo>
                      <a:pt x="1357" y="1529"/>
                    </a:lnTo>
                    <a:lnTo>
                      <a:pt x="1355" y="1525"/>
                    </a:lnTo>
                    <a:lnTo>
                      <a:pt x="1353" y="1522"/>
                    </a:lnTo>
                    <a:lnTo>
                      <a:pt x="1352" y="1521"/>
                    </a:lnTo>
                    <a:lnTo>
                      <a:pt x="1351" y="1520"/>
                    </a:lnTo>
                    <a:lnTo>
                      <a:pt x="1351" y="1519"/>
                    </a:lnTo>
                    <a:lnTo>
                      <a:pt x="1348" y="1518"/>
                    </a:lnTo>
                    <a:lnTo>
                      <a:pt x="1347" y="1518"/>
                    </a:lnTo>
                    <a:lnTo>
                      <a:pt x="1346" y="1518"/>
                    </a:lnTo>
                    <a:lnTo>
                      <a:pt x="1345" y="1517"/>
                    </a:lnTo>
                    <a:lnTo>
                      <a:pt x="1344" y="1516"/>
                    </a:lnTo>
                    <a:lnTo>
                      <a:pt x="1344" y="1513"/>
                    </a:lnTo>
                    <a:lnTo>
                      <a:pt x="1343" y="1512"/>
                    </a:lnTo>
                    <a:lnTo>
                      <a:pt x="1343" y="1510"/>
                    </a:lnTo>
                    <a:lnTo>
                      <a:pt x="1342" y="1509"/>
                    </a:lnTo>
                    <a:lnTo>
                      <a:pt x="1339" y="1508"/>
                    </a:lnTo>
                    <a:lnTo>
                      <a:pt x="1336" y="1507"/>
                    </a:lnTo>
                    <a:lnTo>
                      <a:pt x="1333" y="1506"/>
                    </a:lnTo>
                    <a:lnTo>
                      <a:pt x="1331" y="1505"/>
                    </a:lnTo>
                    <a:lnTo>
                      <a:pt x="1329" y="1501"/>
                    </a:lnTo>
                    <a:lnTo>
                      <a:pt x="1326" y="1498"/>
                    </a:lnTo>
                    <a:lnTo>
                      <a:pt x="1324" y="1496"/>
                    </a:lnTo>
                    <a:lnTo>
                      <a:pt x="1323" y="1492"/>
                    </a:lnTo>
                    <a:lnTo>
                      <a:pt x="1320" y="1490"/>
                    </a:lnTo>
                    <a:lnTo>
                      <a:pt x="1318" y="1487"/>
                    </a:lnTo>
                    <a:lnTo>
                      <a:pt x="1315" y="1485"/>
                    </a:lnTo>
                    <a:lnTo>
                      <a:pt x="1313" y="1481"/>
                    </a:lnTo>
                    <a:lnTo>
                      <a:pt x="1311" y="1478"/>
                    </a:lnTo>
                    <a:lnTo>
                      <a:pt x="1309" y="1476"/>
                    </a:lnTo>
                    <a:lnTo>
                      <a:pt x="1303" y="1469"/>
                    </a:lnTo>
                    <a:lnTo>
                      <a:pt x="1298" y="1463"/>
                    </a:lnTo>
                    <a:lnTo>
                      <a:pt x="1289" y="1458"/>
                    </a:lnTo>
                    <a:lnTo>
                      <a:pt x="1287" y="1457"/>
                    </a:lnTo>
                    <a:lnTo>
                      <a:pt x="1283" y="1456"/>
                    </a:lnTo>
                    <a:lnTo>
                      <a:pt x="1280" y="1456"/>
                    </a:lnTo>
                    <a:lnTo>
                      <a:pt x="1278" y="1455"/>
                    </a:lnTo>
                    <a:lnTo>
                      <a:pt x="1276" y="1454"/>
                    </a:lnTo>
                    <a:lnTo>
                      <a:pt x="1276" y="1453"/>
                    </a:lnTo>
                    <a:lnTo>
                      <a:pt x="1276" y="1452"/>
                    </a:lnTo>
                    <a:lnTo>
                      <a:pt x="1277" y="1452"/>
                    </a:lnTo>
                    <a:lnTo>
                      <a:pt x="1278" y="1452"/>
                    </a:lnTo>
                    <a:lnTo>
                      <a:pt x="1278" y="1452"/>
                    </a:lnTo>
                    <a:lnTo>
                      <a:pt x="1279" y="1448"/>
                    </a:lnTo>
                    <a:lnTo>
                      <a:pt x="1278" y="1446"/>
                    </a:lnTo>
                    <a:lnTo>
                      <a:pt x="1277" y="1444"/>
                    </a:lnTo>
                    <a:lnTo>
                      <a:pt x="1275" y="1442"/>
                    </a:lnTo>
                    <a:lnTo>
                      <a:pt x="1271" y="1441"/>
                    </a:lnTo>
                    <a:lnTo>
                      <a:pt x="1271" y="1438"/>
                    </a:lnTo>
                    <a:lnTo>
                      <a:pt x="1271" y="1436"/>
                    </a:lnTo>
                    <a:lnTo>
                      <a:pt x="1274" y="1434"/>
                    </a:lnTo>
                    <a:lnTo>
                      <a:pt x="1276" y="1432"/>
                    </a:lnTo>
                    <a:lnTo>
                      <a:pt x="1279" y="1430"/>
                    </a:lnTo>
                    <a:lnTo>
                      <a:pt x="1282" y="1429"/>
                    </a:lnTo>
                    <a:lnTo>
                      <a:pt x="1285" y="1427"/>
                    </a:lnTo>
                    <a:lnTo>
                      <a:pt x="1288" y="1426"/>
                    </a:lnTo>
                    <a:lnTo>
                      <a:pt x="1291" y="1424"/>
                    </a:lnTo>
                    <a:lnTo>
                      <a:pt x="1293" y="1423"/>
                    </a:lnTo>
                    <a:lnTo>
                      <a:pt x="1296" y="1421"/>
                    </a:lnTo>
                    <a:lnTo>
                      <a:pt x="1297" y="1419"/>
                    </a:lnTo>
                    <a:lnTo>
                      <a:pt x="1296" y="1416"/>
                    </a:lnTo>
                    <a:lnTo>
                      <a:pt x="1293" y="1414"/>
                    </a:lnTo>
                    <a:lnTo>
                      <a:pt x="1293" y="1415"/>
                    </a:lnTo>
                    <a:lnTo>
                      <a:pt x="1292" y="1416"/>
                    </a:lnTo>
                    <a:lnTo>
                      <a:pt x="1291" y="1418"/>
                    </a:lnTo>
                    <a:lnTo>
                      <a:pt x="1290" y="1418"/>
                    </a:lnTo>
                    <a:lnTo>
                      <a:pt x="1287" y="1416"/>
                    </a:lnTo>
                    <a:lnTo>
                      <a:pt x="1286" y="1416"/>
                    </a:lnTo>
                    <a:lnTo>
                      <a:pt x="1285" y="1415"/>
                    </a:lnTo>
                    <a:lnTo>
                      <a:pt x="1283" y="1413"/>
                    </a:lnTo>
                    <a:lnTo>
                      <a:pt x="1280" y="1412"/>
                    </a:lnTo>
                    <a:lnTo>
                      <a:pt x="1279" y="1412"/>
                    </a:lnTo>
                    <a:lnTo>
                      <a:pt x="1278" y="1412"/>
                    </a:lnTo>
                    <a:lnTo>
                      <a:pt x="1278" y="1411"/>
                    </a:lnTo>
                    <a:lnTo>
                      <a:pt x="1279" y="1411"/>
                    </a:lnTo>
                    <a:lnTo>
                      <a:pt x="1279" y="1410"/>
                    </a:lnTo>
                    <a:lnTo>
                      <a:pt x="1280" y="1410"/>
                    </a:lnTo>
                    <a:lnTo>
                      <a:pt x="1280" y="1410"/>
                    </a:lnTo>
                    <a:lnTo>
                      <a:pt x="1281" y="1409"/>
                    </a:lnTo>
                    <a:lnTo>
                      <a:pt x="1281" y="1407"/>
                    </a:lnTo>
                    <a:lnTo>
                      <a:pt x="1280" y="1405"/>
                    </a:lnTo>
                    <a:lnTo>
                      <a:pt x="1278" y="1405"/>
                    </a:lnTo>
                    <a:lnTo>
                      <a:pt x="1278" y="1399"/>
                    </a:lnTo>
                    <a:lnTo>
                      <a:pt x="1278" y="1398"/>
                    </a:lnTo>
                    <a:lnTo>
                      <a:pt x="1278" y="1398"/>
                    </a:lnTo>
                    <a:lnTo>
                      <a:pt x="1279" y="1398"/>
                    </a:lnTo>
                    <a:lnTo>
                      <a:pt x="1280" y="1398"/>
                    </a:lnTo>
                    <a:lnTo>
                      <a:pt x="1281" y="1398"/>
                    </a:lnTo>
                    <a:lnTo>
                      <a:pt x="1282" y="1397"/>
                    </a:lnTo>
                    <a:lnTo>
                      <a:pt x="1283" y="1396"/>
                    </a:lnTo>
                    <a:lnTo>
                      <a:pt x="1283" y="1394"/>
                    </a:lnTo>
                    <a:lnTo>
                      <a:pt x="1285" y="1393"/>
                    </a:lnTo>
                    <a:lnTo>
                      <a:pt x="1285" y="1392"/>
                    </a:lnTo>
                    <a:lnTo>
                      <a:pt x="1286" y="1391"/>
                    </a:lnTo>
                    <a:lnTo>
                      <a:pt x="1287" y="1390"/>
                    </a:lnTo>
                    <a:lnTo>
                      <a:pt x="1288" y="1390"/>
                    </a:lnTo>
                    <a:lnTo>
                      <a:pt x="1290" y="1389"/>
                    </a:lnTo>
                    <a:lnTo>
                      <a:pt x="1291" y="1388"/>
                    </a:lnTo>
                    <a:lnTo>
                      <a:pt x="1292" y="1386"/>
                    </a:lnTo>
                    <a:lnTo>
                      <a:pt x="1292" y="1385"/>
                    </a:lnTo>
                    <a:lnTo>
                      <a:pt x="1292" y="1382"/>
                    </a:lnTo>
                    <a:lnTo>
                      <a:pt x="1291" y="1380"/>
                    </a:lnTo>
                    <a:lnTo>
                      <a:pt x="1290" y="1378"/>
                    </a:lnTo>
                    <a:lnTo>
                      <a:pt x="1290" y="1377"/>
                    </a:lnTo>
                    <a:lnTo>
                      <a:pt x="1291" y="1375"/>
                    </a:lnTo>
                    <a:lnTo>
                      <a:pt x="1298" y="1374"/>
                    </a:lnTo>
                    <a:lnTo>
                      <a:pt x="1304" y="1372"/>
                    </a:lnTo>
                    <a:lnTo>
                      <a:pt x="1309" y="1370"/>
                    </a:lnTo>
                    <a:lnTo>
                      <a:pt x="1311" y="1369"/>
                    </a:lnTo>
                    <a:lnTo>
                      <a:pt x="1311" y="1368"/>
                    </a:lnTo>
                    <a:lnTo>
                      <a:pt x="1310" y="1367"/>
                    </a:lnTo>
                    <a:lnTo>
                      <a:pt x="1310" y="1366"/>
                    </a:lnTo>
                    <a:lnTo>
                      <a:pt x="1310" y="1365"/>
                    </a:lnTo>
                    <a:lnTo>
                      <a:pt x="1311" y="1364"/>
                    </a:lnTo>
                    <a:lnTo>
                      <a:pt x="1313" y="1361"/>
                    </a:lnTo>
                    <a:lnTo>
                      <a:pt x="1315" y="1359"/>
                    </a:lnTo>
                    <a:lnTo>
                      <a:pt x="1315" y="1357"/>
                    </a:lnTo>
                    <a:lnTo>
                      <a:pt x="1318" y="1356"/>
                    </a:lnTo>
                    <a:lnTo>
                      <a:pt x="1320" y="1355"/>
                    </a:lnTo>
                    <a:lnTo>
                      <a:pt x="1322" y="1354"/>
                    </a:lnTo>
                    <a:lnTo>
                      <a:pt x="1325" y="1354"/>
                    </a:lnTo>
                    <a:lnTo>
                      <a:pt x="1328" y="1354"/>
                    </a:lnTo>
                    <a:lnTo>
                      <a:pt x="1330" y="1354"/>
                    </a:lnTo>
                    <a:lnTo>
                      <a:pt x="1331" y="1353"/>
                    </a:lnTo>
                    <a:lnTo>
                      <a:pt x="1333" y="1350"/>
                    </a:lnTo>
                    <a:lnTo>
                      <a:pt x="1334" y="1348"/>
                    </a:lnTo>
                    <a:lnTo>
                      <a:pt x="1335" y="1347"/>
                    </a:lnTo>
                    <a:lnTo>
                      <a:pt x="1337" y="1345"/>
                    </a:lnTo>
                    <a:lnTo>
                      <a:pt x="1340" y="1344"/>
                    </a:lnTo>
                    <a:lnTo>
                      <a:pt x="1342" y="1342"/>
                    </a:lnTo>
                    <a:lnTo>
                      <a:pt x="1343" y="1339"/>
                    </a:lnTo>
                    <a:lnTo>
                      <a:pt x="1343" y="1336"/>
                    </a:lnTo>
                    <a:lnTo>
                      <a:pt x="1342" y="1333"/>
                    </a:lnTo>
                    <a:lnTo>
                      <a:pt x="1341" y="1332"/>
                    </a:lnTo>
                    <a:lnTo>
                      <a:pt x="1340" y="1329"/>
                    </a:lnTo>
                    <a:lnTo>
                      <a:pt x="1340" y="1328"/>
                    </a:lnTo>
                    <a:lnTo>
                      <a:pt x="1340" y="1326"/>
                    </a:lnTo>
                    <a:lnTo>
                      <a:pt x="1341" y="1323"/>
                    </a:lnTo>
                    <a:lnTo>
                      <a:pt x="1342" y="1321"/>
                    </a:lnTo>
                    <a:lnTo>
                      <a:pt x="1343" y="1318"/>
                    </a:lnTo>
                    <a:lnTo>
                      <a:pt x="1344" y="1315"/>
                    </a:lnTo>
                    <a:lnTo>
                      <a:pt x="1344" y="1314"/>
                    </a:lnTo>
                    <a:lnTo>
                      <a:pt x="1343" y="1313"/>
                    </a:lnTo>
                    <a:lnTo>
                      <a:pt x="1342" y="1311"/>
                    </a:lnTo>
                    <a:lnTo>
                      <a:pt x="1342" y="1309"/>
                    </a:lnTo>
                    <a:lnTo>
                      <a:pt x="1342" y="1306"/>
                    </a:lnTo>
                    <a:lnTo>
                      <a:pt x="1343" y="1305"/>
                    </a:lnTo>
                    <a:lnTo>
                      <a:pt x="1344" y="1304"/>
                    </a:lnTo>
                    <a:lnTo>
                      <a:pt x="1343" y="1303"/>
                    </a:lnTo>
                    <a:lnTo>
                      <a:pt x="1342" y="1302"/>
                    </a:lnTo>
                    <a:lnTo>
                      <a:pt x="1340" y="1300"/>
                    </a:lnTo>
                    <a:lnTo>
                      <a:pt x="1339" y="1299"/>
                    </a:lnTo>
                    <a:lnTo>
                      <a:pt x="1336" y="1296"/>
                    </a:lnTo>
                    <a:lnTo>
                      <a:pt x="1335" y="1294"/>
                    </a:lnTo>
                    <a:lnTo>
                      <a:pt x="1333" y="1291"/>
                    </a:lnTo>
                    <a:lnTo>
                      <a:pt x="1331" y="1289"/>
                    </a:lnTo>
                    <a:lnTo>
                      <a:pt x="1329" y="1288"/>
                    </a:lnTo>
                    <a:lnTo>
                      <a:pt x="1324" y="1287"/>
                    </a:lnTo>
                    <a:lnTo>
                      <a:pt x="1320" y="1288"/>
                    </a:lnTo>
                    <a:lnTo>
                      <a:pt x="1317" y="1288"/>
                    </a:lnTo>
                    <a:lnTo>
                      <a:pt x="1312" y="1289"/>
                    </a:lnTo>
                    <a:lnTo>
                      <a:pt x="1309" y="1289"/>
                    </a:lnTo>
                    <a:lnTo>
                      <a:pt x="1308" y="1289"/>
                    </a:lnTo>
                    <a:lnTo>
                      <a:pt x="1307" y="1288"/>
                    </a:lnTo>
                    <a:lnTo>
                      <a:pt x="1304" y="1287"/>
                    </a:lnTo>
                    <a:lnTo>
                      <a:pt x="1303" y="1287"/>
                    </a:lnTo>
                    <a:lnTo>
                      <a:pt x="1300" y="1287"/>
                    </a:lnTo>
                    <a:lnTo>
                      <a:pt x="1289" y="1289"/>
                    </a:lnTo>
                    <a:lnTo>
                      <a:pt x="1278" y="1292"/>
                    </a:lnTo>
                    <a:lnTo>
                      <a:pt x="1267" y="1293"/>
                    </a:lnTo>
                    <a:lnTo>
                      <a:pt x="1260" y="1293"/>
                    </a:lnTo>
                    <a:lnTo>
                      <a:pt x="1254" y="1291"/>
                    </a:lnTo>
                    <a:lnTo>
                      <a:pt x="1247" y="1289"/>
                    </a:lnTo>
                    <a:lnTo>
                      <a:pt x="1236" y="1290"/>
                    </a:lnTo>
                    <a:lnTo>
                      <a:pt x="1225" y="1291"/>
                    </a:lnTo>
                    <a:lnTo>
                      <a:pt x="1219" y="1291"/>
                    </a:lnTo>
                    <a:lnTo>
                      <a:pt x="1210" y="1291"/>
                    </a:lnTo>
                    <a:lnTo>
                      <a:pt x="1201" y="1290"/>
                    </a:lnTo>
                    <a:lnTo>
                      <a:pt x="1194" y="1288"/>
                    </a:lnTo>
                    <a:lnTo>
                      <a:pt x="1190" y="1284"/>
                    </a:lnTo>
                    <a:lnTo>
                      <a:pt x="1191" y="1281"/>
                    </a:lnTo>
                    <a:lnTo>
                      <a:pt x="1191" y="1279"/>
                    </a:lnTo>
                    <a:lnTo>
                      <a:pt x="1193" y="1277"/>
                    </a:lnTo>
                    <a:lnTo>
                      <a:pt x="1194" y="1274"/>
                    </a:lnTo>
                    <a:lnTo>
                      <a:pt x="1197" y="1271"/>
                    </a:lnTo>
                    <a:lnTo>
                      <a:pt x="1198" y="1270"/>
                    </a:lnTo>
                    <a:lnTo>
                      <a:pt x="1198" y="1267"/>
                    </a:lnTo>
                    <a:lnTo>
                      <a:pt x="1198" y="1265"/>
                    </a:lnTo>
                    <a:lnTo>
                      <a:pt x="1198" y="1262"/>
                    </a:lnTo>
                    <a:lnTo>
                      <a:pt x="1197" y="1260"/>
                    </a:lnTo>
                    <a:lnTo>
                      <a:pt x="1197" y="1258"/>
                    </a:lnTo>
                    <a:lnTo>
                      <a:pt x="1195" y="1255"/>
                    </a:lnTo>
                    <a:lnTo>
                      <a:pt x="1197" y="1251"/>
                    </a:lnTo>
                    <a:lnTo>
                      <a:pt x="1197" y="1248"/>
                    </a:lnTo>
                    <a:lnTo>
                      <a:pt x="1197" y="1245"/>
                    </a:lnTo>
                    <a:lnTo>
                      <a:pt x="1197" y="1244"/>
                    </a:lnTo>
                    <a:lnTo>
                      <a:pt x="1194" y="1241"/>
                    </a:lnTo>
                    <a:lnTo>
                      <a:pt x="1191" y="1240"/>
                    </a:lnTo>
                    <a:lnTo>
                      <a:pt x="1188" y="1238"/>
                    </a:lnTo>
                    <a:lnTo>
                      <a:pt x="1177" y="1229"/>
                    </a:lnTo>
                    <a:lnTo>
                      <a:pt x="1166" y="1220"/>
                    </a:lnTo>
                    <a:lnTo>
                      <a:pt x="1160" y="1220"/>
                    </a:lnTo>
                    <a:lnTo>
                      <a:pt x="1154" y="1222"/>
                    </a:lnTo>
                    <a:lnTo>
                      <a:pt x="1147" y="1224"/>
                    </a:lnTo>
                    <a:lnTo>
                      <a:pt x="1139" y="1223"/>
                    </a:lnTo>
                    <a:lnTo>
                      <a:pt x="1130" y="1219"/>
                    </a:lnTo>
                    <a:lnTo>
                      <a:pt x="1122" y="1216"/>
                    </a:lnTo>
                    <a:lnTo>
                      <a:pt x="1111" y="1214"/>
                    </a:lnTo>
                    <a:lnTo>
                      <a:pt x="1105" y="1213"/>
                    </a:lnTo>
                    <a:lnTo>
                      <a:pt x="1099" y="1212"/>
                    </a:lnTo>
                    <a:lnTo>
                      <a:pt x="1093" y="1209"/>
                    </a:lnTo>
                    <a:lnTo>
                      <a:pt x="1091" y="1205"/>
                    </a:lnTo>
                    <a:lnTo>
                      <a:pt x="1092" y="1203"/>
                    </a:lnTo>
                    <a:lnTo>
                      <a:pt x="1092" y="1201"/>
                    </a:lnTo>
                    <a:lnTo>
                      <a:pt x="1093" y="1198"/>
                    </a:lnTo>
                    <a:lnTo>
                      <a:pt x="1092" y="1196"/>
                    </a:lnTo>
                    <a:lnTo>
                      <a:pt x="1092" y="1194"/>
                    </a:lnTo>
                    <a:lnTo>
                      <a:pt x="1089" y="1193"/>
                    </a:lnTo>
                    <a:lnTo>
                      <a:pt x="1084" y="1189"/>
                    </a:lnTo>
                    <a:lnTo>
                      <a:pt x="1080" y="1186"/>
                    </a:lnTo>
                    <a:lnTo>
                      <a:pt x="1075" y="1184"/>
                    </a:lnTo>
                    <a:lnTo>
                      <a:pt x="1066" y="1183"/>
                    </a:lnTo>
                    <a:lnTo>
                      <a:pt x="1055" y="1183"/>
                    </a:lnTo>
                    <a:lnTo>
                      <a:pt x="1045" y="1184"/>
                    </a:lnTo>
                    <a:lnTo>
                      <a:pt x="1042" y="1184"/>
                    </a:lnTo>
                    <a:lnTo>
                      <a:pt x="1041" y="1185"/>
                    </a:lnTo>
                    <a:lnTo>
                      <a:pt x="1040" y="1186"/>
                    </a:lnTo>
                    <a:lnTo>
                      <a:pt x="1040" y="1187"/>
                    </a:lnTo>
                    <a:lnTo>
                      <a:pt x="1041" y="1189"/>
                    </a:lnTo>
                    <a:lnTo>
                      <a:pt x="1041" y="1191"/>
                    </a:lnTo>
                    <a:lnTo>
                      <a:pt x="1041" y="1192"/>
                    </a:lnTo>
                    <a:lnTo>
                      <a:pt x="1041" y="1193"/>
                    </a:lnTo>
                    <a:lnTo>
                      <a:pt x="1041" y="1194"/>
                    </a:lnTo>
                    <a:lnTo>
                      <a:pt x="1040" y="1194"/>
                    </a:lnTo>
                    <a:lnTo>
                      <a:pt x="1039" y="1194"/>
                    </a:lnTo>
                    <a:lnTo>
                      <a:pt x="1036" y="1193"/>
                    </a:lnTo>
                    <a:lnTo>
                      <a:pt x="1027" y="1186"/>
                    </a:lnTo>
                    <a:lnTo>
                      <a:pt x="1017" y="1181"/>
                    </a:lnTo>
                    <a:lnTo>
                      <a:pt x="1007" y="1175"/>
                    </a:lnTo>
                    <a:lnTo>
                      <a:pt x="993" y="1168"/>
                    </a:lnTo>
                    <a:lnTo>
                      <a:pt x="979" y="1163"/>
                    </a:lnTo>
                    <a:lnTo>
                      <a:pt x="963" y="1160"/>
                    </a:lnTo>
                    <a:lnTo>
                      <a:pt x="943" y="1153"/>
                    </a:lnTo>
                    <a:lnTo>
                      <a:pt x="926" y="1145"/>
                    </a:lnTo>
                    <a:lnTo>
                      <a:pt x="915" y="1138"/>
                    </a:lnTo>
                    <a:lnTo>
                      <a:pt x="906" y="1131"/>
                    </a:lnTo>
                    <a:lnTo>
                      <a:pt x="896" y="1127"/>
                    </a:lnTo>
                    <a:lnTo>
                      <a:pt x="886" y="1123"/>
                    </a:lnTo>
                    <a:lnTo>
                      <a:pt x="871" y="1113"/>
                    </a:lnTo>
                    <a:lnTo>
                      <a:pt x="855" y="1103"/>
                    </a:lnTo>
                    <a:lnTo>
                      <a:pt x="853" y="1099"/>
                    </a:lnTo>
                    <a:lnTo>
                      <a:pt x="850" y="1097"/>
                    </a:lnTo>
                    <a:lnTo>
                      <a:pt x="848" y="1095"/>
                    </a:lnTo>
                    <a:lnTo>
                      <a:pt x="845" y="1093"/>
                    </a:lnTo>
                    <a:lnTo>
                      <a:pt x="844" y="1092"/>
                    </a:lnTo>
                    <a:lnTo>
                      <a:pt x="845" y="1088"/>
                    </a:lnTo>
                    <a:lnTo>
                      <a:pt x="846" y="1085"/>
                    </a:lnTo>
                    <a:lnTo>
                      <a:pt x="848" y="1083"/>
                    </a:lnTo>
                    <a:lnTo>
                      <a:pt x="849" y="1081"/>
                    </a:lnTo>
                    <a:lnTo>
                      <a:pt x="849" y="1078"/>
                    </a:lnTo>
                    <a:lnTo>
                      <a:pt x="844" y="1067"/>
                    </a:lnTo>
                    <a:lnTo>
                      <a:pt x="838" y="1058"/>
                    </a:lnTo>
                    <a:lnTo>
                      <a:pt x="829" y="1050"/>
                    </a:lnTo>
                    <a:lnTo>
                      <a:pt x="824" y="1043"/>
                    </a:lnTo>
                    <a:lnTo>
                      <a:pt x="820" y="1039"/>
                    </a:lnTo>
                    <a:lnTo>
                      <a:pt x="816" y="1034"/>
                    </a:lnTo>
                    <a:lnTo>
                      <a:pt x="810" y="1030"/>
                    </a:lnTo>
                    <a:lnTo>
                      <a:pt x="805" y="1026"/>
                    </a:lnTo>
                    <a:lnTo>
                      <a:pt x="798" y="1021"/>
                    </a:lnTo>
                    <a:lnTo>
                      <a:pt x="788" y="1010"/>
                    </a:lnTo>
                    <a:lnTo>
                      <a:pt x="778" y="1001"/>
                    </a:lnTo>
                    <a:lnTo>
                      <a:pt x="772" y="997"/>
                    </a:lnTo>
                    <a:lnTo>
                      <a:pt x="767" y="990"/>
                    </a:lnTo>
                    <a:lnTo>
                      <a:pt x="764" y="983"/>
                    </a:lnTo>
                    <a:lnTo>
                      <a:pt x="761" y="977"/>
                    </a:lnTo>
                    <a:lnTo>
                      <a:pt x="752" y="967"/>
                    </a:lnTo>
                    <a:lnTo>
                      <a:pt x="742" y="960"/>
                    </a:lnTo>
                    <a:lnTo>
                      <a:pt x="732" y="951"/>
                    </a:lnTo>
                    <a:lnTo>
                      <a:pt x="728" y="946"/>
                    </a:lnTo>
                    <a:lnTo>
                      <a:pt x="723" y="942"/>
                    </a:lnTo>
                    <a:lnTo>
                      <a:pt x="719" y="939"/>
                    </a:lnTo>
                    <a:lnTo>
                      <a:pt x="714" y="935"/>
                    </a:lnTo>
                    <a:lnTo>
                      <a:pt x="711" y="931"/>
                    </a:lnTo>
                    <a:lnTo>
                      <a:pt x="708" y="927"/>
                    </a:lnTo>
                    <a:lnTo>
                      <a:pt x="706" y="920"/>
                    </a:lnTo>
                    <a:lnTo>
                      <a:pt x="698" y="903"/>
                    </a:lnTo>
                    <a:lnTo>
                      <a:pt x="686" y="889"/>
                    </a:lnTo>
                    <a:lnTo>
                      <a:pt x="685" y="887"/>
                    </a:lnTo>
                    <a:lnTo>
                      <a:pt x="682" y="885"/>
                    </a:lnTo>
                    <a:lnTo>
                      <a:pt x="680" y="883"/>
                    </a:lnTo>
                    <a:lnTo>
                      <a:pt x="678" y="881"/>
                    </a:lnTo>
                    <a:lnTo>
                      <a:pt x="677" y="879"/>
                    </a:lnTo>
                    <a:lnTo>
                      <a:pt x="675" y="878"/>
                    </a:lnTo>
                    <a:lnTo>
                      <a:pt x="672" y="878"/>
                    </a:lnTo>
                    <a:lnTo>
                      <a:pt x="671" y="878"/>
                    </a:lnTo>
                    <a:lnTo>
                      <a:pt x="670" y="880"/>
                    </a:lnTo>
                    <a:lnTo>
                      <a:pt x="670" y="883"/>
                    </a:lnTo>
                    <a:lnTo>
                      <a:pt x="674" y="895"/>
                    </a:lnTo>
                    <a:lnTo>
                      <a:pt x="672" y="905"/>
                    </a:lnTo>
                    <a:lnTo>
                      <a:pt x="672" y="908"/>
                    </a:lnTo>
                    <a:lnTo>
                      <a:pt x="672" y="910"/>
                    </a:lnTo>
                    <a:lnTo>
                      <a:pt x="674" y="912"/>
                    </a:lnTo>
                    <a:lnTo>
                      <a:pt x="676" y="916"/>
                    </a:lnTo>
                    <a:lnTo>
                      <a:pt x="679" y="918"/>
                    </a:lnTo>
                    <a:lnTo>
                      <a:pt x="687" y="923"/>
                    </a:lnTo>
                    <a:lnTo>
                      <a:pt x="695" y="929"/>
                    </a:lnTo>
                    <a:lnTo>
                      <a:pt x="699" y="934"/>
                    </a:lnTo>
                    <a:lnTo>
                      <a:pt x="701" y="942"/>
                    </a:lnTo>
                    <a:lnTo>
                      <a:pt x="704" y="946"/>
                    </a:lnTo>
                    <a:lnTo>
                      <a:pt x="708" y="951"/>
                    </a:lnTo>
                    <a:lnTo>
                      <a:pt x="712" y="955"/>
                    </a:lnTo>
                    <a:lnTo>
                      <a:pt x="717" y="961"/>
                    </a:lnTo>
                    <a:lnTo>
                      <a:pt x="721" y="966"/>
                    </a:lnTo>
                    <a:lnTo>
                      <a:pt x="725" y="973"/>
                    </a:lnTo>
                    <a:lnTo>
                      <a:pt x="730" y="978"/>
                    </a:lnTo>
                    <a:lnTo>
                      <a:pt x="734" y="984"/>
                    </a:lnTo>
                    <a:lnTo>
                      <a:pt x="739" y="988"/>
                    </a:lnTo>
                    <a:lnTo>
                      <a:pt x="741" y="992"/>
                    </a:lnTo>
                    <a:lnTo>
                      <a:pt x="742" y="995"/>
                    </a:lnTo>
                    <a:lnTo>
                      <a:pt x="744" y="997"/>
                    </a:lnTo>
                    <a:lnTo>
                      <a:pt x="745" y="999"/>
                    </a:lnTo>
                    <a:lnTo>
                      <a:pt x="747" y="1001"/>
                    </a:lnTo>
                    <a:lnTo>
                      <a:pt x="751" y="1005"/>
                    </a:lnTo>
                    <a:lnTo>
                      <a:pt x="753" y="1009"/>
                    </a:lnTo>
                    <a:lnTo>
                      <a:pt x="755" y="1014"/>
                    </a:lnTo>
                    <a:lnTo>
                      <a:pt x="756" y="1017"/>
                    </a:lnTo>
                    <a:lnTo>
                      <a:pt x="758" y="1019"/>
                    </a:lnTo>
                    <a:lnTo>
                      <a:pt x="761" y="1020"/>
                    </a:lnTo>
                    <a:lnTo>
                      <a:pt x="763" y="1022"/>
                    </a:lnTo>
                    <a:lnTo>
                      <a:pt x="765" y="1023"/>
                    </a:lnTo>
                    <a:lnTo>
                      <a:pt x="767" y="1026"/>
                    </a:lnTo>
                    <a:lnTo>
                      <a:pt x="770" y="1029"/>
                    </a:lnTo>
                    <a:lnTo>
                      <a:pt x="774" y="1033"/>
                    </a:lnTo>
                    <a:lnTo>
                      <a:pt x="776" y="1038"/>
                    </a:lnTo>
                    <a:lnTo>
                      <a:pt x="778" y="1041"/>
                    </a:lnTo>
                    <a:lnTo>
                      <a:pt x="778" y="1042"/>
                    </a:lnTo>
                    <a:lnTo>
                      <a:pt x="777" y="1043"/>
                    </a:lnTo>
                    <a:lnTo>
                      <a:pt x="776" y="1043"/>
                    </a:lnTo>
                    <a:lnTo>
                      <a:pt x="775" y="1043"/>
                    </a:lnTo>
                    <a:lnTo>
                      <a:pt x="773" y="1043"/>
                    </a:lnTo>
                    <a:lnTo>
                      <a:pt x="772" y="1043"/>
                    </a:lnTo>
                    <a:lnTo>
                      <a:pt x="768" y="1041"/>
                    </a:lnTo>
                    <a:lnTo>
                      <a:pt x="766" y="1039"/>
                    </a:lnTo>
                    <a:lnTo>
                      <a:pt x="764" y="1037"/>
                    </a:lnTo>
                    <a:lnTo>
                      <a:pt x="762" y="1033"/>
                    </a:lnTo>
                    <a:lnTo>
                      <a:pt x="761" y="1032"/>
                    </a:lnTo>
                    <a:lnTo>
                      <a:pt x="758" y="1030"/>
                    </a:lnTo>
                    <a:lnTo>
                      <a:pt x="755" y="1028"/>
                    </a:lnTo>
                    <a:lnTo>
                      <a:pt x="752" y="1026"/>
                    </a:lnTo>
                    <a:lnTo>
                      <a:pt x="750" y="1023"/>
                    </a:lnTo>
                    <a:lnTo>
                      <a:pt x="747" y="1021"/>
                    </a:lnTo>
                    <a:lnTo>
                      <a:pt x="745" y="1018"/>
                    </a:lnTo>
                    <a:lnTo>
                      <a:pt x="742" y="1016"/>
                    </a:lnTo>
                    <a:lnTo>
                      <a:pt x="739" y="1012"/>
                    </a:lnTo>
                    <a:lnTo>
                      <a:pt x="735" y="1011"/>
                    </a:lnTo>
                    <a:lnTo>
                      <a:pt x="732" y="1010"/>
                    </a:lnTo>
                    <a:lnTo>
                      <a:pt x="729" y="1010"/>
                    </a:lnTo>
                    <a:lnTo>
                      <a:pt x="726" y="1008"/>
                    </a:lnTo>
                    <a:lnTo>
                      <a:pt x="725" y="1007"/>
                    </a:lnTo>
                    <a:lnTo>
                      <a:pt x="723" y="1004"/>
                    </a:lnTo>
                    <a:lnTo>
                      <a:pt x="722" y="996"/>
                    </a:lnTo>
                    <a:lnTo>
                      <a:pt x="722" y="988"/>
                    </a:lnTo>
                    <a:lnTo>
                      <a:pt x="719" y="983"/>
                    </a:lnTo>
                    <a:lnTo>
                      <a:pt x="712" y="977"/>
                    </a:lnTo>
                    <a:lnTo>
                      <a:pt x="707" y="973"/>
                    </a:lnTo>
                    <a:lnTo>
                      <a:pt x="699" y="971"/>
                    </a:lnTo>
                    <a:lnTo>
                      <a:pt x="692" y="967"/>
                    </a:lnTo>
                    <a:lnTo>
                      <a:pt x="688" y="962"/>
                    </a:lnTo>
                    <a:lnTo>
                      <a:pt x="686" y="955"/>
                    </a:lnTo>
                    <a:lnTo>
                      <a:pt x="687" y="949"/>
                    </a:lnTo>
                    <a:lnTo>
                      <a:pt x="687" y="942"/>
                    </a:lnTo>
                    <a:lnTo>
                      <a:pt x="684" y="935"/>
                    </a:lnTo>
                    <a:lnTo>
                      <a:pt x="679" y="932"/>
                    </a:lnTo>
                    <a:lnTo>
                      <a:pt x="674" y="928"/>
                    </a:lnTo>
                    <a:lnTo>
                      <a:pt x="669" y="923"/>
                    </a:lnTo>
                    <a:lnTo>
                      <a:pt x="666" y="920"/>
                    </a:lnTo>
                    <a:lnTo>
                      <a:pt x="664" y="918"/>
                    </a:lnTo>
                    <a:lnTo>
                      <a:pt x="661" y="916"/>
                    </a:lnTo>
                    <a:lnTo>
                      <a:pt x="660" y="913"/>
                    </a:lnTo>
                    <a:lnTo>
                      <a:pt x="658" y="910"/>
                    </a:lnTo>
                    <a:lnTo>
                      <a:pt x="657" y="907"/>
                    </a:lnTo>
                    <a:lnTo>
                      <a:pt x="650" y="897"/>
                    </a:lnTo>
                    <a:lnTo>
                      <a:pt x="643" y="887"/>
                    </a:lnTo>
                    <a:lnTo>
                      <a:pt x="635" y="876"/>
                    </a:lnTo>
                    <a:lnTo>
                      <a:pt x="621" y="856"/>
                    </a:lnTo>
                    <a:lnTo>
                      <a:pt x="609" y="836"/>
                    </a:lnTo>
                    <a:lnTo>
                      <a:pt x="601" y="827"/>
                    </a:lnTo>
                    <a:lnTo>
                      <a:pt x="591" y="821"/>
                    </a:lnTo>
                    <a:lnTo>
                      <a:pt x="582" y="814"/>
                    </a:lnTo>
                    <a:lnTo>
                      <a:pt x="569" y="804"/>
                    </a:lnTo>
                    <a:lnTo>
                      <a:pt x="557" y="792"/>
                    </a:lnTo>
                    <a:lnTo>
                      <a:pt x="546" y="777"/>
                    </a:lnTo>
                    <a:lnTo>
                      <a:pt x="538" y="760"/>
                    </a:lnTo>
                    <a:lnTo>
                      <a:pt x="532" y="745"/>
                    </a:lnTo>
                    <a:lnTo>
                      <a:pt x="527" y="735"/>
                    </a:lnTo>
                    <a:lnTo>
                      <a:pt x="523" y="725"/>
                    </a:lnTo>
                    <a:lnTo>
                      <a:pt x="522" y="721"/>
                    </a:lnTo>
                    <a:lnTo>
                      <a:pt x="519" y="718"/>
                    </a:lnTo>
                    <a:lnTo>
                      <a:pt x="517" y="715"/>
                    </a:lnTo>
                    <a:lnTo>
                      <a:pt x="514" y="713"/>
                    </a:lnTo>
                    <a:lnTo>
                      <a:pt x="512" y="710"/>
                    </a:lnTo>
                    <a:lnTo>
                      <a:pt x="510" y="704"/>
                    </a:lnTo>
                    <a:lnTo>
                      <a:pt x="507" y="699"/>
                    </a:lnTo>
                    <a:lnTo>
                      <a:pt x="505" y="692"/>
                    </a:lnTo>
                    <a:lnTo>
                      <a:pt x="504" y="689"/>
                    </a:lnTo>
                    <a:lnTo>
                      <a:pt x="502" y="687"/>
                    </a:lnTo>
                    <a:lnTo>
                      <a:pt x="500" y="683"/>
                    </a:lnTo>
                    <a:lnTo>
                      <a:pt x="499" y="680"/>
                    </a:lnTo>
                    <a:lnTo>
                      <a:pt x="499" y="677"/>
                    </a:lnTo>
                    <a:lnTo>
                      <a:pt x="497" y="668"/>
                    </a:lnTo>
                    <a:lnTo>
                      <a:pt x="497" y="661"/>
                    </a:lnTo>
                    <a:lnTo>
                      <a:pt x="499" y="655"/>
                    </a:lnTo>
                    <a:lnTo>
                      <a:pt x="497" y="645"/>
                    </a:lnTo>
                    <a:lnTo>
                      <a:pt x="496" y="635"/>
                    </a:lnTo>
                    <a:lnTo>
                      <a:pt x="490" y="615"/>
                    </a:lnTo>
                    <a:lnTo>
                      <a:pt x="490" y="606"/>
                    </a:lnTo>
                    <a:lnTo>
                      <a:pt x="491" y="600"/>
                    </a:lnTo>
                    <a:lnTo>
                      <a:pt x="492" y="593"/>
                    </a:lnTo>
                    <a:lnTo>
                      <a:pt x="493" y="574"/>
                    </a:lnTo>
                    <a:lnTo>
                      <a:pt x="492" y="556"/>
                    </a:lnTo>
                    <a:lnTo>
                      <a:pt x="490" y="538"/>
                    </a:lnTo>
                    <a:lnTo>
                      <a:pt x="490" y="516"/>
                    </a:lnTo>
                    <a:lnTo>
                      <a:pt x="488" y="512"/>
                    </a:lnTo>
                    <a:lnTo>
                      <a:pt x="486" y="508"/>
                    </a:lnTo>
                    <a:lnTo>
                      <a:pt x="484" y="506"/>
                    </a:lnTo>
                    <a:lnTo>
                      <a:pt x="483" y="503"/>
                    </a:lnTo>
                    <a:lnTo>
                      <a:pt x="481" y="498"/>
                    </a:lnTo>
                    <a:lnTo>
                      <a:pt x="480" y="492"/>
                    </a:lnTo>
                    <a:lnTo>
                      <a:pt x="478" y="484"/>
                    </a:lnTo>
                    <a:lnTo>
                      <a:pt x="479" y="478"/>
                    </a:lnTo>
                    <a:lnTo>
                      <a:pt x="481" y="476"/>
                    </a:lnTo>
                    <a:lnTo>
                      <a:pt x="488" y="478"/>
                    </a:lnTo>
                    <a:lnTo>
                      <a:pt x="494" y="484"/>
                    </a:lnTo>
                    <a:lnTo>
                      <a:pt x="501" y="487"/>
                    </a:lnTo>
                    <a:lnTo>
                      <a:pt x="504" y="487"/>
                    </a:lnTo>
                    <a:lnTo>
                      <a:pt x="506" y="487"/>
                    </a:lnTo>
                    <a:lnTo>
                      <a:pt x="508" y="485"/>
                    </a:lnTo>
                    <a:lnTo>
                      <a:pt x="510" y="482"/>
                    </a:lnTo>
                    <a:lnTo>
                      <a:pt x="510" y="478"/>
                    </a:lnTo>
                    <a:lnTo>
                      <a:pt x="508" y="474"/>
                    </a:lnTo>
                    <a:lnTo>
                      <a:pt x="507" y="470"/>
                    </a:lnTo>
                    <a:lnTo>
                      <a:pt x="504" y="466"/>
                    </a:lnTo>
                    <a:lnTo>
                      <a:pt x="499" y="465"/>
                    </a:lnTo>
                    <a:lnTo>
                      <a:pt x="492" y="465"/>
                    </a:lnTo>
                    <a:lnTo>
                      <a:pt x="488" y="465"/>
                    </a:lnTo>
                    <a:lnTo>
                      <a:pt x="482" y="466"/>
                    </a:lnTo>
                    <a:lnTo>
                      <a:pt x="477" y="470"/>
                    </a:lnTo>
                    <a:lnTo>
                      <a:pt x="472" y="471"/>
                    </a:lnTo>
                    <a:lnTo>
                      <a:pt x="468" y="470"/>
                    </a:lnTo>
                    <a:lnTo>
                      <a:pt x="463" y="463"/>
                    </a:lnTo>
                    <a:lnTo>
                      <a:pt x="452" y="449"/>
                    </a:lnTo>
                    <a:lnTo>
                      <a:pt x="441" y="437"/>
                    </a:lnTo>
                    <a:lnTo>
                      <a:pt x="435" y="429"/>
                    </a:lnTo>
                    <a:lnTo>
                      <a:pt x="431" y="420"/>
                    </a:lnTo>
                    <a:lnTo>
                      <a:pt x="430" y="410"/>
                    </a:lnTo>
                    <a:lnTo>
                      <a:pt x="433" y="399"/>
                    </a:lnTo>
                    <a:lnTo>
                      <a:pt x="434" y="396"/>
                    </a:lnTo>
                    <a:lnTo>
                      <a:pt x="434" y="393"/>
                    </a:lnTo>
                    <a:lnTo>
                      <a:pt x="433" y="389"/>
                    </a:lnTo>
                    <a:lnTo>
                      <a:pt x="431" y="386"/>
                    </a:lnTo>
                    <a:lnTo>
                      <a:pt x="430" y="382"/>
                    </a:lnTo>
                    <a:lnTo>
                      <a:pt x="430" y="373"/>
                    </a:lnTo>
                    <a:lnTo>
                      <a:pt x="430" y="372"/>
                    </a:lnTo>
                    <a:lnTo>
                      <a:pt x="431" y="371"/>
                    </a:lnTo>
                    <a:lnTo>
                      <a:pt x="433" y="371"/>
                    </a:lnTo>
                    <a:lnTo>
                      <a:pt x="433" y="368"/>
                    </a:lnTo>
                    <a:lnTo>
                      <a:pt x="434" y="366"/>
                    </a:lnTo>
                    <a:lnTo>
                      <a:pt x="434" y="365"/>
                    </a:lnTo>
                    <a:lnTo>
                      <a:pt x="431" y="363"/>
                    </a:lnTo>
                    <a:lnTo>
                      <a:pt x="429" y="361"/>
                    </a:lnTo>
                    <a:lnTo>
                      <a:pt x="427" y="360"/>
                    </a:lnTo>
                    <a:lnTo>
                      <a:pt x="426" y="357"/>
                    </a:lnTo>
                    <a:lnTo>
                      <a:pt x="424" y="354"/>
                    </a:lnTo>
                    <a:lnTo>
                      <a:pt x="423" y="350"/>
                    </a:lnTo>
                    <a:lnTo>
                      <a:pt x="420" y="346"/>
                    </a:lnTo>
                    <a:lnTo>
                      <a:pt x="419" y="343"/>
                    </a:lnTo>
                    <a:lnTo>
                      <a:pt x="419" y="339"/>
                    </a:lnTo>
                    <a:lnTo>
                      <a:pt x="419" y="332"/>
                    </a:lnTo>
                    <a:lnTo>
                      <a:pt x="418" y="324"/>
                    </a:lnTo>
                    <a:lnTo>
                      <a:pt x="418" y="319"/>
                    </a:lnTo>
                    <a:lnTo>
                      <a:pt x="417" y="317"/>
                    </a:lnTo>
                    <a:lnTo>
                      <a:pt x="416" y="318"/>
                    </a:lnTo>
                    <a:lnTo>
                      <a:pt x="415" y="320"/>
                    </a:lnTo>
                    <a:lnTo>
                      <a:pt x="415" y="322"/>
                    </a:lnTo>
                    <a:lnTo>
                      <a:pt x="414" y="324"/>
                    </a:lnTo>
                    <a:lnTo>
                      <a:pt x="413" y="327"/>
                    </a:lnTo>
                    <a:lnTo>
                      <a:pt x="410" y="328"/>
                    </a:lnTo>
                    <a:lnTo>
                      <a:pt x="409" y="328"/>
                    </a:lnTo>
                    <a:lnTo>
                      <a:pt x="407" y="328"/>
                    </a:lnTo>
                    <a:lnTo>
                      <a:pt x="405" y="328"/>
                    </a:lnTo>
                    <a:lnTo>
                      <a:pt x="403" y="328"/>
                    </a:lnTo>
                    <a:lnTo>
                      <a:pt x="401" y="327"/>
                    </a:lnTo>
                    <a:lnTo>
                      <a:pt x="399" y="325"/>
                    </a:lnTo>
                    <a:lnTo>
                      <a:pt x="398" y="328"/>
                    </a:lnTo>
                    <a:lnTo>
                      <a:pt x="396" y="330"/>
                    </a:lnTo>
                    <a:lnTo>
                      <a:pt x="396" y="330"/>
                    </a:lnTo>
                    <a:lnTo>
                      <a:pt x="395" y="330"/>
                    </a:lnTo>
                    <a:lnTo>
                      <a:pt x="395" y="329"/>
                    </a:lnTo>
                    <a:lnTo>
                      <a:pt x="395" y="327"/>
                    </a:lnTo>
                    <a:lnTo>
                      <a:pt x="395" y="324"/>
                    </a:lnTo>
                    <a:lnTo>
                      <a:pt x="395" y="321"/>
                    </a:lnTo>
                    <a:lnTo>
                      <a:pt x="395" y="319"/>
                    </a:lnTo>
                    <a:lnTo>
                      <a:pt x="395" y="317"/>
                    </a:lnTo>
                    <a:lnTo>
                      <a:pt x="395" y="313"/>
                    </a:lnTo>
                    <a:lnTo>
                      <a:pt x="395" y="312"/>
                    </a:lnTo>
                    <a:lnTo>
                      <a:pt x="393" y="309"/>
                    </a:lnTo>
                    <a:lnTo>
                      <a:pt x="392" y="306"/>
                    </a:lnTo>
                    <a:lnTo>
                      <a:pt x="390" y="305"/>
                    </a:lnTo>
                    <a:lnTo>
                      <a:pt x="387" y="302"/>
                    </a:lnTo>
                    <a:lnTo>
                      <a:pt x="386" y="299"/>
                    </a:lnTo>
                    <a:lnTo>
                      <a:pt x="387" y="296"/>
                    </a:lnTo>
                    <a:lnTo>
                      <a:pt x="388" y="292"/>
                    </a:lnTo>
                    <a:lnTo>
                      <a:pt x="391" y="289"/>
                    </a:lnTo>
                    <a:lnTo>
                      <a:pt x="393" y="286"/>
                    </a:lnTo>
                    <a:lnTo>
                      <a:pt x="394" y="284"/>
                    </a:lnTo>
                    <a:lnTo>
                      <a:pt x="394" y="281"/>
                    </a:lnTo>
                    <a:lnTo>
                      <a:pt x="393" y="279"/>
                    </a:lnTo>
                    <a:lnTo>
                      <a:pt x="392" y="277"/>
                    </a:lnTo>
                    <a:lnTo>
                      <a:pt x="391" y="275"/>
                    </a:lnTo>
                    <a:lnTo>
                      <a:pt x="388" y="269"/>
                    </a:lnTo>
                    <a:lnTo>
                      <a:pt x="386" y="264"/>
                    </a:lnTo>
                    <a:lnTo>
                      <a:pt x="384" y="259"/>
                    </a:lnTo>
                    <a:lnTo>
                      <a:pt x="382" y="255"/>
                    </a:lnTo>
                    <a:lnTo>
                      <a:pt x="380" y="253"/>
                    </a:lnTo>
                    <a:lnTo>
                      <a:pt x="380" y="251"/>
                    </a:lnTo>
                    <a:lnTo>
                      <a:pt x="379" y="247"/>
                    </a:lnTo>
                    <a:lnTo>
                      <a:pt x="379" y="245"/>
                    </a:lnTo>
                    <a:lnTo>
                      <a:pt x="379" y="243"/>
                    </a:lnTo>
                    <a:lnTo>
                      <a:pt x="379" y="241"/>
                    </a:lnTo>
                    <a:lnTo>
                      <a:pt x="377" y="240"/>
                    </a:lnTo>
                    <a:lnTo>
                      <a:pt x="376" y="237"/>
                    </a:lnTo>
                    <a:lnTo>
                      <a:pt x="375" y="235"/>
                    </a:lnTo>
                    <a:lnTo>
                      <a:pt x="373" y="235"/>
                    </a:lnTo>
                    <a:lnTo>
                      <a:pt x="372" y="233"/>
                    </a:lnTo>
                    <a:lnTo>
                      <a:pt x="371" y="231"/>
                    </a:lnTo>
                    <a:lnTo>
                      <a:pt x="370" y="230"/>
                    </a:lnTo>
                    <a:lnTo>
                      <a:pt x="369" y="227"/>
                    </a:lnTo>
                    <a:lnTo>
                      <a:pt x="368" y="226"/>
                    </a:lnTo>
                    <a:lnTo>
                      <a:pt x="366" y="226"/>
                    </a:lnTo>
                    <a:lnTo>
                      <a:pt x="365" y="227"/>
                    </a:lnTo>
                    <a:lnTo>
                      <a:pt x="364" y="231"/>
                    </a:lnTo>
                    <a:lnTo>
                      <a:pt x="364" y="232"/>
                    </a:lnTo>
                    <a:lnTo>
                      <a:pt x="363" y="234"/>
                    </a:lnTo>
                    <a:lnTo>
                      <a:pt x="362" y="237"/>
                    </a:lnTo>
                    <a:lnTo>
                      <a:pt x="361" y="240"/>
                    </a:lnTo>
                    <a:lnTo>
                      <a:pt x="360" y="243"/>
                    </a:lnTo>
                    <a:lnTo>
                      <a:pt x="359" y="244"/>
                    </a:lnTo>
                    <a:lnTo>
                      <a:pt x="358" y="244"/>
                    </a:lnTo>
                    <a:lnTo>
                      <a:pt x="355" y="240"/>
                    </a:lnTo>
                    <a:lnTo>
                      <a:pt x="353" y="234"/>
                    </a:lnTo>
                    <a:lnTo>
                      <a:pt x="353" y="226"/>
                    </a:lnTo>
                    <a:lnTo>
                      <a:pt x="353" y="222"/>
                    </a:lnTo>
                    <a:lnTo>
                      <a:pt x="354" y="220"/>
                    </a:lnTo>
                    <a:lnTo>
                      <a:pt x="355" y="218"/>
                    </a:lnTo>
                    <a:lnTo>
                      <a:pt x="357" y="216"/>
                    </a:lnTo>
                    <a:lnTo>
                      <a:pt x="358" y="214"/>
                    </a:lnTo>
                    <a:lnTo>
                      <a:pt x="358" y="211"/>
                    </a:lnTo>
                    <a:lnTo>
                      <a:pt x="358" y="209"/>
                    </a:lnTo>
                    <a:lnTo>
                      <a:pt x="358" y="205"/>
                    </a:lnTo>
                    <a:lnTo>
                      <a:pt x="357" y="201"/>
                    </a:lnTo>
                    <a:lnTo>
                      <a:pt x="354" y="197"/>
                    </a:lnTo>
                    <a:lnTo>
                      <a:pt x="353" y="193"/>
                    </a:lnTo>
                    <a:lnTo>
                      <a:pt x="351" y="190"/>
                    </a:lnTo>
                    <a:lnTo>
                      <a:pt x="350" y="189"/>
                    </a:lnTo>
                    <a:lnTo>
                      <a:pt x="348" y="187"/>
                    </a:lnTo>
                    <a:lnTo>
                      <a:pt x="347" y="185"/>
                    </a:lnTo>
                    <a:lnTo>
                      <a:pt x="347" y="183"/>
                    </a:lnTo>
                    <a:lnTo>
                      <a:pt x="347" y="181"/>
                    </a:lnTo>
                    <a:lnTo>
                      <a:pt x="348" y="180"/>
                    </a:lnTo>
                    <a:lnTo>
                      <a:pt x="348" y="178"/>
                    </a:lnTo>
                    <a:lnTo>
                      <a:pt x="347" y="176"/>
                    </a:lnTo>
                    <a:lnTo>
                      <a:pt x="344" y="175"/>
                    </a:lnTo>
                    <a:lnTo>
                      <a:pt x="343" y="176"/>
                    </a:lnTo>
                    <a:lnTo>
                      <a:pt x="341" y="177"/>
                    </a:lnTo>
                    <a:lnTo>
                      <a:pt x="339" y="177"/>
                    </a:lnTo>
                    <a:lnTo>
                      <a:pt x="338" y="178"/>
                    </a:lnTo>
                    <a:lnTo>
                      <a:pt x="333" y="178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31" y="174"/>
                    </a:lnTo>
                    <a:lnTo>
                      <a:pt x="331" y="174"/>
                    </a:lnTo>
                    <a:lnTo>
                      <a:pt x="329" y="176"/>
                    </a:lnTo>
                    <a:lnTo>
                      <a:pt x="327" y="177"/>
                    </a:lnTo>
                    <a:lnTo>
                      <a:pt x="325" y="178"/>
                    </a:lnTo>
                    <a:lnTo>
                      <a:pt x="324" y="178"/>
                    </a:lnTo>
                    <a:lnTo>
                      <a:pt x="322" y="176"/>
                    </a:lnTo>
                    <a:lnTo>
                      <a:pt x="320" y="172"/>
                    </a:lnTo>
                    <a:lnTo>
                      <a:pt x="318" y="169"/>
                    </a:lnTo>
                    <a:lnTo>
                      <a:pt x="318" y="165"/>
                    </a:lnTo>
                    <a:lnTo>
                      <a:pt x="318" y="160"/>
                    </a:lnTo>
                    <a:lnTo>
                      <a:pt x="317" y="158"/>
                    </a:lnTo>
                    <a:lnTo>
                      <a:pt x="316" y="157"/>
                    </a:lnTo>
                    <a:lnTo>
                      <a:pt x="315" y="156"/>
                    </a:lnTo>
                    <a:lnTo>
                      <a:pt x="313" y="155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1"/>
                    </a:lnTo>
                    <a:lnTo>
                      <a:pt x="301" y="134"/>
                    </a:lnTo>
                    <a:lnTo>
                      <a:pt x="298" y="129"/>
                    </a:lnTo>
                    <a:lnTo>
                      <a:pt x="297" y="129"/>
                    </a:lnTo>
                    <a:lnTo>
                      <a:pt x="297" y="127"/>
                    </a:lnTo>
                    <a:lnTo>
                      <a:pt x="297" y="126"/>
                    </a:lnTo>
                    <a:lnTo>
                      <a:pt x="297" y="123"/>
                    </a:lnTo>
                    <a:lnTo>
                      <a:pt x="296" y="121"/>
                    </a:lnTo>
                    <a:lnTo>
                      <a:pt x="296" y="120"/>
                    </a:lnTo>
                    <a:lnTo>
                      <a:pt x="296" y="117"/>
                    </a:lnTo>
                    <a:lnTo>
                      <a:pt x="296" y="116"/>
                    </a:lnTo>
                    <a:lnTo>
                      <a:pt x="295" y="114"/>
                    </a:lnTo>
                    <a:lnTo>
                      <a:pt x="295" y="114"/>
                    </a:lnTo>
                    <a:lnTo>
                      <a:pt x="294" y="114"/>
                    </a:lnTo>
                    <a:lnTo>
                      <a:pt x="289" y="116"/>
                    </a:lnTo>
                    <a:lnTo>
                      <a:pt x="286" y="123"/>
                    </a:lnTo>
                    <a:lnTo>
                      <a:pt x="284" y="129"/>
                    </a:lnTo>
                    <a:lnTo>
                      <a:pt x="283" y="136"/>
                    </a:lnTo>
                    <a:lnTo>
                      <a:pt x="281" y="139"/>
                    </a:lnTo>
                    <a:lnTo>
                      <a:pt x="279" y="142"/>
                    </a:lnTo>
                    <a:lnTo>
                      <a:pt x="277" y="143"/>
                    </a:lnTo>
                    <a:lnTo>
                      <a:pt x="276" y="143"/>
                    </a:lnTo>
                    <a:lnTo>
                      <a:pt x="274" y="142"/>
                    </a:lnTo>
                    <a:lnTo>
                      <a:pt x="272" y="141"/>
                    </a:lnTo>
                    <a:lnTo>
                      <a:pt x="270" y="138"/>
                    </a:lnTo>
                    <a:lnTo>
                      <a:pt x="268" y="136"/>
                    </a:lnTo>
                    <a:lnTo>
                      <a:pt x="266" y="135"/>
                    </a:lnTo>
                    <a:lnTo>
                      <a:pt x="265" y="134"/>
                    </a:lnTo>
                    <a:lnTo>
                      <a:pt x="257" y="131"/>
                    </a:lnTo>
                    <a:lnTo>
                      <a:pt x="249" y="129"/>
                    </a:lnTo>
                    <a:lnTo>
                      <a:pt x="241" y="134"/>
                    </a:lnTo>
                    <a:lnTo>
                      <a:pt x="239" y="135"/>
                    </a:lnTo>
                    <a:lnTo>
                      <a:pt x="238" y="135"/>
                    </a:lnTo>
                    <a:lnTo>
                      <a:pt x="237" y="134"/>
                    </a:lnTo>
                    <a:lnTo>
                      <a:pt x="235" y="132"/>
                    </a:lnTo>
                    <a:lnTo>
                      <a:pt x="234" y="129"/>
                    </a:lnTo>
                    <a:lnTo>
                      <a:pt x="233" y="127"/>
                    </a:lnTo>
                    <a:lnTo>
                      <a:pt x="232" y="124"/>
                    </a:lnTo>
                    <a:lnTo>
                      <a:pt x="231" y="122"/>
                    </a:lnTo>
                    <a:lnTo>
                      <a:pt x="229" y="120"/>
                    </a:lnTo>
                    <a:lnTo>
                      <a:pt x="228" y="118"/>
                    </a:lnTo>
                    <a:lnTo>
                      <a:pt x="226" y="118"/>
                    </a:lnTo>
                    <a:lnTo>
                      <a:pt x="224" y="120"/>
                    </a:lnTo>
                    <a:lnTo>
                      <a:pt x="222" y="120"/>
                    </a:lnTo>
                    <a:lnTo>
                      <a:pt x="221" y="118"/>
                    </a:lnTo>
                    <a:lnTo>
                      <a:pt x="220" y="117"/>
                    </a:lnTo>
                    <a:lnTo>
                      <a:pt x="219" y="116"/>
                    </a:lnTo>
                    <a:lnTo>
                      <a:pt x="218" y="114"/>
                    </a:lnTo>
                    <a:lnTo>
                      <a:pt x="218" y="112"/>
                    </a:lnTo>
                    <a:lnTo>
                      <a:pt x="217" y="110"/>
                    </a:lnTo>
                    <a:lnTo>
                      <a:pt x="212" y="109"/>
                    </a:lnTo>
                    <a:lnTo>
                      <a:pt x="207" y="109"/>
                    </a:lnTo>
                    <a:lnTo>
                      <a:pt x="202" y="111"/>
                    </a:lnTo>
                    <a:lnTo>
                      <a:pt x="199" y="114"/>
                    </a:lnTo>
                    <a:lnTo>
                      <a:pt x="198" y="117"/>
                    </a:lnTo>
                    <a:lnTo>
                      <a:pt x="198" y="120"/>
                    </a:lnTo>
                    <a:lnTo>
                      <a:pt x="199" y="122"/>
                    </a:lnTo>
                    <a:lnTo>
                      <a:pt x="200" y="124"/>
                    </a:lnTo>
                    <a:lnTo>
                      <a:pt x="201" y="125"/>
                    </a:lnTo>
                    <a:lnTo>
                      <a:pt x="202" y="127"/>
                    </a:lnTo>
                    <a:lnTo>
                      <a:pt x="202" y="129"/>
                    </a:lnTo>
                    <a:lnTo>
                      <a:pt x="201" y="132"/>
                    </a:lnTo>
                    <a:lnTo>
                      <a:pt x="200" y="134"/>
                    </a:lnTo>
                    <a:lnTo>
                      <a:pt x="199" y="136"/>
                    </a:lnTo>
                    <a:lnTo>
                      <a:pt x="198" y="137"/>
                    </a:lnTo>
                    <a:lnTo>
                      <a:pt x="196" y="138"/>
                    </a:lnTo>
                    <a:lnTo>
                      <a:pt x="195" y="138"/>
                    </a:lnTo>
                    <a:lnTo>
                      <a:pt x="191" y="141"/>
                    </a:lnTo>
                    <a:lnTo>
                      <a:pt x="189" y="143"/>
                    </a:lnTo>
                    <a:lnTo>
                      <a:pt x="187" y="145"/>
                    </a:lnTo>
                    <a:lnTo>
                      <a:pt x="186" y="147"/>
                    </a:lnTo>
                    <a:lnTo>
                      <a:pt x="184" y="150"/>
                    </a:lnTo>
                    <a:lnTo>
                      <a:pt x="182" y="153"/>
                    </a:lnTo>
                    <a:lnTo>
                      <a:pt x="179" y="154"/>
                    </a:lnTo>
                    <a:lnTo>
                      <a:pt x="177" y="156"/>
                    </a:lnTo>
                    <a:lnTo>
                      <a:pt x="175" y="157"/>
                    </a:lnTo>
                    <a:lnTo>
                      <a:pt x="173" y="159"/>
                    </a:lnTo>
                    <a:lnTo>
                      <a:pt x="170" y="160"/>
                    </a:lnTo>
                    <a:lnTo>
                      <a:pt x="168" y="161"/>
                    </a:lnTo>
                    <a:lnTo>
                      <a:pt x="166" y="163"/>
                    </a:lnTo>
                    <a:lnTo>
                      <a:pt x="165" y="163"/>
                    </a:lnTo>
                    <a:lnTo>
                      <a:pt x="165" y="161"/>
                    </a:lnTo>
                    <a:lnTo>
                      <a:pt x="165" y="159"/>
                    </a:lnTo>
                    <a:lnTo>
                      <a:pt x="165" y="157"/>
                    </a:lnTo>
                    <a:lnTo>
                      <a:pt x="165" y="154"/>
                    </a:lnTo>
                    <a:lnTo>
                      <a:pt x="165" y="150"/>
                    </a:lnTo>
                    <a:lnTo>
                      <a:pt x="166" y="148"/>
                    </a:lnTo>
                    <a:lnTo>
                      <a:pt x="166" y="146"/>
                    </a:lnTo>
                    <a:lnTo>
                      <a:pt x="166" y="145"/>
                    </a:lnTo>
                    <a:lnTo>
                      <a:pt x="166" y="143"/>
                    </a:lnTo>
                    <a:lnTo>
                      <a:pt x="165" y="142"/>
                    </a:lnTo>
                    <a:lnTo>
                      <a:pt x="164" y="141"/>
                    </a:lnTo>
                    <a:lnTo>
                      <a:pt x="164" y="139"/>
                    </a:lnTo>
                    <a:lnTo>
                      <a:pt x="163" y="138"/>
                    </a:lnTo>
                    <a:lnTo>
                      <a:pt x="163" y="136"/>
                    </a:lnTo>
                    <a:lnTo>
                      <a:pt x="164" y="134"/>
                    </a:lnTo>
                    <a:lnTo>
                      <a:pt x="166" y="129"/>
                    </a:lnTo>
                    <a:lnTo>
                      <a:pt x="168" y="124"/>
                    </a:lnTo>
                    <a:lnTo>
                      <a:pt x="170" y="118"/>
                    </a:lnTo>
                    <a:lnTo>
                      <a:pt x="170" y="115"/>
                    </a:lnTo>
                    <a:lnTo>
                      <a:pt x="172" y="113"/>
                    </a:lnTo>
                    <a:lnTo>
                      <a:pt x="173" y="112"/>
                    </a:lnTo>
                    <a:lnTo>
                      <a:pt x="175" y="112"/>
                    </a:lnTo>
                    <a:lnTo>
                      <a:pt x="177" y="112"/>
                    </a:lnTo>
                    <a:lnTo>
                      <a:pt x="178" y="111"/>
                    </a:lnTo>
                    <a:lnTo>
                      <a:pt x="179" y="109"/>
                    </a:lnTo>
                    <a:lnTo>
                      <a:pt x="180" y="106"/>
                    </a:lnTo>
                    <a:lnTo>
                      <a:pt x="182" y="103"/>
                    </a:lnTo>
                    <a:lnTo>
                      <a:pt x="182" y="100"/>
                    </a:lnTo>
                    <a:lnTo>
                      <a:pt x="182" y="99"/>
                    </a:lnTo>
                    <a:lnTo>
                      <a:pt x="180" y="98"/>
                    </a:lnTo>
                    <a:lnTo>
                      <a:pt x="179" y="96"/>
                    </a:lnTo>
                    <a:lnTo>
                      <a:pt x="177" y="98"/>
                    </a:lnTo>
                    <a:lnTo>
                      <a:pt x="175" y="99"/>
                    </a:lnTo>
                    <a:lnTo>
                      <a:pt x="174" y="100"/>
                    </a:lnTo>
                    <a:lnTo>
                      <a:pt x="172" y="102"/>
                    </a:lnTo>
                    <a:lnTo>
                      <a:pt x="170" y="104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2" y="121"/>
                    </a:lnTo>
                    <a:lnTo>
                      <a:pt x="158" y="123"/>
                    </a:lnTo>
                    <a:lnTo>
                      <a:pt x="157" y="124"/>
                    </a:lnTo>
                    <a:lnTo>
                      <a:pt x="157" y="126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6" y="141"/>
                    </a:lnTo>
                    <a:lnTo>
                      <a:pt x="155" y="145"/>
                    </a:lnTo>
                    <a:lnTo>
                      <a:pt x="153" y="147"/>
                    </a:lnTo>
                    <a:lnTo>
                      <a:pt x="152" y="148"/>
                    </a:lnTo>
                    <a:lnTo>
                      <a:pt x="150" y="148"/>
                    </a:lnTo>
                    <a:lnTo>
                      <a:pt x="147" y="149"/>
                    </a:lnTo>
                    <a:lnTo>
                      <a:pt x="146" y="152"/>
                    </a:lnTo>
                    <a:lnTo>
                      <a:pt x="144" y="155"/>
                    </a:lnTo>
                    <a:lnTo>
                      <a:pt x="144" y="157"/>
                    </a:lnTo>
                    <a:lnTo>
                      <a:pt x="144" y="159"/>
                    </a:lnTo>
                    <a:lnTo>
                      <a:pt x="144" y="160"/>
                    </a:lnTo>
                    <a:lnTo>
                      <a:pt x="145" y="161"/>
                    </a:lnTo>
                    <a:lnTo>
                      <a:pt x="145" y="163"/>
                    </a:lnTo>
                    <a:lnTo>
                      <a:pt x="146" y="165"/>
                    </a:lnTo>
                    <a:lnTo>
                      <a:pt x="145" y="168"/>
                    </a:lnTo>
                    <a:lnTo>
                      <a:pt x="144" y="169"/>
                    </a:lnTo>
                    <a:lnTo>
                      <a:pt x="143" y="171"/>
                    </a:lnTo>
                    <a:lnTo>
                      <a:pt x="142" y="171"/>
                    </a:lnTo>
                    <a:lnTo>
                      <a:pt x="140" y="170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4" y="171"/>
                    </a:lnTo>
                    <a:lnTo>
                      <a:pt x="134" y="174"/>
                    </a:lnTo>
                    <a:lnTo>
                      <a:pt x="135" y="176"/>
                    </a:lnTo>
                    <a:lnTo>
                      <a:pt x="136" y="177"/>
                    </a:lnTo>
                    <a:lnTo>
                      <a:pt x="137" y="178"/>
                    </a:lnTo>
                    <a:lnTo>
                      <a:pt x="139" y="179"/>
                    </a:lnTo>
                    <a:lnTo>
                      <a:pt x="141" y="181"/>
                    </a:lnTo>
                    <a:lnTo>
                      <a:pt x="142" y="182"/>
                    </a:lnTo>
                    <a:lnTo>
                      <a:pt x="142" y="185"/>
                    </a:lnTo>
                    <a:lnTo>
                      <a:pt x="143" y="186"/>
                    </a:lnTo>
                    <a:lnTo>
                      <a:pt x="142" y="189"/>
                    </a:lnTo>
                    <a:lnTo>
                      <a:pt x="142" y="191"/>
                    </a:lnTo>
                    <a:lnTo>
                      <a:pt x="140" y="196"/>
                    </a:lnTo>
                    <a:lnTo>
                      <a:pt x="139" y="200"/>
                    </a:lnTo>
                    <a:lnTo>
                      <a:pt x="136" y="203"/>
                    </a:lnTo>
                    <a:lnTo>
                      <a:pt x="134" y="205"/>
                    </a:lnTo>
                    <a:lnTo>
                      <a:pt x="131" y="208"/>
                    </a:lnTo>
                    <a:lnTo>
                      <a:pt x="129" y="210"/>
                    </a:lnTo>
                    <a:lnTo>
                      <a:pt x="126" y="211"/>
                    </a:lnTo>
                    <a:lnTo>
                      <a:pt x="124" y="213"/>
                    </a:lnTo>
                    <a:lnTo>
                      <a:pt x="118" y="219"/>
                    </a:lnTo>
                    <a:lnTo>
                      <a:pt x="113" y="227"/>
                    </a:lnTo>
                    <a:lnTo>
                      <a:pt x="109" y="237"/>
                    </a:lnTo>
                    <a:lnTo>
                      <a:pt x="108" y="240"/>
                    </a:lnTo>
                    <a:lnTo>
                      <a:pt x="107" y="242"/>
                    </a:lnTo>
                    <a:lnTo>
                      <a:pt x="107" y="244"/>
                    </a:lnTo>
                    <a:lnTo>
                      <a:pt x="107" y="246"/>
                    </a:lnTo>
                    <a:lnTo>
                      <a:pt x="103" y="247"/>
                    </a:lnTo>
                    <a:lnTo>
                      <a:pt x="101" y="248"/>
                    </a:lnTo>
                    <a:lnTo>
                      <a:pt x="99" y="249"/>
                    </a:lnTo>
                    <a:lnTo>
                      <a:pt x="98" y="253"/>
                    </a:lnTo>
                    <a:lnTo>
                      <a:pt x="96" y="258"/>
                    </a:lnTo>
                    <a:lnTo>
                      <a:pt x="92" y="264"/>
                    </a:lnTo>
                    <a:lnTo>
                      <a:pt x="90" y="267"/>
                    </a:lnTo>
                    <a:lnTo>
                      <a:pt x="87" y="270"/>
                    </a:lnTo>
                    <a:lnTo>
                      <a:pt x="85" y="272"/>
                    </a:lnTo>
                    <a:lnTo>
                      <a:pt x="82" y="273"/>
                    </a:lnTo>
                    <a:lnTo>
                      <a:pt x="80" y="272"/>
                    </a:lnTo>
                    <a:lnTo>
                      <a:pt x="79" y="270"/>
                    </a:lnTo>
                    <a:lnTo>
                      <a:pt x="78" y="267"/>
                    </a:lnTo>
                    <a:lnTo>
                      <a:pt x="78" y="264"/>
                    </a:lnTo>
                    <a:lnTo>
                      <a:pt x="78" y="261"/>
                    </a:lnTo>
                    <a:lnTo>
                      <a:pt x="78" y="257"/>
                    </a:lnTo>
                    <a:lnTo>
                      <a:pt x="79" y="255"/>
                    </a:lnTo>
                    <a:lnTo>
                      <a:pt x="80" y="253"/>
                    </a:lnTo>
                    <a:lnTo>
                      <a:pt x="81" y="252"/>
                    </a:lnTo>
                    <a:lnTo>
                      <a:pt x="82" y="252"/>
                    </a:lnTo>
                    <a:lnTo>
                      <a:pt x="84" y="251"/>
                    </a:lnTo>
                    <a:lnTo>
                      <a:pt x="85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8" y="244"/>
                    </a:lnTo>
                    <a:lnTo>
                      <a:pt x="89" y="243"/>
                    </a:lnTo>
                    <a:lnTo>
                      <a:pt x="90" y="242"/>
                    </a:lnTo>
                    <a:lnTo>
                      <a:pt x="91" y="240"/>
                    </a:lnTo>
                    <a:lnTo>
                      <a:pt x="92" y="237"/>
                    </a:lnTo>
                    <a:lnTo>
                      <a:pt x="93" y="236"/>
                    </a:lnTo>
                    <a:lnTo>
                      <a:pt x="95" y="233"/>
                    </a:lnTo>
                    <a:lnTo>
                      <a:pt x="95" y="231"/>
                    </a:lnTo>
                    <a:lnTo>
                      <a:pt x="96" y="229"/>
                    </a:lnTo>
                    <a:lnTo>
                      <a:pt x="96" y="226"/>
                    </a:lnTo>
                    <a:lnTo>
                      <a:pt x="97" y="225"/>
                    </a:lnTo>
                    <a:lnTo>
                      <a:pt x="99" y="224"/>
                    </a:lnTo>
                    <a:lnTo>
                      <a:pt x="100" y="223"/>
                    </a:lnTo>
                    <a:lnTo>
                      <a:pt x="102" y="222"/>
                    </a:lnTo>
                    <a:lnTo>
                      <a:pt x="102" y="219"/>
                    </a:lnTo>
                    <a:lnTo>
                      <a:pt x="103" y="215"/>
                    </a:lnTo>
                    <a:lnTo>
                      <a:pt x="103" y="213"/>
                    </a:lnTo>
                    <a:lnTo>
                      <a:pt x="104" y="211"/>
                    </a:lnTo>
                    <a:lnTo>
                      <a:pt x="104" y="203"/>
                    </a:lnTo>
                    <a:lnTo>
                      <a:pt x="107" y="197"/>
                    </a:lnTo>
                    <a:lnTo>
                      <a:pt x="109" y="191"/>
                    </a:lnTo>
                    <a:lnTo>
                      <a:pt x="109" y="189"/>
                    </a:lnTo>
                    <a:lnTo>
                      <a:pt x="109" y="187"/>
                    </a:lnTo>
                    <a:lnTo>
                      <a:pt x="110" y="185"/>
                    </a:lnTo>
                    <a:lnTo>
                      <a:pt x="111" y="181"/>
                    </a:lnTo>
                    <a:lnTo>
                      <a:pt x="111" y="180"/>
                    </a:lnTo>
                    <a:lnTo>
                      <a:pt x="109" y="179"/>
                    </a:lnTo>
                    <a:lnTo>
                      <a:pt x="108" y="179"/>
                    </a:lnTo>
                    <a:lnTo>
                      <a:pt x="107" y="180"/>
                    </a:lnTo>
                    <a:lnTo>
                      <a:pt x="107" y="180"/>
                    </a:lnTo>
                    <a:lnTo>
                      <a:pt x="106" y="182"/>
                    </a:lnTo>
                    <a:lnTo>
                      <a:pt x="104" y="185"/>
                    </a:lnTo>
                    <a:lnTo>
                      <a:pt x="103" y="187"/>
                    </a:lnTo>
                    <a:lnTo>
                      <a:pt x="102" y="187"/>
                    </a:lnTo>
                    <a:lnTo>
                      <a:pt x="101" y="187"/>
                    </a:lnTo>
                    <a:lnTo>
                      <a:pt x="100" y="185"/>
                    </a:lnTo>
                    <a:lnTo>
                      <a:pt x="100" y="183"/>
                    </a:lnTo>
                    <a:lnTo>
                      <a:pt x="100" y="182"/>
                    </a:lnTo>
                    <a:lnTo>
                      <a:pt x="99" y="180"/>
                    </a:lnTo>
                    <a:lnTo>
                      <a:pt x="99" y="179"/>
                    </a:lnTo>
                    <a:lnTo>
                      <a:pt x="99" y="178"/>
                    </a:lnTo>
                    <a:lnTo>
                      <a:pt x="98" y="178"/>
                    </a:lnTo>
                    <a:lnTo>
                      <a:pt x="97" y="179"/>
                    </a:lnTo>
                    <a:lnTo>
                      <a:pt x="96" y="180"/>
                    </a:lnTo>
                    <a:lnTo>
                      <a:pt x="95" y="182"/>
                    </a:lnTo>
                    <a:lnTo>
                      <a:pt x="93" y="185"/>
                    </a:lnTo>
                    <a:lnTo>
                      <a:pt x="93" y="187"/>
                    </a:lnTo>
                    <a:lnTo>
                      <a:pt x="92" y="188"/>
                    </a:lnTo>
                    <a:lnTo>
                      <a:pt x="92" y="190"/>
                    </a:lnTo>
                    <a:lnTo>
                      <a:pt x="92" y="192"/>
                    </a:lnTo>
                    <a:lnTo>
                      <a:pt x="91" y="193"/>
                    </a:lnTo>
                    <a:lnTo>
                      <a:pt x="91" y="196"/>
                    </a:lnTo>
                    <a:lnTo>
                      <a:pt x="90" y="197"/>
                    </a:lnTo>
                    <a:lnTo>
                      <a:pt x="90" y="197"/>
                    </a:lnTo>
                    <a:lnTo>
                      <a:pt x="89" y="197"/>
                    </a:lnTo>
                    <a:lnTo>
                      <a:pt x="88" y="196"/>
                    </a:lnTo>
                    <a:lnTo>
                      <a:pt x="87" y="193"/>
                    </a:lnTo>
                    <a:lnTo>
                      <a:pt x="87" y="192"/>
                    </a:lnTo>
                    <a:lnTo>
                      <a:pt x="87" y="191"/>
                    </a:lnTo>
                    <a:lnTo>
                      <a:pt x="86" y="189"/>
                    </a:lnTo>
                    <a:lnTo>
                      <a:pt x="85" y="186"/>
                    </a:lnTo>
                    <a:lnTo>
                      <a:pt x="82" y="183"/>
                    </a:lnTo>
                    <a:lnTo>
                      <a:pt x="80" y="182"/>
                    </a:lnTo>
                    <a:lnTo>
                      <a:pt x="79" y="181"/>
                    </a:lnTo>
                    <a:lnTo>
                      <a:pt x="77" y="181"/>
                    </a:lnTo>
                    <a:lnTo>
                      <a:pt x="75" y="183"/>
                    </a:lnTo>
                    <a:lnTo>
                      <a:pt x="74" y="187"/>
                    </a:lnTo>
                    <a:lnTo>
                      <a:pt x="71" y="189"/>
                    </a:lnTo>
                    <a:lnTo>
                      <a:pt x="70" y="191"/>
                    </a:lnTo>
                    <a:lnTo>
                      <a:pt x="69" y="192"/>
                    </a:lnTo>
                    <a:lnTo>
                      <a:pt x="69" y="193"/>
                    </a:lnTo>
                    <a:lnTo>
                      <a:pt x="67" y="193"/>
                    </a:lnTo>
                    <a:lnTo>
                      <a:pt x="67" y="193"/>
                    </a:lnTo>
                    <a:lnTo>
                      <a:pt x="66" y="192"/>
                    </a:lnTo>
                    <a:lnTo>
                      <a:pt x="66" y="191"/>
                    </a:lnTo>
                    <a:lnTo>
                      <a:pt x="66" y="189"/>
                    </a:lnTo>
                    <a:lnTo>
                      <a:pt x="67" y="188"/>
                    </a:lnTo>
                    <a:lnTo>
                      <a:pt x="67" y="187"/>
                    </a:lnTo>
                    <a:lnTo>
                      <a:pt x="67" y="183"/>
                    </a:lnTo>
                    <a:lnTo>
                      <a:pt x="67" y="181"/>
                    </a:lnTo>
                    <a:lnTo>
                      <a:pt x="67" y="179"/>
                    </a:lnTo>
                    <a:lnTo>
                      <a:pt x="66" y="177"/>
                    </a:lnTo>
                    <a:lnTo>
                      <a:pt x="66" y="175"/>
                    </a:lnTo>
                    <a:lnTo>
                      <a:pt x="67" y="171"/>
                    </a:lnTo>
                    <a:lnTo>
                      <a:pt x="68" y="168"/>
                    </a:lnTo>
                    <a:lnTo>
                      <a:pt x="68" y="165"/>
                    </a:lnTo>
                    <a:lnTo>
                      <a:pt x="68" y="163"/>
                    </a:lnTo>
                    <a:lnTo>
                      <a:pt x="68" y="160"/>
                    </a:lnTo>
                    <a:lnTo>
                      <a:pt x="67" y="158"/>
                    </a:lnTo>
                    <a:lnTo>
                      <a:pt x="67" y="156"/>
                    </a:lnTo>
                    <a:lnTo>
                      <a:pt x="66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4" y="150"/>
                    </a:lnTo>
                    <a:lnTo>
                      <a:pt x="63" y="152"/>
                    </a:lnTo>
                    <a:lnTo>
                      <a:pt x="62" y="154"/>
                    </a:lnTo>
                    <a:lnTo>
                      <a:pt x="60" y="156"/>
                    </a:lnTo>
                    <a:lnTo>
                      <a:pt x="59" y="158"/>
                    </a:lnTo>
                    <a:lnTo>
                      <a:pt x="59" y="159"/>
                    </a:lnTo>
                    <a:lnTo>
                      <a:pt x="58" y="160"/>
                    </a:lnTo>
                    <a:lnTo>
                      <a:pt x="56" y="159"/>
                    </a:lnTo>
                    <a:lnTo>
                      <a:pt x="54" y="157"/>
                    </a:lnTo>
                    <a:lnTo>
                      <a:pt x="52" y="154"/>
                    </a:lnTo>
                    <a:lnTo>
                      <a:pt x="49" y="150"/>
                    </a:lnTo>
                    <a:lnTo>
                      <a:pt x="47" y="147"/>
                    </a:lnTo>
                    <a:lnTo>
                      <a:pt x="45" y="145"/>
                    </a:lnTo>
                    <a:lnTo>
                      <a:pt x="44" y="144"/>
                    </a:lnTo>
                    <a:lnTo>
                      <a:pt x="43" y="143"/>
                    </a:lnTo>
                    <a:lnTo>
                      <a:pt x="42" y="142"/>
                    </a:lnTo>
                    <a:lnTo>
                      <a:pt x="41" y="139"/>
                    </a:lnTo>
                    <a:lnTo>
                      <a:pt x="39" y="138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41" y="136"/>
                    </a:lnTo>
                    <a:lnTo>
                      <a:pt x="43" y="136"/>
                    </a:lnTo>
                    <a:lnTo>
                      <a:pt x="47" y="137"/>
                    </a:lnTo>
                    <a:lnTo>
                      <a:pt x="52" y="137"/>
                    </a:lnTo>
                    <a:lnTo>
                      <a:pt x="56" y="136"/>
                    </a:lnTo>
                    <a:lnTo>
                      <a:pt x="57" y="134"/>
                    </a:lnTo>
                    <a:lnTo>
                      <a:pt x="57" y="133"/>
                    </a:lnTo>
                    <a:lnTo>
                      <a:pt x="57" y="132"/>
                    </a:lnTo>
                    <a:lnTo>
                      <a:pt x="56" y="132"/>
                    </a:lnTo>
                    <a:lnTo>
                      <a:pt x="54" y="132"/>
                    </a:lnTo>
                    <a:lnTo>
                      <a:pt x="53" y="132"/>
                    </a:lnTo>
                    <a:lnTo>
                      <a:pt x="50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7" y="131"/>
                    </a:lnTo>
                    <a:lnTo>
                      <a:pt x="46" y="129"/>
                    </a:lnTo>
                    <a:lnTo>
                      <a:pt x="44" y="127"/>
                    </a:lnTo>
                    <a:lnTo>
                      <a:pt x="43" y="125"/>
                    </a:lnTo>
                    <a:lnTo>
                      <a:pt x="42" y="124"/>
                    </a:lnTo>
                    <a:lnTo>
                      <a:pt x="41" y="124"/>
                    </a:lnTo>
                    <a:lnTo>
                      <a:pt x="39" y="124"/>
                    </a:lnTo>
                    <a:lnTo>
                      <a:pt x="39" y="123"/>
                    </a:lnTo>
                    <a:lnTo>
                      <a:pt x="38" y="121"/>
                    </a:lnTo>
                    <a:lnTo>
                      <a:pt x="38" y="120"/>
                    </a:lnTo>
                    <a:lnTo>
                      <a:pt x="38" y="117"/>
                    </a:lnTo>
                    <a:lnTo>
                      <a:pt x="38" y="114"/>
                    </a:lnTo>
                    <a:lnTo>
                      <a:pt x="37" y="112"/>
                    </a:lnTo>
                    <a:lnTo>
                      <a:pt x="37" y="109"/>
                    </a:lnTo>
                    <a:lnTo>
                      <a:pt x="37" y="106"/>
                    </a:lnTo>
                    <a:lnTo>
                      <a:pt x="36" y="105"/>
                    </a:lnTo>
                    <a:lnTo>
                      <a:pt x="36" y="105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3" y="93"/>
                    </a:lnTo>
                    <a:lnTo>
                      <a:pt x="45" y="88"/>
                    </a:lnTo>
                    <a:lnTo>
                      <a:pt x="45" y="87"/>
                    </a:lnTo>
                    <a:lnTo>
                      <a:pt x="45" y="84"/>
                    </a:lnTo>
                    <a:lnTo>
                      <a:pt x="45" y="83"/>
                    </a:lnTo>
                    <a:lnTo>
                      <a:pt x="46" y="82"/>
                    </a:lnTo>
                    <a:lnTo>
                      <a:pt x="47" y="81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52" y="66"/>
                    </a:lnTo>
                    <a:lnTo>
                      <a:pt x="52" y="61"/>
                    </a:lnTo>
                    <a:lnTo>
                      <a:pt x="54" y="57"/>
                    </a:lnTo>
                    <a:lnTo>
                      <a:pt x="55" y="55"/>
                    </a:lnTo>
                    <a:lnTo>
                      <a:pt x="56" y="54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9" y="57"/>
                    </a:lnTo>
                    <a:lnTo>
                      <a:pt x="59" y="59"/>
                    </a:lnTo>
                    <a:lnTo>
                      <a:pt x="59" y="60"/>
                    </a:lnTo>
                    <a:lnTo>
                      <a:pt x="60" y="60"/>
                    </a:lnTo>
                    <a:lnTo>
                      <a:pt x="62" y="60"/>
                    </a:lnTo>
                    <a:lnTo>
                      <a:pt x="63" y="59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8" y="51"/>
                    </a:lnTo>
                    <a:lnTo>
                      <a:pt x="69" y="49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7" y="49"/>
                    </a:lnTo>
                    <a:lnTo>
                      <a:pt x="78" y="49"/>
                    </a:lnTo>
                    <a:lnTo>
                      <a:pt x="80" y="48"/>
                    </a:lnTo>
                    <a:lnTo>
                      <a:pt x="81" y="47"/>
                    </a:lnTo>
                    <a:lnTo>
                      <a:pt x="82" y="44"/>
                    </a:lnTo>
                    <a:lnTo>
                      <a:pt x="84" y="40"/>
                    </a:lnTo>
                    <a:lnTo>
                      <a:pt x="86" y="37"/>
                    </a:lnTo>
                    <a:lnTo>
                      <a:pt x="86" y="34"/>
                    </a:lnTo>
                    <a:lnTo>
                      <a:pt x="87" y="30"/>
                    </a:lnTo>
                    <a:lnTo>
                      <a:pt x="87" y="17"/>
                    </a:lnTo>
                    <a:lnTo>
                      <a:pt x="87" y="16"/>
                    </a:lnTo>
                    <a:lnTo>
                      <a:pt x="88" y="14"/>
                    </a:lnTo>
                    <a:lnTo>
                      <a:pt x="89" y="11"/>
                    </a:lnTo>
                    <a:lnTo>
                      <a:pt x="89" y="8"/>
                    </a:lnTo>
                    <a:lnTo>
                      <a:pt x="90" y="7"/>
                    </a:lnTo>
                    <a:lnTo>
                      <a:pt x="91" y="4"/>
                    </a:lnTo>
                    <a:lnTo>
                      <a:pt x="90" y="4"/>
                    </a:lnTo>
                    <a:lnTo>
                      <a:pt x="90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1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4"/>
              <p:cNvSpPr/>
              <p:nvPr/>
            </p:nvSpPr>
            <p:spPr>
              <a:xfrm>
                <a:off x="8454960" y="4815360"/>
                <a:ext cx="518400" cy="185400"/>
              </a:xfrm>
              <a:custGeom>
                <a:avLst/>
                <a:gdLst>
                  <a:gd name="textAreaLeft" fmla="*/ 0 w 518400"/>
                  <a:gd name="textAreaRight" fmla="*/ 518400 w 5184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549" h="889">
                    <a:moveTo>
                      <a:pt x="237" y="207"/>
                    </a:moveTo>
                    <a:lnTo>
                      <a:pt x="233" y="207"/>
                    </a:lnTo>
                    <a:lnTo>
                      <a:pt x="226" y="209"/>
                    </a:lnTo>
                    <a:lnTo>
                      <a:pt x="220" y="211"/>
                    </a:lnTo>
                    <a:lnTo>
                      <a:pt x="214" y="213"/>
                    </a:lnTo>
                    <a:lnTo>
                      <a:pt x="211" y="215"/>
                    </a:lnTo>
                    <a:lnTo>
                      <a:pt x="203" y="219"/>
                    </a:lnTo>
                    <a:lnTo>
                      <a:pt x="197" y="223"/>
                    </a:lnTo>
                    <a:lnTo>
                      <a:pt x="191" y="231"/>
                    </a:lnTo>
                    <a:lnTo>
                      <a:pt x="185" y="237"/>
                    </a:lnTo>
                    <a:lnTo>
                      <a:pt x="177" y="244"/>
                    </a:lnTo>
                    <a:lnTo>
                      <a:pt x="169" y="246"/>
                    </a:lnTo>
                    <a:lnTo>
                      <a:pt x="166" y="244"/>
                    </a:lnTo>
                    <a:lnTo>
                      <a:pt x="164" y="242"/>
                    </a:lnTo>
                    <a:lnTo>
                      <a:pt x="161" y="240"/>
                    </a:lnTo>
                    <a:lnTo>
                      <a:pt x="160" y="236"/>
                    </a:lnTo>
                    <a:lnTo>
                      <a:pt x="158" y="233"/>
                    </a:lnTo>
                    <a:lnTo>
                      <a:pt x="156" y="231"/>
                    </a:lnTo>
                    <a:lnTo>
                      <a:pt x="154" y="230"/>
                    </a:lnTo>
                    <a:lnTo>
                      <a:pt x="151" y="229"/>
                    </a:lnTo>
                    <a:lnTo>
                      <a:pt x="149" y="230"/>
                    </a:lnTo>
                    <a:lnTo>
                      <a:pt x="147" y="231"/>
                    </a:lnTo>
                    <a:lnTo>
                      <a:pt x="146" y="233"/>
                    </a:lnTo>
                    <a:lnTo>
                      <a:pt x="146" y="236"/>
                    </a:lnTo>
                    <a:lnTo>
                      <a:pt x="147" y="240"/>
                    </a:lnTo>
                    <a:lnTo>
                      <a:pt x="149" y="243"/>
                    </a:lnTo>
                    <a:lnTo>
                      <a:pt x="149" y="245"/>
                    </a:lnTo>
                    <a:lnTo>
                      <a:pt x="149" y="247"/>
                    </a:lnTo>
                    <a:lnTo>
                      <a:pt x="148" y="250"/>
                    </a:lnTo>
                    <a:lnTo>
                      <a:pt x="146" y="252"/>
                    </a:lnTo>
                    <a:lnTo>
                      <a:pt x="143" y="255"/>
                    </a:lnTo>
                    <a:lnTo>
                      <a:pt x="139" y="259"/>
                    </a:lnTo>
                    <a:lnTo>
                      <a:pt x="136" y="264"/>
                    </a:lnTo>
                    <a:lnTo>
                      <a:pt x="132" y="268"/>
                    </a:lnTo>
                    <a:lnTo>
                      <a:pt x="129" y="272"/>
                    </a:lnTo>
                    <a:lnTo>
                      <a:pt x="127" y="275"/>
                    </a:lnTo>
                    <a:lnTo>
                      <a:pt x="125" y="278"/>
                    </a:lnTo>
                    <a:lnTo>
                      <a:pt x="123" y="281"/>
                    </a:lnTo>
                    <a:lnTo>
                      <a:pt x="115" y="284"/>
                    </a:lnTo>
                    <a:lnTo>
                      <a:pt x="106" y="281"/>
                    </a:lnTo>
                    <a:lnTo>
                      <a:pt x="100" y="278"/>
                    </a:lnTo>
                    <a:lnTo>
                      <a:pt x="92" y="275"/>
                    </a:lnTo>
                    <a:lnTo>
                      <a:pt x="91" y="275"/>
                    </a:lnTo>
                    <a:lnTo>
                      <a:pt x="90" y="275"/>
                    </a:lnTo>
                    <a:lnTo>
                      <a:pt x="88" y="275"/>
                    </a:lnTo>
                    <a:lnTo>
                      <a:pt x="85" y="275"/>
                    </a:lnTo>
                    <a:lnTo>
                      <a:pt x="83" y="275"/>
                    </a:lnTo>
                    <a:lnTo>
                      <a:pt x="80" y="275"/>
                    </a:lnTo>
                    <a:lnTo>
                      <a:pt x="79" y="275"/>
                    </a:lnTo>
                    <a:lnTo>
                      <a:pt x="78" y="276"/>
                    </a:lnTo>
                    <a:lnTo>
                      <a:pt x="77" y="276"/>
                    </a:lnTo>
                    <a:lnTo>
                      <a:pt x="78" y="277"/>
                    </a:lnTo>
                    <a:lnTo>
                      <a:pt x="79" y="279"/>
                    </a:lnTo>
                    <a:lnTo>
                      <a:pt x="82" y="280"/>
                    </a:lnTo>
                    <a:lnTo>
                      <a:pt x="84" y="281"/>
                    </a:lnTo>
                    <a:lnTo>
                      <a:pt x="87" y="280"/>
                    </a:lnTo>
                    <a:lnTo>
                      <a:pt x="90" y="279"/>
                    </a:lnTo>
                    <a:lnTo>
                      <a:pt x="92" y="279"/>
                    </a:lnTo>
                    <a:lnTo>
                      <a:pt x="95" y="279"/>
                    </a:lnTo>
                    <a:lnTo>
                      <a:pt x="98" y="279"/>
                    </a:lnTo>
                    <a:lnTo>
                      <a:pt x="100" y="280"/>
                    </a:lnTo>
                    <a:lnTo>
                      <a:pt x="103" y="281"/>
                    </a:lnTo>
                    <a:lnTo>
                      <a:pt x="112" y="287"/>
                    </a:lnTo>
                    <a:lnTo>
                      <a:pt x="120" y="289"/>
                    </a:lnTo>
                    <a:lnTo>
                      <a:pt x="129" y="290"/>
                    </a:lnTo>
                    <a:lnTo>
                      <a:pt x="139" y="288"/>
                    </a:lnTo>
                    <a:lnTo>
                      <a:pt x="148" y="284"/>
                    </a:lnTo>
                    <a:lnTo>
                      <a:pt x="156" y="279"/>
                    </a:lnTo>
                    <a:lnTo>
                      <a:pt x="169" y="270"/>
                    </a:lnTo>
                    <a:lnTo>
                      <a:pt x="182" y="259"/>
                    </a:lnTo>
                    <a:lnTo>
                      <a:pt x="185" y="258"/>
                    </a:lnTo>
                    <a:lnTo>
                      <a:pt x="187" y="256"/>
                    </a:lnTo>
                    <a:lnTo>
                      <a:pt x="188" y="254"/>
                    </a:lnTo>
                    <a:lnTo>
                      <a:pt x="189" y="252"/>
                    </a:lnTo>
                    <a:lnTo>
                      <a:pt x="189" y="248"/>
                    </a:lnTo>
                    <a:lnTo>
                      <a:pt x="189" y="246"/>
                    </a:lnTo>
                    <a:lnTo>
                      <a:pt x="191" y="245"/>
                    </a:lnTo>
                    <a:lnTo>
                      <a:pt x="192" y="244"/>
                    </a:lnTo>
                    <a:lnTo>
                      <a:pt x="194" y="243"/>
                    </a:lnTo>
                    <a:lnTo>
                      <a:pt x="197" y="243"/>
                    </a:lnTo>
                    <a:lnTo>
                      <a:pt x="198" y="242"/>
                    </a:lnTo>
                    <a:lnTo>
                      <a:pt x="201" y="237"/>
                    </a:lnTo>
                    <a:lnTo>
                      <a:pt x="204" y="233"/>
                    </a:lnTo>
                    <a:lnTo>
                      <a:pt x="209" y="229"/>
                    </a:lnTo>
                    <a:lnTo>
                      <a:pt x="222" y="222"/>
                    </a:lnTo>
                    <a:lnTo>
                      <a:pt x="225" y="221"/>
                    </a:lnTo>
                    <a:lnTo>
                      <a:pt x="230" y="220"/>
                    </a:lnTo>
                    <a:lnTo>
                      <a:pt x="233" y="218"/>
                    </a:lnTo>
                    <a:lnTo>
                      <a:pt x="236" y="215"/>
                    </a:lnTo>
                    <a:lnTo>
                      <a:pt x="238" y="212"/>
                    </a:lnTo>
                    <a:lnTo>
                      <a:pt x="240" y="209"/>
                    </a:lnTo>
                    <a:lnTo>
                      <a:pt x="237" y="207"/>
                    </a:lnTo>
                    <a:close/>
                    <a:moveTo>
                      <a:pt x="1110" y="203"/>
                    </a:moveTo>
                    <a:lnTo>
                      <a:pt x="1116" y="203"/>
                    </a:lnTo>
                    <a:lnTo>
                      <a:pt x="1119" y="205"/>
                    </a:lnTo>
                    <a:lnTo>
                      <a:pt x="1120" y="210"/>
                    </a:lnTo>
                    <a:lnTo>
                      <a:pt x="1120" y="215"/>
                    </a:lnTo>
                    <a:lnTo>
                      <a:pt x="1119" y="220"/>
                    </a:lnTo>
                    <a:lnTo>
                      <a:pt x="1116" y="222"/>
                    </a:lnTo>
                    <a:lnTo>
                      <a:pt x="1113" y="220"/>
                    </a:lnTo>
                    <a:lnTo>
                      <a:pt x="1109" y="215"/>
                    </a:lnTo>
                    <a:lnTo>
                      <a:pt x="1107" y="210"/>
                    </a:lnTo>
                    <a:lnTo>
                      <a:pt x="1108" y="205"/>
                    </a:lnTo>
                    <a:lnTo>
                      <a:pt x="1110" y="203"/>
                    </a:lnTo>
                    <a:close/>
                    <a:moveTo>
                      <a:pt x="808" y="198"/>
                    </a:moveTo>
                    <a:lnTo>
                      <a:pt x="814" y="201"/>
                    </a:lnTo>
                    <a:lnTo>
                      <a:pt x="820" y="207"/>
                    </a:lnTo>
                    <a:lnTo>
                      <a:pt x="822" y="212"/>
                    </a:lnTo>
                    <a:lnTo>
                      <a:pt x="822" y="216"/>
                    </a:lnTo>
                    <a:lnTo>
                      <a:pt x="821" y="223"/>
                    </a:lnTo>
                    <a:lnTo>
                      <a:pt x="818" y="231"/>
                    </a:lnTo>
                    <a:lnTo>
                      <a:pt x="813" y="237"/>
                    </a:lnTo>
                    <a:lnTo>
                      <a:pt x="808" y="241"/>
                    </a:lnTo>
                    <a:lnTo>
                      <a:pt x="801" y="236"/>
                    </a:lnTo>
                    <a:lnTo>
                      <a:pt x="795" y="229"/>
                    </a:lnTo>
                    <a:lnTo>
                      <a:pt x="793" y="220"/>
                    </a:lnTo>
                    <a:lnTo>
                      <a:pt x="793" y="211"/>
                    </a:lnTo>
                    <a:lnTo>
                      <a:pt x="794" y="203"/>
                    </a:lnTo>
                    <a:lnTo>
                      <a:pt x="800" y="199"/>
                    </a:lnTo>
                    <a:lnTo>
                      <a:pt x="808" y="198"/>
                    </a:lnTo>
                    <a:close/>
                    <a:moveTo>
                      <a:pt x="736" y="185"/>
                    </a:moveTo>
                    <a:lnTo>
                      <a:pt x="740" y="186"/>
                    </a:lnTo>
                    <a:lnTo>
                      <a:pt x="744" y="187"/>
                    </a:lnTo>
                    <a:lnTo>
                      <a:pt x="748" y="187"/>
                    </a:lnTo>
                    <a:lnTo>
                      <a:pt x="751" y="187"/>
                    </a:lnTo>
                    <a:lnTo>
                      <a:pt x="755" y="186"/>
                    </a:lnTo>
                    <a:lnTo>
                      <a:pt x="758" y="186"/>
                    </a:lnTo>
                    <a:lnTo>
                      <a:pt x="761" y="187"/>
                    </a:lnTo>
                    <a:lnTo>
                      <a:pt x="765" y="187"/>
                    </a:lnTo>
                    <a:lnTo>
                      <a:pt x="765" y="194"/>
                    </a:lnTo>
                    <a:lnTo>
                      <a:pt x="761" y="199"/>
                    </a:lnTo>
                    <a:lnTo>
                      <a:pt x="755" y="202"/>
                    </a:lnTo>
                    <a:lnTo>
                      <a:pt x="748" y="205"/>
                    </a:lnTo>
                    <a:lnTo>
                      <a:pt x="743" y="208"/>
                    </a:lnTo>
                    <a:lnTo>
                      <a:pt x="742" y="210"/>
                    </a:lnTo>
                    <a:lnTo>
                      <a:pt x="740" y="213"/>
                    </a:lnTo>
                    <a:lnTo>
                      <a:pt x="738" y="216"/>
                    </a:lnTo>
                    <a:lnTo>
                      <a:pt x="736" y="219"/>
                    </a:lnTo>
                    <a:lnTo>
                      <a:pt x="734" y="221"/>
                    </a:lnTo>
                    <a:lnTo>
                      <a:pt x="732" y="222"/>
                    </a:lnTo>
                    <a:lnTo>
                      <a:pt x="729" y="221"/>
                    </a:lnTo>
                    <a:lnTo>
                      <a:pt x="728" y="219"/>
                    </a:lnTo>
                    <a:lnTo>
                      <a:pt x="727" y="216"/>
                    </a:lnTo>
                    <a:lnTo>
                      <a:pt x="725" y="213"/>
                    </a:lnTo>
                    <a:lnTo>
                      <a:pt x="724" y="210"/>
                    </a:lnTo>
                    <a:lnTo>
                      <a:pt x="723" y="208"/>
                    </a:lnTo>
                    <a:lnTo>
                      <a:pt x="724" y="203"/>
                    </a:lnTo>
                    <a:lnTo>
                      <a:pt x="725" y="199"/>
                    </a:lnTo>
                    <a:lnTo>
                      <a:pt x="727" y="196"/>
                    </a:lnTo>
                    <a:lnTo>
                      <a:pt x="729" y="191"/>
                    </a:lnTo>
                    <a:lnTo>
                      <a:pt x="732" y="191"/>
                    </a:lnTo>
                    <a:lnTo>
                      <a:pt x="733" y="189"/>
                    </a:lnTo>
                    <a:lnTo>
                      <a:pt x="734" y="187"/>
                    </a:lnTo>
                    <a:lnTo>
                      <a:pt x="735" y="186"/>
                    </a:lnTo>
                    <a:lnTo>
                      <a:pt x="736" y="185"/>
                    </a:lnTo>
                    <a:close/>
                    <a:moveTo>
                      <a:pt x="845" y="159"/>
                    </a:moveTo>
                    <a:lnTo>
                      <a:pt x="846" y="160"/>
                    </a:lnTo>
                    <a:lnTo>
                      <a:pt x="848" y="161"/>
                    </a:lnTo>
                    <a:lnTo>
                      <a:pt x="851" y="164"/>
                    </a:lnTo>
                    <a:lnTo>
                      <a:pt x="853" y="167"/>
                    </a:lnTo>
                    <a:lnTo>
                      <a:pt x="853" y="169"/>
                    </a:lnTo>
                    <a:lnTo>
                      <a:pt x="853" y="171"/>
                    </a:lnTo>
                    <a:lnTo>
                      <a:pt x="851" y="174"/>
                    </a:lnTo>
                    <a:lnTo>
                      <a:pt x="849" y="175"/>
                    </a:lnTo>
                    <a:lnTo>
                      <a:pt x="847" y="176"/>
                    </a:lnTo>
                    <a:lnTo>
                      <a:pt x="844" y="177"/>
                    </a:lnTo>
                    <a:lnTo>
                      <a:pt x="842" y="176"/>
                    </a:lnTo>
                    <a:lnTo>
                      <a:pt x="840" y="175"/>
                    </a:lnTo>
                    <a:lnTo>
                      <a:pt x="837" y="172"/>
                    </a:lnTo>
                    <a:lnTo>
                      <a:pt x="836" y="169"/>
                    </a:lnTo>
                    <a:lnTo>
                      <a:pt x="835" y="168"/>
                    </a:lnTo>
                    <a:lnTo>
                      <a:pt x="835" y="167"/>
                    </a:lnTo>
                    <a:lnTo>
                      <a:pt x="835" y="165"/>
                    </a:lnTo>
                    <a:lnTo>
                      <a:pt x="835" y="163"/>
                    </a:lnTo>
                    <a:lnTo>
                      <a:pt x="836" y="161"/>
                    </a:lnTo>
                    <a:lnTo>
                      <a:pt x="837" y="160"/>
                    </a:lnTo>
                    <a:lnTo>
                      <a:pt x="838" y="161"/>
                    </a:lnTo>
                    <a:lnTo>
                      <a:pt x="841" y="161"/>
                    </a:lnTo>
                    <a:lnTo>
                      <a:pt x="842" y="161"/>
                    </a:lnTo>
                    <a:lnTo>
                      <a:pt x="843" y="160"/>
                    </a:lnTo>
                    <a:lnTo>
                      <a:pt x="843" y="160"/>
                    </a:lnTo>
                    <a:lnTo>
                      <a:pt x="844" y="159"/>
                    </a:lnTo>
                    <a:lnTo>
                      <a:pt x="845" y="159"/>
                    </a:lnTo>
                    <a:close/>
                    <a:moveTo>
                      <a:pt x="865" y="149"/>
                    </a:moveTo>
                    <a:lnTo>
                      <a:pt x="868" y="149"/>
                    </a:lnTo>
                    <a:lnTo>
                      <a:pt x="871" y="150"/>
                    </a:lnTo>
                    <a:lnTo>
                      <a:pt x="874" y="153"/>
                    </a:lnTo>
                    <a:lnTo>
                      <a:pt x="876" y="154"/>
                    </a:lnTo>
                    <a:lnTo>
                      <a:pt x="878" y="156"/>
                    </a:lnTo>
                    <a:lnTo>
                      <a:pt x="878" y="158"/>
                    </a:lnTo>
                    <a:lnTo>
                      <a:pt x="878" y="160"/>
                    </a:lnTo>
                    <a:lnTo>
                      <a:pt x="876" y="161"/>
                    </a:lnTo>
                    <a:lnTo>
                      <a:pt x="873" y="163"/>
                    </a:lnTo>
                    <a:lnTo>
                      <a:pt x="870" y="163"/>
                    </a:lnTo>
                    <a:lnTo>
                      <a:pt x="867" y="161"/>
                    </a:lnTo>
                    <a:lnTo>
                      <a:pt x="865" y="160"/>
                    </a:lnTo>
                    <a:lnTo>
                      <a:pt x="863" y="159"/>
                    </a:lnTo>
                    <a:lnTo>
                      <a:pt x="862" y="158"/>
                    </a:lnTo>
                    <a:lnTo>
                      <a:pt x="860" y="156"/>
                    </a:lnTo>
                    <a:lnTo>
                      <a:pt x="860" y="155"/>
                    </a:lnTo>
                    <a:lnTo>
                      <a:pt x="859" y="154"/>
                    </a:lnTo>
                    <a:lnTo>
                      <a:pt x="858" y="153"/>
                    </a:lnTo>
                    <a:lnTo>
                      <a:pt x="857" y="152"/>
                    </a:lnTo>
                    <a:lnTo>
                      <a:pt x="858" y="150"/>
                    </a:lnTo>
                    <a:lnTo>
                      <a:pt x="859" y="149"/>
                    </a:lnTo>
                    <a:lnTo>
                      <a:pt x="862" y="149"/>
                    </a:lnTo>
                    <a:lnTo>
                      <a:pt x="865" y="149"/>
                    </a:lnTo>
                    <a:close/>
                    <a:moveTo>
                      <a:pt x="2272" y="143"/>
                    </a:moveTo>
                    <a:lnTo>
                      <a:pt x="2274" y="143"/>
                    </a:lnTo>
                    <a:lnTo>
                      <a:pt x="2276" y="144"/>
                    </a:lnTo>
                    <a:lnTo>
                      <a:pt x="2277" y="146"/>
                    </a:lnTo>
                    <a:lnTo>
                      <a:pt x="2279" y="148"/>
                    </a:lnTo>
                    <a:lnTo>
                      <a:pt x="2282" y="150"/>
                    </a:lnTo>
                    <a:lnTo>
                      <a:pt x="2284" y="153"/>
                    </a:lnTo>
                    <a:lnTo>
                      <a:pt x="2285" y="155"/>
                    </a:lnTo>
                    <a:lnTo>
                      <a:pt x="2286" y="156"/>
                    </a:lnTo>
                    <a:lnTo>
                      <a:pt x="2287" y="158"/>
                    </a:lnTo>
                    <a:lnTo>
                      <a:pt x="2287" y="159"/>
                    </a:lnTo>
                    <a:lnTo>
                      <a:pt x="2287" y="160"/>
                    </a:lnTo>
                    <a:lnTo>
                      <a:pt x="2288" y="161"/>
                    </a:lnTo>
                    <a:lnTo>
                      <a:pt x="2287" y="164"/>
                    </a:lnTo>
                    <a:lnTo>
                      <a:pt x="2286" y="166"/>
                    </a:lnTo>
                    <a:lnTo>
                      <a:pt x="2285" y="167"/>
                    </a:lnTo>
                    <a:lnTo>
                      <a:pt x="2284" y="168"/>
                    </a:lnTo>
                    <a:lnTo>
                      <a:pt x="2282" y="169"/>
                    </a:lnTo>
                    <a:lnTo>
                      <a:pt x="2281" y="170"/>
                    </a:lnTo>
                    <a:lnTo>
                      <a:pt x="2279" y="172"/>
                    </a:lnTo>
                    <a:lnTo>
                      <a:pt x="2279" y="172"/>
                    </a:lnTo>
                    <a:lnTo>
                      <a:pt x="2277" y="172"/>
                    </a:lnTo>
                    <a:lnTo>
                      <a:pt x="2276" y="171"/>
                    </a:lnTo>
                    <a:lnTo>
                      <a:pt x="2274" y="169"/>
                    </a:lnTo>
                    <a:lnTo>
                      <a:pt x="2273" y="167"/>
                    </a:lnTo>
                    <a:lnTo>
                      <a:pt x="2271" y="163"/>
                    </a:lnTo>
                    <a:lnTo>
                      <a:pt x="2271" y="143"/>
                    </a:lnTo>
                    <a:lnTo>
                      <a:pt x="2272" y="143"/>
                    </a:lnTo>
                    <a:close/>
                    <a:moveTo>
                      <a:pt x="847" y="132"/>
                    </a:moveTo>
                    <a:lnTo>
                      <a:pt x="849" y="132"/>
                    </a:lnTo>
                    <a:lnTo>
                      <a:pt x="853" y="133"/>
                    </a:lnTo>
                    <a:lnTo>
                      <a:pt x="855" y="134"/>
                    </a:lnTo>
                    <a:lnTo>
                      <a:pt x="856" y="135"/>
                    </a:lnTo>
                    <a:lnTo>
                      <a:pt x="856" y="136"/>
                    </a:lnTo>
                    <a:lnTo>
                      <a:pt x="855" y="136"/>
                    </a:lnTo>
                    <a:lnTo>
                      <a:pt x="853" y="137"/>
                    </a:lnTo>
                    <a:lnTo>
                      <a:pt x="851" y="137"/>
                    </a:lnTo>
                    <a:lnTo>
                      <a:pt x="848" y="138"/>
                    </a:lnTo>
                    <a:lnTo>
                      <a:pt x="846" y="138"/>
                    </a:lnTo>
                    <a:lnTo>
                      <a:pt x="843" y="137"/>
                    </a:lnTo>
                    <a:lnTo>
                      <a:pt x="841" y="136"/>
                    </a:lnTo>
                    <a:lnTo>
                      <a:pt x="841" y="135"/>
                    </a:lnTo>
                    <a:lnTo>
                      <a:pt x="841" y="134"/>
                    </a:lnTo>
                    <a:lnTo>
                      <a:pt x="843" y="133"/>
                    </a:lnTo>
                    <a:lnTo>
                      <a:pt x="844" y="132"/>
                    </a:lnTo>
                    <a:lnTo>
                      <a:pt x="847" y="132"/>
                    </a:lnTo>
                    <a:close/>
                    <a:moveTo>
                      <a:pt x="1746" y="114"/>
                    </a:moveTo>
                    <a:lnTo>
                      <a:pt x="1747" y="115"/>
                    </a:lnTo>
                    <a:lnTo>
                      <a:pt x="1749" y="116"/>
                    </a:lnTo>
                    <a:lnTo>
                      <a:pt x="1751" y="117"/>
                    </a:lnTo>
                    <a:lnTo>
                      <a:pt x="1753" y="120"/>
                    </a:lnTo>
                    <a:lnTo>
                      <a:pt x="1755" y="122"/>
                    </a:lnTo>
                    <a:lnTo>
                      <a:pt x="1759" y="124"/>
                    </a:lnTo>
                    <a:lnTo>
                      <a:pt x="1760" y="126"/>
                    </a:lnTo>
                    <a:lnTo>
                      <a:pt x="1761" y="128"/>
                    </a:lnTo>
                    <a:lnTo>
                      <a:pt x="1762" y="132"/>
                    </a:lnTo>
                    <a:lnTo>
                      <a:pt x="1763" y="134"/>
                    </a:lnTo>
                    <a:lnTo>
                      <a:pt x="1764" y="135"/>
                    </a:lnTo>
                    <a:lnTo>
                      <a:pt x="1766" y="137"/>
                    </a:lnTo>
                    <a:lnTo>
                      <a:pt x="1768" y="139"/>
                    </a:lnTo>
                    <a:lnTo>
                      <a:pt x="1768" y="141"/>
                    </a:lnTo>
                    <a:lnTo>
                      <a:pt x="1766" y="143"/>
                    </a:lnTo>
                    <a:lnTo>
                      <a:pt x="1766" y="144"/>
                    </a:lnTo>
                    <a:lnTo>
                      <a:pt x="1765" y="145"/>
                    </a:lnTo>
                    <a:lnTo>
                      <a:pt x="1765" y="146"/>
                    </a:lnTo>
                    <a:lnTo>
                      <a:pt x="1766" y="148"/>
                    </a:lnTo>
                    <a:lnTo>
                      <a:pt x="1768" y="149"/>
                    </a:lnTo>
                    <a:lnTo>
                      <a:pt x="1769" y="149"/>
                    </a:lnTo>
                    <a:lnTo>
                      <a:pt x="1770" y="148"/>
                    </a:lnTo>
                    <a:lnTo>
                      <a:pt x="1771" y="148"/>
                    </a:lnTo>
                    <a:lnTo>
                      <a:pt x="1772" y="147"/>
                    </a:lnTo>
                    <a:lnTo>
                      <a:pt x="1772" y="146"/>
                    </a:lnTo>
                    <a:lnTo>
                      <a:pt x="1772" y="144"/>
                    </a:lnTo>
                    <a:lnTo>
                      <a:pt x="1772" y="141"/>
                    </a:lnTo>
                    <a:lnTo>
                      <a:pt x="1772" y="137"/>
                    </a:lnTo>
                    <a:lnTo>
                      <a:pt x="1773" y="134"/>
                    </a:lnTo>
                    <a:lnTo>
                      <a:pt x="1774" y="133"/>
                    </a:lnTo>
                    <a:lnTo>
                      <a:pt x="1775" y="133"/>
                    </a:lnTo>
                    <a:lnTo>
                      <a:pt x="1776" y="134"/>
                    </a:lnTo>
                    <a:lnTo>
                      <a:pt x="1777" y="136"/>
                    </a:lnTo>
                    <a:lnTo>
                      <a:pt x="1779" y="138"/>
                    </a:lnTo>
                    <a:lnTo>
                      <a:pt x="1780" y="141"/>
                    </a:lnTo>
                    <a:lnTo>
                      <a:pt x="1781" y="142"/>
                    </a:lnTo>
                    <a:lnTo>
                      <a:pt x="1782" y="143"/>
                    </a:lnTo>
                    <a:lnTo>
                      <a:pt x="1783" y="144"/>
                    </a:lnTo>
                    <a:lnTo>
                      <a:pt x="1783" y="143"/>
                    </a:lnTo>
                    <a:lnTo>
                      <a:pt x="1783" y="142"/>
                    </a:lnTo>
                    <a:lnTo>
                      <a:pt x="1783" y="139"/>
                    </a:lnTo>
                    <a:lnTo>
                      <a:pt x="1783" y="137"/>
                    </a:lnTo>
                    <a:lnTo>
                      <a:pt x="1783" y="135"/>
                    </a:lnTo>
                    <a:lnTo>
                      <a:pt x="1783" y="133"/>
                    </a:lnTo>
                    <a:lnTo>
                      <a:pt x="1783" y="132"/>
                    </a:lnTo>
                    <a:lnTo>
                      <a:pt x="1784" y="131"/>
                    </a:lnTo>
                    <a:lnTo>
                      <a:pt x="1785" y="131"/>
                    </a:lnTo>
                    <a:lnTo>
                      <a:pt x="1787" y="130"/>
                    </a:lnTo>
                    <a:lnTo>
                      <a:pt x="1790" y="131"/>
                    </a:lnTo>
                    <a:lnTo>
                      <a:pt x="1791" y="132"/>
                    </a:lnTo>
                    <a:lnTo>
                      <a:pt x="1792" y="134"/>
                    </a:lnTo>
                    <a:lnTo>
                      <a:pt x="1793" y="136"/>
                    </a:lnTo>
                    <a:lnTo>
                      <a:pt x="1794" y="137"/>
                    </a:lnTo>
                    <a:lnTo>
                      <a:pt x="1795" y="139"/>
                    </a:lnTo>
                    <a:lnTo>
                      <a:pt x="1797" y="138"/>
                    </a:lnTo>
                    <a:lnTo>
                      <a:pt x="1800" y="137"/>
                    </a:lnTo>
                    <a:lnTo>
                      <a:pt x="1801" y="136"/>
                    </a:lnTo>
                    <a:lnTo>
                      <a:pt x="1803" y="135"/>
                    </a:lnTo>
                    <a:lnTo>
                      <a:pt x="1804" y="135"/>
                    </a:lnTo>
                    <a:lnTo>
                      <a:pt x="1806" y="135"/>
                    </a:lnTo>
                    <a:lnTo>
                      <a:pt x="1808" y="136"/>
                    </a:lnTo>
                    <a:lnTo>
                      <a:pt x="1811" y="136"/>
                    </a:lnTo>
                    <a:lnTo>
                      <a:pt x="1813" y="137"/>
                    </a:lnTo>
                    <a:lnTo>
                      <a:pt x="1814" y="135"/>
                    </a:lnTo>
                    <a:lnTo>
                      <a:pt x="1815" y="133"/>
                    </a:lnTo>
                    <a:lnTo>
                      <a:pt x="1816" y="130"/>
                    </a:lnTo>
                    <a:lnTo>
                      <a:pt x="1816" y="127"/>
                    </a:lnTo>
                    <a:lnTo>
                      <a:pt x="1817" y="126"/>
                    </a:lnTo>
                    <a:lnTo>
                      <a:pt x="1819" y="126"/>
                    </a:lnTo>
                    <a:lnTo>
                      <a:pt x="1823" y="128"/>
                    </a:lnTo>
                    <a:lnTo>
                      <a:pt x="1825" y="131"/>
                    </a:lnTo>
                    <a:lnTo>
                      <a:pt x="1826" y="133"/>
                    </a:lnTo>
                    <a:lnTo>
                      <a:pt x="1827" y="135"/>
                    </a:lnTo>
                    <a:lnTo>
                      <a:pt x="1828" y="136"/>
                    </a:lnTo>
                    <a:lnTo>
                      <a:pt x="1829" y="136"/>
                    </a:lnTo>
                    <a:lnTo>
                      <a:pt x="1830" y="136"/>
                    </a:lnTo>
                    <a:lnTo>
                      <a:pt x="1831" y="136"/>
                    </a:lnTo>
                    <a:lnTo>
                      <a:pt x="1834" y="135"/>
                    </a:lnTo>
                    <a:lnTo>
                      <a:pt x="1835" y="134"/>
                    </a:lnTo>
                    <a:lnTo>
                      <a:pt x="1836" y="134"/>
                    </a:lnTo>
                    <a:lnTo>
                      <a:pt x="1836" y="134"/>
                    </a:lnTo>
                    <a:lnTo>
                      <a:pt x="1836" y="135"/>
                    </a:lnTo>
                    <a:lnTo>
                      <a:pt x="1836" y="137"/>
                    </a:lnTo>
                    <a:lnTo>
                      <a:pt x="1836" y="138"/>
                    </a:lnTo>
                    <a:lnTo>
                      <a:pt x="1836" y="141"/>
                    </a:lnTo>
                    <a:lnTo>
                      <a:pt x="1836" y="142"/>
                    </a:lnTo>
                    <a:lnTo>
                      <a:pt x="1835" y="142"/>
                    </a:lnTo>
                    <a:lnTo>
                      <a:pt x="1834" y="143"/>
                    </a:lnTo>
                    <a:lnTo>
                      <a:pt x="1834" y="145"/>
                    </a:lnTo>
                    <a:lnTo>
                      <a:pt x="1835" y="147"/>
                    </a:lnTo>
                    <a:lnTo>
                      <a:pt x="1836" y="150"/>
                    </a:lnTo>
                    <a:lnTo>
                      <a:pt x="1838" y="154"/>
                    </a:lnTo>
                    <a:lnTo>
                      <a:pt x="1840" y="157"/>
                    </a:lnTo>
                    <a:lnTo>
                      <a:pt x="1842" y="160"/>
                    </a:lnTo>
                    <a:lnTo>
                      <a:pt x="1846" y="164"/>
                    </a:lnTo>
                    <a:lnTo>
                      <a:pt x="1847" y="168"/>
                    </a:lnTo>
                    <a:lnTo>
                      <a:pt x="1849" y="170"/>
                    </a:lnTo>
                    <a:lnTo>
                      <a:pt x="1850" y="172"/>
                    </a:lnTo>
                    <a:lnTo>
                      <a:pt x="1852" y="175"/>
                    </a:lnTo>
                    <a:lnTo>
                      <a:pt x="1853" y="177"/>
                    </a:lnTo>
                    <a:lnTo>
                      <a:pt x="1853" y="181"/>
                    </a:lnTo>
                    <a:lnTo>
                      <a:pt x="1853" y="183"/>
                    </a:lnTo>
                    <a:lnTo>
                      <a:pt x="1852" y="187"/>
                    </a:lnTo>
                    <a:lnTo>
                      <a:pt x="1851" y="189"/>
                    </a:lnTo>
                    <a:lnTo>
                      <a:pt x="1849" y="192"/>
                    </a:lnTo>
                    <a:lnTo>
                      <a:pt x="1849" y="193"/>
                    </a:lnTo>
                    <a:lnTo>
                      <a:pt x="1849" y="196"/>
                    </a:lnTo>
                    <a:lnTo>
                      <a:pt x="1849" y="199"/>
                    </a:lnTo>
                    <a:lnTo>
                      <a:pt x="1848" y="201"/>
                    </a:lnTo>
                    <a:lnTo>
                      <a:pt x="1847" y="203"/>
                    </a:lnTo>
                    <a:lnTo>
                      <a:pt x="1846" y="205"/>
                    </a:lnTo>
                    <a:lnTo>
                      <a:pt x="1844" y="207"/>
                    </a:lnTo>
                    <a:lnTo>
                      <a:pt x="1841" y="207"/>
                    </a:lnTo>
                    <a:lnTo>
                      <a:pt x="1838" y="208"/>
                    </a:lnTo>
                    <a:lnTo>
                      <a:pt x="1836" y="208"/>
                    </a:lnTo>
                    <a:lnTo>
                      <a:pt x="1834" y="210"/>
                    </a:lnTo>
                    <a:lnTo>
                      <a:pt x="1833" y="212"/>
                    </a:lnTo>
                    <a:lnTo>
                      <a:pt x="1831" y="214"/>
                    </a:lnTo>
                    <a:lnTo>
                      <a:pt x="1829" y="214"/>
                    </a:lnTo>
                    <a:lnTo>
                      <a:pt x="1827" y="216"/>
                    </a:lnTo>
                    <a:lnTo>
                      <a:pt x="1825" y="219"/>
                    </a:lnTo>
                    <a:lnTo>
                      <a:pt x="1822" y="219"/>
                    </a:lnTo>
                    <a:lnTo>
                      <a:pt x="1819" y="220"/>
                    </a:lnTo>
                    <a:lnTo>
                      <a:pt x="1817" y="221"/>
                    </a:lnTo>
                    <a:lnTo>
                      <a:pt x="1814" y="222"/>
                    </a:lnTo>
                    <a:lnTo>
                      <a:pt x="1813" y="224"/>
                    </a:lnTo>
                    <a:lnTo>
                      <a:pt x="1811" y="227"/>
                    </a:lnTo>
                    <a:lnTo>
                      <a:pt x="1809" y="233"/>
                    </a:lnTo>
                    <a:lnTo>
                      <a:pt x="1806" y="236"/>
                    </a:lnTo>
                    <a:lnTo>
                      <a:pt x="1802" y="237"/>
                    </a:lnTo>
                    <a:lnTo>
                      <a:pt x="1796" y="234"/>
                    </a:lnTo>
                    <a:lnTo>
                      <a:pt x="1791" y="230"/>
                    </a:lnTo>
                    <a:lnTo>
                      <a:pt x="1787" y="226"/>
                    </a:lnTo>
                    <a:lnTo>
                      <a:pt x="1785" y="223"/>
                    </a:lnTo>
                    <a:lnTo>
                      <a:pt x="1783" y="221"/>
                    </a:lnTo>
                    <a:lnTo>
                      <a:pt x="1780" y="218"/>
                    </a:lnTo>
                    <a:lnTo>
                      <a:pt x="1776" y="216"/>
                    </a:lnTo>
                    <a:lnTo>
                      <a:pt x="1773" y="216"/>
                    </a:lnTo>
                    <a:lnTo>
                      <a:pt x="1770" y="219"/>
                    </a:lnTo>
                    <a:lnTo>
                      <a:pt x="1766" y="220"/>
                    </a:lnTo>
                    <a:lnTo>
                      <a:pt x="1763" y="221"/>
                    </a:lnTo>
                    <a:lnTo>
                      <a:pt x="1761" y="219"/>
                    </a:lnTo>
                    <a:lnTo>
                      <a:pt x="1759" y="218"/>
                    </a:lnTo>
                    <a:lnTo>
                      <a:pt x="1757" y="215"/>
                    </a:lnTo>
                    <a:lnTo>
                      <a:pt x="1754" y="213"/>
                    </a:lnTo>
                    <a:lnTo>
                      <a:pt x="1752" y="210"/>
                    </a:lnTo>
                    <a:lnTo>
                      <a:pt x="1751" y="208"/>
                    </a:lnTo>
                    <a:lnTo>
                      <a:pt x="1751" y="204"/>
                    </a:lnTo>
                    <a:lnTo>
                      <a:pt x="1751" y="201"/>
                    </a:lnTo>
                    <a:lnTo>
                      <a:pt x="1752" y="199"/>
                    </a:lnTo>
                    <a:lnTo>
                      <a:pt x="1753" y="199"/>
                    </a:lnTo>
                    <a:lnTo>
                      <a:pt x="1755" y="198"/>
                    </a:lnTo>
                    <a:lnTo>
                      <a:pt x="1758" y="198"/>
                    </a:lnTo>
                    <a:lnTo>
                      <a:pt x="1759" y="199"/>
                    </a:lnTo>
                    <a:lnTo>
                      <a:pt x="1761" y="199"/>
                    </a:lnTo>
                    <a:lnTo>
                      <a:pt x="1762" y="199"/>
                    </a:lnTo>
                    <a:lnTo>
                      <a:pt x="1762" y="198"/>
                    </a:lnTo>
                    <a:lnTo>
                      <a:pt x="1763" y="197"/>
                    </a:lnTo>
                    <a:lnTo>
                      <a:pt x="1762" y="192"/>
                    </a:lnTo>
                    <a:lnTo>
                      <a:pt x="1761" y="189"/>
                    </a:lnTo>
                    <a:lnTo>
                      <a:pt x="1759" y="187"/>
                    </a:lnTo>
                    <a:lnTo>
                      <a:pt x="1757" y="185"/>
                    </a:lnTo>
                    <a:lnTo>
                      <a:pt x="1753" y="183"/>
                    </a:lnTo>
                    <a:lnTo>
                      <a:pt x="1749" y="181"/>
                    </a:lnTo>
                    <a:lnTo>
                      <a:pt x="1744" y="181"/>
                    </a:lnTo>
                    <a:lnTo>
                      <a:pt x="1740" y="181"/>
                    </a:lnTo>
                    <a:lnTo>
                      <a:pt x="1737" y="179"/>
                    </a:lnTo>
                    <a:lnTo>
                      <a:pt x="1736" y="176"/>
                    </a:lnTo>
                    <a:lnTo>
                      <a:pt x="1735" y="174"/>
                    </a:lnTo>
                    <a:lnTo>
                      <a:pt x="1736" y="170"/>
                    </a:lnTo>
                    <a:lnTo>
                      <a:pt x="1738" y="168"/>
                    </a:lnTo>
                    <a:lnTo>
                      <a:pt x="1740" y="167"/>
                    </a:lnTo>
                    <a:lnTo>
                      <a:pt x="1742" y="167"/>
                    </a:lnTo>
                    <a:lnTo>
                      <a:pt x="1746" y="167"/>
                    </a:lnTo>
                    <a:lnTo>
                      <a:pt x="1749" y="168"/>
                    </a:lnTo>
                    <a:lnTo>
                      <a:pt x="1752" y="167"/>
                    </a:lnTo>
                    <a:lnTo>
                      <a:pt x="1754" y="167"/>
                    </a:lnTo>
                    <a:lnTo>
                      <a:pt x="1757" y="165"/>
                    </a:lnTo>
                    <a:lnTo>
                      <a:pt x="1758" y="164"/>
                    </a:lnTo>
                    <a:lnTo>
                      <a:pt x="1759" y="161"/>
                    </a:lnTo>
                    <a:lnTo>
                      <a:pt x="1759" y="158"/>
                    </a:lnTo>
                    <a:lnTo>
                      <a:pt x="1758" y="155"/>
                    </a:lnTo>
                    <a:lnTo>
                      <a:pt x="1755" y="153"/>
                    </a:lnTo>
                    <a:lnTo>
                      <a:pt x="1753" y="150"/>
                    </a:lnTo>
                    <a:lnTo>
                      <a:pt x="1750" y="148"/>
                    </a:lnTo>
                    <a:lnTo>
                      <a:pt x="1747" y="147"/>
                    </a:lnTo>
                    <a:lnTo>
                      <a:pt x="1744" y="146"/>
                    </a:lnTo>
                    <a:lnTo>
                      <a:pt x="1742" y="146"/>
                    </a:lnTo>
                    <a:lnTo>
                      <a:pt x="1741" y="146"/>
                    </a:lnTo>
                    <a:lnTo>
                      <a:pt x="1739" y="147"/>
                    </a:lnTo>
                    <a:lnTo>
                      <a:pt x="1737" y="148"/>
                    </a:lnTo>
                    <a:lnTo>
                      <a:pt x="1736" y="150"/>
                    </a:lnTo>
                    <a:lnTo>
                      <a:pt x="1733" y="152"/>
                    </a:lnTo>
                    <a:lnTo>
                      <a:pt x="1731" y="152"/>
                    </a:lnTo>
                    <a:lnTo>
                      <a:pt x="1730" y="150"/>
                    </a:lnTo>
                    <a:lnTo>
                      <a:pt x="1728" y="149"/>
                    </a:lnTo>
                    <a:lnTo>
                      <a:pt x="1727" y="146"/>
                    </a:lnTo>
                    <a:lnTo>
                      <a:pt x="1726" y="144"/>
                    </a:lnTo>
                    <a:lnTo>
                      <a:pt x="1727" y="143"/>
                    </a:lnTo>
                    <a:lnTo>
                      <a:pt x="1727" y="142"/>
                    </a:lnTo>
                    <a:lnTo>
                      <a:pt x="1728" y="142"/>
                    </a:lnTo>
                    <a:lnTo>
                      <a:pt x="1730" y="141"/>
                    </a:lnTo>
                    <a:lnTo>
                      <a:pt x="1730" y="139"/>
                    </a:lnTo>
                    <a:lnTo>
                      <a:pt x="1731" y="139"/>
                    </a:lnTo>
                    <a:lnTo>
                      <a:pt x="1732" y="137"/>
                    </a:lnTo>
                    <a:lnTo>
                      <a:pt x="1732" y="135"/>
                    </a:lnTo>
                    <a:lnTo>
                      <a:pt x="1733" y="132"/>
                    </a:lnTo>
                    <a:lnTo>
                      <a:pt x="1733" y="128"/>
                    </a:lnTo>
                    <a:lnTo>
                      <a:pt x="1733" y="126"/>
                    </a:lnTo>
                    <a:lnTo>
                      <a:pt x="1733" y="124"/>
                    </a:lnTo>
                    <a:lnTo>
                      <a:pt x="1735" y="123"/>
                    </a:lnTo>
                    <a:lnTo>
                      <a:pt x="1736" y="122"/>
                    </a:lnTo>
                    <a:lnTo>
                      <a:pt x="1738" y="122"/>
                    </a:lnTo>
                    <a:lnTo>
                      <a:pt x="1739" y="123"/>
                    </a:lnTo>
                    <a:lnTo>
                      <a:pt x="1740" y="126"/>
                    </a:lnTo>
                    <a:lnTo>
                      <a:pt x="1741" y="127"/>
                    </a:lnTo>
                    <a:lnTo>
                      <a:pt x="1742" y="128"/>
                    </a:lnTo>
                    <a:lnTo>
                      <a:pt x="1743" y="130"/>
                    </a:lnTo>
                    <a:lnTo>
                      <a:pt x="1744" y="130"/>
                    </a:lnTo>
                    <a:lnTo>
                      <a:pt x="1746" y="130"/>
                    </a:lnTo>
                    <a:lnTo>
                      <a:pt x="1746" y="130"/>
                    </a:lnTo>
                    <a:lnTo>
                      <a:pt x="1744" y="128"/>
                    </a:lnTo>
                    <a:lnTo>
                      <a:pt x="1744" y="126"/>
                    </a:lnTo>
                    <a:lnTo>
                      <a:pt x="1744" y="124"/>
                    </a:lnTo>
                    <a:lnTo>
                      <a:pt x="1743" y="122"/>
                    </a:lnTo>
                    <a:lnTo>
                      <a:pt x="1743" y="120"/>
                    </a:lnTo>
                    <a:lnTo>
                      <a:pt x="1743" y="117"/>
                    </a:lnTo>
                    <a:lnTo>
                      <a:pt x="1743" y="115"/>
                    </a:lnTo>
                    <a:lnTo>
                      <a:pt x="1743" y="114"/>
                    </a:lnTo>
                    <a:lnTo>
                      <a:pt x="1746" y="114"/>
                    </a:lnTo>
                    <a:close/>
                    <a:moveTo>
                      <a:pt x="2415" y="76"/>
                    </a:moveTo>
                    <a:lnTo>
                      <a:pt x="2416" y="77"/>
                    </a:lnTo>
                    <a:lnTo>
                      <a:pt x="2417" y="79"/>
                    </a:lnTo>
                    <a:lnTo>
                      <a:pt x="2417" y="81"/>
                    </a:lnTo>
                    <a:lnTo>
                      <a:pt x="2417" y="84"/>
                    </a:lnTo>
                    <a:lnTo>
                      <a:pt x="2417" y="87"/>
                    </a:lnTo>
                    <a:lnTo>
                      <a:pt x="2417" y="89"/>
                    </a:lnTo>
                    <a:lnTo>
                      <a:pt x="2416" y="90"/>
                    </a:lnTo>
                    <a:lnTo>
                      <a:pt x="2416" y="90"/>
                    </a:lnTo>
                    <a:lnTo>
                      <a:pt x="2414" y="88"/>
                    </a:lnTo>
                    <a:lnTo>
                      <a:pt x="2413" y="85"/>
                    </a:lnTo>
                    <a:lnTo>
                      <a:pt x="2413" y="83"/>
                    </a:lnTo>
                    <a:lnTo>
                      <a:pt x="2412" y="80"/>
                    </a:lnTo>
                    <a:lnTo>
                      <a:pt x="2412" y="78"/>
                    </a:lnTo>
                    <a:lnTo>
                      <a:pt x="2413" y="77"/>
                    </a:lnTo>
                    <a:lnTo>
                      <a:pt x="2414" y="76"/>
                    </a:lnTo>
                    <a:lnTo>
                      <a:pt x="2415" y="76"/>
                    </a:lnTo>
                    <a:close/>
                    <a:moveTo>
                      <a:pt x="692" y="57"/>
                    </a:moveTo>
                    <a:lnTo>
                      <a:pt x="695" y="59"/>
                    </a:lnTo>
                    <a:lnTo>
                      <a:pt x="698" y="63"/>
                    </a:lnTo>
                    <a:lnTo>
                      <a:pt x="699" y="68"/>
                    </a:lnTo>
                    <a:lnTo>
                      <a:pt x="700" y="73"/>
                    </a:lnTo>
                    <a:lnTo>
                      <a:pt x="703" y="77"/>
                    </a:lnTo>
                    <a:lnTo>
                      <a:pt x="705" y="78"/>
                    </a:lnTo>
                    <a:lnTo>
                      <a:pt x="707" y="79"/>
                    </a:lnTo>
                    <a:lnTo>
                      <a:pt x="711" y="79"/>
                    </a:lnTo>
                    <a:lnTo>
                      <a:pt x="714" y="79"/>
                    </a:lnTo>
                    <a:lnTo>
                      <a:pt x="717" y="79"/>
                    </a:lnTo>
                    <a:lnTo>
                      <a:pt x="720" y="81"/>
                    </a:lnTo>
                    <a:lnTo>
                      <a:pt x="722" y="82"/>
                    </a:lnTo>
                    <a:lnTo>
                      <a:pt x="723" y="85"/>
                    </a:lnTo>
                    <a:lnTo>
                      <a:pt x="724" y="88"/>
                    </a:lnTo>
                    <a:lnTo>
                      <a:pt x="724" y="89"/>
                    </a:lnTo>
                    <a:lnTo>
                      <a:pt x="726" y="93"/>
                    </a:lnTo>
                    <a:lnTo>
                      <a:pt x="731" y="96"/>
                    </a:lnTo>
                    <a:lnTo>
                      <a:pt x="736" y="99"/>
                    </a:lnTo>
                    <a:lnTo>
                      <a:pt x="743" y="100"/>
                    </a:lnTo>
                    <a:lnTo>
                      <a:pt x="747" y="100"/>
                    </a:lnTo>
                    <a:lnTo>
                      <a:pt x="755" y="103"/>
                    </a:lnTo>
                    <a:lnTo>
                      <a:pt x="760" y="109"/>
                    </a:lnTo>
                    <a:lnTo>
                      <a:pt x="765" y="114"/>
                    </a:lnTo>
                    <a:lnTo>
                      <a:pt x="771" y="120"/>
                    </a:lnTo>
                    <a:lnTo>
                      <a:pt x="780" y="128"/>
                    </a:lnTo>
                    <a:lnTo>
                      <a:pt x="786" y="139"/>
                    </a:lnTo>
                    <a:lnTo>
                      <a:pt x="786" y="152"/>
                    </a:lnTo>
                    <a:lnTo>
                      <a:pt x="783" y="155"/>
                    </a:lnTo>
                    <a:lnTo>
                      <a:pt x="779" y="157"/>
                    </a:lnTo>
                    <a:lnTo>
                      <a:pt x="773" y="156"/>
                    </a:lnTo>
                    <a:lnTo>
                      <a:pt x="768" y="154"/>
                    </a:lnTo>
                    <a:lnTo>
                      <a:pt x="765" y="152"/>
                    </a:lnTo>
                    <a:lnTo>
                      <a:pt x="762" y="150"/>
                    </a:lnTo>
                    <a:lnTo>
                      <a:pt x="760" y="148"/>
                    </a:lnTo>
                    <a:lnTo>
                      <a:pt x="758" y="147"/>
                    </a:lnTo>
                    <a:lnTo>
                      <a:pt x="755" y="147"/>
                    </a:lnTo>
                    <a:lnTo>
                      <a:pt x="753" y="148"/>
                    </a:lnTo>
                    <a:lnTo>
                      <a:pt x="751" y="148"/>
                    </a:lnTo>
                    <a:lnTo>
                      <a:pt x="749" y="147"/>
                    </a:lnTo>
                    <a:lnTo>
                      <a:pt x="747" y="145"/>
                    </a:lnTo>
                    <a:lnTo>
                      <a:pt x="746" y="142"/>
                    </a:lnTo>
                    <a:lnTo>
                      <a:pt x="745" y="138"/>
                    </a:lnTo>
                    <a:lnTo>
                      <a:pt x="743" y="136"/>
                    </a:lnTo>
                    <a:lnTo>
                      <a:pt x="740" y="134"/>
                    </a:lnTo>
                    <a:lnTo>
                      <a:pt x="738" y="133"/>
                    </a:lnTo>
                    <a:lnTo>
                      <a:pt x="736" y="132"/>
                    </a:lnTo>
                    <a:lnTo>
                      <a:pt x="734" y="132"/>
                    </a:lnTo>
                    <a:lnTo>
                      <a:pt x="733" y="133"/>
                    </a:lnTo>
                    <a:lnTo>
                      <a:pt x="731" y="135"/>
                    </a:lnTo>
                    <a:lnTo>
                      <a:pt x="729" y="137"/>
                    </a:lnTo>
                    <a:lnTo>
                      <a:pt x="728" y="141"/>
                    </a:lnTo>
                    <a:lnTo>
                      <a:pt x="728" y="143"/>
                    </a:lnTo>
                    <a:lnTo>
                      <a:pt x="728" y="145"/>
                    </a:lnTo>
                    <a:lnTo>
                      <a:pt x="728" y="148"/>
                    </a:lnTo>
                    <a:lnTo>
                      <a:pt x="727" y="150"/>
                    </a:lnTo>
                    <a:lnTo>
                      <a:pt x="726" y="152"/>
                    </a:lnTo>
                    <a:lnTo>
                      <a:pt x="724" y="153"/>
                    </a:lnTo>
                    <a:lnTo>
                      <a:pt x="722" y="153"/>
                    </a:lnTo>
                    <a:lnTo>
                      <a:pt x="720" y="154"/>
                    </a:lnTo>
                    <a:lnTo>
                      <a:pt x="717" y="154"/>
                    </a:lnTo>
                    <a:lnTo>
                      <a:pt x="715" y="154"/>
                    </a:lnTo>
                    <a:lnTo>
                      <a:pt x="713" y="155"/>
                    </a:lnTo>
                    <a:lnTo>
                      <a:pt x="711" y="156"/>
                    </a:lnTo>
                    <a:lnTo>
                      <a:pt x="706" y="161"/>
                    </a:lnTo>
                    <a:lnTo>
                      <a:pt x="703" y="166"/>
                    </a:lnTo>
                    <a:lnTo>
                      <a:pt x="699" y="170"/>
                    </a:lnTo>
                    <a:lnTo>
                      <a:pt x="693" y="174"/>
                    </a:lnTo>
                    <a:lnTo>
                      <a:pt x="685" y="174"/>
                    </a:lnTo>
                    <a:lnTo>
                      <a:pt x="683" y="171"/>
                    </a:lnTo>
                    <a:lnTo>
                      <a:pt x="682" y="169"/>
                    </a:lnTo>
                    <a:lnTo>
                      <a:pt x="681" y="167"/>
                    </a:lnTo>
                    <a:lnTo>
                      <a:pt x="681" y="165"/>
                    </a:lnTo>
                    <a:lnTo>
                      <a:pt x="681" y="163"/>
                    </a:lnTo>
                    <a:lnTo>
                      <a:pt x="681" y="160"/>
                    </a:lnTo>
                    <a:lnTo>
                      <a:pt x="679" y="158"/>
                    </a:lnTo>
                    <a:lnTo>
                      <a:pt x="678" y="157"/>
                    </a:lnTo>
                    <a:lnTo>
                      <a:pt x="675" y="156"/>
                    </a:lnTo>
                    <a:lnTo>
                      <a:pt x="672" y="156"/>
                    </a:lnTo>
                    <a:lnTo>
                      <a:pt x="670" y="155"/>
                    </a:lnTo>
                    <a:lnTo>
                      <a:pt x="668" y="155"/>
                    </a:lnTo>
                    <a:lnTo>
                      <a:pt x="664" y="154"/>
                    </a:lnTo>
                    <a:lnTo>
                      <a:pt x="662" y="154"/>
                    </a:lnTo>
                    <a:lnTo>
                      <a:pt x="659" y="153"/>
                    </a:lnTo>
                    <a:lnTo>
                      <a:pt x="657" y="152"/>
                    </a:lnTo>
                    <a:lnTo>
                      <a:pt x="655" y="150"/>
                    </a:lnTo>
                    <a:lnTo>
                      <a:pt x="655" y="148"/>
                    </a:lnTo>
                    <a:lnTo>
                      <a:pt x="655" y="146"/>
                    </a:lnTo>
                    <a:lnTo>
                      <a:pt x="656" y="143"/>
                    </a:lnTo>
                    <a:lnTo>
                      <a:pt x="657" y="142"/>
                    </a:lnTo>
                    <a:lnTo>
                      <a:pt x="659" y="139"/>
                    </a:lnTo>
                    <a:lnTo>
                      <a:pt x="662" y="138"/>
                    </a:lnTo>
                    <a:lnTo>
                      <a:pt x="664" y="137"/>
                    </a:lnTo>
                    <a:lnTo>
                      <a:pt x="667" y="136"/>
                    </a:lnTo>
                    <a:lnTo>
                      <a:pt x="668" y="134"/>
                    </a:lnTo>
                    <a:lnTo>
                      <a:pt x="672" y="131"/>
                    </a:lnTo>
                    <a:lnTo>
                      <a:pt x="675" y="126"/>
                    </a:lnTo>
                    <a:lnTo>
                      <a:pt x="679" y="122"/>
                    </a:lnTo>
                    <a:lnTo>
                      <a:pt x="682" y="120"/>
                    </a:lnTo>
                    <a:lnTo>
                      <a:pt x="684" y="117"/>
                    </a:lnTo>
                    <a:lnTo>
                      <a:pt x="687" y="115"/>
                    </a:lnTo>
                    <a:lnTo>
                      <a:pt x="688" y="113"/>
                    </a:lnTo>
                    <a:lnTo>
                      <a:pt x="689" y="111"/>
                    </a:lnTo>
                    <a:lnTo>
                      <a:pt x="688" y="109"/>
                    </a:lnTo>
                    <a:lnTo>
                      <a:pt x="685" y="106"/>
                    </a:lnTo>
                    <a:lnTo>
                      <a:pt x="681" y="104"/>
                    </a:lnTo>
                    <a:lnTo>
                      <a:pt x="679" y="103"/>
                    </a:lnTo>
                    <a:lnTo>
                      <a:pt x="678" y="103"/>
                    </a:lnTo>
                    <a:lnTo>
                      <a:pt x="675" y="102"/>
                    </a:lnTo>
                    <a:lnTo>
                      <a:pt x="673" y="101"/>
                    </a:lnTo>
                    <a:lnTo>
                      <a:pt x="672" y="100"/>
                    </a:lnTo>
                    <a:lnTo>
                      <a:pt x="672" y="98"/>
                    </a:lnTo>
                    <a:lnTo>
                      <a:pt x="672" y="95"/>
                    </a:lnTo>
                    <a:lnTo>
                      <a:pt x="672" y="93"/>
                    </a:lnTo>
                    <a:lnTo>
                      <a:pt x="673" y="90"/>
                    </a:lnTo>
                    <a:lnTo>
                      <a:pt x="673" y="87"/>
                    </a:lnTo>
                    <a:lnTo>
                      <a:pt x="674" y="83"/>
                    </a:lnTo>
                    <a:lnTo>
                      <a:pt x="675" y="77"/>
                    </a:lnTo>
                    <a:lnTo>
                      <a:pt x="678" y="69"/>
                    </a:lnTo>
                    <a:lnTo>
                      <a:pt x="680" y="62"/>
                    </a:lnTo>
                    <a:lnTo>
                      <a:pt x="684" y="58"/>
                    </a:lnTo>
                    <a:lnTo>
                      <a:pt x="692" y="57"/>
                    </a:lnTo>
                    <a:close/>
                    <a:moveTo>
                      <a:pt x="87" y="49"/>
                    </a:moveTo>
                    <a:lnTo>
                      <a:pt x="84" y="49"/>
                    </a:lnTo>
                    <a:lnTo>
                      <a:pt x="82" y="50"/>
                    </a:lnTo>
                    <a:lnTo>
                      <a:pt x="80" y="51"/>
                    </a:lnTo>
                    <a:lnTo>
                      <a:pt x="77" y="52"/>
                    </a:lnTo>
                    <a:lnTo>
                      <a:pt x="74" y="54"/>
                    </a:lnTo>
                    <a:lnTo>
                      <a:pt x="71" y="57"/>
                    </a:lnTo>
                    <a:lnTo>
                      <a:pt x="68" y="59"/>
                    </a:lnTo>
                    <a:lnTo>
                      <a:pt x="65" y="61"/>
                    </a:lnTo>
                    <a:lnTo>
                      <a:pt x="61" y="63"/>
                    </a:lnTo>
                    <a:lnTo>
                      <a:pt x="58" y="66"/>
                    </a:lnTo>
                    <a:lnTo>
                      <a:pt x="54" y="69"/>
                    </a:lnTo>
                    <a:lnTo>
                      <a:pt x="50" y="71"/>
                    </a:lnTo>
                    <a:lnTo>
                      <a:pt x="46" y="74"/>
                    </a:lnTo>
                    <a:lnTo>
                      <a:pt x="34" y="78"/>
                    </a:lnTo>
                    <a:lnTo>
                      <a:pt x="22" y="83"/>
                    </a:lnTo>
                    <a:lnTo>
                      <a:pt x="18" y="85"/>
                    </a:lnTo>
                    <a:lnTo>
                      <a:pt x="13" y="88"/>
                    </a:lnTo>
                    <a:lnTo>
                      <a:pt x="6" y="89"/>
                    </a:lnTo>
                    <a:lnTo>
                      <a:pt x="2" y="91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2" y="99"/>
                    </a:lnTo>
                    <a:lnTo>
                      <a:pt x="4" y="99"/>
                    </a:lnTo>
                    <a:lnTo>
                      <a:pt x="5" y="99"/>
                    </a:lnTo>
                    <a:lnTo>
                      <a:pt x="7" y="98"/>
                    </a:lnTo>
                    <a:lnTo>
                      <a:pt x="8" y="96"/>
                    </a:lnTo>
                    <a:lnTo>
                      <a:pt x="13" y="93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28" y="88"/>
                    </a:lnTo>
                    <a:lnTo>
                      <a:pt x="31" y="87"/>
                    </a:lnTo>
                    <a:lnTo>
                      <a:pt x="36" y="84"/>
                    </a:lnTo>
                    <a:lnTo>
                      <a:pt x="39" y="83"/>
                    </a:lnTo>
                    <a:lnTo>
                      <a:pt x="41" y="83"/>
                    </a:lnTo>
                    <a:lnTo>
                      <a:pt x="44" y="83"/>
                    </a:lnTo>
                    <a:lnTo>
                      <a:pt x="46" y="84"/>
                    </a:lnTo>
                    <a:lnTo>
                      <a:pt x="48" y="85"/>
                    </a:lnTo>
                    <a:lnTo>
                      <a:pt x="50" y="88"/>
                    </a:lnTo>
                    <a:lnTo>
                      <a:pt x="50" y="90"/>
                    </a:lnTo>
                    <a:lnTo>
                      <a:pt x="50" y="96"/>
                    </a:lnTo>
                    <a:lnTo>
                      <a:pt x="48" y="102"/>
                    </a:lnTo>
                    <a:lnTo>
                      <a:pt x="45" y="106"/>
                    </a:lnTo>
                    <a:lnTo>
                      <a:pt x="39" y="110"/>
                    </a:lnTo>
                    <a:lnTo>
                      <a:pt x="33" y="115"/>
                    </a:lnTo>
                    <a:lnTo>
                      <a:pt x="27" y="121"/>
                    </a:lnTo>
                    <a:lnTo>
                      <a:pt x="25" y="127"/>
                    </a:lnTo>
                    <a:lnTo>
                      <a:pt x="28" y="134"/>
                    </a:lnTo>
                    <a:lnTo>
                      <a:pt x="33" y="136"/>
                    </a:lnTo>
                    <a:lnTo>
                      <a:pt x="37" y="135"/>
                    </a:lnTo>
                    <a:lnTo>
                      <a:pt x="42" y="132"/>
                    </a:lnTo>
                    <a:lnTo>
                      <a:pt x="47" y="127"/>
                    </a:lnTo>
                    <a:lnTo>
                      <a:pt x="50" y="123"/>
                    </a:lnTo>
                    <a:lnTo>
                      <a:pt x="52" y="120"/>
                    </a:lnTo>
                    <a:lnTo>
                      <a:pt x="54" y="116"/>
                    </a:lnTo>
                    <a:lnTo>
                      <a:pt x="55" y="114"/>
                    </a:lnTo>
                    <a:lnTo>
                      <a:pt x="57" y="111"/>
                    </a:lnTo>
                    <a:lnTo>
                      <a:pt x="59" y="110"/>
                    </a:lnTo>
                    <a:lnTo>
                      <a:pt x="61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4"/>
                    </a:lnTo>
                    <a:lnTo>
                      <a:pt x="61" y="116"/>
                    </a:lnTo>
                    <a:lnTo>
                      <a:pt x="60" y="120"/>
                    </a:lnTo>
                    <a:lnTo>
                      <a:pt x="58" y="123"/>
                    </a:lnTo>
                    <a:lnTo>
                      <a:pt x="57" y="126"/>
                    </a:lnTo>
                    <a:lnTo>
                      <a:pt x="55" y="130"/>
                    </a:lnTo>
                    <a:lnTo>
                      <a:pt x="56" y="132"/>
                    </a:lnTo>
                    <a:lnTo>
                      <a:pt x="60" y="131"/>
                    </a:lnTo>
                    <a:lnTo>
                      <a:pt x="65" y="128"/>
                    </a:lnTo>
                    <a:lnTo>
                      <a:pt x="69" y="124"/>
                    </a:lnTo>
                    <a:lnTo>
                      <a:pt x="72" y="121"/>
                    </a:lnTo>
                    <a:lnTo>
                      <a:pt x="74" y="119"/>
                    </a:lnTo>
                    <a:lnTo>
                      <a:pt x="78" y="114"/>
                    </a:lnTo>
                    <a:lnTo>
                      <a:pt x="80" y="111"/>
                    </a:lnTo>
                    <a:lnTo>
                      <a:pt x="81" y="105"/>
                    </a:lnTo>
                    <a:lnTo>
                      <a:pt x="81" y="101"/>
                    </a:lnTo>
                    <a:lnTo>
                      <a:pt x="82" y="100"/>
                    </a:lnTo>
                    <a:lnTo>
                      <a:pt x="83" y="98"/>
                    </a:lnTo>
                    <a:lnTo>
                      <a:pt x="83" y="96"/>
                    </a:lnTo>
                    <a:lnTo>
                      <a:pt x="84" y="95"/>
                    </a:lnTo>
                    <a:lnTo>
                      <a:pt x="85" y="94"/>
                    </a:lnTo>
                    <a:lnTo>
                      <a:pt x="87" y="95"/>
                    </a:lnTo>
                    <a:lnTo>
                      <a:pt x="88" y="96"/>
                    </a:lnTo>
                    <a:lnTo>
                      <a:pt x="94" y="96"/>
                    </a:lnTo>
                    <a:lnTo>
                      <a:pt x="99" y="92"/>
                    </a:lnTo>
                    <a:lnTo>
                      <a:pt x="103" y="85"/>
                    </a:lnTo>
                    <a:lnTo>
                      <a:pt x="105" y="79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1" y="72"/>
                    </a:lnTo>
                    <a:lnTo>
                      <a:pt x="113" y="70"/>
                    </a:lnTo>
                    <a:lnTo>
                      <a:pt x="114" y="68"/>
                    </a:lnTo>
                    <a:lnTo>
                      <a:pt x="114" y="66"/>
                    </a:lnTo>
                    <a:lnTo>
                      <a:pt x="114" y="63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09" y="62"/>
                    </a:lnTo>
                    <a:lnTo>
                      <a:pt x="106" y="62"/>
                    </a:lnTo>
                    <a:lnTo>
                      <a:pt x="105" y="63"/>
                    </a:lnTo>
                    <a:lnTo>
                      <a:pt x="103" y="66"/>
                    </a:lnTo>
                    <a:lnTo>
                      <a:pt x="100" y="68"/>
                    </a:lnTo>
                    <a:lnTo>
                      <a:pt x="99" y="70"/>
                    </a:lnTo>
                    <a:lnTo>
                      <a:pt x="96" y="72"/>
                    </a:lnTo>
                    <a:lnTo>
                      <a:pt x="94" y="74"/>
                    </a:lnTo>
                    <a:lnTo>
                      <a:pt x="91" y="74"/>
                    </a:lnTo>
                    <a:lnTo>
                      <a:pt x="89" y="76"/>
                    </a:lnTo>
                    <a:lnTo>
                      <a:pt x="87" y="76"/>
                    </a:lnTo>
                    <a:lnTo>
                      <a:pt x="83" y="77"/>
                    </a:lnTo>
                    <a:lnTo>
                      <a:pt x="78" y="74"/>
                    </a:lnTo>
                    <a:lnTo>
                      <a:pt x="76" y="71"/>
                    </a:lnTo>
                    <a:lnTo>
                      <a:pt x="76" y="67"/>
                    </a:lnTo>
                    <a:lnTo>
                      <a:pt x="77" y="61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4" y="55"/>
                    </a:lnTo>
                    <a:lnTo>
                      <a:pt x="87" y="54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7" y="49"/>
                    </a:lnTo>
                    <a:close/>
                    <a:moveTo>
                      <a:pt x="2366" y="47"/>
                    </a:moveTo>
                    <a:lnTo>
                      <a:pt x="2368" y="47"/>
                    </a:lnTo>
                    <a:lnTo>
                      <a:pt x="2369" y="48"/>
                    </a:lnTo>
                    <a:lnTo>
                      <a:pt x="2369" y="51"/>
                    </a:lnTo>
                    <a:lnTo>
                      <a:pt x="2370" y="52"/>
                    </a:lnTo>
                    <a:lnTo>
                      <a:pt x="2371" y="56"/>
                    </a:lnTo>
                    <a:lnTo>
                      <a:pt x="2372" y="59"/>
                    </a:lnTo>
                    <a:lnTo>
                      <a:pt x="2373" y="62"/>
                    </a:lnTo>
                    <a:lnTo>
                      <a:pt x="2373" y="65"/>
                    </a:lnTo>
                    <a:lnTo>
                      <a:pt x="2372" y="65"/>
                    </a:lnTo>
                    <a:lnTo>
                      <a:pt x="2371" y="63"/>
                    </a:lnTo>
                    <a:lnTo>
                      <a:pt x="2370" y="63"/>
                    </a:lnTo>
                    <a:lnTo>
                      <a:pt x="2369" y="62"/>
                    </a:lnTo>
                    <a:lnTo>
                      <a:pt x="2369" y="61"/>
                    </a:lnTo>
                    <a:lnTo>
                      <a:pt x="2366" y="60"/>
                    </a:lnTo>
                    <a:lnTo>
                      <a:pt x="2365" y="58"/>
                    </a:lnTo>
                    <a:lnTo>
                      <a:pt x="2365" y="56"/>
                    </a:lnTo>
                    <a:lnTo>
                      <a:pt x="2365" y="55"/>
                    </a:lnTo>
                    <a:lnTo>
                      <a:pt x="2365" y="52"/>
                    </a:lnTo>
                    <a:lnTo>
                      <a:pt x="2366" y="51"/>
                    </a:lnTo>
                    <a:lnTo>
                      <a:pt x="2366" y="48"/>
                    </a:lnTo>
                    <a:lnTo>
                      <a:pt x="2366" y="47"/>
                    </a:lnTo>
                    <a:close/>
                    <a:moveTo>
                      <a:pt x="2468" y="0"/>
                    </a:moveTo>
                    <a:lnTo>
                      <a:pt x="2493" y="84"/>
                    </a:lnTo>
                    <a:lnTo>
                      <a:pt x="2514" y="171"/>
                    </a:lnTo>
                    <a:lnTo>
                      <a:pt x="2530" y="259"/>
                    </a:lnTo>
                    <a:lnTo>
                      <a:pt x="2543" y="350"/>
                    </a:lnTo>
                    <a:lnTo>
                      <a:pt x="2549" y="442"/>
                    </a:lnTo>
                    <a:lnTo>
                      <a:pt x="2536" y="450"/>
                    </a:lnTo>
                    <a:lnTo>
                      <a:pt x="2523" y="458"/>
                    </a:lnTo>
                    <a:lnTo>
                      <a:pt x="2471" y="493"/>
                    </a:lnTo>
                    <a:lnTo>
                      <a:pt x="2418" y="534"/>
                    </a:lnTo>
                    <a:lnTo>
                      <a:pt x="2364" y="579"/>
                    </a:lnTo>
                    <a:lnTo>
                      <a:pt x="2308" y="626"/>
                    </a:lnTo>
                    <a:lnTo>
                      <a:pt x="2249" y="674"/>
                    </a:lnTo>
                    <a:lnTo>
                      <a:pt x="2249" y="673"/>
                    </a:lnTo>
                    <a:lnTo>
                      <a:pt x="2250" y="672"/>
                    </a:lnTo>
                    <a:lnTo>
                      <a:pt x="2251" y="671"/>
                    </a:lnTo>
                    <a:lnTo>
                      <a:pt x="2251" y="670"/>
                    </a:lnTo>
                    <a:lnTo>
                      <a:pt x="2251" y="669"/>
                    </a:lnTo>
                    <a:lnTo>
                      <a:pt x="2252" y="669"/>
                    </a:lnTo>
                    <a:lnTo>
                      <a:pt x="2253" y="667"/>
                    </a:lnTo>
                    <a:lnTo>
                      <a:pt x="2253" y="666"/>
                    </a:lnTo>
                    <a:lnTo>
                      <a:pt x="2253" y="663"/>
                    </a:lnTo>
                    <a:lnTo>
                      <a:pt x="2252" y="663"/>
                    </a:lnTo>
                    <a:lnTo>
                      <a:pt x="2251" y="663"/>
                    </a:lnTo>
                    <a:lnTo>
                      <a:pt x="2250" y="665"/>
                    </a:lnTo>
                    <a:lnTo>
                      <a:pt x="2249" y="666"/>
                    </a:lnTo>
                    <a:lnTo>
                      <a:pt x="2249" y="666"/>
                    </a:lnTo>
                    <a:lnTo>
                      <a:pt x="2244" y="671"/>
                    </a:lnTo>
                    <a:lnTo>
                      <a:pt x="2240" y="677"/>
                    </a:lnTo>
                    <a:lnTo>
                      <a:pt x="2235" y="681"/>
                    </a:lnTo>
                    <a:lnTo>
                      <a:pt x="2235" y="681"/>
                    </a:lnTo>
                    <a:lnTo>
                      <a:pt x="2234" y="682"/>
                    </a:lnTo>
                    <a:lnTo>
                      <a:pt x="2234" y="684"/>
                    </a:lnTo>
                    <a:lnTo>
                      <a:pt x="2233" y="685"/>
                    </a:lnTo>
                    <a:lnTo>
                      <a:pt x="2233" y="688"/>
                    </a:lnTo>
                    <a:lnTo>
                      <a:pt x="2230" y="690"/>
                    </a:lnTo>
                    <a:lnTo>
                      <a:pt x="2226" y="692"/>
                    </a:lnTo>
                    <a:lnTo>
                      <a:pt x="2222" y="694"/>
                    </a:lnTo>
                    <a:lnTo>
                      <a:pt x="2222" y="694"/>
                    </a:lnTo>
                    <a:lnTo>
                      <a:pt x="2219" y="696"/>
                    </a:lnTo>
                    <a:lnTo>
                      <a:pt x="2218" y="696"/>
                    </a:lnTo>
                    <a:lnTo>
                      <a:pt x="2218" y="696"/>
                    </a:lnTo>
                    <a:lnTo>
                      <a:pt x="2219" y="694"/>
                    </a:lnTo>
                    <a:lnTo>
                      <a:pt x="2219" y="693"/>
                    </a:lnTo>
                    <a:lnTo>
                      <a:pt x="2218" y="691"/>
                    </a:lnTo>
                    <a:lnTo>
                      <a:pt x="2218" y="690"/>
                    </a:lnTo>
                    <a:lnTo>
                      <a:pt x="2217" y="688"/>
                    </a:lnTo>
                    <a:lnTo>
                      <a:pt x="2217" y="684"/>
                    </a:lnTo>
                    <a:lnTo>
                      <a:pt x="2216" y="682"/>
                    </a:lnTo>
                    <a:lnTo>
                      <a:pt x="2215" y="681"/>
                    </a:lnTo>
                    <a:lnTo>
                      <a:pt x="2213" y="680"/>
                    </a:lnTo>
                    <a:lnTo>
                      <a:pt x="2211" y="681"/>
                    </a:lnTo>
                    <a:lnTo>
                      <a:pt x="2209" y="684"/>
                    </a:lnTo>
                    <a:lnTo>
                      <a:pt x="2207" y="689"/>
                    </a:lnTo>
                    <a:lnTo>
                      <a:pt x="2205" y="693"/>
                    </a:lnTo>
                    <a:lnTo>
                      <a:pt x="2202" y="699"/>
                    </a:lnTo>
                    <a:lnTo>
                      <a:pt x="2201" y="702"/>
                    </a:lnTo>
                    <a:lnTo>
                      <a:pt x="2200" y="706"/>
                    </a:lnTo>
                    <a:lnTo>
                      <a:pt x="2200" y="710"/>
                    </a:lnTo>
                    <a:lnTo>
                      <a:pt x="2198" y="714"/>
                    </a:lnTo>
                    <a:lnTo>
                      <a:pt x="2185" y="723"/>
                    </a:lnTo>
                    <a:lnTo>
                      <a:pt x="2186" y="722"/>
                    </a:lnTo>
                    <a:lnTo>
                      <a:pt x="2186" y="720"/>
                    </a:lnTo>
                    <a:lnTo>
                      <a:pt x="2187" y="717"/>
                    </a:lnTo>
                    <a:lnTo>
                      <a:pt x="2187" y="715"/>
                    </a:lnTo>
                    <a:lnTo>
                      <a:pt x="2188" y="713"/>
                    </a:lnTo>
                    <a:lnTo>
                      <a:pt x="2122" y="760"/>
                    </a:lnTo>
                    <a:lnTo>
                      <a:pt x="2122" y="759"/>
                    </a:lnTo>
                    <a:lnTo>
                      <a:pt x="2122" y="758"/>
                    </a:lnTo>
                    <a:lnTo>
                      <a:pt x="2121" y="755"/>
                    </a:lnTo>
                    <a:lnTo>
                      <a:pt x="2121" y="753"/>
                    </a:lnTo>
                    <a:lnTo>
                      <a:pt x="2120" y="750"/>
                    </a:lnTo>
                    <a:lnTo>
                      <a:pt x="2118" y="750"/>
                    </a:lnTo>
                    <a:lnTo>
                      <a:pt x="2117" y="750"/>
                    </a:lnTo>
                    <a:lnTo>
                      <a:pt x="2115" y="750"/>
                    </a:lnTo>
                    <a:lnTo>
                      <a:pt x="2114" y="749"/>
                    </a:lnTo>
                    <a:lnTo>
                      <a:pt x="2113" y="747"/>
                    </a:lnTo>
                    <a:lnTo>
                      <a:pt x="2113" y="745"/>
                    </a:lnTo>
                    <a:lnTo>
                      <a:pt x="2112" y="743"/>
                    </a:lnTo>
                    <a:lnTo>
                      <a:pt x="2111" y="739"/>
                    </a:lnTo>
                    <a:lnTo>
                      <a:pt x="2111" y="737"/>
                    </a:lnTo>
                    <a:lnTo>
                      <a:pt x="2111" y="734"/>
                    </a:lnTo>
                    <a:lnTo>
                      <a:pt x="2110" y="731"/>
                    </a:lnTo>
                    <a:lnTo>
                      <a:pt x="2109" y="730"/>
                    </a:lnTo>
                    <a:lnTo>
                      <a:pt x="2107" y="728"/>
                    </a:lnTo>
                    <a:lnTo>
                      <a:pt x="2106" y="730"/>
                    </a:lnTo>
                    <a:lnTo>
                      <a:pt x="2103" y="731"/>
                    </a:lnTo>
                    <a:lnTo>
                      <a:pt x="2101" y="731"/>
                    </a:lnTo>
                    <a:lnTo>
                      <a:pt x="2100" y="732"/>
                    </a:lnTo>
                    <a:lnTo>
                      <a:pt x="2098" y="733"/>
                    </a:lnTo>
                    <a:lnTo>
                      <a:pt x="2097" y="733"/>
                    </a:lnTo>
                    <a:lnTo>
                      <a:pt x="2095" y="732"/>
                    </a:lnTo>
                    <a:lnTo>
                      <a:pt x="2093" y="730"/>
                    </a:lnTo>
                    <a:lnTo>
                      <a:pt x="2092" y="727"/>
                    </a:lnTo>
                    <a:lnTo>
                      <a:pt x="2091" y="726"/>
                    </a:lnTo>
                    <a:lnTo>
                      <a:pt x="2090" y="725"/>
                    </a:lnTo>
                    <a:lnTo>
                      <a:pt x="2089" y="725"/>
                    </a:lnTo>
                    <a:lnTo>
                      <a:pt x="2088" y="725"/>
                    </a:lnTo>
                    <a:lnTo>
                      <a:pt x="2087" y="727"/>
                    </a:lnTo>
                    <a:lnTo>
                      <a:pt x="2087" y="730"/>
                    </a:lnTo>
                    <a:lnTo>
                      <a:pt x="2087" y="732"/>
                    </a:lnTo>
                    <a:lnTo>
                      <a:pt x="2087" y="734"/>
                    </a:lnTo>
                    <a:lnTo>
                      <a:pt x="2088" y="736"/>
                    </a:lnTo>
                    <a:lnTo>
                      <a:pt x="2089" y="738"/>
                    </a:lnTo>
                    <a:lnTo>
                      <a:pt x="2091" y="741"/>
                    </a:lnTo>
                    <a:lnTo>
                      <a:pt x="2096" y="753"/>
                    </a:lnTo>
                    <a:lnTo>
                      <a:pt x="2098" y="766"/>
                    </a:lnTo>
                    <a:lnTo>
                      <a:pt x="2098" y="771"/>
                    </a:lnTo>
                    <a:lnTo>
                      <a:pt x="2099" y="775"/>
                    </a:lnTo>
                    <a:lnTo>
                      <a:pt x="2100" y="777"/>
                    </a:lnTo>
                    <a:lnTo>
                      <a:pt x="2102" y="779"/>
                    </a:lnTo>
                    <a:lnTo>
                      <a:pt x="2104" y="781"/>
                    </a:lnTo>
                    <a:lnTo>
                      <a:pt x="2102" y="782"/>
                    </a:lnTo>
                    <a:lnTo>
                      <a:pt x="2101" y="781"/>
                    </a:lnTo>
                    <a:lnTo>
                      <a:pt x="2099" y="780"/>
                    </a:lnTo>
                    <a:lnTo>
                      <a:pt x="2097" y="780"/>
                    </a:lnTo>
                    <a:lnTo>
                      <a:pt x="2097" y="779"/>
                    </a:lnTo>
                    <a:lnTo>
                      <a:pt x="2096" y="778"/>
                    </a:lnTo>
                    <a:lnTo>
                      <a:pt x="2096" y="778"/>
                    </a:lnTo>
                    <a:lnTo>
                      <a:pt x="2095" y="778"/>
                    </a:lnTo>
                    <a:lnTo>
                      <a:pt x="2086" y="782"/>
                    </a:lnTo>
                    <a:lnTo>
                      <a:pt x="2079" y="787"/>
                    </a:lnTo>
                    <a:lnTo>
                      <a:pt x="2078" y="786"/>
                    </a:lnTo>
                    <a:lnTo>
                      <a:pt x="2077" y="782"/>
                    </a:lnTo>
                    <a:lnTo>
                      <a:pt x="2076" y="779"/>
                    </a:lnTo>
                    <a:lnTo>
                      <a:pt x="2075" y="769"/>
                    </a:lnTo>
                    <a:lnTo>
                      <a:pt x="2075" y="757"/>
                    </a:lnTo>
                    <a:lnTo>
                      <a:pt x="2074" y="746"/>
                    </a:lnTo>
                    <a:lnTo>
                      <a:pt x="2071" y="745"/>
                    </a:lnTo>
                    <a:lnTo>
                      <a:pt x="2069" y="743"/>
                    </a:lnTo>
                    <a:lnTo>
                      <a:pt x="2067" y="743"/>
                    </a:lnTo>
                    <a:lnTo>
                      <a:pt x="2064" y="742"/>
                    </a:lnTo>
                    <a:lnTo>
                      <a:pt x="2062" y="743"/>
                    </a:lnTo>
                    <a:lnTo>
                      <a:pt x="2060" y="745"/>
                    </a:lnTo>
                    <a:lnTo>
                      <a:pt x="2058" y="748"/>
                    </a:lnTo>
                    <a:lnTo>
                      <a:pt x="2056" y="752"/>
                    </a:lnTo>
                    <a:lnTo>
                      <a:pt x="2054" y="755"/>
                    </a:lnTo>
                    <a:lnTo>
                      <a:pt x="2052" y="758"/>
                    </a:lnTo>
                    <a:lnTo>
                      <a:pt x="2049" y="761"/>
                    </a:lnTo>
                    <a:lnTo>
                      <a:pt x="2047" y="766"/>
                    </a:lnTo>
                    <a:lnTo>
                      <a:pt x="2045" y="770"/>
                    </a:lnTo>
                    <a:lnTo>
                      <a:pt x="2042" y="772"/>
                    </a:lnTo>
                    <a:lnTo>
                      <a:pt x="2038" y="775"/>
                    </a:lnTo>
                    <a:lnTo>
                      <a:pt x="2037" y="776"/>
                    </a:lnTo>
                    <a:lnTo>
                      <a:pt x="2036" y="775"/>
                    </a:lnTo>
                    <a:lnTo>
                      <a:pt x="2036" y="774"/>
                    </a:lnTo>
                    <a:lnTo>
                      <a:pt x="2035" y="772"/>
                    </a:lnTo>
                    <a:lnTo>
                      <a:pt x="2034" y="770"/>
                    </a:lnTo>
                    <a:lnTo>
                      <a:pt x="2032" y="769"/>
                    </a:lnTo>
                    <a:lnTo>
                      <a:pt x="2028" y="769"/>
                    </a:lnTo>
                    <a:lnTo>
                      <a:pt x="2026" y="770"/>
                    </a:lnTo>
                    <a:lnTo>
                      <a:pt x="2024" y="771"/>
                    </a:lnTo>
                    <a:lnTo>
                      <a:pt x="2021" y="775"/>
                    </a:lnTo>
                    <a:lnTo>
                      <a:pt x="2019" y="777"/>
                    </a:lnTo>
                    <a:lnTo>
                      <a:pt x="2016" y="783"/>
                    </a:lnTo>
                    <a:lnTo>
                      <a:pt x="2016" y="790"/>
                    </a:lnTo>
                    <a:lnTo>
                      <a:pt x="2016" y="797"/>
                    </a:lnTo>
                    <a:lnTo>
                      <a:pt x="2016" y="800"/>
                    </a:lnTo>
                    <a:lnTo>
                      <a:pt x="2015" y="803"/>
                    </a:lnTo>
                    <a:lnTo>
                      <a:pt x="2014" y="805"/>
                    </a:lnTo>
                    <a:lnTo>
                      <a:pt x="2013" y="808"/>
                    </a:lnTo>
                    <a:lnTo>
                      <a:pt x="2012" y="810"/>
                    </a:lnTo>
                    <a:lnTo>
                      <a:pt x="2011" y="812"/>
                    </a:lnTo>
                    <a:lnTo>
                      <a:pt x="2010" y="813"/>
                    </a:lnTo>
                    <a:lnTo>
                      <a:pt x="2008" y="813"/>
                    </a:lnTo>
                    <a:lnTo>
                      <a:pt x="2006" y="813"/>
                    </a:lnTo>
                    <a:lnTo>
                      <a:pt x="2005" y="814"/>
                    </a:lnTo>
                    <a:lnTo>
                      <a:pt x="2002" y="816"/>
                    </a:lnTo>
                    <a:lnTo>
                      <a:pt x="1999" y="819"/>
                    </a:lnTo>
                    <a:lnTo>
                      <a:pt x="1995" y="823"/>
                    </a:lnTo>
                    <a:lnTo>
                      <a:pt x="1992" y="827"/>
                    </a:lnTo>
                    <a:lnTo>
                      <a:pt x="1990" y="832"/>
                    </a:lnTo>
                    <a:lnTo>
                      <a:pt x="1989" y="836"/>
                    </a:lnTo>
                    <a:lnTo>
                      <a:pt x="1987" y="841"/>
                    </a:lnTo>
                    <a:lnTo>
                      <a:pt x="1987" y="845"/>
                    </a:lnTo>
                    <a:lnTo>
                      <a:pt x="1986" y="850"/>
                    </a:lnTo>
                    <a:lnTo>
                      <a:pt x="1973" y="855"/>
                    </a:lnTo>
                    <a:lnTo>
                      <a:pt x="1975" y="852"/>
                    </a:lnTo>
                    <a:lnTo>
                      <a:pt x="1939" y="872"/>
                    </a:lnTo>
                    <a:lnTo>
                      <a:pt x="1903" y="889"/>
                    </a:lnTo>
                    <a:lnTo>
                      <a:pt x="1903" y="888"/>
                    </a:lnTo>
                    <a:lnTo>
                      <a:pt x="1902" y="887"/>
                    </a:lnTo>
                    <a:lnTo>
                      <a:pt x="1901" y="887"/>
                    </a:lnTo>
                    <a:lnTo>
                      <a:pt x="1901" y="883"/>
                    </a:lnTo>
                    <a:lnTo>
                      <a:pt x="1901" y="878"/>
                    </a:lnTo>
                    <a:lnTo>
                      <a:pt x="1903" y="874"/>
                    </a:lnTo>
                    <a:lnTo>
                      <a:pt x="1908" y="854"/>
                    </a:lnTo>
                    <a:lnTo>
                      <a:pt x="1913" y="836"/>
                    </a:lnTo>
                    <a:lnTo>
                      <a:pt x="1914" y="825"/>
                    </a:lnTo>
                    <a:lnTo>
                      <a:pt x="1915" y="814"/>
                    </a:lnTo>
                    <a:lnTo>
                      <a:pt x="1915" y="811"/>
                    </a:lnTo>
                    <a:lnTo>
                      <a:pt x="1914" y="808"/>
                    </a:lnTo>
                    <a:lnTo>
                      <a:pt x="1914" y="803"/>
                    </a:lnTo>
                    <a:lnTo>
                      <a:pt x="1913" y="799"/>
                    </a:lnTo>
                    <a:lnTo>
                      <a:pt x="1914" y="794"/>
                    </a:lnTo>
                    <a:lnTo>
                      <a:pt x="1916" y="788"/>
                    </a:lnTo>
                    <a:lnTo>
                      <a:pt x="1918" y="780"/>
                    </a:lnTo>
                    <a:lnTo>
                      <a:pt x="1919" y="777"/>
                    </a:lnTo>
                    <a:lnTo>
                      <a:pt x="1922" y="778"/>
                    </a:lnTo>
                    <a:lnTo>
                      <a:pt x="1924" y="779"/>
                    </a:lnTo>
                    <a:lnTo>
                      <a:pt x="1925" y="780"/>
                    </a:lnTo>
                    <a:lnTo>
                      <a:pt x="1927" y="781"/>
                    </a:lnTo>
                    <a:lnTo>
                      <a:pt x="1928" y="781"/>
                    </a:lnTo>
                    <a:lnTo>
                      <a:pt x="1931" y="782"/>
                    </a:lnTo>
                    <a:lnTo>
                      <a:pt x="1933" y="782"/>
                    </a:lnTo>
                    <a:lnTo>
                      <a:pt x="1935" y="781"/>
                    </a:lnTo>
                    <a:lnTo>
                      <a:pt x="1937" y="781"/>
                    </a:lnTo>
                    <a:lnTo>
                      <a:pt x="1939" y="779"/>
                    </a:lnTo>
                    <a:lnTo>
                      <a:pt x="1944" y="777"/>
                    </a:lnTo>
                    <a:lnTo>
                      <a:pt x="1948" y="776"/>
                    </a:lnTo>
                    <a:lnTo>
                      <a:pt x="1953" y="775"/>
                    </a:lnTo>
                    <a:lnTo>
                      <a:pt x="1955" y="777"/>
                    </a:lnTo>
                    <a:lnTo>
                      <a:pt x="1958" y="777"/>
                    </a:lnTo>
                    <a:lnTo>
                      <a:pt x="1960" y="777"/>
                    </a:lnTo>
                    <a:lnTo>
                      <a:pt x="1964" y="777"/>
                    </a:lnTo>
                    <a:lnTo>
                      <a:pt x="1969" y="778"/>
                    </a:lnTo>
                    <a:lnTo>
                      <a:pt x="1975" y="779"/>
                    </a:lnTo>
                    <a:lnTo>
                      <a:pt x="1981" y="775"/>
                    </a:lnTo>
                    <a:lnTo>
                      <a:pt x="1982" y="774"/>
                    </a:lnTo>
                    <a:lnTo>
                      <a:pt x="1983" y="770"/>
                    </a:lnTo>
                    <a:lnTo>
                      <a:pt x="1983" y="768"/>
                    </a:lnTo>
                    <a:lnTo>
                      <a:pt x="1983" y="765"/>
                    </a:lnTo>
                    <a:lnTo>
                      <a:pt x="1983" y="761"/>
                    </a:lnTo>
                    <a:lnTo>
                      <a:pt x="1984" y="759"/>
                    </a:lnTo>
                    <a:lnTo>
                      <a:pt x="1986" y="757"/>
                    </a:lnTo>
                    <a:lnTo>
                      <a:pt x="1986" y="755"/>
                    </a:lnTo>
                    <a:lnTo>
                      <a:pt x="1987" y="754"/>
                    </a:lnTo>
                    <a:lnTo>
                      <a:pt x="1987" y="752"/>
                    </a:lnTo>
                    <a:lnTo>
                      <a:pt x="1988" y="749"/>
                    </a:lnTo>
                    <a:lnTo>
                      <a:pt x="1988" y="746"/>
                    </a:lnTo>
                    <a:lnTo>
                      <a:pt x="1989" y="741"/>
                    </a:lnTo>
                    <a:lnTo>
                      <a:pt x="1990" y="736"/>
                    </a:lnTo>
                    <a:lnTo>
                      <a:pt x="1991" y="732"/>
                    </a:lnTo>
                    <a:lnTo>
                      <a:pt x="1990" y="725"/>
                    </a:lnTo>
                    <a:lnTo>
                      <a:pt x="1990" y="722"/>
                    </a:lnTo>
                    <a:lnTo>
                      <a:pt x="1990" y="718"/>
                    </a:lnTo>
                    <a:lnTo>
                      <a:pt x="1989" y="716"/>
                    </a:lnTo>
                    <a:lnTo>
                      <a:pt x="1988" y="713"/>
                    </a:lnTo>
                    <a:lnTo>
                      <a:pt x="1986" y="712"/>
                    </a:lnTo>
                    <a:lnTo>
                      <a:pt x="1986" y="711"/>
                    </a:lnTo>
                    <a:lnTo>
                      <a:pt x="1986" y="710"/>
                    </a:lnTo>
                    <a:lnTo>
                      <a:pt x="1984" y="709"/>
                    </a:lnTo>
                    <a:lnTo>
                      <a:pt x="1983" y="706"/>
                    </a:lnTo>
                    <a:lnTo>
                      <a:pt x="1983" y="705"/>
                    </a:lnTo>
                    <a:lnTo>
                      <a:pt x="1983" y="703"/>
                    </a:lnTo>
                    <a:lnTo>
                      <a:pt x="1984" y="701"/>
                    </a:lnTo>
                    <a:lnTo>
                      <a:pt x="1984" y="699"/>
                    </a:lnTo>
                    <a:lnTo>
                      <a:pt x="1984" y="696"/>
                    </a:lnTo>
                    <a:lnTo>
                      <a:pt x="1983" y="694"/>
                    </a:lnTo>
                    <a:lnTo>
                      <a:pt x="1981" y="692"/>
                    </a:lnTo>
                    <a:lnTo>
                      <a:pt x="1978" y="690"/>
                    </a:lnTo>
                    <a:lnTo>
                      <a:pt x="1975" y="688"/>
                    </a:lnTo>
                    <a:lnTo>
                      <a:pt x="1972" y="687"/>
                    </a:lnTo>
                    <a:lnTo>
                      <a:pt x="1971" y="685"/>
                    </a:lnTo>
                    <a:lnTo>
                      <a:pt x="1969" y="684"/>
                    </a:lnTo>
                    <a:lnTo>
                      <a:pt x="1967" y="683"/>
                    </a:lnTo>
                    <a:lnTo>
                      <a:pt x="1966" y="681"/>
                    </a:lnTo>
                    <a:lnTo>
                      <a:pt x="1965" y="678"/>
                    </a:lnTo>
                    <a:lnTo>
                      <a:pt x="1964" y="674"/>
                    </a:lnTo>
                    <a:lnTo>
                      <a:pt x="1964" y="672"/>
                    </a:lnTo>
                    <a:lnTo>
                      <a:pt x="1964" y="670"/>
                    </a:lnTo>
                    <a:lnTo>
                      <a:pt x="1964" y="668"/>
                    </a:lnTo>
                    <a:lnTo>
                      <a:pt x="1965" y="667"/>
                    </a:lnTo>
                    <a:lnTo>
                      <a:pt x="1966" y="666"/>
                    </a:lnTo>
                    <a:lnTo>
                      <a:pt x="1967" y="663"/>
                    </a:lnTo>
                    <a:lnTo>
                      <a:pt x="1969" y="662"/>
                    </a:lnTo>
                    <a:lnTo>
                      <a:pt x="1970" y="661"/>
                    </a:lnTo>
                    <a:lnTo>
                      <a:pt x="1972" y="660"/>
                    </a:lnTo>
                    <a:lnTo>
                      <a:pt x="1975" y="661"/>
                    </a:lnTo>
                    <a:lnTo>
                      <a:pt x="1976" y="662"/>
                    </a:lnTo>
                    <a:lnTo>
                      <a:pt x="1977" y="663"/>
                    </a:lnTo>
                    <a:lnTo>
                      <a:pt x="1979" y="665"/>
                    </a:lnTo>
                    <a:lnTo>
                      <a:pt x="1980" y="665"/>
                    </a:lnTo>
                    <a:lnTo>
                      <a:pt x="1982" y="666"/>
                    </a:lnTo>
                    <a:lnTo>
                      <a:pt x="1984" y="666"/>
                    </a:lnTo>
                    <a:lnTo>
                      <a:pt x="1987" y="665"/>
                    </a:lnTo>
                    <a:lnTo>
                      <a:pt x="1988" y="663"/>
                    </a:lnTo>
                    <a:lnTo>
                      <a:pt x="1989" y="660"/>
                    </a:lnTo>
                    <a:lnTo>
                      <a:pt x="1990" y="657"/>
                    </a:lnTo>
                    <a:lnTo>
                      <a:pt x="1989" y="651"/>
                    </a:lnTo>
                    <a:lnTo>
                      <a:pt x="1987" y="647"/>
                    </a:lnTo>
                    <a:lnTo>
                      <a:pt x="1986" y="643"/>
                    </a:lnTo>
                    <a:lnTo>
                      <a:pt x="1988" y="637"/>
                    </a:lnTo>
                    <a:lnTo>
                      <a:pt x="1989" y="636"/>
                    </a:lnTo>
                    <a:lnTo>
                      <a:pt x="1991" y="637"/>
                    </a:lnTo>
                    <a:lnTo>
                      <a:pt x="1992" y="638"/>
                    </a:lnTo>
                    <a:lnTo>
                      <a:pt x="1993" y="639"/>
                    </a:lnTo>
                    <a:lnTo>
                      <a:pt x="1994" y="639"/>
                    </a:lnTo>
                    <a:lnTo>
                      <a:pt x="1997" y="639"/>
                    </a:lnTo>
                    <a:lnTo>
                      <a:pt x="1998" y="639"/>
                    </a:lnTo>
                    <a:lnTo>
                      <a:pt x="1999" y="640"/>
                    </a:lnTo>
                    <a:lnTo>
                      <a:pt x="1999" y="641"/>
                    </a:lnTo>
                    <a:lnTo>
                      <a:pt x="2000" y="644"/>
                    </a:lnTo>
                    <a:lnTo>
                      <a:pt x="2001" y="645"/>
                    </a:lnTo>
                    <a:lnTo>
                      <a:pt x="2002" y="646"/>
                    </a:lnTo>
                    <a:lnTo>
                      <a:pt x="2004" y="646"/>
                    </a:lnTo>
                    <a:lnTo>
                      <a:pt x="2005" y="644"/>
                    </a:lnTo>
                    <a:lnTo>
                      <a:pt x="2005" y="641"/>
                    </a:lnTo>
                    <a:lnTo>
                      <a:pt x="2006" y="639"/>
                    </a:lnTo>
                    <a:lnTo>
                      <a:pt x="2006" y="638"/>
                    </a:lnTo>
                    <a:lnTo>
                      <a:pt x="2008" y="638"/>
                    </a:lnTo>
                    <a:lnTo>
                      <a:pt x="2009" y="638"/>
                    </a:lnTo>
                    <a:lnTo>
                      <a:pt x="2010" y="637"/>
                    </a:lnTo>
                    <a:lnTo>
                      <a:pt x="2011" y="635"/>
                    </a:lnTo>
                    <a:lnTo>
                      <a:pt x="2012" y="633"/>
                    </a:lnTo>
                    <a:lnTo>
                      <a:pt x="2013" y="630"/>
                    </a:lnTo>
                    <a:lnTo>
                      <a:pt x="2014" y="628"/>
                    </a:lnTo>
                    <a:lnTo>
                      <a:pt x="2014" y="626"/>
                    </a:lnTo>
                    <a:lnTo>
                      <a:pt x="2015" y="624"/>
                    </a:lnTo>
                    <a:lnTo>
                      <a:pt x="2015" y="621"/>
                    </a:lnTo>
                    <a:lnTo>
                      <a:pt x="2015" y="618"/>
                    </a:lnTo>
                    <a:lnTo>
                      <a:pt x="2015" y="616"/>
                    </a:lnTo>
                    <a:lnTo>
                      <a:pt x="2016" y="615"/>
                    </a:lnTo>
                    <a:lnTo>
                      <a:pt x="2017" y="612"/>
                    </a:lnTo>
                    <a:lnTo>
                      <a:pt x="2019" y="610"/>
                    </a:lnTo>
                    <a:lnTo>
                      <a:pt x="2019" y="607"/>
                    </a:lnTo>
                    <a:lnTo>
                      <a:pt x="2019" y="604"/>
                    </a:lnTo>
                    <a:lnTo>
                      <a:pt x="2020" y="603"/>
                    </a:lnTo>
                    <a:lnTo>
                      <a:pt x="2021" y="603"/>
                    </a:lnTo>
                    <a:lnTo>
                      <a:pt x="2021" y="604"/>
                    </a:lnTo>
                    <a:lnTo>
                      <a:pt x="2022" y="605"/>
                    </a:lnTo>
                    <a:lnTo>
                      <a:pt x="2022" y="606"/>
                    </a:lnTo>
                    <a:lnTo>
                      <a:pt x="2023" y="606"/>
                    </a:lnTo>
                    <a:lnTo>
                      <a:pt x="2023" y="606"/>
                    </a:lnTo>
                    <a:lnTo>
                      <a:pt x="2024" y="605"/>
                    </a:lnTo>
                    <a:lnTo>
                      <a:pt x="2025" y="603"/>
                    </a:lnTo>
                    <a:lnTo>
                      <a:pt x="2026" y="602"/>
                    </a:lnTo>
                    <a:lnTo>
                      <a:pt x="2027" y="602"/>
                    </a:lnTo>
                    <a:lnTo>
                      <a:pt x="2027" y="602"/>
                    </a:lnTo>
                    <a:lnTo>
                      <a:pt x="2028" y="601"/>
                    </a:lnTo>
                    <a:lnTo>
                      <a:pt x="2031" y="600"/>
                    </a:lnTo>
                    <a:lnTo>
                      <a:pt x="2032" y="600"/>
                    </a:lnTo>
                    <a:lnTo>
                      <a:pt x="2032" y="596"/>
                    </a:lnTo>
                    <a:lnTo>
                      <a:pt x="2033" y="593"/>
                    </a:lnTo>
                    <a:lnTo>
                      <a:pt x="2034" y="591"/>
                    </a:lnTo>
                    <a:lnTo>
                      <a:pt x="2036" y="590"/>
                    </a:lnTo>
                    <a:lnTo>
                      <a:pt x="2036" y="587"/>
                    </a:lnTo>
                    <a:lnTo>
                      <a:pt x="2036" y="585"/>
                    </a:lnTo>
                    <a:lnTo>
                      <a:pt x="2036" y="583"/>
                    </a:lnTo>
                    <a:lnTo>
                      <a:pt x="2036" y="580"/>
                    </a:lnTo>
                    <a:lnTo>
                      <a:pt x="2037" y="579"/>
                    </a:lnTo>
                    <a:lnTo>
                      <a:pt x="2038" y="575"/>
                    </a:lnTo>
                    <a:lnTo>
                      <a:pt x="2038" y="573"/>
                    </a:lnTo>
                    <a:lnTo>
                      <a:pt x="2039" y="570"/>
                    </a:lnTo>
                    <a:lnTo>
                      <a:pt x="2041" y="567"/>
                    </a:lnTo>
                    <a:lnTo>
                      <a:pt x="2041" y="562"/>
                    </a:lnTo>
                    <a:lnTo>
                      <a:pt x="2042" y="558"/>
                    </a:lnTo>
                    <a:lnTo>
                      <a:pt x="2043" y="553"/>
                    </a:lnTo>
                    <a:lnTo>
                      <a:pt x="2045" y="552"/>
                    </a:lnTo>
                    <a:lnTo>
                      <a:pt x="2047" y="551"/>
                    </a:lnTo>
                    <a:lnTo>
                      <a:pt x="2049" y="551"/>
                    </a:lnTo>
                    <a:lnTo>
                      <a:pt x="2052" y="549"/>
                    </a:lnTo>
                    <a:lnTo>
                      <a:pt x="2053" y="549"/>
                    </a:lnTo>
                    <a:lnTo>
                      <a:pt x="2054" y="548"/>
                    </a:lnTo>
                    <a:lnTo>
                      <a:pt x="2056" y="548"/>
                    </a:lnTo>
                    <a:lnTo>
                      <a:pt x="2057" y="547"/>
                    </a:lnTo>
                    <a:lnTo>
                      <a:pt x="2058" y="545"/>
                    </a:lnTo>
                    <a:lnTo>
                      <a:pt x="2059" y="542"/>
                    </a:lnTo>
                    <a:lnTo>
                      <a:pt x="2060" y="541"/>
                    </a:lnTo>
                    <a:lnTo>
                      <a:pt x="2062" y="541"/>
                    </a:lnTo>
                    <a:lnTo>
                      <a:pt x="2063" y="540"/>
                    </a:lnTo>
                    <a:lnTo>
                      <a:pt x="2065" y="540"/>
                    </a:lnTo>
                    <a:lnTo>
                      <a:pt x="2066" y="541"/>
                    </a:lnTo>
                    <a:lnTo>
                      <a:pt x="2067" y="541"/>
                    </a:lnTo>
                    <a:lnTo>
                      <a:pt x="2068" y="541"/>
                    </a:lnTo>
                    <a:lnTo>
                      <a:pt x="2069" y="540"/>
                    </a:lnTo>
                    <a:lnTo>
                      <a:pt x="2069" y="538"/>
                    </a:lnTo>
                    <a:lnTo>
                      <a:pt x="2070" y="534"/>
                    </a:lnTo>
                    <a:lnTo>
                      <a:pt x="2071" y="529"/>
                    </a:lnTo>
                    <a:lnTo>
                      <a:pt x="2071" y="525"/>
                    </a:lnTo>
                    <a:lnTo>
                      <a:pt x="2071" y="512"/>
                    </a:lnTo>
                    <a:lnTo>
                      <a:pt x="2071" y="510"/>
                    </a:lnTo>
                    <a:lnTo>
                      <a:pt x="2070" y="508"/>
                    </a:lnTo>
                    <a:lnTo>
                      <a:pt x="2070" y="505"/>
                    </a:lnTo>
                    <a:lnTo>
                      <a:pt x="2069" y="503"/>
                    </a:lnTo>
                    <a:lnTo>
                      <a:pt x="2069" y="502"/>
                    </a:lnTo>
                    <a:lnTo>
                      <a:pt x="2068" y="499"/>
                    </a:lnTo>
                    <a:lnTo>
                      <a:pt x="2067" y="496"/>
                    </a:lnTo>
                    <a:lnTo>
                      <a:pt x="2067" y="494"/>
                    </a:lnTo>
                    <a:lnTo>
                      <a:pt x="2067" y="491"/>
                    </a:lnTo>
                    <a:lnTo>
                      <a:pt x="2067" y="484"/>
                    </a:lnTo>
                    <a:lnTo>
                      <a:pt x="2066" y="482"/>
                    </a:lnTo>
                    <a:lnTo>
                      <a:pt x="2065" y="479"/>
                    </a:lnTo>
                    <a:lnTo>
                      <a:pt x="2065" y="476"/>
                    </a:lnTo>
                    <a:lnTo>
                      <a:pt x="2065" y="473"/>
                    </a:lnTo>
                    <a:lnTo>
                      <a:pt x="2065" y="465"/>
                    </a:lnTo>
                    <a:lnTo>
                      <a:pt x="2066" y="458"/>
                    </a:lnTo>
                    <a:lnTo>
                      <a:pt x="2069" y="451"/>
                    </a:lnTo>
                    <a:lnTo>
                      <a:pt x="2070" y="449"/>
                    </a:lnTo>
                    <a:lnTo>
                      <a:pt x="2071" y="448"/>
                    </a:lnTo>
                    <a:lnTo>
                      <a:pt x="2073" y="448"/>
                    </a:lnTo>
                    <a:lnTo>
                      <a:pt x="2075" y="449"/>
                    </a:lnTo>
                    <a:lnTo>
                      <a:pt x="2076" y="449"/>
                    </a:lnTo>
                    <a:lnTo>
                      <a:pt x="2077" y="447"/>
                    </a:lnTo>
                    <a:lnTo>
                      <a:pt x="2078" y="444"/>
                    </a:lnTo>
                    <a:lnTo>
                      <a:pt x="2080" y="442"/>
                    </a:lnTo>
                    <a:lnTo>
                      <a:pt x="2081" y="442"/>
                    </a:lnTo>
                    <a:lnTo>
                      <a:pt x="2081" y="442"/>
                    </a:lnTo>
                    <a:lnTo>
                      <a:pt x="2082" y="444"/>
                    </a:lnTo>
                    <a:lnTo>
                      <a:pt x="2082" y="447"/>
                    </a:lnTo>
                    <a:lnTo>
                      <a:pt x="2082" y="449"/>
                    </a:lnTo>
                    <a:lnTo>
                      <a:pt x="2082" y="451"/>
                    </a:lnTo>
                    <a:lnTo>
                      <a:pt x="2082" y="477"/>
                    </a:lnTo>
                    <a:lnTo>
                      <a:pt x="2081" y="477"/>
                    </a:lnTo>
                    <a:lnTo>
                      <a:pt x="2081" y="479"/>
                    </a:lnTo>
                    <a:lnTo>
                      <a:pt x="2080" y="480"/>
                    </a:lnTo>
                    <a:lnTo>
                      <a:pt x="2080" y="482"/>
                    </a:lnTo>
                    <a:lnTo>
                      <a:pt x="2080" y="497"/>
                    </a:lnTo>
                    <a:lnTo>
                      <a:pt x="2080" y="501"/>
                    </a:lnTo>
                    <a:lnTo>
                      <a:pt x="2079" y="504"/>
                    </a:lnTo>
                    <a:lnTo>
                      <a:pt x="2079" y="507"/>
                    </a:lnTo>
                    <a:lnTo>
                      <a:pt x="2080" y="509"/>
                    </a:lnTo>
                    <a:lnTo>
                      <a:pt x="2080" y="514"/>
                    </a:lnTo>
                    <a:lnTo>
                      <a:pt x="2081" y="518"/>
                    </a:lnTo>
                    <a:lnTo>
                      <a:pt x="2082" y="523"/>
                    </a:lnTo>
                    <a:lnTo>
                      <a:pt x="2084" y="527"/>
                    </a:lnTo>
                    <a:lnTo>
                      <a:pt x="2085" y="530"/>
                    </a:lnTo>
                    <a:lnTo>
                      <a:pt x="2086" y="534"/>
                    </a:lnTo>
                    <a:lnTo>
                      <a:pt x="2087" y="535"/>
                    </a:lnTo>
                    <a:lnTo>
                      <a:pt x="2089" y="536"/>
                    </a:lnTo>
                    <a:lnTo>
                      <a:pt x="2091" y="534"/>
                    </a:lnTo>
                    <a:lnTo>
                      <a:pt x="2092" y="532"/>
                    </a:lnTo>
                    <a:lnTo>
                      <a:pt x="2095" y="532"/>
                    </a:lnTo>
                    <a:lnTo>
                      <a:pt x="2096" y="531"/>
                    </a:lnTo>
                    <a:lnTo>
                      <a:pt x="2097" y="529"/>
                    </a:lnTo>
                    <a:lnTo>
                      <a:pt x="2098" y="527"/>
                    </a:lnTo>
                    <a:lnTo>
                      <a:pt x="2098" y="526"/>
                    </a:lnTo>
                    <a:lnTo>
                      <a:pt x="2099" y="525"/>
                    </a:lnTo>
                    <a:lnTo>
                      <a:pt x="2099" y="525"/>
                    </a:lnTo>
                    <a:lnTo>
                      <a:pt x="2101" y="524"/>
                    </a:lnTo>
                    <a:lnTo>
                      <a:pt x="2102" y="523"/>
                    </a:lnTo>
                    <a:lnTo>
                      <a:pt x="2102" y="521"/>
                    </a:lnTo>
                    <a:lnTo>
                      <a:pt x="2102" y="520"/>
                    </a:lnTo>
                    <a:lnTo>
                      <a:pt x="2103" y="519"/>
                    </a:lnTo>
                    <a:lnTo>
                      <a:pt x="2103" y="519"/>
                    </a:lnTo>
                    <a:lnTo>
                      <a:pt x="2104" y="519"/>
                    </a:lnTo>
                    <a:lnTo>
                      <a:pt x="2104" y="520"/>
                    </a:lnTo>
                    <a:lnTo>
                      <a:pt x="2104" y="523"/>
                    </a:lnTo>
                    <a:lnTo>
                      <a:pt x="2104" y="525"/>
                    </a:lnTo>
                    <a:lnTo>
                      <a:pt x="2107" y="527"/>
                    </a:lnTo>
                    <a:lnTo>
                      <a:pt x="2107" y="530"/>
                    </a:lnTo>
                    <a:lnTo>
                      <a:pt x="2107" y="532"/>
                    </a:lnTo>
                    <a:lnTo>
                      <a:pt x="2108" y="536"/>
                    </a:lnTo>
                    <a:lnTo>
                      <a:pt x="2109" y="538"/>
                    </a:lnTo>
                    <a:lnTo>
                      <a:pt x="2110" y="540"/>
                    </a:lnTo>
                    <a:lnTo>
                      <a:pt x="2111" y="541"/>
                    </a:lnTo>
                    <a:lnTo>
                      <a:pt x="2111" y="541"/>
                    </a:lnTo>
                    <a:lnTo>
                      <a:pt x="2111" y="540"/>
                    </a:lnTo>
                    <a:lnTo>
                      <a:pt x="2111" y="538"/>
                    </a:lnTo>
                    <a:lnTo>
                      <a:pt x="2112" y="537"/>
                    </a:lnTo>
                    <a:lnTo>
                      <a:pt x="2112" y="535"/>
                    </a:lnTo>
                    <a:lnTo>
                      <a:pt x="2112" y="532"/>
                    </a:lnTo>
                    <a:lnTo>
                      <a:pt x="2113" y="531"/>
                    </a:lnTo>
                    <a:lnTo>
                      <a:pt x="2114" y="532"/>
                    </a:lnTo>
                    <a:lnTo>
                      <a:pt x="2115" y="534"/>
                    </a:lnTo>
                    <a:lnTo>
                      <a:pt x="2117" y="534"/>
                    </a:lnTo>
                    <a:lnTo>
                      <a:pt x="2118" y="534"/>
                    </a:lnTo>
                    <a:lnTo>
                      <a:pt x="2120" y="531"/>
                    </a:lnTo>
                    <a:lnTo>
                      <a:pt x="2121" y="529"/>
                    </a:lnTo>
                    <a:lnTo>
                      <a:pt x="2121" y="528"/>
                    </a:lnTo>
                    <a:lnTo>
                      <a:pt x="2122" y="527"/>
                    </a:lnTo>
                    <a:lnTo>
                      <a:pt x="2123" y="526"/>
                    </a:lnTo>
                    <a:lnTo>
                      <a:pt x="2124" y="525"/>
                    </a:lnTo>
                    <a:lnTo>
                      <a:pt x="2125" y="523"/>
                    </a:lnTo>
                    <a:lnTo>
                      <a:pt x="2125" y="521"/>
                    </a:lnTo>
                    <a:lnTo>
                      <a:pt x="2126" y="520"/>
                    </a:lnTo>
                    <a:lnTo>
                      <a:pt x="2128" y="518"/>
                    </a:lnTo>
                    <a:lnTo>
                      <a:pt x="2129" y="516"/>
                    </a:lnTo>
                    <a:lnTo>
                      <a:pt x="2130" y="515"/>
                    </a:lnTo>
                    <a:lnTo>
                      <a:pt x="2132" y="513"/>
                    </a:lnTo>
                    <a:lnTo>
                      <a:pt x="2133" y="510"/>
                    </a:lnTo>
                    <a:lnTo>
                      <a:pt x="2135" y="509"/>
                    </a:lnTo>
                    <a:lnTo>
                      <a:pt x="2135" y="510"/>
                    </a:lnTo>
                    <a:lnTo>
                      <a:pt x="2136" y="510"/>
                    </a:lnTo>
                    <a:lnTo>
                      <a:pt x="2136" y="510"/>
                    </a:lnTo>
                    <a:lnTo>
                      <a:pt x="2137" y="512"/>
                    </a:lnTo>
                    <a:lnTo>
                      <a:pt x="2137" y="513"/>
                    </a:lnTo>
                    <a:lnTo>
                      <a:pt x="2139" y="514"/>
                    </a:lnTo>
                    <a:lnTo>
                      <a:pt x="2139" y="515"/>
                    </a:lnTo>
                    <a:lnTo>
                      <a:pt x="2140" y="516"/>
                    </a:lnTo>
                    <a:lnTo>
                      <a:pt x="2141" y="518"/>
                    </a:lnTo>
                    <a:lnTo>
                      <a:pt x="2141" y="519"/>
                    </a:lnTo>
                    <a:lnTo>
                      <a:pt x="2142" y="521"/>
                    </a:lnTo>
                    <a:lnTo>
                      <a:pt x="2143" y="523"/>
                    </a:lnTo>
                    <a:lnTo>
                      <a:pt x="2144" y="523"/>
                    </a:lnTo>
                    <a:lnTo>
                      <a:pt x="2145" y="523"/>
                    </a:lnTo>
                    <a:lnTo>
                      <a:pt x="2146" y="520"/>
                    </a:lnTo>
                    <a:lnTo>
                      <a:pt x="2146" y="519"/>
                    </a:lnTo>
                    <a:lnTo>
                      <a:pt x="2147" y="516"/>
                    </a:lnTo>
                    <a:lnTo>
                      <a:pt x="2147" y="514"/>
                    </a:lnTo>
                    <a:lnTo>
                      <a:pt x="2148" y="513"/>
                    </a:lnTo>
                    <a:lnTo>
                      <a:pt x="2151" y="512"/>
                    </a:lnTo>
                    <a:lnTo>
                      <a:pt x="2153" y="510"/>
                    </a:lnTo>
                    <a:lnTo>
                      <a:pt x="2154" y="507"/>
                    </a:lnTo>
                    <a:lnTo>
                      <a:pt x="2155" y="503"/>
                    </a:lnTo>
                    <a:lnTo>
                      <a:pt x="2155" y="498"/>
                    </a:lnTo>
                    <a:lnTo>
                      <a:pt x="2154" y="495"/>
                    </a:lnTo>
                    <a:lnTo>
                      <a:pt x="2154" y="492"/>
                    </a:lnTo>
                    <a:lnTo>
                      <a:pt x="2154" y="488"/>
                    </a:lnTo>
                    <a:lnTo>
                      <a:pt x="2154" y="485"/>
                    </a:lnTo>
                    <a:lnTo>
                      <a:pt x="2154" y="482"/>
                    </a:lnTo>
                    <a:lnTo>
                      <a:pt x="2154" y="469"/>
                    </a:lnTo>
                    <a:lnTo>
                      <a:pt x="2155" y="464"/>
                    </a:lnTo>
                    <a:lnTo>
                      <a:pt x="2156" y="460"/>
                    </a:lnTo>
                    <a:lnTo>
                      <a:pt x="2156" y="455"/>
                    </a:lnTo>
                    <a:lnTo>
                      <a:pt x="2156" y="452"/>
                    </a:lnTo>
                    <a:lnTo>
                      <a:pt x="2157" y="450"/>
                    </a:lnTo>
                    <a:lnTo>
                      <a:pt x="2157" y="449"/>
                    </a:lnTo>
                    <a:lnTo>
                      <a:pt x="2158" y="448"/>
                    </a:lnTo>
                    <a:lnTo>
                      <a:pt x="2158" y="447"/>
                    </a:lnTo>
                    <a:lnTo>
                      <a:pt x="2161" y="445"/>
                    </a:lnTo>
                    <a:lnTo>
                      <a:pt x="2162" y="445"/>
                    </a:lnTo>
                    <a:lnTo>
                      <a:pt x="2163" y="445"/>
                    </a:lnTo>
                    <a:lnTo>
                      <a:pt x="2164" y="448"/>
                    </a:lnTo>
                    <a:lnTo>
                      <a:pt x="2165" y="450"/>
                    </a:lnTo>
                    <a:lnTo>
                      <a:pt x="2166" y="452"/>
                    </a:lnTo>
                    <a:lnTo>
                      <a:pt x="2167" y="455"/>
                    </a:lnTo>
                    <a:lnTo>
                      <a:pt x="2168" y="458"/>
                    </a:lnTo>
                    <a:lnTo>
                      <a:pt x="2169" y="460"/>
                    </a:lnTo>
                    <a:lnTo>
                      <a:pt x="2170" y="461"/>
                    </a:lnTo>
                    <a:lnTo>
                      <a:pt x="2172" y="462"/>
                    </a:lnTo>
                    <a:lnTo>
                      <a:pt x="2173" y="462"/>
                    </a:lnTo>
                    <a:lnTo>
                      <a:pt x="2174" y="461"/>
                    </a:lnTo>
                    <a:lnTo>
                      <a:pt x="2174" y="459"/>
                    </a:lnTo>
                    <a:lnTo>
                      <a:pt x="2174" y="455"/>
                    </a:lnTo>
                    <a:lnTo>
                      <a:pt x="2175" y="449"/>
                    </a:lnTo>
                    <a:lnTo>
                      <a:pt x="2175" y="441"/>
                    </a:lnTo>
                    <a:lnTo>
                      <a:pt x="2174" y="433"/>
                    </a:lnTo>
                    <a:lnTo>
                      <a:pt x="2174" y="431"/>
                    </a:lnTo>
                    <a:lnTo>
                      <a:pt x="2173" y="431"/>
                    </a:lnTo>
                    <a:lnTo>
                      <a:pt x="2172" y="431"/>
                    </a:lnTo>
                    <a:lnTo>
                      <a:pt x="2172" y="432"/>
                    </a:lnTo>
                    <a:lnTo>
                      <a:pt x="2170" y="433"/>
                    </a:lnTo>
                    <a:lnTo>
                      <a:pt x="2169" y="433"/>
                    </a:lnTo>
                    <a:lnTo>
                      <a:pt x="2168" y="434"/>
                    </a:lnTo>
                    <a:lnTo>
                      <a:pt x="2165" y="434"/>
                    </a:lnTo>
                    <a:lnTo>
                      <a:pt x="2163" y="434"/>
                    </a:lnTo>
                    <a:lnTo>
                      <a:pt x="2161" y="433"/>
                    </a:lnTo>
                    <a:lnTo>
                      <a:pt x="2159" y="430"/>
                    </a:lnTo>
                    <a:lnTo>
                      <a:pt x="2158" y="428"/>
                    </a:lnTo>
                    <a:lnTo>
                      <a:pt x="2158" y="425"/>
                    </a:lnTo>
                    <a:lnTo>
                      <a:pt x="2159" y="421"/>
                    </a:lnTo>
                    <a:lnTo>
                      <a:pt x="2161" y="418"/>
                    </a:lnTo>
                    <a:lnTo>
                      <a:pt x="2161" y="416"/>
                    </a:lnTo>
                    <a:lnTo>
                      <a:pt x="2161" y="414"/>
                    </a:lnTo>
                    <a:lnTo>
                      <a:pt x="2161" y="410"/>
                    </a:lnTo>
                    <a:lnTo>
                      <a:pt x="2161" y="407"/>
                    </a:lnTo>
                    <a:lnTo>
                      <a:pt x="2162" y="405"/>
                    </a:lnTo>
                    <a:lnTo>
                      <a:pt x="2162" y="405"/>
                    </a:lnTo>
                    <a:lnTo>
                      <a:pt x="2163" y="405"/>
                    </a:lnTo>
                    <a:lnTo>
                      <a:pt x="2164" y="406"/>
                    </a:lnTo>
                    <a:lnTo>
                      <a:pt x="2165" y="407"/>
                    </a:lnTo>
                    <a:lnTo>
                      <a:pt x="2167" y="406"/>
                    </a:lnTo>
                    <a:lnTo>
                      <a:pt x="2169" y="405"/>
                    </a:lnTo>
                    <a:lnTo>
                      <a:pt x="2169" y="403"/>
                    </a:lnTo>
                    <a:lnTo>
                      <a:pt x="2170" y="400"/>
                    </a:lnTo>
                    <a:lnTo>
                      <a:pt x="2172" y="399"/>
                    </a:lnTo>
                    <a:lnTo>
                      <a:pt x="2173" y="398"/>
                    </a:lnTo>
                    <a:lnTo>
                      <a:pt x="2174" y="398"/>
                    </a:lnTo>
                    <a:lnTo>
                      <a:pt x="2176" y="398"/>
                    </a:lnTo>
                    <a:lnTo>
                      <a:pt x="2178" y="397"/>
                    </a:lnTo>
                    <a:lnTo>
                      <a:pt x="2180" y="396"/>
                    </a:lnTo>
                    <a:lnTo>
                      <a:pt x="2183" y="396"/>
                    </a:lnTo>
                    <a:lnTo>
                      <a:pt x="2185" y="397"/>
                    </a:lnTo>
                    <a:lnTo>
                      <a:pt x="2186" y="399"/>
                    </a:lnTo>
                    <a:lnTo>
                      <a:pt x="2187" y="400"/>
                    </a:lnTo>
                    <a:lnTo>
                      <a:pt x="2187" y="400"/>
                    </a:lnTo>
                    <a:lnTo>
                      <a:pt x="2189" y="401"/>
                    </a:lnTo>
                    <a:lnTo>
                      <a:pt x="2190" y="400"/>
                    </a:lnTo>
                    <a:lnTo>
                      <a:pt x="2191" y="399"/>
                    </a:lnTo>
                    <a:lnTo>
                      <a:pt x="2191" y="398"/>
                    </a:lnTo>
                    <a:lnTo>
                      <a:pt x="2193" y="397"/>
                    </a:lnTo>
                    <a:lnTo>
                      <a:pt x="2194" y="396"/>
                    </a:lnTo>
                    <a:lnTo>
                      <a:pt x="2195" y="395"/>
                    </a:lnTo>
                    <a:lnTo>
                      <a:pt x="2196" y="394"/>
                    </a:lnTo>
                    <a:lnTo>
                      <a:pt x="2198" y="392"/>
                    </a:lnTo>
                    <a:lnTo>
                      <a:pt x="2199" y="392"/>
                    </a:lnTo>
                    <a:lnTo>
                      <a:pt x="2200" y="393"/>
                    </a:lnTo>
                    <a:lnTo>
                      <a:pt x="2201" y="394"/>
                    </a:lnTo>
                    <a:lnTo>
                      <a:pt x="2202" y="394"/>
                    </a:lnTo>
                    <a:lnTo>
                      <a:pt x="2204" y="394"/>
                    </a:lnTo>
                    <a:lnTo>
                      <a:pt x="2204" y="394"/>
                    </a:lnTo>
                    <a:lnTo>
                      <a:pt x="2205" y="393"/>
                    </a:lnTo>
                    <a:lnTo>
                      <a:pt x="2205" y="392"/>
                    </a:lnTo>
                    <a:lnTo>
                      <a:pt x="2205" y="389"/>
                    </a:lnTo>
                    <a:lnTo>
                      <a:pt x="2205" y="388"/>
                    </a:lnTo>
                    <a:lnTo>
                      <a:pt x="2204" y="387"/>
                    </a:lnTo>
                    <a:lnTo>
                      <a:pt x="2204" y="387"/>
                    </a:lnTo>
                    <a:lnTo>
                      <a:pt x="2202" y="387"/>
                    </a:lnTo>
                    <a:lnTo>
                      <a:pt x="2201" y="387"/>
                    </a:lnTo>
                    <a:lnTo>
                      <a:pt x="2201" y="386"/>
                    </a:lnTo>
                    <a:lnTo>
                      <a:pt x="2200" y="384"/>
                    </a:lnTo>
                    <a:lnTo>
                      <a:pt x="2199" y="383"/>
                    </a:lnTo>
                    <a:lnTo>
                      <a:pt x="2198" y="383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6" y="383"/>
                    </a:lnTo>
                    <a:lnTo>
                      <a:pt x="2196" y="385"/>
                    </a:lnTo>
                    <a:lnTo>
                      <a:pt x="2194" y="386"/>
                    </a:lnTo>
                    <a:lnTo>
                      <a:pt x="2193" y="387"/>
                    </a:lnTo>
                    <a:lnTo>
                      <a:pt x="2191" y="387"/>
                    </a:lnTo>
                    <a:lnTo>
                      <a:pt x="2190" y="387"/>
                    </a:lnTo>
                    <a:lnTo>
                      <a:pt x="2187" y="387"/>
                    </a:lnTo>
                    <a:lnTo>
                      <a:pt x="2185" y="386"/>
                    </a:lnTo>
                    <a:lnTo>
                      <a:pt x="2183" y="385"/>
                    </a:lnTo>
                    <a:lnTo>
                      <a:pt x="2180" y="386"/>
                    </a:lnTo>
                    <a:lnTo>
                      <a:pt x="2178" y="386"/>
                    </a:lnTo>
                    <a:lnTo>
                      <a:pt x="2176" y="387"/>
                    </a:lnTo>
                    <a:lnTo>
                      <a:pt x="2175" y="386"/>
                    </a:lnTo>
                    <a:lnTo>
                      <a:pt x="2175" y="384"/>
                    </a:lnTo>
                    <a:lnTo>
                      <a:pt x="2174" y="383"/>
                    </a:lnTo>
                    <a:lnTo>
                      <a:pt x="2173" y="382"/>
                    </a:lnTo>
                    <a:lnTo>
                      <a:pt x="2172" y="383"/>
                    </a:lnTo>
                    <a:lnTo>
                      <a:pt x="2170" y="383"/>
                    </a:lnTo>
                    <a:lnTo>
                      <a:pt x="2170" y="385"/>
                    </a:lnTo>
                    <a:lnTo>
                      <a:pt x="2169" y="386"/>
                    </a:lnTo>
                    <a:lnTo>
                      <a:pt x="2168" y="388"/>
                    </a:lnTo>
                    <a:lnTo>
                      <a:pt x="2167" y="389"/>
                    </a:lnTo>
                    <a:lnTo>
                      <a:pt x="2165" y="390"/>
                    </a:lnTo>
                    <a:lnTo>
                      <a:pt x="2163" y="392"/>
                    </a:lnTo>
                    <a:lnTo>
                      <a:pt x="2161" y="392"/>
                    </a:lnTo>
                    <a:lnTo>
                      <a:pt x="2161" y="394"/>
                    </a:lnTo>
                    <a:lnTo>
                      <a:pt x="2158" y="395"/>
                    </a:lnTo>
                    <a:lnTo>
                      <a:pt x="2156" y="396"/>
                    </a:lnTo>
                    <a:lnTo>
                      <a:pt x="2156" y="392"/>
                    </a:lnTo>
                    <a:lnTo>
                      <a:pt x="2157" y="392"/>
                    </a:lnTo>
                    <a:lnTo>
                      <a:pt x="2157" y="392"/>
                    </a:lnTo>
                    <a:lnTo>
                      <a:pt x="2158" y="390"/>
                    </a:lnTo>
                    <a:lnTo>
                      <a:pt x="2158" y="389"/>
                    </a:lnTo>
                    <a:lnTo>
                      <a:pt x="2161" y="389"/>
                    </a:lnTo>
                    <a:lnTo>
                      <a:pt x="2161" y="387"/>
                    </a:lnTo>
                    <a:lnTo>
                      <a:pt x="2161" y="386"/>
                    </a:lnTo>
                    <a:lnTo>
                      <a:pt x="2158" y="383"/>
                    </a:lnTo>
                    <a:lnTo>
                      <a:pt x="2158" y="379"/>
                    </a:lnTo>
                    <a:lnTo>
                      <a:pt x="2157" y="376"/>
                    </a:lnTo>
                    <a:lnTo>
                      <a:pt x="2155" y="374"/>
                    </a:lnTo>
                    <a:lnTo>
                      <a:pt x="2154" y="372"/>
                    </a:lnTo>
                    <a:lnTo>
                      <a:pt x="2152" y="370"/>
                    </a:lnTo>
                    <a:lnTo>
                      <a:pt x="2152" y="368"/>
                    </a:lnTo>
                    <a:lnTo>
                      <a:pt x="2152" y="367"/>
                    </a:lnTo>
                    <a:lnTo>
                      <a:pt x="2151" y="365"/>
                    </a:lnTo>
                    <a:lnTo>
                      <a:pt x="2150" y="364"/>
                    </a:lnTo>
                    <a:lnTo>
                      <a:pt x="2148" y="363"/>
                    </a:lnTo>
                    <a:lnTo>
                      <a:pt x="2147" y="361"/>
                    </a:lnTo>
                    <a:lnTo>
                      <a:pt x="2147" y="359"/>
                    </a:lnTo>
                    <a:lnTo>
                      <a:pt x="2146" y="355"/>
                    </a:lnTo>
                    <a:lnTo>
                      <a:pt x="2146" y="352"/>
                    </a:lnTo>
                    <a:lnTo>
                      <a:pt x="2146" y="350"/>
                    </a:lnTo>
                    <a:lnTo>
                      <a:pt x="2146" y="347"/>
                    </a:lnTo>
                    <a:lnTo>
                      <a:pt x="2147" y="345"/>
                    </a:lnTo>
                    <a:lnTo>
                      <a:pt x="2147" y="342"/>
                    </a:lnTo>
                    <a:lnTo>
                      <a:pt x="2148" y="339"/>
                    </a:lnTo>
                    <a:lnTo>
                      <a:pt x="2147" y="329"/>
                    </a:lnTo>
                    <a:lnTo>
                      <a:pt x="2146" y="319"/>
                    </a:lnTo>
                    <a:lnTo>
                      <a:pt x="2146" y="299"/>
                    </a:lnTo>
                    <a:lnTo>
                      <a:pt x="2152" y="292"/>
                    </a:lnTo>
                    <a:lnTo>
                      <a:pt x="2153" y="291"/>
                    </a:lnTo>
                    <a:lnTo>
                      <a:pt x="2154" y="288"/>
                    </a:lnTo>
                    <a:lnTo>
                      <a:pt x="2155" y="286"/>
                    </a:lnTo>
                    <a:lnTo>
                      <a:pt x="2155" y="283"/>
                    </a:lnTo>
                    <a:lnTo>
                      <a:pt x="2156" y="279"/>
                    </a:lnTo>
                    <a:lnTo>
                      <a:pt x="2157" y="275"/>
                    </a:lnTo>
                    <a:lnTo>
                      <a:pt x="2158" y="272"/>
                    </a:lnTo>
                    <a:lnTo>
                      <a:pt x="2158" y="267"/>
                    </a:lnTo>
                    <a:lnTo>
                      <a:pt x="2161" y="263"/>
                    </a:lnTo>
                    <a:lnTo>
                      <a:pt x="2161" y="259"/>
                    </a:lnTo>
                    <a:lnTo>
                      <a:pt x="2161" y="256"/>
                    </a:lnTo>
                    <a:lnTo>
                      <a:pt x="2161" y="254"/>
                    </a:lnTo>
                    <a:lnTo>
                      <a:pt x="2163" y="252"/>
                    </a:lnTo>
                    <a:lnTo>
                      <a:pt x="2165" y="250"/>
                    </a:lnTo>
                    <a:lnTo>
                      <a:pt x="2165" y="247"/>
                    </a:lnTo>
                    <a:lnTo>
                      <a:pt x="2166" y="239"/>
                    </a:lnTo>
                    <a:lnTo>
                      <a:pt x="2163" y="230"/>
                    </a:lnTo>
                    <a:lnTo>
                      <a:pt x="2158" y="223"/>
                    </a:lnTo>
                    <a:lnTo>
                      <a:pt x="2156" y="221"/>
                    </a:lnTo>
                    <a:lnTo>
                      <a:pt x="2154" y="219"/>
                    </a:lnTo>
                    <a:lnTo>
                      <a:pt x="2152" y="219"/>
                    </a:lnTo>
                    <a:lnTo>
                      <a:pt x="2151" y="218"/>
                    </a:lnTo>
                    <a:lnTo>
                      <a:pt x="2150" y="218"/>
                    </a:lnTo>
                    <a:lnTo>
                      <a:pt x="2147" y="218"/>
                    </a:lnTo>
                    <a:lnTo>
                      <a:pt x="2146" y="219"/>
                    </a:lnTo>
                    <a:lnTo>
                      <a:pt x="2144" y="218"/>
                    </a:lnTo>
                    <a:lnTo>
                      <a:pt x="2143" y="218"/>
                    </a:lnTo>
                    <a:lnTo>
                      <a:pt x="2143" y="219"/>
                    </a:lnTo>
                    <a:lnTo>
                      <a:pt x="2143" y="220"/>
                    </a:lnTo>
                    <a:lnTo>
                      <a:pt x="2143" y="221"/>
                    </a:lnTo>
                    <a:lnTo>
                      <a:pt x="2143" y="223"/>
                    </a:lnTo>
                    <a:lnTo>
                      <a:pt x="2144" y="225"/>
                    </a:lnTo>
                    <a:lnTo>
                      <a:pt x="2143" y="225"/>
                    </a:lnTo>
                    <a:lnTo>
                      <a:pt x="2143" y="226"/>
                    </a:lnTo>
                    <a:lnTo>
                      <a:pt x="2142" y="226"/>
                    </a:lnTo>
                    <a:lnTo>
                      <a:pt x="2141" y="226"/>
                    </a:lnTo>
                    <a:lnTo>
                      <a:pt x="2140" y="227"/>
                    </a:lnTo>
                    <a:lnTo>
                      <a:pt x="2140" y="230"/>
                    </a:lnTo>
                    <a:lnTo>
                      <a:pt x="2139" y="239"/>
                    </a:lnTo>
                    <a:lnTo>
                      <a:pt x="2141" y="247"/>
                    </a:lnTo>
                    <a:lnTo>
                      <a:pt x="2142" y="258"/>
                    </a:lnTo>
                    <a:lnTo>
                      <a:pt x="2142" y="262"/>
                    </a:lnTo>
                    <a:lnTo>
                      <a:pt x="2142" y="265"/>
                    </a:lnTo>
                    <a:lnTo>
                      <a:pt x="2141" y="268"/>
                    </a:lnTo>
                    <a:lnTo>
                      <a:pt x="2140" y="270"/>
                    </a:lnTo>
                    <a:lnTo>
                      <a:pt x="2139" y="273"/>
                    </a:lnTo>
                    <a:lnTo>
                      <a:pt x="2137" y="275"/>
                    </a:lnTo>
                    <a:lnTo>
                      <a:pt x="2136" y="279"/>
                    </a:lnTo>
                    <a:lnTo>
                      <a:pt x="2135" y="284"/>
                    </a:lnTo>
                    <a:lnTo>
                      <a:pt x="2133" y="286"/>
                    </a:lnTo>
                    <a:lnTo>
                      <a:pt x="2131" y="289"/>
                    </a:lnTo>
                    <a:lnTo>
                      <a:pt x="2129" y="292"/>
                    </a:lnTo>
                    <a:lnTo>
                      <a:pt x="2126" y="295"/>
                    </a:lnTo>
                    <a:lnTo>
                      <a:pt x="2123" y="301"/>
                    </a:lnTo>
                    <a:lnTo>
                      <a:pt x="2121" y="308"/>
                    </a:lnTo>
                    <a:lnTo>
                      <a:pt x="2122" y="317"/>
                    </a:lnTo>
                    <a:lnTo>
                      <a:pt x="2122" y="321"/>
                    </a:lnTo>
                    <a:lnTo>
                      <a:pt x="2122" y="324"/>
                    </a:lnTo>
                    <a:lnTo>
                      <a:pt x="2123" y="328"/>
                    </a:lnTo>
                    <a:lnTo>
                      <a:pt x="2122" y="331"/>
                    </a:lnTo>
                    <a:lnTo>
                      <a:pt x="2122" y="334"/>
                    </a:lnTo>
                    <a:lnTo>
                      <a:pt x="2121" y="336"/>
                    </a:lnTo>
                    <a:lnTo>
                      <a:pt x="2121" y="339"/>
                    </a:lnTo>
                    <a:lnTo>
                      <a:pt x="2121" y="342"/>
                    </a:lnTo>
                    <a:lnTo>
                      <a:pt x="2122" y="345"/>
                    </a:lnTo>
                    <a:lnTo>
                      <a:pt x="2122" y="350"/>
                    </a:lnTo>
                    <a:lnTo>
                      <a:pt x="2122" y="354"/>
                    </a:lnTo>
                    <a:lnTo>
                      <a:pt x="2124" y="359"/>
                    </a:lnTo>
                    <a:lnTo>
                      <a:pt x="2124" y="361"/>
                    </a:lnTo>
                    <a:lnTo>
                      <a:pt x="2124" y="362"/>
                    </a:lnTo>
                    <a:lnTo>
                      <a:pt x="2125" y="364"/>
                    </a:lnTo>
                    <a:lnTo>
                      <a:pt x="2126" y="365"/>
                    </a:lnTo>
                    <a:lnTo>
                      <a:pt x="2129" y="367"/>
                    </a:lnTo>
                    <a:lnTo>
                      <a:pt x="2129" y="370"/>
                    </a:lnTo>
                    <a:lnTo>
                      <a:pt x="2129" y="372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5"/>
                    </a:lnTo>
                    <a:lnTo>
                      <a:pt x="2133" y="376"/>
                    </a:lnTo>
                    <a:lnTo>
                      <a:pt x="2134" y="378"/>
                    </a:lnTo>
                    <a:lnTo>
                      <a:pt x="2134" y="381"/>
                    </a:lnTo>
                    <a:lnTo>
                      <a:pt x="2134" y="384"/>
                    </a:lnTo>
                    <a:lnTo>
                      <a:pt x="2135" y="386"/>
                    </a:lnTo>
                    <a:lnTo>
                      <a:pt x="2135" y="389"/>
                    </a:lnTo>
                    <a:lnTo>
                      <a:pt x="2135" y="395"/>
                    </a:lnTo>
                    <a:lnTo>
                      <a:pt x="2134" y="401"/>
                    </a:lnTo>
                    <a:lnTo>
                      <a:pt x="2133" y="408"/>
                    </a:lnTo>
                    <a:lnTo>
                      <a:pt x="2131" y="411"/>
                    </a:lnTo>
                    <a:lnTo>
                      <a:pt x="2128" y="416"/>
                    </a:lnTo>
                    <a:lnTo>
                      <a:pt x="2124" y="422"/>
                    </a:lnTo>
                    <a:lnTo>
                      <a:pt x="2124" y="431"/>
                    </a:lnTo>
                    <a:lnTo>
                      <a:pt x="2124" y="433"/>
                    </a:lnTo>
                    <a:lnTo>
                      <a:pt x="2125" y="437"/>
                    </a:lnTo>
                    <a:lnTo>
                      <a:pt x="2124" y="440"/>
                    </a:lnTo>
                    <a:lnTo>
                      <a:pt x="2124" y="443"/>
                    </a:lnTo>
                    <a:lnTo>
                      <a:pt x="2124" y="447"/>
                    </a:lnTo>
                    <a:lnTo>
                      <a:pt x="2124" y="449"/>
                    </a:lnTo>
                    <a:lnTo>
                      <a:pt x="2125" y="451"/>
                    </a:lnTo>
                    <a:lnTo>
                      <a:pt x="2125" y="453"/>
                    </a:lnTo>
                    <a:lnTo>
                      <a:pt x="2126" y="455"/>
                    </a:lnTo>
                    <a:lnTo>
                      <a:pt x="2126" y="459"/>
                    </a:lnTo>
                    <a:lnTo>
                      <a:pt x="2126" y="462"/>
                    </a:lnTo>
                    <a:lnTo>
                      <a:pt x="2126" y="465"/>
                    </a:lnTo>
                    <a:lnTo>
                      <a:pt x="2126" y="469"/>
                    </a:lnTo>
                    <a:lnTo>
                      <a:pt x="2124" y="473"/>
                    </a:lnTo>
                    <a:lnTo>
                      <a:pt x="2123" y="477"/>
                    </a:lnTo>
                    <a:lnTo>
                      <a:pt x="2122" y="482"/>
                    </a:lnTo>
                    <a:lnTo>
                      <a:pt x="2121" y="484"/>
                    </a:lnTo>
                    <a:lnTo>
                      <a:pt x="2120" y="485"/>
                    </a:lnTo>
                    <a:lnTo>
                      <a:pt x="2119" y="485"/>
                    </a:lnTo>
                    <a:lnTo>
                      <a:pt x="2118" y="484"/>
                    </a:lnTo>
                    <a:lnTo>
                      <a:pt x="2117" y="483"/>
                    </a:lnTo>
                    <a:lnTo>
                      <a:pt x="2114" y="483"/>
                    </a:lnTo>
                    <a:lnTo>
                      <a:pt x="2113" y="483"/>
                    </a:lnTo>
                    <a:lnTo>
                      <a:pt x="2113" y="484"/>
                    </a:lnTo>
                    <a:lnTo>
                      <a:pt x="2111" y="487"/>
                    </a:lnTo>
                    <a:lnTo>
                      <a:pt x="2111" y="490"/>
                    </a:lnTo>
                    <a:lnTo>
                      <a:pt x="2110" y="493"/>
                    </a:lnTo>
                    <a:lnTo>
                      <a:pt x="2109" y="495"/>
                    </a:lnTo>
                    <a:lnTo>
                      <a:pt x="2107" y="495"/>
                    </a:lnTo>
                    <a:lnTo>
                      <a:pt x="2106" y="496"/>
                    </a:lnTo>
                    <a:lnTo>
                      <a:pt x="2103" y="496"/>
                    </a:lnTo>
                    <a:lnTo>
                      <a:pt x="2102" y="497"/>
                    </a:lnTo>
                    <a:lnTo>
                      <a:pt x="2101" y="499"/>
                    </a:lnTo>
                    <a:lnTo>
                      <a:pt x="2100" y="504"/>
                    </a:lnTo>
                    <a:lnTo>
                      <a:pt x="2099" y="507"/>
                    </a:lnTo>
                    <a:lnTo>
                      <a:pt x="2098" y="512"/>
                    </a:lnTo>
                    <a:lnTo>
                      <a:pt x="2096" y="514"/>
                    </a:lnTo>
                    <a:lnTo>
                      <a:pt x="2095" y="514"/>
                    </a:lnTo>
                    <a:lnTo>
                      <a:pt x="2092" y="514"/>
                    </a:lnTo>
                    <a:lnTo>
                      <a:pt x="2091" y="514"/>
                    </a:lnTo>
                    <a:lnTo>
                      <a:pt x="2089" y="514"/>
                    </a:lnTo>
                    <a:lnTo>
                      <a:pt x="2088" y="513"/>
                    </a:lnTo>
                    <a:lnTo>
                      <a:pt x="2087" y="512"/>
                    </a:lnTo>
                    <a:lnTo>
                      <a:pt x="2086" y="510"/>
                    </a:lnTo>
                    <a:lnTo>
                      <a:pt x="2086" y="508"/>
                    </a:lnTo>
                    <a:lnTo>
                      <a:pt x="2087" y="506"/>
                    </a:lnTo>
                    <a:lnTo>
                      <a:pt x="2087" y="504"/>
                    </a:lnTo>
                    <a:lnTo>
                      <a:pt x="2088" y="502"/>
                    </a:lnTo>
                    <a:lnTo>
                      <a:pt x="2088" y="499"/>
                    </a:lnTo>
                    <a:lnTo>
                      <a:pt x="2089" y="497"/>
                    </a:lnTo>
                    <a:lnTo>
                      <a:pt x="2089" y="486"/>
                    </a:lnTo>
                    <a:lnTo>
                      <a:pt x="2089" y="484"/>
                    </a:lnTo>
                    <a:lnTo>
                      <a:pt x="2089" y="483"/>
                    </a:lnTo>
                    <a:lnTo>
                      <a:pt x="2090" y="482"/>
                    </a:lnTo>
                    <a:lnTo>
                      <a:pt x="2090" y="482"/>
                    </a:lnTo>
                    <a:lnTo>
                      <a:pt x="2091" y="482"/>
                    </a:lnTo>
                    <a:lnTo>
                      <a:pt x="2092" y="482"/>
                    </a:lnTo>
                    <a:lnTo>
                      <a:pt x="2093" y="482"/>
                    </a:lnTo>
                    <a:lnTo>
                      <a:pt x="2095" y="481"/>
                    </a:lnTo>
                    <a:lnTo>
                      <a:pt x="2096" y="479"/>
                    </a:lnTo>
                    <a:lnTo>
                      <a:pt x="2097" y="476"/>
                    </a:lnTo>
                    <a:lnTo>
                      <a:pt x="2098" y="475"/>
                    </a:lnTo>
                    <a:lnTo>
                      <a:pt x="2098" y="470"/>
                    </a:lnTo>
                    <a:lnTo>
                      <a:pt x="2097" y="463"/>
                    </a:lnTo>
                    <a:lnTo>
                      <a:pt x="2096" y="455"/>
                    </a:lnTo>
                    <a:lnTo>
                      <a:pt x="2093" y="451"/>
                    </a:lnTo>
                    <a:lnTo>
                      <a:pt x="2092" y="449"/>
                    </a:lnTo>
                    <a:lnTo>
                      <a:pt x="2092" y="447"/>
                    </a:lnTo>
                    <a:lnTo>
                      <a:pt x="2090" y="443"/>
                    </a:lnTo>
                    <a:lnTo>
                      <a:pt x="2089" y="440"/>
                    </a:lnTo>
                    <a:lnTo>
                      <a:pt x="2089" y="436"/>
                    </a:lnTo>
                    <a:lnTo>
                      <a:pt x="2091" y="431"/>
                    </a:lnTo>
                    <a:lnTo>
                      <a:pt x="2093" y="429"/>
                    </a:lnTo>
                    <a:lnTo>
                      <a:pt x="2095" y="426"/>
                    </a:lnTo>
                    <a:lnTo>
                      <a:pt x="2097" y="422"/>
                    </a:lnTo>
                    <a:lnTo>
                      <a:pt x="2099" y="420"/>
                    </a:lnTo>
                    <a:lnTo>
                      <a:pt x="2100" y="417"/>
                    </a:lnTo>
                    <a:lnTo>
                      <a:pt x="2102" y="414"/>
                    </a:lnTo>
                    <a:lnTo>
                      <a:pt x="2102" y="411"/>
                    </a:lnTo>
                    <a:lnTo>
                      <a:pt x="2101" y="409"/>
                    </a:lnTo>
                    <a:lnTo>
                      <a:pt x="2100" y="407"/>
                    </a:lnTo>
                    <a:lnTo>
                      <a:pt x="2099" y="407"/>
                    </a:lnTo>
                    <a:lnTo>
                      <a:pt x="2098" y="408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6" y="416"/>
                    </a:lnTo>
                    <a:lnTo>
                      <a:pt x="2095" y="419"/>
                    </a:lnTo>
                    <a:lnTo>
                      <a:pt x="2092" y="421"/>
                    </a:lnTo>
                    <a:lnTo>
                      <a:pt x="2091" y="425"/>
                    </a:lnTo>
                    <a:lnTo>
                      <a:pt x="2090" y="426"/>
                    </a:lnTo>
                    <a:lnTo>
                      <a:pt x="2089" y="426"/>
                    </a:lnTo>
                    <a:lnTo>
                      <a:pt x="2088" y="426"/>
                    </a:lnTo>
                    <a:lnTo>
                      <a:pt x="2087" y="425"/>
                    </a:lnTo>
                    <a:lnTo>
                      <a:pt x="2087" y="422"/>
                    </a:lnTo>
                    <a:lnTo>
                      <a:pt x="2087" y="420"/>
                    </a:lnTo>
                    <a:lnTo>
                      <a:pt x="2086" y="418"/>
                    </a:lnTo>
                    <a:lnTo>
                      <a:pt x="2085" y="415"/>
                    </a:lnTo>
                    <a:lnTo>
                      <a:pt x="2085" y="411"/>
                    </a:lnTo>
                    <a:lnTo>
                      <a:pt x="2085" y="405"/>
                    </a:lnTo>
                    <a:lnTo>
                      <a:pt x="2085" y="397"/>
                    </a:lnTo>
                    <a:lnTo>
                      <a:pt x="2084" y="390"/>
                    </a:lnTo>
                    <a:lnTo>
                      <a:pt x="2080" y="387"/>
                    </a:lnTo>
                    <a:lnTo>
                      <a:pt x="2079" y="387"/>
                    </a:lnTo>
                    <a:lnTo>
                      <a:pt x="2079" y="387"/>
                    </a:lnTo>
                    <a:lnTo>
                      <a:pt x="2079" y="389"/>
                    </a:lnTo>
                    <a:lnTo>
                      <a:pt x="2079" y="392"/>
                    </a:lnTo>
                    <a:lnTo>
                      <a:pt x="2080" y="394"/>
                    </a:lnTo>
                    <a:lnTo>
                      <a:pt x="2080" y="396"/>
                    </a:lnTo>
                    <a:lnTo>
                      <a:pt x="2080" y="398"/>
                    </a:lnTo>
                    <a:lnTo>
                      <a:pt x="2080" y="400"/>
                    </a:lnTo>
                    <a:lnTo>
                      <a:pt x="2079" y="401"/>
                    </a:lnTo>
                    <a:lnTo>
                      <a:pt x="2078" y="403"/>
                    </a:lnTo>
                    <a:lnTo>
                      <a:pt x="2077" y="404"/>
                    </a:lnTo>
                    <a:lnTo>
                      <a:pt x="2076" y="406"/>
                    </a:lnTo>
                    <a:lnTo>
                      <a:pt x="2075" y="408"/>
                    </a:lnTo>
                    <a:lnTo>
                      <a:pt x="2074" y="411"/>
                    </a:lnTo>
                    <a:lnTo>
                      <a:pt x="2073" y="416"/>
                    </a:lnTo>
                    <a:lnTo>
                      <a:pt x="2071" y="419"/>
                    </a:lnTo>
                    <a:lnTo>
                      <a:pt x="2069" y="422"/>
                    </a:lnTo>
                    <a:lnTo>
                      <a:pt x="2068" y="422"/>
                    </a:lnTo>
                    <a:lnTo>
                      <a:pt x="2067" y="422"/>
                    </a:lnTo>
                    <a:lnTo>
                      <a:pt x="2066" y="423"/>
                    </a:lnTo>
                    <a:lnTo>
                      <a:pt x="2065" y="425"/>
                    </a:lnTo>
                    <a:lnTo>
                      <a:pt x="2063" y="427"/>
                    </a:lnTo>
                    <a:lnTo>
                      <a:pt x="2060" y="428"/>
                    </a:lnTo>
                    <a:lnTo>
                      <a:pt x="2059" y="428"/>
                    </a:lnTo>
                    <a:lnTo>
                      <a:pt x="2057" y="428"/>
                    </a:lnTo>
                    <a:lnTo>
                      <a:pt x="2054" y="427"/>
                    </a:lnTo>
                    <a:lnTo>
                      <a:pt x="2052" y="425"/>
                    </a:lnTo>
                    <a:lnTo>
                      <a:pt x="2049" y="422"/>
                    </a:lnTo>
                    <a:lnTo>
                      <a:pt x="2047" y="422"/>
                    </a:lnTo>
                    <a:lnTo>
                      <a:pt x="2047" y="422"/>
                    </a:lnTo>
                    <a:lnTo>
                      <a:pt x="2046" y="421"/>
                    </a:lnTo>
                    <a:lnTo>
                      <a:pt x="2044" y="419"/>
                    </a:lnTo>
                    <a:lnTo>
                      <a:pt x="2043" y="418"/>
                    </a:lnTo>
                    <a:lnTo>
                      <a:pt x="2044" y="406"/>
                    </a:lnTo>
                    <a:lnTo>
                      <a:pt x="2045" y="396"/>
                    </a:lnTo>
                    <a:lnTo>
                      <a:pt x="2045" y="394"/>
                    </a:lnTo>
                    <a:lnTo>
                      <a:pt x="2044" y="392"/>
                    </a:lnTo>
                    <a:lnTo>
                      <a:pt x="2043" y="389"/>
                    </a:lnTo>
                    <a:lnTo>
                      <a:pt x="2042" y="387"/>
                    </a:lnTo>
                    <a:lnTo>
                      <a:pt x="2041" y="385"/>
                    </a:lnTo>
                    <a:lnTo>
                      <a:pt x="2041" y="382"/>
                    </a:lnTo>
                    <a:lnTo>
                      <a:pt x="2041" y="378"/>
                    </a:lnTo>
                    <a:lnTo>
                      <a:pt x="2041" y="375"/>
                    </a:lnTo>
                    <a:lnTo>
                      <a:pt x="2041" y="372"/>
                    </a:lnTo>
                    <a:lnTo>
                      <a:pt x="2039" y="368"/>
                    </a:lnTo>
                    <a:lnTo>
                      <a:pt x="2039" y="365"/>
                    </a:lnTo>
                    <a:lnTo>
                      <a:pt x="2038" y="363"/>
                    </a:lnTo>
                    <a:lnTo>
                      <a:pt x="2036" y="362"/>
                    </a:lnTo>
                    <a:lnTo>
                      <a:pt x="2035" y="362"/>
                    </a:lnTo>
                    <a:lnTo>
                      <a:pt x="2033" y="363"/>
                    </a:lnTo>
                    <a:lnTo>
                      <a:pt x="2032" y="363"/>
                    </a:lnTo>
                    <a:lnTo>
                      <a:pt x="2031" y="362"/>
                    </a:lnTo>
                    <a:lnTo>
                      <a:pt x="2028" y="361"/>
                    </a:lnTo>
                    <a:lnTo>
                      <a:pt x="2026" y="360"/>
                    </a:lnTo>
                    <a:lnTo>
                      <a:pt x="2025" y="357"/>
                    </a:lnTo>
                    <a:lnTo>
                      <a:pt x="2023" y="355"/>
                    </a:lnTo>
                    <a:lnTo>
                      <a:pt x="2023" y="352"/>
                    </a:lnTo>
                    <a:lnTo>
                      <a:pt x="2025" y="353"/>
                    </a:lnTo>
                    <a:lnTo>
                      <a:pt x="2027" y="354"/>
                    </a:lnTo>
                    <a:lnTo>
                      <a:pt x="2030" y="355"/>
                    </a:lnTo>
                    <a:lnTo>
                      <a:pt x="2032" y="355"/>
                    </a:lnTo>
                    <a:lnTo>
                      <a:pt x="2034" y="355"/>
                    </a:lnTo>
                    <a:lnTo>
                      <a:pt x="2036" y="354"/>
                    </a:lnTo>
                    <a:lnTo>
                      <a:pt x="2036" y="353"/>
                    </a:lnTo>
                    <a:lnTo>
                      <a:pt x="2036" y="351"/>
                    </a:lnTo>
                    <a:lnTo>
                      <a:pt x="2036" y="347"/>
                    </a:lnTo>
                    <a:lnTo>
                      <a:pt x="2035" y="345"/>
                    </a:lnTo>
                    <a:lnTo>
                      <a:pt x="2035" y="342"/>
                    </a:lnTo>
                    <a:lnTo>
                      <a:pt x="2034" y="339"/>
                    </a:lnTo>
                    <a:lnTo>
                      <a:pt x="2034" y="336"/>
                    </a:lnTo>
                    <a:lnTo>
                      <a:pt x="2034" y="308"/>
                    </a:lnTo>
                    <a:lnTo>
                      <a:pt x="2034" y="307"/>
                    </a:lnTo>
                    <a:lnTo>
                      <a:pt x="2034" y="306"/>
                    </a:lnTo>
                    <a:lnTo>
                      <a:pt x="2034" y="306"/>
                    </a:lnTo>
                    <a:lnTo>
                      <a:pt x="2035" y="306"/>
                    </a:lnTo>
                    <a:lnTo>
                      <a:pt x="2036" y="306"/>
                    </a:lnTo>
                    <a:lnTo>
                      <a:pt x="2037" y="306"/>
                    </a:lnTo>
                    <a:lnTo>
                      <a:pt x="2038" y="305"/>
                    </a:lnTo>
                    <a:lnTo>
                      <a:pt x="2038" y="302"/>
                    </a:lnTo>
                    <a:lnTo>
                      <a:pt x="2039" y="301"/>
                    </a:lnTo>
                    <a:lnTo>
                      <a:pt x="2041" y="299"/>
                    </a:lnTo>
                    <a:lnTo>
                      <a:pt x="2042" y="295"/>
                    </a:lnTo>
                    <a:lnTo>
                      <a:pt x="2044" y="290"/>
                    </a:lnTo>
                    <a:lnTo>
                      <a:pt x="2046" y="286"/>
                    </a:lnTo>
                    <a:lnTo>
                      <a:pt x="2049" y="281"/>
                    </a:lnTo>
                    <a:lnTo>
                      <a:pt x="2052" y="281"/>
                    </a:lnTo>
                    <a:lnTo>
                      <a:pt x="2054" y="281"/>
                    </a:lnTo>
                    <a:lnTo>
                      <a:pt x="2056" y="279"/>
                    </a:lnTo>
                    <a:lnTo>
                      <a:pt x="2056" y="279"/>
                    </a:lnTo>
                    <a:lnTo>
                      <a:pt x="2056" y="277"/>
                    </a:lnTo>
                    <a:lnTo>
                      <a:pt x="2057" y="274"/>
                    </a:lnTo>
                    <a:lnTo>
                      <a:pt x="2058" y="272"/>
                    </a:lnTo>
                    <a:lnTo>
                      <a:pt x="2059" y="267"/>
                    </a:lnTo>
                    <a:lnTo>
                      <a:pt x="2060" y="264"/>
                    </a:lnTo>
                    <a:lnTo>
                      <a:pt x="2063" y="261"/>
                    </a:lnTo>
                    <a:lnTo>
                      <a:pt x="2065" y="256"/>
                    </a:lnTo>
                    <a:lnTo>
                      <a:pt x="2065" y="254"/>
                    </a:lnTo>
                    <a:lnTo>
                      <a:pt x="2065" y="252"/>
                    </a:lnTo>
                    <a:lnTo>
                      <a:pt x="2066" y="248"/>
                    </a:lnTo>
                    <a:lnTo>
                      <a:pt x="2067" y="247"/>
                    </a:lnTo>
                    <a:lnTo>
                      <a:pt x="2067" y="245"/>
                    </a:lnTo>
                    <a:lnTo>
                      <a:pt x="2068" y="243"/>
                    </a:lnTo>
                    <a:lnTo>
                      <a:pt x="2069" y="242"/>
                    </a:lnTo>
                    <a:lnTo>
                      <a:pt x="2070" y="242"/>
                    </a:lnTo>
                    <a:lnTo>
                      <a:pt x="2071" y="241"/>
                    </a:lnTo>
                    <a:lnTo>
                      <a:pt x="2073" y="235"/>
                    </a:lnTo>
                    <a:lnTo>
                      <a:pt x="2074" y="227"/>
                    </a:lnTo>
                    <a:lnTo>
                      <a:pt x="2076" y="221"/>
                    </a:lnTo>
                    <a:lnTo>
                      <a:pt x="2076" y="210"/>
                    </a:lnTo>
                    <a:lnTo>
                      <a:pt x="2076" y="207"/>
                    </a:lnTo>
                    <a:lnTo>
                      <a:pt x="2077" y="204"/>
                    </a:lnTo>
                    <a:lnTo>
                      <a:pt x="2078" y="202"/>
                    </a:lnTo>
                    <a:lnTo>
                      <a:pt x="2078" y="201"/>
                    </a:lnTo>
                    <a:lnTo>
                      <a:pt x="2079" y="199"/>
                    </a:lnTo>
                    <a:lnTo>
                      <a:pt x="2079" y="198"/>
                    </a:lnTo>
                    <a:lnTo>
                      <a:pt x="2078" y="196"/>
                    </a:lnTo>
                    <a:lnTo>
                      <a:pt x="2078" y="193"/>
                    </a:lnTo>
                    <a:lnTo>
                      <a:pt x="2078" y="192"/>
                    </a:lnTo>
                    <a:lnTo>
                      <a:pt x="2077" y="190"/>
                    </a:lnTo>
                    <a:lnTo>
                      <a:pt x="2077" y="188"/>
                    </a:lnTo>
                    <a:lnTo>
                      <a:pt x="2077" y="186"/>
                    </a:lnTo>
                    <a:lnTo>
                      <a:pt x="2078" y="185"/>
                    </a:lnTo>
                    <a:lnTo>
                      <a:pt x="2078" y="183"/>
                    </a:lnTo>
                    <a:lnTo>
                      <a:pt x="2078" y="177"/>
                    </a:lnTo>
                    <a:lnTo>
                      <a:pt x="2078" y="176"/>
                    </a:lnTo>
                    <a:lnTo>
                      <a:pt x="2079" y="176"/>
                    </a:lnTo>
                    <a:lnTo>
                      <a:pt x="2079" y="176"/>
                    </a:lnTo>
                    <a:lnTo>
                      <a:pt x="2080" y="176"/>
                    </a:lnTo>
                    <a:lnTo>
                      <a:pt x="2080" y="175"/>
                    </a:lnTo>
                    <a:lnTo>
                      <a:pt x="2080" y="166"/>
                    </a:lnTo>
                    <a:lnTo>
                      <a:pt x="2081" y="165"/>
                    </a:lnTo>
                    <a:lnTo>
                      <a:pt x="2082" y="164"/>
                    </a:lnTo>
                    <a:lnTo>
                      <a:pt x="2084" y="163"/>
                    </a:lnTo>
                    <a:lnTo>
                      <a:pt x="2085" y="161"/>
                    </a:lnTo>
                    <a:lnTo>
                      <a:pt x="2085" y="144"/>
                    </a:lnTo>
                    <a:lnTo>
                      <a:pt x="2084" y="142"/>
                    </a:lnTo>
                    <a:lnTo>
                      <a:pt x="2082" y="141"/>
                    </a:lnTo>
                    <a:lnTo>
                      <a:pt x="2082" y="139"/>
                    </a:lnTo>
                    <a:lnTo>
                      <a:pt x="2082" y="138"/>
                    </a:lnTo>
                    <a:lnTo>
                      <a:pt x="2082" y="137"/>
                    </a:lnTo>
                    <a:lnTo>
                      <a:pt x="2081" y="136"/>
                    </a:lnTo>
                    <a:lnTo>
                      <a:pt x="2081" y="134"/>
                    </a:lnTo>
                    <a:lnTo>
                      <a:pt x="2081" y="133"/>
                    </a:lnTo>
                    <a:lnTo>
                      <a:pt x="2082" y="131"/>
                    </a:lnTo>
                    <a:lnTo>
                      <a:pt x="2084" y="127"/>
                    </a:lnTo>
                    <a:lnTo>
                      <a:pt x="2084" y="124"/>
                    </a:lnTo>
                    <a:lnTo>
                      <a:pt x="2082" y="121"/>
                    </a:lnTo>
                    <a:lnTo>
                      <a:pt x="2082" y="117"/>
                    </a:lnTo>
                    <a:lnTo>
                      <a:pt x="2082" y="113"/>
                    </a:lnTo>
                    <a:lnTo>
                      <a:pt x="2084" y="114"/>
                    </a:lnTo>
                    <a:lnTo>
                      <a:pt x="2084" y="115"/>
                    </a:lnTo>
                    <a:lnTo>
                      <a:pt x="2085" y="115"/>
                    </a:lnTo>
                    <a:lnTo>
                      <a:pt x="2085" y="114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6" y="113"/>
                    </a:lnTo>
                    <a:lnTo>
                      <a:pt x="2086" y="114"/>
                    </a:lnTo>
                    <a:lnTo>
                      <a:pt x="2087" y="116"/>
                    </a:lnTo>
                    <a:lnTo>
                      <a:pt x="2087" y="117"/>
                    </a:lnTo>
                    <a:lnTo>
                      <a:pt x="2087" y="119"/>
                    </a:lnTo>
                    <a:lnTo>
                      <a:pt x="2088" y="120"/>
                    </a:lnTo>
                    <a:lnTo>
                      <a:pt x="2088" y="121"/>
                    </a:lnTo>
                    <a:lnTo>
                      <a:pt x="2089" y="121"/>
                    </a:lnTo>
                    <a:lnTo>
                      <a:pt x="2089" y="120"/>
                    </a:lnTo>
                    <a:lnTo>
                      <a:pt x="2089" y="113"/>
                    </a:lnTo>
                    <a:lnTo>
                      <a:pt x="2089" y="112"/>
                    </a:lnTo>
                    <a:lnTo>
                      <a:pt x="2090" y="112"/>
                    </a:lnTo>
                    <a:lnTo>
                      <a:pt x="2090" y="112"/>
                    </a:lnTo>
                    <a:lnTo>
                      <a:pt x="2091" y="113"/>
                    </a:lnTo>
                    <a:lnTo>
                      <a:pt x="2092" y="113"/>
                    </a:lnTo>
                    <a:lnTo>
                      <a:pt x="2093" y="114"/>
                    </a:lnTo>
                    <a:lnTo>
                      <a:pt x="2093" y="113"/>
                    </a:lnTo>
                    <a:lnTo>
                      <a:pt x="2093" y="112"/>
                    </a:lnTo>
                    <a:lnTo>
                      <a:pt x="2092" y="109"/>
                    </a:lnTo>
                    <a:lnTo>
                      <a:pt x="2092" y="105"/>
                    </a:lnTo>
                    <a:lnTo>
                      <a:pt x="2091" y="103"/>
                    </a:lnTo>
                    <a:lnTo>
                      <a:pt x="2091" y="101"/>
                    </a:lnTo>
                    <a:lnTo>
                      <a:pt x="2091" y="100"/>
                    </a:lnTo>
                    <a:lnTo>
                      <a:pt x="2092" y="101"/>
                    </a:lnTo>
                    <a:lnTo>
                      <a:pt x="2092" y="101"/>
                    </a:lnTo>
                    <a:lnTo>
                      <a:pt x="2093" y="102"/>
                    </a:lnTo>
                    <a:lnTo>
                      <a:pt x="2095" y="103"/>
                    </a:lnTo>
                    <a:lnTo>
                      <a:pt x="2095" y="103"/>
                    </a:lnTo>
                    <a:lnTo>
                      <a:pt x="2096" y="102"/>
                    </a:lnTo>
                    <a:lnTo>
                      <a:pt x="2096" y="100"/>
                    </a:lnTo>
                    <a:lnTo>
                      <a:pt x="2096" y="99"/>
                    </a:lnTo>
                    <a:lnTo>
                      <a:pt x="2095" y="96"/>
                    </a:lnTo>
                    <a:lnTo>
                      <a:pt x="2095" y="95"/>
                    </a:lnTo>
                    <a:lnTo>
                      <a:pt x="2095" y="93"/>
                    </a:lnTo>
                    <a:lnTo>
                      <a:pt x="2095" y="92"/>
                    </a:lnTo>
                    <a:lnTo>
                      <a:pt x="2095" y="91"/>
                    </a:lnTo>
                    <a:lnTo>
                      <a:pt x="2096" y="91"/>
                    </a:lnTo>
                    <a:lnTo>
                      <a:pt x="2097" y="92"/>
                    </a:lnTo>
                    <a:lnTo>
                      <a:pt x="2097" y="92"/>
                    </a:lnTo>
                    <a:lnTo>
                      <a:pt x="2098" y="93"/>
                    </a:lnTo>
                    <a:lnTo>
                      <a:pt x="2098" y="93"/>
                    </a:lnTo>
                    <a:lnTo>
                      <a:pt x="2098" y="91"/>
                    </a:lnTo>
                    <a:lnTo>
                      <a:pt x="2098" y="80"/>
                    </a:lnTo>
                    <a:lnTo>
                      <a:pt x="2097" y="78"/>
                    </a:lnTo>
                    <a:lnTo>
                      <a:pt x="2097" y="76"/>
                    </a:lnTo>
                    <a:lnTo>
                      <a:pt x="2096" y="73"/>
                    </a:lnTo>
                    <a:lnTo>
                      <a:pt x="2096" y="71"/>
                    </a:lnTo>
                    <a:lnTo>
                      <a:pt x="2096" y="71"/>
                    </a:lnTo>
                    <a:lnTo>
                      <a:pt x="2097" y="72"/>
                    </a:lnTo>
                    <a:lnTo>
                      <a:pt x="2098" y="73"/>
                    </a:lnTo>
                    <a:lnTo>
                      <a:pt x="2099" y="74"/>
                    </a:lnTo>
                    <a:lnTo>
                      <a:pt x="2099" y="77"/>
                    </a:lnTo>
                    <a:lnTo>
                      <a:pt x="2100" y="78"/>
                    </a:lnTo>
                    <a:lnTo>
                      <a:pt x="2101" y="80"/>
                    </a:lnTo>
                    <a:lnTo>
                      <a:pt x="2102" y="80"/>
                    </a:lnTo>
                    <a:lnTo>
                      <a:pt x="2102" y="80"/>
                    </a:lnTo>
                    <a:lnTo>
                      <a:pt x="2102" y="79"/>
                    </a:lnTo>
                    <a:lnTo>
                      <a:pt x="2102" y="78"/>
                    </a:lnTo>
                    <a:lnTo>
                      <a:pt x="2102" y="77"/>
                    </a:lnTo>
                    <a:lnTo>
                      <a:pt x="2102" y="74"/>
                    </a:lnTo>
                    <a:lnTo>
                      <a:pt x="2102" y="73"/>
                    </a:lnTo>
                    <a:lnTo>
                      <a:pt x="2103" y="73"/>
                    </a:lnTo>
                    <a:lnTo>
                      <a:pt x="2104" y="73"/>
                    </a:lnTo>
                    <a:lnTo>
                      <a:pt x="2106" y="74"/>
                    </a:lnTo>
                    <a:lnTo>
                      <a:pt x="2106" y="76"/>
                    </a:lnTo>
                    <a:lnTo>
                      <a:pt x="2107" y="76"/>
                    </a:lnTo>
                    <a:lnTo>
                      <a:pt x="2108" y="78"/>
                    </a:lnTo>
                    <a:lnTo>
                      <a:pt x="2108" y="78"/>
                    </a:lnTo>
                    <a:lnTo>
                      <a:pt x="2109" y="77"/>
                    </a:lnTo>
                    <a:lnTo>
                      <a:pt x="2109" y="76"/>
                    </a:lnTo>
                    <a:lnTo>
                      <a:pt x="2109" y="74"/>
                    </a:lnTo>
                    <a:lnTo>
                      <a:pt x="2109" y="72"/>
                    </a:lnTo>
                    <a:lnTo>
                      <a:pt x="2109" y="71"/>
                    </a:lnTo>
                    <a:lnTo>
                      <a:pt x="2110" y="70"/>
                    </a:lnTo>
                    <a:lnTo>
                      <a:pt x="2111" y="69"/>
                    </a:lnTo>
                    <a:lnTo>
                      <a:pt x="2111" y="70"/>
                    </a:lnTo>
                    <a:lnTo>
                      <a:pt x="2111" y="72"/>
                    </a:lnTo>
                    <a:lnTo>
                      <a:pt x="2112" y="73"/>
                    </a:lnTo>
                    <a:lnTo>
                      <a:pt x="2113" y="74"/>
                    </a:lnTo>
                    <a:lnTo>
                      <a:pt x="2114" y="76"/>
                    </a:lnTo>
                    <a:lnTo>
                      <a:pt x="2114" y="74"/>
                    </a:lnTo>
                    <a:lnTo>
                      <a:pt x="2115" y="73"/>
                    </a:lnTo>
                    <a:lnTo>
                      <a:pt x="2115" y="72"/>
                    </a:lnTo>
                    <a:lnTo>
                      <a:pt x="2115" y="71"/>
                    </a:lnTo>
                    <a:lnTo>
                      <a:pt x="2115" y="71"/>
                    </a:lnTo>
                    <a:lnTo>
                      <a:pt x="2117" y="71"/>
                    </a:lnTo>
                    <a:lnTo>
                      <a:pt x="2118" y="71"/>
                    </a:lnTo>
                    <a:lnTo>
                      <a:pt x="2119" y="73"/>
                    </a:lnTo>
                    <a:lnTo>
                      <a:pt x="2120" y="74"/>
                    </a:lnTo>
                    <a:lnTo>
                      <a:pt x="2121" y="76"/>
                    </a:lnTo>
                    <a:lnTo>
                      <a:pt x="2121" y="77"/>
                    </a:lnTo>
                    <a:lnTo>
                      <a:pt x="2122" y="76"/>
                    </a:lnTo>
                    <a:lnTo>
                      <a:pt x="2122" y="74"/>
                    </a:lnTo>
                    <a:lnTo>
                      <a:pt x="2123" y="73"/>
                    </a:lnTo>
                    <a:lnTo>
                      <a:pt x="2123" y="72"/>
                    </a:lnTo>
                    <a:lnTo>
                      <a:pt x="2123" y="72"/>
                    </a:lnTo>
                    <a:lnTo>
                      <a:pt x="2124" y="71"/>
                    </a:lnTo>
                    <a:lnTo>
                      <a:pt x="2125" y="71"/>
                    </a:lnTo>
                    <a:lnTo>
                      <a:pt x="2125" y="70"/>
                    </a:lnTo>
                    <a:lnTo>
                      <a:pt x="2126" y="68"/>
                    </a:lnTo>
                    <a:lnTo>
                      <a:pt x="2126" y="65"/>
                    </a:lnTo>
                    <a:lnTo>
                      <a:pt x="2125" y="63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6" y="62"/>
                    </a:lnTo>
                    <a:lnTo>
                      <a:pt x="2128" y="65"/>
                    </a:lnTo>
                    <a:lnTo>
                      <a:pt x="2129" y="66"/>
                    </a:lnTo>
                    <a:lnTo>
                      <a:pt x="2130" y="66"/>
                    </a:lnTo>
                    <a:lnTo>
                      <a:pt x="2130" y="65"/>
                    </a:lnTo>
                    <a:lnTo>
                      <a:pt x="2131" y="62"/>
                    </a:lnTo>
                    <a:lnTo>
                      <a:pt x="2131" y="59"/>
                    </a:lnTo>
                    <a:lnTo>
                      <a:pt x="2131" y="56"/>
                    </a:lnTo>
                    <a:lnTo>
                      <a:pt x="2131" y="54"/>
                    </a:lnTo>
                    <a:lnTo>
                      <a:pt x="2132" y="52"/>
                    </a:lnTo>
                    <a:lnTo>
                      <a:pt x="2132" y="51"/>
                    </a:lnTo>
                    <a:lnTo>
                      <a:pt x="2133" y="51"/>
                    </a:lnTo>
                    <a:lnTo>
                      <a:pt x="2134" y="52"/>
                    </a:lnTo>
                    <a:lnTo>
                      <a:pt x="2135" y="54"/>
                    </a:lnTo>
                    <a:lnTo>
                      <a:pt x="2135" y="56"/>
                    </a:lnTo>
                    <a:lnTo>
                      <a:pt x="2135" y="57"/>
                    </a:lnTo>
                    <a:lnTo>
                      <a:pt x="2136" y="58"/>
                    </a:lnTo>
                    <a:lnTo>
                      <a:pt x="2136" y="59"/>
                    </a:lnTo>
                    <a:lnTo>
                      <a:pt x="2137" y="58"/>
                    </a:lnTo>
                    <a:lnTo>
                      <a:pt x="2137" y="58"/>
                    </a:lnTo>
                    <a:lnTo>
                      <a:pt x="2137" y="57"/>
                    </a:lnTo>
                    <a:lnTo>
                      <a:pt x="2137" y="56"/>
                    </a:lnTo>
                    <a:lnTo>
                      <a:pt x="2137" y="55"/>
                    </a:lnTo>
                    <a:lnTo>
                      <a:pt x="2139" y="54"/>
                    </a:lnTo>
                    <a:lnTo>
                      <a:pt x="2140" y="54"/>
                    </a:lnTo>
                    <a:lnTo>
                      <a:pt x="2140" y="55"/>
                    </a:lnTo>
                    <a:lnTo>
                      <a:pt x="2141" y="55"/>
                    </a:lnTo>
                    <a:lnTo>
                      <a:pt x="2142" y="56"/>
                    </a:lnTo>
                    <a:lnTo>
                      <a:pt x="2143" y="57"/>
                    </a:lnTo>
                    <a:lnTo>
                      <a:pt x="2143" y="57"/>
                    </a:lnTo>
                    <a:lnTo>
                      <a:pt x="2144" y="56"/>
                    </a:lnTo>
                    <a:lnTo>
                      <a:pt x="2144" y="55"/>
                    </a:lnTo>
                    <a:lnTo>
                      <a:pt x="2144" y="55"/>
                    </a:lnTo>
                    <a:lnTo>
                      <a:pt x="2145" y="55"/>
                    </a:lnTo>
                    <a:lnTo>
                      <a:pt x="2145" y="56"/>
                    </a:lnTo>
                    <a:lnTo>
                      <a:pt x="2145" y="56"/>
                    </a:lnTo>
                    <a:lnTo>
                      <a:pt x="2146" y="56"/>
                    </a:lnTo>
                    <a:lnTo>
                      <a:pt x="2151" y="56"/>
                    </a:lnTo>
                    <a:lnTo>
                      <a:pt x="2151" y="56"/>
                    </a:lnTo>
                    <a:lnTo>
                      <a:pt x="2151" y="55"/>
                    </a:lnTo>
                    <a:lnTo>
                      <a:pt x="2151" y="54"/>
                    </a:lnTo>
                    <a:lnTo>
                      <a:pt x="2151" y="52"/>
                    </a:lnTo>
                    <a:lnTo>
                      <a:pt x="2151" y="51"/>
                    </a:lnTo>
                    <a:lnTo>
                      <a:pt x="2152" y="52"/>
                    </a:lnTo>
                    <a:lnTo>
                      <a:pt x="2153" y="55"/>
                    </a:lnTo>
                    <a:lnTo>
                      <a:pt x="2154" y="57"/>
                    </a:lnTo>
                    <a:lnTo>
                      <a:pt x="2154" y="58"/>
                    </a:lnTo>
                    <a:lnTo>
                      <a:pt x="2156" y="60"/>
                    </a:lnTo>
                    <a:lnTo>
                      <a:pt x="2157" y="60"/>
                    </a:lnTo>
                    <a:lnTo>
                      <a:pt x="2158" y="61"/>
                    </a:lnTo>
                    <a:lnTo>
                      <a:pt x="2158" y="62"/>
                    </a:lnTo>
                    <a:lnTo>
                      <a:pt x="2161" y="63"/>
                    </a:lnTo>
                    <a:lnTo>
                      <a:pt x="2161" y="65"/>
                    </a:lnTo>
                    <a:lnTo>
                      <a:pt x="2161" y="66"/>
                    </a:lnTo>
                    <a:lnTo>
                      <a:pt x="2161" y="67"/>
                    </a:lnTo>
                    <a:lnTo>
                      <a:pt x="2163" y="68"/>
                    </a:lnTo>
                    <a:lnTo>
                      <a:pt x="2164" y="68"/>
                    </a:lnTo>
                    <a:lnTo>
                      <a:pt x="2165" y="68"/>
                    </a:lnTo>
                    <a:lnTo>
                      <a:pt x="2165" y="69"/>
                    </a:lnTo>
                    <a:lnTo>
                      <a:pt x="2165" y="69"/>
                    </a:lnTo>
                    <a:lnTo>
                      <a:pt x="2167" y="72"/>
                    </a:lnTo>
                    <a:lnTo>
                      <a:pt x="2167" y="74"/>
                    </a:lnTo>
                    <a:lnTo>
                      <a:pt x="2168" y="76"/>
                    </a:lnTo>
                    <a:lnTo>
                      <a:pt x="2169" y="76"/>
                    </a:lnTo>
                    <a:lnTo>
                      <a:pt x="2172" y="78"/>
                    </a:lnTo>
                    <a:lnTo>
                      <a:pt x="2174" y="80"/>
                    </a:lnTo>
                    <a:lnTo>
                      <a:pt x="2174" y="82"/>
                    </a:lnTo>
                    <a:lnTo>
                      <a:pt x="2176" y="84"/>
                    </a:lnTo>
                    <a:lnTo>
                      <a:pt x="2177" y="85"/>
                    </a:lnTo>
                    <a:lnTo>
                      <a:pt x="2177" y="88"/>
                    </a:lnTo>
                    <a:lnTo>
                      <a:pt x="2177" y="89"/>
                    </a:lnTo>
                    <a:lnTo>
                      <a:pt x="2176" y="89"/>
                    </a:lnTo>
                    <a:lnTo>
                      <a:pt x="2176" y="90"/>
                    </a:lnTo>
                    <a:lnTo>
                      <a:pt x="2176" y="90"/>
                    </a:lnTo>
                    <a:lnTo>
                      <a:pt x="2175" y="90"/>
                    </a:lnTo>
                    <a:lnTo>
                      <a:pt x="2174" y="90"/>
                    </a:lnTo>
                    <a:lnTo>
                      <a:pt x="2172" y="91"/>
                    </a:lnTo>
                    <a:lnTo>
                      <a:pt x="2173" y="93"/>
                    </a:lnTo>
                    <a:lnTo>
                      <a:pt x="2173" y="95"/>
                    </a:lnTo>
                    <a:lnTo>
                      <a:pt x="2174" y="99"/>
                    </a:lnTo>
                    <a:lnTo>
                      <a:pt x="2174" y="102"/>
                    </a:lnTo>
                    <a:lnTo>
                      <a:pt x="2175" y="105"/>
                    </a:lnTo>
                    <a:lnTo>
                      <a:pt x="2176" y="106"/>
                    </a:lnTo>
                    <a:lnTo>
                      <a:pt x="2177" y="109"/>
                    </a:lnTo>
                    <a:lnTo>
                      <a:pt x="2178" y="110"/>
                    </a:lnTo>
                    <a:lnTo>
                      <a:pt x="2179" y="111"/>
                    </a:lnTo>
                    <a:lnTo>
                      <a:pt x="2180" y="112"/>
                    </a:lnTo>
                    <a:lnTo>
                      <a:pt x="2180" y="113"/>
                    </a:lnTo>
                    <a:lnTo>
                      <a:pt x="2183" y="115"/>
                    </a:lnTo>
                    <a:lnTo>
                      <a:pt x="2185" y="116"/>
                    </a:lnTo>
                    <a:lnTo>
                      <a:pt x="2187" y="117"/>
                    </a:lnTo>
                    <a:lnTo>
                      <a:pt x="2189" y="120"/>
                    </a:lnTo>
                    <a:lnTo>
                      <a:pt x="2190" y="122"/>
                    </a:lnTo>
                    <a:lnTo>
                      <a:pt x="2193" y="123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5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3"/>
                    </a:lnTo>
                    <a:lnTo>
                      <a:pt x="2193" y="122"/>
                    </a:lnTo>
                    <a:lnTo>
                      <a:pt x="2194" y="121"/>
                    </a:lnTo>
                    <a:lnTo>
                      <a:pt x="2194" y="120"/>
                    </a:lnTo>
                    <a:lnTo>
                      <a:pt x="2196" y="121"/>
                    </a:lnTo>
                    <a:lnTo>
                      <a:pt x="2196" y="122"/>
                    </a:lnTo>
                    <a:lnTo>
                      <a:pt x="2197" y="123"/>
                    </a:lnTo>
                    <a:lnTo>
                      <a:pt x="2198" y="124"/>
                    </a:lnTo>
                    <a:lnTo>
                      <a:pt x="2199" y="125"/>
                    </a:lnTo>
                    <a:lnTo>
                      <a:pt x="2199" y="126"/>
                    </a:lnTo>
                    <a:lnTo>
                      <a:pt x="2200" y="126"/>
                    </a:lnTo>
                    <a:lnTo>
                      <a:pt x="2200" y="126"/>
                    </a:lnTo>
                    <a:lnTo>
                      <a:pt x="2202" y="127"/>
                    </a:lnTo>
                    <a:lnTo>
                      <a:pt x="2205" y="128"/>
                    </a:lnTo>
                    <a:lnTo>
                      <a:pt x="2207" y="131"/>
                    </a:lnTo>
                    <a:lnTo>
                      <a:pt x="2209" y="131"/>
                    </a:lnTo>
                    <a:lnTo>
                      <a:pt x="2210" y="130"/>
                    </a:lnTo>
                    <a:lnTo>
                      <a:pt x="2212" y="130"/>
                    </a:lnTo>
                    <a:lnTo>
                      <a:pt x="2213" y="131"/>
                    </a:lnTo>
                    <a:lnTo>
                      <a:pt x="2213" y="132"/>
                    </a:lnTo>
                    <a:lnTo>
                      <a:pt x="2215" y="133"/>
                    </a:lnTo>
                    <a:lnTo>
                      <a:pt x="2216" y="134"/>
                    </a:lnTo>
                    <a:lnTo>
                      <a:pt x="2216" y="136"/>
                    </a:lnTo>
                    <a:lnTo>
                      <a:pt x="2216" y="137"/>
                    </a:lnTo>
                    <a:lnTo>
                      <a:pt x="2219" y="143"/>
                    </a:lnTo>
                    <a:lnTo>
                      <a:pt x="2221" y="147"/>
                    </a:lnTo>
                    <a:lnTo>
                      <a:pt x="2224" y="152"/>
                    </a:lnTo>
                    <a:lnTo>
                      <a:pt x="2227" y="155"/>
                    </a:lnTo>
                    <a:lnTo>
                      <a:pt x="2228" y="158"/>
                    </a:lnTo>
                    <a:lnTo>
                      <a:pt x="2229" y="160"/>
                    </a:lnTo>
                    <a:lnTo>
                      <a:pt x="2230" y="163"/>
                    </a:lnTo>
                    <a:lnTo>
                      <a:pt x="2231" y="166"/>
                    </a:lnTo>
                    <a:lnTo>
                      <a:pt x="2233" y="169"/>
                    </a:lnTo>
                    <a:lnTo>
                      <a:pt x="2235" y="172"/>
                    </a:lnTo>
                    <a:lnTo>
                      <a:pt x="2238" y="175"/>
                    </a:lnTo>
                    <a:lnTo>
                      <a:pt x="2243" y="183"/>
                    </a:lnTo>
                    <a:lnTo>
                      <a:pt x="2249" y="196"/>
                    </a:lnTo>
                    <a:lnTo>
                      <a:pt x="2252" y="208"/>
                    </a:lnTo>
                    <a:lnTo>
                      <a:pt x="2251" y="221"/>
                    </a:lnTo>
                    <a:lnTo>
                      <a:pt x="2251" y="223"/>
                    </a:lnTo>
                    <a:lnTo>
                      <a:pt x="2250" y="225"/>
                    </a:lnTo>
                    <a:lnTo>
                      <a:pt x="2249" y="227"/>
                    </a:lnTo>
                    <a:lnTo>
                      <a:pt x="2249" y="230"/>
                    </a:lnTo>
                    <a:lnTo>
                      <a:pt x="2248" y="231"/>
                    </a:lnTo>
                    <a:lnTo>
                      <a:pt x="2245" y="230"/>
                    </a:lnTo>
                    <a:lnTo>
                      <a:pt x="2244" y="230"/>
                    </a:lnTo>
                    <a:lnTo>
                      <a:pt x="2242" y="230"/>
                    </a:lnTo>
                    <a:lnTo>
                      <a:pt x="2241" y="230"/>
                    </a:lnTo>
                    <a:lnTo>
                      <a:pt x="2240" y="231"/>
                    </a:lnTo>
                    <a:lnTo>
                      <a:pt x="2240" y="232"/>
                    </a:lnTo>
                    <a:lnTo>
                      <a:pt x="2239" y="232"/>
                    </a:lnTo>
                    <a:lnTo>
                      <a:pt x="2238" y="232"/>
                    </a:lnTo>
                    <a:lnTo>
                      <a:pt x="2235" y="231"/>
                    </a:lnTo>
                    <a:lnTo>
                      <a:pt x="2233" y="230"/>
                    </a:lnTo>
                    <a:lnTo>
                      <a:pt x="2231" y="227"/>
                    </a:lnTo>
                    <a:lnTo>
                      <a:pt x="2228" y="225"/>
                    </a:lnTo>
                    <a:lnTo>
                      <a:pt x="2224" y="223"/>
                    </a:lnTo>
                    <a:lnTo>
                      <a:pt x="2222" y="221"/>
                    </a:lnTo>
                    <a:lnTo>
                      <a:pt x="2221" y="220"/>
                    </a:lnTo>
                    <a:lnTo>
                      <a:pt x="2219" y="218"/>
                    </a:lnTo>
                    <a:lnTo>
                      <a:pt x="2218" y="215"/>
                    </a:lnTo>
                    <a:lnTo>
                      <a:pt x="2216" y="212"/>
                    </a:lnTo>
                    <a:lnTo>
                      <a:pt x="2211" y="205"/>
                    </a:lnTo>
                    <a:lnTo>
                      <a:pt x="2207" y="201"/>
                    </a:lnTo>
                    <a:lnTo>
                      <a:pt x="2202" y="197"/>
                    </a:lnTo>
                    <a:lnTo>
                      <a:pt x="2201" y="196"/>
                    </a:lnTo>
                    <a:lnTo>
                      <a:pt x="2200" y="197"/>
                    </a:lnTo>
                    <a:lnTo>
                      <a:pt x="2200" y="197"/>
                    </a:lnTo>
                    <a:lnTo>
                      <a:pt x="2200" y="198"/>
                    </a:lnTo>
                    <a:lnTo>
                      <a:pt x="2200" y="200"/>
                    </a:lnTo>
                    <a:lnTo>
                      <a:pt x="2200" y="201"/>
                    </a:lnTo>
                    <a:lnTo>
                      <a:pt x="2202" y="203"/>
                    </a:lnTo>
                    <a:lnTo>
                      <a:pt x="2205" y="205"/>
                    </a:lnTo>
                    <a:lnTo>
                      <a:pt x="2205" y="208"/>
                    </a:lnTo>
                    <a:lnTo>
                      <a:pt x="2207" y="210"/>
                    </a:lnTo>
                    <a:lnTo>
                      <a:pt x="2207" y="212"/>
                    </a:lnTo>
                    <a:lnTo>
                      <a:pt x="2208" y="214"/>
                    </a:lnTo>
                    <a:lnTo>
                      <a:pt x="2209" y="216"/>
                    </a:lnTo>
                    <a:lnTo>
                      <a:pt x="2210" y="219"/>
                    </a:lnTo>
                    <a:lnTo>
                      <a:pt x="2211" y="220"/>
                    </a:lnTo>
                    <a:lnTo>
                      <a:pt x="2213" y="221"/>
                    </a:lnTo>
                    <a:lnTo>
                      <a:pt x="2216" y="225"/>
                    </a:lnTo>
                    <a:lnTo>
                      <a:pt x="2217" y="230"/>
                    </a:lnTo>
                    <a:lnTo>
                      <a:pt x="2218" y="234"/>
                    </a:lnTo>
                    <a:lnTo>
                      <a:pt x="2220" y="239"/>
                    </a:lnTo>
                    <a:lnTo>
                      <a:pt x="2220" y="243"/>
                    </a:lnTo>
                    <a:lnTo>
                      <a:pt x="2220" y="247"/>
                    </a:lnTo>
                    <a:lnTo>
                      <a:pt x="2223" y="263"/>
                    </a:lnTo>
                    <a:lnTo>
                      <a:pt x="2224" y="277"/>
                    </a:lnTo>
                    <a:lnTo>
                      <a:pt x="2226" y="279"/>
                    </a:lnTo>
                    <a:lnTo>
                      <a:pt x="2227" y="280"/>
                    </a:lnTo>
                    <a:lnTo>
                      <a:pt x="2228" y="281"/>
                    </a:lnTo>
                    <a:lnTo>
                      <a:pt x="2229" y="281"/>
                    </a:lnTo>
                    <a:lnTo>
                      <a:pt x="2229" y="281"/>
                    </a:lnTo>
                    <a:lnTo>
                      <a:pt x="2231" y="284"/>
                    </a:lnTo>
                    <a:lnTo>
                      <a:pt x="2233" y="286"/>
                    </a:lnTo>
                    <a:lnTo>
                      <a:pt x="2233" y="288"/>
                    </a:lnTo>
                    <a:lnTo>
                      <a:pt x="2235" y="291"/>
                    </a:lnTo>
                    <a:lnTo>
                      <a:pt x="2238" y="294"/>
                    </a:lnTo>
                    <a:lnTo>
                      <a:pt x="2239" y="296"/>
                    </a:lnTo>
                    <a:lnTo>
                      <a:pt x="2241" y="297"/>
                    </a:lnTo>
                    <a:lnTo>
                      <a:pt x="2242" y="298"/>
                    </a:lnTo>
                    <a:lnTo>
                      <a:pt x="2243" y="297"/>
                    </a:lnTo>
                    <a:lnTo>
                      <a:pt x="2244" y="295"/>
                    </a:lnTo>
                    <a:lnTo>
                      <a:pt x="2244" y="292"/>
                    </a:lnTo>
                    <a:lnTo>
                      <a:pt x="2244" y="288"/>
                    </a:lnTo>
                    <a:lnTo>
                      <a:pt x="2242" y="284"/>
                    </a:lnTo>
                    <a:lnTo>
                      <a:pt x="2242" y="283"/>
                    </a:lnTo>
                    <a:lnTo>
                      <a:pt x="2241" y="281"/>
                    </a:lnTo>
                    <a:lnTo>
                      <a:pt x="2240" y="281"/>
                    </a:lnTo>
                    <a:lnTo>
                      <a:pt x="2239" y="280"/>
                    </a:lnTo>
                    <a:lnTo>
                      <a:pt x="2238" y="279"/>
                    </a:lnTo>
                    <a:lnTo>
                      <a:pt x="2237" y="279"/>
                    </a:lnTo>
                    <a:lnTo>
                      <a:pt x="2237" y="278"/>
                    </a:lnTo>
                    <a:lnTo>
                      <a:pt x="2235" y="276"/>
                    </a:lnTo>
                    <a:lnTo>
                      <a:pt x="2234" y="274"/>
                    </a:lnTo>
                    <a:lnTo>
                      <a:pt x="2233" y="272"/>
                    </a:lnTo>
                    <a:lnTo>
                      <a:pt x="2233" y="269"/>
                    </a:lnTo>
                    <a:lnTo>
                      <a:pt x="2232" y="267"/>
                    </a:lnTo>
                    <a:lnTo>
                      <a:pt x="2231" y="265"/>
                    </a:lnTo>
                    <a:lnTo>
                      <a:pt x="2231" y="263"/>
                    </a:lnTo>
                    <a:lnTo>
                      <a:pt x="2232" y="259"/>
                    </a:lnTo>
                    <a:lnTo>
                      <a:pt x="2233" y="258"/>
                    </a:lnTo>
                    <a:lnTo>
                      <a:pt x="2234" y="257"/>
                    </a:lnTo>
                    <a:lnTo>
                      <a:pt x="2237" y="258"/>
                    </a:lnTo>
                    <a:lnTo>
                      <a:pt x="2239" y="259"/>
                    </a:lnTo>
                    <a:lnTo>
                      <a:pt x="2240" y="263"/>
                    </a:lnTo>
                    <a:lnTo>
                      <a:pt x="2241" y="267"/>
                    </a:lnTo>
                    <a:lnTo>
                      <a:pt x="2242" y="270"/>
                    </a:lnTo>
                    <a:lnTo>
                      <a:pt x="2243" y="272"/>
                    </a:lnTo>
                    <a:lnTo>
                      <a:pt x="2245" y="274"/>
                    </a:lnTo>
                    <a:lnTo>
                      <a:pt x="2246" y="275"/>
                    </a:lnTo>
                    <a:lnTo>
                      <a:pt x="2249" y="275"/>
                    </a:lnTo>
                    <a:lnTo>
                      <a:pt x="2250" y="276"/>
                    </a:lnTo>
                    <a:lnTo>
                      <a:pt x="2251" y="276"/>
                    </a:lnTo>
                    <a:lnTo>
                      <a:pt x="2253" y="277"/>
                    </a:lnTo>
                    <a:lnTo>
                      <a:pt x="2254" y="278"/>
                    </a:lnTo>
                    <a:lnTo>
                      <a:pt x="2255" y="279"/>
                    </a:lnTo>
                    <a:lnTo>
                      <a:pt x="2256" y="280"/>
                    </a:lnTo>
                    <a:lnTo>
                      <a:pt x="2257" y="281"/>
                    </a:lnTo>
                    <a:lnTo>
                      <a:pt x="2257" y="280"/>
                    </a:lnTo>
                    <a:lnTo>
                      <a:pt x="2257" y="279"/>
                    </a:lnTo>
                    <a:lnTo>
                      <a:pt x="2255" y="274"/>
                    </a:lnTo>
                    <a:lnTo>
                      <a:pt x="2254" y="269"/>
                    </a:lnTo>
                    <a:lnTo>
                      <a:pt x="2253" y="265"/>
                    </a:lnTo>
                    <a:lnTo>
                      <a:pt x="2252" y="261"/>
                    </a:lnTo>
                    <a:lnTo>
                      <a:pt x="2250" y="256"/>
                    </a:lnTo>
                    <a:lnTo>
                      <a:pt x="2249" y="253"/>
                    </a:lnTo>
                    <a:lnTo>
                      <a:pt x="2249" y="250"/>
                    </a:lnTo>
                    <a:lnTo>
                      <a:pt x="2249" y="247"/>
                    </a:lnTo>
                    <a:lnTo>
                      <a:pt x="2249" y="245"/>
                    </a:lnTo>
                    <a:lnTo>
                      <a:pt x="2250" y="245"/>
                    </a:lnTo>
                    <a:lnTo>
                      <a:pt x="2252" y="244"/>
                    </a:lnTo>
                    <a:lnTo>
                      <a:pt x="2253" y="243"/>
                    </a:lnTo>
                    <a:lnTo>
                      <a:pt x="2253" y="241"/>
                    </a:lnTo>
                    <a:lnTo>
                      <a:pt x="2254" y="239"/>
                    </a:lnTo>
                    <a:lnTo>
                      <a:pt x="2255" y="235"/>
                    </a:lnTo>
                    <a:lnTo>
                      <a:pt x="2255" y="234"/>
                    </a:lnTo>
                    <a:lnTo>
                      <a:pt x="2256" y="232"/>
                    </a:lnTo>
                    <a:lnTo>
                      <a:pt x="2257" y="229"/>
                    </a:lnTo>
                    <a:lnTo>
                      <a:pt x="2257" y="225"/>
                    </a:lnTo>
                    <a:lnTo>
                      <a:pt x="2257" y="224"/>
                    </a:lnTo>
                    <a:lnTo>
                      <a:pt x="2257" y="223"/>
                    </a:lnTo>
                    <a:lnTo>
                      <a:pt x="2257" y="222"/>
                    </a:lnTo>
                    <a:lnTo>
                      <a:pt x="2259" y="222"/>
                    </a:lnTo>
                    <a:lnTo>
                      <a:pt x="2260" y="223"/>
                    </a:lnTo>
                    <a:lnTo>
                      <a:pt x="2260" y="225"/>
                    </a:lnTo>
                    <a:lnTo>
                      <a:pt x="2261" y="227"/>
                    </a:lnTo>
                    <a:lnTo>
                      <a:pt x="2263" y="230"/>
                    </a:lnTo>
                    <a:lnTo>
                      <a:pt x="2264" y="232"/>
                    </a:lnTo>
                    <a:lnTo>
                      <a:pt x="2264" y="233"/>
                    </a:lnTo>
                    <a:lnTo>
                      <a:pt x="2265" y="234"/>
                    </a:lnTo>
                    <a:lnTo>
                      <a:pt x="2267" y="234"/>
                    </a:lnTo>
                    <a:lnTo>
                      <a:pt x="2268" y="236"/>
                    </a:lnTo>
                    <a:lnTo>
                      <a:pt x="2268" y="237"/>
                    </a:lnTo>
                    <a:lnTo>
                      <a:pt x="2270" y="237"/>
                    </a:lnTo>
                    <a:lnTo>
                      <a:pt x="2271" y="237"/>
                    </a:lnTo>
                    <a:lnTo>
                      <a:pt x="2271" y="236"/>
                    </a:lnTo>
                    <a:lnTo>
                      <a:pt x="2271" y="225"/>
                    </a:lnTo>
                    <a:lnTo>
                      <a:pt x="2271" y="221"/>
                    </a:lnTo>
                    <a:lnTo>
                      <a:pt x="2270" y="218"/>
                    </a:lnTo>
                    <a:lnTo>
                      <a:pt x="2267" y="213"/>
                    </a:lnTo>
                    <a:lnTo>
                      <a:pt x="2266" y="210"/>
                    </a:lnTo>
                    <a:lnTo>
                      <a:pt x="2266" y="208"/>
                    </a:lnTo>
                    <a:lnTo>
                      <a:pt x="2265" y="203"/>
                    </a:lnTo>
                    <a:lnTo>
                      <a:pt x="2264" y="199"/>
                    </a:lnTo>
                    <a:lnTo>
                      <a:pt x="2264" y="194"/>
                    </a:lnTo>
                    <a:lnTo>
                      <a:pt x="2264" y="188"/>
                    </a:lnTo>
                    <a:lnTo>
                      <a:pt x="2263" y="183"/>
                    </a:lnTo>
                    <a:lnTo>
                      <a:pt x="2262" y="179"/>
                    </a:lnTo>
                    <a:lnTo>
                      <a:pt x="2262" y="176"/>
                    </a:lnTo>
                    <a:lnTo>
                      <a:pt x="2262" y="174"/>
                    </a:lnTo>
                    <a:lnTo>
                      <a:pt x="2261" y="171"/>
                    </a:lnTo>
                    <a:lnTo>
                      <a:pt x="2260" y="168"/>
                    </a:lnTo>
                    <a:lnTo>
                      <a:pt x="2257" y="164"/>
                    </a:lnTo>
                    <a:lnTo>
                      <a:pt x="2260" y="166"/>
                    </a:lnTo>
                    <a:lnTo>
                      <a:pt x="2262" y="168"/>
                    </a:lnTo>
                    <a:lnTo>
                      <a:pt x="2264" y="169"/>
                    </a:lnTo>
                    <a:lnTo>
                      <a:pt x="2266" y="170"/>
                    </a:lnTo>
                    <a:lnTo>
                      <a:pt x="2267" y="171"/>
                    </a:lnTo>
                    <a:lnTo>
                      <a:pt x="2270" y="172"/>
                    </a:lnTo>
                    <a:lnTo>
                      <a:pt x="2271" y="174"/>
                    </a:lnTo>
                    <a:lnTo>
                      <a:pt x="2271" y="175"/>
                    </a:lnTo>
                    <a:lnTo>
                      <a:pt x="2273" y="179"/>
                    </a:lnTo>
                    <a:lnTo>
                      <a:pt x="2274" y="183"/>
                    </a:lnTo>
                    <a:lnTo>
                      <a:pt x="2275" y="188"/>
                    </a:lnTo>
                    <a:lnTo>
                      <a:pt x="2275" y="191"/>
                    </a:lnTo>
                    <a:lnTo>
                      <a:pt x="2275" y="192"/>
                    </a:lnTo>
                    <a:lnTo>
                      <a:pt x="2275" y="194"/>
                    </a:lnTo>
                    <a:lnTo>
                      <a:pt x="2274" y="194"/>
                    </a:lnTo>
                    <a:lnTo>
                      <a:pt x="2273" y="194"/>
                    </a:lnTo>
                    <a:lnTo>
                      <a:pt x="2273" y="196"/>
                    </a:lnTo>
                    <a:lnTo>
                      <a:pt x="2272" y="196"/>
                    </a:lnTo>
                    <a:lnTo>
                      <a:pt x="2271" y="197"/>
                    </a:lnTo>
                    <a:lnTo>
                      <a:pt x="2271" y="199"/>
                    </a:lnTo>
                    <a:lnTo>
                      <a:pt x="2272" y="205"/>
                    </a:lnTo>
                    <a:lnTo>
                      <a:pt x="2275" y="213"/>
                    </a:lnTo>
                    <a:lnTo>
                      <a:pt x="2277" y="219"/>
                    </a:lnTo>
                    <a:lnTo>
                      <a:pt x="2278" y="221"/>
                    </a:lnTo>
                    <a:lnTo>
                      <a:pt x="2279" y="223"/>
                    </a:lnTo>
                    <a:lnTo>
                      <a:pt x="2281" y="223"/>
                    </a:lnTo>
                    <a:lnTo>
                      <a:pt x="2283" y="223"/>
                    </a:lnTo>
                    <a:lnTo>
                      <a:pt x="2284" y="222"/>
                    </a:lnTo>
                    <a:lnTo>
                      <a:pt x="2285" y="220"/>
                    </a:lnTo>
                    <a:lnTo>
                      <a:pt x="2286" y="219"/>
                    </a:lnTo>
                    <a:lnTo>
                      <a:pt x="2287" y="215"/>
                    </a:lnTo>
                    <a:lnTo>
                      <a:pt x="2286" y="212"/>
                    </a:lnTo>
                    <a:lnTo>
                      <a:pt x="2286" y="209"/>
                    </a:lnTo>
                    <a:lnTo>
                      <a:pt x="2285" y="204"/>
                    </a:lnTo>
                    <a:lnTo>
                      <a:pt x="2286" y="201"/>
                    </a:lnTo>
                    <a:lnTo>
                      <a:pt x="2286" y="199"/>
                    </a:lnTo>
                    <a:lnTo>
                      <a:pt x="2287" y="197"/>
                    </a:lnTo>
                    <a:lnTo>
                      <a:pt x="2289" y="194"/>
                    </a:lnTo>
                    <a:lnTo>
                      <a:pt x="2292" y="193"/>
                    </a:lnTo>
                    <a:lnTo>
                      <a:pt x="2293" y="192"/>
                    </a:lnTo>
                    <a:lnTo>
                      <a:pt x="2294" y="189"/>
                    </a:lnTo>
                    <a:lnTo>
                      <a:pt x="2296" y="186"/>
                    </a:lnTo>
                    <a:lnTo>
                      <a:pt x="2298" y="185"/>
                    </a:lnTo>
                    <a:lnTo>
                      <a:pt x="2299" y="182"/>
                    </a:lnTo>
                    <a:lnTo>
                      <a:pt x="2302" y="181"/>
                    </a:lnTo>
                    <a:lnTo>
                      <a:pt x="2303" y="180"/>
                    </a:lnTo>
                    <a:lnTo>
                      <a:pt x="2305" y="179"/>
                    </a:lnTo>
                    <a:lnTo>
                      <a:pt x="2305" y="177"/>
                    </a:lnTo>
                    <a:lnTo>
                      <a:pt x="2306" y="175"/>
                    </a:lnTo>
                    <a:lnTo>
                      <a:pt x="2307" y="172"/>
                    </a:lnTo>
                    <a:lnTo>
                      <a:pt x="2308" y="170"/>
                    </a:lnTo>
                    <a:lnTo>
                      <a:pt x="2310" y="168"/>
                    </a:lnTo>
                    <a:lnTo>
                      <a:pt x="2311" y="169"/>
                    </a:lnTo>
                    <a:lnTo>
                      <a:pt x="2311" y="170"/>
                    </a:lnTo>
                    <a:lnTo>
                      <a:pt x="2313" y="172"/>
                    </a:lnTo>
                    <a:lnTo>
                      <a:pt x="2313" y="175"/>
                    </a:lnTo>
                    <a:lnTo>
                      <a:pt x="2313" y="177"/>
                    </a:lnTo>
                    <a:lnTo>
                      <a:pt x="2313" y="179"/>
                    </a:lnTo>
                    <a:lnTo>
                      <a:pt x="2313" y="181"/>
                    </a:lnTo>
                    <a:lnTo>
                      <a:pt x="2313" y="183"/>
                    </a:lnTo>
                    <a:lnTo>
                      <a:pt x="2314" y="186"/>
                    </a:lnTo>
                    <a:lnTo>
                      <a:pt x="2315" y="188"/>
                    </a:lnTo>
                    <a:lnTo>
                      <a:pt x="2315" y="189"/>
                    </a:lnTo>
                    <a:lnTo>
                      <a:pt x="2316" y="190"/>
                    </a:lnTo>
                    <a:lnTo>
                      <a:pt x="2317" y="191"/>
                    </a:lnTo>
                    <a:lnTo>
                      <a:pt x="2319" y="190"/>
                    </a:lnTo>
                    <a:lnTo>
                      <a:pt x="2319" y="183"/>
                    </a:lnTo>
                    <a:lnTo>
                      <a:pt x="2320" y="182"/>
                    </a:lnTo>
                    <a:lnTo>
                      <a:pt x="2321" y="182"/>
                    </a:lnTo>
                    <a:lnTo>
                      <a:pt x="2321" y="180"/>
                    </a:lnTo>
                    <a:lnTo>
                      <a:pt x="2321" y="179"/>
                    </a:lnTo>
                    <a:lnTo>
                      <a:pt x="2322" y="178"/>
                    </a:lnTo>
                    <a:lnTo>
                      <a:pt x="2324" y="179"/>
                    </a:lnTo>
                    <a:lnTo>
                      <a:pt x="2325" y="180"/>
                    </a:lnTo>
                    <a:lnTo>
                      <a:pt x="2327" y="181"/>
                    </a:lnTo>
                    <a:lnTo>
                      <a:pt x="2328" y="183"/>
                    </a:lnTo>
                    <a:lnTo>
                      <a:pt x="2328" y="183"/>
                    </a:lnTo>
                    <a:lnTo>
                      <a:pt x="2329" y="183"/>
                    </a:lnTo>
                    <a:lnTo>
                      <a:pt x="2329" y="182"/>
                    </a:lnTo>
                    <a:lnTo>
                      <a:pt x="2330" y="181"/>
                    </a:lnTo>
                    <a:lnTo>
                      <a:pt x="2331" y="180"/>
                    </a:lnTo>
                    <a:lnTo>
                      <a:pt x="2331" y="179"/>
                    </a:lnTo>
                    <a:lnTo>
                      <a:pt x="2332" y="177"/>
                    </a:lnTo>
                    <a:lnTo>
                      <a:pt x="2333" y="175"/>
                    </a:lnTo>
                    <a:lnTo>
                      <a:pt x="2335" y="172"/>
                    </a:lnTo>
                    <a:lnTo>
                      <a:pt x="2335" y="171"/>
                    </a:lnTo>
                    <a:lnTo>
                      <a:pt x="2336" y="171"/>
                    </a:lnTo>
                    <a:lnTo>
                      <a:pt x="2337" y="172"/>
                    </a:lnTo>
                    <a:lnTo>
                      <a:pt x="2338" y="176"/>
                    </a:lnTo>
                    <a:lnTo>
                      <a:pt x="2338" y="179"/>
                    </a:lnTo>
                    <a:lnTo>
                      <a:pt x="2338" y="182"/>
                    </a:lnTo>
                    <a:lnTo>
                      <a:pt x="2338" y="186"/>
                    </a:lnTo>
                    <a:lnTo>
                      <a:pt x="2339" y="190"/>
                    </a:lnTo>
                    <a:lnTo>
                      <a:pt x="2340" y="192"/>
                    </a:lnTo>
                    <a:lnTo>
                      <a:pt x="2341" y="193"/>
                    </a:lnTo>
                    <a:lnTo>
                      <a:pt x="2342" y="193"/>
                    </a:lnTo>
                    <a:lnTo>
                      <a:pt x="2342" y="192"/>
                    </a:lnTo>
                    <a:lnTo>
                      <a:pt x="2343" y="190"/>
                    </a:lnTo>
                    <a:lnTo>
                      <a:pt x="2343" y="188"/>
                    </a:lnTo>
                    <a:lnTo>
                      <a:pt x="2343" y="186"/>
                    </a:lnTo>
                    <a:lnTo>
                      <a:pt x="2343" y="183"/>
                    </a:lnTo>
                    <a:lnTo>
                      <a:pt x="2343" y="182"/>
                    </a:lnTo>
                    <a:lnTo>
                      <a:pt x="2344" y="181"/>
                    </a:lnTo>
                    <a:lnTo>
                      <a:pt x="2344" y="181"/>
                    </a:lnTo>
                    <a:lnTo>
                      <a:pt x="2346" y="180"/>
                    </a:lnTo>
                    <a:lnTo>
                      <a:pt x="2346" y="179"/>
                    </a:lnTo>
                    <a:lnTo>
                      <a:pt x="2346" y="177"/>
                    </a:lnTo>
                    <a:lnTo>
                      <a:pt x="2346" y="175"/>
                    </a:lnTo>
                    <a:lnTo>
                      <a:pt x="2344" y="171"/>
                    </a:lnTo>
                    <a:lnTo>
                      <a:pt x="2343" y="168"/>
                    </a:lnTo>
                    <a:lnTo>
                      <a:pt x="2342" y="166"/>
                    </a:lnTo>
                    <a:lnTo>
                      <a:pt x="2341" y="163"/>
                    </a:lnTo>
                    <a:lnTo>
                      <a:pt x="2341" y="159"/>
                    </a:lnTo>
                    <a:lnTo>
                      <a:pt x="2340" y="157"/>
                    </a:lnTo>
                    <a:lnTo>
                      <a:pt x="2340" y="156"/>
                    </a:lnTo>
                    <a:lnTo>
                      <a:pt x="2339" y="155"/>
                    </a:lnTo>
                    <a:lnTo>
                      <a:pt x="2338" y="154"/>
                    </a:lnTo>
                    <a:lnTo>
                      <a:pt x="2337" y="153"/>
                    </a:lnTo>
                    <a:lnTo>
                      <a:pt x="2337" y="153"/>
                    </a:lnTo>
                    <a:lnTo>
                      <a:pt x="2336" y="150"/>
                    </a:lnTo>
                    <a:lnTo>
                      <a:pt x="2335" y="149"/>
                    </a:lnTo>
                    <a:lnTo>
                      <a:pt x="2333" y="147"/>
                    </a:lnTo>
                    <a:lnTo>
                      <a:pt x="2332" y="146"/>
                    </a:lnTo>
                    <a:lnTo>
                      <a:pt x="2332" y="144"/>
                    </a:lnTo>
                    <a:lnTo>
                      <a:pt x="2331" y="142"/>
                    </a:lnTo>
                    <a:lnTo>
                      <a:pt x="2330" y="138"/>
                    </a:lnTo>
                    <a:lnTo>
                      <a:pt x="2330" y="136"/>
                    </a:lnTo>
                    <a:lnTo>
                      <a:pt x="2330" y="133"/>
                    </a:lnTo>
                    <a:lnTo>
                      <a:pt x="2329" y="132"/>
                    </a:lnTo>
                    <a:lnTo>
                      <a:pt x="2330" y="132"/>
                    </a:lnTo>
                    <a:lnTo>
                      <a:pt x="2330" y="132"/>
                    </a:lnTo>
                    <a:lnTo>
                      <a:pt x="2331" y="133"/>
                    </a:lnTo>
                    <a:lnTo>
                      <a:pt x="2332" y="135"/>
                    </a:lnTo>
                    <a:lnTo>
                      <a:pt x="2333" y="137"/>
                    </a:lnTo>
                    <a:lnTo>
                      <a:pt x="2335" y="138"/>
                    </a:lnTo>
                    <a:lnTo>
                      <a:pt x="2336" y="141"/>
                    </a:lnTo>
                    <a:lnTo>
                      <a:pt x="2337" y="142"/>
                    </a:lnTo>
                    <a:lnTo>
                      <a:pt x="2337" y="142"/>
                    </a:lnTo>
                    <a:lnTo>
                      <a:pt x="2337" y="144"/>
                    </a:lnTo>
                    <a:lnTo>
                      <a:pt x="2338" y="146"/>
                    </a:lnTo>
                    <a:lnTo>
                      <a:pt x="2339" y="148"/>
                    </a:lnTo>
                    <a:lnTo>
                      <a:pt x="2341" y="150"/>
                    </a:lnTo>
                    <a:lnTo>
                      <a:pt x="2341" y="152"/>
                    </a:lnTo>
                    <a:lnTo>
                      <a:pt x="2341" y="154"/>
                    </a:lnTo>
                    <a:lnTo>
                      <a:pt x="2342" y="155"/>
                    </a:lnTo>
                    <a:lnTo>
                      <a:pt x="2343" y="155"/>
                    </a:lnTo>
                    <a:lnTo>
                      <a:pt x="2346" y="155"/>
                    </a:lnTo>
                    <a:lnTo>
                      <a:pt x="2348" y="156"/>
                    </a:lnTo>
                    <a:lnTo>
                      <a:pt x="2351" y="157"/>
                    </a:lnTo>
                    <a:lnTo>
                      <a:pt x="2354" y="159"/>
                    </a:lnTo>
                    <a:lnTo>
                      <a:pt x="2359" y="164"/>
                    </a:lnTo>
                    <a:lnTo>
                      <a:pt x="2363" y="169"/>
                    </a:lnTo>
                    <a:lnTo>
                      <a:pt x="2368" y="175"/>
                    </a:lnTo>
                    <a:lnTo>
                      <a:pt x="2374" y="187"/>
                    </a:lnTo>
                    <a:lnTo>
                      <a:pt x="2381" y="197"/>
                    </a:lnTo>
                    <a:lnTo>
                      <a:pt x="2381" y="198"/>
                    </a:lnTo>
                    <a:lnTo>
                      <a:pt x="2382" y="200"/>
                    </a:lnTo>
                    <a:lnTo>
                      <a:pt x="2383" y="201"/>
                    </a:lnTo>
                    <a:lnTo>
                      <a:pt x="2384" y="202"/>
                    </a:lnTo>
                    <a:lnTo>
                      <a:pt x="2385" y="203"/>
                    </a:lnTo>
                    <a:lnTo>
                      <a:pt x="2386" y="203"/>
                    </a:lnTo>
                    <a:lnTo>
                      <a:pt x="2387" y="201"/>
                    </a:lnTo>
                    <a:lnTo>
                      <a:pt x="2387" y="197"/>
                    </a:lnTo>
                    <a:lnTo>
                      <a:pt x="2386" y="194"/>
                    </a:lnTo>
                    <a:lnTo>
                      <a:pt x="2386" y="191"/>
                    </a:lnTo>
                    <a:lnTo>
                      <a:pt x="2385" y="189"/>
                    </a:lnTo>
                    <a:lnTo>
                      <a:pt x="2383" y="188"/>
                    </a:lnTo>
                    <a:lnTo>
                      <a:pt x="2381" y="183"/>
                    </a:lnTo>
                    <a:lnTo>
                      <a:pt x="2380" y="179"/>
                    </a:lnTo>
                    <a:lnTo>
                      <a:pt x="2379" y="175"/>
                    </a:lnTo>
                    <a:lnTo>
                      <a:pt x="2377" y="171"/>
                    </a:lnTo>
                    <a:lnTo>
                      <a:pt x="2377" y="169"/>
                    </a:lnTo>
                    <a:lnTo>
                      <a:pt x="2376" y="168"/>
                    </a:lnTo>
                    <a:lnTo>
                      <a:pt x="2375" y="167"/>
                    </a:lnTo>
                    <a:lnTo>
                      <a:pt x="2374" y="167"/>
                    </a:lnTo>
                    <a:lnTo>
                      <a:pt x="2373" y="167"/>
                    </a:lnTo>
                    <a:lnTo>
                      <a:pt x="2372" y="166"/>
                    </a:lnTo>
                    <a:lnTo>
                      <a:pt x="2371" y="163"/>
                    </a:lnTo>
                    <a:lnTo>
                      <a:pt x="2370" y="160"/>
                    </a:lnTo>
                    <a:lnTo>
                      <a:pt x="2370" y="157"/>
                    </a:lnTo>
                    <a:lnTo>
                      <a:pt x="2370" y="156"/>
                    </a:lnTo>
                    <a:lnTo>
                      <a:pt x="2370" y="155"/>
                    </a:lnTo>
                    <a:lnTo>
                      <a:pt x="2371" y="154"/>
                    </a:lnTo>
                    <a:lnTo>
                      <a:pt x="2372" y="152"/>
                    </a:lnTo>
                    <a:lnTo>
                      <a:pt x="2372" y="150"/>
                    </a:lnTo>
                    <a:lnTo>
                      <a:pt x="2372" y="148"/>
                    </a:lnTo>
                    <a:lnTo>
                      <a:pt x="2372" y="146"/>
                    </a:lnTo>
                    <a:lnTo>
                      <a:pt x="2372" y="135"/>
                    </a:lnTo>
                    <a:lnTo>
                      <a:pt x="2371" y="133"/>
                    </a:lnTo>
                    <a:lnTo>
                      <a:pt x="2370" y="131"/>
                    </a:lnTo>
                    <a:lnTo>
                      <a:pt x="2369" y="128"/>
                    </a:lnTo>
                    <a:lnTo>
                      <a:pt x="2368" y="127"/>
                    </a:lnTo>
                    <a:lnTo>
                      <a:pt x="2366" y="127"/>
                    </a:lnTo>
                    <a:lnTo>
                      <a:pt x="2365" y="128"/>
                    </a:lnTo>
                    <a:lnTo>
                      <a:pt x="2365" y="117"/>
                    </a:lnTo>
                    <a:lnTo>
                      <a:pt x="2364" y="116"/>
                    </a:lnTo>
                    <a:lnTo>
                      <a:pt x="2364" y="114"/>
                    </a:lnTo>
                    <a:lnTo>
                      <a:pt x="2364" y="113"/>
                    </a:lnTo>
                    <a:lnTo>
                      <a:pt x="2364" y="112"/>
                    </a:lnTo>
                    <a:lnTo>
                      <a:pt x="2365" y="111"/>
                    </a:lnTo>
                    <a:lnTo>
                      <a:pt x="2366" y="111"/>
                    </a:lnTo>
                    <a:lnTo>
                      <a:pt x="2366" y="112"/>
                    </a:lnTo>
                    <a:lnTo>
                      <a:pt x="2368" y="112"/>
                    </a:lnTo>
                    <a:lnTo>
                      <a:pt x="2368" y="111"/>
                    </a:lnTo>
                    <a:lnTo>
                      <a:pt x="2369" y="109"/>
                    </a:lnTo>
                    <a:lnTo>
                      <a:pt x="2369" y="105"/>
                    </a:lnTo>
                    <a:lnTo>
                      <a:pt x="2370" y="104"/>
                    </a:lnTo>
                    <a:lnTo>
                      <a:pt x="2370" y="102"/>
                    </a:lnTo>
                    <a:lnTo>
                      <a:pt x="2370" y="93"/>
                    </a:lnTo>
                    <a:lnTo>
                      <a:pt x="2369" y="91"/>
                    </a:lnTo>
                    <a:lnTo>
                      <a:pt x="2369" y="89"/>
                    </a:lnTo>
                    <a:lnTo>
                      <a:pt x="2369" y="87"/>
                    </a:lnTo>
                    <a:lnTo>
                      <a:pt x="2369" y="84"/>
                    </a:lnTo>
                    <a:lnTo>
                      <a:pt x="2370" y="82"/>
                    </a:lnTo>
                    <a:lnTo>
                      <a:pt x="2370" y="69"/>
                    </a:lnTo>
                    <a:lnTo>
                      <a:pt x="2370" y="67"/>
                    </a:lnTo>
                    <a:lnTo>
                      <a:pt x="2370" y="65"/>
                    </a:lnTo>
                    <a:lnTo>
                      <a:pt x="2371" y="65"/>
                    </a:lnTo>
                    <a:lnTo>
                      <a:pt x="2371" y="65"/>
                    </a:lnTo>
                    <a:lnTo>
                      <a:pt x="2372" y="65"/>
                    </a:lnTo>
                    <a:lnTo>
                      <a:pt x="2373" y="66"/>
                    </a:lnTo>
                    <a:lnTo>
                      <a:pt x="2374" y="67"/>
                    </a:lnTo>
                    <a:lnTo>
                      <a:pt x="2375" y="68"/>
                    </a:lnTo>
                    <a:lnTo>
                      <a:pt x="2375" y="68"/>
                    </a:lnTo>
                    <a:lnTo>
                      <a:pt x="2376" y="68"/>
                    </a:lnTo>
                    <a:lnTo>
                      <a:pt x="2377" y="68"/>
                    </a:lnTo>
                    <a:lnTo>
                      <a:pt x="2379" y="67"/>
                    </a:lnTo>
                    <a:lnTo>
                      <a:pt x="2380" y="69"/>
                    </a:lnTo>
                    <a:lnTo>
                      <a:pt x="2381" y="70"/>
                    </a:lnTo>
                    <a:lnTo>
                      <a:pt x="2382" y="71"/>
                    </a:lnTo>
                    <a:lnTo>
                      <a:pt x="2383" y="71"/>
                    </a:lnTo>
                    <a:lnTo>
                      <a:pt x="2386" y="81"/>
                    </a:lnTo>
                    <a:lnTo>
                      <a:pt x="2390" y="91"/>
                    </a:lnTo>
                    <a:lnTo>
                      <a:pt x="2390" y="113"/>
                    </a:lnTo>
                    <a:lnTo>
                      <a:pt x="2388" y="116"/>
                    </a:lnTo>
                    <a:lnTo>
                      <a:pt x="2390" y="120"/>
                    </a:lnTo>
                    <a:lnTo>
                      <a:pt x="2391" y="122"/>
                    </a:lnTo>
                    <a:lnTo>
                      <a:pt x="2392" y="125"/>
                    </a:lnTo>
                    <a:lnTo>
                      <a:pt x="2393" y="127"/>
                    </a:lnTo>
                    <a:lnTo>
                      <a:pt x="2394" y="131"/>
                    </a:lnTo>
                    <a:lnTo>
                      <a:pt x="2395" y="133"/>
                    </a:lnTo>
                    <a:lnTo>
                      <a:pt x="2396" y="135"/>
                    </a:lnTo>
                    <a:lnTo>
                      <a:pt x="2397" y="137"/>
                    </a:lnTo>
                    <a:lnTo>
                      <a:pt x="2397" y="139"/>
                    </a:lnTo>
                    <a:lnTo>
                      <a:pt x="2397" y="142"/>
                    </a:lnTo>
                    <a:lnTo>
                      <a:pt x="2397" y="144"/>
                    </a:lnTo>
                    <a:lnTo>
                      <a:pt x="2397" y="146"/>
                    </a:lnTo>
                    <a:lnTo>
                      <a:pt x="2397" y="148"/>
                    </a:lnTo>
                    <a:lnTo>
                      <a:pt x="2397" y="150"/>
                    </a:lnTo>
                    <a:lnTo>
                      <a:pt x="2397" y="153"/>
                    </a:lnTo>
                    <a:lnTo>
                      <a:pt x="2399" y="166"/>
                    </a:lnTo>
                    <a:lnTo>
                      <a:pt x="2401" y="179"/>
                    </a:lnTo>
                    <a:lnTo>
                      <a:pt x="2402" y="189"/>
                    </a:lnTo>
                    <a:lnTo>
                      <a:pt x="2404" y="201"/>
                    </a:lnTo>
                    <a:lnTo>
                      <a:pt x="2405" y="203"/>
                    </a:lnTo>
                    <a:lnTo>
                      <a:pt x="2405" y="205"/>
                    </a:lnTo>
                    <a:lnTo>
                      <a:pt x="2406" y="209"/>
                    </a:lnTo>
                    <a:lnTo>
                      <a:pt x="2406" y="212"/>
                    </a:lnTo>
                    <a:lnTo>
                      <a:pt x="2408" y="215"/>
                    </a:lnTo>
                    <a:lnTo>
                      <a:pt x="2408" y="218"/>
                    </a:lnTo>
                    <a:lnTo>
                      <a:pt x="2408" y="221"/>
                    </a:lnTo>
                    <a:lnTo>
                      <a:pt x="2406" y="223"/>
                    </a:lnTo>
                    <a:lnTo>
                      <a:pt x="2407" y="226"/>
                    </a:lnTo>
                    <a:lnTo>
                      <a:pt x="2407" y="229"/>
                    </a:lnTo>
                    <a:lnTo>
                      <a:pt x="2408" y="232"/>
                    </a:lnTo>
                    <a:lnTo>
                      <a:pt x="2408" y="234"/>
                    </a:lnTo>
                    <a:lnTo>
                      <a:pt x="2408" y="236"/>
                    </a:lnTo>
                    <a:lnTo>
                      <a:pt x="2407" y="239"/>
                    </a:lnTo>
                    <a:lnTo>
                      <a:pt x="2406" y="241"/>
                    </a:lnTo>
                    <a:lnTo>
                      <a:pt x="2406" y="243"/>
                    </a:lnTo>
                    <a:lnTo>
                      <a:pt x="2405" y="246"/>
                    </a:lnTo>
                    <a:lnTo>
                      <a:pt x="2403" y="248"/>
                    </a:lnTo>
                    <a:lnTo>
                      <a:pt x="2402" y="251"/>
                    </a:lnTo>
                    <a:lnTo>
                      <a:pt x="2401" y="252"/>
                    </a:lnTo>
                    <a:lnTo>
                      <a:pt x="2399" y="252"/>
                    </a:lnTo>
                    <a:lnTo>
                      <a:pt x="2398" y="254"/>
                    </a:lnTo>
                    <a:lnTo>
                      <a:pt x="2398" y="256"/>
                    </a:lnTo>
                    <a:lnTo>
                      <a:pt x="2398" y="257"/>
                    </a:lnTo>
                    <a:lnTo>
                      <a:pt x="2399" y="259"/>
                    </a:lnTo>
                    <a:lnTo>
                      <a:pt x="2401" y="261"/>
                    </a:lnTo>
                    <a:lnTo>
                      <a:pt x="2401" y="261"/>
                    </a:lnTo>
                    <a:lnTo>
                      <a:pt x="2402" y="261"/>
                    </a:lnTo>
                    <a:lnTo>
                      <a:pt x="2403" y="262"/>
                    </a:lnTo>
                    <a:lnTo>
                      <a:pt x="2405" y="263"/>
                    </a:lnTo>
                    <a:lnTo>
                      <a:pt x="2406" y="264"/>
                    </a:lnTo>
                    <a:lnTo>
                      <a:pt x="2407" y="264"/>
                    </a:lnTo>
                    <a:lnTo>
                      <a:pt x="2408" y="264"/>
                    </a:lnTo>
                    <a:lnTo>
                      <a:pt x="2408" y="263"/>
                    </a:lnTo>
                    <a:lnTo>
                      <a:pt x="2408" y="261"/>
                    </a:lnTo>
                    <a:lnTo>
                      <a:pt x="2409" y="258"/>
                    </a:lnTo>
                    <a:lnTo>
                      <a:pt x="2410" y="256"/>
                    </a:lnTo>
                    <a:lnTo>
                      <a:pt x="2412" y="255"/>
                    </a:lnTo>
                    <a:lnTo>
                      <a:pt x="2413" y="254"/>
                    </a:lnTo>
                    <a:lnTo>
                      <a:pt x="2413" y="252"/>
                    </a:lnTo>
                    <a:lnTo>
                      <a:pt x="2414" y="245"/>
                    </a:lnTo>
                    <a:lnTo>
                      <a:pt x="2414" y="237"/>
                    </a:lnTo>
                    <a:lnTo>
                      <a:pt x="2415" y="232"/>
                    </a:lnTo>
                    <a:lnTo>
                      <a:pt x="2416" y="229"/>
                    </a:lnTo>
                    <a:lnTo>
                      <a:pt x="2416" y="225"/>
                    </a:lnTo>
                    <a:lnTo>
                      <a:pt x="2416" y="222"/>
                    </a:lnTo>
                    <a:lnTo>
                      <a:pt x="2415" y="218"/>
                    </a:lnTo>
                    <a:lnTo>
                      <a:pt x="2413" y="214"/>
                    </a:lnTo>
                    <a:lnTo>
                      <a:pt x="2413" y="211"/>
                    </a:lnTo>
                    <a:lnTo>
                      <a:pt x="2412" y="207"/>
                    </a:lnTo>
                    <a:lnTo>
                      <a:pt x="2412" y="203"/>
                    </a:lnTo>
                    <a:lnTo>
                      <a:pt x="2413" y="201"/>
                    </a:lnTo>
                    <a:lnTo>
                      <a:pt x="2414" y="198"/>
                    </a:lnTo>
                    <a:lnTo>
                      <a:pt x="2415" y="197"/>
                    </a:lnTo>
                    <a:lnTo>
                      <a:pt x="2416" y="197"/>
                    </a:lnTo>
                    <a:lnTo>
                      <a:pt x="2417" y="196"/>
                    </a:lnTo>
                    <a:lnTo>
                      <a:pt x="2418" y="196"/>
                    </a:lnTo>
                    <a:lnTo>
                      <a:pt x="2420" y="197"/>
                    </a:lnTo>
                    <a:lnTo>
                      <a:pt x="2422" y="199"/>
                    </a:lnTo>
                    <a:lnTo>
                      <a:pt x="2425" y="209"/>
                    </a:lnTo>
                    <a:lnTo>
                      <a:pt x="2426" y="221"/>
                    </a:lnTo>
                    <a:lnTo>
                      <a:pt x="2426" y="224"/>
                    </a:lnTo>
                    <a:lnTo>
                      <a:pt x="2427" y="229"/>
                    </a:lnTo>
                    <a:lnTo>
                      <a:pt x="2427" y="232"/>
                    </a:lnTo>
                    <a:lnTo>
                      <a:pt x="2428" y="236"/>
                    </a:lnTo>
                    <a:lnTo>
                      <a:pt x="2430" y="237"/>
                    </a:lnTo>
                    <a:lnTo>
                      <a:pt x="2433" y="239"/>
                    </a:lnTo>
                    <a:lnTo>
                      <a:pt x="2433" y="239"/>
                    </a:lnTo>
                    <a:lnTo>
                      <a:pt x="2434" y="237"/>
                    </a:lnTo>
                    <a:lnTo>
                      <a:pt x="2435" y="236"/>
                    </a:lnTo>
                    <a:lnTo>
                      <a:pt x="2435" y="235"/>
                    </a:lnTo>
                    <a:lnTo>
                      <a:pt x="2434" y="234"/>
                    </a:lnTo>
                    <a:lnTo>
                      <a:pt x="2433" y="234"/>
                    </a:lnTo>
                    <a:lnTo>
                      <a:pt x="2431" y="233"/>
                    </a:lnTo>
                    <a:lnTo>
                      <a:pt x="2431" y="232"/>
                    </a:lnTo>
                    <a:lnTo>
                      <a:pt x="2430" y="230"/>
                    </a:lnTo>
                    <a:lnTo>
                      <a:pt x="2429" y="226"/>
                    </a:lnTo>
                    <a:lnTo>
                      <a:pt x="2428" y="223"/>
                    </a:lnTo>
                    <a:lnTo>
                      <a:pt x="2428" y="221"/>
                    </a:lnTo>
                    <a:lnTo>
                      <a:pt x="2428" y="219"/>
                    </a:lnTo>
                    <a:lnTo>
                      <a:pt x="2429" y="219"/>
                    </a:lnTo>
                    <a:lnTo>
                      <a:pt x="2429" y="219"/>
                    </a:lnTo>
                    <a:lnTo>
                      <a:pt x="2430" y="219"/>
                    </a:lnTo>
                    <a:lnTo>
                      <a:pt x="2431" y="219"/>
                    </a:lnTo>
                    <a:lnTo>
                      <a:pt x="2433" y="219"/>
                    </a:lnTo>
                    <a:lnTo>
                      <a:pt x="2433" y="218"/>
                    </a:lnTo>
                    <a:lnTo>
                      <a:pt x="2433" y="216"/>
                    </a:lnTo>
                    <a:lnTo>
                      <a:pt x="2430" y="209"/>
                    </a:lnTo>
                    <a:lnTo>
                      <a:pt x="2428" y="202"/>
                    </a:lnTo>
                    <a:lnTo>
                      <a:pt x="2424" y="197"/>
                    </a:lnTo>
                    <a:lnTo>
                      <a:pt x="2423" y="194"/>
                    </a:lnTo>
                    <a:lnTo>
                      <a:pt x="2422" y="192"/>
                    </a:lnTo>
                    <a:lnTo>
                      <a:pt x="2420" y="190"/>
                    </a:lnTo>
                    <a:lnTo>
                      <a:pt x="2419" y="188"/>
                    </a:lnTo>
                    <a:lnTo>
                      <a:pt x="2417" y="187"/>
                    </a:lnTo>
                    <a:lnTo>
                      <a:pt x="2415" y="188"/>
                    </a:lnTo>
                    <a:lnTo>
                      <a:pt x="2415" y="188"/>
                    </a:lnTo>
                    <a:lnTo>
                      <a:pt x="2414" y="189"/>
                    </a:lnTo>
                    <a:lnTo>
                      <a:pt x="2413" y="190"/>
                    </a:lnTo>
                    <a:lnTo>
                      <a:pt x="2410" y="191"/>
                    </a:lnTo>
                    <a:lnTo>
                      <a:pt x="2409" y="191"/>
                    </a:lnTo>
                    <a:lnTo>
                      <a:pt x="2408" y="191"/>
                    </a:lnTo>
                    <a:lnTo>
                      <a:pt x="2406" y="190"/>
                    </a:lnTo>
                    <a:lnTo>
                      <a:pt x="2406" y="179"/>
                    </a:lnTo>
                    <a:lnTo>
                      <a:pt x="2405" y="175"/>
                    </a:lnTo>
                    <a:lnTo>
                      <a:pt x="2405" y="171"/>
                    </a:lnTo>
                    <a:lnTo>
                      <a:pt x="2404" y="168"/>
                    </a:lnTo>
                    <a:lnTo>
                      <a:pt x="2405" y="160"/>
                    </a:lnTo>
                    <a:lnTo>
                      <a:pt x="2405" y="154"/>
                    </a:lnTo>
                    <a:lnTo>
                      <a:pt x="2404" y="146"/>
                    </a:lnTo>
                    <a:lnTo>
                      <a:pt x="2399" y="133"/>
                    </a:lnTo>
                    <a:lnTo>
                      <a:pt x="2396" y="120"/>
                    </a:lnTo>
                    <a:lnTo>
                      <a:pt x="2395" y="113"/>
                    </a:lnTo>
                    <a:lnTo>
                      <a:pt x="2395" y="105"/>
                    </a:lnTo>
                    <a:lnTo>
                      <a:pt x="2396" y="100"/>
                    </a:lnTo>
                    <a:lnTo>
                      <a:pt x="2396" y="100"/>
                    </a:lnTo>
                    <a:lnTo>
                      <a:pt x="2397" y="101"/>
                    </a:lnTo>
                    <a:lnTo>
                      <a:pt x="2398" y="101"/>
                    </a:lnTo>
                    <a:lnTo>
                      <a:pt x="2399" y="101"/>
                    </a:lnTo>
                    <a:lnTo>
                      <a:pt x="2401" y="100"/>
                    </a:lnTo>
                    <a:lnTo>
                      <a:pt x="2402" y="98"/>
                    </a:lnTo>
                    <a:lnTo>
                      <a:pt x="2402" y="95"/>
                    </a:lnTo>
                    <a:lnTo>
                      <a:pt x="2402" y="93"/>
                    </a:lnTo>
                    <a:lnTo>
                      <a:pt x="2402" y="91"/>
                    </a:lnTo>
                    <a:lnTo>
                      <a:pt x="2402" y="88"/>
                    </a:lnTo>
                    <a:lnTo>
                      <a:pt x="2402" y="84"/>
                    </a:lnTo>
                    <a:lnTo>
                      <a:pt x="2401" y="82"/>
                    </a:lnTo>
                    <a:lnTo>
                      <a:pt x="2399" y="79"/>
                    </a:lnTo>
                    <a:lnTo>
                      <a:pt x="2397" y="76"/>
                    </a:lnTo>
                    <a:lnTo>
                      <a:pt x="2397" y="76"/>
                    </a:lnTo>
                    <a:lnTo>
                      <a:pt x="2396" y="74"/>
                    </a:lnTo>
                    <a:lnTo>
                      <a:pt x="2396" y="72"/>
                    </a:lnTo>
                    <a:lnTo>
                      <a:pt x="2396" y="71"/>
                    </a:lnTo>
                    <a:lnTo>
                      <a:pt x="2396" y="69"/>
                    </a:lnTo>
                    <a:lnTo>
                      <a:pt x="2396" y="69"/>
                    </a:lnTo>
                    <a:lnTo>
                      <a:pt x="2396" y="70"/>
                    </a:lnTo>
                    <a:lnTo>
                      <a:pt x="2397" y="71"/>
                    </a:lnTo>
                    <a:lnTo>
                      <a:pt x="2397" y="72"/>
                    </a:lnTo>
                    <a:lnTo>
                      <a:pt x="2397" y="73"/>
                    </a:lnTo>
                    <a:lnTo>
                      <a:pt x="2397" y="73"/>
                    </a:lnTo>
                    <a:lnTo>
                      <a:pt x="2399" y="77"/>
                    </a:lnTo>
                    <a:lnTo>
                      <a:pt x="2401" y="80"/>
                    </a:lnTo>
                    <a:lnTo>
                      <a:pt x="2402" y="82"/>
                    </a:lnTo>
                    <a:lnTo>
                      <a:pt x="2402" y="84"/>
                    </a:lnTo>
                    <a:lnTo>
                      <a:pt x="2403" y="89"/>
                    </a:lnTo>
                    <a:lnTo>
                      <a:pt x="2403" y="93"/>
                    </a:lnTo>
                    <a:lnTo>
                      <a:pt x="2404" y="98"/>
                    </a:lnTo>
                    <a:lnTo>
                      <a:pt x="2404" y="111"/>
                    </a:lnTo>
                    <a:lnTo>
                      <a:pt x="2405" y="115"/>
                    </a:lnTo>
                    <a:lnTo>
                      <a:pt x="2406" y="120"/>
                    </a:lnTo>
                    <a:lnTo>
                      <a:pt x="2406" y="124"/>
                    </a:lnTo>
                    <a:lnTo>
                      <a:pt x="2407" y="127"/>
                    </a:lnTo>
                    <a:lnTo>
                      <a:pt x="2409" y="130"/>
                    </a:lnTo>
                    <a:lnTo>
                      <a:pt x="2410" y="132"/>
                    </a:lnTo>
                    <a:lnTo>
                      <a:pt x="2412" y="133"/>
                    </a:lnTo>
                    <a:lnTo>
                      <a:pt x="2414" y="134"/>
                    </a:lnTo>
                    <a:lnTo>
                      <a:pt x="2415" y="135"/>
                    </a:lnTo>
                    <a:lnTo>
                      <a:pt x="2416" y="136"/>
                    </a:lnTo>
                    <a:lnTo>
                      <a:pt x="2417" y="137"/>
                    </a:lnTo>
                    <a:lnTo>
                      <a:pt x="2419" y="138"/>
                    </a:lnTo>
                    <a:lnTo>
                      <a:pt x="2420" y="139"/>
                    </a:lnTo>
                    <a:lnTo>
                      <a:pt x="2422" y="139"/>
                    </a:lnTo>
                    <a:lnTo>
                      <a:pt x="2423" y="139"/>
                    </a:lnTo>
                    <a:lnTo>
                      <a:pt x="2424" y="139"/>
                    </a:lnTo>
                    <a:lnTo>
                      <a:pt x="2423" y="137"/>
                    </a:lnTo>
                    <a:lnTo>
                      <a:pt x="2422" y="135"/>
                    </a:lnTo>
                    <a:lnTo>
                      <a:pt x="2420" y="132"/>
                    </a:lnTo>
                    <a:lnTo>
                      <a:pt x="2419" y="131"/>
                    </a:lnTo>
                    <a:lnTo>
                      <a:pt x="2418" y="130"/>
                    </a:lnTo>
                    <a:lnTo>
                      <a:pt x="2417" y="128"/>
                    </a:lnTo>
                    <a:lnTo>
                      <a:pt x="2415" y="126"/>
                    </a:lnTo>
                    <a:lnTo>
                      <a:pt x="2414" y="124"/>
                    </a:lnTo>
                    <a:lnTo>
                      <a:pt x="2412" y="121"/>
                    </a:lnTo>
                    <a:lnTo>
                      <a:pt x="2410" y="117"/>
                    </a:lnTo>
                    <a:lnTo>
                      <a:pt x="2409" y="113"/>
                    </a:lnTo>
                    <a:lnTo>
                      <a:pt x="2408" y="109"/>
                    </a:lnTo>
                    <a:lnTo>
                      <a:pt x="2407" y="107"/>
                    </a:lnTo>
                    <a:lnTo>
                      <a:pt x="2407" y="106"/>
                    </a:lnTo>
                    <a:lnTo>
                      <a:pt x="2407" y="105"/>
                    </a:lnTo>
                    <a:lnTo>
                      <a:pt x="2407" y="105"/>
                    </a:lnTo>
                    <a:lnTo>
                      <a:pt x="2408" y="106"/>
                    </a:lnTo>
                    <a:lnTo>
                      <a:pt x="2410" y="109"/>
                    </a:lnTo>
                    <a:lnTo>
                      <a:pt x="2410" y="111"/>
                    </a:lnTo>
                    <a:lnTo>
                      <a:pt x="2412" y="113"/>
                    </a:lnTo>
                    <a:lnTo>
                      <a:pt x="2413" y="115"/>
                    </a:lnTo>
                    <a:lnTo>
                      <a:pt x="2415" y="116"/>
                    </a:lnTo>
                    <a:lnTo>
                      <a:pt x="2416" y="115"/>
                    </a:lnTo>
                    <a:lnTo>
                      <a:pt x="2417" y="113"/>
                    </a:lnTo>
                    <a:lnTo>
                      <a:pt x="2417" y="111"/>
                    </a:lnTo>
                    <a:lnTo>
                      <a:pt x="2417" y="107"/>
                    </a:lnTo>
                    <a:lnTo>
                      <a:pt x="2415" y="104"/>
                    </a:lnTo>
                    <a:lnTo>
                      <a:pt x="2413" y="102"/>
                    </a:lnTo>
                    <a:lnTo>
                      <a:pt x="2413" y="101"/>
                    </a:lnTo>
                    <a:lnTo>
                      <a:pt x="2412" y="99"/>
                    </a:lnTo>
                    <a:lnTo>
                      <a:pt x="2412" y="99"/>
                    </a:lnTo>
                    <a:lnTo>
                      <a:pt x="2410" y="98"/>
                    </a:lnTo>
                    <a:lnTo>
                      <a:pt x="2410" y="95"/>
                    </a:lnTo>
                    <a:lnTo>
                      <a:pt x="2412" y="93"/>
                    </a:lnTo>
                    <a:lnTo>
                      <a:pt x="2412" y="92"/>
                    </a:lnTo>
                    <a:lnTo>
                      <a:pt x="2413" y="91"/>
                    </a:lnTo>
                    <a:lnTo>
                      <a:pt x="2414" y="91"/>
                    </a:lnTo>
                    <a:lnTo>
                      <a:pt x="2414" y="91"/>
                    </a:lnTo>
                    <a:lnTo>
                      <a:pt x="2415" y="92"/>
                    </a:lnTo>
                    <a:lnTo>
                      <a:pt x="2416" y="93"/>
                    </a:lnTo>
                    <a:lnTo>
                      <a:pt x="2417" y="95"/>
                    </a:lnTo>
                    <a:lnTo>
                      <a:pt x="2417" y="100"/>
                    </a:lnTo>
                    <a:lnTo>
                      <a:pt x="2419" y="100"/>
                    </a:lnTo>
                    <a:lnTo>
                      <a:pt x="2422" y="101"/>
                    </a:lnTo>
                    <a:lnTo>
                      <a:pt x="2424" y="102"/>
                    </a:lnTo>
                    <a:lnTo>
                      <a:pt x="2426" y="104"/>
                    </a:lnTo>
                    <a:lnTo>
                      <a:pt x="2426" y="105"/>
                    </a:lnTo>
                    <a:lnTo>
                      <a:pt x="2427" y="109"/>
                    </a:lnTo>
                    <a:lnTo>
                      <a:pt x="2428" y="111"/>
                    </a:lnTo>
                    <a:lnTo>
                      <a:pt x="2430" y="113"/>
                    </a:lnTo>
                    <a:lnTo>
                      <a:pt x="2433" y="114"/>
                    </a:lnTo>
                    <a:lnTo>
                      <a:pt x="2434" y="116"/>
                    </a:lnTo>
                    <a:lnTo>
                      <a:pt x="2434" y="119"/>
                    </a:lnTo>
                    <a:lnTo>
                      <a:pt x="2435" y="120"/>
                    </a:lnTo>
                    <a:lnTo>
                      <a:pt x="2437" y="122"/>
                    </a:lnTo>
                    <a:lnTo>
                      <a:pt x="2438" y="123"/>
                    </a:lnTo>
                    <a:lnTo>
                      <a:pt x="2439" y="124"/>
                    </a:lnTo>
                    <a:lnTo>
                      <a:pt x="2439" y="124"/>
                    </a:lnTo>
                    <a:lnTo>
                      <a:pt x="2441" y="125"/>
                    </a:lnTo>
                    <a:lnTo>
                      <a:pt x="2442" y="126"/>
                    </a:lnTo>
                    <a:lnTo>
                      <a:pt x="2444" y="130"/>
                    </a:lnTo>
                    <a:lnTo>
                      <a:pt x="2444" y="132"/>
                    </a:lnTo>
                    <a:lnTo>
                      <a:pt x="2442" y="135"/>
                    </a:lnTo>
                    <a:lnTo>
                      <a:pt x="2441" y="137"/>
                    </a:lnTo>
                    <a:lnTo>
                      <a:pt x="2441" y="146"/>
                    </a:lnTo>
                    <a:lnTo>
                      <a:pt x="2444" y="150"/>
                    </a:lnTo>
                    <a:lnTo>
                      <a:pt x="2444" y="155"/>
                    </a:lnTo>
                    <a:lnTo>
                      <a:pt x="2444" y="159"/>
                    </a:lnTo>
                    <a:lnTo>
                      <a:pt x="2444" y="163"/>
                    </a:lnTo>
                    <a:lnTo>
                      <a:pt x="2445" y="166"/>
                    </a:lnTo>
                    <a:lnTo>
                      <a:pt x="2446" y="170"/>
                    </a:lnTo>
                    <a:lnTo>
                      <a:pt x="2446" y="172"/>
                    </a:lnTo>
                    <a:lnTo>
                      <a:pt x="2446" y="172"/>
                    </a:lnTo>
                    <a:lnTo>
                      <a:pt x="2447" y="172"/>
                    </a:lnTo>
                    <a:lnTo>
                      <a:pt x="2447" y="171"/>
                    </a:lnTo>
                    <a:lnTo>
                      <a:pt x="2448" y="170"/>
                    </a:lnTo>
                    <a:lnTo>
                      <a:pt x="2449" y="170"/>
                    </a:lnTo>
                    <a:lnTo>
                      <a:pt x="2450" y="169"/>
                    </a:lnTo>
                    <a:lnTo>
                      <a:pt x="2450" y="168"/>
                    </a:lnTo>
                    <a:lnTo>
                      <a:pt x="2450" y="168"/>
                    </a:lnTo>
                    <a:lnTo>
                      <a:pt x="2451" y="167"/>
                    </a:lnTo>
                    <a:lnTo>
                      <a:pt x="2452" y="166"/>
                    </a:lnTo>
                    <a:lnTo>
                      <a:pt x="2452" y="164"/>
                    </a:lnTo>
                    <a:lnTo>
                      <a:pt x="2452" y="161"/>
                    </a:lnTo>
                    <a:lnTo>
                      <a:pt x="2452" y="157"/>
                    </a:lnTo>
                    <a:lnTo>
                      <a:pt x="2450" y="152"/>
                    </a:lnTo>
                    <a:lnTo>
                      <a:pt x="2448" y="147"/>
                    </a:lnTo>
                    <a:lnTo>
                      <a:pt x="2446" y="144"/>
                    </a:lnTo>
                    <a:lnTo>
                      <a:pt x="2446" y="122"/>
                    </a:lnTo>
                    <a:lnTo>
                      <a:pt x="2445" y="119"/>
                    </a:lnTo>
                    <a:lnTo>
                      <a:pt x="2442" y="116"/>
                    </a:lnTo>
                    <a:lnTo>
                      <a:pt x="2440" y="114"/>
                    </a:lnTo>
                    <a:lnTo>
                      <a:pt x="2437" y="111"/>
                    </a:lnTo>
                    <a:lnTo>
                      <a:pt x="2437" y="111"/>
                    </a:lnTo>
                    <a:lnTo>
                      <a:pt x="2437" y="109"/>
                    </a:lnTo>
                    <a:lnTo>
                      <a:pt x="2436" y="106"/>
                    </a:lnTo>
                    <a:lnTo>
                      <a:pt x="2435" y="104"/>
                    </a:lnTo>
                    <a:lnTo>
                      <a:pt x="2434" y="104"/>
                    </a:lnTo>
                    <a:lnTo>
                      <a:pt x="2433" y="104"/>
                    </a:lnTo>
                    <a:lnTo>
                      <a:pt x="2433" y="103"/>
                    </a:lnTo>
                    <a:lnTo>
                      <a:pt x="2430" y="102"/>
                    </a:lnTo>
                    <a:lnTo>
                      <a:pt x="2427" y="92"/>
                    </a:lnTo>
                    <a:lnTo>
                      <a:pt x="2426" y="82"/>
                    </a:lnTo>
                    <a:lnTo>
                      <a:pt x="2426" y="78"/>
                    </a:lnTo>
                    <a:lnTo>
                      <a:pt x="2424" y="73"/>
                    </a:lnTo>
                    <a:lnTo>
                      <a:pt x="2422" y="69"/>
                    </a:lnTo>
                    <a:lnTo>
                      <a:pt x="2423" y="67"/>
                    </a:lnTo>
                    <a:lnTo>
                      <a:pt x="2423" y="65"/>
                    </a:lnTo>
                    <a:lnTo>
                      <a:pt x="2424" y="62"/>
                    </a:lnTo>
                    <a:lnTo>
                      <a:pt x="2424" y="60"/>
                    </a:lnTo>
                    <a:lnTo>
                      <a:pt x="2426" y="59"/>
                    </a:lnTo>
                    <a:lnTo>
                      <a:pt x="2427" y="58"/>
                    </a:lnTo>
                    <a:lnTo>
                      <a:pt x="2429" y="58"/>
                    </a:lnTo>
                    <a:lnTo>
                      <a:pt x="2431" y="58"/>
                    </a:lnTo>
                    <a:lnTo>
                      <a:pt x="2433" y="58"/>
                    </a:lnTo>
                    <a:lnTo>
                      <a:pt x="2435" y="59"/>
                    </a:lnTo>
                    <a:lnTo>
                      <a:pt x="2437" y="60"/>
                    </a:lnTo>
                    <a:lnTo>
                      <a:pt x="2439" y="60"/>
                    </a:lnTo>
                    <a:lnTo>
                      <a:pt x="2441" y="60"/>
                    </a:lnTo>
                    <a:lnTo>
                      <a:pt x="2444" y="61"/>
                    </a:lnTo>
                    <a:lnTo>
                      <a:pt x="2446" y="61"/>
                    </a:lnTo>
                    <a:lnTo>
                      <a:pt x="2448" y="60"/>
                    </a:lnTo>
                    <a:lnTo>
                      <a:pt x="2450" y="59"/>
                    </a:lnTo>
                    <a:lnTo>
                      <a:pt x="2451" y="57"/>
                    </a:lnTo>
                    <a:lnTo>
                      <a:pt x="2451" y="55"/>
                    </a:lnTo>
                    <a:lnTo>
                      <a:pt x="2450" y="51"/>
                    </a:lnTo>
                    <a:lnTo>
                      <a:pt x="2449" y="48"/>
                    </a:lnTo>
                    <a:lnTo>
                      <a:pt x="2447" y="45"/>
                    </a:lnTo>
                    <a:lnTo>
                      <a:pt x="2446" y="41"/>
                    </a:lnTo>
                    <a:lnTo>
                      <a:pt x="2446" y="39"/>
                    </a:lnTo>
                    <a:lnTo>
                      <a:pt x="2446" y="36"/>
                    </a:lnTo>
                    <a:lnTo>
                      <a:pt x="2447" y="35"/>
                    </a:lnTo>
                    <a:lnTo>
                      <a:pt x="2446" y="34"/>
                    </a:lnTo>
                    <a:lnTo>
                      <a:pt x="2446" y="33"/>
                    </a:lnTo>
                    <a:lnTo>
                      <a:pt x="2445" y="32"/>
                    </a:lnTo>
                    <a:lnTo>
                      <a:pt x="2444" y="30"/>
                    </a:lnTo>
                    <a:lnTo>
                      <a:pt x="2445" y="28"/>
                    </a:lnTo>
                    <a:lnTo>
                      <a:pt x="2446" y="26"/>
                    </a:lnTo>
                    <a:lnTo>
                      <a:pt x="2446" y="24"/>
                    </a:lnTo>
                    <a:lnTo>
                      <a:pt x="2446" y="22"/>
                    </a:lnTo>
                    <a:lnTo>
                      <a:pt x="2447" y="19"/>
                    </a:lnTo>
                    <a:lnTo>
                      <a:pt x="2448" y="17"/>
                    </a:lnTo>
                    <a:lnTo>
                      <a:pt x="2450" y="14"/>
                    </a:lnTo>
                    <a:lnTo>
                      <a:pt x="2451" y="13"/>
                    </a:lnTo>
                    <a:lnTo>
                      <a:pt x="2453" y="11"/>
                    </a:lnTo>
                    <a:lnTo>
                      <a:pt x="2455" y="8"/>
                    </a:lnTo>
                    <a:lnTo>
                      <a:pt x="2456" y="6"/>
                    </a:lnTo>
                    <a:lnTo>
                      <a:pt x="2457" y="5"/>
                    </a:lnTo>
                    <a:lnTo>
                      <a:pt x="2458" y="3"/>
                    </a:lnTo>
                    <a:lnTo>
                      <a:pt x="2458" y="2"/>
                    </a:lnTo>
                    <a:lnTo>
                      <a:pt x="2459" y="2"/>
                    </a:lnTo>
                    <a:lnTo>
                      <a:pt x="2460" y="3"/>
                    </a:lnTo>
                    <a:lnTo>
                      <a:pt x="2461" y="3"/>
                    </a:lnTo>
                    <a:lnTo>
                      <a:pt x="2462" y="4"/>
                    </a:lnTo>
                    <a:lnTo>
                      <a:pt x="2463" y="4"/>
                    </a:lnTo>
                    <a:lnTo>
                      <a:pt x="2464" y="2"/>
                    </a:lnTo>
                    <a:lnTo>
                      <a:pt x="2466" y="1"/>
                    </a:lnTo>
                    <a:lnTo>
                      <a:pt x="2467" y="0"/>
                    </a:lnTo>
                    <a:lnTo>
                      <a:pt x="24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5"/>
              <p:cNvSpPr/>
              <p:nvPr/>
            </p:nvSpPr>
            <p:spPr>
              <a:xfrm>
                <a:off x="8361000" y="4768920"/>
                <a:ext cx="585360" cy="2336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2878" h="1116">
                    <a:moveTo>
                      <a:pt x="2874" y="211"/>
                    </a:moveTo>
                    <a:lnTo>
                      <a:pt x="2875" y="213"/>
                    </a:lnTo>
                    <a:lnTo>
                      <a:pt x="2876" y="215"/>
                    </a:lnTo>
                    <a:lnTo>
                      <a:pt x="2877" y="218"/>
                    </a:lnTo>
                    <a:lnTo>
                      <a:pt x="2877" y="221"/>
                    </a:lnTo>
                    <a:lnTo>
                      <a:pt x="2878" y="223"/>
                    </a:lnTo>
                    <a:lnTo>
                      <a:pt x="2878" y="224"/>
                    </a:lnTo>
                    <a:lnTo>
                      <a:pt x="2877" y="225"/>
                    </a:lnTo>
                    <a:lnTo>
                      <a:pt x="2876" y="225"/>
                    </a:lnTo>
                    <a:lnTo>
                      <a:pt x="2874" y="224"/>
                    </a:lnTo>
                    <a:lnTo>
                      <a:pt x="2873" y="222"/>
                    </a:lnTo>
                    <a:lnTo>
                      <a:pt x="2871" y="218"/>
                    </a:lnTo>
                    <a:lnTo>
                      <a:pt x="2871" y="216"/>
                    </a:lnTo>
                    <a:lnTo>
                      <a:pt x="2871" y="214"/>
                    </a:lnTo>
                    <a:lnTo>
                      <a:pt x="2871" y="212"/>
                    </a:lnTo>
                    <a:lnTo>
                      <a:pt x="2873" y="212"/>
                    </a:lnTo>
                    <a:lnTo>
                      <a:pt x="2874" y="211"/>
                    </a:lnTo>
                    <a:lnTo>
                      <a:pt x="2874" y="211"/>
                    </a:lnTo>
                    <a:close/>
                    <a:moveTo>
                      <a:pt x="1379" y="175"/>
                    </a:moveTo>
                    <a:lnTo>
                      <a:pt x="1382" y="175"/>
                    </a:lnTo>
                    <a:lnTo>
                      <a:pt x="1385" y="177"/>
                    </a:lnTo>
                    <a:lnTo>
                      <a:pt x="1389" y="179"/>
                    </a:lnTo>
                    <a:lnTo>
                      <a:pt x="1390" y="181"/>
                    </a:lnTo>
                    <a:lnTo>
                      <a:pt x="1390" y="182"/>
                    </a:lnTo>
                    <a:lnTo>
                      <a:pt x="1389" y="184"/>
                    </a:lnTo>
                    <a:lnTo>
                      <a:pt x="1388" y="185"/>
                    </a:lnTo>
                    <a:lnTo>
                      <a:pt x="1385" y="186"/>
                    </a:lnTo>
                    <a:lnTo>
                      <a:pt x="1382" y="186"/>
                    </a:lnTo>
                    <a:lnTo>
                      <a:pt x="1379" y="185"/>
                    </a:lnTo>
                    <a:lnTo>
                      <a:pt x="1375" y="184"/>
                    </a:lnTo>
                    <a:lnTo>
                      <a:pt x="1373" y="181"/>
                    </a:lnTo>
                    <a:lnTo>
                      <a:pt x="1373" y="179"/>
                    </a:lnTo>
                    <a:lnTo>
                      <a:pt x="1374" y="178"/>
                    </a:lnTo>
                    <a:lnTo>
                      <a:pt x="1376" y="175"/>
                    </a:lnTo>
                    <a:lnTo>
                      <a:pt x="1379" y="175"/>
                    </a:lnTo>
                    <a:close/>
                    <a:moveTo>
                      <a:pt x="1340" y="167"/>
                    </a:moveTo>
                    <a:lnTo>
                      <a:pt x="1350" y="168"/>
                    </a:lnTo>
                    <a:lnTo>
                      <a:pt x="1360" y="171"/>
                    </a:lnTo>
                    <a:lnTo>
                      <a:pt x="1364" y="175"/>
                    </a:lnTo>
                    <a:lnTo>
                      <a:pt x="1365" y="183"/>
                    </a:lnTo>
                    <a:lnTo>
                      <a:pt x="1365" y="191"/>
                    </a:lnTo>
                    <a:lnTo>
                      <a:pt x="1365" y="199"/>
                    </a:lnTo>
                    <a:lnTo>
                      <a:pt x="1364" y="204"/>
                    </a:lnTo>
                    <a:lnTo>
                      <a:pt x="1360" y="212"/>
                    </a:lnTo>
                    <a:lnTo>
                      <a:pt x="1352" y="216"/>
                    </a:lnTo>
                    <a:lnTo>
                      <a:pt x="1342" y="217"/>
                    </a:lnTo>
                    <a:lnTo>
                      <a:pt x="1332" y="216"/>
                    </a:lnTo>
                    <a:lnTo>
                      <a:pt x="1327" y="214"/>
                    </a:lnTo>
                    <a:lnTo>
                      <a:pt x="1323" y="211"/>
                    </a:lnTo>
                    <a:lnTo>
                      <a:pt x="1319" y="207"/>
                    </a:lnTo>
                    <a:lnTo>
                      <a:pt x="1316" y="204"/>
                    </a:lnTo>
                    <a:lnTo>
                      <a:pt x="1317" y="197"/>
                    </a:lnTo>
                    <a:lnTo>
                      <a:pt x="1320" y="190"/>
                    </a:lnTo>
                    <a:lnTo>
                      <a:pt x="1324" y="182"/>
                    </a:lnTo>
                    <a:lnTo>
                      <a:pt x="1327" y="173"/>
                    </a:lnTo>
                    <a:lnTo>
                      <a:pt x="1332" y="169"/>
                    </a:lnTo>
                    <a:lnTo>
                      <a:pt x="1340" y="167"/>
                    </a:lnTo>
                    <a:close/>
                    <a:moveTo>
                      <a:pt x="1280" y="167"/>
                    </a:moveTo>
                    <a:lnTo>
                      <a:pt x="1282" y="167"/>
                    </a:lnTo>
                    <a:lnTo>
                      <a:pt x="1284" y="167"/>
                    </a:lnTo>
                    <a:lnTo>
                      <a:pt x="1286" y="168"/>
                    </a:lnTo>
                    <a:lnTo>
                      <a:pt x="1285" y="170"/>
                    </a:lnTo>
                    <a:lnTo>
                      <a:pt x="1284" y="171"/>
                    </a:lnTo>
                    <a:lnTo>
                      <a:pt x="1283" y="172"/>
                    </a:lnTo>
                    <a:lnTo>
                      <a:pt x="1281" y="172"/>
                    </a:lnTo>
                    <a:lnTo>
                      <a:pt x="1279" y="172"/>
                    </a:lnTo>
                    <a:lnTo>
                      <a:pt x="1277" y="171"/>
                    </a:lnTo>
                    <a:lnTo>
                      <a:pt x="1276" y="169"/>
                    </a:lnTo>
                    <a:lnTo>
                      <a:pt x="1277" y="168"/>
                    </a:lnTo>
                    <a:lnTo>
                      <a:pt x="1279" y="167"/>
                    </a:lnTo>
                    <a:lnTo>
                      <a:pt x="1280" y="167"/>
                    </a:lnTo>
                    <a:close/>
                    <a:moveTo>
                      <a:pt x="1281" y="146"/>
                    </a:moveTo>
                    <a:lnTo>
                      <a:pt x="1286" y="146"/>
                    </a:lnTo>
                    <a:lnTo>
                      <a:pt x="1286" y="147"/>
                    </a:lnTo>
                    <a:lnTo>
                      <a:pt x="1286" y="149"/>
                    </a:lnTo>
                    <a:lnTo>
                      <a:pt x="1286" y="150"/>
                    </a:lnTo>
                    <a:lnTo>
                      <a:pt x="1285" y="151"/>
                    </a:lnTo>
                    <a:lnTo>
                      <a:pt x="1285" y="152"/>
                    </a:lnTo>
                    <a:lnTo>
                      <a:pt x="1284" y="152"/>
                    </a:lnTo>
                    <a:lnTo>
                      <a:pt x="1283" y="151"/>
                    </a:lnTo>
                    <a:lnTo>
                      <a:pt x="1282" y="151"/>
                    </a:lnTo>
                    <a:lnTo>
                      <a:pt x="1281" y="150"/>
                    </a:lnTo>
                    <a:lnTo>
                      <a:pt x="1280" y="149"/>
                    </a:lnTo>
                    <a:lnTo>
                      <a:pt x="1279" y="148"/>
                    </a:lnTo>
                    <a:lnTo>
                      <a:pt x="1280" y="147"/>
                    </a:lnTo>
                    <a:lnTo>
                      <a:pt x="1281" y="146"/>
                    </a:lnTo>
                    <a:close/>
                    <a:moveTo>
                      <a:pt x="2786" y="129"/>
                    </a:moveTo>
                    <a:lnTo>
                      <a:pt x="2787" y="129"/>
                    </a:lnTo>
                    <a:lnTo>
                      <a:pt x="2790" y="131"/>
                    </a:lnTo>
                    <a:lnTo>
                      <a:pt x="2792" y="135"/>
                    </a:lnTo>
                    <a:lnTo>
                      <a:pt x="2794" y="138"/>
                    </a:lnTo>
                    <a:lnTo>
                      <a:pt x="2794" y="141"/>
                    </a:lnTo>
                    <a:lnTo>
                      <a:pt x="2796" y="146"/>
                    </a:lnTo>
                    <a:lnTo>
                      <a:pt x="2797" y="149"/>
                    </a:lnTo>
                    <a:lnTo>
                      <a:pt x="2797" y="153"/>
                    </a:lnTo>
                    <a:lnTo>
                      <a:pt x="2797" y="157"/>
                    </a:lnTo>
                    <a:lnTo>
                      <a:pt x="2796" y="160"/>
                    </a:lnTo>
                    <a:lnTo>
                      <a:pt x="2794" y="162"/>
                    </a:lnTo>
                    <a:lnTo>
                      <a:pt x="2794" y="164"/>
                    </a:lnTo>
                    <a:lnTo>
                      <a:pt x="2793" y="167"/>
                    </a:lnTo>
                    <a:lnTo>
                      <a:pt x="2792" y="168"/>
                    </a:lnTo>
                    <a:lnTo>
                      <a:pt x="2790" y="169"/>
                    </a:lnTo>
                    <a:lnTo>
                      <a:pt x="2789" y="169"/>
                    </a:lnTo>
                    <a:lnTo>
                      <a:pt x="2788" y="168"/>
                    </a:lnTo>
                    <a:lnTo>
                      <a:pt x="2787" y="168"/>
                    </a:lnTo>
                    <a:lnTo>
                      <a:pt x="2786" y="168"/>
                    </a:lnTo>
                    <a:lnTo>
                      <a:pt x="2785" y="168"/>
                    </a:lnTo>
                    <a:lnTo>
                      <a:pt x="2783" y="169"/>
                    </a:lnTo>
                    <a:lnTo>
                      <a:pt x="2782" y="170"/>
                    </a:lnTo>
                    <a:lnTo>
                      <a:pt x="2782" y="172"/>
                    </a:lnTo>
                    <a:lnTo>
                      <a:pt x="2781" y="174"/>
                    </a:lnTo>
                    <a:lnTo>
                      <a:pt x="2779" y="175"/>
                    </a:lnTo>
                    <a:lnTo>
                      <a:pt x="2778" y="177"/>
                    </a:lnTo>
                    <a:lnTo>
                      <a:pt x="2777" y="177"/>
                    </a:lnTo>
                    <a:lnTo>
                      <a:pt x="2776" y="177"/>
                    </a:lnTo>
                    <a:lnTo>
                      <a:pt x="2776" y="178"/>
                    </a:lnTo>
                    <a:lnTo>
                      <a:pt x="2775" y="180"/>
                    </a:lnTo>
                    <a:lnTo>
                      <a:pt x="2774" y="182"/>
                    </a:lnTo>
                    <a:lnTo>
                      <a:pt x="2772" y="183"/>
                    </a:lnTo>
                    <a:lnTo>
                      <a:pt x="2772" y="185"/>
                    </a:lnTo>
                    <a:lnTo>
                      <a:pt x="2770" y="186"/>
                    </a:lnTo>
                    <a:lnTo>
                      <a:pt x="2768" y="188"/>
                    </a:lnTo>
                    <a:lnTo>
                      <a:pt x="2768" y="196"/>
                    </a:lnTo>
                    <a:lnTo>
                      <a:pt x="2768" y="197"/>
                    </a:lnTo>
                    <a:lnTo>
                      <a:pt x="2767" y="199"/>
                    </a:lnTo>
                    <a:lnTo>
                      <a:pt x="2765" y="200"/>
                    </a:lnTo>
                    <a:lnTo>
                      <a:pt x="2764" y="201"/>
                    </a:lnTo>
                    <a:lnTo>
                      <a:pt x="2764" y="207"/>
                    </a:lnTo>
                    <a:lnTo>
                      <a:pt x="2764" y="210"/>
                    </a:lnTo>
                    <a:lnTo>
                      <a:pt x="2763" y="211"/>
                    </a:lnTo>
                    <a:lnTo>
                      <a:pt x="2763" y="211"/>
                    </a:lnTo>
                    <a:lnTo>
                      <a:pt x="2761" y="210"/>
                    </a:lnTo>
                    <a:lnTo>
                      <a:pt x="2759" y="210"/>
                    </a:lnTo>
                    <a:lnTo>
                      <a:pt x="2758" y="211"/>
                    </a:lnTo>
                    <a:lnTo>
                      <a:pt x="2758" y="212"/>
                    </a:lnTo>
                    <a:lnTo>
                      <a:pt x="2759" y="214"/>
                    </a:lnTo>
                    <a:lnTo>
                      <a:pt x="2759" y="215"/>
                    </a:lnTo>
                    <a:lnTo>
                      <a:pt x="2759" y="217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7" y="220"/>
                    </a:lnTo>
                    <a:lnTo>
                      <a:pt x="2757" y="220"/>
                    </a:lnTo>
                    <a:lnTo>
                      <a:pt x="2758" y="221"/>
                    </a:lnTo>
                    <a:lnTo>
                      <a:pt x="2758" y="223"/>
                    </a:lnTo>
                    <a:lnTo>
                      <a:pt x="2758" y="225"/>
                    </a:lnTo>
                    <a:lnTo>
                      <a:pt x="2758" y="227"/>
                    </a:lnTo>
                    <a:lnTo>
                      <a:pt x="2758" y="229"/>
                    </a:lnTo>
                    <a:lnTo>
                      <a:pt x="2758" y="229"/>
                    </a:lnTo>
                    <a:lnTo>
                      <a:pt x="2757" y="228"/>
                    </a:lnTo>
                    <a:lnTo>
                      <a:pt x="2755" y="226"/>
                    </a:lnTo>
                    <a:lnTo>
                      <a:pt x="2753" y="224"/>
                    </a:lnTo>
                    <a:lnTo>
                      <a:pt x="2751" y="223"/>
                    </a:lnTo>
                    <a:lnTo>
                      <a:pt x="2750" y="223"/>
                    </a:lnTo>
                    <a:lnTo>
                      <a:pt x="2749" y="223"/>
                    </a:lnTo>
                    <a:lnTo>
                      <a:pt x="2749" y="225"/>
                    </a:lnTo>
                    <a:lnTo>
                      <a:pt x="2750" y="226"/>
                    </a:lnTo>
                    <a:lnTo>
                      <a:pt x="2751" y="227"/>
                    </a:lnTo>
                    <a:lnTo>
                      <a:pt x="2753" y="228"/>
                    </a:lnTo>
                    <a:lnTo>
                      <a:pt x="2754" y="231"/>
                    </a:lnTo>
                    <a:lnTo>
                      <a:pt x="2755" y="232"/>
                    </a:lnTo>
                    <a:lnTo>
                      <a:pt x="2756" y="234"/>
                    </a:lnTo>
                    <a:lnTo>
                      <a:pt x="2756" y="235"/>
                    </a:lnTo>
                    <a:lnTo>
                      <a:pt x="2755" y="236"/>
                    </a:lnTo>
                    <a:lnTo>
                      <a:pt x="2754" y="236"/>
                    </a:lnTo>
                    <a:lnTo>
                      <a:pt x="2756" y="244"/>
                    </a:lnTo>
                    <a:lnTo>
                      <a:pt x="2756" y="244"/>
                    </a:lnTo>
                    <a:lnTo>
                      <a:pt x="2755" y="244"/>
                    </a:lnTo>
                    <a:lnTo>
                      <a:pt x="2755" y="244"/>
                    </a:lnTo>
                    <a:lnTo>
                      <a:pt x="2754" y="243"/>
                    </a:lnTo>
                    <a:lnTo>
                      <a:pt x="2754" y="242"/>
                    </a:lnTo>
                    <a:lnTo>
                      <a:pt x="2753" y="242"/>
                    </a:lnTo>
                    <a:lnTo>
                      <a:pt x="2751" y="243"/>
                    </a:lnTo>
                    <a:lnTo>
                      <a:pt x="2751" y="244"/>
                    </a:lnTo>
                    <a:lnTo>
                      <a:pt x="2753" y="245"/>
                    </a:lnTo>
                    <a:lnTo>
                      <a:pt x="2754" y="246"/>
                    </a:lnTo>
                    <a:lnTo>
                      <a:pt x="2754" y="248"/>
                    </a:lnTo>
                    <a:lnTo>
                      <a:pt x="2756" y="250"/>
                    </a:lnTo>
                    <a:lnTo>
                      <a:pt x="2756" y="253"/>
                    </a:lnTo>
                    <a:lnTo>
                      <a:pt x="2754" y="253"/>
                    </a:lnTo>
                    <a:lnTo>
                      <a:pt x="2754" y="255"/>
                    </a:lnTo>
                    <a:lnTo>
                      <a:pt x="2755" y="256"/>
                    </a:lnTo>
                    <a:lnTo>
                      <a:pt x="2755" y="258"/>
                    </a:lnTo>
                    <a:lnTo>
                      <a:pt x="2755" y="258"/>
                    </a:lnTo>
                    <a:lnTo>
                      <a:pt x="2754" y="259"/>
                    </a:lnTo>
                    <a:lnTo>
                      <a:pt x="2753" y="259"/>
                    </a:lnTo>
                    <a:lnTo>
                      <a:pt x="2753" y="261"/>
                    </a:lnTo>
                    <a:lnTo>
                      <a:pt x="2753" y="264"/>
                    </a:lnTo>
                    <a:lnTo>
                      <a:pt x="2753" y="267"/>
                    </a:lnTo>
                    <a:lnTo>
                      <a:pt x="2754" y="269"/>
                    </a:lnTo>
                    <a:lnTo>
                      <a:pt x="2754" y="272"/>
                    </a:lnTo>
                    <a:lnTo>
                      <a:pt x="2754" y="275"/>
                    </a:lnTo>
                    <a:lnTo>
                      <a:pt x="2753" y="284"/>
                    </a:lnTo>
                    <a:lnTo>
                      <a:pt x="2754" y="297"/>
                    </a:lnTo>
                    <a:lnTo>
                      <a:pt x="2757" y="309"/>
                    </a:lnTo>
                    <a:lnTo>
                      <a:pt x="2761" y="321"/>
                    </a:lnTo>
                    <a:lnTo>
                      <a:pt x="2763" y="323"/>
                    </a:lnTo>
                    <a:lnTo>
                      <a:pt x="2765" y="325"/>
                    </a:lnTo>
                    <a:lnTo>
                      <a:pt x="2766" y="327"/>
                    </a:lnTo>
                    <a:lnTo>
                      <a:pt x="2766" y="330"/>
                    </a:lnTo>
                    <a:lnTo>
                      <a:pt x="2767" y="332"/>
                    </a:lnTo>
                    <a:lnTo>
                      <a:pt x="2768" y="334"/>
                    </a:lnTo>
                    <a:lnTo>
                      <a:pt x="2768" y="335"/>
                    </a:lnTo>
                    <a:lnTo>
                      <a:pt x="2769" y="335"/>
                    </a:lnTo>
                    <a:lnTo>
                      <a:pt x="2770" y="336"/>
                    </a:lnTo>
                    <a:lnTo>
                      <a:pt x="2771" y="338"/>
                    </a:lnTo>
                    <a:lnTo>
                      <a:pt x="2771" y="340"/>
                    </a:lnTo>
                    <a:lnTo>
                      <a:pt x="2772" y="342"/>
                    </a:lnTo>
                    <a:lnTo>
                      <a:pt x="2774" y="344"/>
                    </a:lnTo>
                    <a:lnTo>
                      <a:pt x="2775" y="346"/>
                    </a:lnTo>
                    <a:lnTo>
                      <a:pt x="2776" y="348"/>
                    </a:lnTo>
                    <a:lnTo>
                      <a:pt x="2774" y="348"/>
                    </a:lnTo>
                    <a:lnTo>
                      <a:pt x="2772" y="348"/>
                    </a:lnTo>
                    <a:lnTo>
                      <a:pt x="2771" y="346"/>
                    </a:lnTo>
                    <a:lnTo>
                      <a:pt x="2770" y="345"/>
                    </a:lnTo>
                    <a:lnTo>
                      <a:pt x="2770" y="343"/>
                    </a:lnTo>
                    <a:lnTo>
                      <a:pt x="2769" y="343"/>
                    </a:lnTo>
                    <a:lnTo>
                      <a:pt x="2767" y="343"/>
                    </a:lnTo>
                    <a:lnTo>
                      <a:pt x="2766" y="344"/>
                    </a:lnTo>
                    <a:lnTo>
                      <a:pt x="2766" y="345"/>
                    </a:lnTo>
                    <a:lnTo>
                      <a:pt x="2766" y="346"/>
                    </a:lnTo>
                    <a:lnTo>
                      <a:pt x="2765" y="346"/>
                    </a:lnTo>
                    <a:lnTo>
                      <a:pt x="2764" y="346"/>
                    </a:lnTo>
                    <a:lnTo>
                      <a:pt x="2764" y="346"/>
                    </a:lnTo>
                    <a:lnTo>
                      <a:pt x="2764" y="345"/>
                    </a:lnTo>
                    <a:lnTo>
                      <a:pt x="2763" y="344"/>
                    </a:lnTo>
                    <a:lnTo>
                      <a:pt x="2761" y="342"/>
                    </a:lnTo>
                    <a:lnTo>
                      <a:pt x="2760" y="342"/>
                    </a:lnTo>
                    <a:lnTo>
                      <a:pt x="2759" y="341"/>
                    </a:lnTo>
                    <a:lnTo>
                      <a:pt x="2758" y="341"/>
                    </a:lnTo>
                    <a:lnTo>
                      <a:pt x="2757" y="340"/>
                    </a:lnTo>
                    <a:lnTo>
                      <a:pt x="2755" y="338"/>
                    </a:lnTo>
                    <a:lnTo>
                      <a:pt x="2754" y="338"/>
                    </a:lnTo>
                    <a:lnTo>
                      <a:pt x="2754" y="336"/>
                    </a:lnTo>
                    <a:lnTo>
                      <a:pt x="2753" y="334"/>
                    </a:lnTo>
                    <a:lnTo>
                      <a:pt x="2753" y="332"/>
                    </a:lnTo>
                    <a:lnTo>
                      <a:pt x="2753" y="331"/>
                    </a:lnTo>
                    <a:lnTo>
                      <a:pt x="2754" y="330"/>
                    </a:lnTo>
                    <a:lnTo>
                      <a:pt x="2754" y="327"/>
                    </a:lnTo>
                    <a:lnTo>
                      <a:pt x="2754" y="326"/>
                    </a:lnTo>
                    <a:lnTo>
                      <a:pt x="2753" y="324"/>
                    </a:lnTo>
                    <a:lnTo>
                      <a:pt x="2751" y="322"/>
                    </a:lnTo>
                    <a:lnTo>
                      <a:pt x="2750" y="319"/>
                    </a:lnTo>
                    <a:lnTo>
                      <a:pt x="2748" y="316"/>
                    </a:lnTo>
                    <a:lnTo>
                      <a:pt x="2747" y="314"/>
                    </a:lnTo>
                    <a:lnTo>
                      <a:pt x="2747" y="313"/>
                    </a:lnTo>
                    <a:lnTo>
                      <a:pt x="2746" y="312"/>
                    </a:lnTo>
                    <a:lnTo>
                      <a:pt x="2745" y="312"/>
                    </a:lnTo>
                    <a:lnTo>
                      <a:pt x="2743" y="311"/>
                    </a:lnTo>
                    <a:lnTo>
                      <a:pt x="2742" y="311"/>
                    </a:lnTo>
                    <a:lnTo>
                      <a:pt x="2739" y="310"/>
                    </a:lnTo>
                    <a:lnTo>
                      <a:pt x="2738" y="309"/>
                    </a:lnTo>
                    <a:lnTo>
                      <a:pt x="2736" y="306"/>
                    </a:lnTo>
                    <a:lnTo>
                      <a:pt x="2735" y="303"/>
                    </a:lnTo>
                    <a:lnTo>
                      <a:pt x="2734" y="301"/>
                    </a:lnTo>
                    <a:lnTo>
                      <a:pt x="2734" y="299"/>
                    </a:lnTo>
                    <a:lnTo>
                      <a:pt x="2734" y="297"/>
                    </a:lnTo>
                    <a:lnTo>
                      <a:pt x="2734" y="294"/>
                    </a:lnTo>
                    <a:lnTo>
                      <a:pt x="2734" y="292"/>
                    </a:lnTo>
                    <a:lnTo>
                      <a:pt x="2734" y="290"/>
                    </a:lnTo>
                    <a:lnTo>
                      <a:pt x="2734" y="290"/>
                    </a:lnTo>
                    <a:lnTo>
                      <a:pt x="2735" y="290"/>
                    </a:lnTo>
                    <a:lnTo>
                      <a:pt x="2736" y="290"/>
                    </a:lnTo>
                    <a:lnTo>
                      <a:pt x="2737" y="289"/>
                    </a:lnTo>
                    <a:lnTo>
                      <a:pt x="2737" y="287"/>
                    </a:lnTo>
                    <a:lnTo>
                      <a:pt x="2737" y="286"/>
                    </a:lnTo>
                    <a:lnTo>
                      <a:pt x="2737" y="283"/>
                    </a:lnTo>
                    <a:lnTo>
                      <a:pt x="2737" y="281"/>
                    </a:lnTo>
                    <a:lnTo>
                      <a:pt x="2737" y="279"/>
                    </a:lnTo>
                    <a:lnTo>
                      <a:pt x="2737" y="272"/>
                    </a:lnTo>
                    <a:lnTo>
                      <a:pt x="2736" y="271"/>
                    </a:lnTo>
                    <a:lnTo>
                      <a:pt x="2735" y="271"/>
                    </a:lnTo>
                    <a:lnTo>
                      <a:pt x="2735" y="270"/>
                    </a:lnTo>
                    <a:lnTo>
                      <a:pt x="2735" y="270"/>
                    </a:lnTo>
                    <a:lnTo>
                      <a:pt x="2735" y="268"/>
                    </a:lnTo>
                    <a:lnTo>
                      <a:pt x="2734" y="267"/>
                    </a:lnTo>
                    <a:lnTo>
                      <a:pt x="2734" y="265"/>
                    </a:lnTo>
                    <a:lnTo>
                      <a:pt x="2734" y="264"/>
                    </a:lnTo>
                    <a:lnTo>
                      <a:pt x="2734" y="262"/>
                    </a:lnTo>
                    <a:lnTo>
                      <a:pt x="2734" y="261"/>
                    </a:lnTo>
                    <a:lnTo>
                      <a:pt x="2735" y="261"/>
                    </a:lnTo>
                    <a:lnTo>
                      <a:pt x="2735" y="262"/>
                    </a:lnTo>
                    <a:lnTo>
                      <a:pt x="2736" y="262"/>
                    </a:lnTo>
                    <a:lnTo>
                      <a:pt x="2736" y="262"/>
                    </a:lnTo>
                    <a:lnTo>
                      <a:pt x="2737" y="261"/>
                    </a:lnTo>
                    <a:lnTo>
                      <a:pt x="2736" y="257"/>
                    </a:lnTo>
                    <a:lnTo>
                      <a:pt x="2735" y="255"/>
                    </a:lnTo>
                    <a:lnTo>
                      <a:pt x="2735" y="251"/>
                    </a:lnTo>
                    <a:lnTo>
                      <a:pt x="2736" y="250"/>
                    </a:lnTo>
                    <a:lnTo>
                      <a:pt x="2737" y="250"/>
                    </a:lnTo>
                    <a:lnTo>
                      <a:pt x="2738" y="249"/>
                    </a:lnTo>
                    <a:lnTo>
                      <a:pt x="2739" y="248"/>
                    </a:lnTo>
                    <a:lnTo>
                      <a:pt x="2739" y="247"/>
                    </a:lnTo>
                    <a:lnTo>
                      <a:pt x="2739" y="246"/>
                    </a:lnTo>
                    <a:lnTo>
                      <a:pt x="2739" y="244"/>
                    </a:lnTo>
                    <a:lnTo>
                      <a:pt x="2739" y="242"/>
                    </a:lnTo>
                    <a:lnTo>
                      <a:pt x="2738" y="238"/>
                    </a:lnTo>
                    <a:lnTo>
                      <a:pt x="2737" y="236"/>
                    </a:lnTo>
                    <a:lnTo>
                      <a:pt x="2735" y="235"/>
                    </a:lnTo>
                    <a:lnTo>
                      <a:pt x="2735" y="234"/>
                    </a:lnTo>
                    <a:lnTo>
                      <a:pt x="2735" y="232"/>
                    </a:lnTo>
                    <a:lnTo>
                      <a:pt x="2735" y="231"/>
                    </a:lnTo>
                    <a:lnTo>
                      <a:pt x="2736" y="228"/>
                    </a:lnTo>
                    <a:lnTo>
                      <a:pt x="2736" y="226"/>
                    </a:lnTo>
                    <a:lnTo>
                      <a:pt x="2737" y="225"/>
                    </a:lnTo>
                    <a:lnTo>
                      <a:pt x="2737" y="214"/>
                    </a:lnTo>
                    <a:lnTo>
                      <a:pt x="2738" y="212"/>
                    </a:lnTo>
                    <a:lnTo>
                      <a:pt x="2739" y="210"/>
                    </a:lnTo>
                    <a:lnTo>
                      <a:pt x="2739" y="207"/>
                    </a:lnTo>
                    <a:lnTo>
                      <a:pt x="2739" y="199"/>
                    </a:lnTo>
                    <a:lnTo>
                      <a:pt x="2739" y="197"/>
                    </a:lnTo>
                    <a:lnTo>
                      <a:pt x="2738" y="196"/>
                    </a:lnTo>
                    <a:lnTo>
                      <a:pt x="2737" y="195"/>
                    </a:lnTo>
                    <a:lnTo>
                      <a:pt x="2737" y="194"/>
                    </a:lnTo>
                    <a:lnTo>
                      <a:pt x="2736" y="193"/>
                    </a:lnTo>
                    <a:lnTo>
                      <a:pt x="2735" y="191"/>
                    </a:lnTo>
                    <a:lnTo>
                      <a:pt x="2734" y="188"/>
                    </a:lnTo>
                    <a:lnTo>
                      <a:pt x="2734" y="185"/>
                    </a:lnTo>
                    <a:lnTo>
                      <a:pt x="2734" y="183"/>
                    </a:lnTo>
                    <a:lnTo>
                      <a:pt x="2734" y="182"/>
                    </a:lnTo>
                    <a:lnTo>
                      <a:pt x="2735" y="181"/>
                    </a:lnTo>
                    <a:lnTo>
                      <a:pt x="2735" y="181"/>
                    </a:lnTo>
                    <a:lnTo>
                      <a:pt x="2735" y="182"/>
                    </a:lnTo>
                    <a:lnTo>
                      <a:pt x="2736" y="182"/>
                    </a:lnTo>
                    <a:lnTo>
                      <a:pt x="2736" y="182"/>
                    </a:lnTo>
                    <a:lnTo>
                      <a:pt x="2737" y="181"/>
                    </a:lnTo>
                    <a:lnTo>
                      <a:pt x="2737" y="181"/>
                    </a:lnTo>
                    <a:lnTo>
                      <a:pt x="2737" y="180"/>
                    </a:lnTo>
                    <a:lnTo>
                      <a:pt x="2737" y="178"/>
                    </a:lnTo>
                    <a:lnTo>
                      <a:pt x="2738" y="177"/>
                    </a:lnTo>
                    <a:lnTo>
                      <a:pt x="2739" y="177"/>
                    </a:lnTo>
                    <a:lnTo>
                      <a:pt x="2740" y="178"/>
                    </a:lnTo>
                    <a:lnTo>
                      <a:pt x="2742" y="179"/>
                    </a:lnTo>
                    <a:lnTo>
                      <a:pt x="2742" y="180"/>
                    </a:lnTo>
                    <a:lnTo>
                      <a:pt x="2743" y="180"/>
                    </a:lnTo>
                    <a:lnTo>
                      <a:pt x="2744" y="179"/>
                    </a:lnTo>
                    <a:lnTo>
                      <a:pt x="2745" y="178"/>
                    </a:lnTo>
                    <a:lnTo>
                      <a:pt x="2745" y="177"/>
                    </a:lnTo>
                    <a:lnTo>
                      <a:pt x="2744" y="174"/>
                    </a:lnTo>
                    <a:lnTo>
                      <a:pt x="2744" y="172"/>
                    </a:lnTo>
                    <a:lnTo>
                      <a:pt x="2743" y="171"/>
                    </a:lnTo>
                    <a:lnTo>
                      <a:pt x="2743" y="169"/>
                    </a:lnTo>
                    <a:lnTo>
                      <a:pt x="2743" y="168"/>
                    </a:lnTo>
                    <a:lnTo>
                      <a:pt x="2743" y="168"/>
                    </a:lnTo>
                    <a:lnTo>
                      <a:pt x="2744" y="168"/>
                    </a:lnTo>
                    <a:lnTo>
                      <a:pt x="2745" y="168"/>
                    </a:lnTo>
                    <a:lnTo>
                      <a:pt x="2746" y="168"/>
                    </a:lnTo>
                    <a:lnTo>
                      <a:pt x="2746" y="167"/>
                    </a:lnTo>
                    <a:lnTo>
                      <a:pt x="2746" y="164"/>
                    </a:lnTo>
                    <a:lnTo>
                      <a:pt x="2746" y="163"/>
                    </a:lnTo>
                    <a:lnTo>
                      <a:pt x="2746" y="161"/>
                    </a:lnTo>
                    <a:lnTo>
                      <a:pt x="2746" y="160"/>
                    </a:lnTo>
                    <a:lnTo>
                      <a:pt x="2746" y="159"/>
                    </a:lnTo>
                    <a:lnTo>
                      <a:pt x="2748" y="158"/>
                    </a:lnTo>
                    <a:lnTo>
                      <a:pt x="2749" y="158"/>
                    </a:lnTo>
                    <a:lnTo>
                      <a:pt x="2750" y="158"/>
                    </a:lnTo>
                    <a:lnTo>
                      <a:pt x="2751" y="158"/>
                    </a:lnTo>
                    <a:lnTo>
                      <a:pt x="2751" y="157"/>
                    </a:lnTo>
                    <a:lnTo>
                      <a:pt x="2751" y="152"/>
                    </a:lnTo>
                    <a:lnTo>
                      <a:pt x="2753" y="152"/>
                    </a:lnTo>
                    <a:lnTo>
                      <a:pt x="2753" y="153"/>
                    </a:lnTo>
                    <a:lnTo>
                      <a:pt x="2754" y="155"/>
                    </a:lnTo>
                    <a:lnTo>
                      <a:pt x="2755" y="156"/>
                    </a:lnTo>
                    <a:lnTo>
                      <a:pt x="2755" y="157"/>
                    </a:lnTo>
                    <a:lnTo>
                      <a:pt x="2756" y="157"/>
                    </a:lnTo>
                    <a:lnTo>
                      <a:pt x="2756" y="156"/>
                    </a:lnTo>
                    <a:lnTo>
                      <a:pt x="2756" y="155"/>
                    </a:lnTo>
                    <a:lnTo>
                      <a:pt x="2756" y="152"/>
                    </a:lnTo>
                    <a:lnTo>
                      <a:pt x="2756" y="150"/>
                    </a:lnTo>
                    <a:lnTo>
                      <a:pt x="2756" y="149"/>
                    </a:lnTo>
                    <a:lnTo>
                      <a:pt x="2756" y="148"/>
                    </a:lnTo>
                    <a:lnTo>
                      <a:pt x="2756" y="147"/>
                    </a:lnTo>
                    <a:lnTo>
                      <a:pt x="2757" y="147"/>
                    </a:lnTo>
                    <a:lnTo>
                      <a:pt x="2758" y="148"/>
                    </a:lnTo>
                    <a:lnTo>
                      <a:pt x="2760" y="148"/>
                    </a:lnTo>
                    <a:lnTo>
                      <a:pt x="2761" y="149"/>
                    </a:lnTo>
                    <a:lnTo>
                      <a:pt x="2761" y="150"/>
                    </a:lnTo>
                    <a:lnTo>
                      <a:pt x="2764" y="152"/>
                    </a:lnTo>
                    <a:lnTo>
                      <a:pt x="2765" y="151"/>
                    </a:lnTo>
                    <a:lnTo>
                      <a:pt x="2766" y="151"/>
                    </a:lnTo>
                    <a:lnTo>
                      <a:pt x="2766" y="150"/>
                    </a:lnTo>
                    <a:lnTo>
                      <a:pt x="2766" y="150"/>
                    </a:lnTo>
                    <a:lnTo>
                      <a:pt x="2768" y="150"/>
                    </a:lnTo>
                    <a:lnTo>
                      <a:pt x="2769" y="150"/>
                    </a:lnTo>
                    <a:lnTo>
                      <a:pt x="2771" y="150"/>
                    </a:lnTo>
                    <a:lnTo>
                      <a:pt x="2772" y="150"/>
                    </a:lnTo>
                    <a:lnTo>
                      <a:pt x="2776" y="148"/>
                    </a:lnTo>
                    <a:lnTo>
                      <a:pt x="2777" y="147"/>
                    </a:lnTo>
                    <a:lnTo>
                      <a:pt x="2778" y="146"/>
                    </a:lnTo>
                    <a:lnTo>
                      <a:pt x="2778" y="145"/>
                    </a:lnTo>
                    <a:lnTo>
                      <a:pt x="2779" y="144"/>
                    </a:lnTo>
                    <a:lnTo>
                      <a:pt x="2779" y="142"/>
                    </a:lnTo>
                    <a:lnTo>
                      <a:pt x="2778" y="141"/>
                    </a:lnTo>
                    <a:lnTo>
                      <a:pt x="2778" y="137"/>
                    </a:lnTo>
                    <a:lnTo>
                      <a:pt x="2778" y="135"/>
                    </a:lnTo>
                    <a:lnTo>
                      <a:pt x="2780" y="131"/>
                    </a:lnTo>
                    <a:lnTo>
                      <a:pt x="2781" y="131"/>
                    </a:lnTo>
                    <a:lnTo>
                      <a:pt x="2783" y="130"/>
                    </a:lnTo>
                    <a:lnTo>
                      <a:pt x="2785" y="129"/>
                    </a:lnTo>
                    <a:lnTo>
                      <a:pt x="2786" y="129"/>
                    </a:lnTo>
                    <a:close/>
                    <a:moveTo>
                      <a:pt x="1292" y="100"/>
                    </a:moveTo>
                    <a:lnTo>
                      <a:pt x="1292" y="101"/>
                    </a:lnTo>
                    <a:lnTo>
                      <a:pt x="1293" y="102"/>
                    </a:lnTo>
                    <a:lnTo>
                      <a:pt x="1294" y="103"/>
                    </a:lnTo>
                    <a:lnTo>
                      <a:pt x="1294" y="104"/>
                    </a:lnTo>
                    <a:lnTo>
                      <a:pt x="1294" y="105"/>
                    </a:lnTo>
                    <a:lnTo>
                      <a:pt x="1292" y="106"/>
                    </a:lnTo>
                    <a:lnTo>
                      <a:pt x="1291" y="108"/>
                    </a:lnTo>
                    <a:lnTo>
                      <a:pt x="1291" y="111"/>
                    </a:lnTo>
                    <a:lnTo>
                      <a:pt x="1292" y="112"/>
                    </a:lnTo>
                    <a:lnTo>
                      <a:pt x="1292" y="118"/>
                    </a:lnTo>
                    <a:lnTo>
                      <a:pt x="1290" y="126"/>
                    </a:lnTo>
                    <a:lnTo>
                      <a:pt x="1284" y="131"/>
                    </a:lnTo>
                    <a:lnTo>
                      <a:pt x="1280" y="135"/>
                    </a:lnTo>
                    <a:lnTo>
                      <a:pt x="1276" y="135"/>
                    </a:lnTo>
                    <a:lnTo>
                      <a:pt x="1274" y="135"/>
                    </a:lnTo>
                    <a:lnTo>
                      <a:pt x="1272" y="133"/>
                    </a:lnTo>
                    <a:lnTo>
                      <a:pt x="1271" y="131"/>
                    </a:lnTo>
                    <a:lnTo>
                      <a:pt x="1271" y="129"/>
                    </a:lnTo>
                    <a:lnTo>
                      <a:pt x="1272" y="127"/>
                    </a:lnTo>
                    <a:lnTo>
                      <a:pt x="1273" y="125"/>
                    </a:lnTo>
                    <a:lnTo>
                      <a:pt x="1275" y="124"/>
                    </a:lnTo>
                    <a:lnTo>
                      <a:pt x="1279" y="123"/>
                    </a:lnTo>
                    <a:lnTo>
                      <a:pt x="1281" y="122"/>
                    </a:lnTo>
                    <a:lnTo>
                      <a:pt x="1283" y="122"/>
                    </a:lnTo>
                    <a:lnTo>
                      <a:pt x="1285" y="120"/>
                    </a:lnTo>
                    <a:lnTo>
                      <a:pt x="1287" y="119"/>
                    </a:lnTo>
                    <a:lnTo>
                      <a:pt x="1287" y="117"/>
                    </a:lnTo>
                    <a:lnTo>
                      <a:pt x="1287" y="115"/>
                    </a:lnTo>
                    <a:lnTo>
                      <a:pt x="1286" y="114"/>
                    </a:lnTo>
                    <a:lnTo>
                      <a:pt x="1286" y="112"/>
                    </a:lnTo>
                    <a:lnTo>
                      <a:pt x="1285" y="108"/>
                    </a:lnTo>
                    <a:lnTo>
                      <a:pt x="1285" y="106"/>
                    </a:lnTo>
                    <a:lnTo>
                      <a:pt x="1285" y="104"/>
                    </a:lnTo>
                    <a:lnTo>
                      <a:pt x="1285" y="103"/>
                    </a:lnTo>
                    <a:lnTo>
                      <a:pt x="1286" y="101"/>
                    </a:lnTo>
                    <a:lnTo>
                      <a:pt x="1288" y="101"/>
                    </a:lnTo>
                    <a:lnTo>
                      <a:pt x="1292" y="100"/>
                    </a:lnTo>
                    <a:close/>
                    <a:moveTo>
                      <a:pt x="933" y="93"/>
                    </a:moveTo>
                    <a:lnTo>
                      <a:pt x="936" y="93"/>
                    </a:lnTo>
                    <a:lnTo>
                      <a:pt x="937" y="94"/>
                    </a:lnTo>
                    <a:lnTo>
                      <a:pt x="939" y="96"/>
                    </a:lnTo>
                    <a:lnTo>
                      <a:pt x="941" y="100"/>
                    </a:lnTo>
                    <a:lnTo>
                      <a:pt x="941" y="103"/>
                    </a:lnTo>
                    <a:lnTo>
                      <a:pt x="939" y="106"/>
                    </a:lnTo>
                    <a:lnTo>
                      <a:pt x="941" y="108"/>
                    </a:lnTo>
                    <a:lnTo>
                      <a:pt x="941" y="112"/>
                    </a:lnTo>
                    <a:lnTo>
                      <a:pt x="943" y="114"/>
                    </a:lnTo>
                    <a:lnTo>
                      <a:pt x="946" y="117"/>
                    </a:lnTo>
                    <a:lnTo>
                      <a:pt x="949" y="120"/>
                    </a:lnTo>
                    <a:lnTo>
                      <a:pt x="952" y="123"/>
                    </a:lnTo>
                    <a:lnTo>
                      <a:pt x="954" y="126"/>
                    </a:lnTo>
                    <a:lnTo>
                      <a:pt x="959" y="134"/>
                    </a:lnTo>
                    <a:lnTo>
                      <a:pt x="965" y="141"/>
                    </a:lnTo>
                    <a:lnTo>
                      <a:pt x="969" y="150"/>
                    </a:lnTo>
                    <a:lnTo>
                      <a:pt x="968" y="155"/>
                    </a:lnTo>
                    <a:lnTo>
                      <a:pt x="965" y="161"/>
                    </a:lnTo>
                    <a:lnTo>
                      <a:pt x="959" y="166"/>
                    </a:lnTo>
                    <a:lnTo>
                      <a:pt x="953" y="170"/>
                    </a:lnTo>
                    <a:lnTo>
                      <a:pt x="947" y="171"/>
                    </a:lnTo>
                    <a:lnTo>
                      <a:pt x="939" y="172"/>
                    </a:lnTo>
                    <a:lnTo>
                      <a:pt x="939" y="172"/>
                    </a:lnTo>
                    <a:lnTo>
                      <a:pt x="937" y="173"/>
                    </a:lnTo>
                    <a:lnTo>
                      <a:pt x="937" y="173"/>
                    </a:lnTo>
                    <a:lnTo>
                      <a:pt x="928" y="172"/>
                    </a:lnTo>
                    <a:lnTo>
                      <a:pt x="921" y="169"/>
                    </a:lnTo>
                    <a:lnTo>
                      <a:pt x="917" y="166"/>
                    </a:lnTo>
                    <a:lnTo>
                      <a:pt x="916" y="160"/>
                    </a:lnTo>
                    <a:lnTo>
                      <a:pt x="914" y="155"/>
                    </a:lnTo>
                    <a:lnTo>
                      <a:pt x="912" y="150"/>
                    </a:lnTo>
                    <a:lnTo>
                      <a:pt x="908" y="150"/>
                    </a:lnTo>
                    <a:lnTo>
                      <a:pt x="906" y="150"/>
                    </a:lnTo>
                    <a:lnTo>
                      <a:pt x="905" y="150"/>
                    </a:lnTo>
                    <a:lnTo>
                      <a:pt x="903" y="150"/>
                    </a:lnTo>
                    <a:lnTo>
                      <a:pt x="902" y="150"/>
                    </a:lnTo>
                    <a:lnTo>
                      <a:pt x="900" y="150"/>
                    </a:lnTo>
                    <a:lnTo>
                      <a:pt x="899" y="149"/>
                    </a:lnTo>
                    <a:lnTo>
                      <a:pt x="898" y="148"/>
                    </a:lnTo>
                    <a:lnTo>
                      <a:pt x="897" y="146"/>
                    </a:lnTo>
                    <a:lnTo>
                      <a:pt x="898" y="141"/>
                    </a:lnTo>
                    <a:lnTo>
                      <a:pt x="899" y="138"/>
                    </a:lnTo>
                    <a:lnTo>
                      <a:pt x="901" y="136"/>
                    </a:lnTo>
                    <a:lnTo>
                      <a:pt x="903" y="134"/>
                    </a:lnTo>
                    <a:lnTo>
                      <a:pt x="914" y="116"/>
                    </a:lnTo>
                    <a:lnTo>
                      <a:pt x="925" y="97"/>
                    </a:lnTo>
                    <a:lnTo>
                      <a:pt x="928" y="95"/>
                    </a:lnTo>
                    <a:lnTo>
                      <a:pt x="931" y="93"/>
                    </a:lnTo>
                    <a:lnTo>
                      <a:pt x="933" y="93"/>
                    </a:lnTo>
                    <a:close/>
                    <a:moveTo>
                      <a:pt x="2135" y="49"/>
                    </a:moveTo>
                    <a:lnTo>
                      <a:pt x="2139" y="50"/>
                    </a:lnTo>
                    <a:lnTo>
                      <a:pt x="2145" y="53"/>
                    </a:lnTo>
                    <a:lnTo>
                      <a:pt x="2150" y="57"/>
                    </a:lnTo>
                    <a:lnTo>
                      <a:pt x="2155" y="60"/>
                    </a:lnTo>
                    <a:lnTo>
                      <a:pt x="2159" y="65"/>
                    </a:lnTo>
                    <a:lnTo>
                      <a:pt x="2163" y="72"/>
                    </a:lnTo>
                    <a:lnTo>
                      <a:pt x="2165" y="80"/>
                    </a:lnTo>
                    <a:lnTo>
                      <a:pt x="2165" y="83"/>
                    </a:lnTo>
                    <a:lnTo>
                      <a:pt x="2165" y="86"/>
                    </a:lnTo>
                    <a:lnTo>
                      <a:pt x="2166" y="90"/>
                    </a:lnTo>
                    <a:lnTo>
                      <a:pt x="2166" y="93"/>
                    </a:lnTo>
                    <a:lnTo>
                      <a:pt x="2165" y="95"/>
                    </a:lnTo>
                    <a:lnTo>
                      <a:pt x="2164" y="96"/>
                    </a:lnTo>
                    <a:lnTo>
                      <a:pt x="2161" y="96"/>
                    </a:lnTo>
                    <a:lnTo>
                      <a:pt x="2160" y="95"/>
                    </a:lnTo>
                    <a:lnTo>
                      <a:pt x="2158" y="94"/>
                    </a:lnTo>
                    <a:lnTo>
                      <a:pt x="2156" y="92"/>
                    </a:lnTo>
                    <a:lnTo>
                      <a:pt x="2154" y="90"/>
                    </a:lnTo>
                    <a:lnTo>
                      <a:pt x="2153" y="88"/>
                    </a:lnTo>
                    <a:lnTo>
                      <a:pt x="2149" y="87"/>
                    </a:lnTo>
                    <a:lnTo>
                      <a:pt x="2147" y="85"/>
                    </a:lnTo>
                    <a:lnTo>
                      <a:pt x="2144" y="84"/>
                    </a:lnTo>
                    <a:lnTo>
                      <a:pt x="2142" y="81"/>
                    </a:lnTo>
                    <a:lnTo>
                      <a:pt x="2139" y="77"/>
                    </a:lnTo>
                    <a:lnTo>
                      <a:pt x="2136" y="70"/>
                    </a:lnTo>
                    <a:lnTo>
                      <a:pt x="2133" y="62"/>
                    </a:lnTo>
                    <a:lnTo>
                      <a:pt x="2132" y="55"/>
                    </a:lnTo>
                    <a:lnTo>
                      <a:pt x="2132" y="51"/>
                    </a:lnTo>
                    <a:lnTo>
                      <a:pt x="2135" y="49"/>
                    </a:lnTo>
                    <a:close/>
                    <a:moveTo>
                      <a:pt x="2808" y="27"/>
                    </a:moveTo>
                    <a:lnTo>
                      <a:pt x="2809" y="27"/>
                    </a:lnTo>
                    <a:lnTo>
                      <a:pt x="2810" y="28"/>
                    </a:lnTo>
                    <a:lnTo>
                      <a:pt x="2812" y="29"/>
                    </a:lnTo>
                    <a:lnTo>
                      <a:pt x="2813" y="30"/>
                    </a:lnTo>
                    <a:lnTo>
                      <a:pt x="2813" y="31"/>
                    </a:lnTo>
                    <a:lnTo>
                      <a:pt x="2814" y="32"/>
                    </a:lnTo>
                    <a:lnTo>
                      <a:pt x="2814" y="32"/>
                    </a:lnTo>
                    <a:lnTo>
                      <a:pt x="2814" y="33"/>
                    </a:lnTo>
                    <a:lnTo>
                      <a:pt x="2814" y="33"/>
                    </a:lnTo>
                    <a:lnTo>
                      <a:pt x="2813" y="33"/>
                    </a:lnTo>
                    <a:lnTo>
                      <a:pt x="2811" y="31"/>
                    </a:lnTo>
                    <a:lnTo>
                      <a:pt x="2810" y="30"/>
                    </a:lnTo>
                    <a:lnTo>
                      <a:pt x="2809" y="29"/>
                    </a:lnTo>
                    <a:lnTo>
                      <a:pt x="2808" y="28"/>
                    </a:lnTo>
                    <a:lnTo>
                      <a:pt x="2807" y="27"/>
                    </a:lnTo>
                    <a:lnTo>
                      <a:pt x="2808" y="27"/>
                    </a:lnTo>
                    <a:close/>
                    <a:moveTo>
                      <a:pt x="986" y="0"/>
                    </a:moveTo>
                    <a:lnTo>
                      <a:pt x="988" y="3"/>
                    </a:lnTo>
                    <a:lnTo>
                      <a:pt x="989" y="4"/>
                    </a:lnTo>
                    <a:lnTo>
                      <a:pt x="989" y="5"/>
                    </a:lnTo>
                    <a:lnTo>
                      <a:pt x="990" y="6"/>
                    </a:lnTo>
                    <a:lnTo>
                      <a:pt x="990" y="7"/>
                    </a:lnTo>
                    <a:lnTo>
                      <a:pt x="992" y="8"/>
                    </a:lnTo>
                    <a:lnTo>
                      <a:pt x="994" y="9"/>
                    </a:lnTo>
                    <a:lnTo>
                      <a:pt x="1000" y="8"/>
                    </a:lnTo>
                    <a:lnTo>
                      <a:pt x="1003" y="8"/>
                    </a:lnTo>
                    <a:lnTo>
                      <a:pt x="1007" y="9"/>
                    </a:lnTo>
                    <a:lnTo>
                      <a:pt x="1009" y="11"/>
                    </a:lnTo>
                    <a:lnTo>
                      <a:pt x="1010" y="14"/>
                    </a:lnTo>
                    <a:lnTo>
                      <a:pt x="1011" y="18"/>
                    </a:lnTo>
                    <a:lnTo>
                      <a:pt x="1012" y="22"/>
                    </a:lnTo>
                    <a:lnTo>
                      <a:pt x="1014" y="29"/>
                    </a:lnTo>
                    <a:lnTo>
                      <a:pt x="1020" y="36"/>
                    </a:lnTo>
                    <a:lnTo>
                      <a:pt x="1023" y="42"/>
                    </a:lnTo>
                    <a:lnTo>
                      <a:pt x="1023" y="48"/>
                    </a:lnTo>
                    <a:lnTo>
                      <a:pt x="1025" y="53"/>
                    </a:lnTo>
                    <a:lnTo>
                      <a:pt x="1030" y="60"/>
                    </a:lnTo>
                    <a:lnTo>
                      <a:pt x="1032" y="61"/>
                    </a:lnTo>
                    <a:lnTo>
                      <a:pt x="1034" y="64"/>
                    </a:lnTo>
                    <a:lnTo>
                      <a:pt x="1036" y="68"/>
                    </a:lnTo>
                    <a:lnTo>
                      <a:pt x="1039" y="71"/>
                    </a:lnTo>
                    <a:lnTo>
                      <a:pt x="1040" y="73"/>
                    </a:lnTo>
                    <a:lnTo>
                      <a:pt x="1040" y="76"/>
                    </a:lnTo>
                    <a:lnTo>
                      <a:pt x="1039" y="77"/>
                    </a:lnTo>
                    <a:lnTo>
                      <a:pt x="1037" y="79"/>
                    </a:lnTo>
                    <a:lnTo>
                      <a:pt x="1036" y="79"/>
                    </a:lnTo>
                    <a:lnTo>
                      <a:pt x="1034" y="79"/>
                    </a:lnTo>
                    <a:lnTo>
                      <a:pt x="1032" y="79"/>
                    </a:lnTo>
                    <a:lnTo>
                      <a:pt x="1030" y="79"/>
                    </a:lnTo>
                    <a:lnTo>
                      <a:pt x="1028" y="79"/>
                    </a:lnTo>
                    <a:lnTo>
                      <a:pt x="1025" y="79"/>
                    </a:lnTo>
                    <a:lnTo>
                      <a:pt x="1023" y="80"/>
                    </a:lnTo>
                    <a:lnTo>
                      <a:pt x="1022" y="82"/>
                    </a:lnTo>
                    <a:lnTo>
                      <a:pt x="1023" y="84"/>
                    </a:lnTo>
                    <a:lnTo>
                      <a:pt x="1024" y="86"/>
                    </a:lnTo>
                    <a:lnTo>
                      <a:pt x="1025" y="87"/>
                    </a:lnTo>
                    <a:lnTo>
                      <a:pt x="1025" y="91"/>
                    </a:lnTo>
                    <a:lnTo>
                      <a:pt x="1024" y="92"/>
                    </a:lnTo>
                    <a:lnTo>
                      <a:pt x="1023" y="94"/>
                    </a:lnTo>
                    <a:lnTo>
                      <a:pt x="1022" y="95"/>
                    </a:lnTo>
                    <a:lnTo>
                      <a:pt x="1021" y="97"/>
                    </a:lnTo>
                    <a:lnTo>
                      <a:pt x="1021" y="100"/>
                    </a:lnTo>
                    <a:lnTo>
                      <a:pt x="1023" y="103"/>
                    </a:lnTo>
                    <a:lnTo>
                      <a:pt x="1024" y="105"/>
                    </a:lnTo>
                    <a:lnTo>
                      <a:pt x="1028" y="106"/>
                    </a:lnTo>
                    <a:lnTo>
                      <a:pt x="1030" y="106"/>
                    </a:lnTo>
                    <a:lnTo>
                      <a:pt x="1033" y="105"/>
                    </a:lnTo>
                    <a:lnTo>
                      <a:pt x="1035" y="105"/>
                    </a:lnTo>
                    <a:lnTo>
                      <a:pt x="1037" y="104"/>
                    </a:lnTo>
                    <a:lnTo>
                      <a:pt x="1040" y="104"/>
                    </a:lnTo>
                    <a:lnTo>
                      <a:pt x="1042" y="104"/>
                    </a:lnTo>
                    <a:lnTo>
                      <a:pt x="1045" y="106"/>
                    </a:lnTo>
                    <a:lnTo>
                      <a:pt x="1046" y="107"/>
                    </a:lnTo>
                    <a:lnTo>
                      <a:pt x="1048" y="108"/>
                    </a:lnTo>
                    <a:lnTo>
                      <a:pt x="1051" y="109"/>
                    </a:lnTo>
                    <a:lnTo>
                      <a:pt x="1053" y="109"/>
                    </a:lnTo>
                    <a:lnTo>
                      <a:pt x="1055" y="111"/>
                    </a:lnTo>
                    <a:lnTo>
                      <a:pt x="1056" y="113"/>
                    </a:lnTo>
                    <a:lnTo>
                      <a:pt x="1056" y="119"/>
                    </a:lnTo>
                    <a:lnTo>
                      <a:pt x="1053" y="126"/>
                    </a:lnTo>
                    <a:lnTo>
                      <a:pt x="1052" y="133"/>
                    </a:lnTo>
                    <a:lnTo>
                      <a:pt x="1052" y="134"/>
                    </a:lnTo>
                    <a:lnTo>
                      <a:pt x="1053" y="137"/>
                    </a:lnTo>
                    <a:lnTo>
                      <a:pt x="1054" y="139"/>
                    </a:lnTo>
                    <a:lnTo>
                      <a:pt x="1054" y="141"/>
                    </a:lnTo>
                    <a:lnTo>
                      <a:pt x="1054" y="145"/>
                    </a:lnTo>
                    <a:lnTo>
                      <a:pt x="1056" y="151"/>
                    </a:lnTo>
                    <a:lnTo>
                      <a:pt x="1058" y="158"/>
                    </a:lnTo>
                    <a:lnTo>
                      <a:pt x="1063" y="161"/>
                    </a:lnTo>
                    <a:lnTo>
                      <a:pt x="1065" y="152"/>
                    </a:lnTo>
                    <a:lnTo>
                      <a:pt x="1065" y="145"/>
                    </a:lnTo>
                    <a:lnTo>
                      <a:pt x="1067" y="136"/>
                    </a:lnTo>
                    <a:lnTo>
                      <a:pt x="1070" y="128"/>
                    </a:lnTo>
                    <a:lnTo>
                      <a:pt x="1078" y="122"/>
                    </a:lnTo>
                    <a:lnTo>
                      <a:pt x="1080" y="120"/>
                    </a:lnTo>
                    <a:lnTo>
                      <a:pt x="1083" y="119"/>
                    </a:lnTo>
                    <a:lnTo>
                      <a:pt x="1086" y="118"/>
                    </a:lnTo>
                    <a:lnTo>
                      <a:pt x="1088" y="117"/>
                    </a:lnTo>
                    <a:lnTo>
                      <a:pt x="1091" y="117"/>
                    </a:lnTo>
                    <a:lnTo>
                      <a:pt x="1094" y="117"/>
                    </a:lnTo>
                    <a:lnTo>
                      <a:pt x="1096" y="119"/>
                    </a:lnTo>
                    <a:lnTo>
                      <a:pt x="1098" y="126"/>
                    </a:lnTo>
                    <a:lnTo>
                      <a:pt x="1101" y="131"/>
                    </a:lnTo>
                    <a:lnTo>
                      <a:pt x="1107" y="137"/>
                    </a:lnTo>
                    <a:lnTo>
                      <a:pt x="1111" y="140"/>
                    </a:lnTo>
                    <a:lnTo>
                      <a:pt x="1113" y="144"/>
                    </a:lnTo>
                    <a:lnTo>
                      <a:pt x="1114" y="148"/>
                    </a:lnTo>
                    <a:lnTo>
                      <a:pt x="1116" y="152"/>
                    </a:lnTo>
                    <a:lnTo>
                      <a:pt x="1113" y="156"/>
                    </a:lnTo>
                    <a:lnTo>
                      <a:pt x="1112" y="158"/>
                    </a:lnTo>
                    <a:lnTo>
                      <a:pt x="1109" y="159"/>
                    </a:lnTo>
                    <a:lnTo>
                      <a:pt x="1107" y="161"/>
                    </a:lnTo>
                    <a:lnTo>
                      <a:pt x="1105" y="163"/>
                    </a:lnTo>
                    <a:lnTo>
                      <a:pt x="1100" y="171"/>
                    </a:lnTo>
                    <a:lnTo>
                      <a:pt x="1099" y="180"/>
                    </a:lnTo>
                    <a:lnTo>
                      <a:pt x="1101" y="190"/>
                    </a:lnTo>
                    <a:lnTo>
                      <a:pt x="1107" y="196"/>
                    </a:lnTo>
                    <a:lnTo>
                      <a:pt x="1108" y="197"/>
                    </a:lnTo>
                    <a:lnTo>
                      <a:pt x="1110" y="199"/>
                    </a:lnTo>
                    <a:lnTo>
                      <a:pt x="1111" y="199"/>
                    </a:lnTo>
                    <a:lnTo>
                      <a:pt x="1112" y="201"/>
                    </a:lnTo>
                    <a:lnTo>
                      <a:pt x="1113" y="203"/>
                    </a:lnTo>
                    <a:lnTo>
                      <a:pt x="1116" y="205"/>
                    </a:lnTo>
                    <a:lnTo>
                      <a:pt x="1118" y="206"/>
                    </a:lnTo>
                    <a:lnTo>
                      <a:pt x="1120" y="207"/>
                    </a:lnTo>
                    <a:lnTo>
                      <a:pt x="1122" y="206"/>
                    </a:lnTo>
                    <a:lnTo>
                      <a:pt x="1124" y="205"/>
                    </a:lnTo>
                    <a:lnTo>
                      <a:pt x="1125" y="204"/>
                    </a:lnTo>
                    <a:lnTo>
                      <a:pt x="1125" y="202"/>
                    </a:lnTo>
                    <a:lnTo>
                      <a:pt x="1127" y="201"/>
                    </a:lnTo>
                    <a:lnTo>
                      <a:pt x="1127" y="194"/>
                    </a:lnTo>
                    <a:lnTo>
                      <a:pt x="1124" y="190"/>
                    </a:lnTo>
                    <a:lnTo>
                      <a:pt x="1122" y="184"/>
                    </a:lnTo>
                    <a:lnTo>
                      <a:pt x="1122" y="179"/>
                    </a:lnTo>
                    <a:lnTo>
                      <a:pt x="1124" y="172"/>
                    </a:lnTo>
                    <a:lnTo>
                      <a:pt x="1128" y="169"/>
                    </a:lnTo>
                    <a:lnTo>
                      <a:pt x="1133" y="168"/>
                    </a:lnTo>
                    <a:lnTo>
                      <a:pt x="1139" y="168"/>
                    </a:lnTo>
                    <a:lnTo>
                      <a:pt x="1144" y="168"/>
                    </a:lnTo>
                    <a:lnTo>
                      <a:pt x="1150" y="166"/>
                    </a:lnTo>
                    <a:lnTo>
                      <a:pt x="1152" y="162"/>
                    </a:lnTo>
                    <a:lnTo>
                      <a:pt x="1152" y="158"/>
                    </a:lnTo>
                    <a:lnTo>
                      <a:pt x="1151" y="152"/>
                    </a:lnTo>
                    <a:lnTo>
                      <a:pt x="1149" y="147"/>
                    </a:lnTo>
                    <a:lnTo>
                      <a:pt x="1149" y="144"/>
                    </a:lnTo>
                    <a:lnTo>
                      <a:pt x="1149" y="140"/>
                    </a:lnTo>
                    <a:lnTo>
                      <a:pt x="1149" y="137"/>
                    </a:lnTo>
                    <a:lnTo>
                      <a:pt x="1151" y="134"/>
                    </a:lnTo>
                    <a:lnTo>
                      <a:pt x="1153" y="131"/>
                    </a:lnTo>
                    <a:lnTo>
                      <a:pt x="1155" y="130"/>
                    </a:lnTo>
                    <a:lnTo>
                      <a:pt x="1160" y="130"/>
                    </a:lnTo>
                    <a:lnTo>
                      <a:pt x="1163" y="129"/>
                    </a:lnTo>
                    <a:lnTo>
                      <a:pt x="1166" y="128"/>
                    </a:lnTo>
                    <a:lnTo>
                      <a:pt x="1167" y="126"/>
                    </a:lnTo>
                    <a:lnTo>
                      <a:pt x="1168" y="123"/>
                    </a:lnTo>
                    <a:lnTo>
                      <a:pt x="1168" y="119"/>
                    </a:lnTo>
                    <a:lnTo>
                      <a:pt x="1165" y="116"/>
                    </a:lnTo>
                    <a:lnTo>
                      <a:pt x="1163" y="113"/>
                    </a:lnTo>
                    <a:lnTo>
                      <a:pt x="1160" y="109"/>
                    </a:lnTo>
                    <a:lnTo>
                      <a:pt x="1157" y="106"/>
                    </a:lnTo>
                    <a:lnTo>
                      <a:pt x="1156" y="103"/>
                    </a:lnTo>
                    <a:lnTo>
                      <a:pt x="1155" y="101"/>
                    </a:lnTo>
                    <a:lnTo>
                      <a:pt x="1155" y="97"/>
                    </a:lnTo>
                    <a:lnTo>
                      <a:pt x="1156" y="94"/>
                    </a:lnTo>
                    <a:lnTo>
                      <a:pt x="1157" y="92"/>
                    </a:lnTo>
                    <a:lnTo>
                      <a:pt x="1160" y="91"/>
                    </a:lnTo>
                    <a:lnTo>
                      <a:pt x="1166" y="88"/>
                    </a:lnTo>
                    <a:lnTo>
                      <a:pt x="1176" y="88"/>
                    </a:lnTo>
                    <a:lnTo>
                      <a:pt x="1186" y="91"/>
                    </a:lnTo>
                    <a:lnTo>
                      <a:pt x="1195" y="93"/>
                    </a:lnTo>
                    <a:lnTo>
                      <a:pt x="1199" y="93"/>
                    </a:lnTo>
                    <a:lnTo>
                      <a:pt x="1204" y="93"/>
                    </a:lnTo>
                    <a:lnTo>
                      <a:pt x="1208" y="93"/>
                    </a:lnTo>
                    <a:lnTo>
                      <a:pt x="1211" y="95"/>
                    </a:lnTo>
                    <a:lnTo>
                      <a:pt x="1214" y="97"/>
                    </a:lnTo>
                    <a:lnTo>
                      <a:pt x="1215" y="100"/>
                    </a:lnTo>
                    <a:lnTo>
                      <a:pt x="1216" y="102"/>
                    </a:lnTo>
                    <a:lnTo>
                      <a:pt x="1218" y="104"/>
                    </a:lnTo>
                    <a:lnTo>
                      <a:pt x="1220" y="105"/>
                    </a:lnTo>
                    <a:lnTo>
                      <a:pt x="1222" y="106"/>
                    </a:lnTo>
                    <a:lnTo>
                      <a:pt x="1226" y="107"/>
                    </a:lnTo>
                    <a:lnTo>
                      <a:pt x="1227" y="109"/>
                    </a:lnTo>
                    <a:lnTo>
                      <a:pt x="1228" y="111"/>
                    </a:lnTo>
                    <a:lnTo>
                      <a:pt x="1229" y="113"/>
                    </a:lnTo>
                    <a:lnTo>
                      <a:pt x="1231" y="114"/>
                    </a:lnTo>
                    <a:lnTo>
                      <a:pt x="1232" y="114"/>
                    </a:lnTo>
                    <a:lnTo>
                      <a:pt x="1234" y="115"/>
                    </a:lnTo>
                    <a:lnTo>
                      <a:pt x="1236" y="116"/>
                    </a:lnTo>
                    <a:lnTo>
                      <a:pt x="1236" y="117"/>
                    </a:lnTo>
                    <a:lnTo>
                      <a:pt x="1238" y="118"/>
                    </a:lnTo>
                    <a:lnTo>
                      <a:pt x="1239" y="120"/>
                    </a:lnTo>
                    <a:lnTo>
                      <a:pt x="1240" y="123"/>
                    </a:lnTo>
                    <a:lnTo>
                      <a:pt x="1241" y="124"/>
                    </a:lnTo>
                    <a:lnTo>
                      <a:pt x="1240" y="126"/>
                    </a:lnTo>
                    <a:lnTo>
                      <a:pt x="1239" y="126"/>
                    </a:lnTo>
                    <a:lnTo>
                      <a:pt x="1237" y="127"/>
                    </a:lnTo>
                    <a:lnTo>
                      <a:pt x="1234" y="127"/>
                    </a:lnTo>
                    <a:lnTo>
                      <a:pt x="1232" y="127"/>
                    </a:lnTo>
                    <a:lnTo>
                      <a:pt x="1231" y="127"/>
                    </a:lnTo>
                    <a:lnTo>
                      <a:pt x="1229" y="128"/>
                    </a:lnTo>
                    <a:lnTo>
                      <a:pt x="1229" y="129"/>
                    </a:lnTo>
                    <a:lnTo>
                      <a:pt x="1229" y="130"/>
                    </a:lnTo>
                    <a:lnTo>
                      <a:pt x="1229" y="133"/>
                    </a:lnTo>
                    <a:lnTo>
                      <a:pt x="1232" y="133"/>
                    </a:lnTo>
                    <a:lnTo>
                      <a:pt x="1234" y="134"/>
                    </a:lnTo>
                    <a:lnTo>
                      <a:pt x="1237" y="136"/>
                    </a:lnTo>
                    <a:lnTo>
                      <a:pt x="1238" y="138"/>
                    </a:lnTo>
                    <a:lnTo>
                      <a:pt x="1239" y="141"/>
                    </a:lnTo>
                    <a:lnTo>
                      <a:pt x="1238" y="144"/>
                    </a:lnTo>
                    <a:lnTo>
                      <a:pt x="1237" y="146"/>
                    </a:lnTo>
                    <a:lnTo>
                      <a:pt x="1233" y="148"/>
                    </a:lnTo>
                    <a:lnTo>
                      <a:pt x="1231" y="150"/>
                    </a:lnTo>
                    <a:lnTo>
                      <a:pt x="1228" y="151"/>
                    </a:lnTo>
                    <a:lnTo>
                      <a:pt x="1225" y="152"/>
                    </a:lnTo>
                    <a:lnTo>
                      <a:pt x="1221" y="153"/>
                    </a:lnTo>
                    <a:lnTo>
                      <a:pt x="1218" y="155"/>
                    </a:lnTo>
                    <a:lnTo>
                      <a:pt x="1216" y="156"/>
                    </a:lnTo>
                    <a:lnTo>
                      <a:pt x="1216" y="157"/>
                    </a:lnTo>
                    <a:lnTo>
                      <a:pt x="1217" y="159"/>
                    </a:lnTo>
                    <a:lnTo>
                      <a:pt x="1218" y="160"/>
                    </a:lnTo>
                    <a:lnTo>
                      <a:pt x="1220" y="161"/>
                    </a:lnTo>
                    <a:lnTo>
                      <a:pt x="1222" y="163"/>
                    </a:lnTo>
                    <a:lnTo>
                      <a:pt x="1225" y="166"/>
                    </a:lnTo>
                    <a:lnTo>
                      <a:pt x="1227" y="167"/>
                    </a:lnTo>
                    <a:lnTo>
                      <a:pt x="1228" y="169"/>
                    </a:lnTo>
                    <a:lnTo>
                      <a:pt x="1228" y="171"/>
                    </a:lnTo>
                    <a:lnTo>
                      <a:pt x="1227" y="173"/>
                    </a:lnTo>
                    <a:lnTo>
                      <a:pt x="1227" y="174"/>
                    </a:lnTo>
                    <a:lnTo>
                      <a:pt x="1226" y="177"/>
                    </a:lnTo>
                    <a:lnTo>
                      <a:pt x="1225" y="179"/>
                    </a:lnTo>
                    <a:lnTo>
                      <a:pt x="1225" y="181"/>
                    </a:lnTo>
                    <a:lnTo>
                      <a:pt x="1226" y="183"/>
                    </a:lnTo>
                    <a:lnTo>
                      <a:pt x="1228" y="185"/>
                    </a:lnTo>
                    <a:lnTo>
                      <a:pt x="1230" y="188"/>
                    </a:lnTo>
                    <a:lnTo>
                      <a:pt x="1232" y="190"/>
                    </a:lnTo>
                    <a:lnTo>
                      <a:pt x="1233" y="192"/>
                    </a:lnTo>
                    <a:lnTo>
                      <a:pt x="1233" y="203"/>
                    </a:lnTo>
                    <a:lnTo>
                      <a:pt x="1229" y="212"/>
                    </a:lnTo>
                    <a:lnTo>
                      <a:pt x="1223" y="221"/>
                    </a:lnTo>
                    <a:lnTo>
                      <a:pt x="1216" y="229"/>
                    </a:lnTo>
                    <a:lnTo>
                      <a:pt x="1214" y="233"/>
                    </a:lnTo>
                    <a:lnTo>
                      <a:pt x="1209" y="237"/>
                    </a:lnTo>
                    <a:lnTo>
                      <a:pt x="1204" y="243"/>
                    </a:lnTo>
                    <a:lnTo>
                      <a:pt x="1198" y="247"/>
                    </a:lnTo>
                    <a:lnTo>
                      <a:pt x="1193" y="249"/>
                    </a:lnTo>
                    <a:lnTo>
                      <a:pt x="1188" y="247"/>
                    </a:lnTo>
                    <a:lnTo>
                      <a:pt x="1182" y="239"/>
                    </a:lnTo>
                    <a:lnTo>
                      <a:pt x="1177" y="232"/>
                    </a:lnTo>
                    <a:lnTo>
                      <a:pt x="1171" y="225"/>
                    </a:lnTo>
                    <a:lnTo>
                      <a:pt x="1167" y="223"/>
                    </a:lnTo>
                    <a:lnTo>
                      <a:pt x="1164" y="223"/>
                    </a:lnTo>
                    <a:lnTo>
                      <a:pt x="1163" y="224"/>
                    </a:lnTo>
                    <a:lnTo>
                      <a:pt x="1161" y="226"/>
                    </a:lnTo>
                    <a:lnTo>
                      <a:pt x="1161" y="228"/>
                    </a:lnTo>
                    <a:lnTo>
                      <a:pt x="1162" y="232"/>
                    </a:lnTo>
                    <a:lnTo>
                      <a:pt x="1162" y="234"/>
                    </a:lnTo>
                    <a:lnTo>
                      <a:pt x="1163" y="236"/>
                    </a:lnTo>
                    <a:lnTo>
                      <a:pt x="1164" y="238"/>
                    </a:lnTo>
                    <a:lnTo>
                      <a:pt x="1165" y="240"/>
                    </a:lnTo>
                    <a:lnTo>
                      <a:pt x="1166" y="243"/>
                    </a:lnTo>
                    <a:lnTo>
                      <a:pt x="1166" y="244"/>
                    </a:lnTo>
                    <a:lnTo>
                      <a:pt x="1167" y="246"/>
                    </a:lnTo>
                    <a:lnTo>
                      <a:pt x="1168" y="248"/>
                    </a:lnTo>
                    <a:lnTo>
                      <a:pt x="1168" y="250"/>
                    </a:lnTo>
                    <a:lnTo>
                      <a:pt x="1170" y="253"/>
                    </a:lnTo>
                    <a:lnTo>
                      <a:pt x="1170" y="255"/>
                    </a:lnTo>
                    <a:lnTo>
                      <a:pt x="1170" y="256"/>
                    </a:lnTo>
                    <a:lnTo>
                      <a:pt x="1170" y="258"/>
                    </a:lnTo>
                    <a:lnTo>
                      <a:pt x="1168" y="258"/>
                    </a:lnTo>
                    <a:lnTo>
                      <a:pt x="1166" y="258"/>
                    </a:lnTo>
                    <a:lnTo>
                      <a:pt x="1164" y="258"/>
                    </a:lnTo>
                    <a:lnTo>
                      <a:pt x="1157" y="255"/>
                    </a:lnTo>
                    <a:lnTo>
                      <a:pt x="1153" y="250"/>
                    </a:lnTo>
                    <a:lnTo>
                      <a:pt x="1149" y="247"/>
                    </a:lnTo>
                    <a:lnTo>
                      <a:pt x="1143" y="244"/>
                    </a:lnTo>
                    <a:lnTo>
                      <a:pt x="1135" y="245"/>
                    </a:lnTo>
                    <a:lnTo>
                      <a:pt x="1132" y="247"/>
                    </a:lnTo>
                    <a:lnTo>
                      <a:pt x="1133" y="249"/>
                    </a:lnTo>
                    <a:lnTo>
                      <a:pt x="1135" y="254"/>
                    </a:lnTo>
                    <a:lnTo>
                      <a:pt x="1139" y="258"/>
                    </a:lnTo>
                    <a:lnTo>
                      <a:pt x="1140" y="262"/>
                    </a:lnTo>
                    <a:lnTo>
                      <a:pt x="1140" y="267"/>
                    </a:lnTo>
                    <a:lnTo>
                      <a:pt x="1133" y="277"/>
                    </a:lnTo>
                    <a:lnTo>
                      <a:pt x="1124" y="284"/>
                    </a:lnTo>
                    <a:lnTo>
                      <a:pt x="1120" y="287"/>
                    </a:lnTo>
                    <a:lnTo>
                      <a:pt x="1116" y="289"/>
                    </a:lnTo>
                    <a:lnTo>
                      <a:pt x="1111" y="290"/>
                    </a:lnTo>
                    <a:lnTo>
                      <a:pt x="1107" y="289"/>
                    </a:lnTo>
                    <a:lnTo>
                      <a:pt x="1098" y="284"/>
                    </a:lnTo>
                    <a:lnTo>
                      <a:pt x="1091" y="278"/>
                    </a:lnTo>
                    <a:lnTo>
                      <a:pt x="1085" y="271"/>
                    </a:lnTo>
                    <a:lnTo>
                      <a:pt x="1078" y="267"/>
                    </a:lnTo>
                    <a:lnTo>
                      <a:pt x="1072" y="266"/>
                    </a:lnTo>
                    <a:lnTo>
                      <a:pt x="1065" y="268"/>
                    </a:lnTo>
                    <a:lnTo>
                      <a:pt x="1061" y="272"/>
                    </a:lnTo>
                    <a:lnTo>
                      <a:pt x="1059" y="277"/>
                    </a:lnTo>
                    <a:lnTo>
                      <a:pt x="1061" y="281"/>
                    </a:lnTo>
                    <a:lnTo>
                      <a:pt x="1067" y="284"/>
                    </a:lnTo>
                    <a:lnTo>
                      <a:pt x="1070" y="284"/>
                    </a:lnTo>
                    <a:lnTo>
                      <a:pt x="1074" y="286"/>
                    </a:lnTo>
                    <a:lnTo>
                      <a:pt x="1075" y="287"/>
                    </a:lnTo>
                    <a:lnTo>
                      <a:pt x="1076" y="289"/>
                    </a:lnTo>
                    <a:lnTo>
                      <a:pt x="1077" y="291"/>
                    </a:lnTo>
                    <a:lnTo>
                      <a:pt x="1078" y="293"/>
                    </a:lnTo>
                    <a:lnTo>
                      <a:pt x="1084" y="297"/>
                    </a:lnTo>
                    <a:lnTo>
                      <a:pt x="1089" y="298"/>
                    </a:lnTo>
                    <a:lnTo>
                      <a:pt x="1098" y="298"/>
                    </a:lnTo>
                    <a:lnTo>
                      <a:pt x="1102" y="298"/>
                    </a:lnTo>
                    <a:lnTo>
                      <a:pt x="1107" y="298"/>
                    </a:lnTo>
                    <a:lnTo>
                      <a:pt x="1111" y="298"/>
                    </a:lnTo>
                    <a:lnTo>
                      <a:pt x="1116" y="300"/>
                    </a:lnTo>
                    <a:lnTo>
                      <a:pt x="1118" y="304"/>
                    </a:lnTo>
                    <a:lnTo>
                      <a:pt x="1119" y="308"/>
                    </a:lnTo>
                    <a:lnTo>
                      <a:pt x="1118" y="311"/>
                    </a:lnTo>
                    <a:lnTo>
                      <a:pt x="1116" y="313"/>
                    </a:lnTo>
                    <a:lnTo>
                      <a:pt x="1113" y="315"/>
                    </a:lnTo>
                    <a:lnTo>
                      <a:pt x="1106" y="324"/>
                    </a:lnTo>
                    <a:lnTo>
                      <a:pt x="1100" y="335"/>
                    </a:lnTo>
                    <a:lnTo>
                      <a:pt x="1094" y="345"/>
                    </a:lnTo>
                    <a:lnTo>
                      <a:pt x="1087" y="353"/>
                    </a:lnTo>
                    <a:lnTo>
                      <a:pt x="1081" y="354"/>
                    </a:lnTo>
                    <a:lnTo>
                      <a:pt x="1076" y="354"/>
                    </a:lnTo>
                    <a:lnTo>
                      <a:pt x="1069" y="353"/>
                    </a:lnTo>
                    <a:lnTo>
                      <a:pt x="1064" y="353"/>
                    </a:lnTo>
                    <a:lnTo>
                      <a:pt x="1059" y="353"/>
                    </a:lnTo>
                    <a:lnTo>
                      <a:pt x="1056" y="357"/>
                    </a:lnTo>
                    <a:lnTo>
                      <a:pt x="1055" y="362"/>
                    </a:lnTo>
                    <a:lnTo>
                      <a:pt x="1055" y="366"/>
                    </a:lnTo>
                    <a:lnTo>
                      <a:pt x="1056" y="370"/>
                    </a:lnTo>
                    <a:lnTo>
                      <a:pt x="1055" y="374"/>
                    </a:lnTo>
                    <a:lnTo>
                      <a:pt x="1053" y="376"/>
                    </a:lnTo>
                    <a:lnTo>
                      <a:pt x="1047" y="377"/>
                    </a:lnTo>
                    <a:lnTo>
                      <a:pt x="1041" y="376"/>
                    </a:lnTo>
                    <a:lnTo>
                      <a:pt x="1033" y="374"/>
                    </a:lnTo>
                    <a:lnTo>
                      <a:pt x="1025" y="373"/>
                    </a:lnTo>
                    <a:lnTo>
                      <a:pt x="1019" y="373"/>
                    </a:lnTo>
                    <a:lnTo>
                      <a:pt x="1014" y="375"/>
                    </a:lnTo>
                    <a:lnTo>
                      <a:pt x="1012" y="377"/>
                    </a:lnTo>
                    <a:lnTo>
                      <a:pt x="1015" y="379"/>
                    </a:lnTo>
                    <a:lnTo>
                      <a:pt x="1020" y="381"/>
                    </a:lnTo>
                    <a:lnTo>
                      <a:pt x="1026" y="384"/>
                    </a:lnTo>
                    <a:lnTo>
                      <a:pt x="1031" y="385"/>
                    </a:lnTo>
                    <a:lnTo>
                      <a:pt x="1034" y="386"/>
                    </a:lnTo>
                    <a:lnTo>
                      <a:pt x="1039" y="388"/>
                    </a:lnTo>
                    <a:lnTo>
                      <a:pt x="1043" y="391"/>
                    </a:lnTo>
                    <a:lnTo>
                      <a:pt x="1046" y="395"/>
                    </a:lnTo>
                    <a:lnTo>
                      <a:pt x="1045" y="399"/>
                    </a:lnTo>
                    <a:lnTo>
                      <a:pt x="1041" y="403"/>
                    </a:lnTo>
                    <a:lnTo>
                      <a:pt x="1033" y="407"/>
                    </a:lnTo>
                    <a:lnTo>
                      <a:pt x="1024" y="410"/>
                    </a:lnTo>
                    <a:lnTo>
                      <a:pt x="1017" y="414"/>
                    </a:lnTo>
                    <a:lnTo>
                      <a:pt x="1014" y="415"/>
                    </a:lnTo>
                    <a:lnTo>
                      <a:pt x="1014" y="418"/>
                    </a:lnTo>
                    <a:lnTo>
                      <a:pt x="1013" y="420"/>
                    </a:lnTo>
                    <a:lnTo>
                      <a:pt x="1013" y="422"/>
                    </a:lnTo>
                    <a:lnTo>
                      <a:pt x="1013" y="424"/>
                    </a:lnTo>
                    <a:lnTo>
                      <a:pt x="1012" y="425"/>
                    </a:lnTo>
                    <a:lnTo>
                      <a:pt x="1010" y="430"/>
                    </a:lnTo>
                    <a:lnTo>
                      <a:pt x="1008" y="434"/>
                    </a:lnTo>
                    <a:lnTo>
                      <a:pt x="1004" y="437"/>
                    </a:lnTo>
                    <a:lnTo>
                      <a:pt x="1001" y="441"/>
                    </a:lnTo>
                    <a:lnTo>
                      <a:pt x="992" y="452"/>
                    </a:lnTo>
                    <a:lnTo>
                      <a:pt x="986" y="464"/>
                    </a:lnTo>
                    <a:lnTo>
                      <a:pt x="979" y="478"/>
                    </a:lnTo>
                    <a:lnTo>
                      <a:pt x="974" y="489"/>
                    </a:lnTo>
                    <a:lnTo>
                      <a:pt x="968" y="499"/>
                    </a:lnTo>
                    <a:lnTo>
                      <a:pt x="964" y="510"/>
                    </a:lnTo>
                    <a:lnTo>
                      <a:pt x="961" y="522"/>
                    </a:lnTo>
                    <a:lnTo>
                      <a:pt x="961" y="531"/>
                    </a:lnTo>
                    <a:lnTo>
                      <a:pt x="960" y="542"/>
                    </a:lnTo>
                    <a:lnTo>
                      <a:pt x="960" y="553"/>
                    </a:lnTo>
                    <a:lnTo>
                      <a:pt x="963" y="563"/>
                    </a:lnTo>
                    <a:lnTo>
                      <a:pt x="966" y="571"/>
                    </a:lnTo>
                    <a:lnTo>
                      <a:pt x="971" y="575"/>
                    </a:lnTo>
                    <a:lnTo>
                      <a:pt x="977" y="577"/>
                    </a:lnTo>
                    <a:lnTo>
                      <a:pt x="983" y="577"/>
                    </a:lnTo>
                    <a:lnTo>
                      <a:pt x="990" y="578"/>
                    </a:lnTo>
                    <a:lnTo>
                      <a:pt x="994" y="582"/>
                    </a:lnTo>
                    <a:lnTo>
                      <a:pt x="998" y="591"/>
                    </a:lnTo>
                    <a:lnTo>
                      <a:pt x="998" y="599"/>
                    </a:lnTo>
                    <a:lnTo>
                      <a:pt x="998" y="607"/>
                    </a:lnTo>
                    <a:lnTo>
                      <a:pt x="999" y="615"/>
                    </a:lnTo>
                    <a:lnTo>
                      <a:pt x="1002" y="622"/>
                    </a:lnTo>
                    <a:lnTo>
                      <a:pt x="1004" y="629"/>
                    </a:lnTo>
                    <a:lnTo>
                      <a:pt x="1005" y="637"/>
                    </a:lnTo>
                    <a:lnTo>
                      <a:pt x="1005" y="639"/>
                    </a:lnTo>
                    <a:lnTo>
                      <a:pt x="1005" y="641"/>
                    </a:lnTo>
                    <a:lnTo>
                      <a:pt x="1007" y="642"/>
                    </a:lnTo>
                    <a:lnTo>
                      <a:pt x="1007" y="644"/>
                    </a:lnTo>
                    <a:lnTo>
                      <a:pt x="1008" y="646"/>
                    </a:lnTo>
                    <a:lnTo>
                      <a:pt x="1010" y="646"/>
                    </a:lnTo>
                    <a:lnTo>
                      <a:pt x="1012" y="646"/>
                    </a:lnTo>
                    <a:lnTo>
                      <a:pt x="1018" y="643"/>
                    </a:lnTo>
                    <a:lnTo>
                      <a:pt x="1022" y="640"/>
                    </a:lnTo>
                    <a:lnTo>
                      <a:pt x="1026" y="638"/>
                    </a:lnTo>
                    <a:lnTo>
                      <a:pt x="1032" y="637"/>
                    </a:lnTo>
                    <a:lnTo>
                      <a:pt x="1039" y="639"/>
                    </a:lnTo>
                    <a:lnTo>
                      <a:pt x="1042" y="641"/>
                    </a:lnTo>
                    <a:lnTo>
                      <a:pt x="1045" y="643"/>
                    </a:lnTo>
                    <a:lnTo>
                      <a:pt x="1048" y="646"/>
                    </a:lnTo>
                    <a:lnTo>
                      <a:pt x="1052" y="647"/>
                    </a:lnTo>
                    <a:lnTo>
                      <a:pt x="1056" y="648"/>
                    </a:lnTo>
                    <a:lnTo>
                      <a:pt x="1066" y="648"/>
                    </a:lnTo>
                    <a:lnTo>
                      <a:pt x="1078" y="646"/>
                    </a:lnTo>
                    <a:lnTo>
                      <a:pt x="1086" y="647"/>
                    </a:lnTo>
                    <a:lnTo>
                      <a:pt x="1091" y="650"/>
                    </a:lnTo>
                    <a:lnTo>
                      <a:pt x="1095" y="655"/>
                    </a:lnTo>
                    <a:lnTo>
                      <a:pt x="1098" y="661"/>
                    </a:lnTo>
                    <a:lnTo>
                      <a:pt x="1102" y="668"/>
                    </a:lnTo>
                    <a:lnTo>
                      <a:pt x="1108" y="674"/>
                    </a:lnTo>
                    <a:lnTo>
                      <a:pt x="1116" y="679"/>
                    </a:lnTo>
                    <a:lnTo>
                      <a:pt x="1124" y="683"/>
                    </a:lnTo>
                    <a:lnTo>
                      <a:pt x="1135" y="690"/>
                    </a:lnTo>
                    <a:lnTo>
                      <a:pt x="1146" y="696"/>
                    </a:lnTo>
                    <a:lnTo>
                      <a:pt x="1159" y="703"/>
                    </a:lnTo>
                    <a:lnTo>
                      <a:pt x="1171" y="707"/>
                    </a:lnTo>
                    <a:lnTo>
                      <a:pt x="1182" y="709"/>
                    </a:lnTo>
                    <a:lnTo>
                      <a:pt x="1195" y="709"/>
                    </a:lnTo>
                    <a:lnTo>
                      <a:pt x="1201" y="709"/>
                    </a:lnTo>
                    <a:lnTo>
                      <a:pt x="1210" y="709"/>
                    </a:lnTo>
                    <a:lnTo>
                      <a:pt x="1216" y="712"/>
                    </a:lnTo>
                    <a:lnTo>
                      <a:pt x="1219" y="719"/>
                    </a:lnTo>
                    <a:lnTo>
                      <a:pt x="1221" y="727"/>
                    </a:lnTo>
                    <a:lnTo>
                      <a:pt x="1220" y="734"/>
                    </a:lnTo>
                    <a:lnTo>
                      <a:pt x="1216" y="739"/>
                    </a:lnTo>
                    <a:lnTo>
                      <a:pt x="1211" y="745"/>
                    </a:lnTo>
                    <a:lnTo>
                      <a:pt x="1209" y="751"/>
                    </a:lnTo>
                    <a:lnTo>
                      <a:pt x="1209" y="753"/>
                    </a:lnTo>
                    <a:lnTo>
                      <a:pt x="1210" y="757"/>
                    </a:lnTo>
                    <a:lnTo>
                      <a:pt x="1212" y="759"/>
                    </a:lnTo>
                    <a:lnTo>
                      <a:pt x="1214" y="762"/>
                    </a:lnTo>
                    <a:lnTo>
                      <a:pt x="1214" y="764"/>
                    </a:lnTo>
                    <a:lnTo>
                      <a:pt x="1215" y="771"/>
                    </a:lnTo>
                    <a:lnTo>
                      <a:pt x="1216" y="779"/>
                    </a:lnTo>
                    <a:lnTo>
                      <a:pt x="1217" y="785"/>
                    </a:lnTo>
                    <a:lnTo>
                      <a:pt x="1220" y="792"/>
                    </a:lnTo>
                    <a:lnTo>
                      <a:pt x="1227" y="795"/>
                    </a:lnTo>
                    <a:lnTo>
                      <a:pt x="1229" y="795"/>
                    </a:lnTo>
                    <a:lnTo>
                      <a:pt x="1231" y="795"/>
                    </a:lnTo>
                    <a:lnTo>
                      <a:pt x="1233" y="796"/>
                    </a:lnTo>
                    <a:lnTo>
                      <a:pt x="1237" y="796"/>
                    </a:lnTo>
                    <a:lnTo>
                      <a:pt x="1239" y="795"/>
                    </a:lnTo>
                    <a:lnTo>
                      <a:pt x="1241" y="794"/>
                    </a:lnTo>
                    <a:lnTo>
                      <a:pt x="1242" y="793"/>
                    </a:lnTo>
                    <a:lnTo>
                      <a:pt x="1243" y="791"/>
                    </a:lnTo>
                    <a:lnTo>
                      <a:pt x="1243" y="789"/>
                    </a:lnTo>
                    <a:lnTo>
                      <a:pt x="1242" y="786"/>
                    </a:lnTo>
                    <a:lnTo>
                      <a:pt x="1241" y="784"/>
                    </a:lnTo>
                    <a:lnTo>
                      <a:pt x="1240" y="782"/>
                    </a:lnTo>
                    <a:lnTo>
                      <a:pt x="1248" y="782"/>
                    </a:lnTo>
                    <a:lnTo>
                      <a:pt x="1253" y="785"/>
                    </a:lnTo>
                    <a:lnTo>
                      <a:pt x="1256" y="792"/>
                    </a:lnTo>
                    <a:lnTo>
                      <a:pt x="1258" y="800"/>
                    </a:lnTo>
                    <a:lnTo>
                      <a:pt x="1258" y="806"/>
                    </a:lnTo>
                    <a:lnTo>
                      <a:pt x="1258" y="813"/>
                    </a:lnTo>
                    <a:lnTo>
                      <a:pt x="1255" y="821"/>
                    </a:lnTo>
                    <a:lnTo>
                      <a:pt x="1253" y="828"/>
                    </a:lnTo>
                    <a:lnTo>
                      <a:pt x="1253" y="835"/>
                    </a:lnTo>
                    <a:lnTo>
                      <a:pt x="1254" y="842"/>
                    </a:lnTo>
                    <a:lnTo>
                      <a:pt x="1260" y="846"/>
                    </a:lnTo>
                    <a:lnTo>
                      <a:pt x="1269" y="850"/>
                    </a:lnTo>
                    <a:lnTo>
                      <a:pt x="1275" y="849"/>
                    </a:lnTo>
                    <a:lnTo>
                      <a:pt x="1279" y="845"/>
                    </a:lnTo>
                    <a:lnTo>
                      <a:pt x="1280" y="835"/>
                    </a:lnTo>
                    <a:lnTo>
                      <a:pt x="1280" y="832"/>
                    </a:lnTo>
                    <a:lnTo>
                      <a:pt x="1280" y="829"/>
                    </a:lnTo>
                    <a:lnTo>
                      <a:pt x="1281" y="827"/>
                    </a:lnTo>
                    <a:lnTo>
                      <a:pt x="1283" y="826"/>
                    </a:lnTo>
                    <a:lnTo>
                      <a:pt x="1284" y="826"/>
                    </a:lnTo>
                    <a:lnTo>
                      <a:pt x="1286" y="826"/>
                    </a:lnTo>
                    <a:lnTo>
                      <a:pt x="1288" y="826"/>
                    </a:lnTo>
                    <a:lnTo>
                      <a:pt x="1291" y="826"/>
                    </a:lnTo>
                    <a:lnTo>
                      <a:pt x="1292" y="825"/>
                    </a:lnTo>
                    <a:lnTo>
                      <a:pt x="1294" y="824"/>
                    </a:lnTo>
                    <a:lnTo>
                      <a:pt x="1295" y="822"/>
                    </a:lnTo>
                    <a:lnTo>
                      <a:pt x="1299" y="812"/>
                    </a:lnTo>
                    <a:lnTo>
                      <a:pt x="1299" y="803"/>
                    </a:lnTo>
                    <a:lnTo>
                      <a:pt x="1296" y="793"/>
                    </a:lnTo>
                    <a:lnTo>
                      <a:pt x="1293" y="783"/>
                    </a:lnTo>
                    <a:lnTo>
                      <a:pt x="1291" y="773"/>
                    </a:lnTo>
                    <a:lnTo>
                      <a:pt x="1290" y="762"/>
                    </a:lnTo>
                    <a:lnTo>
                      <a:pt x="1287" y="752"/>
                    </a:lnTo>
                    <a:lnTo>
                      <a:pt x="1284" y="742"/>
                    </a:lnTo>
                    <a:lnTo>
                      <a:pt x="1277" y="731"/>
                    </a:lnTo>
                    <a:lnTo>
                      <a:pt x="1276" y="729"/>
                    </a:lnTo>
                    <a:lnTo>
                      <a:pt x="1275" y="727"/>
                    </a:lnTo>
                    <a:lnTo>
                      <a:pt x="1275" y="726"/>
                    </a:lnTo>
                    <a:lnTo>
                      <a:pt x="1276" y="725"/>
                    </a:lnTo>
                    <a:lnTo>
                      <a:pt x="1279" y="724"/>
                    </a:lnTo>
                    <a:lnTo>
                      <a:pt x="1281" y="723"/>
                    </a:lnTo>
                    <a:lnTo>
                      <a:pt x="1284" y="723"/>
                    </a:lnTo>
                    <a:lnTo>
                      <a:pt x="1286" y="722"/>
                    </a:lnTo>
                    <a:lnTo>
                      <a:pt x="1288" y="722"/>
                    </a:lnTo>
                    <a:lnTo>
                      <a:pt x="1291" y="720"/>
                    </a:lnTo>
                    <a:lnTo>
                      <a:pt x="1302" y="716"/>
                    </a:lnTo>
                    <a:lnTo>
                      <a:pt x="1313" y="712"/>
                    </a:lnTo>
                    <a:lnTo>
                      <a:pt x="1319" y="707"/>
                    </a:lnTo>
                    <a:lnTo>
                      <a:pt x="1324" y="702"/>
                    </a:lnTo>
                    <a:lnTo>
                      <a:pt x="1328" y="696"/>
                    </a:lnTo>
                    <a:lnTo>
                      <a:pt x="1330" y="693"/>
                    </a:lnTo>
                    <a:lnTo>
                      <a:pt x="1334" y="690"/>
                    </a:lnTo>
                    <a:lnTo>
                      <a:pt x="1337" y="686"/>
                    </a:lnTo>
                    <a:lnTo>
                      <a:pt x="1339" y="683"/>
                    </a:lnTo>
                    <a:lnTo>
                      <a:pt x="1339" y="671"/>
                    </a:lnTo>
                    <a:lnTo>
                      <a:pt x="1338" y="658"/>
                    </a:lnTo>
                    <a:lnTo>
                      <a:pt x="1335" y="646"/>
                    </a:lnTo>
                    <a:lnTo>
                      <a:pt x="1330" y="622"/>
                    </a:lnTo>
                    <a:lnTo>
                      <a:pt x="1321" y="602"/>
                    </a:lnTo>
                    <a:lnTo>
                      <a:pt x="1316" y="594"/>
                    </a:lnTo>
                    <a:lnTo>
                      <a:pt x="1309" y="587"/>
                    </a:lnTo>
                    <a:lnTo>
                      <a:pt x="1304" y="580"/>
                    </a:lnTo>
                    <a:lnTo>
                      <a:pt x="1299" y="572"/>
                    </a:lnTo>
                    <a:lnTo>
                      <a:pt x="1297" y="562"/>
                    </a:lnTo>
                    <a:lnTo>
                      <a:pt x="1298" y="557"/>
                    </a:lnTo>
                    <a:lnTo>
                      <a:pt x="1298" y="554"/>
                    </a:lnTo>
                    <a:lnTo>
                      <a:pt x="1301" y="551"/>
                    </a:lnTo>
                    <a:lnTo>
                      <a:pt x="1303" y="549"/>
                    </a:lnTo>
                    <a:lnTo>
                      <a:pt x="1306" y="546"/>
                    </a:lnTo>
                    <a:lnTo>
                      <a:pt x="1309" y="544"/>
                    </a:lnTo>
                    <a:lnTo>
                      <a:pt x="1312" y="541"/>
                    </a:lnTo>
                    <a:lnTo>
                      <a:pt x="1314" y="538"/>
                    </a:lnTo>
                    <a:lnTo>
                      <a:pt x="1316" y="534"/>
                    </a:lnTo>
                    <a:lnTo>
                      <a:pt x="1317" y="531"/>
                    </a:lnTo>
                    <a:lnTo>
                      <a:pt x="1319" y="526"/>
                    </a:lnTo>
                    <a:lnTo>
                      <a:pt x="1318" y="521"/>
                    </a:lnTo>
                    <a:lnTo>
                      <a:pt x="1317" y="518"/>
                    </a:lnTo>
                    <a:lnTo>
                      <a:pt x="1315" y="513"/>
                    </a:lnTo>
                    <a:lnTo>
                      <a:pt x="1314" y="509"/>
                    </a:lnTo>
                    <a:lnTo>
                      <a:pt x="1314" y="506"/>
                    </a:lnTo>
                    <a:lnTo>
                      <a:pt x="1314" y="502"/>
                    </a:lnTo>
                    <a:lnTo>
                      <a:pt x="1313" y="499"/>
                    </a:lnTo>
                    <a:lnTo>
                      <a:pt x="1310" y="496"/>
                    </a:lnTo>
                    <a:lnTo>
                      <a:pt x="1309" y="495"/>
                    </a:lnTo>
                    <a:lnTo>
                      <a:pt x="1307" y="494"/>
                    </a:lnTo>
                    <a:lnTo>
                      <a:pt x="1305" y="493"/>
                    </a:lnTo>
                    <a:lnTo>
                      <a:pt x="1303" y="493"/>
                    </a:lnTo>
                    <a:lnTo>
                      <a:pt x="1301" y="491"/>
                    </a:lnTo>
                    <a:lnTo>
                      <a:pt x="1299" y="491"/>
                    </a:lnTo>
                    <a:lnTo>
                      <a:pt x="1297" y="491"/>
                    </a:lnTo>
                    <a:lnTo>
                      <a:pt x="1297" y="490"/>
                    </a:lnTo>
                    <a:lnTo>
                      <a:pt x="1297" y="489"/>
                    </a:lnTo>
                    <a:lnTo>
                      <a:pt x="1297" y="488"/>
                    </a:lnTo>
                    <a:lnTo>
                      <a:pt x="1299" y="486"/>
                    </a:lnTo>
                    <a:lnTo>
                      <a:pt x="1302" y="483"/>
                    </a:lnTo>
                    <a:lnTo>
                      <a:pt x="1308" y="469"/>
                    </a:lnTo>
                    <a:lnTo>
                      <a:pt x="1308" y="457"/>
                    </a:lnTo>
                    <a:lnTo>
                      <a:pt x="1302" y="445"/>
                    </a:lnTo>
                    <a:lnTo>
                      <a:pt x="1301" y="440"/>
                    </a:lnTo>
                    <a:lnTo>
                      <a:pt x="1302" y="434"/>
                    </a:lnTo>
                    <a:lnTo>
                      <a:pt x="1304" y="428"/>
                    </a:lnTo>
                    <a:lnTo>
                      <a:pt x="1305" y="425"/>
                    </a:lnTo>
                    <a:lnTo>
                      <a:pt x="1306" y="422"/>
                    </a:lnTo>
                    <a:lnTo>
                      <a:pt x="1307" y="419"/>
                    </a:lnTo>
                    <a:lnTo>
                      <a:pt x="1308" y="415"/>
                    </a:lnTo>
                    <a:lnTo>
                      <a:pt x="1310" y="412"/>
                    </a:lnTo>
                    <a:lnTo>
                      <a:pt x="1313" y="410"/>
                    </a:lnTo>
                    <a:lnTo>
                      <a:pt x="1314" y="409"/>
                    </a:lnTo>
                    <a:lnTo>
                      <a:pt x="1315" y="409"/>
                    </a:lnTo>
                    <a:lnTo>
                      <a:pt x="1317" y="410"/>
                    </a:lnTo>
                    <a:lnTo>
                      <a:pt x="1318" y="411"/>
                    </a:lnTo>
                    <a:lnTo>
                      <a:pt x="1319" y="413"/>
                    </a:lnTo>
                    <a:lnTo>
                      <a:pt x="1320" y="415"/>
                    </a:lnTo>
                    <a:lnTo>
                      <a:pt x="1321" y="417"/>
                    </a:lnTo>
                    <a:lnTo>
                      <a:pt x="1325" y="419"/>
                    </a:lnTo>
                    <a:lnTo>
                      <a:pt x="1327" y="419"/>
                    </a:lnTo>
                    <a:lnTo>
                      <a:pt x="1329" y="420"/>
                    </a:lnTo>
                    <a:lnTo>
                      <a:pt x="1332" y="420"/>
                    </a:lnTo>
                    <a:lnTo>
                      <a:pt x="1335" y="421"/>
                    </a:lnTo>
                    <a:lnTo>
                      <a:pt x="1346" y="423"/>
                    </a:lnTo>
                    <a:lnTo>
                      <a:pt x="1356" y="428"/>
                    </a:lnTo>
                    <a:lnTo>
                      <a:pt x="1365" y="430"/>
                    </a:lnTo>
                    <a:lnTo>
                      <a:pt x="1369" y="430"/>
                    </a:lnTo>
                    <a:lnTo>
                      <a:pt x="1372" y="430"/>
                    </a:lnTo>
                    <a:lnTo>
                      <a:pt x="1376" y="429"/>
                    </a:lnTo>
                    <a:lnTo>
                      <a:pt x="1380" y="429"/>
                    </a:lnTo>
                    <a:lnTo>
                      <a:pt x="1383" y="428"/>
                    </a:lnTo>
                    <a:lnTo>
                      <a:pt x="1384" y="425"/>
                    </a:lnTo>
                    <a:lnTo>
                      <a:pt x="1386" y="423"/>
                    </a:lnTo>
                    <a:lnTo>
                      <a:pt x="1389" y="421"/>
                    </a:lnTo>
                    <a:lnTo>
                      <a:pt x="1391" y="420"/>
                    </a:lnTo>
                    <a:lnTo>
                      <a:pt x="1392" y="419"/>
                    </a:lnTo>
                    <a:lnTo>
                      <a:pt x="1395" y="421"/>
                    </a:lnTo>
                    <a:lnTo>
                      <a:pt x="1401" y="425"/>
                    </a:lnTo>
                    <a:lnTo>
                      <a:pt x="1406" y="432"/>
                    </a:lnTo>
                    <a:lnTo>
                      <a:pt x="1411" y="437"/>
                    </a:lnTo>
                    <a:lnTo>
                      <a:pt x="1414" y="441"/>
                    </a:lnTo>
                    <a:lnTo>
                      <a:pt x="1424" y="450"/>
                    </a:lnTo>
                    <a:lnTo>
                      <a:pt x="1432" y="458"/>
                    </a:lnTo>
                    <a:lnTo>
                      <a:pt x="1433" y="461"/>
                    </a:lnTo>
                    <a:lnTo>
                      <a:pt x="1435" y="464"/>
                    </a:lnTo>
                    <a:lnTo>
                      <a:pt x="1437" y="467"/>
                    </a:lnTo>
                    <a:lnTo>
                      <a:pt x="1440" y="468"/>
                    </a:lnTo>
                    <a:lnTo>
                      <a:pt x="1443" y="469"/>
                    </a:lnTo>
                    <a:lnTo>
                      <a:pt x="1445" y="471"/>
                    </a:lnTo>
                    <a:lnTo>
                      <a:pt x="1447" y="472"/>
                    </a:lnTo>
                    <a:lnTo>
                      <a:pt x="1450" y="473"/>
                    </a:lnTo>
                    <a:lnTo>
                      <a:pt x="1454" y="474"/>
                    </a:lnTo>
                    <a:lnTo>
                      <a:pt x="1455" y="475"/>
                    </a:lnTo>
                    <a:lnTo>
                      <a:pt x="1457" y="476"/>
                    </a:lnTo>
                    <a:lnTo>
                      <a:pt x="1458" y="478"/>
                    </a:lnTo>
                    <a:lnTo>
                      <a:pt x="1460" y="480"/>
                    </a:lnTo>
                    <a:lnTo>
                      <a:pt x="1463" y="482"/>
                    </a:lnTo>
                    <a:lnTo>
                      <a:pt x="1468" y="483"/>
                    </a:lnTo>
                    <a:lnTo>
                      <a:pt x="1472" y="484"/>
                    </a:lnTo>
                    <a:lnTo>
                      <a:pt x="1478" y="485"/>
                    </a:lnTo>
                    <a:lnTo>
                      <a:pt x="1479" y="485"/>
                    </a:lnTo>
                    <a:lnTo>
                      <a:pt x="1480" y="485"/>
                    </a:lnTo>
                    <a:lnTo>
                      <a:pt x="1480" y="484"/>
                    </a:lnTo>
                    <a:lnTo>
                      <a:pt x="1481" y="483"/>
                    </a:lnTo>
                    <a:lnTo>
                      <a:pt x="1482" y="482"/>
                    </a:lnTo>
                    <a:lnTo>
                      <a:pt x="1483" y="480"/>
                    </a:lnTo>
                    <a:lnTo>
                      <a:pt x="1484" y="480"/>
                    </a:lnTo>
                    <a:lnTo>
                      <a:pt x="1487" y="480"/>
                    </a:lnTo>
                    <a:lnTo>
                      <a:pt x="1489" y="483"/>
                    </a:lnTo>
                    <a:lnTo>
                      <a:pt x="1488" y="487"/>
                    </a:lnTo>
                    <a:lnTo>
                      <a:pt x="1485" y="491"/>
                    </a:lnTo>
                    <a:lnTo>
                      <a:pt x="1482" y="497"/>
                    </a:lnTo>
                    <a:lnTo>
                      <a:pt x="1480" y="501"/>
                    </a:lnTo>
                    <a:lnTo>
                      <a:pt x="1480" y="505"/>
                    </a:lnTo>
                    <a:lnTo>
                      <a:pt x="1481" y="510"/>
                    </a:lnTo>
                    <a:lnTo>
                      <a:pt x="1483" y="516"/>
                    </a:lnTo>
                    <a:lnTo>
                      <a:pt x="1484" y="522"/>
                    </a:lnTo>
                    <a:lnTo>
                      <a:pt x="1484" y="540"/>
                    </a:lnTo>
                    <a:lnTo>
                      <a:pt x="1483" y="542"/>
                    </a:lnTo>
                    <a:lnTo>
                      <a:pt x="1482" y="544"/>
                    </a:lnTo>
                    <a:lnTo>
                      <a:pt x="1482" y="546"/>
                    </a:lnTo>
                    <a:lnTo>
                      <a:pt x="1483" y="549"/>
                    </a:lnTo>
                    <a:lnTo>
                      <a:pt x="1484" y="551"/>
                    </a:lnTo>
                    <a:lnTo>
                      <a:pt x="1488" y="553"/>
                    </a:lnTo>
                    <a:lnTo>
                      <a:pt x="1490" y="555"/>
                    </a:lnTo>
                    <a:lnTo>
                      <a:pt x="1492" y="559"/>
                    </a:lnTo>
                    <a:lnTo>
                      <a:pt x="1493" y="562"/>
                    </a:lnTo>
                    <a:lnTo>
                      <a:pt x="1494" y="565"/>
                    </a:lnTo>
                    <a:lnTo>
                      <a:pt x="1494" y="567"/>
                    </a:lnTo>
                    <a:lnTo>
                      <a:pt x="1494" y="571"/>
                    </a:lnTo>
                    <a:lnTo>
                      <a:pt x="1494" y="573"/>
                    </a:lnTo>
                    <a:lnTo>
                      <a:pt x="1495" y="575"/>
                    </a:lnTo>
                    <a:lnTo>
                      <a:pt x="1498" y="576"/>
                    </a:lnTo>
                    <a:lnTo>
                      <a:pt x="1500" y="577"/>
                    </a:lnTo>
                    <a:lnTo>
                      <a:pt x="1503" y="576"/>
                    </a:lnTo>
                    <a:lnTo>
                      <a:pt x="1505" y="576"/>
                    </a:lnTo>
                    <a:lnTo>
                      <a:pt x="1509" y="575"/>
                    </a:lnTo>
                    <a:lnTo>
                      <a:pt x="1511" y="575"/>
                    </a:lnTo>
                    <a:lnTo>
                      <a:pt x="1515" y="577"/>
                    </a:lnTo>
                    <a:lnTo>
                      <a:pt x="1517" y="582"/>
                    </a:lnTo>
                    <a:lnTo>
                      <a:pt x="1521" y="588"/>
                    </a:lnTo>
                    <a:lnTo>
                      <a:pt x="1524" y="593"/>
                    </a:lnTo>
                    <a:lnTo>
                      <a:pt x="1530" y="597"/>
                    </a:lnTo>
                    <a:lnTo>
                      <a:pt x="1535" y="596"/>
                    </a:lnTo>
                    <a:lnTo>
                      <a:pt x="1539" y="592"/>
                    </a:lnTo>
                    <a:lnTo>
                      <a:pt x="1544" y="586"/>
                    </a:lnTo>
                    <a:lnTo>
                      <a:pt x="1546" y="583"/>
                    </a:lnTo>
                    <a:lnTo>
                      <a:pt x="1548" y="580"/>
                    </a:lnTo>
                    <a:lnTo>
                      <a:pt x="1550" y="577"/>
                    </a:lnTo>
                    <a:lnTo>
                      <a:pt x="1552" y="575"/>
                    </a:lnTo>
                    <a:lnTo>
                      <a:pt x="1554" y="574"/>
                    </a:lnTo>
                    <a:lnTo>
                      <a:pt x="1555" y="574"/>
                    </a:lnTo>
                    <a:lnTo>
                      <a:pt x="1557" y="574"/>
                    </a:lnTo>
                    <a:lnTo>
                      <a:pt x="1559" y="573"/>
                    </a:lnTo>
                    <a:lnTo>
                      <a:pt x="1563" y="566"/>
                    </a:lnTo>
                    <a:lnTo>
                      <a:pt x="1564" y="560"/>
                    </a:lnTo>
                    <a:lnTo>
                      <a:pt x="1565" y="552"/>
                    </a:lnTo>
                    <a:lnTo>
                      <a:pt x="1566" y="544"/>
                    </a:lnTo>
                    <a:lnTo>
                      <a:pt x="1566" y="538"/>
                    </a:lnTo>
                    <a:lnTo>
                      <a:pt x="1565" y="532"/>
                    </a:lnTo>
                    <a:lnTo>
                      <a:pt x="1565" y="527"/>
                    </a:lnTo>
                    <a:lnTo>
                      <a:pt x="1570" y="522"/>
                    </a:lnTo>
                    <a:lnTo>
                      <a:pt x="1577" y="517"/>
                    </a:lnTo>
                    <a:lnTo>
                      <a:pt x="1580" y="511"/>
                    </a:lnTo>
                    <a:lnTo>
                      <a:pt x="1580" y="506"/>
                    </a:lnTo>
                    <a:lnTo>
                      <a:pt x="1577" y="498"/>
                    </a:lnTo>
                    <a:lnTo>
                      <a:pt x="1576" y="495"/>
                    </a:lnTo>
                    <a:lnTo>
                      <a:pt x="1577" y="493"/>
                    </a:lnTo>
                    <a:lnTo>
                      <a:pt x="1578" y="490"/>
                    </a:lnTo>
                    <a:lnTo>
                      <a:pt x="1579" y="489"/>
                    </a:lnTo>
                    <a:lnTo>
                      <a:pt x="1581" y="489"/>
                    </a:lnTo>
                    <a:lnTo>
                      <a:pt x="1583" y="490"/>
                    </a:lnTo>
                    <a:lnTo>
                      <a:pt x="1585" y="491"/>
                    </a:lnTo>
                    <a:lnTo>
                      <a:pt x="1587" y="494"/>
                    </a:lnTo>
                    <a:lnTo>
                      <a:pt x="1588" y="496"/>
                    </a:lnTo>
                    <a:lnTo>
                      <a:pt x="1587" y="502"/>
                    </a:lnTo>
                    <a:lnTo>
                      <a:pt x="1585" y="509"/>
                    </a:lnTo>
                    <a:lnTo>
                      <a:pt x="1583" y="517"/>
                    </a:lnTo>
                    <a:lnTo>
                      <a:pt x="1586" y="524"/>
                    </a:lnTo>
                    <a:lnTo>
                      <a:pt x="1592" y="539"/>
                    </a:lnTo>
                    <a:lnTo>
                      <a:pt x="1601" y="553"/>
                    </a:lnTo>
                    <a:lnTo>
                      <a:pt x="1607" y="568"/>
                    </a:lnTo>
                    <a:lnTo>
                      <a:pt x="1614" y="583"/>
                    </a:lnTo>
                    <a:lnTo>
                      <a:pt x="1622" y="595"/>
                    </a:lnTo>
                    <a:lnTo>
                      <a:pt x="1627" y="607"/>
                    </a:lnTo>
                    <a:lnTo>
                      <a:pt x="1633" y="619"/>
                    </a:lnTo>
                    <a:lnTo>
                      <a:pt x="1635" y="622"/>
                    </a:lnTo>
                    <a:lnTo>
                      <a:pt x="1637" y="627"/>
                    </a:lnTo>
                    <a:lnTo>
                      <a:pt x="1641" y="632"/>
                    </a:lnTo>
                    <a:lnTo>
                      <a:pt x="1642" y="637"/>
                    </a:lnTo>
                    <a:lnTo>
                      <a:pt x="1642" y="643"/>
                    </a:lnTo>
                    <a:lnTo>
                      <a:pt x="1640" y="650"/>
                    </a:lnTo>
                    <a:lnTo>
                      <a:pt x="1637" y="657"/>
                    </a:lnTo>
                    <a:lnTo>
                      <a:pt x="1642" y="669"/>
                    </a:lnTo>
                    <a:lnTo>
                      <a:pt x="1648" y="681"/>
                    </a:lnTo>
                    <a:lnTo>
                      <a:pt x="1655" y="692"/>
                    </a:lnTo>
                    <a:lnTo>
                      <a:pt x="1658" y="695"/>
                    </a:lnTo>
                    <a:lnTo>
                      <a:pt x="1662" y="698"/>
                    </a:lnTo>
                    <a:lnTo>
                      <a:pt x="1665" y="700"/>
                    </a:lnTo>
                    <a:lnTo>
                      <a:pt x="1668" y="701"/>
                    </a:lnTo>
                    <a:lnTo>
                      <a:pt x="1672" y="701"/>
                    </a:lnTo>
                    <a:lnTo>
                      <a:pt x="1675" y="703"/>
                    </a:lnTo>
                    <a:lnTo>
                      <a:pt x="1677" y="704"/>
                    </a:lnTo>
                    <a:lnTo>
                      <a:pt x="1679" y="706"/>
                    </a:lnTo>
                    <a:lnTo>
                      <a:pt x="1681" y="707"/>
                    </a:lnTo>
                    <a:lnTo>
                      <a:pt x="1684" y="708"/>
                    </a:lnTo>
                    <a:lnTo>
                      <a:pt x="1686" y="708"/>
                    </a:lnTo>
                    <a:lnTo>
                      <a:pt x="1688" y="708"/>
                    </a:lnTo>
                    <a:lnTo>
                      <a:pt x="1690" y="709"/>
                    </a:lnTo>
                    <a:lnTo>
                      <a:pt x="1692" y="711"/>
                    </a:lnTo>
                    <a:lnTo>
                      <a:pt x="1694" y="712"/>
                    </a:lnTo>
                    <a:lnTo>
                      <a:pt x="1695" y="714"/>
                    </a:lnTo>
                    <a:lnTo>
                      <a:pt x="1695" y="717"/>
                    </a:lnTo>
                    <a:lnTo>
                      <a:pt x="1696" y="719"/>
                    </a:lnTo>
                    <a:lnTo>
                      <a:pt x="1697" y="723"/>
                    </a:lnTo>
                    <a:lnTo>
                      <a:pt x="1699" y="724"/>
                    </a:lnTo>
                    <a:lnTo>
                      <a:pt x="1701" y="725"/>
                    </a:lnTo>
                    <a:lnTo>
                      <a:pt x="1706" y="727"/>
                    </a:lnTo>
                    <a:lnTo>
                      <a:pt x="1710" y="728"/>
                    </a:lnTo>
                    <a:lnTo>
                      <a:pt x="1714" y="729"/>
                    </a:lnTo>
                    <a:lnTo>
                      <a:pt x="1717" y="731"/>
                    </a:lnTo>
                    <a:lnTo>
                      <a:pt x="1718" y="734"/>
                    </a:lnTo>
                    <a:lnTo>
                      <a:pt x="1720" y="737"/>
                    </a:lnTo>
                    <a:lnTo>
                      <a:pt x="1721" y="739"/>
                    </a:lnTo>
                    <a:lnTo>
                      <a:pt x="1721" y="742"/>
                    </a:lnTo>
                    <a:lnTo>
                      <a:pt x="1723" y="748"/>
                    </a:lnTo>
                    <a:lnTo>
                      <a:pt x="1721" y="753"/>
                    </a:lnTo>
                    <a:lnTo>
                      <a:pt x="1719" y="757"/>
                    </a:lnTo>
                    <a:lnTo>
                      <a:pt x="1719" y="761"/>
                    </a:lnTo>
                    <a:lnTo>
                      <a:pt x="1723" y="764"/>
                    </a:lnTo>
                    <a:lnTo>
                      <a:pt x="1732" y="769"/>
                    </a:lnTo>
                    <a:lnTo>
                      <a:pt x="1741" y="772"/>
                    </a:lnTo>
                    <a:lnTo>
                      <a:pt x="1747" y="778"/>
                    </a:lnTo>
                    <a:lnTo>
                      <a:pt x="1752" y="788"/>
                    </a:lnTo>
                    <a:lnTo>
                      <a:pt x="1752" y="797"/>
                    </a:lnTo>
                    <a:lnTo>
                      <a:pt x="1751" y="801"/>
                    </a:lnTo>
                    <a:lnTo>
                      <a:pt x="1750" y="803"/>
                    </a:lnTo>
                    <a:lnTo>
                      <a:pt x="1747" y="805"/>
                    </a:lnTo>
                    <a:lnTo>
                      <a:pt x="1745" y="806"/>
                    </a:lnTo>
                    <a:lnTo>
                      <a:pt x="1743" y="808"/>
                    </a:lnTo>
                    <a:lnTo>
                      <a:pt x="1742" y="811"/>
                    </a:lnTo>
                    <a:lnTo>
                      <a:pt x="1742" y="813"/>
                    </a:lnTo>
                    <a:lnTo>
                      <a:pt x="1742" y="815"/>
                    </a:lnTo>
                    <a:lnTo>
                      <a:pt x="1743" y="817"/>
                    </a:lnTo>
                    <a:lnTo>
                      <a:pt x="1745" y="820"/>
                    </a:lnTo>
                    <a:lnTo>
                      <a:pt x="1746" y="822"/>
                    </a:lnTo>
                    <a:lnTo>
                      <a:pt x="1747" y="824"/>
                    </a:lnTo>
                    <a:lnTo>
                      <a:pt x="1751" y="829"/>
                    </a:lnTo>
                    <a:lnTo>
                      <a:pt x="1752" y="837"/>
                    </a:lnTo>
                    <a:lnTo>
                      <a:pt x="1754" y="844"/>
                    </a:lnTo>
                    <a:lnTo>
                      <a:pt x="1755" y="850"/>
                    </a:lnTo>
                    <a:lnTo>
                      <a:pt x="1753" y="855"/>
                    </a:lnTo>
                    <a:lnTo>
                      <a:pt x="1749" y="859"/>
                    </a:lnTo>
                    <a:lnTo>
                      <a:pt x="1744" y="864"/>
                    </a:lnTo>
                    <a:lnTo>
                      <a:pt x="1741" y="868"/>
                    </a:lnTo>
                    <a:lnTo>
                      <a:pt x="1739" y="872"/>
                    </a:lnTo>
                    <a:lnTo>
                      <a:pt x="1736" y="872"/>
                    </a:lnTo>
                    <a:lnTo>
                      <a:pt x="1734" y="871"/>
                    </a:lnTo>
                    <a:lnTo>
                      <a:pt x="1732" y="871"/>
                    </a:lnTo>
                    <a:lnTo>
                      <a:pt x="1730" y="871"/>
                    </a:lnTo>
                    <a:lnTo>
                      <a:pt x="1729" y="871"/>
                    </a:lnTo>
                    <a:lnTo>
                      <a:pt x="1727" y="872"/>
                    </a:lnTo>
                    <a:lnTo>
                      <a:pt x="1725" y="875"/>
                    </a:lnTo>
                    <a:lnTo>
                      <a:pt x="1725" y="882"/>
                    </a:lnTo>
                    <a:lnTo>
                      <a:pt x="1724" y="889"/>
                    </a:lnTo>
                    <a:lnTo>
                      <a:pt x="1725" y="897"/>
                    </a:lnTo>
                    <a:lnTo>
                      <a:pt x="1727" y="899"/>
                    </a:lnTo>
                    <a:lnTo>
                      <a:pt x="1728" y="901"/>
                    </a:lnTo>
                    <a:lnTo>
                      <a:pt x="1729" y="903"/>
                    </a:lnTo>
                    <a:lnTo>
                      <a:pt x="1731" y="905"/>
                    </a:lnTo>
                    <a:lnTo>
                      <a:pt x="1733" y="906"/>
                    </a:lnTo>
                    <a:lnTo>
                      <a:pt x="1735" y="908"/>
                    </a:lnTo>
                    <a:lnTo>
                      <a:pt x="1738" y="908"/>
                    </a:lnTo>
                    <a:lnTo>
                      <a:pt x="1741" y="905"/>
                    </a:lnTo>
                    <a:lnTo>
                      <a:pt x="1743" y="903"/>
                    </a:lnTo>
                    <a:lnTo>
                      <a:pt x="1744" y="902"/>
                    </a:lnTo>
                    <a:lnTo>
                      <a:pt x="1745" y="901"/>
                    </a:lnTo>
                    <a:lnTo>
                      <a:pt x="1747" y="900"/>
                    </a:lnTo>
                    <a:lnTo>
                      <a:pt x="1749" y="900"/>
                    </a:lnTo>
                    <a:lnTo>
                      <a:pt x="1750" y="901"/>
                    </a:lnTo>
                    <a:lnTo>
                      <a:pt x="1752" y="903"/>
                    </a:lnTo>
                    <a:lnTo>
                      <a:pt x="1754" y="908"/>
                    </a:lnTo>
                    <a:lnTo>
                      <a:pt x="1756" y="912"/>
                    </a:lnTo>
                    <a:lnTo>
                      <a:pt x="1758" y="916"/>
                    </a:lnTo>
                    <a:lnTo>
                      <a:pt x="1762" y="920"/>
                    </a:lnTo>
                    <a:lnTo>
                      <a:pt x="1766" y="921"/>
                    </a:lnTo>
                    <a:lnTo>
                      <a:pt x="1772" y="919"/>
                    </a:lnTo>
                    <a:lnTo>
                      <a:pt x="1774" y="914"/>
                    </a:lnTo>
                    <a:lnTo>
                      <a:pt x="1774" y="910"/>
                    </a:lnTo>
                    <a:lnTo>
                      <a:pt x="1773" y="904"/>
                    </a:lnTo>
                    <a:lnTo>
                      <a:pt x="1772" y="900"/>
                    </a:lnTo>
                    <a:lnTo>
                      <a:pt x="1774" y="898"/>
                    </a:lnTo>
                    <a:lnTo>
                      <a:pt x="1778" y="897"/>
                    </a:lnTo>
                    <a:lnTo>
                      <a:pt x="1782" y="900"/>
                    </a:lnTo>
                    <a:lnTo>
                      <a:pt x="1784" y="906"/>
                    </a:lnTo>
                    <a:lnTo>
                      <a:pt x="1786" y="914"/>
                    </a:lnTo>
                    <a:lnTo>
                      <a:pt x="1787" y="921"/>
                    </a:lnTo>
                    <a:lnTo>
                      <a:pt x="1787" y="925"/>
                    </a:lnTo>
                    <a:lnTo>
                      <a:pt x="1787" y="932"/>
                    </a:lnTo>
                    <a:lnTo>
                      <a:pt x="1788" y="937"/>
                    </a:lnTo>
                    <a:lnTo>
                      <a:pt x="1790" y="942"/>
                    </a:lnTo>
                    <a:lnTo>
                      <a:pt x="1794" y="947"/>
                    </a:lnTo>
                    <a:lnTo>
                      <a:pt x="1794" y="954"/>
                    </a:lnTo>
                    <a:lnTo>
                      <a:pt x="1792" y="960"/>
                    </a:lnTo>
                    <a:lnTo>
                      <a:pt x="1789" y="965"/>
                    </a:lnTo>
                    <a:lnTo>
                      <a:pt x="1787" y="973"/>
                    </a:lnTo>
                    <a:lnTo>
                      <a:pt x="1786" y="979"/>
                    </a:lnTo>
                    <a:lnTo>
                      <a:pt x="1783" y="985"/>
                    </a:lnTo>
                    <a:lnTo>
                      <a:pt x="1781" y="986"/>
                    </a:lnTo>
                    <a:lnTo>
                      <a:pt x="1778" y="985"/>
                    </a:lnTo>
                    <a:lnTo>
                      <a:pt x="1775" y="984"/>
                    </a:lnTo>
                    <a:lnTo>
                      <a:pt x="1773" y="981"/>
                    </a:lnTo>
                    <a:lnTo>
                      <a:pt x="1771" y="980"/>
                    </a:lnTo>
                    <a:lnTo>
                      <a:pt x="1770" y="978"/>
                    </a:lnTo>
                    <a:lnTo>
                      <a:pt x="1770" y="974"/>
                    </a:lnTo>
                    <a:lnTo>
                      <a:pt x="1772" y="968"/>
                    </a:lnTo>
                    <a:lnTo>
                      <a:pt x="1774" y="960"/>
                    </a:lnTo>
                    <a:lnTo>
                      <a:pt x="1775" y="954"/>
                    </a:lnTo>
                    <a:lnTo>
                      <a:pt x="1776" y="948"/>
                    </a:lnTo>
                    <a:lnTo>
                      <a:pt x="1774" y="945"/>
                    </a:lnTo>
                    <a:lnTo>
                      <a:pt x="1772" y="945"/>
                    </a:lnTo>
                    <a:lnTo>
                      <a:pt x="1771" y="946"/>
                    </a:lnTo>
                    <a:lnTo>
                      <a:pt x="1771" y="947"/>
                    </a:lnTo>
                    <a:lnTo>
                      <a:pt x="1770" y="949"/>
                    </a:lnTo>
                    <a:lnTo>
                      <a:pt x="1770" y="952"/>
                    </a:lnTo>
                    <a:lnTo>
                      <a:pt x="1770" y="954"/>
                    </a:lnTo>
                    <a:lnTo>
                      <a:pt x="1768" y="956"/>
                    </a:lnTo>
                    <a:lnTo>
                      <a:pt x="1767" y="958"/>
                    </a:lnTo>
                    <a:lnTo>
                      <a:pt x="1764" y="960"/>
                    </a:lnTo>
                    <a:lnTo>
                      <a:pt x="1762" y="962"/>
                    </a:lnTo>
                    <a:lnTo>
                      <a:pt x="1758" y="963"/>
                    </a:lnTo>
                    <a:lnTo>
                      <a:pt x="1755" y="964"/>
                    </a:lnTo>
                    <a:lnTo>
                      <a:pt x="1752" y="966"/>
                    </a:lnTo>
                    <a:lnTo>
                      <a:pt x="1749" y="968"/>
                    </a:lnTo>
                    <a:lnTo>
                      <a:pt x="1747" y="970"/>
                    </a:lnTo>
                    <a:lnTo>
                      <a:pt x="1745" y="974"/>
                    </a:lnTo>
                    <a:lnTo>
                      <a:pt x="1744" y="977"/>
                    </a:lnTo>
                    <a:lnTo>
                      <a:pt x="1742" y="979"/>
                    </a:lnTo>
                    <a:lnTo>
                      <a:pt x="1739" y="981"/>
                    </a:lnTo>
                    <a:lnTo>
                      <a:pt x="1736" y="981"/>
                    </a:lnTo>
                    <a:lnTo>
                      <a:pt x="1732" y="980"/>
                    </a:lnTo>
                    <a:lnTo>
                      <a:pt x="1731" y="980"/>
                    </a:lnTo>
                    <a:lnTo>
                      <a:pt x="1730" y="979"/>
                    </a:lnTo>
                    <a:lnTo>
                      <a:pt x="1728" y="978"/>
                    </a:lnTo>
                    <a:lnTo>
                      <a:pt x="1727" y="976"/>
                    </a:lnTo>
                    <a:lnTo>
                      <a:pt x="1727" y="975"/>
                    </a:lnTo>
                    <a:lnTo>
                      <a:pt x="1727" y="973"/>
                    </a:lnTo>
                    <a:lnTo>
                      <a:pt x="1728" y="971"/>
                    </a:lnTo>
                    <a:lnTo>
                      <a:pt x="1730" y="973"/>
                    </a:lnTo>
                    <a:lnTo>
                      <a:pt x="1732" y="973"/>
                    </a:lnTo>
                    <a:lnTo>
                      <a:pt x="1733" y="974"/>
                    </a:lnTo>
                    <a:lnTo>
                      <a:pt x="1735" y="975"/>
                    </a:lnTo>
                    <a:lnTo>
                      <a:pt x="1738" y="975"/>
                    </a:lnTo>
                    <a:lnTo>
                      <a:pt x="1739" y="974"/>
                    </a:lnTo>
                    <a:lnTo>
                      <a:pt x="1741" y="971"/>
                    </a:lnTo>
                    <a:lnTo>
                      <a:pt x="1742" y="968"/>
                    </a:lnTo>
                    <a:lnTo>
                      <a:pt x="1742" y="966"/>
                    </a:lnTo>
                    <a:lnTo>
                      <a:pt x="1741" y="963"/>
                    </a:lnTo>
                    <a:lnTo>
                      <a:pt x="1740" y="960"/>
                    </a:lnTo>
                    <a:lnTo>
                      <a:pt x="1738" y="958"/>
                    </a:lnTo>
                    <a:lnTo>
                      <a:pt x="1736" y="956"/>
                    </a:lnTo>
                    <a:lnTo>
                      <a:pt x="1734" y="953"/>
                    </a:lnTo>
                    <a:lnTo>
                      <a:pt x="1731" y="952"/>
                    </a:lnTo>
                    <a:lnTo>
                      <a:pt x="1729" y="952"/>
                    </a:lnTo>
                    <a:lnTo>
                      <a:pt x="1725" y="952"/>
                    </a:lnTo>
                    <a:lnTo>
                      <a:pt x="1721" y="952"/>
                    </a:lnTo>
                    <a:lnTo>
                      <a:pt x="1711" y="953"/>
                    </a:lnTo>
                    <a:lnTo>
                      <a:pt x="1701" y="954"/>
                    </a:lnTo>
                    <a:lnTo>
                      <a:pt x="1698" y="956"/>
                    </a:lnTo>
                    <a:lnTo>
                      <a:pt x="1695" y="957"/>
                    </a:lnTo>
                    <a:lnTo>
                      <a:pt x="1691" y="959"/>
                    </a:lnTo>
                    <a:lnTo>
                      <a:pt x="1688" y="960"/>
                    </a:lnTo>
                    <a:lnTo>
                      <a:pt x="1684" y="960"/>
                    </a:lnTo>
                    <a:lnTo>
                      <a:pt x="1680" y="960"/>
                    </a:lnTo>
                    <a:lnTo>
                      <a:pt x="1677" y="960"/>
                    </a:lnTo>
                    <a:lnTo>
                      <a:pt x="1676" y="959"/>
                    </a:lnTo>
                    <a:lnTo>
                      <a:pt x="1675" y="958"/>
                    </a:lnTo>
                    <a:lnTo>
                      <a:pt x="1675" y="956"/>
                    </a:lnTo>
                    <a:lnTo>
                      <a:pt x="1675" y="954"/>
                    </a:lnTo>
                    <a:lnTo>
                      <a:pt x="1676" y="952"/>
                    </a:lnTo>
                    <a:lnTo>
                      <a:pt x="1678" y="949"/>
                    </a:lnTo>
                    <a:lnTo>
                      <a:pt x="1679" y="947"/>
                    </a:lnTo>
                    <a:lnTo>
                      <a:pt x="1681" y="945"/>
                    </a:lnTo>
                    <a:lnTo>
                      <a:pt x="1684" y="944"/>
                    </a:lnTo>
                    <a:lnTo>
                      <a:pt x="1685" y="943"/>
                    </a:lnTo>
                    <a:lnTo>
                      <a:pt x="1687" y="941"/>
                    </a:lnTo>
                    <a:lnTo>
                      <a:pt x="1688" y="938"/>
                    </a:lnTo>
                    <a:lnTo>
                      <a:pt x="1688" y="936"/>
                    </a:lnTo>
                    <a:lnTo>
                      <a:pt x="1688" y="934"/>
                    </a:lnTo>
                    <a:lnTo>
                      <a:pt x="1687" y="933"/>
                    </a:lnTo>
                    <a:lnTo>
                      <a:pt x="1685" y="933"/>
                    </a:lnTo>
                    <a:lnTo>
                      <a:pt x="1683" y="932"/>
                    </a:lnTo>
                    <a:lnTo>
                      <a:pt x="1681" y="932"/>
                    </a:lnTo>
                    <a:lnTo>
                      <a:pt x="1679" y="932"/>
                    </a:lnTo>
                    <a:lnTo>
                      <a:pt x="1678" y="930"/>
                    </a:lnTo>
                    <a:lnTo>
                      <a:pt x="1678" y="928"/>
                    </a:lnTo>
                    <a:lnTo>
                      <a:pt x="1678" y="926"/>
                    </a:lnTo>
                    <a:lnTo>
                      <a:pt x="1680" y="925"/>
                    </a:lnTo>
                    <a:lnTo>
                      <a:pt x="1683" y="924"/>
                    </a:lnTo>
                    <a:lnTo>
                      <a:pt x="1686" y="924"/>
                    </a:lnTo>
                    <a:lnTo>
                      <a:pt x="1688" y="923"/>
                    </a:lnTo>
                    <a:lnTo>
                      <a:pt x="1690" y="923"/>
                    </a:lnTo>
                    <a:lnTo>
                      <a:pt x="1692" y="922"/>
                    </a:lnTo>
                    <a:lnTo>
                      <a:pt x="1695" y="922"/>
                    </a:lnTo>
                    <a:lnTo>
                      <a:pt x="1695" y="921"/>
                    </a:lnTo>
                    <a:lnTo>
                      <a:pt x="1698" y="916"/>
                    </a:lnTo>
                    <a:lnTo>
                      <a:pt x="1697" y="911"/>
                    </a:lnTo>
                    <a:lnTo>
                      <a:pt x="1697" y="904"/>
                    </a:lnTo>
                    <a:lnTo>
                      <a:pt x="1699" y="899"/>
                    </a:lnTo>
                    <a:lnTo>
                      <a:pt x="1692" y="892"/>
                    </a:lnTo>
                    <a:lnTo>
                      <a:pt x="1684" y="888"/>
                    </a:lnTo>
                    <a:lnTo>
                      <a:pt x="1673" y="886"/>
                    </a:lnTo>
                    <a:lnTo>
                      <a:pt x="1662" y="888"/>
                    </a:lnTo>
                    <a:lnTo>
                      <a:pt x="1658" y="891"/>
                    </a:lnTo>
                    <a:lnTo>
                      <a:pt x="1656" y="893"/>
                    </a:lnTo>
                    <a:lnTo>
                      <a:pt x="1655" y="897"/>
                    </a:lnTo>
                    <a:lnTo>
                      <a:pt x="1653" y="900"/>
                    </a:lnTo>
                    <a:lnTo>
                      <a:pt x="1651" y="903"/>
                    </a:lnTo>
                    <a:lnTo>
                      <a:pt x="1650" y="906"/>
                    </a:lnTo>
                    <a:lnTo>
                      <a:pt x="1646" y="909"/>
                    </a:lnTo>
                    <a:lnTo>
                      <a:pt x="1643" y="911"/>
                    </a:lnTo>
                    <a:lnTo>
                      <a:pt x="1640" y="912"/>
                    </a:lnTo>
                    <a:lnTo>
                      <a:pt x="1632" y="914"/>
                    </a:lnTo>
                    <a:lnTo>
                      <a:pt x="1623" y="917"/>
                    </a:lnTo>
                    <a:lnTo>
                      <a:pt x="1614" y="919"/>
                    </a:lnTo>
                    <a:lnTo>
                      <a:pt x="1607" y="919"/>
                    </a:lnTo>
                    <a:lnTo>
                      <a:pt x="1600" y="914"/>
                    </a:lnTo>
                    <a:lnTo>
                      <a:pt x="1596" y="906"/>
                    </a:lnTo>
                    <a:lnTo>
                      <a:pt x="1592" y="899"/>
                    </a:lnTo>
                    <a:lnTo>
                      <a:pt x="1590" y="890"/>
                    </a:lnTo>
                    <a:lnTo>
                      <a:pt x="1588" y="887"/>
                    </a:lnTo>
                    <a:lnTo>
                      <a:pt x="1586" y="883"/>
                    </a:lnTo>
                    <a:lnTo>
                      <a:pt x="1583" y="881"/>
                    </a:lnTo>
                    <a:lnTo>
                      <a:pt x="1580" y="881"/>
                    </a:lnTo>
                    <a:lnTo>
                      <a:pt x="1577" y="881"/>
                    </a:lnTo>
                    <a:lnTo>
                      <a:pt x="1570" y="881"/>
                    </a:lnTo>
                    <a:lnTo>
                      <a:pt x="1563" y="882"/>
                    </a:lnTo>
                    <a:lnTo>
                      <a:pt x="1557" y="883"/>
                    </a:lnTo>
                    <a:lnTo>
                      <a:pt x="1553" y="887"/>
                    </a:lnTo>
                    <a:lnTo>
                      <a:pt x="1550" y="890"/>
                    </a:lnTo>
                    <a:lnTo>
                      <a:pt x="1548" y="893"/>
                    </a:lnTo>
                    <a:lnTo>
                      <a:pt x="1546" y="897"/>
                    </a:lnTo>
                    <a:lnTo>
                      <a:pt x="1544" y="899"/>
                    </a:lnTo>
                    <a:lnTo>
                      <a:pt x="1539" y="902"/>
                    </a:lnTo>
                    <a:lnTo>
                      <a:pt x="1536" y="905"/>
                    </a:lnTo>
                    <a:lnTo>
                      <a:pt x="1532" y="908"/>
                    </a:lnTo>
                    <a:lnTo>
                      <a:pt x="1528" y="910"/>
                    </a:lnTo>
                    <a:lnTo>
                      <a:pt x="1516" y="917"/>
                    </a:lnTo>
                    <a:lnTo>
                      <a:pt x="1506" y="925"/>
                    </a:lnTo>
                    <a:lnTo>
                      <a:pt x="1498" y="936"/>
                    </a:lnTo>
                    <a:lnTo>
                      <a:pt x="1495" y="939"/>
                    </a:lnTo>
                    <a:lnTo>
                      <a:pt x="1494" y="942"/>
                    </a:lnTo>
                    <a:lnTo>
                      <a:pt x="1493" y="945"/>
                    </a:lnTo>
                    <a:lnTo>
                      <a:pt x="1492" y="948"/>
                    </a:lnTo>
                    <a:lnTo>
                      <a:pt x="1493" y="952"/>
                    </a:lnTo>
                    <a:lnTo>
                      <a:pt x="1494" y="960"/>
                    </a:lnTo>
                    <a:lnTo>
                      <a:pt x="1495" y="969"/>
                    </a:lnTo>
                    <a:lnTo>
                      <a:pt x="1498" y="965"/>
                    </a:lnTo>
                    <a:lnTo>
                      <a:pt x="1499" y="958"/>
                    </a:lnTo>
                    <a:lnTo>
                      <a:pt x="1500" y="951"/>
                    </a:lnTo>
                    <a:lnTo>
                      <a:pt x="1502" y="945"/>
                    </a:lnTo>
                    <a:lnTo>
                      <a:pt x="1506" y="941"/>
                    </a:lnTo>
                    <a:lnTo>
                      <a:pt x="1513" y="936"/>
                    </a:lnTo>
                    <a:lnTo>
                      <a:pt x="1520" y="932"/>
                    </a:lnTo>
                    <a:lnTo>
                      <a:pt x="1522" y="928"/>
                    </a:lnTo>
                    <a:lnTo>
                      <a:pt x="1524" y="926"/>
                    </a:lnTo>
                    <a:lnTo>
                      <a:pt x="1527" y="924"/>
                    </a:lnTo>
                    <a:lnTo>
                      <a:pt x="1531" y="921"/>
                    </a:lnTo>
                    <a:lnTo>
                      <a:pt x="1544" y="914"/>
                    </a:lnTo>
                    <a:lnTo>
                      <a:pt x="1559" y="910"/>
                    </a:lnTo>
                    <a:lnTo>
                      <a:pt x="1568" y="909"/>
                    </a:lnTo>
                    <a:lnTo>
                      <a:pt x="1579" y="910"/>
                    </a:lnTo>
                    <a:lnTo>
                      <a:pt x="1590" y="914"/>
                    </a:lnTo>
                    <a:lnTo>
                      <a:pt x="1597" y="920"/>
                    </a:lnTo>
                    <a:lnTo>
                      <a:pt x="1600" y="925"/>
                    </a:lnTo>
                    <a:lnTo>
                      <a:pt x="1600" y="933"/>
                    </a:lnTo>
                    <a:lnTo>
                      <a:pt x="1598" y="942"/>
                    </a:lnTo>
                    <a:lnTo>
                      <a:pt x="1594" y="949"/>
                    </a:lnTo>
                    <a:lnTo>
                      <a:pt x="1591" y="958"/>
                    </a:lnTo>
                    <a:lnTo>
                      <a:pt x="1588" y="965"/>
                    </a:lnTo>
                    <a:lnTo>
                      <a:pt x="1587" y="974"/>
                    </a:lnTo>
                    <a:lnTo>
                      <a:pt x="1587" y="981"/>
                    </a:lnTo>
                    <a:lnTo>
                      <a:pt x="1590" y="989"/>
                    </a:lnTo>
                    <a:lnTo>
                      <a:pt x="1597" y="993"/>
                    </a:lnTo>
                    <a:lnTo>
                      <a:pt x="1603" y="999"/>
                    </a:lnTo>
                    <a:lnTo>
                      <a:pt x="1611" y="1004"/>
                    </a:lnTo>
                    <a:lnTo>
                      <a:pt x="1618" y="1007"/>
                    </a:lnTo>
                    <a:lnTo>
                      <a:pt x="1624" y="1007"/>
                    </a:lnTo>
                    <a:lnTo>
                      <a:pt x="1631" y="1007"/>
                    </a:lnTo>
                    <a:lnTo>
                      <a:pt x="1635" y="1009"/>
                    </a:lnTo>
                    <a:lnTo>
                      <a:pt x="1637" y="1013"/>
                    </a:lnTo>
                    <a:lnTo>
                      <a:pt x="1639" y="1015"/>
                    </a:lnTo>
                    <a:lnTo>
                      <a:pt x="1641" y="1018"/>
                    </a:lnTo>
                    <a:lnTo>
                      <a:pt x="1643" y="1019"/>
                    </a:lnTo>
                    <a:lnTo>
                      <a:pt x="1645" y="1019"/>
                    </a:lnTo>
                    <a:lnTo>
                      <a:pt x="1647" y="1019"/>
                    </a:lnTo>
                    <a:lnTo>
                      <a:pt x="1650" y="1019"/>
                    </a:lnTo>
                    <a:lnTo>
                      <a:pt x="1652" y="1020"/>
                    </a:lnTo>
                    <a:lnTo>
                      <a:pt x="1654" y="1021"/>
                    </a:lnTo>
                    <a:lnTo>
                      <a:pt x="1655" y="1022"/>
                    </a:lnTo>
                    <a:lnTo>
                      <a:pt x="1655" y="1028"/>
                    </a:lnTo>
                    <a:lnTo>
                      <a:pt x="1648" y="1033"/>
                    </a:lnTo>
                    <a:lnTo>
                      <a:pt x="1640" y="1039"/>
                    </a:lnTo>
                    <a:lnTo>
                      <a:pt x="1632" y="1042"/>
                    </a:lnTo>
                    <a:lnTo>
                      <a:pt x="1626" y="1044"/>
                    </a:lnTo>
                    <a:lnTo>
                      <a:pt x="1620" y="1045"/>
                    </a:lnTo>
                    <a:lnTo>
                      <a:pt x="1612" y="1046"/>
                    </a:lnTo>
                    <a:lnTo>
                      <a:pt x="1605" y="1047"/>
                    </a:lnTo>
                    <a:lnTo>
                      <a:pt x="1600" y="1051"/>
                    </a:lnTo>
                    <a:lnTo>
                      <a:pt x="1597" y="1055"/>
                    </a:lnTo>
                    <a:lnTo>
                      <a:pt x="1594" y="1059"/>
                    </a:lnTo>
                    <a:lnTo>
                      <a:pt x="1592" y="1064"/>
                    </a:lnTo>
                    <a:lnTo>
                      <a:pt x="1588" y="1069"/>
                    </a:lnTo>
                    <a:lnTo>
                      <a:pt x="1582" y="1078"/>
                    </a:lnTo>
                    <a:lnTo>
                      <a:pt x="1576" y="1085"/>
                    </a:lnTo>
                    <a:lnTo>
                      <a:pt x="1570" y="1086"/>
                    </a:lnTo>
                    <a:lnTo>
                      <a:pt x="1568" y="1086"/>
                    </a:lnTo>
                    <a:lnTo>
                      <a:pt x="1567" y="1085"/>
                    </a:lnTo>
                    <a:lnTo>
                      <a:pt x="1566" y="1083"/>
                    </a:lnTo>
                    <a:lnTo>
                      <a:pt x="1565" y="1080"/>
                    </a:lnTo>
                    <a:lnTo>
                      <a:pt x="1564" y="1077"/>
                    </a:lnTo>
                    <a:lnTo>
                      <a:pt x="1564" y="1075"/>
                    </a:lnTo>
                    <a:lnTo>
                      <a:pt x="1560" y="1073"/>
                    </a:lnTo>
                    <a:lnTo>
                      <a:pt x="1559" y="1069"/>
                    </a:lnTo>
                    <a:lnTo>
                      <a:pt x="1558" y="1065"/>
                    </a:lnTo>
                    <a:lnTo>
                      <a:pt x="1559" y="1062"/>
                    </a:lnTo>
                    <a:lnTo>
                      <a:pt x="1561" y="1057"/>
                    </a:lnTo>
                    <a:lnTo>
                      <a:pt x="1563" y="1053"/>
                    </a:lnTo>
                    <a:lnTo>
                      <a:pt x="1566" y="1050"/>
                    </a:lnTo>
                    <a:lnTo>
                      <a:pt x="1569" y="1045"/>
                    </a:lnTo>
                    <a:lnTo>
                      <a:pt x="1575" y="1042"/>
                    </a:lnTo>
                    <a:lnTo>
                      <a:pt x="1578" y="1041"/>
                    </a:lnTo>
                    <a:lnTo>
                      <a:pt x="1582" y="1039"/>
                    </a:lnTo>
                    <a:lnTo>
                      <a:pt x="1586" y="1036"/>
                    </a:lnTo>
                    <a:lnTo>
                      <a:pt x="1590" y="1033"/>
                    </a:lnTo>
                    <a:lnTo>
                      <a:pt x="1589" y="1032"/>
                    </a:lnTo>
                    <a:lnTo>
                      <a:pt x="1588" y="1030"/>
                    </a:lnTo>
                    <a:lnTo>
                      <a:pt x="1587" y="1028"/>
                    </a:lnTo>
                    <a:lnTo>
                      <a:pt x="1586" y="1024"/>
                    </a:lnTo>
                    <a:lnTo>
                      <a:pt x="1583" y="1022"/>
                    </a:lnTo>
                    <a:lnTo>
                      <a:pt x="1582" y="1021"/>
                    </a:lnTo>
                    <a:lnTo>
                      <a:pt x="1581" y="1020"/>
                    </a:lnTo>
                    <a:lnTo>
                      <a:pt x="1575" y="1024"/>
                    </a:lnTo>
                    <a:lnTo>
                      <a:pt x="1569" y="1029"/>
                    </a:lnTo>
                    <a:lnTo>
                      <a:pt x="1564" y="1033"/>
                    </a:lnTo>
                    <a:lnTo>
                      <a:pt x="1560" y="1034"/>
                    </a:lnTo>
                    <a:lnTo>
                      <a:pt x="1558" y="1035"/>
                    </a:lnTo>
                    <a:lnTo>
                      <a:pt x="1555" y="1036"/>
                    </a:lnTo>
                    <a:lnTo>
                      <a:pt x="1553" y="1037"/>
                    </a:lnTo>
                    <a:lnTo>
                      <a:pt x="1549" y="1040"/>
                    </a:lnTo>
                    <a:lnTo>
                      <a:pt x="1548" y="1041"/>
                    </a:lnTo>
                    <a:lnTo>
                      <a:pt x="1546" y="1043"/>
                    </a:lnTo>
                    <a:lnTo>
                      <a:pt x="1545" y="1045"/>
                    </a:lnTo>
                    <a:lnTo>
                      <a:pt x="1546" y="1048"/>
                    </a:lnTo>
                    <a:lnTo>
                      <a:pt x="1543" y="1052"/>
                    </a:lnTo>
                    <a:lnTo>
                      <a:pt x="1536" y="1055"/>
                    </a:lnTo>
                    <a:lnTo>
                      <a:pt x="1527" y="1057"/>
                    </a:lnTo>
                    <a:lnTo>
                      <a:pt x="1519" y="1058"/>
                    </a:lnTo>
                    <a:lnTo>
                      <a:pt x="1511" y="1059"/>
                    </a:lnTo>
                    <a:lnTo>
                      <a:pt x="1506" y="1059"/>
                    </a:lnTo>
                    <a:lnTo>
                      <a:pt x="1501" y="1063"/>
                    </a:lnTo>
                    <a:lnTo>
                      <a:pt x="1496" y="1069"/>
                    </a:lnTo>
                    <a:lnTo>
                      <a:pt x="1492" y="1075"/>
                    </a:lnTo>
                    <a:lnTo>
                      <a:pt x="1488" y="1079"/>
                    </a:lnTo>
                    <a:lnTo>
                      <a:pt x="1484" y="1079"/>
                    </a:lnTo>
                    <a:lnTo>
                      <a:pt x="1482" y="1079"/>
                    </a:lnTo>
                    <a:lnTo>
                      <a:pt x="1480" y="1078"/>
                    </a:lnTo>
                    <a:lnTo>
                      <a:pt x="1479" y="1077"/>
                    </a:lnTo>
                    <a:lnTo>
                      <a:pt x="1477" y="1077"/>
                    </a:lnTo>
                    <a:lnTo>
                      <a:pt x="1476" y="1077"/>
                    </a:lnTo>
                    <a:lnTo>
                      <a:pt x="1474" y="1077"/>
                    </a:lnTo>
                    <a:lnTo>
                      <a:pt x="1473" y="1079"/>
                    </a:lnTo>
                    <a:lnTo>
                      <a:pt x="1471" y="1083"/>
                    </a:lnTo>
                    <a:lnTo>
                      <a:pt x="1469" y="1086"/>
                    </a:lnTo>
                    <a:lnTo>
                      <a:pt x="1467" y="1089"/>
                    </a:lnTo>
                    <a:lnTo>
                      <a:pt x="1467" y="1093"/>
                    </a:lnTo>
                    <a:lnTo>
                      <a:pt x="1466" y="1096"/>
                    </a:lnTo>
                    <a:lnTo>
                      <a:pt x="1466" y="1098"/>
                    </a:lnTo>
                    <a:lnTo>
                      <a:pt x="1466" y="1100"/>
                    </a:lnTo>
                    <a:lnTo>
                      <a:pt x="1466" y="1101"/>
                    </a:lnTo>
                    <a:lnTo>
                      <a:pt x="1465" y="1102"/>
                    </a:lnTo>
                    <a:lnTo>
                      <a:pt x="1463" y="1104"/>
                    </a:lnTo>
                    <a:lnTo>
                      <a:pt x="1460" y="1104"/>
                    </a:lnTo>
                    <a:lnTo>
                      <a:pt x="1457" y="1104"/>
                    </a:lnTo>
                    <a:lnTo>
                      <a:pt x="1455" y="1105"/>
                    </a:lnTo>
                    <a:lnTo>
                      <a:pt x="1452" y="1106"/>
                    </a:lnTo>
                    <a:lnTo>
                      <a:pt x="1451" y="1108"/>
                    </a:lnTo>
                    <a:lnTo>
                      <a:pt x="1450" y="1111"/>
                    </a:lnTo>
                    <a:lnTo>
                      <a:pt x="1450" y="1113"/>
                    </a:lnTo>
                    <a:lnTo>
                      <a:pt x="1449" y="1116"/>
                    </a:lnTo>
                    <a:lnTo>
                      <a:pt x="1400" y="1101"/>
                    </a:lnTo>
                    <a:lnTo>
                      <a:pt x="1348" y="1085"/>
                    </a:lnTo>
                    <a:lnTo>
                      <a:pt x="1348" y="1085"/>
                    </a:lnTo>
                    <a:lnTo>
                      <a:pt x="1348" y="1082"/>
                    </a:lnTo>
                    <a:lnTo>
                      <a:pt x="1346" y="1074"/>
                    </a:lnTo>
                    <a:lnTo>
                      <a:pt x="1341" y="1071"/>
                    </a:lnTo>
                    <a:lnTo>
                      <a:pt x="1335" y="1069"/>
                    </a:lnTo>
                    <a:lnTo>
                      <a:pt x="1328" y="1072"/>
                    </a:lnTo>
                    <a:lnTo>
                      <a:pt x="1321" y="1074"/>
                    </a:lnTo>
                    <a:lnTo>
                      <a:pt x="1315" y="1077"/>
                    </a:lnTo>
                    <a:lnTo>
                      <a:pt x="1309" y="1075"/>
                    </a:lnTo>
                    <a:lnTo>
                      <a:pt x="1313" y="1074"/>
                    </a:lnTo>
                    <a:lnTo>
                      <a:pt x="1314" y="1074"/>
                    </a:lnTo>
                    <a:lnTo>
                      <a:pt x="1314" y="1074"/>
                    </a:lnTo>
                    <a:lnTo>
                      <a:pt x="1315" y="1074"/>
                    </a:lnTo>
                    <a:lnTo>
                      <a:pt x="1291" y="1065"/>
                    </a:lnTo>
                    <a:lnTo>
                      <a:pt x="1268" y="1056"/>
                    </a:lnTo>
                    <a:lnTo>
                      <a:pt x="1269" y="1048"/>
                    </a:lnTo>
                    <a:lnTo>
                      <a:pt x="1266" y="1036"/>
                    </a:lnTo>
                    <a:lnTo>
                      <a:pt x="1260" y="1026"/>
                    </a:lnTo>
                    <a:lnTo>
                      <a:pt x="1253" y="1024"/>
                    </a:lnTo>
                    <a:lnTo>
                      <a:pt x="1244" y="1022"/>
                    </a:lnTo>
                    <a:lnTo>
                      <a:pt x="1236" y="1023"/>
                    </a:lnTo>
                    <a:lnTo>
                      <a:pt x="1229" y="1026"/>
                    </a:lnTo>
                    <a:lnTo>
                      <a:pt x="1228" y="1029"/>
                    </a:lnTo>
                    <a:lnTo>
                      <a:pt x="1228" y="1031"/>
                    </a:lnTo>
                    <a:lnTo>
                      <a:pt x="1227" y="1033"/>
                    </a:lnTo>
                    <a:lnTo>
                      <a:pt x="1226" y="1035"/>
                    </a:lnTo>
                    <a:lnTo>
                      <a:pt x="1226" y="1037"/>
                    </a:lnTo>
                    <a:lnTo>
                      <a:pt x="1225" y="1039"/>
                    </a:lnTo>
                    <a:lnTo>
                      <a:pt x="1223" y="1040"/>
                    </a:lnTo>
                    <a:lnTo>
                      <a:pt x="1221" y="1040"/>
                    </a:lnTo>
                    <a:lnTo>
                      <a:pt x="1219" y="1040"/>
                    </a:lnTo>
                    <a:lnTo>
                      <a:pt x="1216" y="1037"/>
                    </a:lnTo>
                    <a:lnTo>
                      <a:pt x="1212" y="1035"/>
                    </a:lnTo>
                    <a:lnTo>
                      <a:pt x="1208" y="1032"/>
                    </a:lnTo>
                    <a:lnTo>
                      <a:pt x="1205" y="1029"/>
                    </a:lnTo>
                    <a:lnTo>
                      <a:pt x="1201" y="1026"/>
                    </a:lnTo>
                    <a:lnTo>
                      <a:pt x="1199" y="1024"/>
                    </a:lnTo>
                    <a:lnTo>
                      <a:pt x="1192" y="1021"/>
                    </a:lnTo>
                    <a:lnTo>
                      <a:pt x="1185" y="1019"/>
                    </a:lnTo>
                    <a:lnTo>
                      <a:pt x="1179" y="1015"/>
                    </a:lnTo>
                    <a:lnTo>
                      <a:pt x="1176" y="1018"/>
                    </a:lnTo>
                    <a:lnTo>
                      <a:pt x="1174" y="1020"/>
                    </a:lnTo>
                    <a:lnTo>
                      <a:pt x="1171" y="1022"/>
                    </a:lnTo>
                    <a:lnTo>
                      <a:pt x="1163" y="1019"/>
                    </a:lnTo>
                    <a:lnTo>
                      <a:pt x="1170" y="1019"/>
                    </a:lnTo>
                    <a:lnTo>
                      <a:pt x="1149" y="1009"/>
                    </a:lnTo>
                    <a:lnTo>
                      <a:pt x="1130" y="1000"/>
                    </a:lnTo>
                    <a:lnTo>
                      <a:pt x="1132" y="999"/>
                    </a:lnTo>
                    <a:lnTo>
                      <a:pt x="1134" y="998"/>
                    </a:lnTo>
                    <a:lnTo>
                      <a:pt x="1138" y="998"/>
                    </a:lnTo>
                    <a:lnTo>
                      <a:pt x="1142" y="998"/>
                    </a:lnTo>
                    <a:lnTo>
                      <a:pt x="1148" y="999"/>
                    </a:lnTo>
                    <a:lnTo>
                      <a:pt x="1155" y="999"/>
                    </a:lnTo>
                    <a:lnTo>
                      <a:pt x="1162" y="999"/>
                    </a:lnTo>
                    <a:lnTo>
                      <a:pt x="1168" y="998"/>
                    </a:lnTo>
                    <a:lnTo>
                      <a:pt x="1173" y="996"/>
                    </a:lnTo>
                    <a:lnTo>
                      <a:pt x="1175" y="990"/>
                    </a:lnTo>
                    <a:lnTo>
                      <a:pt x="1175" y="982"/>
                    </a:lnTo>
                    <a:lnTo>
                      <a:pt x="1172" y="975"/>
                    </a:lnTo>
                    <a:lnTo>
                      <a:pt x="1168" y="969"/>
                    </a:lnTo>
                    <a:lnTo>
                      <a:pt x="1163" y="966"/>
                    </a:lnTo>
                    <a:lnTo>
                      <a:pt x="1155" y="965"/>
                    </a:lnTo>
                    <a:lnTo>
                      <a:pt x="1150" y="965"/>
                    </a:lnTo>
                    <a:lnTo>
                      <a:pt x="1146" y="965"/>
                    </a:lnTo>
                    <a:lnTo>
                      <a:pt x="1144" y="964"/>
                    </a:lnTo>
                    <a:lnTo>
                      <a:pt x="1143" y="962"/>
                    </a:lnTo>
                    <a:lnTo>
                      <a:pt x="1142" y="959"/>
                    </a:lnTo>
                    <a:lnTo>
                      <a:pt x="1141" y="956"/>
                    </a:lnTo>
                    <a:lnTo>
                      <a:pt x="1140" y="952"/>
                    </a:lnTo>
                    <a:lnTo>
                      <a:pt x="1139" y="949"/>
                    </a:lnTo>
                    <a:lnTo>
                      <a:pt x="1138" y="947"/>
                    </a:lnTo>
                    <a:lnTo>
                      <a:pt x="1135" y="944"/>
                    </a:lnTo>
                    <a:lnTo>
                      <a:pt x="1133" y="942"/>
                    </a:lnTo>
                    <a:lnTo>
                      <a:pt x="1132" y="939"/>
                    </a:lnTo>
                    <a:lnTo>
                      <a:pt x="1130" y="938"/>
                    </a:lnTo>
                    <a:lnTo>
                      <a:pt x="1128" y="938"/>
                    </a:lnTo>
                    <a:lnTo>
                      <a:pt x="1125" y="941"/>
                    </a:lnTo>
                    <a:lnTo>
                      <a:pt x="1124" y="943"/>
                    </a:lnTo>
                    <a:lnTo>
                      <a:pt x="1123" y="945"/>
                    </a:lnTo>
                    <a:lnTo>
                      <a:pt x="1123" y="945"/>
                    </a:lnTo>
                    <a:lnTo>
                      <a:pt x="1122" y="945"/>
                    </a:lnTo>
                    <a:lnTo>
                      <a:pt x="1121" y="943"/>
                    </a:lnTo>
                    <a:lnTo>
                      <a:pt x="1120" y="941"/>
                    </a:lnTo>
                    <a:lnTo>
                      <a:pt x="1118" y="938"/>
                    </a:lnTo>
                    <a:lnTo>
                      <a:pt x="1114" y="936"/>
                    </a:lnTo>
                    <a:lnTo>
                      <a:pt x="1112" y="935"/>
                    </a:lnTo>
                    <a:lnTo>
                      <a:pt x="1109" y="934"/>
                    </a:lnTo>
                    <a:lnTo>
                      <a:pt x="1102" y="935"/>
                    </a:lnTo>
                    <a:lnTo>
                      <a:pt x="1099" y="938"/>
                    </a:lnTo>
                    <a:lnTo>
                      <a:pt x="1097" y="944"/>
                    </a:lnTo>
                    <a:lnTo>
                      <a:pt x="1095" y="949"/>
                    </a:lnTo>
                    <a:lnTo>
                      <a:pt x="1091" y="954"/>
                    </a:lnTo>
                    <a:lnTo>
                      <a:pt x="1085" y="956"/>
                    </a:lnTo>
                    <a:lnTo>
                      <a:pt x="1080" y="958"/>
                    </a:lnTo>
                    <a:lnTo>
                      <a:pt x="1076" y="960"/>
                    </a:lnTo>
                    <a:lnTo>
                      <a:pt x="1073" y="963"/>
                    </a:lnTo>
                    <a:lnTo>
                      <a:pt x="1069" y="964"/>
                    </a:lnTo>
                    <a:lnTo>
                      <a:pt x="1067" y="967"/>
                    </a:lnTo>
                    <a:lnTo>
                      <a:pt x="1064" y="969"/>
                    </a:lnTo>
                    <a:lnTo>
                      <a:pt x="1061" y="971"/>
                    </a:lnTo>
                    <a:lnTo>
                      <a:pt x="1058" y="971"/>
                    </a:lnTo>
                    <a:lnTo>
                      <a:pt x="1055" y="970"/>
                    </a:lnTo>
                    <a:lnTo>
                      <a:pt x="1055" y="969"/>
                    </a:lnTo>
                    <a:lnTo>
                      <a:pt x="1057" y="968"/>
                    </a:lnTo>
                    <a:lnTo>
                      <a:pt x="982" y="932"/>
                    </a:lnTo>
                    <a:lnTo>
                      <a:pt x="908" y="893"/>
                    </a:lnTo>
                    <a:lnTo>
                      <a:pt x="827" y="848"/>
                    </a:lnTo>
                    <a:lnTo>
                      <a:pt x="750" y="802"/>
                    </a:lnTo>
                    <a:lnTo>
                      <a:pt x="676" y="756"/>
                    </a:lnTo>
                    <a:lnTo>
                      <a:pt x="606" y="711"/>
                    </a:lnTo>
                    <a:lnTo>
                      <a:pt x="539" y="666"/>
                    </a:lnTo>
                    <a:lnTo>
                      <a:pt x="475" y="625"/>
                    </a:lnTo>
                    <a:lnTo>
                      <a:pt x="414" y="586"/>
                    </a:lnTo>
                    <a:lnTo>
                      <a:pt x="358" y="551"/>
                    </a:lnTo>
                    <a:lnTo>
                      <a:pt x="305" y="520"/>
                    </a:lnTo>
                    <a:lnTo>
                      <a:pt x="255" y="495"/>
                    </a:lnTo>
                    <a:lnTo>
                      <a:pt x="205" y="473"/>
                    </a:lnTo>
                    <a:lnTo>
                      <a:pt x="159" y="456"/>
                    </a:lnTo>
                    <a:lnTo>
                      <a:pt x="113" y="445"/>
                    </a:lnTo>
                    <a:lnTo>
                      <a:pt x="69" y="439"/>
                    </a:lnTo>
                    <a:lnTo>
                      <a:pt x="57" y="439"/>
                    </a:lnTo>
                    <a:lnTo>
                      <a:pt x="57" y="439"/>
                    </a:lnTo>
                    <a:lnTo>
                      <a:pt x="57" y="437"/>
                    </a:lnTo>
                    <a:lnTo>
                      <a:pt x="55" y="437"/>
                    </a:lnTo>
                    <a:lnTo>
                      <a:pt x="55" y="439"/>
                    </a:lnTo>
                    <a:lnTo>
                      <a:pt x="54" y="439"/>
                    </a:lnTo>
                    <a:lnTo>
                      <a:pt x="53" y="439"/>
                    </a:lnTo>
                    <a:lnTo>
                      <a:pt x="53" y="441"/>
                    </a:lnTo>
                    <a:lnTo>
                      <a:pt x="53" y="441"/>
                    </a:lnTo>
                    <a:lnTo>
                      <a:pt x="30" y="442"/>
                    </a:lnTo>
                    <a:lnTo>
                      <a:pt x="9" y="445"/>
                    </a:lnTo>
                    <a:lnTo>
                      <a:pt x="9" y="443"/>
                    </a:lnTo>
                    <a:lnTo>
                      <a:pt x="10" y="441"/>
                    </a:lnTo>
                    <a:lnTo>
                      <a:pt x="11" y="439"/>
                    </a:lnTo>
                    <a:lnTo>
                      <a:pt x="11" y="436"/>
                    </a:lnTo>
                    <a:lnTo>
                      <a:pt x="11" y="435"/>
                    </a:lnTo>
                    <a:lnTo>
                      <a:pt x="11" y="434"/>
                    </a:lnTo>
                    <a:lnTo>
                      <a:pt x="10" y="434"/>
                    </a:lnTo>
                    <a:lnTo>
                      <a:pt x="9" y="434"/>
                    </a:lnTo>
                    <a:lnTo>
                      <a:pt x="5" y="432"/>
                    </a:lnTo>
                    <a:lnTo>
                      <a:pt x="3" y="429"/>
                    </a:lnTo>
                    <a:lnTo>
                      <a:pt x="0" y="423"/>
                    </a:lnTo>
                    <a:lnTo>
                      <a:pt x="3" y="417"/>
                    </a:lnTo>
                    <a:lnTo>
                      <a:pt x="5" y="414"/>
                    </a:lnTo>
                    <a:lnTo>
                      <a:pt x="8" y="412"/>
                    </a:lnTo>
                    <a:lnTo>
                      <a:pt x="11" y="410"/>
                    </a:lnTo>
                    <a:lnTo>
                      <a:pt x="14" y="408"/>
                    </a:lnTo>
                    <a:lnTo>
                      <a:pt x="17" y="406"/>
                    </a:lnTo>
                    <a:lnTo>
                      <a:pt x="19" y="402"/>
                    </a:lnTo>
                    <a:lnTo>
                      <a:pt x="22" y="399"/>
                    </a:lnTo>
                    <a:lnTo>
                      <a:pt x="22" y="397"/>
                    </a:lnTo>
                    <a:lnTo>
                      <a:pt x="25" y="395"/>
                    </a:lnTo>
                    <a:lnTo>
                      <a:pt x="27" y="392"/>
                    </a:lnTo>
                    <a:lnTo>
                      <a:pt x="29" y="390"/>
                    </a:lnTo>
                    <a:lnTo>
                      <a:pt x="31" y="388"/>
                    </a:lnTo>
                    <a:lnTo>
                      <a:pt x="33" y="386"/>
                    </a:lnTo>
                    <a:lnTo>
                      <a:pt x="36" y="385"/>
                    </a:lnTo>
                    <a:lnTo>
                      <a:pt x="37" y="384"/>
                    </a:lnTo>
                    <a:lnTo>
                      <a:pt x="39" y="385"/>
                    </a:lnTo>
                    <a:lnTo>
                      <a:pt x="40" y="386"/>
                    </a:lnTo>
                    <a:lnTo>
                      <a:pt x="40" y="387"/>
                    </a:lnTo>
                    <a:lnTo>
                      <a:pt x="40" y="389"/>
                    </a:lnTo>
                    <a:lnTo>
                      <a:pt x="39" y="391"/>
                    </a:lnTo>
                    <a:lnTo>
                      <a:pt x="38" y="392"/>
                    </a:lnTo>
                    <a:lnTo>
                      <a:pt x="38" y="395"/>
                    </a:lnTo>
                    <a:lnTo>
                      <a:pt x="38" y="396"/>
                    </a:lnTo>
                    <a:lnTo>
                      <a:pt x="40" y="396"/>
                    </a:lnTo>
                    <a:lnTo>
                      <a:pt x="41" y="397"/>
                    </a:lnTo>
                    <a:lnTo>
                      <a:pt x="43" y="397"/>
                    </a:lnTo>
                    <a:lnTo>
                      <a:pt x="44" y="397"/>
                    </a:lnTo>
                    <a:lnTo>
                      <a:pt x="46" y="397"/>
                    </a:lnTo>
                    <a:lnTo>
                      <a:pt x="49" y="397"/>
                    </a:lnTo>
                    <a:lnTo>
                      <a:pt x="51" y="397"/>
                    </a:lnTo>
                    <a:lnTo>
                      <a:pt x="53" y="397"/>
                    </a:lnTo>
                    <a:lnTo>
                      <a:pt x="57" y="396"/>
                    </a:lnTo>
                    <a:lnTo>
                      <a:pt x="58" y="393"/>
                    </a:lnTo>
                    <a:lnTo>
                      <a:pt x="59" y="390"/>
                    </a:lnTo>
                    <a:lnTo>
                      <a:pt x="59" y="388"/>
                    </a:lnTo>
                    <a:lnTo>
                      <a:pt x="59" y="387"/>
                    </a:lnTo>
                    <a:lnTo>
                      <a:pt x="58" y="387"/>
                    </a:lnTo>
                    <a:lnTo>
                      <a:pt x="57" y="387"/>
                    </a:lnTo>
                    <a:lnTo>
                      <a:pt x="55" y="386"/>
                    </a:lnTo>
                    <a:lnTo>
                      <a:pt x="54" y="386"/>
                    </a:lnTo>
                    <a:lnTo>
                      <a:pt x="53" y="385"/>
                    </a:lnTo>
                    <a:lnTo>
                      <a:pt x="54" y="384"/>
                    </a:lnTo>
                    <a:lnTo>
                      <a:pt x="55" y="381"/>
                    </a:lnTo>
                    <a:lnTo>
                      <a:pt x="55" y="378"/>
                    </a:lnTo>
                    <a:lnTo>
                      <a:pt x="55" y="376"/>
                    </a:lnTo>
                    <a:lnTo>
                      <a:pt x="54" y="374"/>
                    </a:lnTo>
                    <a:lnTo>
                      <a:pt x="52" y="371"/>
                    </a:lnTo>
                    <a:lnTo>
                      <a:pt x="50" y="370"/>
                    </a:lnTo>
                    <a:lnTo>
                      <a:pt x="48" y="369"/>
                    </a:lnTo>
                    <a:lnTo>
                      <a:pt x="47" y="370"/>
                    </a:lnTo>
                    <a:lnTo>
                      <a:pt x="42" y="370"/>
                    </a:lnTo>
                    <a:lnTo>
                      <a:pt x="41" y="367"/>
                    </a:lnTo>
                    <a:lnTo>
                      <a:pt x="41" y="363"/>
                    </a:lnTo>
                    <a:lnTo>
                      <a:pt x="42" y="358"/>
                    </a:lnTo>
                    <a:lnTo>
                      <a:pt x="44" y="353"/>
                    </a:lnTo>
                    <a:lnTo>
                      <a:pt x="43" y="349"/>
                    </a:lnTo>
                    <a:lnTo>
                      <a:pt x="43" y="346"/>
                    </a:lnTo>
                    <a:lnTo>
                      <a:pt x="42" y="344"/>
                    </a:lnTo>
                    <a:lnTo>
                      <a:pt x="41" y="343"/>
                    </a:lnTo>
                    <a:lnTo>
                      <a:pt x="40" y="342"/>
                    </a:lnTo>
                    <a:lnTo>
                      <a:pt x="38" y="338"/>
                    </a:lnTo>
                    <a:lnTo>
                      <a:pt x="37" y="335"/>
                    </a:lnTo>
                    <a:lnTo>
                      <a:pt x="35" y="333"/>
                    </a:lnTo>
                    <a:lnTo>
                      <a:pt x="33" y="333"/>
                    </a:lnTo>
                    <a:lnTo>
                      <a:pt x="31" y="331"/>
                    </a:lnTo>
                    <a:lnTo>
                      <a:pt x="29" y="330"/>
                    </a:lnTo>
                    <a:lnTo>
                      <a:pt x="27" y="328"/>
                    </a:lnTo>
                    <a:lnTo>
                      <a:pt x="25" y="328"/>
                    </a:lnTo>
                    <a:lnTo>
                      <a:pt x="24" y="327"/>
                    </a:lnTo>
                    <a:lnTo>
                      <a:pt x="24" y="327"/>
                    </a:lnTo>
                    <a:lnTo>
                      <a:pt x="24" y="326"/>
                    </a:lnTo>
                    <a:lnTo>
                      <a:pt x="25" y="326"/>
                    </a:lnTo>
                    <a:lnTo>
                      <a:pt x="27" y="325"/>
                    </a:lnTo>
                    <a:lnTo>
                      <a:pt x="28" y="323"/>
                    </a:lnTo>
                    <a:lnTo>
                      <a:pt x="29" y="321"/>
                    </a:lnTo>
                    <a:lnTo>
                      <a:pt x="30" y="319"/>
                    </a:lnTo>
                    <a:lnTo>
                      <a:pt x="31" y="315"/>
                    </a:lnTo>
                    <a:lnTo>
                      <a:pt x="31" y="313"/>
                    </a:lnTo>
                    <a:lnTo>
                      <a:pt x="32" y="311"/>
                    </a:lnTo>
                    <a:lnTo>
                      <a:pt x="33" y="308"/>
                    </a:lnTo>
                    <a:lnTo>
                      <a:pt x="36" y="304"/>
                    </a:lnTo>
                    <a:lnTo>
                      <a:pt x="38" y="302"/>
                    </a:lnTo>
                    <a:lnTo>
                      <a:pt x="40" y="302"/>
                    </a:lnTo>
                    <a:lnTo>
                      <a:pt x="42" y="302"/>
                    </a:lnTo>
                    <a:lnTo>
                      <a:pt x="44" y="301"/>
                    </a:lnTo>
                    <a:lnTo>
                      <a:pt x="47" y="300"/>
                    </a:lnTo>
                    <a:lnTo>
                      <a:pt x="49" y="298"/>
                    </a:lnTo>
                    <a:lnTo>
                      <a:pt x="58" y="288"/>
                    </a:lnTo>
                    <a:lnTo>
                      <a:pt x="63" y="276"/>
                    </a:lnTo>
                    <a:lnTo>
                      <a:pt x="64" y="272"/>
                    </a:lnTo>
                    <a:lnTo>
                      <a:pt x="64" y="269"/>
                    </a:lnTo>
                    <a:lnTo>
                      <a:pt x="65" y="266"/>
                    </a:lnTo>
                    <a:lnTo>
                      <a:pt x="65" y="262"/>
                    </a:lnTo>
                    <a:lnTo>
                      <a:pt x="68" y="260"/>
                    </a:lnTo>
                    <a:lnTo>
                      <a:pt x="70" y="257"/>
                    </a:lnTo>
                    <a:lnTo>
                      <a:pt x="72" y="254"/>
                    </a:lnTo>
                    <a:lnTo>
                      <a:pt x="74" y="251"/>
                    </a:lnTo>
                    <a:lnTo>
                      <a:pt x="75" y="248"/>
                    </a:lnTo>
                    <a:lnTo>
                      <a:pt x="76" y="244"/>
                    </a:lnTo>
                    <a:lnTo>
                      <a:pt x="77" y="240"/>
                    </a:lnTo>
                    <a:lnTo>
                      <a:pt x="79" y="238"/>
                    </a:lnTo>
                    <a:lnTo>
                      <a:pt x="81" y="238"/>
                    </a:lnTo>
                    <a:lnTo>
                      <a:pt x="83" y="237"/>
                    </a:lnTo>
                    <a:lnTo>
                      <a:pt x="85" y="236"/>
                    </a:lnTo>
                    <a:lnTo>
                      <a:pt x="92" y="229"/>
                    </a:lnTo>
                    <a:lnTo>
                      <a:pt x="93" y="227"/>
                    </a:lnTo>
                    <a:lnTo>
                      <a:pt x="95" y="225"/>
                    </a:lnTo>
                    <a:lnTo>
                      <a:pt x="96" y="222"/>
                    </a:lnTo>
                    <a:lnTo>
                      <a:pt x="97" y="218"/>
                    </a:lnTo>
                    <a:lnTo>
                      <a:pt x="99" y="216"/>
                    </a:lnTo>
                    <a:lnTo>
                      <a:pt x="101" y="215"/>
                    </a:lnTo>
                    <a:lnTo>
                      <a:pt x="102" y="214"/>
                    </a:lnTo>
                    <a:lnTo>
                      <a:pt x="103" y="214"/>
                    </a:lnTo>
                    <a:lnTo>
                      <a:pt x="104" y="215"/>
                    </a:lnTo>
                    <a:lnTo>
                      <a:pt x="105" y="216"/>
                    </a:lnTo>
                    <a:lnTo>
                      <a:pt x="106" y="216"/>
                    </a:lnTo>
                    <a:lnTo>
                      <a:pt x="107" y="216"/>
                    </a:lnTo>
                    <a:lnTo>
                      <a:pt x="109" y="216"/>
                    </a:lnTo>
                    <a:lnTo>
                      <a:pt x="112" y="214"/>
                    </a:lnTo>
                    <a:lnTo>
                      <a:pt x="115" y="212"/>
                    </a:lnTo>
                    <a:lnTo>
                      <a:pt x="118" y="210"/>
                    </a:lnTo>
                    <a:lnTo>
                      <a:pt x="123" y="204"/>
                    </a:lnTo>
                    <a:lnTo>
                      <a:pt x="126" y="197"/>
                    </a:lnTo>
                    <a:lnTo>
                      <a:pt x="130" y="192"/>
                    </a:lnTo>
                    <a:lnTo>
                      <a:pt x="134" y="190"/>
                    </a:lnTo>
                    <a:lnTo>
                      <a:pt x="137" y="192"/>
                    </a:lnTo>
                    <a:lnTo>
                      <a:pt x="137" y="195"/>
                    </a:lnTo>
                    <a:lnTo>
                      <a:pt x="136" y="200"/>
                    </a:lnTo>
                    <a:lnTo>
                      <a:pt x="134" y="205"/>
                    </a:lnTo>
                    <a:lnTo>
                      <a:pt x="134" y="210"/>
                    </a:lnTo>
                    <a:lnTo>
                      <a:pt x="136" y="212"/>
                    </a:lnTo>
                    <a:lnTo>
                      <a:pt x="137" y="214"/>
                    </a:lnTo>
                    <a:lnTo>
                      <a:pt x="138" y="216"/>
                    </a:lnTo>
                    <a:lnTo>
                      <a:pt x="139" y="216"/>
                    </a:lnTo>
                    <a:lnTo>
                      <a:pt x="140" y="216"/>
                    </a:lnTo>
                    <a:lnTo>
                      <a:pt x="141" y="215"/>
                    </a:lnTo>
                    <a:lnTo>
                      <a:pt x="142" y="215"/>
                    </a:lnTo>
                    <a:lnTo>
                      <a:pt x="142" y="214"/>
                    </a:lnTo>
                    <a:lnTo>
                      <a:pt x="142" y="212"/>
                    </a:lnTo>
                    <a:lnTo>
                      <a:pt x="142" y="210"/>
                    </a:lnTo>
                    <a:lnTo>
                      <a:pt x="141" y="210"/>
                    </a:lnTo>
                    <a:lnTo>
                      <a:pt x="140" y="208"/>
                    </a:lnTo>
                    <a:lnTo>
                      <a:pt x="140" y="207"/>
                    </a:lnTo>
                    <a:lnTo>
                      <a:pt x="140" y="205"/>
                    </a:lnTo>
                    <a:lnTo>
                      <a:pt x="141" y="203"/>
                    </a:lnTo>
                    <a:lnTo>
                      <a:pt x="141" y="201"/>
                    </a:lnTo>
                    <a:lnTo>
                      <a:pt x="142" y="199"/>
                    </a:lnTo>
                    <a:lnTo>
                      <a:pt x="144" y="195"/>
                    </a:lnTo>
                    <a:lnTo>
                      <a:pt x="145" y="193"/>
                    </a:lnTo>
                    <a:lnTo>
                      <a:pt x="146" y="192"/>
                    </a:lnTo>
                    <a:lnTo>
                      <a:pt x="147" y="192"/>
                    </a:lnTo>
                    <a:lnTo>
                      <a:pt x="148" y="193"/>
                    </a:lnTo>
                    <a:lnTo>
                      <a:pt x="149" y="195"/>
                    </a:lnTo>
                    <a:lnTo>
                      <a:pt x="149" y="196"/>
                    </a:lnTo>
                    <a:lnTo>
                      <a:pt x="149" y="199"/>
                    </a:lnTo>
                    <a:lnTo>
                      <a:pt x="149" y="202"/>
                    </a:lnTo>
                    <a:lnTo>
                      <a:pt x="150" y="204"/>
                    </a:lnTo>
                    <a:lnTo>
                      <a:pt x="151" y="204"/>
                    </a:lnTo>
                    <a:lnTo>
                      <a:pt x="152" y="204"/>
                    </a:lnTo>
                    <a:lnTo>
                      <a:pt x="153" y="204"/>
                    </a:lnTo>
                    <a:lnTo>
                      <a:pt x="155" y="203"/>
                    </a:lnTo>
                    <a:lnTo>
                      <a:pt x="156" y="202"/>
                    </a:lnTo>
                    <a:lnTo>
                      <a:pt x="158" y="201"/>
                    </a:lnTo>
                    <a:lnTo>
                      <a:pt x="159" y="200"/>
                    </a:lnTo>
                    <a:lnTo>
                      <a:pt x="160" y="199"/>
                    </a:lnTo>
                    <a:lnTo>
                      <a:pt x="162" y="199"/>
                    </a:lnTo>
                    <a:lnTo>
                      <a:pt x="163" y="199"/>
                    </a:lnTo>
                    <a:lnTo>
                      <a:pt x="166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7" y="205"/>
                    </a:lnTo>
                    <a:lnTo>
                      <a:pt x="168" y="206"/>
                    </a:lnTo>
                    <a:lnTo>
                      <a:pt x="169" y="207"/>
                    </a:lnTo>
                    <a:lnTo>
                      <a:pt x="170" y="207"/>
                    </a:lnTo>
                    <a:lnTo>
                      <a:pt x="170" y="207"/>
                    </a:lnTo>
                    <a:lnTo>
                      <a:pt x="171" y="207"/>
                    </a:lnTo>
                    <a:lnTo>
                      <a:pt x="173" y="207"/>
                    </a:lnTo>
                    <a:lnTo>
                      <a:pt x="174" y="208"/>
                    </a:lnTo>
                    <a:lnTo>
                      <a:pt x="175" y="211"/>
                    </a:lnTo>
                    <a:lnTo>
                      <a:pt x="175" y="212"/>
                    </a:lnTo>
                    <a:lnTo>
                      <a:pt x="175" y="214"/>
                    </a:lnTo>
                    <a:lnTo>
                      <a:pt x="178" y="214"/>
                    </a:lnTo>
                    <a:lnTo>
                      <a:pt x="179" y="214"/>
                    </a:lnTo>
                    <a:lnTo>
                      <a:pt x="181" y="212"/>
                    </a:lnTo>
                    <a:lnTo>
                      <a:pt x="183" y="210"/>
                    </a:lnTo>
                    <a:lnTo>
                      <a:pt x="184" y="207"/>
                    </a:lnTo>
                    <a:lnTo>
                      <a:pt x="188" y="203"/>
                    </a:lnTo>
                    <a:lnTo>
                      <a:pt x="190" y="201"/>
                    </a:lnTo>
                    <a:lnTo>
                      <a:pt x="193" y="200"/>
                    </a:lnTo>
                    <a:lnTo>
                      <a:pt x="195" y="201"/>
                    </a:lnTo>
                    <a:lnTo>
                      <a:pt x="197" y="202"/>
                    </a:lnTo>
                    <a:lnTo>
                      <a:pt x="200" y="203"/>
                    </a:lnTo>
                    <a:lnTo>
                      <a:pt x="202" y="205"/>
                    </a:lnTo>
                    <a:lnTo>
                      <a:pt x="206" y="206"/>
                    </a:lnTo>
                    <a:lnTo>
                      <a:pt x="211" y="208"/>
                    </a:lnTo>
                    <a:lnTo>
                      <a:pt x="216" y="208"/>
                    </a:lnTo>
                    <a:lnTo>
                      <a:pt x="222" y="207"/>
                    </a:lnTo>
                    <a:lnTo>
                      <a:pt x="224" y="206"/>
                    </a:lnTo>
                    <a:lnTo>
                      <a:pt x="226" y="205"/>
                    </a:lnTo>
                    <a:lnTo>
                      <a:pt x="228" y="206"/>
                    </a:lnTo>
                    <a:lnTo>
                      <a:pt x="230" y="207"/>
                    </a:lnTo>
                    <a:lnTo>
                      <a:pt x="233" y="208"/>
                    </a:lnTo>
                    <a:lnTo>
                      <a:pt x="235" y="208"/>
                    </a:lnTo>
                    <a:lnTo>
                      <a:pt x="237" y="210"/>
                    </a:lnTo>
                    <a:lnTo>
                      <a:pt x="245" y="207"/>
                    </a:lnTo>
                    <a:lnTo>
                      <a:pt x="251" y="204"/>
                    </a:lnTo>
                    <a:lnTo>
                      <a:pt x="259" y="203"/>
                    </a:lnTo>
                    <a:lnTo>
                      <a:pt x="261" y="202"/>
                    </a:lnTo>
                    <a:lnTo>
                      <a:pt x="265" y="203"/>
                    </a:lnTo>
                    <a:lnTo>
                      <a:pt x="267" y="204"/>
                    </a:lnTo>
                    <a:lnTo>
                      <a:pt x="269" y="205"/>
                    </a:lnTo>
                    <a:lnTo>
                      <a:pt x="270" y="207"/>
                    </a:lnTo>
                    <a:lnTo>
                      <a:pt x="272" y="208"/>
                    </a:lnTo>
                    <a:lnTo>
                      <a:pt x="275" y="210"/>
                    </a:lnTo>
                    <a:lnTo>
                      <a:pt x="277" y="211"/>
                    </a:lnTo>
                    <a:lnTo>
                      <a:pt x="279" y="212"/>
                    </a:lnTo>
                    <a:lnTo>
                      <a:pt x="282" y="213"/>
                    </a:lnTo>
                    <a:lnTo>
                      <a:pt x="286" y="213"/>
                    </a:lnTo>
                    <a:lnTo>
                      <a:pt x="289" y="213"/>
                    </a:lnTo>
                    <a:lnTo>
                      <a:pt x="292" y="214"/>
                    </a:lnTo>
                    <a:lnTo>
                      <a:pt x="293" y="214"/>
                    </a:lnTo>
                    <a:lnTo>
                      <a:pt x="294" y="215"/>
                    </a:lnTo>
                    <a:lnTo>
                      <a:pt x="295" y="216"/>
                    </a:lnTo>
                    <a:lnTo>
                      <a:pt x="298" y="216"/>
                    </a:lnTo>
                    <a:lnTo>
                      <a:pt x="299" y="216"/>
                    </a:lnTo>
                    <a:lnTo>
                      <a:pt x="302" y="216"/>
                    </a:lnTo>
                    <a:lnTo>
                      <a:pt x="306" y="218"/>
                    </a:lnTo>
                    <a:lnTo>
                      <a:pt x="310" y="221"/>
                    </a:lnTo>
                    <a:lnTo>
                      <a:pt x="313" y="224"/>
                    </a:lnTo>
                    <a:lnTo>
                      <a:pt x="316" y="227"/>
                    </a:lnTo>
                    <a:lnTo>
                      <a:pt x="316" y="229"/>
                    </a:lnTo>
                    <a:lnTo>
                      <a:pt x="317" y="232"/>
                    </a:lnTo>
                    <a:lnTo>
                      <a:pt x="320" y="233"/>
                    </a:lnTo>
                    <a:lnTo>
                      <a:pt x="323" y="234"/>
                    </a:lnTo>
                    <a:lnTo>
                      <a:pt x="326" y="234"/>
                    </a:lnTo>
                    <a:lnTo>
                      <a:pt x="330" y="234"/>
                    </a:lnTo>
                    <a:lnTo>
                      <a:pt x="332" y="234"/>
                    </a:lnTo>
                    <a:lnTo>
                      <a:pt x="335" y="235"/>
                    </a:lnTo>
                    <a:lnTo>
                      <a:pt x="338" y="236"/>
                    </a:lnTo>
                    <a:lnTo>
                      <a:pt x="341" y="227"/>
                    </a:lnTo>
                    <a:lnTo>
                      <a:pt x="339" y="225"/>
                    </a:lnTo>
                    <a:lnTo>
                      <a:pt x="338" y="223"/>
                    </a:lnTo>
                    <a:lnTo>
                      <a:pt x="337" y="223"/>
                    </a:lnTo>
                    <a:lnTo>
                      <a:pt x="335" y="222"/>
                    </a:lnTo>
                    <a:lnTo>
                      <a:pt x="334" y="221"/>
                    </a:lnTo>
                    <a:lnTo>
                      <a:pt x="335" y="217"/>
                    </a:lnTo>
                    <a:lnTo>
                      <a:pt x="339" y="213"/>
                    </a:lnTo>
                    <a:lnTo>
                      <a:pt x="345" y="208"/>
                    </a:lnTo>
                    <a:lnTo>
                      <a:pt x="350" y="205"/>
                    </a:lnTo>
                    <a:lnTo>
                      <a:pt x="354" y="203"/>
                    </a:lnTo>
                    <a:lnTo>
                      <a:pt x="355" y="201"/>
                    </a:lnTo>
                    <a:lnTo>
                      <a:pt x="357" y="197"/>
                    </a:lnTo>
                    <a:lnTo>
                      <a:pt x="358" y="195"/>
                    </a:lnTo>
                    <a:lnTo>
                      <a:pt x="360" y="193"/>
                    </a:lnTo>
                    <a:lnTo>
                      <a:pt x="361" y="192"/>
                    </a:lnTo>
                    <a:lnTo>
                      <a:pt x="364" y="192"/>
                    </a:lnTo>
                    <a:lnTo>
                      <a:pt x="365" y="192"/>
                    </a:lnTo>
                    <a:lnTo>
                      <a:pt x="366" y="193"/>
                    </a:lnTo>
                    <a:lnTo>
                      <a:pt x="367" y="196"/>
                    </a:lnTo>
                    <a:lnTo>
                      <a:pt x="367" y="196"/>
                    </a:lnTo>
                    <a:lnTo>
                      <a:pt x="367" y="197"/>
                    </a:lnTo>
                    <a:lnTo>
                      <a:pt x="367" y="199"/>
                    </a:lnTo>
                    <a:lnTo>
                      <a:pt x="368" y="200"/>
                    </a:lnTo>
                    <a:lnTo>
                      <a:pt x="369" y="201"/>
                    </a:lnTo>
                    <a:lnTo>
                      <a:pt x="370" y="200"/>
                    </a:lnTo>
                    <a:lnTo>
                      <a:pt x="372" y="199"/>
                    </a:lnTo>
                    <a:lnTo>
                      <a:pt x="375" y="197"/>
                    </a:lnTo>
                    <a:lnTo>
                      <a:pt x="376" y="195"/>
                    </a:lnTo>
                    <a:lnTo>
                      <a:pt x="378" y="194"/>
                    </a:lnTo>
                    <a:lnTo>
                      <a:pt x="378" y="192"/>
                    </a:lnTo>
                    <a:lnTo>
                      <a:pt x="379" y="191"/>
                    </a:lnTo>
                    <a:lnTo>
                      <a:pt x="379" y="190"/>
                    </a:lnTo>
                    <a:lnTo>
                      <a:pt x="380" y="188"/>
                    </a:lnTo>
                    <a:lnTo>
                      <a:pt x="382" y="185"/>
                    </a:lnTo>
                    <a:lnTo>
                      <a:pt x="383" y="184"/>
                    </a:lnTo>
                    <a:lnTo>
                      <a:pt x="387" y="183"/>
                    </a:lnTo>
                    <a:lnTo>
                      <a:pt x="389" y="182"/>
                    </a:lnTo>
                    <a:lnTo>
                      <a:pt x="391" y="181"/>
                    </a:lnTo>
                    <a:lnTo>
                      <a:pt x="395" y="180"/>
                    </a:lnTo>
                    <a:lnTo>
                      <a:pt x="397" y="179"/>
                    </a:lnTo>
                    <a:lnTo>
                      <a:pt x="399" y="178"/>
                    </a:lnTo>
                    <a:lnTo>
                      <a:pt x="400" y="175"/>
                    </a:lnTo>
                    <a:lnTo>
                      <a:pt x="402" y="172"/>
                    </a:lnTo>
                    <a:lnTo>
                      <a:pt x="403" y="169"/>
                    </a:lnTo>
                    <a:lnTo>
                      <a:pt x="407" y="166"/>
                    </a:lnTo>
                    <a:lnTo>
                      <a:pt x="410" y="162"/>
                    </a:lnTo>
                    <a:lnTo>
                      <a:pt x="412" y="161"/>
                    </a:lnTo>
                    <a:lnTo>
                      <a:pt x="415" y="162"/>
                    </a:lnTo>
                    <a:lnTo>
                      <a:pt x="418" y="163"/>
                    </a:lnTo>
                    <a:lnTo>
                      <a:pt x="419" y="163"/>
                    </a:lnTo>
                    <a:lnTo>
                      <a:pt x="420" y="164"/>
                    </a:lnTo>
                    <a:lnTo>
                      <a:pt x="420" y="166"/>
                    </a:lnTo>
                    <a:lnTo>
                      <a:pt x="420" y="168"/>
                    </a:lnTo>
                    <a:lnTo>
                      <a:pt x="420" y="169"/>
                    </a:lnTo>
                    <a:lnTo>
                      <a:pt x="420" y="171"/>
                    </a:lnTo>
                    <a:lnTo>
                      <a:pt x="420" y="172"/>
                    </a:lnTo>
                    <a:lnTo>
                      <a:pt x="420" y="174"/>
                    </a:lnTo>
                    <a:lnTo>
                      <a:pt x="421" y="174"/>
                    </a:lnTo>
                    <a:lnTo>
                      <a:pt x="422" y="174"/>
                    </a:lnTo>
                    <a:lnTo>
                      <a:pt x="424" y="173"/>
                    </a:lnTo>
                    <a:lnTo>
                      <a:pt x="426" y="172"/>
                    </a:lnTo>
                    <a:lnTo>
                      <a:pt x="429" y="170"/>
                    </a:lnTo>
                    <a:lnTo>
                      <a:pt x="430" y="168"/>
                    </a:lnTo>
                    <a:lnTo>
                      <a:pt x="432" y="164"/>
                    </a:lnTo>
                    <a:lnTo>
                      <a:pt x="434" y="162"/>
                    </a:lnTo>
                    <a:lnTo>
                      <a:pt x="435" y="160"/>
                    </a:lnTo>
                    <a:lnTo>
                      <a:pt x="436" y="158"/>
                    </a:lnTo>
                    <a:lnTo>
                      <a:pt x="436" y="157"/>
                    </a:lnTo>
                    <a:lnTo>
                      <a:pt x="439" y="152"/>
                    </a:lnTo>
                    <a:lnTo>
                      <a:pt x="440" y="146"/>
                    </a:lnTo>
                    <a:lnTo>
                      <a:pt x="440" y="140"/>
                    </a:lnTo>
                    <a:lnTo>
                      <a:pt x="441" y="136"/>
                    </a:lnTo>
                    <a:lnTo>
                      <a:pt x="444" y="134"/>
                    </a:lnTo>
                    <a:lnTo>
                      <a:pt x="447" y="135"/>
                    </a:lnTo>
                    <a:lnTo>
                      <a:pt x="452" y="139"/>
                    </a:lnTo>
                    <a:lnTo>
                      <a:pt x="454" y="146"/>
                    </a:lnTo>
                    <a:lnTo>
                      <a:pt x="455" y="153"/>
                    </a:lnTo>
                    <a:lnTo>
                      <a:pt x="456" y="161"/>
                    </a:lnTo>
                    <a:lnTo>
                      <a:pt x="457" y="164"/>
                    </a:lnTo>
                    <a:lnTo>
                      <a:pt x="459" y="171"/>
                    </a:lnTo>
                    <a:lnTo>
                      <a:pt x="462" y="177"/>
                    </a:lnTo>
                    <a:lnTo>
                      <a:pt x="465" y="181"/>
                    </a:lnTo>
                    <a:lnTo>
                      <a:pt x="467" y="181"/>
                    </a:lnTo>
                    <a:lnTo>
                      <a:pt x="472" y="178"/>
                    </a:lnTo>
                    <a:lnTo>
                      <a:pt x="475" y="172"/>
                    </a:lnTo>
                    <a:lnTo>
                      <a:pt x="477" y="168"/>
                    </a:lnTo>
                    <a:lnTo>
                      <a:pt x="476" y="163"/>
                    </a:lnTo>
                    <a:lnTo>
                      <a:pt x="477" y="162"/>
                    </a:lnTo>
                    <a:lnTo>
                      <a:pt x="478" y="161"/>
                    </a:lnTo>
                    <a:lnTo>
                      <a:pt x="479" y="160"/>
                    </a:lnTo>
                    <a:lnTo>
                      <a:pt x="480" y="158"/>
                    </a:lnTo>
                    <a:lnTo>
                      <a:pt x="481" y="155"/>
                    </a:lnTo>
                    <a:lnTo>
                      <a:pt x="483" y="152"/>
                    </a:lnTo>
                    <a:lnTo>
                      <a:pt x="484" y="151"/>
                    </a:lnTo>
                    <a:lnTo>
                      <a:pt x="485" y="149"/>
                    </a:lnTo>
                    <a:lnTo>
                      <a:pt x="487" y="149"/>
                    </a:lnTo>
                    <a:lnTo>
                      <a:pt x="489" y="149"/>
                    </a:lnTo>
                    <a:lnTo>
                      <a:pt x="491" y="150"/>
                    </a:lnTo>
                    <a:lnTo>
                      <a:pt x="495" y="155"/>
                    </a:lnTo>
                    <a:lnTo>
                      <a:pt x="494" y="161"/>
                    </a:lnTo>
                    <a:lnTo>
                      <a:pt x="489" y="170"/>
                    </a:lnTo>
                    <a:lnTo>
                      <a:pt x="489" y="173"/>
                    </a:lnTo>
                    <a:lnTo>
                      <a:pt x="488" y="175"/>
                    </a:lnTo>
                    <a:lnTo>
                      <a:pt x="489" y="178"/>
                    </a:lnTo>
                    <a:lnTo>
                      <a:pt x="489" y="178"/>
                    </a:lnTo>
                    <a:lnTo>
                      <a:pt x="491" y="179"/>
                    </a:lnTo>
                    <a:lnTo>
                      <a:pt x="492" y="178"/>
                    </a:lnTo>
                    <a:lnTo>
                      <a:pt x="495" y="178"/>
                    </a:lnTo>
                    <a:lnTo>
                      <a:pt x="497" y="177"/>
                    </a:lnTo>
                    <a:lnTo>
                      <a:pt x="498" y="175"/>
                    </a:lnTo>
                    <a:lnTo>
                      <a:pt x="500" y="174"/>
                    </a:lnTo>
                    <a:lnTo>
                      <a:pt x="502" y="171"/>
                    </a:lnTo>
                    <a:lnTo>
                      <a:pt x="505" y="169"/>
                    </a:lnTo>
                    <a:lnTo>
                      <a:pt x="508" y="166"/>
                    </a:lnTo>
                    <a:lnTo>
                      <a:pt x="509" y="163"/>
                    </a:lnTo>
                    <a:lnTo>
                      <a:pt x="511" y="159"/>
                    </a:lnTo>
                    <a:lnTo>
                      <a:pt x="515" y="157"/>
                    </a:lnTo>
                    <a:lnTo>
                      <a:pt x="518" y="155"/>
                    </a:lnTo>
                    <a:lnTo>
                      <a:pt x="522" y="153"/>
                    </a:lnTo>
                    <a:lnTo>
                      <a:pt x="526" y="152"/>
                    </a:lnTo>
                    <a:lnTo>
                      <a:pt x="530" y="151"/>
                    </a:lnTo>
                    <a:lnTo>
                      <a:pt x="533" y="151"/>
                    </a:lnTo>
                    <a:lnTo>
                      <a:pt x="535" y="152"/>
                    </a:lnTo>
                    <a:lnTo>
                      <a:pt x="539" y="153"/>
                    </a:lnTo>
                    <a:lnTo>
                      <a:pt x="542" y="156"/>
                    </a:lnTo>
                    <a:lnTo>
                      <a:pt x="545" y="158"/>
                    </a:lnTo>
                    <a:lnTo>
                      <a:pt x="549" y="159"/>
                    </a:lnTo>
                    <a:lnTo>
                      <a:pt x="551" y="161"/>
                    </a:lnTo>
                    <a:lnTo>
                      <a:pt x="552" y="162"/>
                    </a:lnTo>
                    <a:lnTo>
                      <a:pt x="555" y="162"/>
                    </a:lnTo>
                    <a:lnTo>
                      <a:pt x="557" y="163"/>
                    </a:lnTo>
                    <a:lnTo>
                      <a:pt x="560" y="163"/>
                    </a:lnTo>
                    <a:lnTo>
                      <a:pt x="563" y="163"/>
                    </a:lnTo>
                    <a:lnTo>
                      <a:pt x="566" y="164"/>
                    </a:lnTo>
                    <a:lnTo>
                      <a:pt x="568" y="164"/>
                    </a:lnTo>
                    <a:lnTo>
                      <a:pt x="571" y="167"/>
                    </a:lnTo>
                    <a:lnTo>
                      <a:pt x="573" y="168"/>
                    </a:lnTo>
                    <a:lnTo>
                      <a:pt x="581" y="174"/>
                    </a:lnTo>
                    <a:lnTo>
                      <a:pt x="589" y="180"/>
                    </a:lnTo>
                    <a:lnTo>
                      <a:pt x="601" y="183"/>
                    </a:lnTo>
                    <a:lnTo>
                      <a:pt x="605" y="181"/>
                    </a:lnTo>
                    <a:lnTo>
                      <a:pt x="609" y="179"/>
                    </a:lnTo>
                    <a:lnTo>
                      <a:pt x="615" y="177"/>
                    </a:lnTo>
                    <a:lnTo>
                      <a:pt x="619" y="177"/>
                    </a:lnTo>
                    <a:lnTo>
                      <a:pt x="621" y="175"/>
                    </a:lnTo>
                    <a:lnTo>
                      <a:pt x="623" y="177"/>
                    </a:lnTo>
                    <a:lnTo>
                      <a:pt x="626" y="178"/>
                    </a:lnTo>
                    <a:lnTo>
                      <a:pt x="628" y="179"/>
                    </a:lnTo>
                    <a:lnTo>
                      <a:pt x="630" y="181"/>
                    </a:lnTo>
                    <a:lnTo>
                      <a:pt x="632" y="183"/>
                    </a:lnTo>
                    <a:lnTo>
                      <a:pt x="636" y="186"/>
                    </a:lnTo>
                    <a:lnTo>
                      <a:pt x="639" y="191"/>
                    </a:lnTo>
                    <a:lnTo>
                      <a:pt x="641" y="195"/>
                    </a:lnTo>
                    <a:lnTo>
                      <a:pt x="641" y="200"/>
                    </a:lnTo>
                    <a:lnTo>
                      <a:pt x="637" y="203"/>
                    </a:lnTo>
                    <a:lnTo>
                      <a:pt x="631" y="204"/>
                    </a:lnTo>
                    <a:lnTo>
                      <a:pt x="626" y="204"/>
                    </a:lnTo>
                    <a:lnTo>
                      <a:pt x="621" y="206"/>
                    </a:lnTo>
                    <a:lnTo>
                      <a:pt x="617" y="212"/>
                    </a:lnTo>
                    <a:lnTo>
                      <a:pt x="617" y="215"/>
                    </a:lnTo>
                    <a:lnTo>
                      <a:pt x="617" y="218"/>
                    </a:lnTo>
                    <a:lnTo>
                      <a:pt x="618" y="221"/>
                    </a:lnTo>
                    <a:lnTo>
                      <a:pt x="620" y="222"/>
                    </a:lnTo>
                    <a:lnTo>
                      <a:pt x="622" y="223"/>
                    </a:lnTo>
                    <a:lnTo>
                      <a:pt x="625" y="223"/>
                    </a:lnTo>
                    <a:lnTo>
                      <a:pt x="628" y="223"/>
                    </a:lnTo>
                    <a:lnTo>
                      <a:pt x="630" y="223"/>
                    </a:lnTo>
                    <a:lnTo>
                      <a:pt x="637" y="223"/>
                    </a:lnTo>
                    <a:lnTo>
                      <a:pt x="643" y="225"/>
                    </a:lnTo>
                    <a:lnTo>
                      <a:pt x="649" y="227"/>
                    </a:lnTo>
                    <a:lnTo>
                      <a:pt x="655" y="228"/>
                    </a:lnTo>
                    <a:lnTo>
                      <a:pt x="663" y="227"/>
                    </a:lnTo>
                    <a:lnTo>
                      <a:pt x="674" y="220"/>
                    </a:lnTo>
                    <a:lnTo>
                      <a:pt x="686" y="214"/>
                    </a:lnTo>
                    <a:lnTo>
                      <a:pt x="701" y="212"/>
                    </a:lnTo>
                    <a:lnTo>
                      <a:pt x="710" y="215"/>
                    </a:lnTo>
                    <a:lnTo>
                      <a:pt x="720" y="221"/>
                    </a:lnTo>
                    <a:lnTo>
                      <a:pt x="729" y="227"/>
                    </a:lnTo>
                    <a:lnTo>
                      <a:pt x="731" y="228"/>
                    </a:lnTo>
                    <a:lnTo>
                      <a:pt x="734" y="228"/>
                    </a:lnTo>
                    <a:lnTo>
                      <a:pt x="735" y="227"/>
                    </a:lnTo>
                    <a:lnTo>
                      <a:pt x="735" y="226"/>
                    </a:lnTo>
                    <a:lnTo>
                      <a:pt x="736" y="224"/>
                    </a:lnTo>
                    <a:lnTo>
                      <a:pt x="736" y="222"/>
                    </a:lnTo>
                    <a:lnTo>
                      <a:pt x="736" y="220"/>
                    </a:lnTo>
                    <a:lnTo>
                      <a:pt x="735" y="217"/>
                    </a:lnTo>
                    <a:lnTo>
                      <a:pt x="735" y="215"/>
                    </a:lnTo>
                    <a:lnTo>
                      <a:pt x="735" y="213"/>
                    </a:lnTo>
                    <a:lnTo>
                      <a:pt x="736" y="212"/>
                    </a:lnTo>
                    <a:lnTo>
                      <a:pt x="737" y="210"/>
                    </a:lnTo>
                    <a:lnTo>
                      <a:pt x="740" y="207"/>
                    </a:lnTo>
                    <a:lnTo>
                      <a:pt x="742" y="205"/>
                    </a:lnTo>
                    <a:lnTo>
                      <a:pt x="746" y="203"/>
                    </a:lnTo>
                    <a:lnTo>
                      <a:pt x="749" y="201"/>
                    </a:lnTo>
                    <a:lnTo>
                      <a:pt x="750" y="199"/>
                    </a:lnTo>
                    <a:lnTo>
                      <a:pt x="753" y="196"/>
                    </a:lnTo>
                    <a:lnTo>
                      <a:pt x="756" y="195"/>
                    </a:lnTo>
                    <a:lnTo>
                      <a:pt x="758" y="194"/>
                    </a:lnTo>
                    <a:lnTo>
                      <a:pt x="760" y="192"/>
                    </a:lnTo>
                    <a:lnTo>
                      <a:pt x="763" y="188"/>
                    </a:lnTo>
                    <a:lnTo>
                      <a:pt x="769" y="183"/>
                    </a:lnTo>
                    <a:lnTo>
                      <a:pt x="775" y="180"/>
                    </a:lnTo>
                    <a:lnTo>
                      <a:pt x="782" y="179"/>
                    </a:lnTo>
                    <a:lnTo>
                      <a:pt x="786" y="179"/>
                    </a:lnTo>
                    <a:lnTo>
                      <a:pt x="789" y="179"/>
                    </a:lnTo>
                    <a:lnTo>
                      <a:pt x="791" y="181"/>
                    </a:lnTo>
                    <a:lnTo>
                      <a:pt x="793" y="182"/>
                    </a:lnTo>
                    <a:lnTo>
                      <a:pt x="795" y="185"/>
                    </a:lnTo>
                    <a:lnTo>
                      <a:pt x="796" y="188"/>
                    </a:lnTo>
                    <a:lnTo>
                      <a:pt x="799" y="190"/>
                    </a:lnTo>
                    <a:lnTo>
                      <a:pt x="801" y="191"/>
                    </a:lnTo>
                    <a:lnTo>
                      <a:pt x="804" y="192"/>
                    </a:lnTo>
                    <a:lnTo>
                      <a:pt x="805" y="192"/>
                    </a:lnTo>
                    <a:lnTo>
                      <a:pt x="807" y="191"/>
                    </a:lnTo>
                    <a:lnTo>
                      <a:pt x="810" y="190"/>
                    </a:lnTo>
                    <a:lnTo>
                      <a:pt x="811" y="189"/>
                    </a:lnTo>
                    <a:lnTo>
                      <a:pt x="813" y="186"/>
                    </a:lnTo>
                    <a:lnTo>
                      <a:pt x="815" y="185"/>
                    </a:lnTo>
                    <a:lnTo>
                      <a:pt x="816" y="184"/>
                    </a:lnTo>
                    <a:lnTo>
                      <a:pt x="818" y="184"/>
                    </a:lnTo>
                    <a:lnTo>
                      <a:pt x="819" y="185"/>
                    </a:lnTo>
                    <a:lnTo>
                      <a:pt x="821" y="186"/>
                    </a:lnTo>
                    <a:lnTo>
                      <a:pt x="823" y="190"/>
                    </a:lnTo>
                    <a:lnTo>
                      <a:pt x="824" y="192"/>
                    </a:lnTo>
                    <a:lnTo>
                      <a:pt x="824" y="194"/>
                    </a:lnTo>
                    <a:lnTo>
                      <a:pt x="825" y="196"/>
                    </a:lnTo>
                    <a:lnTo>
                      <a:pt x="827" y="199"/>
                    </a:lnTo>
                    <a:lnTo>
                      <a:pt x="829" y="201"/>
                    </a:lnTo>
                    <a:lnTo>
                      <a:pt x="833" y="202"/>
                    </a:lnTo>
                    <a:lnTo>
                      <a:pt x="836" y="202"/>
                    </a:lnTo>
                    <a:lnTo>
                      <a:pt x="838" y="203"/>
                    </a:lnTo>
                    <a:lnTo>
                      <a:pt x="850" y="200"/>
                    </a:lnTo>
                    <a:lnTo>
                      <a:pt x="861" y="196"/>
                    </a:lnTo>
                    <a:lnTo>
                      <a:pt x="873" y="195"/>
                    </a:lnTo>
                    <a:lnTo>
                      <a:pt x="884" y="196"/>
                    </a:lnTo>
                    <a:lnTo>
                      <a:pt x="888" y="196"/>
                    </a:lnTo>
                    <a:lnTo>
                      <a:pt x="891" y="196"/>
                    </a:lnTo>
                    <a:lnTo>
                      <a:pt x="893" y="197"/>
                    </a:lnTo>
                    <a:lnTo>
                      <a:pt x="897" y="196"/>
                    </a:lnTo>
                    <a:lnTo>
                      <a:pt x="898" y="196"/>
                    </a:lnTo>
                    <a:lnTo>
                      <a:pt x="901" y="195"/>
                    </a:lnTo>
                    <a:lnTo>
                      <a:pt x="903" y="193"/>
                    </a:lnTo>
                    <a:lnTo>
                      <a:pt x="904" y="191"/>
                    </a:lnTo>
                    <a:lnTo>
                      <a:pt x="905" y="189"/>
                    </a:lnTo>
                    <a:lnTo>
                      <a:pt x="905" y="186"/>
                    </a:lnTo>
                    <a:lnTo>
                      <a:pt x="906" y="185"/>
                    </a:lnTo>
                    <a:lnTo>
                      <a:pt x="906" y="183"/>
                    </a:lnTo>
                    <a:lnTo>
                      <a:pt x="911" y="178"/>
                    </a:lnTo>
                    <a:lnTo>
                      <a:pt x="917" y="175"/>
                    </a:lnTo>
                    <a:lnTo>
                      <a:pt x="924" y="175"/>
                    </a:lnTo>
                    <a:lnTo>
                      <a:pt x="931" y="174"/>
                    </a:lnTo>
                    <a:lnTo>
                      <a:pt x="933" y="174"/>
                    </a:lnTo>
                    <a:lnTo>
                      <a:pt x="935" y="173"/>
                    </a:lnTo>
                    <a:lnTo>
                      <a:pt x="937" y="173"/>
                    </a:lnTo>
                    <a:lnTo>
                      <a:pt x="938" y="173"/>
                    </a:lnTo>
                    <a:lnTo>
                      <a:pt x="939" y="172"/>
                    </a:lnTo>
                    <a:lnTo>
                      <a:pt x="942" y="173"/>
                    </a:lnTo>
                    <a:lnTo>
                      <a:pt x="943" y="174"/>
                    </a:lnTo>
                    <a:lnTo>
                      <a:pt x="944" y="177"/>
                    </a:lnTo>
                    <a:lnTo>
                      <a:pt x="945" y="179"/>
                    </a:lnTo>
                    <a:lnTo>
                      <a:pt x="946" y="181"/>
                    </a:lnTo>
                    <a:lnTo>
                      <a:pt x="947" y="183"/>
                    </a:lnTo>
                    <a:lnTo>
                      <a:pt x="948" y="185"/>
                    </a:lnTo>
                    <a:lnTo>
                      <a:pt x="950" y="188"/>
                    </a:lnTo>
                    <a:lnTo>
                      <a:pt x="952" y="191"/>
                    </a:lnTo>
                    <a:lnTo>
                      <a:pt x="952" y="194"/>
                    </a:lnTo>
                    <a:lnTo>
                      <a:pt x="950" y="197"/>
                    </a:lnTo>
                    <a:lnTo>
                      <a:pt x="948" y="201"/>
                    </a:lnTo>
                    <a:lnTo>
                      <a:pt x="947" y="204"/>
                    </a:lnTo>
                    <a:lnTo>
                      <a:pt x="947" y="207"/>
                    </a:lnTo>
                    <a:lnTo>
                      <a:pt x="947" y="211"/>
                    </a:lnTo>
                    <a:lnTo>
                      <a:pt x="949" y="214"/>
                    </a:lnTo>
                    <a:lnTo>
                      <a:pt x="952" y="216"/>
                    </a:lnTo>
                    <a:lnTo>
                      <a:pt x="954" y="218"/>
                    </a:lnTo>
                    <a:lnTo>
                      <a:pt x="957" y="220"/>
                    </a:lnTo>
                    <a:lnTo>
                      <a:pt x="960" y="220"/>
                    </a:lnTo>
                    <a:lnTo>
                      <a:pt x="964" y="218"/>
                    </a:lnTo>
                    <a:lnTo>
                      <a:pt x="966" y="216"/>
                    </a:lnTo>
                    <a:lnTo>
                      <a:pt x="968" y="208"/>
                    </a:lnTo>
                    <a:lnTo>
                      <a:pt x="966" y="203"/>
                    </a:lnTo>
                    <a:lnTo>
                      <a:pt x="964" y="196"/>
                    </a:lnTo>
                    <a:lnTo>
                      <a:pt x="963" y="191"/>
                    </a:lnTo>
                    <a:lnTo>
                      <a:pt x="964" y="185"/>
                    </a:lnTo>
                    <a:lnTo>
                      <a:pt x="967" y="182"/>
                    </a:lnTo>
                    <a:lnTo>
                      <a:pt x="972" y="177"/>
                    </a:lnTo>
                    <a:lnTo>
                      <a:pt x="979" y="171"/>
                    </a:lnTo>
                    <a:lnTo>
                      <a:pt x="986" y="166"/>
                    </a:lnTo>
                    <a:lnTo>
                      <a:pt x="992" y="160"/>
                    </a:lnTo>
                    <a:lnTo>
                      <a:pt x="996" y="155"/>
                    </a:lnTo>
                    <a:lnTo>
                      <a:pt x="996" y="150"/>
                    </a:lnTo>
                    <a:lnTo>
                      <a:pt x="990" y="148"/>
                    </a:lnTo>
                    <a:lnTo>
                      <a:pt x="987" y="147"/>
                    </a:lnTo>
                    <a:lnTo>
                      <a:pt x="983" y="147"/>
                    </a:lnTo>
                    <a:lnTo>
                      <a:pt x="981" y="145"/>
                    </a:lnTo>
                    <a:lnTo>
                      <a:pt x="980" y="142"/>
                    </a:lnTo>
                    <a:lnTo>
                      <a:pt x="979" y="139"/>
                    </a:lnTo>
                    <a:lnTo>
                      <a:pt x="979" y="136"/>
                    </a:lnTo>
                    <a:lnTo>
                      <a:pt x="980" y="134"/>
                    </a:lnTo>
                    <a:lnTo>
                      <a:pt x="982" y="131"/>
                    </a:lnTo>
                    <a:lnTo>
                      <a:pt x="985" y="129"/>
                    </a:lnTo>
                    <a:lnTo>
                      <a:pt x="988" y="128"/>
                    </a:lnTo>
                    <a:lnTo>
                      <a:pt x="990" y="126"/>
                    </a:lnTo>
                    <a:lnTo>
                      <a:pt x="992" y="125"/>
                    </a:lnTo>
                    <a:lnTo>
                      <a:pt x="994" y="124"/>
                    </a:lnTo>
                    <a:lnTo>
                      <a:pt x="997" y="122"/>
                    </a:lnTo>
                    <a:lnTo>
                      <a:pt x="999" y="119"/>
                    </a:lnTo>
                    <a:lnTo>
                      <a:pt x="999" y="118"/>
                    </a:lnTo>
                    <a:lnTo>
                      <a:pt x="999" y="116"/>
                    </a:lnTo>
                    <a:lnTo>
                      <a:pt x="998" y="115"/>
                    </a:lnTo>
                    <a:lnTo>
                      <a:pt x="996" y="113"/>
                    </a:lnTo>
                    <a:lnTo>
                      <a:pt x="993" y="112"/>
                    </a:lnTo>
                    <a:lnTo>
                      <a:pt x="992" y="111"/>
                    </a:lnTo>
                    <a:lnTo>
                      <a:pt x="982" y="108"/>
                    </a:lnTo>
                    <a:lnTo>
                      <a:pt x="974" y="106"/>
                    </a:lnTo>
                    <a:lnTo>
                      <a:pt x="966" y="102"/>
                    </a:lnTo>
                    <a:lnTo>
                      <a:pt x="959" y="95"/>
                    </a:lnTo>
                    <a:lnTo>
                      <a:pt x="955" y="90"/>
                    </a:lnTo>
                    <a:lnTo>
                      <a:pt x="949" y="84"/>
                    </a:lnTo>
                    <a:lnTo>
                      <a:pt x="946" y="77"/>
                    </a:lnTo>
                    <a:lnTo>
                      <a:pt x="946" y="71"/>
                    </a:lnTo>
                    <a:lnTo>
                      <a:pt x="948" y="69"/>
                    </a:lnTo>
                    <a:lnTo>
                      <a:pt x="950" y="66"/>
                    </a:lnTo>
                    <a:lnTo>
                      <a:pt x="953" y="65"/>
                    </a:lnTo>
                    <a:lnTo>
                      <a:pt x="956" y="64"/>
                    </a:lnTo>
                    <a:lnTo>
                      <a:pt x="957" y="62"/>
                    </a:lnTo>
                    <a:lnTo>
                      <a:pt x="959" y="59"/>
                    </a:lnTo>
                    <a:lnTo>
                      <a:pt x="959" y="57"/>
                    </a:lnTo>
                    <a:lnTo>
                      <a:pt x="958" y="54"/>
                    </a:lnTo>
                    <a:lnTo>
                      <a:pt x="957" y="52"/>
                    </a:lnTo>
                    <a:lnTo>
                      <a:pt x="955" y="51"/>
                    </a:lnTo>
                    <a:lnTo>
                      <a:pt x="954" y="46"/>
                    </a:lnTo>
                    <a:lnTo>
                      <a:pt x="954" y="42"/>
                    </a:lnTo>
                    <a:lnTo>
                      <a:pt x="954" y="38"/>
                    </a:lnTo>
                    <a:lnTo>
                      <a:pt x="955" y="33"/>
                    </a:lnTo>
                    <a:lnTo>
                      <a:pt x="957" y="31"/>
                    </a:lnTo>
                    <a:lnTo>
                      <a:pt x="958" y="29"/>
                    </a:lnTo>
                    <a:lnTo>
                      <a:pt x="960" y="28"/>
                    </a:lnTo>
                    <a:lnTo>
                      <a:pt x="964" y="28"/>
                    </a:lnTo>
                    <a:lnTo>
                      <a:pt x="966" y="27"/>
                    </a:lnTo>
                    <a:lnTo>
                      <a:pt x="969" y="24"/>
                    </a:lnTo>
                    <a:lnTo>
                      <a:pt x="971" y="17"/>
                    </a:lnTo>
                    <a:lnTo>
                      <a:pt x="972" y="11"/>
                    </a:lnTo>
                    <a:lnTo>
                      <a:pt x="975" y="7"/>
                    </a:lnTo>
                    <a:lnTo>
                      <a:pt x="976" y="5"/>
                    </a:lnTo>
                    <a:lnTo>
                      <a:pt x="978" y="4"/>
                    </a:lnTo>
                    <a:lnTo>
                      <a:pt x="980" y="2"/>
                    </a:lnTo>
                    <a:lnTo>
                      <a:pt x="983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6"/>
              <p:cNvSpPr/>
              <p:nvPr/>
            </p:nvSpPr>
            <p:spPr>
              <a:xfrm>
                <a:off x="8459280" y="4745520"/>
                <a:ext cx="474120" cy="1162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332" h="560">
                    <a:moveTo>
                      <a:pt x="2326" y="76"/>
                    </a:moveTo>
                    <a:lnTo>
                      <a:pt x="2327" y="77"/>
                    </a:lnTo>
                    <a:lnTo>
                      <a:pt x="2328" y="78"/>
                    </a:lnTo>
                    <a:lnTo>
                      <a:pt x="2329" y="79"/>
                    </a:lnTo>
                    <a:lnTo>
                      <a:pt x="2329" y="82"/>
                    </a:lnTo>
                    <a:lnTo>
                      <a:pt x="2330" y="83"/>
                    </a:lnTo>
                    <a:lnTo>
                      <a:pt x="2330" y="84"/>
                    </a:lnTo>
                    <a:lnTo>
                      <a:pt x="2331" y="86"/>
                    </a:lnTo>
                    <a:lnTo>
                      <a:pt x="2331" y="87"/>
                    </a:lnTo>
                    <a:lnTo>
                      <a:pt x="2332" y="88"/>
                    </a:lnTo>
                    <a:lnTo>
                      <a:pt x="2331" y="89"/>
                    </a:lnTo>
                    <a:lnTo>
                      <a:pt x="2331" y="89"/>
                    </a:lnTo>
                    <a:lnTo>
                      <a:pt x="2330" y="89"/>
                    </a:lnTo>
                    <a:lnTo>
                      <a:pt x="2328" y="87"/>
                    </a:lnTo>
                    <a:lnTo>
                      <a:pt x="2326" y="86"/>
                    </a:lnTo>
                    <a:lnTo>
                      <a:pt x="2324" y="84"/>
                    </a:lnTo>
                    <a:lnTo>
                      <a:pt x="2324" y="82"/>
                    </a:lnTo>
                    <a:lnTo>
                      <a:pt x="2324" y="79"/>
                    </a:lnTo>
                    <a:lnTo>
                      <a:pt x="2325" y="78"/>
                    </a:lnTo>
                    <a:lnTo>
                      <a:pt x="2326" y="77"/>
                    </a:lnTo>
                    <a:lnTo>
                      <a:pt x="2326" y="76"/>
                    </a:lnTo>
                    <a:lnTo>
                      <a:pt x="2326" y="76"/>
                    </a:lnTo>
                    <a:close/>
                    <a:moveTo>
                      <a:pt x="2213" y="65"/>
                    </a:moveTo>
                    <a:lnTo>
                      <a:pt x="2215" y="66"/>
                    </a:lnTo>
                    <a:lnTo>
                      <a:pt x="2215" y="67"/>
                    </a:lnTo>
                    <a:lnTo>
                      <a:pt x="2216" y="68"/>
                    </a:lnTo>
                    <a:lnTo>
                      <a:pt x="2217" y="71"/>
                    </a:lnTo>
                    <a:lnTo>
                      <a:pt x="2219" y="73"/>
                    </a:lnTo>
                    <a:lnTo>
                      <a:pt x="2220" y="75"/>
                    </a:lnTo>
                    <a:lnTo>
                      <a:pt x="2221" y="78"/>
                    </a:lnTo>
                    <a:lnTo>
                      <a:pt x="2221" y="82"/>
                    </a:lnTo>
                    <a:lnTo>
                      <a:pt x="2220" y="79"/>
                    </a:lnTo>
                    <a:lnTo>
                      <a:pt x="2218" y="78"/>
                    </a:lnTo>
                    <a:lnTo>
                      <a:pt x="2217" y="77"/>
                    </a:lnTo>
                    <a:lnTo>
                      <a:pt x="2217" y="77"/>
                    </a:lnTo>
                    <a:lnTo>
                      <a:pt x="2216" y="77"/>
                    </a:lnTo>
                    <a:lnTo>
                      <a:pt x="2215" y="76"/>
                    </a:lnTo>
                    <a:lnTo>
                      <a:pt x="2213" y="75"/>
                    </a:lnTo>
                    <a:lnTo>
                      <a:pt x="2212" y="73"/>
                    </a:lnTo>
                    <a:lnTo>
                      <a:pt x="2212" y="69"/>
                    </a:lnTo>
                    <a:lnTo>
                      <a:pt x="2212" y="67"/>
                    </a:lnTo>
                    <a:lnTo>
                      <a:pt x="2212" y="66"/>
                    </a:lnTo>
                    <a:lnTo>
                      <a:pt x="2213" y="66"/>
                    </a:lnTo>
                    <a:lnTo>
                      <a:pt x="2213" y="65"/>
                    </a:lnTo>
                    <a:close/>
                    <a:moveTo>
                      <a:pt x="1691" y="63"/>
                    </a:moveTo>
                    <a:lnTo>
                      <a:pt x="1693" y="71"/>
                    </a:lnTo>
                    <a:lnTo>
                      <a:pt x="1699" y="76"/>
                    </a:lnTo>
                    <a:lnTo>
                      <a:pt x="1705" y="82"/>
                    </a:lnTo>
                    <a:lnTo>
                      <a:pt x="1706" y="84"/>
                    </a:lnTo>
                    <a:lnTo>
                      <a:pt x="1707" y="86"/>
                    </a:lnTo>
                    <a:lnTo>
                      <a:pt x="1708" y="88"/>
                    </a:lnTo>
                    <a:lnTo>
                      <a:pt x="1709" y="92"/>
                    </a:lnTo>
                    <a:lnTo>
                      <a:pt x="1709" y="94"/>
                    </a:lnTo>
                    <a:lnTo>
                      <a:pt x="1709" y="96"/>
                    </a:lnTo>
                    <a:lnTo>
                      <a:pt x="1709" y="98"/>
                    </a:lnTo>
                    <a:lnTo>
                      <a:pt x="1706" y="98"/>
                    </a:lnTo>
                    <a:lnTo>
                      <a:pt x="1702" y="96"/>
                    </a:lnTo>
                    <a:lnTo>
                      <a:pt x="1696" y="92"/>
                    </a:lnTo>
                    <a:lnTo>
                      <a:pt x="1692" y="87"/>
                    </a:lnTo>
                    <a:lnTo>
                      <a:pt x="1688" y="82"/>
                    </a:lnTo>
                    <a:lnTo>
                      <a:pt x="1686" y="80"/>
                    </a:lnTo>
                    <a:lnTo>
                      <a:pt x="1685" y="78"/>
                    </a:lnTo>
                    <a:lnTo>
                      <a:pt x="1684" y="75"/>
                    </a:lnTo>
                    <a:lnTo>
                      <a:pt x="1684" y="73"/>
                    </a:lnTo>
                    <a:lnTo>
                      <a:pt x="1684" y="71"/>
                    </a:lnTo>
                    <a:lnTo>
                      <a:pt x="1684" y="68"/>
                    </a:lnTo>
                    <a:lnTo>
                      <a:pt x="1684" y="67"/>
                    </a:lnTo>
                    <a:lnTo>
                      <a:pt x="1685" y="66"/>
                    </a:lnTo>
                    <a:lnTo>
                      <a:pt x="1687" y="66"/>
                    </a:lnTo>
                    <a:lnTo>
                      <a:pt x="1689" y="65"/>
                    </a:lnTo>
                    <a:lnTo>
                      <a:pt x="1691" y="63"/>
                    </a:lnTo>
                    <a:close/>
                    <a:moveTo>
                      <a:pt x="291" y="57"/>
                    </a:moveTo>
                    <a:lnTo>
                      <a:pt x="294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7" y="61"/>
                    </a:lnTo>
                    <a:lnTo>
                      <a:pt x="297" y="62"/>
                    </a:lnTo>
                    <a:lnTo>
                      <a:pt x="296" y="63"/>
                    </a:lnTo>
                    <a:lnTo>
                      <a:pt x="294" y="65"/>
                    </a:lnTo>
                    <a:lnTo>
                      <a:pt x="291" y="67"/>
                    </a:lnTo>
                    <a:lnTo>
                      <a:pt x="289" y="68"/>
                    </a:lnTo>
                    <a:lnTo>
                      <a:pt x="287" y="68"/>
                    </a:lnTo>
                    <a:lnTo>
                      <a:pt x="285" y="68"/>
                    </a:lnTo>
                    <a:lnTo>
                      <a:pt x="283" y="68"/>
                    </a:lnTo>
                    <a:lnTo>
                      <a:pt x="280" y="66"/>
                    </a:lnTo>
                    <a:lnTo>
                      <a:pt x="280" y="64"/>
                    </a:lnTo>
                    <a:lnTo>
                      <a:pt x="281" y="62"/>
                    </a:lnTo>
                    <a:lnTo>
                      <a:pt x="284" y="60"/>
                    </a:lnTo>
                    <a:lnTo>
                      <a:pt x="286" y="58"/>
                    </a:lnTo>
                    <a:lnTo>
                      <a:pt x="289" y="57"/>
                    </a:lnTo>
                    <a:lnTo>
                      <a:pt x="291" y="57"/>
                    </a:lnTo>
                    <a:close/>
                    <a:moveTo>
                      <a:pt x="333" y="55"/>
                    </a:moveTo>
                    <a:lnTo>
                      <a:pt x="341" y="56"/>
                    </a:lnTo>
                    <a:lnTo>
                      <a:pt x="343" y="60"/>
                    </a:lnTo>
                    <a:lnTo>
                      <a:pt x="344" y="64"/>
                    </a:lnTo>
                    <a:lnTo>
                      <a:pt x="343" y="71"/>
                    </a:lnTo>
                    <a:lnTo>
                      <a:pt x="342" y="76"/>
                    </a:lnTo>
                    <a:lnTo>
                      <a:pt x="341" y="77"/>
                    </a:lnTo>
                    <a:lnTo>
                      <a:pt x="340" y="79"/>
                    </a:lnTo>
                    <a:lnTo>
                      <a:pt x="338" y="80"/>
                    </a:lnTo>
                    <a:lnTo>
                      <a:pt x="335" y="82"/>
                    </a:lnTo>
                    <a:lnTo>
                      <a:pt x="334" y="83"/>
                    </a:lnTo>
                    <a:lnTo>
                      <a:pt x="334" y="85"/>
                    </a:lnTo>
                    <a:lnTo>
                      <a:pt x="334" y="86"/>
                    </a:lnTo>
                    <a:lnTo>
                      <a:pt x="333" y="87"/>
                    </a:lnTo>
                    <a:lnTo>
                      <a:pt x="333" y="87"/>
                    </a:lnTo>
                    <a:lnTo>
                      <a:pt x="332" y="89"/>
                    </a:lnTo>
                    <a:lnTo>
                      <a:pt x="331" y="90"/>
                    </a:lnTo>
                    <a:lnTo>
                      <a:pt x="330" y="92"/>
                    </a:lnTo>
                    <a:lnTo>
                      <a:pt x="328" y="94"/>
                    </a:lnTo>
                    <a:lnTo>
                      <a:pt x="328" y="95"/>
                    </a:lnTo>
                    <a:lnTo>
                      <a:pt x="327" y="98"/>
                    </a:lnTo>
                    <a:lnTo>
                      <a:pt x="328" y="99"/>
                    </a:lnTo>
                    <a:lnTo>
                      <a:pt x="328" y="101"/>
                    </a:lnTo>
                    <a:lnTo>
                      <a:pt x="329" y="104"/>
                    </a:lnTo>
                    <a:lnTo>
                      <a:pt x="330" y="106"/>
                    </a:lnTo>
                    <a:lnTo>
                      <a:pt x="329" y="109"/>
                    </a:lnTo>
                    <a:lnTo>
                      <a:pt x="329" y="112"/>
                    </a:lnTo>
                    <a:lnTo>
                      <a:pt x="328" y="117"/>
                    </a:lnTo>
                    <a:lnTo>
                      <a:pt x="328" y="121"/>
                    </a:lnTo>
                    <a:lnTo>
                      <a:pt x="328" y="125"/>
                    </a:lnTo>
                    <a:lnTo>
                      <a:pt x="329" y="127"/>
                    </a:lnTo>
                    <a:lnTo>
                      <a:pt x="329" y="129"/>
                    </a:lnTo>
                    <a:lnTo>
                      <a:pt x="330" y="132"/>
                    </a:lnTo>
                    <a:lnTo>
                      <a:pt x="330" y="141"/>
                    </a:lnTo>
                    <a:lnTo>
                      <a:pt x="330" y="144"/>
                    </a:lnTo>
                    <a:lnTo>
                      <a:pt x="331" y="147"/>
                    </a:lnTo>
                    <a:lnTo>
                      <a:pt x="333" y="149"/>
                    </a:lnTo>
                    <a:lnTo>
                      <a:pt x="334" y="151"/>
                    </a:lnTo>
                    <a:lnTo>
                      <a:pt x="336" y="153"/>
                    </a:lnTo>
                    <a:lnTo>
                      <a:pt x="335" y="158"/>
                    </a:lnTo>
                    <a:lnTo>
                      <a:pt x="334" y="161"/>
                    </a:lnTo>
                    <a:lnTo>
                      <a:pt x="333" y="165"/>
                    </a:lnTo>
                    <a:lnTo>
                      <a:pt x="333" y="169"/>
                    </a:lnTo>
                    <a:lnTo>
                      <a:pt x="334" y="171"/>
                    </a:lnTo>
                    <a:lnTo>
                      <a:pt x="336" y="177"/>
                    </a:lnTo>
                    <a:lnTo>
                      <a:pt x="339" y="182"/>
                    </a:lnTo>
                    <a:lnTo>
                      <a:pt x="341" y="188"/>
                    </a:lnTo>
                    <a:lnTo>
                      <a:pt x="343" y="192"/>
                    </a:lnTo>
                    <a:lnTo>
                      <a:pt x="349" y="193"/>
                    </a:lnTo>
                    <a:lnTo>
                      <a:pt x="355" y="193"/>
                    </a:lnTo>
                    <a:lnTo>
                      <a:pt x="362" y="193"/>
                    </a:lnTo>
                    <a:lnTo>
                      <a:pt x="366" y="193"/>
                    </a:lnTo>
                    <a:lnTo>
                      <a:pt x="368" y="194"/>
                    </a:lnTo>
                    <a:lnTo>
                      <a:pt x="371" y="195"/>
                    </a:lnTo>
                    <a:lnTo>
                      <a:pt x="373" y="197"/>
                    </a:lnTo>
                    <a:lnTo>
                      <a:pt x="374" y="199"/>
                    </a:lnTo>
                    <a:lnTo>
                      <a:pt x="374" y="202"/>
                    </a:lnTo>
                    <a:lnTo>
                      <a:pt x="375" y="204"/>
                    </a:lnTo>
                    <a:lnTo>
                      <a:pt x="376" y="207"/>
                    </a:lnTo>
                    <a:lnTo>
                      <a:pt x="377" y="210"/>
                    </a:lnTo>
                    <a:lnTo>
                      <a:pt x="379" y="212"/>
                    </a:lnTo>
                    <a:lnTo>
                      <a:pt x="382" y="214"/>
                    </a:lnTo>
                    <a:lnTo>
                      <a:pt x="383" y="216"/>
                    </a:lnTo>
                    <a:lnTo>
                      <a:pt x="384" y="217"/>
                    </a:lnTo>
                    <a:lnTo>
                      <a:pt x="383" y="220"/>
                    </a:lnTo>
                    <a:lnTo>
                      <a:pt x="382" y="223"/>
                    </a:lnTo>
                    <a:lnTo>
                      <a:pt x="382" y="226"/>
                    </a:lnTo>
                    <a:lnTo>
                      <a:pt x="380" y="228"/>
                    </a:lnTo>
                    <a:lnTo>
                      <a:pt x="379" y="230"/>
                    </a:lnTo>
                    <a:lnTo>
                      <a:pt x="377" y="231"/>
                    </a:lnTo>
                    <a:lnTo>
                      <a:pt x="375" y="231"/>
                    </a:lnTo>
                    <a:lnTo>
                      <a:pt x="373" y="231"/>
                    </a:lnTo>
                    <a:lnTo>
                      <a:pt x="372" y="231"/>
                    </a:lnTo>
                    <a:lnTo>
                      <a:pt x="369" y="229"/>
                    </a:lnTo>
                    <a:lnTo>
                      <a:pt x="368" y="228"/>
                    </a:lnTo>
                    <a:lnTo>
                      <a:pt x="367" y="227"/>
                    </a:lnTo>
                    <a:lnTo>
                      <a:pt x="366" y="227"/>
                    </a:lnTo>
                    <a:lnTo>
                      <a:pt x="363" y="229"/>
                    </a:lnTo>
                    <a:lnTo>
                      <a:pt x="361" y="230"/>
                    </a:lnTo>
                    <a:lnTo>
                      <a:pt x="358" y="232"/>
                    </a:lnTo>
                    <a:lnTo>
                      <a:pt x="356" y="235"/>
                    </a:lnTo>
                    <a:lnTo>
                      <a:pt x="353" y="236"/>
                    </a:lnTo>
                    <a:lnTo>
                      <a:pt x="351" y="237"/>
                    </a:lnTo>
                    <a:lnTo>
                      <a:pt x="349" y="239"/>
                    </a:lnTo>
                    <a:lnTo>
                      <a:pt x="347" y="241"/>
                    </a:lnTo>
                    <a:lnTo>
                      <a:pt x="349" y="243"/>
                    </a:lnTo>
                    <a:lnTo>
                      <a:pt x="349" y="245"/>
                    </a:lnTo>
                    <a:lnTo>
                      <a:pt x="352" y="246"/>
                    </a:lnTo>
                    <a:lnTo>
                      <a:pt x="353" y="246"/>
                    </a:lnTo>
                    <a:lnTo>
                      <a:pt x="355" y="246"/>
                    </a:lnTo>
                    <a:lnTo>
                      <a:pt x="357" y="245"/>
                    </a:lnTo>
                    <a:lnTo>
                      <a:pt x="360" y="245"/>
                    </a:lnTo>
                    <a:lnTo>
                      <a:pt x="362" y="246"/>
                    </a:lnTo>
                    <a:lnTo>
                      <a:pt x="364" y="248"/>
                    </a:lnTo>
                    <a:lnTo>
                      <a:pt x="365" y="251"/>
                    </a:lnTo>
                    <a:lnTo>
                      <a:pt x="366" y="253"/>
                    </a:lnTo>
                    <a:lnTo>
                      <a:pt x="366" y="257"/>
                    </a:lnTo>
                    <a:lnTo>
                      <a:pt x="366" y="260"/>
                    </a:lnTo>
                    <a:lnTo>
                      <a:pt x="364" y="262"/>
                    </a:lnTo>
                    <a:lnTo>
                      <a:pt x="356" y="268"/>
                    </a:lnTo>
                    <a:lnTo>
                      <a:pt x="349" y="271"/>
                    </a:lnTo>
                    <a:lnTo>
                      <a:pt x="339" y="272"/>
                    </a:lnTo>
                    <a:lnTo>
                      <a:pt x="332" y="273"/>
                    </a:lnTo>
                    <a:lnTo>
                      <a:pt x="324" y="274"/>
                    </a:lnTo>
                    <a:lnTo>
                      <a:pt x="317" y="274"/>
                    </a:lnTo>
                    <a:lnTo>
                      <a:pt x="312" y="272"/>
                    </a:lnTo>
                    <a:lnTo>
                      <a:pt x="311" y="270"/>
                    </a:lnTo>
                    <a:lnTo>
                      <a:pt x="310" y="269"/>
                    </a:lnTo>
                    <a:lnTo>
                      <a:pt x="309" y="268"/>
                    </a:lnTo>
                    <a:lnTo>
                      <a:pt x="308" y="267"/>
                    </a:lnTo>
                    <a:lnTo>
                      <a:pt x="306" y="267"/>
                    </a:lnTo>
                    <a:lnTo>
                      <a:pt x="302" y="265"/>
                    </a:lnTo>
                    <a:lnTo>
                      <a:pt x="299" y="265"/>
                    </a:lnTo>
                    <a:lnTo>
                      <a:pt x="296" y="265"/>
                    </a:lnTo>
                    <a:lnTo>
                      <a:pt x="292" y="267"/>
                    </a:lnTo>
                    <a:lnTo>
                      <a:pt x="290" y="265"/>
                    </a:lnTo>
                    <a:lnTo>
                      <a:pt x="288" y="264"/>
                    </a:lnTo>
                    <a:lnTo>
                      <a:pt x="287" y="262"/>
                    </a:lnTo>
                    <a:lnTo>
                      <a:pt x="286" y="260"/>
                    </a:lnTo>
                    <a:lnTo>
                      <a:pt x="285" y="258"/>
                    </a:lnTo>
                    <a:lnTo>
                      <a:pt x="284" y="256"/>
                    </a:lnTo>
                    <a:lnTo>
                      <a:pt x="283" y="252"/>
                    </a:lnTo>
                    <a:lnTo>
                      <a:pt x="281" y="251"/>
                    </a:lnTo>
                    <a:lnTo>
                      <a:pt x="280" y="251"/>
                    </a:lnTo>
                    <a:lnTo>
                      <a:pt x="279" y="252"/>
                    </a:lnTo>
                    <a:lnTo>
                      <a:pt x="278" y="253"/>
                    </a:lnTo>
                    <a:lnTo>
                      <a:pt x="277" y="256"/>
                    </a:lnTo>
                    <a:lnTo>
                      <a:pt x="276" y="258"/>
                    </a:lnTo>
                    <a:lnTo>
                      <a:pt x="275" y="260"/>
                    </a:lnTo>
                    <a:lnTo>
                      <a:pt x="275" y="262"/>
                    </a:lnTo>
                    <a:lnTo>
                      <a:pt x="274" y="267"/>
                    </a:lnTo>
                    <a:lnTo>
                      <a:pt x="273" y="271"/>
                    </a:lnTo>
                    <a:lnTo>
                      <a:pt x="270" y="273"/>
                    </a:lnTo>
                    <a:lnTo>
                      <a:pt x="267" y="276"/>
                    </a:lnTo>
                    <a:lnTo>
                      <a:pt x="264" y="278"/>
                    </a:lnTo>
                    <a:lnTo>
                      <a:pt x="257" y="279"/>
                    </a:lnTo>
                    <a:lnTo>
                      <a:pt x="254" y="280"/>
                    </a:lnTo>
                    <a:lnTo>
                      <a:pt x="252" y="281"/>
                    </a:lnTo>
                    <a:lnTo>
                      <a:pt x="248" y="283"/>
                    </a:lnTo>
                    <a:lnTo>
                      <a:pt x="246" y="285"/>
                    </a:lnTo>
                    <a:lnTo>
                      <a:pt x="243" y="287"/>
                    </a:lnTo>
                    <a:lnTo>
                      <a:pt x="237" y="290"/>
                    </a:lnTo>
                    <a:lnTo>
                      <a:pt x="232" y="292"/>
                    </a:lnTo>
                    <a:lnTo>
                      <a:pt x="227" y="294"/>
                    </a:lnTo>
                    <a:lnTo>
                      <a:pt x="213" y="298"/>
                    </a:lnTo>
                    <a:lnTo>
                      <a:pt x="199" y="303"/>
                    </a:lnTo>
                    <a:lnTo>
                      <a:pt x="183" y="307"/>
                    </a:lnTo>
                    <a:lnTo>
                      <a:pt x="177" y="309"/>
                    </a:lnTo>
                    <a:lnTo>
                      <a:pt x="171" y="307"/>
                    </a:lnTo>
                    <a:lnTo>
                      <a:pt x="167" y="304"/>
                    </a:lnTo>
                    <a:lnTo>
                      <a:pt x="165" y="298"/>
                    </a:lnTo>
                    <a:lnTo>
                      <a:pt x="164" y="292"/>
                    </a:lnTo>
                    <a:lnTo>
                      <a:pt x="164" y="287"/>
                    </a:lnTo>
                    <a:lnTo>
                      <a:pt x="164" y="284"/>
                    </a:lnTo>
                    <a:lnTo>
                      <a:pt x="164" y="281"/>
                    </a:lnTo>
                    <a:lnTo>
                      <a:pt x="163" y="279"/>
                    </a:lnTo>
                    <a:lnTo>
                      <a:pt x="160" y="278"/>
                    </a:lnTo>
                    <a:lnTo>
                      <a:pt x="158" y="276"/>
                    </a:lnTo>
                    <a:lnTo>
                      <a:pt x="155" y="276"/>
                    </a:lnTo>
                    <a:lnTo>
                      <a:pt x="151" y="276"/>
                    </a:lnTo>
                    <a:lnTo>
                      <a:pt x="143" y="280"/>
                    </a:lnTo>
                    <a:lnTo>
                      <a:pt x="135" y="280"/>
                    </a:lnTo>
                    <a:lnTo>
                      <a:pt x="129" y="278"/>
                    </a:lnTo>
                    <a:lnTo>
                      <a:pt x="125" y="272"/>
                    </a:lnTo>
                    <a:lnTo>
                      <a:pt x="121" y="269"/>
                    </a:lnTo>
                    <a:lnTo>
                      <a:pt x="116" y="265"/>
                    </a:lnTo>
                    <a:lnTo>
                      <a:pt x="112" y="262"/>
                    </a:lnTo>
                    <a:lnTo>
                      <a:pt x="110" y="256"/>
                    </a:lnTo>
                    <a:lnTo>
                      <a:pt x="113" y="250"/>
                    </a:lnTo>
                    <a:lnTo>
                      <a:pt x="120" y="245"/>
                    </a:lnTo>
                    <a:lnTo>
                      <a:pt x="129" y="241"/>
                    </a:lnTo>
                    <a:lnTo>
                      <a:pt x="139" y="238"/>
                    </a:lnTo>
                    <a:lnTo>
                      <a:pt x="147" y="235"/>
                    </a:lnTo>
                    <a:lnTo>
                      <a:pt x="153" y="234"/>
                    </a:lnTo>
                    <a:lnTo>
                      <a:pt x="166" y="232"/>
                    </a:lnTo>
                    <a:lnTo>
                      <a:pt x="179" y="229"/>
                    </a:lnTo>
                    <a:lnTo>
                      <a:pt x="182" y="229"/>
                    </a:lnTo>
                    <a:lnTo>
                      <a:pt x="186" y="229"/>
                    </a:lnTo>
                    <a:lnTo>
                      <a:pt x="189" y="229"/>
                    </a:lnTo>
                    <a:lnTo>
                      <a:pt x="192" y="228"/>
                    </a:lnTo>
                    <a:lnTo>
                      <a:pt x="194" y="227"/>
                    </a:lnTo>
                    <a:lnTo>
                      <a:pt x="198" y="226"/>
                    </a:lnTo>
                    <a:lnTo>
                      <a:pt x="199" y="224"/>
                    </a:lnTo>
                    <a:lnTo>
                      <a:pt x="199" y="223"/>
                    </a:lnTo>
                    <a:lnTo>
                      <a:pt x="198" y="221"/>
                    </a:lnTo>
                    <a:lnTo>
                      <a:pt x="196" y="220"/>
                    </a:lnTo>
                    <a:lnTo>
                      <a:pt x="193" y="220"/>
                    </a:lnTo>
                    <a:lnTo>
                      <a:pt x="191" y="219"/>
                    </a:lnTo>
                    <a:lnTo>
                      <a:pt x="189" y="219"/>
                    </a:lnTo>
                    <a:lnTo>
                      <a:pt x="187" y="219"/>
                    </a:lnTo>
                    <a:lnTo>
                      <a:pt x="185" y="218"/>
                    </a:lnTo>
                    <a:lnTo>
                      <a:pt x="183" y="218"/>
                    </a:lnTo>
                    <a:lnTo>
                      <a:pt x="169" y="218"/>
                    </a:lnTo>
                    <a:lnTo>
                      <a:pt x="157" y="218"/>
                    </a:lnTo>
                    <a:lnTo>
                      <a:pt x="145" y="220"/>
                    </a:lnTo>
                    <a:lnTo>
                      <a:pt x="136" y="225"/>
                    </a:lnTo>
                    <a:lnTo>
                      <a:pt x="128" y="228"/>
                    </a:lnTo>
                    <a:lnTo>
                      <a:pt x="122" y="229"/>
                    </a:lnTo>
                    <a:lnTo>
                      <a:pt x="116" y="227"/>
                    </a:lnTo>
                    <a:lnTo>
                      <a:pt x="112" y="221"/>
                    </a:lnTo>
                    <a:lnTo>
                      <a:pt x="109" y="215"/>
                    </a:lnTo>
                    <a:lnTo>
                      <a:pt x="107" y="208"/>
                    </a:lnTo>
                    <a:lnTo>
                      <a:pt x="112" y="202"/>
                    </a:lnTo>
                    <a:lnTo>
                      <a:pt x="120" y="197"/>
                    </a:lnTo>
                    <a:lnTo>
                      <a:pt x="128" y="194"/>
                    </a:lnTo>
                    <a:lnTo>
                      <a:pt x="136" y="191"/>
                    </a:lnTo>
                    <a:lnTo>
                      <a:pt x="137" y="191"/>
                    </a:lnTo>
                    <a:lnTo>
                      <a:pt x="138" y="189"/>
                    </a:lnTo>
                    <a:lnTo>
                      <a:pt x="139" y="188"/>
                    </a:lnTo>
                    <a:lnTo>
                      <a:pt x="142" y="187"/>
                    </a:lnTo>
                    <a:lnTo>
                      <a:pt x="143" y="186"/>
                    </a:lnTo>
                    <a:lnTo>
                      <a:pt x="144" y="185"/>
                    </a:lnTo>
                    <a:lnTo>
                      <a:pt x="145" y="184"/>
                    </a:lnTo>
                    <a:lnTo>
                      <a:pt x="145" y="184"/>
                    </a:lnTo>
                    <a:lnTo>
                      <a:pt x="144" y="184"/>
                    </a:lnTo>
                    <a:lnTo>
                      <a:pt x="143" y="184"/>
                    </a:lnTo>
                    <a:lnTo>
                      <a:pt x="138" y="184"/>
                    </a:lnTo>
                    <a:lnTo>
                      <a:pt x="135" y="185"/>
                    </a:lnTo>
                    <a:lnTo>
                      <a:pt x="133" y="186"/>
                    </a:lnTo>
                    <a:lnTo>
                      <a:pt x="129" y="187"/>
                    </a:lnTo>
                    <a:lnTo>
                      <a:pt x="127" y="188"/>
                    </a:lnTo>
                    <a:lnTo>
                      <a:pt x="120" y="189"/>
                    </a:lnTo>
                    <a:lnTo>
                      <a:pt x="112" y="188"/>
                    </a:lnTo>
                    <a:lnTo>
                      <a:pt x="105" y="186"/>
                    </a:lnTo>
                    <a:lnTo>
                      <a:pt x="102" y="180"/>
                    </a:lnTo>
                    <a:lnTo>
                      <a:pt x="103" y="171"/>
                    </a:lnTo>
                    <a:lnTo>
                      <a:pt x="107" y="162"/>
                    </a:lnTo>
                    <a:lnTo>
                      <a:pt x="109" y="162"/>
                    </a:lnTo>
                    <a:lnTo>
                      <a:pt x="110" y="161"/>
                    </a:lnTo>
                    <a:lnTo>
                      <a:pt x="112" y="160"/>
                    </a:lnTo>
                    <a:lnTo>
                      <a:pt x="114" y="159"/>
                    </a:lnTo>
                    <a:lnTo>
                      <a:pt x="116" y="156"/>
                    </a:lnTo>
                    <a:lnTo>
                      <a:pt x="117" y="155"/>
                    </a:lnTo>
                    <a:lnTo>
                      <a:pt x="118" y="154"/>
                    </a:lnTo>
                    <a:lnTo>
                      <a:pt x="120" y="152"/>
                    </a:lnTo>
                    <a:lnTo>
                      <a:pt x="120" y="152"/>
                    </a:lnTo>
                    <a:lnTo>
                      <a:pt x="118" y="151"/>
                    </a:lnTo>
                    <a:lnTo>
                      <a:pt x="116" y="151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3" y="152"/>
                    </a:lnTo>
                    <a:lnTo>
                      <a:pt x="112" y="152"/>
                    </a:lnTo>
                    <a:lnTo>
                      <a:pt x="111" y="151"/>
                    </a:lnTo>
                    <a:lnTo>
                      <a:pt x="111" y="151"/>
                    </a:lnTo>
                    <a:lnTo>
                      <a:pt x="111" y="149"/>
                    </a:lnTo>
                    <a:lnTo>
                      <a:pt x="112" y="148"/>
                    </a:lnTo>
                    <a:lnTo>
                      <a:pt x="114" y="144"/>
                    </a:lnTo>
                    <a:lnTo>
                      <a:pt x="117" y="141"/>
                    </a:lnTo>
                    <a:lnTo>
                      <a:pt x="122" y="138"/>
                    </a:lnTo>
                    <a:lnTo>
                      <a:pt x="127" y="134"/>
                    </a:lnTo>
                    <a:lnTo>
                      <a:pt x="135" y="127"/>
                    </a:lnTo>
                    <a:lnTo>
                      <a:pt x="145" y="119"/>
                    </a:lnTo>
                    <a:lnTo>
                      <a:pt x="155" y="112"/>
                    </a:lnTo>
                    <a:lnTo>
                      <a:pt x="165" y="107"/>
                    </a:lnTo>
                    <a:lnTo>
                      <a:pt x="175" y="99"/>
                    </a:lnTo>
                    <a:lnTo>
                      <a:pt x="177" y="98"/>
                    </a:lnTo>
                    <a:lnTo>
                      <a:pt x="179" y="95"/>
                    </a:lnTo>
                    <a:lnTo>
                      <a:pt x="181" y="93"/>
                    </a:lnTo>
                    <a:lnTo>
                      <a:pt x="183" y="90"/>
                    </a:lnTo>
                    <a:lnTo>
                      <a:pt x="187" y="90"/>
                    </a:lnTo>
                    <a:lnTo>
                      <a:pt x="189" y="90"/>
                    </a:lnTo>
                    <a:lnTo>
                      <a:pt x="190" y="92"/>
                    </a:lnTo>
                    <a:lnTo>
                      <a:pt x="191" y="94"/>
                    </a:lnTo>
                    <a:lnTo>
                      <a:pt x="192" y="95"/>
                    </a:lnTo>
                    <a:lnTo>
                      <a:pt x="192" y="97"/>
                    </a:lnTo>
                    <a:lnTo>
                      <a:pt x="193" y="100"/>
                    </a:lnTo>
                    <a:lnTo>
                      <a:pt x="192" y="101"/>
                    </a:lnTo>
                    <a:lnTo>
                      <a:pt x="191" y="104"/>
                    </a:lnTo>
                    <a:lnTo>
                      <a:pt x="190" y="106"/>
                    </a:lnTo>
                    <a:lnTo>
                      <a:pt x="190" y="108"/>
                    </a:lnTo>
                    <a:lnTo>
                      <a:pt x="188" y="111"/>
                    </a:lnTo>
                    <a:lnTo>
                      <a:pt x="185" y="115"/>
                    </a:lnTo>
                    <a:lnTo>
                      <a:pt x="181" y="118"/>
                    </a:lnTo>
                    <a:lnTo>
                      <a:pt x="177" y="122"/>
                    </a:lnTo>
                    <a:lnTo>
                      <a:pt x="176" y="126"/>
                    </a:lnTo>
                    <a:lnTo>
                      <a:pt x="176" y="128"/>
                    </a:lnTo>
                    <a:lnTo>
                      <a:pt x="179" y="128"/>
                    </a:lnTo>
                    <a:lnTo>
                      <a:pt x="192" y="121"/>
                    </a:lnTo>
                    <a:lnTo>
                      <a:pt x="193" y="118"/>
                    </a:lnTo>
                    <a:lnTo>
                      <a:pt x="194" y="115"/>
                    </a:lnTo>
                    <a:lnTo>
                      <a:pt x="196" y="112"/>
                    </a:lnTo>
                    <a:lnTo>
                      <a:pt x="197" y="110"/>
                    </a:lnTo>
                    <a:lnTo>
                      <a:pt x="201" y="106"/>
                    </a:lnTo>
                    <a:lnTo>
                      <a:pt x="208" y="105"/>
                    </a:lnTo>
                    <a:lnTo>
                      <a:pt x="214" y="105"/>
                    </a:lnTo>
                    <a:lnTo>
                      <a:pt x="219" y="106"/>
                    </a:lnTo>
                    <a:lnTo>
                      <a:pt x="222" y="107"/>
                    </a:lnTo>
                    <a:lnTo>
                      <a:pt x="224" y="109"/>
                    </a:lnTo>
                    <a:lnTo>
                      <a:pt x="225" y="111"/>
                    </a:lnTo>
                    <a:lnTo>
                      <a:pt x="226" y="114"/>
                    </a:lnTo>
                    <a:lnTo>
                      <a:pt x="226" y="117"/>
                    </a:lnTo>
                    <a:lnTo>
                      <a:pt x="225" y="121"/>
                    </a:lnTo>
                    <a:lnTo>
                      <a:pt x="224" y="122"/>
                    </a:lnTo>
                    <a:lnTo>
                      <a:pt x="223" y="125"/>
                    </a:lnTo>
                    <a:lnTo>
                      <a:pt x="223" y="126"/>
                    </a:lnTo>
                    <a:lnTo>
                      <a:pt x="222" y="127"/>
                    </a:lnTo>
                    <a:lnTo>
                      <a:pt x="222" y="128"/>
                    </a:lnTo>
                    <a:lnTo>
                      <a:pt x="222" y="129"/>
                    </a:lnTo>
                    <a:lnTo>
                      <a:pt x="222" y="129"/>
                    </a:lnTo>
                    <a:lnTo>
                      <a:pt x="223" y="129"/>
                    </a:lnTo>
                    <a:lnTo>
                      <a:pt x="225" y="128"/>
                    </a:lnTo>
                    <a:lnTo>
                      <a:pt x="227" y="126"/>
                    </a:lnTo>
                    <a:lnTo>
                      <a:pt x="230" y="122"/>
                    </a:lnTo>
                    <a:lnTo>
                      <a:pt x="233" y="120"/>
                    </a:lnTo>
                    <a:lnTo>
                      <a:pt x="235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2" y="118"/>
                    </a:lnTo>
                    <a:lnTo>
                      <a:pt x="244" y="117"/>
                    </a:lnTo>
                    <a:lnTo>
                      <a:pt x="246" y="116"/>
                    </a:lnTo>
                    <a:lnTo>
                      <a:pt x="247" y="115"/>
                    </a:lnTo>
                    <a:lnTo>
                      <a:pt x="247" y="111"/>
                    </a:lnTo>
                    <a:lnTo>
                      <a:pt x="246" y="109"/>
                    </a:lnTo>
                    <a:lnTo>
                      <a:pt x="245" y="106"/>
                    </a:lnTo>
                    <a:lnTo>
                      <a:pt x="244" y="104"/>
                    </a:lnTo>
                    <a:lnTo>
                      <a:pt x="243" y="100"/>
                    </a:lnTo>
                    <a:lnTo>
                      <a:pt x="243" y="97"/>
                    </a:lnTo>
                    <a:lnTo>
                      <a:pt x="242" y="96"/>
                    </a:lnTo>
                    <a:lnTo>
                      <a:pt x="243" y="96"/>
                    </a:lnTo>
                    <a:lnTo>
                      <a:pt x="245" y="96"/>
                    </a:lnTo>
                    <a:lnTo>
                      <a:pt x="247" y="96"/>
                    </a:lnTo>
                    <a:lnTo>
                      <a:pt x="249" y="96"/>
                    </a:lnTo>
                    <a:lnTo>
                      <a:pt x="252" y="96"/>
                    </a:lnTo>
                    <a:lnTo>
                      <a:pt x="255" y="97"/>
                    </a:lnTo>
                    <a:lnTo>
                      <a:pt x="256" y="97"/>
                    </a:lnTo>
                    <a:lnTo>
                      <a:pt x="257" y="97"/>
                    </a:lnTo>
                    <a:lnTo>
                      <a:pt x="264" y="104"/>
                    </a:lnTo>
                    <a:lnTo>
                      <a:pt x="267" y="112"/>
                    </a:lnTo>
                    <a:lnTo>
                      <a:pt x="268" y="121"/>
                    </a:lnTo>
                    <a:lnTo>
                      <a:pt x="269" y="131"/>
                    </a:lnTo>
                    <a:lnTo>
                      <a:pt x="270" y="141"/>
                    </a:lnTo>
                    <a:lnTo>
                      <a:pt x="270" y="149"/>
                    </a:lnTo>
                    <a:lnTo>
                      <a:pt x="271" y="150"/>
                    </a:lnTo>
                    <a:lnTo>
                      <a:pt x="271" y="151"/>
                    </a:lnTo>
                    <a:lnTo>
                      <a:pt x="273" y="152"/>
                    </a:lnTo>
                    <a:lnTo>
                      <a:pt x="273" y="153"/>
                    </a:lnTo>
                    <a:lnTo>
                      <a:pt x="275" y="153"/>
                    </a:lnTo>
                    <a:lnTo>
                      <a:pt x="277" y="152"/>
                    </a:lnTo>
                    <a:lnTo>
                      <a:pt x="279" y="151"/>
                    </a:lnTo>
                    <a:lnTo>
                      <a:pt x="281" y="149"/>
                    </a:lnTo>
                    <a:lnTo>
                      <a:pt x="284" y="145"/>
                    </a:lnTo>
                    <a:lnTo>
                      <a:pt x="285" y="142"/>
                    </a:lnTo>
                    <a:lnTo>
                      <a:pt x="285" y="140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3" y="130"/>
                    </a:lnTo>
                    <a:lnTo>
                      <a:pt x="283" y="127"/>
                    </a:lnTo>
                    <a:lnTo>
                      <a:pt x="283" y="123"/>
                    </a:lnTo>
                    <a:lnTo>
                      <a:pt x="283" y="120"/>
                    </a:lnTo>
                    <a:lnTo>
                      <a:pt x="281" y="117"/>
                    </a:lnTo>
                    <a:lnTo>
                      <a:pt x="281" y="93"/>
                    </a:lnTo>
                    <a:lnTo>
                      <a:pt x="281" y="92"/>
                    </a:lnTo>
                    <a:lnTo>
                      <a:pt x="281" y="89"/>
                    </a:lnTo>
                    <a:lnTo>
                      <a:pt x="283" y="86"/>
                    </a:lnTo>
                    <a:lnTo>
                      <a:pt x="284" y="84"/>
                    </a:lnTo>
                    <a:lnTo>
                      <a:pt x="286" y="83"/>
                    </a:lnTo>
                    <a:lnTo>
                      <a:pt x="289" y="82"/>
                    </a:lnTo>
                    <a:lnTo>
                      <a:pt x="292" y="82"/>
                    </a:lnTo>
                    <a:lnTo>
                      <a:pt x="294" y="82"/>
                    </a:lnTo>
                    <a:lnTo>
                      <a:pt x="296" y="83"/>
                    </a:lnTo>
                    <a:lnTo>
                      <a:pt x="297" y="85"/>
                    </a:lnTo>
                    <a:lnTo>
                      <a:pt x="300" y="85"/>
                    </a:lnTo>
                    <a:lnTo>
                      <a:pt x="302" y="86"/>
                    </a:lnTo>
                    <a:lnTo>
                      <a:pt x="306" y="86"/>
                    </a:lnTo>
                    <a:lnTo>
                      <a:pt x="309" y="86"/>
                    </a:lnTo>
                    <a:lnTo>
                      <a:pt x="312" y="87"/>
                    </a:lnTo>
                    <a:lnTo>
                      <a:pt x="314" y="88"/>
                    </a:lnTo>
                    <a:lnTo>
                      <a:pt x="316" y="89"/>
                    </a:lnTo>
                    <a:lnTo>
                      <a:pt x="317" y="92"/>
                    </a:lnTo>
                    <a:lnTo>
                      <a:pt x="318" y="94"/>
                    </a:lnTo>
                    <a:lnTo>
                      <a:pt x="319" y="95"/>
                    </a:lnTo>
                    <a:lnTo>
                      <a:pt x="321" y="95"/>
                    </a:lnTo>
                    <a:lnTo>
                      <a:pt x="323" y="95"/>
                    </a:lnTo>
                    <a:lnTo>
                      <a:pt x="324" y="94"/>
                    </a:lnTo>
                    <a:lnTo>
                      <a:pt x="324" y="92"/>
                    </a:lnTo>
                    <a:lnTo>
                      <a:pt x="324" y="89"/>
                    </a:lnTo>
                    <a:lnTo>
                      <a:pt x="324" y="87"/>
                    </a:lnTo>
                    <a:lnTo>
                      <a:pt x="323" y="85"/>
                    </a:lnTo>
                    <a:lnTo>
                      <a:pt x="323" y="84"/>
                    </a:lnTo>
                    <a:lnTo>
                      <a:pt x="323" y="83"/>
                    </a:lnTo>
                    <a:lnTo>
                      <a:pt x="321" y="79"/>
                    </a:lnTo>
                    <a:lnTo>
                      <a:pt x="319" y="77"/>
                    </a:lnTo>
                    <a:lnTo>
                      <a:pt x="316" y="75"/>
                    </a:lnTo>
                    <a:lnTo>
                      <a:pt x="312" y="74"/>
                    </a:lnTo>
                    <a:lnTo>
                      <a:pt x="311" y="73"/>
                    </a:lnTo>
                    <a:lnTo>
                      <a:pt x="309" y="72"/>
                    </a:lnTo>
                    <a:lnTo>
                      <a:pt x="307" y="72"/>
                    </a:lnTo>
                    <a:lnTo>
                      <a:pt x="306" y="71"/>
                    </a:lnTo>
                    <a:lnTo>
                      <a:pt x="306" y="69"/>
                    </a:lnTo>
                    <a:lnTo>
                      <a:pt x="306" y="67"/>
                    </a:lnTo>
                    <a:lnTo>
                      <a:pt x="307" y="65"/>
                    </a:lnTo>
                    <a:lnTo>
                      <a:pt x="309" y="62"/>
                    </a:lnTo>
                    <a:lnTo>
                      <a:pt x="310" y="61"/>
                    </a:lnTo>
                    <a:lnTo>
                      <a:pt x="313" y="58"/>
                    </a:lnTo>
                    <a:lnTo>
                      <a:pt x="317" y="58"/>
                    </a:lnTo>
                    <a:lnTo>
                      <a:pt x="324" y="56"/>
                    </a:lnTo>
                    <a:lnTo>
                      <a:pt x="333" y="55"/>
                    </a:lnTo>
                    <a:close/>
                    <a:moveTo>
                      <a:pt x="2026" y="54"/>
                    </a:moveTo>
                    <a:lnTo>
                      <a:pt x="2034" y="58"/>
                    </a:lnTo>
                    <a:lnTo>
                      <a:pt x="2034" y="60"/>
                    </a:lnTo>
                    <a:lnTo>
                      <a:pt x="2034" y="61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1"/>
                    </a:lnTo>
                    <a:lnTo>
                      <a:pt x="2031" y="58"/>
                    </a:lnTo>
                    <a:lnTo>
                      <a:pt x="2029" y="57"/>
                    </a:lnTo>
                    <a:lnTo>
                      <a:pt x="2027" y="56"/>
                    </a:lnTo>
                    <a:lnTo>
                      <a:pt x="2026" y="54"/>
                    </a:lnTo>
                    <a:close/>
                    <a:moveTo>
                      <a:pt x="92" y="50"/>
                    </a:moveTo>
                    <a:lnTo>
                      <a:pt x="93" y="50"/>
                    </a:lnTo>
                    <a:lnTo>
                      <a:pt x="95" y="51"/>
                    </a:lnTo>
                    <a:lnTo>
                      <a:pt x="95" y="53"/>
                    </a:lnTo>
                    <a:lnTo>
                      <a:pt x="96" y="55"/>
                    </a:lnTo>
                    <a:lnTo>
                      <a:pt x="98" y="57"/>
                    </a:lnTo>
                    <a:lnTo>
                      <a:pt x="99" y="58"/>
                    </a:lnTo>
                    <a:lnTo>
                      <a:pt x="101" y="60"/>
                    </a:lnTo>
                    <a:lnTo>
                      <a:pt x="104" y="61"/>
                    </a:lnTo>
                    <a:lnTo>
                      <a:pt x="106" y="62"/>
                    </a:lnTo>
                    <a:lnTo>
                      <a:pt x="110" y="63"/>
                    </a:lnTo>
                    <a:lnTo>
                      <a:pt x="113" y="64"/>
                    </a:lnTo>
                    <a:lnTo>
                      <a:pt x="115" y="66"/>
                    </a:lnTo>
                    <a:lnTo>
                      <a:pt x="117" y="67"/>
                    </a:lnTo>
                    <a:lnTo>
                      <a:pt x="121" y="67"/>
                    </a:lnTo>
                    <a:lnTo>
                      <a:pt x="123" y="67"/>
                    </a:lnTo>
                    <a:lnTo>
                      <a:pt x="125" y="65"/>
                    </a:lnTo>
                    <a:lnTo>
                      <a:pt x="127" y="64"/>
                    </a:lnTo>
                    <a:lnTo>
                      <a:pt x="128" y="62"/>
                    </a:lnTo>
                    <a:lnTo>
                      <a:pt x="129" y="61"/>
                    </a:lnTo>
                    <a:lnTo>
                      <a:pt x="137" y="55"/>
                    </a:lnTo>
                    <a:lnTo>
                      <a:pt x="145" y="55"/>
                    </a:lnTo>
                    <a:lnTo>
                      <a:pt x="151" y="58"/>
                    </a:lnTo>
                    <a:lnTo>
                      <a:pt x="157" y="63"/>
                    </a:lnTo>
                    <a:lnTo>
                      <a:pt x="161" y="68"/>
                    </a:lnTo>
                    <a:lnTo>
                      <a:pt x="164" y="72"/>
                    </a:lnTo>
                    <a:lnTo>
                      <a:pt x="166" y="74"/>
                    </a:lnTo>
                    <a:lnTo>
                      <a:pt x="168" y="77"/>
                    </a:lnTo>
                    <a:lnTo>
                      <a:pt x="170" y="79"/>
                    </a:lnTo>
                    <a:lnTo>
                      <a:pt x="171" y="83"/>
                    </a:lnTo>
                    <a:lnTo>
                      <a:pt x="170" y="85"/>
                    </a:lnTo>
                    <a:lnTo>
                      <a:pt x="169" y="88"/>
                    </a:lnTo>
                    <a:lnTo>
                      <a:pt x="166" y="92"/>
                    </a:lnTo>
                    <a:lnTo>
                      <a:pt x="164" y="94"/>
                    </a:lnTo>
                    <a:lnTo>
                      <a:pt x="160" y="96"/>
                    </a:lnTo>
                    <a:lnTo>
                      <a:pt x="157" y="98"/>
                    </a:lnTo>
                    <a:lnTo>
                      <a:pt x="146" y="104"/>
                    </a:lnTo>
                    <a:lnTo>
                      <a:pt x="137" y="109"/>
                    </a:lnTo>
                    <a:lnTo>
                      <a:pt x="134" y="111"/>
                    </a:lnTo>
                    <a:lnTo>
                      <a:pt x="132" y="115"/>
                    </a:lnTo>
                    <a:lnTo>
                      <a:pt x="129" y="118"/>
                    </a:lnTo>
                    <a:lnTo>
                      <a:pt x="127" y="121"/>
                    </a:lnTo>
                    <a:lnTo>
                      <a:pt x="123" y="123"/>
                    </a:lnTo>
                    <a:lnTo>
                      <a:pt x="118" y="126"/>
                    </a:lnTo>
                    <a:lnTo>
                      <a:pt x="115" y="129"/>
                    </a:lnTo>
                    <a:lnTo>
                      <a:pt x="112" y="132"/>
                    </a:lnTo>
                    <a:lnTo>
                      <a:pt x="109" y="136"/>
                    </a:lnTo>
                    <a:lnTo>
                      <a:pt x="106" y="140"/>
                    </a:lnTo>
                    <a:lnTo>
                      <a:pt x="104" y="144"/>
                    </a:lnTo>
                    <a:lnTo>
                      <a:pt x="101" y="148"/>
                    </a:lnTo>
                    <a:lnTo>
                      <a:pt x="99" y="151"/>
                    </a:lnTo>
                    <a:lnTo>
                      <a:pt x="95" y="153"/>
                    </a:lnTo>
                    <a:lnTo>
                      <a:pt x="93" y="155"/>
                    </a:lnTo>
                    <a:lnTo>
                      <a:pt x="90" y="156"/>
                    </a:lnTo>
                    <a:lnTo>
                      <a:pt x="83" y="163"/>
                    </a:lnTo>
                    <a:lnTo>
                      <a:pt x="80" y="172"/>
                    </a:lnTo>
                    <a:lnTo>
                      <a:pt x="78" y="181"/>
                    </a:lnTo>
                    <a:lnTo>
                      <a:pt x="76" y="191"/>
                    </a:lnTo>
                    <a:lnTo>
                      <a:pt x="70" y="198"/>
                    </a:lnTo>
                    <a:lnTo>
                      <a:pt x="63" y="203"/>
                    </a:lnTo>
                    <a:lnTo>
                      <a:pt x="57" y="206"/>
                    </a:lnTo>
                    <a:lnTo>
                      <a:pt x="49" y="210"/>
                    </a:lnTo>
                    <a:lnTo>
                      <a:pt x="40" y="218"/>
                    </a:lnTo>
                    <a:lnTo>
                      <a:pt x="33" y="228"/>
                    </a:lnTo>
                    <a:lnTo>
                      <a:pt x="30" y="228"/>
                    </a:lnTo>
                    <a:lnTo>
                      <a:pt x="28" y="228"/>
                    </a:lnTo>
                    <a:lnTo>
                      <a:pt x="27" y="227"/>
                    </a:lnTo>
                    <a:lnTo>
                      <a:pt x="27" y="226"/>
                    </a:lnTo>
                    <a:lnTo>
                      <a:pt x="26" y="224"/>
                    </a:lnTo>
                    <a:lnTo>
                      <a:pt x="26" y="223"/>
                    </a:lnTo>
                    <a:lnTo>
                      <a:pt x="26" y="221"/>
                    </a:lnTo>
                    <a:lnTo>
                      <a:pt x="25" y="217"/>
                    </a:lnTo>
                    <a:lnTo>
                      <a:pt x="24" y="213"/>
                    </a:lnTo>
                    <a:lnTo>
                      <a:pt x="22" y="208"/>
                    </a:lnTo>
                    <a:lnTo>
                      <a:pt x="17" y="203"/>
                    </a:lnTo>
                    <a:lnTo>
                      <a:pt x="14" y="197"/>
                    </a:lnTo>
                    <a:lnTo>
                      <a:pt x="11" y="193"/>
                    </a:lnTo>
                    <a:lnTo>
                      <a:pt x="4" y="191"/>
                    </a:lnTo>
                    <a:lnTo>
                      <a:pt x="2" y="189"/>
                    </a:lnTo>
                    <a:lnTo>
                      <a:pt x="1" y="188"/>
                    </a:lnTo>
                    <a:lnTo>
                      <a:pt x="0" y="187"/>
                    </a:lnTo>
                    <a:lnTo>
                      <a:pt x="1" y="185"/>
                    </a:lnTo>
                    <a:lnTo>
                      <a:pt x="2" y="183"/>
                    </a:lnTo>
                    <a:lnTo>
                      <a:pt x="3" y="181"/>
                    </a:lnTo>
                    <a:lnTo>
                      <a:pt x="4" y="178"/>
                    </a:lnTo>
                    <a:lnTo>
                      <a:pt x="6" y="176"/>
                    </a:lnTo>
                    <a:lnTo>
                      <a:pt x="13" y="166"/>
                    </a:lnTo>
                    <a:lnTo>
                      <a:pt x="17" y="154"/>
                    </a:lnTo>
                    <a:lnTo>
                      <a:pt x="24" y="141"/>
                    </a:lnTo>
                    <a:lnTo>
                      <a:pt x="26" y="128"/>
                    </a:lnTo>
                    <a:lnTo>
                      <a:pt x="26" y="121"/>
                    </a:lnTo>
                    <a:lnTo>
                      <a:pt x="26" y="114"/>
                    </a:lnTo>
                    <a:lnTo>
                      <a:pt x="28" y="105"/>
                    </a:lnTo>
                    <a:lnTo>
                      <a:pt x="29" y="106"/>
                    </a:lnTo>
                    <a:lnTo>
                      <a:pt x="32" y="107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6" y="110"/>
                    </a:lnTo>
                    <a:lnTo>
                      <a:pt x="37" y="109"/>
                    </a:lnTo>
                    <a:lnTo>
                      <a:pt x="40" y="107"/>
                    </a:lnTo>
                    <a:lnTo>
                      <a:pt x="41" y="104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5" y="96"/>
                    </a:lnTo>
                    <a:lnTo>
                      <a:pt x="43" y="95"/>
                    </a:lnTo>
                    <a:lnTo>
                      <a:pt x="41" y="94"/>
                    </a:lnTo>
                    <a:lnTo>
                      <a:pt x="40" y="93"/>
                    </a:lnTo>
                    <a:lnTo>
                      <a:pt x="38" y="90"/>
                    </a:lnTo>
                    <a:lnTo>
                      <a:pt x="37" y="89"/>
                    </a:lnTo>
                    <a:lnTo>
                      <a:pt x="37" y="87"/>
                    </a:lnTo>
                    <a:lnTo>
                      <a:pt x="37" y="85"/>
                    </a:lnTo>
                    <a:lnTo>
                      <a:pt x="38" y="83"/>
                    </a:lnTo>
                    <a:lnTo>
                      <a:pt x="39" y="80"/>
                    </a:lnTo>
                    <a:lnTo>
                      <a:pt x="39" y="78"/>
                    </a:lnTo>
                    <a:lnTo>
                      <a:pt x="40" y="76"/>
                    </a:lnTo>
                    <a:lnTo>
                      <a:pt x="41" y="74"/>
                    </a:lnTo>
                    <a:lnTo>
                      <a:pt x="46" y="72"/>
                    </a:lnTo>
                    <a:lnTo>
                      <a:pt x="49" y="69"/>
                    </a:lnTo>
                    <a:lnTo>
                      <a:pt x="54" y="67"/>
                    </a:lnTo>
                    <a:lnTo>
                      <a:pt x="67" y="61"/>
                    </a:lnTo>
                    <a:lnTo>
                      <a:pt x="69" y="61"/>
                    </a:lnTo>
                    <a:lnTo>
                      <a:pt x="71" y="61"/>
                    </a:lnTo>
                    <a:lnTo>
                      <a:pt x="74" y="60"/>
                    </a:lnTo>
                    <a:lnTo>
                      <a:pt x="78" y="58"/>
                    </a:lnTo>
                    <a:lnTo>
                      <a:pt x="80" y="56"/>
                    </a:lnTo>
                    <a:lnTo>
                      <a:pt x="82" y="53"/>
                    </a:lnTo>
                    <a:lnTo>
                      <a:pt x="85" y="51"/>
                    </a:lnTo>
                    <a:lnTo>
                      <a:pt x="89" y="50"/>
                    </a:lnTo>
                    <a:lnTo>
                      <a:pt x="92" y="50"/>
                    </a:lnTo>
                    <a:close/>
                    <a:moveTo>
                      <a:pt x="1994" y="46"/>
                    </a:moveTo>
                    <a:lnTo>
                      <a:pt x="1997" y="46"/>
                    </a:lnTo>
                    <a:lnTo>
                      <a:pt x="1998" y="49"/>
                    </a:lnTo>
                    <a:lnTo>
                      <a:pt x="1999" y="51"/>
                    </a:lnTo>
                    <a:lnTo>
                      <a:pt x="2000" y="54"/>
                    </a:lnTo>
                    <a:lnTo>
                      <a:pt x="2001" y="57"/>
                    </a:lnTo>
                    <a:lnTo>
                      <a:pt x="2002" y="60"/>
                    </a:lnTo>
                    <a:lnTo>
                      <a:pt x="2002" y="62"/>
                    </a:lnTo>
                    <a:lnTo>
                      <a:pt x="2001" y="63"/>
                    </a:lnTo>
                    <a:lnTo>
                      <a:pt x="2001" y="64"/>
                    </a:lnTo>
                    <a:lnTo>
                      <a:pt x="2002" y="66"/>
                    </a:lnTo>
                    <a:lnTo>
                      <a:pt x="2004" y="67"/>
                    </a:lnTo>
                    <a:lnTo>
                      <a:pt x="2004" y="67"/>
                    </a:lnTo>
                    <a:lnTo>
                      <a:pt x="2005" y="67"/>
                    </a:lnTo>
                    <a:lnTo>
                      <a:pt x="2008" y="68"/>
                    </a:lnTo>
                    <a:lnTo>
                      <a:pt x="2009" y="69"/>
                    </a:lnTo>
                    <a:lnTo>
                      <a:pt x="2010" y="72"/>
                    </a:lnTo>
                    <a:lnTo>
                      <a:pt x="2011" y="74"/>
                    </a:lnTo>
                    <a:lnTo>
                      <a:pt x="2012" y="76"/>
                    </a:lnTo>
                    <a:lnTo>
                      <a:pt x="2012" y="77"/>
                    </a:lnTo>
                    <a:lnTo>
                      <a:pt x="2011" y="78"/>
                    </a:lnTo>
                    <a:lnTo>
                      <a:pt x="2011" y="79"/>
                    </a:lnTo>
                    <a:lnTo>
                      <a:pt x="2011" y="82"/>
                    </a:lnTo>
                    <a:lnTo>
                      <a:pt x="2012" y="84"/>
                    </a:lnTo>
                    <a:lnTo>
                      <a:pt x="2013" y="86"/>
                    </a:lnTo>
                    <a:lnTo>
                      <a:pt x="2015" y="87"/>
                    </a:lnTo>
                    <a:lnTo>
                      <a:pt x="2019" y="89"/>
                    </a:lnTo>
                    <a:lnTo>
                      <a:pt x="2021" y="92"/>
                    </a:lnTo>
                    <a:lnTo>
                      <a:pt x="2023" y="94"/>
                    </a:lnTo>
                    <a:lnTo>
                      <a:pt x="2025" y="96"/>
                    </a:lnTo>
                    <a:lnTo>
                      <a:pt x="2025" y="98"/>
                    </a:lnTo>
                    <a:lnTo>
                      <a:pt x="2024" y="100"/>
                    </a:lnTo>
                    <a:lnTo>
                      <a:pt x="2024" y="101"/>
                    </a:lnTo>
                    <a:lnTo>
                      <a:pt x="2023" y="103"/>
                    </a:lnTo>
                    <a:lnTo>
                      <a:pt x="2023" y="104"/>
                    </a:lnTo>
                    <a:lnTo>
                      <a:pt x="2023" y="105"/>
                    </a:lnTo>
                    <a:lnTo>
                      <a:pt x="2022" y="106"/>
                    </a:lnTo>
                    <a:lnTo>
                      <a:pt x="2022" y="108"/>
                    </a:lnTo>
                    <a:lnTo>
                      <a:pt x="2023" y="109"/>
                    </a:lnTo>
                    <a:lnTo>
                      <a:pt x="2023" y="111"/>
                    </a:lnTo>
                    <a:lnTo>
                      <a:pt x="2023" y="117"/>
                    </a:lnTo>
                    <a:lnTo>
                      <a:pt x="2022" y="118"/>
                    </a:lnTo>
                    <a:lnTo>
                      <a:pt x="2022" y="118"/>
                    </a:lnTo>
                    <a:lnTo>
                      <a:pt x="2021" y="118"/>
                    </a:lnTo>
                    <a:lnTo>
                      <a:pt x="2020" y="117"/>
                    </a:lnTo>
                    <a:lnTo>
                      <a:pt x="2019" y="115"/>
                    </a:lnTo>
                    <a:lnTo>
                      <a:pt x="2017" y="112"/>
                    </a:lnTo>
                    <a:lnTo>
                      <a:pt x="2016" y="110"/>
                    </a:lnTo>
                    <a:lnTo>
                      <a:pt x="2015" y="108"/>
                    </a:lnTo>
                    <a:lnTo>
                      <a:pt x="2014" y="105"/>
                    </a:lnTo>
                    <a:lnTo>
                      <a:pt x="2012" y="103"/>
                    </a:lnTo>
                    <a:lnTo>
                      <a:pt x="2010" y="103"/>
                    </a:lnTo>
                    <a:lnTo>
                      <a:pt x="2009" y="103"/>
                    </a:lnTo>
                    <a:lnTo>
                      <a:pt x="2008" y="100"/>
                    </a:lnTo>
                    <a:lnTo>
                      <a:pt x="2006" y="98"/>
                    </a:lnTo>
                    <a:lnTo>
                      <a:pt x="2004" y="97"/>
                    </a:lnTo>
                    <a:lnTo>
                      <a:pt x="2003" y="95"/>
                    </a:lnTo>
                    <a:lnTo>
                      <a:pt x="2003" y="92"/>
                    </a:lnTo>
                    <a:lnTo>
                      <a:pt x="2002" y="89"/>
                    </a:lnTo>
                    <a:lnTo>
                      <a:pt x="2002" y="88"/>
                    </a:lnTo>
                    <a:lnTo>
                      <a:pt x="2002" y="85"/>
                    </a:lnTo>
                    <a:lnTo>
                      <a:pt x="2002" y="83"/>
                    </a:lnTo>
                    <a:lnTo>
                      <a:pt x="2002" y="79"/>
                    </a:lnTo>
                    <a:lnTo>
                      <a:pt x="2001" y="77"/>
                    </a:lnTo>
                    <a:lnTo>
                      <a:pt x="1999" y="74"/>
                    </a:lnTo>
                    <a:lnTo>
                      <a:pt x="1998" y="71"/>
                    </a:lnTo>
                    <a:lnTo>
                      <a:pt x="1998" y="68"/>
                    </a:lnTo>
                    <a:lnTo>
                      <a:pt x="1997" y="67"/>
                    </a:lnTo>
                    <a:lnTo>
                      <a:pt x="1997" y="65"/>
                    </a:lnTo>
                    <a:lnTo>
                      <a:pt x="1998" y="65"/>
                    </a:lnTo>
                    <a:lnTo>
                      <a:pt x="1998" y="64"/>
                    </a:lnTo>
                    <a:lnTo>
                      <a:pt x="1998" y="63"/>
                    </a:lnTo>
                    <a:lnTo>
                      <a:pt x="1997" y="62"/>
                    </a:lnTo>
                    <a:lnTo>
                      <a:pt x="1995" y="60"/>
                    </a:lnTo>
                    <a:lnTo>
                      <a:pt x="1994" y="57"/>
                    </a:lnTo>
                    <a:lnTo>
                      <a:pt x="1992" y="56"/>
                    </a:lnTo>
                    <a:lnTo>
                      <a:pt x="1991" y="55"/>
                    </a:lnTo>
                    <a:lnTo>
                      <a:pt x="1990" y="53"/>
                    </a:lnTo>
                    <a:lnTo>
                      <a:pt x="1990" y="51"/>
                    </a:lnTo>
                    <a:lnTo>
                      <a:pt x="1991" y="50"/>
                    </a:lnTo>
                    <a:lnTo>
                      <a:pt x="1992" y="49"/>
                    </a:lnTo>
                    <a:lnTo>
                      <a:pt x="1993" y="47"/>
                    </a:lnTo>
                    <a:lnTo>
                      <a:pt x="1993" y="47"/>
                    </a:lnTo>
                    <a:lnTo>
                      <a:pt x="1994" y="46"/>
                    </a:lnTo>
                    <a:close/>
                    <a:moveTo>
                      <a:pt x="2166" y="45"/>
                    </a:moveTo>
                    <a:lnTo>
                      <a:pt x="2167" y="45"/>
                    </a:lnTo>
                    <a:lnTo>
                      <a:pt x="2168" y="46"/>
                    </a:lnTo>
                    <a:lnTo>
                      <a:pt x="2171" y="46"/>
                    </a:lnTo>
                    <a:lnTo>
                      <a:pt x="2173" y="47"/>
                    </a:lnTo>
                    <a:lnTo>
                      <a:pt x="2176" y="49"/>
                    </a:lnTo>
                    <a:lnTo>
                      <a:pt x="2178" y="49"/>
                    </a:lnTo>
                    <a:lnTo>
                      <a:pt x="2182" y="50"/>
                    </a:lnTo>
                    <a:lnTo>
                      <a:pt x="2184" y="51"/>
                    </a:lnTo>
                    <a:lnTo>
                      <a:pt x="2184" y="52"/>
                    </a:lnTo>
                    <a:lnTo>
                      <a:pt x="2184" y="52"/>
                    </a:lnTo>
                    <a:lnTo>
                      <a:pt x="2182" y="53"/>
                    </a:lnTo>
                    <a:lnTo>
                      <a:pt x="2179" y="53"/>
                    </a:lnTo>
                    <a:lnTo>
                      <a:pt x="2177" y="52"/>
                    </a:lnTo>
                    <a:lnTo>
                      <a:pt x="2175" y="52"/>
                    </a:lnTo>
                    <a:lnTo>
                      <a:pt x="2174" y="52"/>
                    </a:lnTo>
                    <a:lnTo>
                      <a:pt x="2173" y="52"/>
                    </a:lnTo>
                    <a:lnTo>
                      <a:pt x="2169" y="51"/>
                    </a:lnTo>
                    <a:lnTo>
                      <a:pt x="2167" y="50"/>
                    </a:lnTo>
                    <a:lnTo>
                      <a:pt x="2166" y="49"/>
                    </a:lnTo>
                    <a:lnTo>
                      <a:pt x="2166" y="47"/>
                    </a:lnTo>
                    <a:lnTo>
                      <a:pt x="2166" y="46"/>
                    </a:lnTo>
                    <a:lnTo>
                      <a:pt x="2166" y="45"/>
                    </a:lnTo>
                    <a:close/>
                    <a:moveTo>
                      <a:pt x="2158" y="45"/>
                    </a:moveTo>
                    <a:lnTo>
                      <a:pt x="2160" y="45"/>
                    </a:lnTo>
                    <a:lnTo>
                      <a:pt x="2162" y="46"/>
                    </a:lnTo>
                    <a:lnTo>
                      <a:pt x="2162" y="49"/>
                    </a:lnTo>
                    <a:lnTo>
                      <a:pt x="2162" y="50"/>
                    </a:lnTo>
                    <a:lnTo>
                      <a:pt x="2163" y="51"/>
                    </a:lnTo>
                    <a:lnTo>
                      <a:pt x="2164" y="53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3"/>
                    </a:lnTo>
                    <a:lnTo>
                      <a:pt x="2168" y="53"/>
                    </a:lnTo>
                    <a:lnTo>
                      <a:pt x="2169" y="54"/>
                    </a:lnTo>
                    <a:lnTo>
                      <a:pt x="2169" y="56"/>
                    </a:lnTo>
                    <a:lnTo>
                      <a:pt x="2172" y="57"/>
                    </a:lnTo>
                    <a:lnTo>
                      <a:pt x="2173" y="60"/>
                    </a:lnTo>
                    <a:lnTo>
                      <a:pt x="2175" y="62"/>
                    </a:lnTo>
                    <a:lnTo>
                      <a:pt x="2175" y="63"/>
                    </a:lnTo>
                    <a:lnTo>
                      <a:pt x="2173" y="63"/>
                    </a:lnTo>
                    <a:lnTo>
                      <a:pt x="2169" y="62"/>
                    </a:lnTo>
                    <a:lnTo>
                      <a:pt x="2167" y="60"/>
                    </a:lnTo>
                    <a:lnTo>
                      <a:pt x="2165" y="58"/>
                    </a:lnTo>
                    <a:lnTo>
                      <a:pt x="2163" y="56"/>
                    </a:lnTo>
                    <a:lnTo>
                      <a:pt x="2161" y="55"/>
                    </a:lnTo>
                    <a:lnTo>
                      <a:pt x="2160" y="54"/>
                    </a:lnTo>
                    <a:lnTo>
                      <a:pt x="2158" y="54"/>
                    </a:lnTo>
                    <a:lnTo>
                      <a:pt x="2157" y="54"/>
                    </a:lnTo>
                    <a:lnTo>
                      <a:pt x="2157" y="53"/>
                    </a:lnTo>
                    <a:lnTo>
                      <a:pt x="2156" y="52"/>
                    </a:lnTo>
                    <a:lnTo>
                      <a:pt x="2156" y="46"/>
                    </a:lnTo>
                    <a:lnTo>
                      <a:pt x="2157" y="45"/>
                    </a:lnTo>
                    <a:lnTo>
                      <a:pt x="2158" y="45"/>
                    </a:lnTo>
                    <a:close/>
                    <a:moveTo>
                      <a:pt x="465" y="29"/>
                    </a:moveTo>
                    <a:lnTo>
                      <a:pt x="472" y="29"/>
                    </a:lnTo>
                    <a:lnTo>
                      <a:pt x="475" y="31"/>
                    </a:lnTo>
                    <a:lnTo>
                      <a:pt x="477" y="33"/>
                    </a:lnTo>
                    <a:lnTo>
                      <a:pt x="477" y="36"/>
                    </a:lnTo>
                    <a:lnTo>
                      <a:pt x="476" y="40"/>
                    </a:lnTo>
                    <a:lnTo>
                      <a:pt x="474" y="43"/>
                    </a:lnTo>
                    <a:lnTo>
                      <a:pt x="469" y="49"/>
                    </a:lnTo>
                    <a:lnTo>
                      <a:pt x="462" y="54"/>
                    </a:lnTo>
                    <a:lnTo>
                      <a:pt x="456" y="60"/>
                    </a:lnTo>
                    <a:lnTo>
                      <a:pt x="454" y="65"/>
                    </a:lnTo>
                    <a:lnTo>
                      <a:pt x="458" y="71"/>
                    </a:lnTo>
                    <a:lnTo>
                      <a:pt x="461" y="71"/>
                    </a:lnTo>
                    <a:lnTo>
                      <a:pt x="466" y="69"/>
                    </a:lnTo>
                    <a:lnTo>
                      <a:pt x="471" y="67"/>
                    </a:lnTo>
                    <a:lnTo>
                      <a:pt x="474" y="66"/>
                    </a:lnTo>
                    <a:lnTo>
                      <a:pt x="476" y="71"/>
                    </a:lnTo>
                    <a:lnTo>
                      <a:pt x="476" y="75"/>
                    </a:lnTo>
                    <a:lnTo>
                      <a:pt x="475" y="79"/>
                    </a:lnTo>
                    <a:lnTo>
                      <a:pt x="474" y="84"/>
                    </a:lnTo>
                    <a:lnTo>
                      <a:pt x="474" y="86"/>
                    </a:lnTo>
                    <a:lnTo>
                      <a:pt x="474" y="88"/>
                    </a:lnTo>
                    <a:lnTo>
                      <a:pt x="474" y="90"/>
                    </a:lnTo>
                    <a:lnTo>
                      <a:pt x="475" y="93"/>
                    </a:lnTo>
                    <a:lnTo>
                      <a:pt x="476" y="95"/>
                    </a:lnTo>
                    <a:lnTo>
                      <a:pt x="478" y="100"/>
                    </a:lnTo>
                    <a:lnTo>
                      <a:pt x="478" y="108"/>
                    </a:lnTo>
                    <a:lnTo>
                      <a:pt x="476" y="115"/>
                    </a:lnTo>
                    <a:lnTo>
                      <a:pt x="473" y="122"/>
                    </a:lnTo>
                    <a:lnTo>
                      <a:pt x="465" y="130"/>
                    </a:lnTo>
                    <a:lnTo>
                      <a:pt x="458" y="137"/>
                    </a:lnTo>
                    <a:lnTo>
                      <a:pt x="454" y="137"/>
                    </a:lnTo>
                    <a:lnTo>
                      <a:pt x="452" y="137"/>
                    </a:lnTo>
                    <a:lnTo>
                      <a:pt x="450" y="138"/>
                    </a:lnTo>
                    <a:lnTo>
                      <a:pt x="448" y="139"/>
                    </a:lnTo>
                    <a:lnTo>
                      <a:pt x="447" y="141"/>
                    </a:lnTo>
                    <a:lnTo>
                      <a:pt x="445" y="143"/>
                    </a:lnTo>
                    <a:lnTo>
                      <a:pt x="444" y="145"/>
                    </a:lnTo>
                    <a:lnTo>
                      <a:pt x="444" y="148"/>
                    </a:lnTo>
                    <a:lnTo>
                      <a:pt x="441" y="151"/>
                    </a:lnTo>
                    <a:lnTo>
                      <a:pt x="438" y="153"/>
                    </a:lnTo>
                    <a:lnTo>
                      <a:pt x="434" y="154"/>
                    </a:lnTo>
                    <a:lnTo>
                      <a:pt x="430" y="153"/>
                    </a:lnTo>
                    <a:lnTo>
                      <a:pt x="427" y="152"/>
                    </a:lnTo>
                    <a:lnTo>
                      <a:pt x="423" y="149"/>
                    </a:lnTo>
                    <a:lnTo>
                      <a:pt x="421" y="147"/>
                    </a:lnTo>
                    <a:lnTo>
                      <a:pt x="420" y="143"/>
                    </a:lnTo>
                    <a:lnTo>
                      <a:pt x="418" y="140"/>
                    </a:lnTo>
                    <a:lnTo>
                      <a:pt x="416" y="137"/>
                    </a:lnTo>
                    <a:lnTo>
                      <a:pt x="414" y="133"/>
                    </a:lnTo>
                    <a:lnTo>
                      <a:pt x="411" y="130"/>
                    </a:lnTo>
                    <a:lnTo>
                      <a:pt x="408" y="128"/>
                    </a:lnTo>
                    <a:lnTo>
                      <a:pt x="404" y="127"/>
                    </a:lnTo>
                    <a:lnTo>
                      <a:pt x="398" y="126"/>
                    </a:lnTo>
                    <a:lnTo>
                      <a:pt x="396" y="123"/>
                    </a:lnTo>
                    <a:lnTo>
                      <a:pt x="394" y="121"/>
                    </a:lnTo>
                    <a:lnTo>
                      <a:pt x="393" y="119"/>
                    </a:lnTo>
                    <a:lnTo>
                      <a:pt x="391" y="117"/>
                    </a:lnTo>
                    <a:lnTo>
                      <a:pt x="390" y="115"/>
                    </a:lnTo>
                    <a:lnTo>
                      <a:pt x="388" y="112"/>
                    </a:lnTo>
                    <a:lnTo>
                      <a:pt x="387" y="111"/>
                    </a:lnTo>
                    <a:lnTo>
                      <a:pt x="385" y="110"/>
                    </a:lnTo>
                    <a:lnTo>
                      <a:pt x="384" y="108"/>
                    </a:lnTo>
                    <a:lnTo>
                      <a:pt x="380" y="105"/>
                    </a:lnTo>
                    <a:lnTo>
                      <a:pt x="379" y="101"/>
                    </a:lnTo>
                    <a:lnTo>
                      <a:pt x="378" y="98"/>
                    </a:lnTo>
                    <a:lnTo>
                      <a:pt x="379" y="94"/>
                    </a:lnTo>
                    <a:lnTo>
                      <a:pt x="382" y="90"/>
                    </a:lnTo>
                    <a:lnTo>
                      <a:pt x="382" y="88"/>
                    </a:lnTo>
                    <a:lnTo>
                      <a:pt x="383" y="86"/>
                    </a:lnTo>
                    <a:lnTo>
                      <a:pt x="384" y="85"/>
                    </a:lnTo>
                    <a:lnTo>
                      <a:pt x="385" y="83"/>
                    </a:lnTo>
                    <a:lnTo>
                      <a:pt x="386" y="82"/>
                    </a:lnTo>
                    <a:lnTo>
                      <a:pt x="387" y="82"/>
                    </a:lnTo>
                    <a:lnTo>
                      <a:pt x="389" y="82"/>
                    </a:lnTo>
                    <a:lnTo>
                      <a:pt x="389" y="84"/>
                    </a:lnTo>
                    <a:lnTo>
                      <a:pt x="391" y="86"/>
                    </a:lnTo>
                    <a:lnTo>
                      <a:pt x="394" y="88"/>
                    </a:lnTo>
                    <a:lnTo>
                      <a:pt x="396" y="90"/>
                    </a:lnTo>
                    <a:lnTo>
                      <a:pt x="398" y="92"/>
                    </a:lnTo>
                    <a:lnTo>
                      <a:pt x="401" y="92"/>
                    </a:lnTo>
                    <a:lnTo>
                      <a:pt x="405" y="90"/>
                    </a:lnTo>
                    <a:lnTo>
                      <a:pt x="408" y="87"/>
                    </a:lnTo>
                    <a:lnTo>
                      <a:pt x="410" y="84"/>
                    </a:lnTo>
                    <a:lnTo>
                      <a:pt x="412" y="79"/>
                    </a:lnTo>
                    <a:lnTo>
                      <a:pt x="412" y="76"/>
                    </a:lnTo>
                    <a:lnTo>
                      <a:pt x="411" y="73"/>
                    </a:lnTo>
                    <a:lnTo>
                      <a:pt x="411" y="71"/>
                    </a:lnTo>
                    <a:lnTo>
                      <a:pt x="409" y="68"/>
                    </a:lnTo>
                    <a:lnTo>
                      <a:pt x="408" y="67"/>
                    </a:lnTo>
                    <a:lnTo>
                      <a:pt x="406" y="65"/>
                    </a:lnTo>
                    <a:lnTo>
                      <a:pt x="405" y="63"/>
                    </a:lnTo>
                    <a:lnTo>
                      <a:pt x="404" y="61"/>
                    </a:lnTo>
                    <a:lnTo>
                      <a:pt x="404" y="58"/>
                    </a:lnTo>
                    <a:lnTo>
                      <a:pt x="405" y="57"/>
                    </a:lnTo>
                    <a:lnTo>
                      <a:pt x="408" y="56"/>
                    </a:lnTo>
                    <a:lnTo>
                      <a:pt x="410" y="55"/>
                    </a:lnTo>
                    <a:lnTo>
                      <a:pt x="410" y="54"/>
                    </a:lnTo>
                    <a:lnTo>
                      <a:pt x="409" y="54"/>
                    </a:lnTo>
                    <a:lnTo>
                      <a:pt x="407" y="53"/>
                    </a:lnTo>
                    <a:lnTo>
                      <a:pt x="405" y="51"/>
                    </a:lnTo>
                    <a:lnTo>
                      <a:pt x="405" y="49"/>
                    </a:lnTo>
                    <a:lnTo>
                      <a:pt x="405" y="45"/>
                    </a:lnTo>
                    <a:lnTo>
                      <a:pt x="406" y="42"/>
                    </a:lnTo>
                    <a:lnTo>
                      <a:pt x="409" y="40"/>
                    </a:lnTo>
                    <a:lnTo>
                      <a:pt x="414" y="38"/>
                    </a:lnTo>
                    <a:lnTo>
                      <a:pt x="417" y="36"/>
                    </a:lnTo>
                    <a:lnTo>
                      <a:pt x="420" y="35"/>
                    </a:lnTo>
                    <a:lnTo>
                      <a:pt x="423" y="35"/>
                    </a:lnTo>
                    <a:lnTo>
                      <a:pt x="427" y="35"/>
                    </a:lnTo>
                    <a:lnTo>
                      <a:pt x="429" y="35"/>
                    </a:lnTo>
                    <a:lnTo>
                      <a:pt x="431" y="36"/>
                    </a:lnTo>
                    <a:lnTo>
                      <a:pt x="432" y="38"/>
                    </a:lnTo>
                    <a:lnTo>
                      <a:pt x="433" y="39"/>
                    </a:lnTo>
                    <a:lnTo>
                      <a:pt x="434" y="41"/>
                    </a:lnTo>
                    <a:lnTo>
                      <a:pt x="436" y="42"/>
                    </a:lnTo>
                    <a:lnTo>
                      <a:pt x="438" y="42"/>
                    </a:lnTo>
                    <a:lnTo>
                      <a:pt x="441" y="42"/>
                    </a:lnTo>
                    <a:lnTo>
                      <a:pt x="443" y="41"/>
                    </a:lnTo>
                    <a:lnTo>
                      <a:pt x="447" y="40"/>
                    </a:lnTo>
                    <a:lnTo>
                      <a:pt x="449" y="39"/>
                    </a:lnTo>
                    <a:lnTo>
                      <a:pt x="451" y="38"/>
                    </a:lnTo>
                    <a:lnTo>
                      <a:pt x="456" y="34"/>
                    </a:lnTo>
                    <a:lnTo>
                      <a:pt x="461" y="31"/>
                    </a:lnTo>
                    <a:lnTo>
                      <a:pt x="465" y="29"/>
                    </a:lnTo>
                    <a:close/>
                    <a:moveTo>
                      <a:pt x="2209" y="28"/>
                    </a:moveTo>
                    <a:lnTo>
                      <a:pt x="2210" y="28"/>
                    </a:lnTo>
                    <a:lnTo>
                      <a:pt x="2211" y="29"/>
                    </a:lnTo>
                    <a:lnTo>
                      <a:pt x="2212" y="31"/>
                    </a:lnTo>
                    <a:lnTo>
                      <a:pt x="2213" y="32"/>
                    </a:lnTo>
                    <a:lnTo>
                      <a:pt x="2215" y="33"/>
                    </a:lnTo>
                    <a:lnTo>
                      <a:pt x="2215" y="34"/>
                    </a:lnTo>
                    <a:lnTo>
                      <a:pt x="2215" y="35"/>
                    </a:lnTo>
                    <a:lnTo>
                      <a:pt x="2215" y="36"/>
                    </a:lnTo>
                    <a:lnTo>
                      <a:pt x="2216" y="38"/>
                    </a:lnTo>
                    <a:lnTo>
                      <a:pt x="2218" y="39"/>
                    </a:lnTo>
                    <a:lnTo>
                      <a:pt x="2221" y="40"/>
                    </a:lnTo>
                    <a:lnTo>
                      <a:pt x="2221" y="40"/>
                    </a:lnTo>
                    <a:lnTo>
                      <a:pt x="2222" y="41"/>
                    </a:lnTo>
                    <a:lnTo>
                      <a:pt x="2223" y="42"/>
                    </a:lnTo>
                    <a:lnTo>
                      <a:pt x="2226" y="44"/>
                    </a:lnTo>
                    <a:lnTo>
                      <a:pt x="2226" y="45"/>
                    </a:lnTo>
                    <a:lnTo>
                      <a:pt x="2227" y="46"/>
                    </a:lnTo>
                    <a:lnTo>
                      <a:pt x="2226" y="47"/>
                    </a:lnTo>
                    <a:lnTo>
                      <a:pt x="2224" y="47"/>
                    </a:lnTo>
                    <a:lnTo>
                      <a:pt x="2221" y="45"/>
                    </a:lnTo>
                    <a:lnTo>
                      <a:pt x="2220" y="46"/>
                    </a:lnTo>
                    <a:lnTo>
                      <a:pt x="2220" y="47"/>
                    </a:lnTo>
                    <a:lnTo>
                      <a:pt x="2221" y="49"/>
                    </a:lnTo>
                    <a:lnTo>
                      <a:pt x="2222" y="50"/>
                    </a:lnTo>
                    <a:lnTo>
                      <a:pt x="2224" y="51"/>
                    </a:lnTo>
                    <a:lnTo>
                      <a:pt x="2224" y="53"/>
                    </a:lnTo>
                    <a:lnTo>
                      <a:pt x="2226" y="54"/>
                    </a:lnTo>
                    <a:lnTo>
                      <a:pt x="2227" y="56"/>
                    </a:lnTo>
                    <a:lnTo>
                      <a:pt x="2228" y="57"/>
                    </a:lnTo>
                    <a:lnTo>
                      <a:pt x="2228" y="58"/>
                    </a:lnTo>
                    <a:lnTo>
                      <a:pt x="2228" y="58"/>
                    </a:lnTo>
                    <a:lnTo>
                      <a:pt x="2227" y="58"/>
                    </a:lnTo>
                    <a:lnTo>
                      <a:pt x="2224" y="58"/>
                    </a:lnTo>
                    <a:lnTo>
                      <a:pt x="2222" y="57"/>
                    </a:lnTo>
                    <a:lnTo>
                      <a:pt x="2221" y="57"/>
                    </a:lnTo>
                    <a:lnTo>
                      <a:pt x="2219" y="56"/>
                    </a:lnTo>
                    <a:lnTo>
                      <a:pt x="2218" y="56"/>
                    </a:lnTo>
                    <a:lnTo>
                      <a:pt x="2218" y="57"/>
                    </a:lnTo>
                    <a:lnTo>
                      <a:pt x="2218" y="58"/>
                    </a:lnTo>
                    <a:lnTo>
                      <a:pt x="2216" y="57"/>
                    </a:lnTo>
                    <a:lnTo>
                      <a:pt x="2213" y="56"/>
                    </a:lnTo>
                    <a:lnTo>
                      <a:pt x="2211" y="53"/>
                    </a:lnTo>
                    <a:lnTo>
                      <a:pt x="2210" y="52"/>
                    </a:lnTo>
                    <a:lnTo>
                      <a:pt x="2210" y="51"/>
                    </a:lnTo>
                    <a:lnTo>
                      <a:pt x="2207" y="49"/>
                    </a:lnTo>
                    <a:lnTo>
                      <a:pt x="2206" y="47"/>
                    </a:lnTo>
                    <a:lnTo>
                      <a:pt x="2206" y="46"/>
                    </a:lnTo>
                    <a:lnTo>
                      <a:pt x="2206" y="44"/>
                    </a:lnTo>
                    <a:lnTo>
                      <a:pt x="2206" y="42"/>
                    </a:lnTo>
                    <a:lnTo>
                      <a:pt x="2205" y="41"/>
                    </a:lnTo>
                    <a:lnTo>
                      <a:pt x="2205" y="40"/>
                    </a:lnTo>
                    <a:lnTo>
                      <a:pt x="2205" y="39"/>
                    </a:lnTo>
                    <a:lnTo>
                      <a:pt x="2206" y="38"/>
                    </a:lnTo>
                    <a:lnTo>
                      <a:pt x="2208" y="38"/>
                    </a:lnTo>
                    <a:lnTo>
                      <a:pt x="2208" y="38"/>
                    </a:lnTo>
                    <a:lnTo>
                      <a:pt x="2208" y="36"/>
                    </a:lnTo>
                    <a:lnTo>
                      <a:pt x="2207" y="36"/>
                    </a:lnTo>
                    <a:lnTo>
                      <a:pt x="2206" y="35"/>
                    </a:lnTo>
                    <a:lnTo>
                      <a:pt x="2205" y="35"/>
                    </a:lnTo>
                    <a:lnTo>
                      <a:pt x="2202" y="34"/>
                    </a:lnTo>
                    <a:lnTo>
                      <a:pt x="2204" y="32"/>
                    </a:lnTo>
                    <a:lnTo>
                      <a:pt x="2205" y="31"/>
                    </a:lnTo>
                    <a:lnTo>
                      <a:pt x="2207" y="29"/>
                    </a:lnTo>
                    <a:lnTo>
                      <a:pt x="2209" y="28"/>
                    </a:lnTo>
                    <a:lnTo>
                      <a:pt x="2209" y="28"/>
                    </a:lnTo>
                    <a:close/>
                    <a:moveTo>
                      <a:pt x="679" y="17"/>
                    </a:moveTo>
                    <a:lnTo>
                      <a:pt x="683" y="18"/>
                    </a:lnTo>
                    <a:lnTo>
                      <a:pt x="688" y="18"/>
                    </a:lnTo>
                    <a:lnTo>
                      <a:pt x="690" y="20"/>
                    </a:lnTo>
                    <a:lnTo>
                      <a:pt x="692" y="21"/>
                    </a:lnTo>
                    <a:lnTo>
                      <a:pt x="693" y="23"/>
                    </a:lnTo>
                    <a:lnTo>
                      <a:pt x="692" y="27"/>
                    </a:lnTo>
                    <a:lnTo>
                      <a:pt x="690" y="29"/>
                    </a:lnTo>
                    <a:lnTo>
                      <a:pt x="685" y="32"/>
                    </a:lnTo>
                    <a:lnTo>
                      <a:pt x="683" y="34"/>
                    </a:lnTo>
                    <a:lnTo>
                      <a:pt x="682" y="36"/>
                    </a:lnTo>
                    <a:lnTo>
                      <a:pt x="681" y="40"/>
                    </a:lnTo>
                    <a:lnTo>
                      <a:pt x="679" y="43"/>
                    </a:lnTo>
                    <a:lnTo>
                      <a:pt x="677" y="45"/>
                    </a:lnTo>
                    <a:lnTo>
                      <a:pt x="673" y="47"/>
                    </a:lnTo>
                    <a:lnTo>
                      <a:pt x="671" y="49"/>
                    </a:lnTo>
                    <a:lnTo>
                      <a:pt x="669" y="51"/>
                    </a:lnTo>
                    <a:lnTo>
                      <a:pt x="667" y="53"/>
                    </a:lnTo>
                    <a:lnTo>
                      <a:pt x="663" y="54"/>
                    </a:lnTo>
                    <a:lnTo>
                      <a:pt x="661" y="57"/>
                    </a:lnTo>
                    <a:lnTo>
                      <a:pt x="659" y="60"/>
                    </a:lnTo>
                    <a:lnTo>
                      <a:pt x="657" y="63"/>
                    </a:lnTo>
                    <a:lnTo>
                      <a:pt x="656" y="66"/>
                    </a:lnTo>
                    <a:lnTo>
                      <a:pt x="655" y="69"/>
                    </a:lnTo>
                    <a:lnTo>
                      <a:pt x="657" y="74"/>
                    </a:lnTo>
                    <a:lnTo>
                      <a:pt x="659" y="77"/>
                    </a:lnTo>
                    <a:lnTo>
                      <a:pt x="661" y="80"/>
                    </a:lnTo>
                    <a:lnTo>
                      <a:pt x="662" y="87"/>
                    </a:lnTo>
                    <a:lnTo>
                      <a:pt x="660" y="94"/>
                    </a:lnTo>
                    <a:lnTo>
                      <a:pt x="659" y="100"/>
                    </a:lnTo>
                    <a:lnTo>
                      <a:pt x="660" y="104"/>
                    </a:lnTo>
                    <a:lnTo>
                      <a:pt x="662" y="107"/>
                    </a:lnTo>
                    <a:lnTo>
                      <a:pt x="665" y="110"/>
                    </a:lnTo>
                    <a:lnTo>
                      <a:pt x="666" y="114"/>
                    </a:lnTo>
                    <a:lnTo>
                      <a:pt x="668" y="116"/>
                    </a:lnTo>
                    <a:lnTo>
                      <a:pt x="669" y="118"/>
                    </a:lnTo>
                    <a:lnTo>
                      <a:pt x="669" y="120"/>
                    </a:lnTo>
                    <a:lnTo>
                      <a:pt x="670" y="122"/>
                    </a:lnTo>
                    <a:lnTo>
                      <a:pt x="672" y="125"/>
                    </a:lnTo>
                    <a:lnTo>
                      <a:pt x="674" y="127"/>
                    </a:lnTo>
                    <a:lnTo>
                      <a:pt x="677" y="128"/>
                    </a:lnTo>
                    <a:lnTo>
                      <a:pt x="681" y="129"/>
                    </a:lnTo>
                    <a:lnTo>
                      <a:pt x="684" y="129"/>
                    </a:lnTo>
                    <a:lnTo>
                      <a:pt x="687" y="129"/>
                    </a:lnTo>
                    <a:lnTo>
                      <a:pt x="688" y="129"/>
                    </a:lnTo>
                    <a:lnTo>
                      <a:pt x="688" y="128"/>
                    </a:lnTo>
                    <a:lnTo>
                      <a:pt x="688" y="127"/>
                    </a:lnTo>
                    <a:lnTo>
                      <a:pt x="688" y="125"/>
                    </a:lnTo>
                    <a:lnTo>
                      <a:pt x="687" y="122"/>
                    </a:lnTo>
                    <a:lnTo>
                      <a:pt x="685" y="120"/>
                    </a:lnTo>
                    <a:lnTo>
                      <a:pt x="684" y="119"/>
                    </a:lnTo>
                    <a:lnTo>
                      <a:pt x="682" y="117"/>
                    </a:lnTo>
                    <a:lnTo>
                      <a:pt x="681" y="116"/>
                    </a:lnTo>
                    <a:lnTo>
                      <a:pt x="678" y="112"/>
                    </a:lnTo>
                    <a:lnTo>
                      <a:pt x="674" y="107"/>
                    </a:lnTo>
                    <a:lnTo>
                      <a:pt x="672" y="101"/>
                    </a:lnTo>
                    <a:lnTo>
                      <a:pt x="672" y="97"/>
                    </a:lnTo>
                    <a:lnTo>
                      <a:pt x="677" y="94"/>
                    </a:lnTo>
                    <a:lnTo>
                      <a:pt x="681" y="92"/>
                    </a:lnTo>
                    <a:lnTo>
                      <a:pt x="683" y="89"/>
                    </a:lnTo>
                    <a:lnTo>
                      <a:pt x="685" y="88"/>
                    </a:lnTo>
                    <a:lnTo>
                      <a:pt x="687" y="87"/>
                    </a:lnTo>
                    <a:lnTo>
                      <a:pt x="687" y="85"/>
                    </a:lnTo>
                    <a:lnTo>
                      <a:pt x="685" y="84"/>
                    </a:lnTo>
                    <a:lnTo>
                      <a:pt x="684" y="82"/>
                    </a:lnTo>
                    <a:lnTo>
                      <a:pt x="681" y="78"/>
                    </a:lnTo>
                    <a:lnTo>
                      <a:pt x="680" y="77"/>
                    </a:lnTo>
                    <a:lnTo>
                      <a:pt x="678" y="75"/>
                    </a:lnTo>
                    <a:lnTo>
                      <a:pt x="677" y="73"/>
                    </a:lnTo>
                    <a:lnTo>
                      <a:pt x="674" y="71"/>
                    </a:lnTo>
                    <a:lnTo>
                      <a:pt x="674" y="67"/>
                    </a:lnTo>
                    <a:lnTo>
                      <a:pt x="674" y="65"/>
                    </a:lnTo>
                    <a:lnTo>
                      <a:pt x="676" y="63"/>
                    </a:lnTo>
                    <a:lnTo>
                      <a:pt x="677" y="61"/>
                    </a:lnTo>
                    <a:lnTo>
                      <a:pt x="679" y="60"/>
                    </a:lnTo>
                    <a:lnTo>
                      <a:pt x="681" y="58"/>
                    </a:lnTo>
                    <a:lnTo>
                      <a:pt x="683" y="57"/>
                    </a:lnTo>
                    <a:lnTo>
                      <a:pt x="685" y="56"/>
                    </a:lnTo>
                    <a:lnTo>
                      <a:pt x="688" y="55"/>
                    </a:lnTo>
                    <a:lnTo>
                      <a:pt x="688" y="54"/>
                    </a:lnTo>
                    <a:lnTo>
                      <a:pt x="688" y="52"/>
                    </a:lnTo>
                    <a:lnTo>
                      <a:pt x="687" y="50"/>
                    </a:lnTo>
                    <a:lnTo>
                      <a:pt x="688" y="47"/>
                    </a:lnTo>
                    <a:lnTo>
                      <a:pt x="688" y="47"/>
                    </a:lnTo>
                    <a:lnTo>
                      <a:pt x="689" y="45"/>
                    </a:lnTo>
                    <a:lnTo>
                      <a:pt x="689" y="43"/>
                    </a:lnTo>
                    <a:lnTo>
                      <a:pt x="690" y="41"/>
                    </a:lnTo>
                    <a:lnTo>
                      <a:pt x="690" y="39"/>
                    </a:lnTo>
                    <a:lnTo>
                      <a:pt x="690" y="36"/>
                    </a:lnTo>
                    <a:lnTo>
                      <a:pt x="701" y="36"/>
                    </a:lnTo>
                    <a:lnTo>
                      <a:pt x="704" y="35"/>
                    </a:lnTo>
                    <a:lnTo>
                      <a:pt x="706" y="33"/>
                    </a:lnTo>
                    <a:lnTo>
                      <a:pt x="707" y="31"/>
                    </a:lnTo>
                    <a:lnTo>
                      <a:pt x="710" y="29"/>
                    </a:lnTo>
                    <a:lnTo>
                      <a:pt x="712" y="25"/>
                    </a:lnTo>
                    <a:lnTo>
                      <a:pt x="714" y="25"/>
                    </a:lnTo>
                    <a:lnTo>
                      <a:pt x="717" y="24"/>
                    </a:lnTo>
                    <a:lnTo>
                      <a:pt x="720" y="24"/>
                    </a:lnTo>
                    <a:lnTo>
                      <a:pt x="723" y="24"/>
                    </a:lnTo>
                    <a:lnTo>
                      <a:pt x="727" y="23"/>
                    </a:lnTo>
                    <a:lnTo>
                      <a:pt x="735" y="23"/>
                    </a:lnTo>
                    <a:lnTo>
                      <a:pt x="743" y="24"/>
                    </a:lnTo>
                    <a:lnTo>
                      <a:pt x="748" y="28"/>
                    </a:lnTo>
                    <a:lnTo>
                      <a:pt x="756" y="39"/>
                    </a:lnTo>
                    <a:lnTo>
                      <a:pt x="760" y="51"/>
                    </a:lnTo>
                    <a:lnTo>
                      <a:pt x="762" y="63"/>
                    </a:lnTo>
                    <a:lnTo>
                      <a:pt x="760" y="75"/>
                    </a:lnTo>
                    <a:lnTo>
                      <a:pt x="755" y="85"/>
                    </a:lnTo>
                    <a:lnTo>
                      <a:pt x="754" y="87"/>
                    </a:lnTo>
                    <a:lnTo>
                      <a:pt x="753" y="89"/>
                    </a:lnTo>
                    <a:lnTo>
                      <a:pt x="751" y="92"/>
                    </a:lnTo>
                    <a:lnTo>
                      <a:pt x="751" y="95"/>
                    </a:lnTo>
                    <a:lnTo>
                      <a:pt x="751" y="97"/>
                    </a:lnTo>
                    <a:lnTo>
                      <a:pt x="753" y="100"/>
                    </a:lnTo>
                    <a:lnTo>
                      <a:pt x="754" y="101"/>
                    </a:lnTo>
                    <a:lnTo>
                      <a:pt x="754" y="103"/>
                    </a:lnTo>
                    <a:lnTo>
                      <a:pt x="755" y="104"/>
                    </a:lnTo>
                    <a:lnTo>
                      <a:pt x="757" y="105"/>
                    </a:lnTo>
                    <a:lnTo>
                      <a:pt x="758" y="104"/>
                    </a:lnTo>
                    <a:lnTo>
                      <a:pt x="759" y="103"/>
                    </a:lnTo>
                    <a:lnTo>
                      <a:pt x="764" y="98"/>
                    </a:lnTo>
                    <a:lnTo>
                      <a:pt x="767" y="94"/>
                    </a:lnTo>
                    <a:lnTo>
                      <a:pt x="770" y="89"/>
                    </a:lnTo>
                    <a:lnTo>
                      <a:pt x="772" y="88"/>
                    </a:lnTo>
                    <a:lnTo>
                      <a:pt x="775" y="88"/>
                    </a:lnTo>
                    <a:lnTo>
                      <a:pt x="777" y="89"/>
                    </a:lnTo>
                    <a:lnTo>
                      <a:pt x="778" y="90"/>
                    </a:lnTo>
                    <a:lnTo>
                      <a:pt x="780" y="93"/>
                    </a:lnTo>
                    <a:lnTo>
                      <a:pt x="781" y="95"/>
                    </a:lnTo>
                    <a:lnTo>
                      <a:pt x="783" y="96"/>
                    </a:lnTo>
                    <a:lnTo>
                      <a:pt x="783" y="97"/>
                    </a:lnTo>
                    <a:lnTo>
                      <a:pt x="785" y="99"/>
                    </a:lnTo>
                    <a:lnTo>
                      <a:pt x="787" y="100"/>
                    </a:lnTo>
                    <a:lnTo>
                      <a:pt x="788" y="101"/>
                    </a:lnTo>
                    <a:lnTo>
                      <a:pt x="790" y="103"/>
                    </a:lnTo>
                    <a:lnTo>
                      <a:pt x="791" y="103"/>
                    </a:lnTo>
                    <a:lnTo>
                      <a:pt x="792" y="101"/>
                    </a:lnTo>
                    <a:lnTo>
                      <a:pt x="793" y="100"/>
                    </a:lnTo>
                    <a:lnTo>
                      <a:pt x="793" y="98"/>
                    </a:lnTo>
                    <a:lnTo>
                      <a:pt x="793" y="97"/>
                    </a:lnTo>
                    <a:lnTo>
                      <a:pt x="794" y="96"/>
                    </a:lnTo>
                    <a:lnTo>
                      <a:pt x="794" y="95"/>
                    </a:lnTo>
                    <a:lnTo>
                      <a:pt x="797" y="94"/>
                    </a:lnTo>
                    <a:lnTo>
                      <a:pt x="799" y="94"/>
                    </a:lnTo>
                    <a:lnTo>
                      <a:pt x="801" y="93"/>
                    </a:lnTo>
                    <a:lnTo>
                      <a:pt x="803" y="93"/>
                    </a:lnTo>
                    <a:lnTo>
                      <a:pt x="805" y="92"/>
                    </a:lnTo>
                    <a:lnTo>
                      <a:pt x="807" y="90"/>
                    </a:lnTo>
                    <a:lnTo>
                      <a:pt x="808" y="89"/>
                    </a:lnTo>
                    <a:lnTo>
                      <a:pt x="808" y="88"/>
                    </a:lnTo>
                    <a:lnTo>
                      <a:pt x="808" y="86"/>
                    </a:lnTo>
                    <a:lnTo>
                      <a:pt x="808" y="84"/>
                    </a:lnTo>
                    <a:lnTo>
                      <a:pt x="808" y="83"/>
                    </a:lnTo>
                    <a:lnTo>
                      <a:pt x="805" y="82"/>
                    </a:lnTo>
                    <a:lnTo>
                      <a:pt x="804" y="79"/>
                    </a:lnTo>
                    <a:lnTo>
                      <a:pt x="802" y="77"/>
                    </a:lnTo>
                    <a:lnTo>
                      <a:pt x="801" y="75"/>
                    </a:lnTo>
                    <a:lnTo>
                      <a:pt x="800" y="73"/>
                    </a:lnTo>
                    <a:lnTo>
                      <a:pt x="801" y="72"/>
                    </a:lnTo>
                    <a:lnTo>
                      <a:pt x="804" y="71"/>
                    </a:lnTo>
                    <a:lnTo>
                      <a:pt x="808" y="71"/>
                    </a:lnTo>
                    <a:lnTo>
                      <a:pt x="811" y="71"/>
                    </a:lnTo>
                    <a:lnTo>
                      <a:pt x="814" y="69"/>
                    </a:lnTo>
                    <a:lnTo>
                      <a:pt x="815" y="68"/>
                    </a:lnTo>
                    <a:lnTo>
                      <a:pt x="815" y="67"/>
                    </a:lnTo>
                    <a:lnTo>
                      <a:pt x="814" y="65"/>
                    </a:lnTo>
                    <a:lnTo>
                      <a:pt x="812" y="64"/>
                    </a:lnTo>
                    <a:lnTo>
                      <a:pt x="810" y="63"/>
                    </a:lnTo>
                    <a:lnTo>
                      <a:pt x="808" y="63"/>
                    </a:lnTo>
                    <a:lnTo>
                      <a:pt x="802" y="63"/>
                    </a:lnTo>
                    <a:lnTo>
                      <a:pt x="799" y="64"/>
                    </a:lnTo>
                    <a:lnTo>
                      <a:pt x="794" y="65"/>
                    </a:lnTo>
                    <a:lnTo>
                      <a:pt x="790" y="65"/>
                    </a:lnTo>
                    <a:lnTo>
                      <a:pt x="783" y="63"/>
                    </a:lnTo>
                    <a:lnTo>
                      <a:pt x="777" y="56"/>
                    </a:lnTo>
                    <a:lnTo>
                      <a:pt x="772" y="50"/>
                    </a:lnTo>
                    <a:lnTo>
                      <a:pt x="768" y="43"/>
                    </a:lnTo>
                    <a:lnTo>
                      <a:pt x="767" y="42"/>
                    </a:lnTo>
                    <a:lnTo>
                      <a:pt x="766" y="40"/>
                    </a:lnTo>
                    <a:lnTo>
                      <a:pt x="765" y="38"/>
                    </a:lnTo>
                    <a:lnTo>
                      <a:pt x="764" y="35"/>
                    </a:lnTo>
                    <a:lnTo>
                      <a:pt x="762" y="32"/>
                    </a:lnTo>
                    <a:lnTo>
                      <a:pt x="762" y="30"/>
                    </a:lnTo>
                    <a:lnTo>
                      <a:pt x="762" y="28"/>
                    </a:lnTo>
                    <a:lnTo>
                      <a:pt x="764" y="27"/>
                    </a:lnTo>
                    <a:lnTo>
                      <a:pt x="765" y="25"/>
                    </a:lnTo>
                    <a:lnTo>
                      <a:pt x="767" y="25"/>
                    </a:lnTo>
                    <a:lnTo>
                      <a:pt x="770" y="25"/>
                    </a:lnTo>
                    <a:lnTo>
                      <a:pt x="781" y="27"/>
                    </a:lnTo>
                    <a:lnTo>
                      <a:pt x="792" y="28"/>
                    </a:lnTo>
                    <a:lnTo>
                      <a:pt x="814" y="28"/>
                    </a:lnTo>
                    <a:lnTo>
                      <a:pt x="822" y="31"/>
                    </a:lnTo>
                    <a:lnTo>
                      <a:pt x="830" y="36"/>
                    </a:lnTo>
                    <a:lnTo>
                      <a:pt x="835" y="42"/>
                    </a:lnTo>
                    <a:lnTo>
                      <a:pt x="840" y="47"/>
                    </a:lnTo>
                    <a:lnTo>
                      <a:pt x="842" y="51"/>
                    </a:lnTo>
                    <a:lnTo>
                      <a:pt x="844" y="53"/>
                    </a:lnTo>
                    <a:lnTo>
                      <a:pt x="845" y="55"/>
                    </a:lnTo>
                    <a:lnTo>
                      <a:pt x="846" y="58"/>
                    </a:lnTo>
                    <a:lnTo>
                      <a:pt x="845" y="61"/>
                    </a:lnTo>
                    <a:lnTo>
                      <a:pt x="845" y="62"/>
                    </a:lnTo>
                    <a:lnTo>
                      <a:pt x="843" y="63"/>
                    </a:lnTo>
                    <a:lnTo>
                      <a:pt x="841" y="64"/>
                    </a:lnTo>
                    <a:lnTo>
                      <a:pt x="837" y="64"/>
                    </a:lnTo>
                    <a:lnTo>
                      <a:pt x="833" y="63"/>
                    </a:lnTo>
                    <a:lnTo>
                      <a:pt x="835" y="65"/>
                    </a:lnTo>
                    <a:lnTo>
                      <a:pt x="837" y="68"/>
                    </a:lnTo>
                    <a:lnTo>
                      <a:pt x="841" y="72"/>
                    </a:lnTo>
                    <a:lnTo>
                      <a:pt x="844" y="74"/>
                    </a:lnTo>
                    <a:lnTo>
                      <a:pt x="847" y="75"/>
                    </a:lnTo>
                    <a:lnTo>
                      <a:pt x="851" y="76"/>
                    </a:lnTo>
                    <a:lnTo>
                      <a:pt x="853" y="76"/>
                    </a:lnTo>
                    <a:lnTo>
                      <a:pt x="855" y="75"/>
                    </a:lnTo>
                    <a:lnTo>
                      <a:pt x="858" y="74"/>
                    </a:lnTo>
                    <a:lnTo>
                      <a:pt x="862" y="74"/>
                    </a:lnTo>
                    <a:lnTo>
                      <a:pt x="864" y="75"/>
                    </a:lnTo>
                    <a:lnTo>
                      <a:pt x="865" y="77"/>
                    </a:lnTo>
                    <a:lnTo>
                      <a:pt x="866" y="79"/>
                    </a:lnTo>
                    <a:lnTo>
                      <a:pt x="866" y="82"/>
                    </a:lnTo>
                    <a:lnTo>
                      <a:pt x="866" y="83"/>
                    </a:lnTo>
                    <a:lnTo>
                      <a:pt x="866" y="85"/>
                    </a:lnTo>
                    <a:lnTo>
                      <a:pt x="866" y="87"/>
                    </a:lnTo>
                    <a:lnTo>
                      <a:pt x="865" y="89"/>
                    </a:lnTo>
                    <a:lnTo>
                      <a:pt x="864" y="92"/>
                    </a:lnTo>
                    <a:lnTo>
                      <a:pt x="864" y="94"/>
                    </a:lnTo>
                    <a:lnTo>
                      <a:pt x="864" y="95"/>
                    </a:lnTo>
                    <a:lnTo>
                      <a:pt x="865" y="97"/>
                    </a:lnTo>
                    <a:lnTo>
                      <a:pt x="867" y="98"/>
                    </a:lnTo>
                    <a:lnTo>
                      <a:pt x="870" y="100"/>
                    </a:lnTo>
                    <a:lnTo>
                      <a:pt x="874" y="101"/>
                    </a:lnTo>
                    <a:lnTo>
                      <a:pt x="877" y="103"/>
                    </a:lnTo>
                    <a:lnTo>
                      <a:pt x="878" y="105"/>
                    </a:lnTo>
                    <a:lnTo>
                      <a:pt x="878" y="107"/>
                    </a:lnTo>
                    <a:lnTo>
                      <a:pt x="877" y="109"/>
                    </a:lnTo>
                    <a:lnTo>
                      <a:pt x="875" y="111"/>
                    </a:lnTo>
                    <a:lnTo>
                      <a:pt x="873" y="114"/>
                    </a:lnTo>
                    <a:lnTo>
                      <a:pt x="871" y="115"/>
                    </a:lnTo>
                    <a:lnTo>
                      <a:pt x="870" y="117"/>
                    </a:lnTo>
                    <a:lnTo>
                      <a:pt x="870" y="119"/>
                    </a:lnTo>
                    <a:lnTo>
                      <a:pt x="870" y="121"/>
                    </a:lnTo>
                    <a:lnTo>
                      <a:pt x="870" y="123"/>
                    </a:lnTo>
                    <a:lnTo>
                      <a:pt x="871" y="125"/>
                    </a:lnTo>
                    <a:lnTo>
                      <a:pt x="873" y="126"/>
                    </a:lnTo>
                    <a:lnTo>
                      <a:pt x="875" y="126"/>
                    </a:lnTo>
                    <a:lnTo>
                      <a:pt x="877" y="125"/>
                    </a:lnTo>
                    <a:lnTo>
                      <a:pt x="881" y="120"/>
                    </a:lnTo>
                    <a:lnTo>
                      <a:pt x="886" y="118"/>
                    </a:lnTo>
                    <a:lnTo>
                      <a:pt x="892" y="116"/>
                    </a:lnTo>
                    <a:lnTo>
                      <a:pt x="897" y="117"/>
                    </a:lnTo>
                    <a:lnTo>
                      <a:pt x="898" y="120"/>
                    </a:lnTo>
                    <a:lnTo>
                      <a:pt x="897" y="125"/>
                    </a:lnTo>
                    <a:lnTo>
                      <a:pt x="895" y="129"/>
                    </a:lnTo>
                    <a:lnTo>
                      <a:pt x="893" y="133"/>
                    </a:lnTo>
                    <a:lnTo>
                      <a:pt x="893" y="137"/>
                    </a:lnTo>
                    <a:lnTo>
                      <a:pt x="896" y="138"/>
                    </a:lnTo>
                    <a:lnTo>
                      <a:pt x="897" y="134"/>
                    </a:lnTo>
                    <a:lnTo>
                      <a:pt x="898" y="131"/>
                    </a:lnTo>
                    <a:lnTo>
                      <a:pt x="899" y="129"/>
                    </a:lnTo>
                    <a:lnTo>
                      <a:pt x="901" y="127"/>
                    </a:lnTo>
                    <a:lnTo>
                      <a:pt x="903" y="126"/>
                    </a:lnTo>
                    <a:lnTo>
                      <a:pt x="907" y="125"/>
                    </a:lnTo>
                    <a:lnTo>
                      <a:pt x="914" y="123"/>
                    </a:lnTo>
                    <a:lnTo>
                      <a:pt x="923" y="123"/>
                    </a:lnTo>
                    <a:lnTo>
                      <a:pt x="931" y="127"/>
                    </a:lnTo>
                    <a:lnTo>
                      <a:pt x="934" y="128"/>
                    </a:lnTo>
                    <a:lnTo>
                      <a:pt x="938" y="130"/>
                    </a:lnTo>
                    <a:lnTo>
                      <a:pt x="940" y="133"/>
                    </a:lnTo>
                    <a:lnTo>
                      <a:pt x="942" y="137"/>
                    </a:lnTo>
                    <a:lnTo>
                      <a:pt x="942" y="141"/>
                    </a:lnTo>
                    <a:lnTo>
                      <a:pt x="942" y="144"/>
                    </a:lnTo>
                    <a:lnTo>
                      <a:pt x="939" y="147"/>
                    </a:lnTo>
                    <a:lnTo>
                      <a:pt x="935" y="148"/>
                    </a:lnTo>
                    <a:lnTo>
                      <a:pt x="931" y="149"/>
                    </a:lnTo>
                    <a:lnTo>
                      <a:pt x="928" y="149"/>
                    </a:lnTo>
                    <a:lnTo>
                      <a:pt x="925" y="150"/>
                    </a:lnTo>
                    <a:lnTo>
                      <a:pt x="924" y="151"/>
                    </a:lnTo>
                    <a:lnTo>
                      <a:pt x="922" y="153"/>
                    </a:lnTo>
                    <a:lnTo>
                      <a:pt x="921" y="153"/>
                    </a:lnTo>
                    <a:lnTo>
                      <a:pt x="921" y="154"/>
                    </a:lnTo>
                    <a:lnTo>
                      <a:pt x="920" y="156"/>
                    </a:lnTo>
                    <a:lnTo>
                      <a:pt x="920" y="158"/>
                    </a:lnTo>
                    <a:lnTo>
                      <a:pt x="920" y="160"/>
                    </a:lnTo>
                    <a:lnTo>
                      <a:pt x="922" y="160"/>
                    </a:lnTo>
                    <a:lnTo>
                      <a:pt x="924" y="160"/>
                    </a:lnTo>
                    <a:lnTo>
                      <a:pt x="927" y="160"/>
                    </a:lnTo>
                    <a:lnTo>
                      <a:pt x="928" y="160"/>
                    </a:lnTo>
                    <a:lnTo>
                      <a:pt x="929" y="160"/>
                    </a:lnTo>
                    <a:lnTo>
                      <a:pt x="932" y="158"/>
                    </a:lnTo>
                    <a:lnTo>
                      <a:pt x="938" y="155"/>
                    </a:lnTo>
                    <a:lnTo>
                      <a:pt x="943" y="155"/>
                    </a:lnTo>
                    <a:lnTo>
                      <a:pt x="947" y="155"/>
                    </a:lnTo>
                    <a:lnTo>
                      <a:pt x="951" y="160"/>
                    </a:lnTo>
                    <a:lnTo>
                      <a:pt x="951" y="161"/>
                    </a:lnTo>
                    <a:lnTo>
                      <a:pt x="951" y="163"/>
                    </a:lnTo>
                    <a:lnTo>
                      <a:pt x="952" y="165"/>
                    </a:lnTo>
                    <a:lnTo>
                      <a:pt x="954" y="166"/>
                    </a:lnTo>
                    <a:lnTo>
                      <a:pt x="955" y="167"/>
                    </a:lnTo>
                    <a:lnTo>
                      <a:pt x="958" y="167"/>
                    </a:lnTo>
                    <a:lnTo>
                      <a:pt x="962" y="165"/>
                    </a:lnTo>
                    <a:lnTo>
                      <a:pt x="975" y="165"/>
                    </a:lnTo>
                    <a:lnTo>
                      <a:pt x="989" y="167"/>
                    </a:lnTo>
                    <a:lnTo>
                      <a:pt x="990" y="178"/>
                    </a:lnTo>
                    <a:lnTo>
                      <a:pt x="986" y="186"/>
                    </a:lnTo>
                    <a:lnTo>
                      <a:pt x="977" y="192"/>
                    </a:lnTo>
                    <a:lnTo>
                      <a:pt x="973" y="194"/>
                    </a:lnTo>
                    <a:lnTo>
                      <a:pt x="969" y="195"/>
                    </a:lnTo>
                    <a:lnTo>
                      <a:pt x="967" y="196"/>
                    </a:lnTo>
                    <a:lnTo>
                      <a:pt x="966" y="198"/>
                    </a:lnTo>
                    <a:lnTo>
                      <a:pt x="966" y="200"/>
                    </a:lnTo>
                    <a:lnTo>
                      <a:pt x="966" y="204"/>
                    </a:lnTo>
                    <a:lnTo>
                      <a:pt x="966" y="206"/>
                    </a:lnTo>
                    <a:lnTo>
                      <a:pt x="966" y="208"/>
                    </a:lnTo>
                    <a:lnTo>
                      <a:pt x="968" y="209"/>
                    </a:lnTo>
                    <a:lnTo>
                      <a:pt x="971" y="209"/>
                    </a:lnTo>
                    <a:lnTo>
                      <a:pt x="976" y="209"/>
                    </a:lnTo>
                    <a:lnTo>
                      <a:pt x="979" y="206"/>
                    </a:lnTo>
                    <a:lnTo>
                      <a:pt x="983" y="200"/>
                    </a:lnTo>
                    <a:lnTo>
                      <a:pt x="986" y="196"/>
                    </a:lnTo>
                    <a:lnTo>
                      <a:pt x="989" y="192"/>
                    </a:lnTo>
                    <a:lnTo>
                      <a:pt x="997" y="189"/>
                    </a:lnTo>
                    <a:lnTo>
                      <a:pt x="1006" y="191"/>
                    </a:lnTo>
                    <a:lnTo>
                      <a:pt x="1012" y="195"/>
                    </a:lnTo>
                    <a:lnTo>
                      <a:pt x="1018" y="200"/>
                    </a:lnTo>
                    <a:lnTo>
                      <a:pt x="1018" y="204"/>
                    </a:lnTo>
                    <a:lnTo>
                      <a:pt x="1018" y="206"/>
                    </a:lnTo>
                    <a:lnTo>
                      <a:pt x="1017" y="208"/>
                    </a:lnTo>
                    <a:lnTo>
                      <a:pt x="1016" y="209"/>
                    </a:lnTo>
                    <a:lnTo>
                      <a:pt x="1013" y="209"/>
                    </a:lnTo>
                    <a:lnTo>
                      <a:pt x="1010" y="212"/>
                    </a:lnTo>
                    <a:lnTo>
                      <a:pt x="1009" y="213"/>
                    </a:lnTo>
                    <a:lnTo>
                      <a:pt x="1008" y="216"/>
                    </a:lnTo>
                    <a:lnTo>
                      <a:pt x="1009" y="218"/>
                    </a:lnTo>
                    <a:lnTo>
                      <a:pt x="1011" y="220"/>
                    </a:lnTo>
                    <a:lnTo>
                      <a:pt x="1016" y="223"/>
                    </a:lnTo>
                    <a:lnTo>
                      <a:pt x="1021" y="225"/>
                    </a:lnTo>
                    <a:lnTo>
                      <a:pt x="1027" y="227"/>
                    </a:lnTo>
                    <a:lnTo>
                      <a:pt x="1031" y="229"/>
                    </a:lnTo>
                    <a:lnTo>
                      <a:pt x="1031" y="234"/>
                    </a:lnTo>
                    <a:lnTo>
                      <a:pt x="1029" y="235"/>
                    </a:lnTo>
                    <a:lnTo>
                      <a:pt x="1024" y="234"/>
                    </a:lnTo>
                    <a:lnTo>
                      <a:pt x="1019" y="232"/>
                    </a:lnTo>
                    <a:lnTo>
                      <a:pt x="1013" y="231"/>
                    </a:lnTo>
                    <a:lnTo>
                      <a:pt x="1009" y="231"/>
                    </a:lnTo>
                    <a:lnTo>
                      <a:pt x="1007" y="231"/>
                    </a:lnTo>
                    <a:lnTo>
                      <a:pt x="1005" y="231"/>
                    </a:lnTo>
                    <a:lnTo>
                      <a:pt x="1002" y="231"/>
                    </a:lnTo>
                    <a:lnTo>
                      <a:pt x="1000" y="232"/>
                    </a:lnTo>
                    <a:lnTo>
                      <a:pt x="998" y="234"/>
                    </a:lnTo>
                    <a:lnTo>
                      <a:pt x="997" y="235"/>
                    </a:lnTo>
                    <a:lnTo>
                      <a:pt x="996" y="236"/>
                    </a:lnTo>
                    <a:lnTo>
                      <a:pt x="996" y="238"/>
                    </a:lnTo>
                    <a:lnTo>
                      <a:pt x="998" y="241"/>
                    </a:lnTo>
                    <a:lnTo>
                      <a:pt x="1000" y="243"/>
                    </a:lnTo>
                    <a:lnTo>
                      <a:pt x="1002" y="246"/>
                    </a:lnTo>
                    <a:lnTo>
                      <a:pt x="1004" y="249"/>
                    </a:lnTo>
                    <a:lnTo>
                      <a:pt x="1005" y="251"/>
                    </a:lnTo>
                    <a:lnTo>
                      <a:pt x="1005" y="256"/>
                    </a:lnTo>
                    <a:lnTo>
                      <a:pt x="1005" y="259"/>
                    </a:lnTo>
                    <a:lnTo>
                      <a:pt x="1006" y="261"/>
                    </a:lnTo>
                    <a:lnTo>
                      <a:pt x="1006" y="264"/>
                    </a:lnTo>
                    <a:lnTo>
                      <a:pt x="1008" y="268"/>
                    </a:lnTo>
                    <a:lnTo>
                      <a:pt x="1011" y="271"/>
                    </a:lnTo>
                    <a:lnTo>
                      <a:pt x="1024" y="278"/>
                    </a:lnTo>
                    <a:lnTo>
                      <a:pt x="1029" y="281"/>
                    </a:lnTo>
                    <a:lnTo>
                      <a:pt x="1033" y="285"/>
                    </a:lnTo>
                    <a:lnTo>
                      <a:pt x="1037" y="289"/>
                    </a:lnTo>
                    <a:lnTo>
                      <a:pt x="1040" y="293"/>
                    </a:lnTo>
                    <a:lnTo>
                      <a:pt x="1049" y="298"/>
                    </a:lnTo>
                    <a:lnTo>
                      <a:pt x="1060" y="302"/>
                    </a:lnTo>
                    <a:lnTo>
                      <a:pt x="1071" y="305"/>
                    </a:lnTo>
                    <a:lnTo>
                      <a:pt x="1081" y="311"/>
                    </a:lnTo>
                    <a:lnTo>
                      <a:pt x="1084" y="316"/>
                    </a:lnTo>
                    <a:lnTo>
                      <a:pt x="1085" y="322"/>
                    </a:lnTo>
                    <a:lnTo>
                      <a:pt x="1087" y="327"/>
                    </a:lnTo>
                    <a:lnTo>
                      <a:pt x="1092" y="330"/>
                    </a:lnTo>
                    <a:lnTo>
                      <a:pt x="1095" y="332"/>
                    </a:lnTo>
                    <a:lnTo>
                      <a:pt x="1098" y="334"/>
                    </a:lnTo>
                    <a:lnTo>
                      <a:pt x="1100" y="337"/>
                    </a:lnTo>
                    <a:lnTo>
                      <a:pt x="1103" y="340"/>
                    </a:lnTo>
                    <a:lnTo>
                      <a:pt x="1105" y="343"/>
                    </a:lnTo>
                    <a:lnTo>
                      <a:pt x="1107" y="345"/>
                    </a:lnTo>
                    <a:lnTo>
                      <a:pt x="1109" y="345"/>
                    </a:lnTo>
                    <a:lnTo>
                      <a:pt x="1116" y="345"/>
                    </a:lnTo>
                    <a:lnTo>
                      <a:pt x="1122" y="343"/>
                    </a:lnTo>
                    <a:lnTo>
                      <a:pt x="1128" y="341"/>
                    </a:lnTo>
                    <a:lnTo>
                      <a:pt x="1135" y="344"/>
                    </a:lnTo>
                    <a:lnTo>
                      <a:pt x="1140" y="349"/>
                    </a:lnTo>
                    <a:lnTo>
                      <a:pt x="1141" y="359"/>
                    </a:lnTo>
                    <a:lnTo>
                      <a:pt x="1138" y="368"/>
                    </a:lnTo>
                    <a:lnTo>
                      <a:pt x="1132" y="376"/>
                    </a:lnTo>
                    <a:lnTo>
                      <a:pt x="1127" y="382"/>
                    </a:lnTo>
                    <a:lnTo>
                      <a:pt x="1125" y="389"/>
                    </a:lnTo>
                    <a:lnTo>
                      <a:pt x="1122" y="394"/>
                    </a:lnTo>
                    <a:lnTo>
                      <a:pt x="1120" y="400"/>
                    </a:lnTo>
                    <a:lnTo>
                      <a:pt x="1120" y="401"/>
                    </a:lnTo>
                    <a:lnTo>
                      <a:pt x="1120" y="403"/>
                    </a:lnTo>
                    <a:lnTo>
                      <a:pt x="1119" y="405"/>
                    </a:lnTo>
                    <a:lnTo>
                      <a:pt x="1119" y="406"/>
                    </a:lnTo>
                    <a:lnTo>
                      <a:pt x="1118" y="409"/>
                    </a:lnTo>
                    <a:lnTo>
                      <a:pt x="1117" y="409"/>
                    </a:lnTo>
                    <a:lnTo>
                      <a:pt x="1116" y="409"/>
                    </a:lnTo>
                    <a:lnTo>
                      <a:pt x="1111" y="407"/>
                    </a:lnTo>
                    <a:lnTo>
                      <a:pt x="1109" y="406"/>
                    </a:lnTo>
                    <a:lnTo>
                      <a:pt x="1106" y="405"/>
                    </a:lnTo>
                    <a:lnTo>
                      <a:pt x="1104" y="405"/>
                    </a:lnTo>
                    <a:lnTo>
                      <a:pt x="1103" y="406"/>
                    </a:lnTo>
                    <a:lnTo>
                      <a:pt x="1103" y="407"/>
                    </a:lnTo>
                    <a:lnTo>
                      <a:pt x="1103" y="411"/>
                    </a:lnTo>
                    <a:lnTo>
                      <a:pt x="1103" y="415"/>
                    </a:lnTo>
                    <a:lnTo>
                      <a:pt x="1103" y="417"/>
                    </a:lnTo>
                    <a:lnTo>
                      <a:pt x="1104" y="421"/>
                    </a:lnTo>
                    <a:lnTo>
                      <a:pt x="1104" y="423"/>
                    </a:lnTo>
                    <a:lnTo>
                      <a:pt x="1104" y="425"/>
                    </a:lnTo>
                    <a:lnTo>
                      <a:pt x="1104" y="427"/>
                    </a:lnTo>
                    <a:lnTo>
                      <a:pt x="1103" y="428"/>
                    </a:lnTo>
                    <a:lnTo>
                      <a:pt x="1102" y="429"/>
                    </a:lnTo>
                    <a:lnTo>
                      <a:pt x="1099" y="431"/>
                    </a:lnTo>
                    <a:lnTo>
                      <a:pt x="1097" y="429"/>
                    </a:lnTo>
                    <a:lnTo>
                      <a:pt x="1095" y="428"/>
                    </a:lnTo>
                    <a:lnTo>
                      <a:pt x="1092" y="426"/>
                    </a:lnTo>
                    <a:lnTo>
                      <a:pt x="1085" y="423"/>
                    </a:lnTo>
                    <a:lnTo>
                      <a:pt x="1078" y="417"/>
                    </a:lnTo>
                    <a:lnTo>
                      <a:pt x="1072" y="413"/>
                    </a:lnTo>
                    <a:lnTo>
                      <a:pt x="1067" y="406"/>
                    </a:lnTo>
                    <a:lnTo>
                      <a:pt x="1067" y="400"/>
                    </a:lnTo>
                    <a:lnTo>
                      <a:pt x="1071" y="394"/>
                    </a:lnTo>
                    <a:lnTo>
                      <a:pt x="1075" y="391"/>
                    </a:lnTo>
                    <a:lnTo>
                      <a:pt x="1078" y="387"/>
                    </a:lnTo>
                    <a:lnTo>
                      <a:pt x="1078" y="382"/>
                    </a:lnTo>
                    <a:lnTo>
                      <a:pt x="1076" y="380"/>
                    </a:lnTo>
                    <a:lnTo>
                      <a:pt x="1071" y="381"/>
                    </a:lnTo>
                    <a:lnTo>
                      <a:pt x="1064" y="382"/>
                    </a:lnTo>
                    <a:lnTo>
                      <a:pt x="1058" y="383"/>
                    </a:lnTo>
                    <a:lnTo>
                      <a:pt x="1053" y="382"/>
                    </a:lnTo>
                    <a:lnTo>
                      <a:pt x="1050" y="379"/>
                    </a:lnTo>
                    <a:lnTo>
                      <a:pt x="1047" y="374"/>
                    </a:lnTo>
                    <a:lnTo>
                      <a:pt x="1043" y="371"/>
                    </a:lnTo>
                    <a:lnTo>
                      <a:pt x="1039" y="367"/>
                    </a:lnTo>
                    <a:lnTo>
                      <a:pt x="1036" y="365"/>
                    </a:lnTo>
                    <a:lnTo>
                      <a:pt x="1032" y="366"/>
                    </a:lnTo>
                    <a:lnTo>
                      <a:pt x="1031" y="370"/>
                    </a:lnTo>
                    <a:lnTo>
                      <a:pt x="1031" y="377"/>
                    </a:lnTo>
                    <a:lnTo>
                      <a:pt x="1031" y="382"/>
                    </a:lnTo>
                    <a:lnTo>
                      <a:pt x="1031" y="387"/>
                    </a:lnTo>
                    <a:lnTo>
                      <a:pt x="1029" y="388"/>
                    </a:lnTo>
                    <a:lnTo>
                      <a:pt x="1024" y="385"/>
                    </a:lnTo>
                    <a:lnTo>
                      <a:pt x="1019" y="382"/>
                    </a:lnTo>
                    <a:lnTo>
                      <a:pt x="1013" y="379"/>
                    </a:lnTo>
                    <a:lnTo>
                      <a:pt x="1009" y="378"/>
                    </a:lnTo>
                    <a:lnTo>
                      <a:pt x="1012" y="387"/>
                    </a:lnTo>
                    <a:lnTo>
                      <a:pt x="1017" y="395"/>
                    </a:lnTo>
                    <a:lnTo>
                      <a:pt x="1022" y="403"/>
                    </a:lnTo>
                    <a:lnTo>
                      <a:pt x="1031" y="409"/>
                    </a:lnTo>
                    <a:lnTo>
                      <a:pt x="1037" y="415"/>
                    </a:lnTo>
                    <a:lnTo>
                      <a:pt x="1041" y="423"/>
                    </a:lnTo>
                    <a:lnTo>
                      <a:pt x="1045" y="431"/>
                    </a:lnTo>
                    <a:lnTo>
                      <a:pt x="1051" y="437"/>
                    </a:lnTo>
                    <a:lnTo>
                      <a:pt x="1054" y="438"/>
                    </a:lnTo>
                    <a:lnTo>
                      <a:pt x="1058" y="440"/>
                    </a:lnTo>
                    <a:lnTo>
                      <a:pt x="1062" y="443"/>
                    </a:lnTo>
                    <a:lnTo>
                      <a:pt x="1065" y="446"/>
                    </a:lnTo>
                    <a:lnTo>
                      <a:pt x="1069" y="449"/>
                    </a:lnTo>
                    <a:lnTo>
                      <a:pt x="1070" y="453"/>
                    </a:lnTo>
                    <a:lnTo>
                      <a:pt x="1071" y="457"/>
                    </a:lnTo>
                    <a:lnTo>
                      <a:pt x="1072" y="461"/>
                    </a:lnTo>
                    <a:lnTo>
                      <a:pt x="1078" y="469"/>
                    </a:lnTo>
                    <a:lnTo>
                      <a:pt x="1085" y="476"/>
                    </a:lnTo>
                    <a:lnTo>
                      <a:pt x="1091" y="483"/>
                    </a:lnTo>
                    <a:lnTo>
                      <a:pt x="1094" y="494"/>
                    </a:lnTo>
                    <a:lnTo>
                      <a:pt x="1094" y="497"/>
                    </a:lnTo>
                    <a:lnTo>
                      <a:pt x="1093" y="500"/>
                    </a:lnTo>
                    <a:lnTo>
                      <a:pt x="1092" y="502"/>
                    </a:lnTo>
                    <a:lnTo>
                      <a:pt x="1091" y="505"/>
                    </a:lnTo>
                    <a:lnTo>
                      <a:pt x="1091" y="509"/>
                    </a:lnTo>
                    <a:lnTo>
                      <a:pt x="1092" y="511"/>
                    </a:lnTo>
                    <a:lnTo>
                      <a:pt x="1093" y="514"/>
                    </a:lnTo>
                    <a:lnTo>
                      <a:pt x="1093" y="519"/>
                    </a:lnTo>
                    <a:lnTo>
                      <a:pt x="1093" y="522"/>
                    </a:lnTo>
                    <a:lnTo>
                      <a:pt x="1092" y="526"/>
                    </a:lnTo>
                    <a:lnTo>
                      <a:pt x="1089" y="529"/>
                    </a:lnTo>
                    <a:lnTo>
                      <a:pt x="1082" y="531"/>
                    </a:lnTo>
                    <a:lnTo>
                      <a:pt x="1074" y="531"/>
                    </a:lnTo>
                    <a:lnTo>
                      <a:pt x="1065" y="527"/>
                    </a:lnTo>
                    <a:lnTo>
                      <a:pt x="1058" y="522"/>
                    </a:lnTo>
                    <a:lnTo>
                      <a:pt x="1053" y="515"/>
                    </a:lnTo>
                    <a:lnTo>
                      <a:pt x="1050" y="512"/>
                    </a:lnTo>
                    <a:lnTo>
                      <a:pt x="1044" y="507"/>
                    </a:lnTo>
                    <a:lnTo>
                      <a:pt x="1037" y="500"/>
                    </a:lnTo>
                    <a:lnTo>
                      <a:pt x="1028" y="493"/>
                    </a:lnTo>
                    <a:lnTo>
                      <a:pt x="1019" y="488"/>
                    </a:lnTo>
                    <a:lnTo>
                      <a:pt x="1012" y="486"/>
                    </a:lnTo>
                    <a:lnTo>
                      <a:pt x="1007" y="486"/>
                    </a:lnTo>
                    <a:lnTo>
                      <a:pt x="1009" y="496"/>
                    </a:lnTo>
                    <a:lnTo>
                      <a:pt x="1013" y="503"/>
                    </a:lnTo>
                    <a:lnTo>
                      <a:pt x="1020" y="510"/>
                    </a:lnTo>
                    <a:lnTo>
                      <a:pt x="1029" y="515"/>
                    </a:lnTo>
                    <a:lnTo>
                      <a:pt x="1040" y="524"/>
                    </a:lnTo>
                    <a:lnTo>
                      <a:pt x="1049" y="533"/>
                    </a:lnTo>
                    <a:lnTo>
                      <a:pt x="1056" y="544"/>
                    </a:lnTo>
                    <a:lnTo>
                      <a:pt x="1058" y="548"/>
                    </a:lnTo>
                    <a:lnTo>
                      <a:pt x="1059" y="552"/>
                    </a:lnTo>
                    <a:lnTo>
                      <a:pt x="1059" y="555"/>
                    </a:lnTo>
                    <a:lnTo>
                      <a:pt x="1056" y="558"/>
                    </a:lnTo>
                    <a:lnTo>
                      <a:pt x="1055" y="559"/>
                    </a:lnTo>
                    <a:lnTo>
                      <a:pt x="1050" y="560"/>
                    </a:lnTo>
                    <a:lnTo>
                      <a:pt x="1044" y="558"/>
                    </a:lnTo>
                    <a:lnTo>
                      <a:pt x="1039" y="556"/>
                    </a:lnTo>
                    <a:lnTo>
                      <a:pt x="1033" y="553"/>
                    </a:lnTo>
                    <a:lnTo>
                      <a:pt x="1026" y="551"/>
                    </a:lnTo>
                    <a:lnTo>
                      <a:pt x="1019" y="547"/>
                    </a:lnTo>
                    <a:lnTo>
                      <a:pt x="1011" y="542"/>
                    </a:lnTo>
                    <a:lnTo>
                      <a:pt x="998" y="529"/>
                    </a:lnTo>
                    <a:lnTo>
                      <a:pt x="991" y="525"/>
                    </a:lnTo>
                    <a:lnTo>
                      <a:pt x="985" y="523"/>
                    </a:lnTo>
                    <a:lnTo>
                      <a:pt x="978" y="522"/>
                    </a:lnTo>
                    <a:lnTo>
                      <a:pt x="976" y="521"/>
                    </a:lnTo>
                    <a:lnTo>
                      <a:pt x="975" y="519"/>
                    </a:lnTo>
                    <a:lnTo>
                      <a:pt x="973" y="516"/>
                    </a:lnTo>
                    <a:lnTo>
                      <a:pt x="972" y="514"/>
                    </a:lnTo>
                    <a:lnTo>
                      <a:pt x="969" y="513"/>
                    </a:lnTo>
                    <a:lnTo>
                      <a:pt x="967" y="512"/>
                    </a:lnTo>
                    <a:lnTo>
                      <a:pt x="964" y="511"/>
                    </a:lnTo>
                    <a:lnTo>
                      <a:pt x="957" y="510"/>
                    </a:lnTo>
                    <a:lnTo>
                      <a:pt x="953" y="505"/>
                    </a:lnTo>
                    <a:lnTo>
                      <a:pt x="950" y="500"/>
                    </a:lnTo>
                    <a:lnTo>
                      <a:pt x="949" y="493"/>
                    </a:lnTo>
                    <a:lnTo>
                      <a:pt x="949" y="488"/>
                    </a:lnTo>
                    <a:lnTo>
                      <a:pt x="949" y="485"/>
                    </a:lnTo>
                    <a:lnTo>
                      <a:pt x="947" y="483"/>
                    </a:lnTo>
                    <a:lnTo>
                      <a:pt x="945" y="482"/>
                    </a:lnTo>
                    <a:lnTo>
                      <a:pt x="944" y="482"/>
                    </a:lnTo>
                    <a:lnTo>
                      <a:pt x="942" y="482"/>
                    </a:lnTo>
                    <a:lnTo>
                      <a:pt x="940" y="481"/>
                    </a:lnTo>
                    <a:lnTo>
                      <a:pt x="938" y="481"/>
                    </a:lnTo>
                    <a:lnTo>
                      <a:pt x="934" y="479"/>
                    </a:lnTo>
                    <a:lnTo>
                      <a:pt x="932" y="476"/>
                    </a:lnTo>
                    <a:lnTo>
                      <a:pt x="930" y="472"/>
                    </a:lnTo>
                    <a:lnTo>
                      <a:pt x="929" y="469"/>
                    </a:lnTo>
                    <a:lnTo>
                      <a:pt x="927" y="466"/>
                    </a:lnTo>
                    <a:lnTo>
                      <a:pt x="924" y="464"/>
                    </a:lnTo>
                    <a:lnTo>
                      <a:pt x="923" y="459"/>
                    </a:lnTo>
                    <a:lnTo>
                      <a:pt x="920" y="457"/>
                    </a:lnTo>
                    <a:lnTo>
                      <a:pt x="917" y="454"/>
                    </a:lnTo>
                    <a:lnTo>
                      <a:pt x="913" y="452"/>
                    </a:lnTo>
                    <a:lnTo>
                      <a:pt x="909" y="450"/>
                    </a:lnTo>
                    <a:lnTo>
                      <a:pt x="907" y="448"/>
                    </a:lnTo>
                    <a:lnTo>
                      <a:pt x="905" y="447"/>
                    </a:lnTo>
                    <a:lnTo>
                      <a:pt x="902" y="447"/>
                    </a:lnTo>
                    <a:lnTo>
                      <a:pt x="901" y="447"/>
                    </a:lnTo>
                    <a:lnTo>
                      <a:pt x="899" y="448"/>
                    </a:lnTo>
                    <a:lnTo>
                      <a:pt x="896" y="450"/>
                    </a:lnTo>
                    <a:lnTo>
                      <a:pt x="892" y="450"/>
                    </a:lnTo>
                    <a:lnTo>
                      <a:pt x="887" y="448"/>
                    </a:lnTo>
                    <a:lnTo>
                      <a:pt x="881" y="446"/>
                    </a:lnTo>
                    <a:lnTo>
                      <a:pt x="877" y="443"/>
                    </a:lnTo>
                    <a:lnTo>
                      <a:pt x="873" y="443"/>
                    </a:lnTo>
                    <a:lnTo>
                      <a:pt x="870" y="446"/>
                    </a:lnTo>
                    <a:lnTo>
                      <a:pt x="869" y="448"/>
                    </a:lnTo>
                    <a:lnTo>
                      <a:pt x="869" y="450"/>
                    </a:lnTo>
                    <a:lnTo>
                      <a:pt x="869" y="452"/>
                    </a:lnTo>
                    <a:lnTo>
                      <a:pt x="868" y="454"/>
                    </a:lnTo>
                    <a:lnTo>
                      <a:pt x="867" y="454"/>
                    </a:lnTo>
                    <a:lnTo>
                      <a:pt x="866" y="455"/>
                    </a:lnTo>
                    <a:lnTo>
                      <a:pt x="864" y="455"/>
                    </a:lnTo>
                    <a:lnTo>
                      <a:pt x="862" y="455"/>
                    </a:lnTo>
                    <a:lnTo>
                      <a:pt x="859" y="455"/>
                    </a:lnTo>
                    <a:lnTo>
                      <a:pt x="857" y="455"/>
                    </a:lnTo>
                    <a:lnTo>
                      <a:pt x="855" y="456"/>
                    </a:lnTo>
                    <a:lnTo>
                      <a:pt x="853" y="457"/>
                    </a:lnTo>
                    <a:lnTo>
                      <a:pt x="851" y="459"/>
                    </a:lnTo>
                    <a:lnTo>
                      <a:pt x="845" y="460"/>
                    </a:lnTo>
                    <a:lnTo>
                      <a:pt x="837" y="459"/>
                    </a:lnTo>
                    <a:lnTo>
                      <a:pt x="831" y="455"/>
                    </a:lnTo>
                    <a:lnTo>
                      <a:pt x="824" y="450"/>
                    </a:lnTo>
                    <a:lnTo>
                      <a:pt x="820" y="446"/>
                    </a:lnTo>
                    <a:lnTo>
                      <a:pt x="820" y="440"/>
                    </a:lnTo>
                    <a:lnTo>
                      <a:pt x="820" y="436"/>
                    </a:lnTo>
                    <a:lnTo>
                      <a:pt x="821" y="432"/>
                    </a:lnTo>
                    <a:lnTo>
                      <a:pt x="822" y="428"/>
                    </a:lnTo>
                    <a:lnTo>
                      <a:pt x="824" y="422"/>
                    </a:lnTo>
                    <a:lnTo>
                      <a:pt x="826" y="416"/>
                    </a:lnTo>
                    <a:lnTo>
                      <a:pt x="829" y="411"/>
                    </a:lnTo>
                    <a:lnTo>
                      <a:pt x="833" y="405"/>
                    </a:lnTo>
                    <a:lnTo>
                      <a:pt x="837" y="404"/>
                    </a:lnTo>
                    <a:lnTo>
                      <a:pt x="844" y="404"/>
                    </a:lnTo>
                    <a:lnTo>
                      <a:pt x="851" y="406"/>
                    </a:lnTo>
                    <a:lnTo>
                      <a:pt x="857" y="409"/>
                    </a:lnTo>
                    <a:lnTo>
                      <a:pt x="867" y="410"/>
                    </a:lnTo>
                    <a:lnTo>
                      <a:pt x="879" y="410"/>
                    </a:lnTo>
                    <a:lnTo>
                      <a:pt x="891" y="407"/>
                    </a:lnTo>
                    <a:lnTo>
                      <a:pt x="900" y="404"/>
                    </a:lnTo>
                    <a:lnTo>
                      <a:pt x="902" y="403"/>
                    </a:lnTo>
                    <a:lnTo>
                      <a:pt x="905" y="401"/>
                    </a:lnTo>
                    <a:lnTo>
                      <a:pt x="905" y="399"/>
                    </a:lnTo>
                    <a:lnTo>
                      <a:pt x="905" y="395"/>
                    </a:lnTo>
                    <a:lnTo>
                      <a:pt x="905" y="393"/>
                    </a:lnTo>
                    <a:lnTo>
                      <a:pt x="905" y="390"/>
                    </a:lnTo>
                    <a:lnTo>
                      <a:pt x="903" y="388"/>
                    </a:lnTo>
                    <a:lnTo>
                      <a:pt x="901" y="384"/>
                    </a:lnTo>
                    <a:lnTo>
                      <a:pt x="899" y="382"/>
                    </a:lnTo>
                    <a:lnTo>
                      <a:pt x="896" y="380"/>
                    </a:lnTo>
                    <a:lnTo>
                      <a:pt x="893" y="376"/>
                    </a:lnTo>
                    <a:lnTo>
                      <a:pt x="895" y="371"/>
                    </a:lnTo>
                    <a:lnTo>
                      <a:pt x="899" y="366"/>
                    </a:lnTo>
                    <a:lnTo>
                      <a:pt x="903" y="361"/>
                    </a:lnTo>
                    <a:lnTo>
                      <a:pt x="907" y="358"/>
                    </a:lnTo>
                    <a:lnTo>
                      <a:pt x="914" y="355"/>
                    </a:lnTo>
                    <a:lnTo>
                      <a:pt x="922" y="356"/>
                    </a:lnTo>
                    <a:lnTo>
                      <a:pt x="929" y="356"/>
                    </a:lnTo>
                    <a:lnTo>
                      <a:pt x="933" y="356"/>
                    </a:lnTo>
                    <a:lnTo>
                      <a:pt x="936" y="357"/>
                    </a:lnTo>
                    <a:lnTo>
                      <a:pt x="940" y="357"/>
                    </a:lnTo>
                    <a:lnTo>
                      <a:pt x="943" y="358"/>
                    </a:lnTo>
                    <a:lnTo>
                      <a:pt x="946" y="360"/>
                    </a:lnTo>
                    <a:lnTo>
                      <a:pt x="949" y="365"/>
                    </a:lnTo>
                    <a:lnTo>
                      <a:pt x="951" y="371"/>
                    </a:lnTo>
                    <a:lnTo>
                      <a:pt x="954" y="378"/>
                    </a:lnTo>
                    <a:lnTo>
                      <a:pt x="957" y="383"/>
                    </a:lnTo>
                    <a:lnTo>
                      <a:pt x="962" y="384"/>
                    </a:lnTo>
                    <a:lnTo>
                      <a:pt x="967" y="382"/>
                    </a:lnTo>
                    <a:lnTo>
                      <a:pt x="974" y="379"/>
                    </a:lnTo>
                    <a:lnTo>
                      <a:pt x="982" y="373"/>
                    </a:lnTo>
                    <a:lnTo>
                      <a:pt x="986" y="368"/>
                    </a:lnTo>
                    <a:lnTo>
                      <a:pt x="987" y="362"/>
                    </a:lnTo>
                    <a:lnTo>
                      <a:pt x="986" y="360"/>
                    </a:lnTo>
                    <a:lnTo>
                      <a:pt x="984" y="358"/>
                    </a:lnTo>
                    <a:lnTo>
                      <a:pt x="980" y="356"/>
                    </a:lnTo>
                    <a:lnTo>
                      <a:pt x="978" y="354"/>
                    </a:lnTo>
                    <a:lnTo>
                      <a:pt x="977" y="349"/>
                    </a:lnTo>
                    <a:lnTo>
                      <a:pt x="976" y="348"/>
                    </a:lnTo>
                    <a:lnTo>
                      <a:pt x="974" y="346"/>
                    </a:lnTo>
                    <a:lnTo>
                      <a:pt x="973" y="345"/>
                    </a:lnTo>
                    <a:lnTo>
                      <a:pt x="971" y="343"/>
                    </a:lnTo>
                    <a:lnTo>
                      <a:pt x="968" y="341"/>
                    </a:lnTo>
                    <a:lnTo>
                      <a:pt x="966" y="340"/>
                    </a:lnTo>
                    <a:lnTo>
                      <a:pt x="963" y="340"/>
                    </a:lnTo>
                    <a:lnTo>
                      <a:pt x="961" y="339"/>
                    </a:lnTo>
                    <a:lnTo>
                      <a:pt x="957" y="339"/>
                    </a:lnTo>
                    <a:lnTo>
                      <a:pt x="954" y="340"/>
                    </a:lnTo>
                    <a:lnTo>
                      <a:pt x="952" y="341"/>
                    </a:lnTo>
                    <a:lnTo>
                      <a:pt x="951" y="343"/>
                    </a:lnTo>
                    <a:lnTo>
                      <a:pt x="949" y="346"/>
                    </a:lnTo>
                    <a:lnTo>
                      <a:pt x="947" y="347"/>
                    </a:lnTo>
                    <a:lnTo>
                      <a:pt x="946" y="349"/>
                    </a:lnTo>
                    <a:lnTo>
                      <a:pt x="945" y="350"/>
                    </a:lnTo>
                    <a:lnTo>
                      <a:pt x="942" y="351"/>
                    </a:lnTo>
                    <a:lnTo>
                      <a:pt x="938" y="352"/>
                    </a:lnTo>
                    <a:lnTo>
                      <a:pt x="932" y="352"/>
                    </a:lnTo>
                    <a:lnTo>
                      <a:pt x="927" y="354"/>
                    </a:lnTo>
                    <a:lnTo>
                      <a:pt x="921" y="352"/>
                    </a:lnTo>
                    <a:lnTo>
                      <a:pt x="918" y="349"/>
                    </a:lnTo>
                    <a:lnTo>
                      <a:pt x="918" y="343"/>
                    </a:lnTo>
                    <a:lnTo>
                      <a:pt x="921" y="335"/>
                    </a:lnTo>
                    <a:lnTo>
                      <a:pt x="924" y="328"/>
                    </a:lnTo>
                    <a:lnTo>
                      <a:pt x="925" y="318"/>
                    </a:lnTo>
                    <a:lnTo>
                      <a:pt x="924" y="308"/>
                    </a:lnTo>
                    <a:lnTo>
                      <a:pt x="922" y="300"/>
                    </a:lnTo>
                    <a:lnTo>
                      <a:pt x="921" y="295"/>
                    </a:lnTo>
                    <a:lnTo>
                      <a:pt x="918" y="292"/>
                    </a:lnTo>
                    <a:lnTo>
                      <a:pt x="916" y="290"/>
                    </a:lnTo>
                    <a:lnTo>
                      <a:pt x="912" y="286"/>
                    </a:lnTo>
                    <a:lnTo>
                      <a:pt x="909" y="284"/>
                    </a:lnTo>
                    <a:lnTo>
                      <a:pt x="907" y="281"/>
                    </a:lnTo>
                    <a:lnTo>
                      <a:pt x="903" y="278"/>
                    </a:lnTo>
                    <a:lnTo>
                      <a:pt x="900" y="275"/>
                    </a:lnTo>
                    <a:lnTo>
                      <a:pt x="897" y="272"/>
                    </a:lnTo>
                    <a:lnTo>
                      <a:pt x="895" y="269"/>
                    </a:lnTo>
                    <a:lnTo>
                      <a:pt x="891" y="263"/>
                    </a:lnTo>
                    <a:lnTo>
                      <a:pt x="887" y="258"/>
                    </a:lnTo>
                    <a:lnTo>
                      <a:pt x="881" y="253"/>
                    </a:lnTo>
                    <a:lnTo>
                      <a:pt x="875" y="253"/>
                    </a:lnTo>
                    <a:lnTo>
                      <a:pt x="871" y="254"/>
                    </a:lnTo>
                    <a:lnTo>
                      <a:pt x="869" y="256"/>
                    </a:lnTo>
                    <a:lnTo>
                      <a:pt x="867" y="257"/>
                    </a:lnTo>
                    <a:lnTo>
                      <a:pt x="865" y="258"/>
                    </a:lnTo>
                    <a:lnTo>
                      <a:pt x="863" y="258"/>
                    </a:lnTo>
                    <a:lnTo>
                      <a:pt x="859" y="258"/>
                    </a:lnTo>
                    <a:lnTo>
                      <a:pt x="857" y="258"/>
                    </a:lnTo>
                    <a:lnTo>
                      <a:pt x="854" y="257"/>
                    </a:lnTo>
                    <a:lnTo>
                      <a:pt x="852" y="256"/>
                    </a:lnTo>
                    <a:lnTo>
                      <a:pt x="849" y="253"/>
                    </a:lnTo>
                    <a:lnTo>
                      <a:pt x="848" y="252"/>
                    </a:lnTo>
                    <a:lnTo>
                      <a:pt x="847" y="250"/>
                    </a:lnTo>
                    <a:lnTo>
                      <a:pt x="848" y="249"/>
                    </a:lnTo>
                    <a:lnTo>
                      <a:pt x="851" y="247"/>
                    </a:lnTo>
                    <a:lnTo>
                      <a:pt x="852" y="246"/>
                    </a:lnTo>
                    <a:lnTo>
                      <a:pt x="854" y="246"/>
                    </a:lnTo>
                    <a:lnTo>
                      <a:pt x="856" y="246"/>
                    </a:lnTo>
                    <a:lnTo>
                      <a:pt x="858" y="245"/>
                    </a:lnTo>
                    <a:lnTo>
                      <a:pt x="860" y="245"/>
                    </a:lnTo>
                    <a:lnTo>
                      <a:pt x="862" y="242"/>
                    </a:lnTo>
                    <a:lnTo>
                      <a:pt x="863" y="240"/>
                    </a:lnTo>
                    <a:lnTo>
                      <a:pt x="863" y="238"/>
                    </a:lnTo>
                    <a:lnTo>
                      <a:pt x="862" y="236"/>
                    </a:lnTo>
                    <a:lnTo>
                      <a:pt x="859" y="234"/>
                    </a:lnTo>
                    <a:lnTo>
                      <a:pt x="857" y="231"/>
                    </a:lnTo>
                    <a:lnTo>
                      <a:pt x="854" y="230"/>
                    </a:lnTo>
                    <a:lnTo>
                      <a:pt x="852" y="229"/>
                    </a:lnTo>
                    <a:lnTo>
                      <a:pt x="849" y="230"/>
                    </a:lnTo>
                    <a:lnTo>
                      <a:pt x="848" y="231"/>
                    </a:lnTo>
                    <a:lnTo>
                      <a:pt x="846" y="232"/>
                    </a:lnTo>
                    <a:lnTo>
                      <a:pt x="844" y="234"/>
                    </a:lnTo>
                    <a:lnTo>
                      <a:pt x="843" y="234"/>
                    </a:lnTo>
                    <a:lnTo>
                      <a:pt x="841" y="232"/>
                    </a:lnTo>
                    <a:lnTo>
                      <a:pt x="838" y="231"/>
                    </a:lnTo>
                    <a:lnTo>
                      <a:pt x="836" y="229"/>
                    </a:lnTo>
                    <a:lnTo>
                      <a:pt x="835" y="227"/>
                    </a:lnTo>
                    <a:lnTo>
                      <a:pt x="835" y="225"/>
                    </a:lnTo>
                    <a:lnTo>
                      <a:pt x="836" y="224"/>
                    </a:lnTo>
                    <a:lnTo>
                      <a:pt x="837" y="223"/>
                    </a:lnTo>
                    <a:lnTo>
                      <a:pt x="838" y="220"/>
                    </a:lnTo>
                    <a:lnTo>
                      <a:pt x="841" y="218"/>
                    </a:lnTo>
                    <a:lnTo>
                      <a:pt x="842" y="217"/>
                    </a:lnTo>
                    <a:lnTo>
                      <a:pt x="842" y="215"/>
                    </a:lnTo>
                    <a:lnTo>
                      <a:pt x="842" y="214"/>
                    </a:lnTo>
                    <a:lnTo>
                      <a:pt x="841" y="213"/>
                    </a:lnTo>
                    <a:lnTo>
                      <a:pt x="838" y="213"/>
                    </a:lnTo>
                    <a:lnTo>
                      <a:pt x="836" y="213"/>
                    </a:lnTo>
                    <a:lnTo>
                      <a:pt x="835" y="213"/>
                    </a:lnTo>
                    <a:lnTo>
                      <a:pt x="833" y="212"/>
                    </a:lnTo>
                    <a:lnTo>
                      <a:pt x="831" y="212"/>
                    </a:lnTo>
                    <a:lnTo>
                      <a:pt x="829" y="210"/>
                    </a:lnTo>
                    <a:lnTo>
                      <a:pt x="826" y="210"/>
                    </a:lnTo>
                    <a:lnTo>
                      <a:pt x="824" y="209"/>
                    </a:lnTo>
                    <a:lnTo>
                      <a:pt x="822" y="207"/>
                    </a:lnTo>
                    <a:lnTo>
                      <a:pt x="821" y="205"/>
                    </a:lnTo>
                    <a:lnTo>
                      <a:pt x="821" y="203"/>
                    </a:lnTo>
                    <a:lnTo>
                      <a:pt x="822" y="200"/>
                    </a:lnTo>
                    <a:lnTo>
                      <a:pt x="822" y="197"/>
                    </a:lnTo>
                    <a:lnTo>
                      <a:pt x="822" y="194"/>
                    </a:lnTo>
                    <a:lnTo>
                      <a:pt x="822" y="192"/>
                    </a:lnTo>
                    <a:lnTo>
                      <a:pt x="821" y="187"/>
                    </a:lnTo>
                    <a:lnTo>
                      <a:pt x="819" y="184"/>
                    </a:lnTo>
                    <a:lnTo>
                      <a:pt x="818" y="181"/>
                    </a:lnTo>
                    <a:lnTo>
                      <a:pt x="815" y="178"/>
                    </a:lnTo>
                    <a:lnTo>
                      <a:pt x="811" y="174"/>
                    </a:lnTo>
                    <a:lnTo>
                      <a:pt x="804" y="172"/>
                    </a:lnTo>
                    <a:lnTo>
                      <a:pt x="797" y="172"/>
                    </a:lnTo>
                    <a:lnTo>
                      <a:pt x="790" y="174"/>
                    </a:lnTo>
                    <a:lnTo>
                      <a:pt x="790" y="175"/>
                    </a:lnTo>
                    <a:lnTo>
                      <a:pt x="791" y="177"/>
                    </a:lnTo>
                    <a:lnTo>
                      <a:pt x="793" y="180"/>
                    </a:lnTo>
                    <a:lnTo>
                      <a:pt x="796" y="182"/>
                    </a:lnTo>
                    <a:lnTo>
                      <a:pt x="798" y="184"/>
                    </a:lnTo>
                    <a:lnTo>
                      <a:pt x="800" y="186"/>
                    </a:lnTo>
                    <a:lnTo>
                      <a:pt x="802" y="188"/>
                    </a:lnTo>
                    <a:lnTo>
                      <a:pt x="804" y="189"/>
                    </a:lnTo>
                    <a:lnTo>
                      <a:pt x="805" y="189"/>
                    </a:lnTo>
                    <a:lnTo>
                      <a:pt x="807" y="193"/>
                    </a:lnTo>
                    <a:lnTo>
                      <a:pt x="807" y="196"/>
                    </a:lnTo>
                    <a:lnTo>
                      <a:pt x="805" y="198"/>
                    </a:lnTo>
                    <a:lnTo>
                      <a:pt x="804" y="199"/>
                    </a:lnTo>
                    <a:lnTo>
                      <a:pt x="802" y="202"/>
                    </a:lnTo>
                    <a:lnTo>
                      <a:pt x="799" y="202"/>
                    </a:lnTo>
                    <a:lnTo>
                      <a:pt x="796" y="203"/>
                    </a:lnTo>
                    <a:lnTo>
                      <a:pt x="793" y="203"/>
                    </a:lnTo>
                    <a:lnTo>
                      <a:pt x="790" y="203"/>
                    </a:lnTo>
                    <a:lnTo>
                      <a:pt x="777" y="199"/>
                    </a:lnTo>
                    <a:lnTo>
                      <a:pt x="764" y="196"/>
                    </a:lnTo>
                    <a:lnTo>
                      <a:pt x="760" y="197"/>
                    </a:lnTo>
                    <a:lnTo>
                      <a:pt x="758" y="199"/>
                    </a:lnTo>
                    <a:lnTo>
                      <a:pt x="756" y="200"/>
                    </a:lnTo>
                    <a:lnTo>
                      <a:pt x="754" y="202"/>
                    </a:lnTo>
                    <a:lnTo>
                      <a:pt x="750" y="203"/>
                    </a:lnTo>
                    <a:lnTo>
                      <a:pt x="746" y="203"/>
                    </a:lnTo>
                    <a:lnTo>
                      <a:pt x="732" y="202"/>
                    </a:lnTo>
                    <a:lnTo>
                      <a:pt x="716" y="200"/>
                    </a:lnTo>
                    <a:lnTo>
                      <a:pt x="694" y="200"/>
                    </a:lnTo>
                    <a:lnTo>
                      <a:pt x="681" y="199"/>
                    </a:lnTo>
                    <a:lnTo>
                      <a:pt x="669" y="195"/>
                    </a:lnTo>
                    <a:lnTo>
                      <a:pt x="657" y="192"/>
                    </a:lnTo>
                    <a:lnTo>
                      <a:pt x="649" y="192"/>
                    </a:lnTo>
                    <a:lnTo>
                      <a:pt x="640" y="191"/>
                    </a:lnTo>
                    <a:lnTo>
                      <a:pt x="634" y="187"/>
                    </a:lnTo>
                    <a:lnTo>
                      <a:pt x="629" y="184"/>
                    </a:lnTo>
                    <a:lnTo>
                      <a:pt x="625" y="180"/>
                    </a:lnTo>
                    <a:lnTo>
                      <a:pt x="620" y="176"/>
                    </a:lnTo>
                    <a:lnTo>
                      <a:pt x="616" y="172"/>
                    </a:lnTo>
                    <a:lnTo>
                      <a:pt x="614" y="171"/>
                    </a:lnTo>
                    <a:lnTo>
                      <a:pt x="611" y="169"/>
                    </a:lnTo>
                    <a:lnTo>
                      <a:pt x="608" y="166"/>
                    </a:lnTo>
                    <a:lnTo>
                      <a:pt x="605" y="164"/>
                    </a:lnTo>
                    <a:lnTo>
                      <a:pt x="604" y="162"/>
                    </a:lnTo>
                    <a:lnTo>
                      <a:pt x="603" y="160"/>
                    </a:lnTo>
                    <a:lnTo>
                      <a:pt x="603" y="156"/>
                    </a:lnTo>
                    <a:lnTo>
                      <a:pt x="604" y="153"/>
                    </a:lnTo>
                    <a:lnTo>
                      <a:pt x="605" y="152"/>
                    </a:lnTo>
                    <a:lnTo>
                      <a:pt x="606" y="150"/>
                    </a:lnTo>
                    <a:lnTo>
                      <a:pt x="608" y="150"/>
                    </a:lnTo>
                    <a:lnTo>
                      <a:pt x="612" y="151"/>
                    </a:lnTo>
                    <a:lnTo>
                      <a:pt x="618" y="152"/>
                    </a:lnTo>
                    <a:lnTo>
                      <a:pt x="626" y="154"/>
                    </a:lnTo>
                    <a:lnTo>
                      <a:pt x="634" y="155"/>
                    </a:lnTo>
                    <a:lnTo>
                      <a:pt x="635" y="154"/>
                    </a:lnTo>
                    <a:lnTo>
                      <a:pt x="635" y="154"/>
                    </a:lnTo>
                    <a:lnTo>
                      <a:pt x="634" y="153"/>
                    </a:lnTo>
                    <a:lnTo>
                      <a:pt x="633" y="151"/>
                    </a:lnTo>
                    <a:lnTo>
                      <a:pt x="631" y="150"/>
                    </a:lnTo>
                    <a:lnTo>
                      <a:pt x="629" y="149"/>
                    </a:lnTo>
                    <a:lnTo>
                      <a:pt x="628" y="148"/>
                    </a:lnTo>
                    <a:lnTo>
                      <a:pt x="627" y="147"/>
                    </a:lnTo>
                    <a:lnTo>
                      <a:pt x="618" y="143"/>
                    </a:lnTo>
                    <a:lnTo>
                      <a:pt x="608" y="141"/>
                    </a:lnTo>
                    <a:lnTo>
                      <a:pt x="598" y="138"/>
                    </a:lnTo>
                    <a:lnTo>
                      <a:pt x="592" y="133"/>
                    </a:lnTo>
                    <a:lnTo>
                      <a:pt x="591" y="128"/>
                    </a:lnTo>
                    <a:lnTo>
                      <a:pt x="592" y="120"/>
                    </a:lnTo>
                    <a:lnTo>
                      <a:pt x="592" y="114"/>
                    </a:lnTo>
                    <a:lnTo>
                      <a:pt x="592" y="96"/>
                    </a:lnTo>
                    <a:lnTo>
                      <a:pt x="596" y="82"/>
                    </a:lnTo>
                    <a:lnTo>
                      <a:pt x="603" y="67"/>
                    </a:lnTo>
                    <a:lnTo>
                      <a:pt x="609" y="54"/>
                    </a:lnTo>
                    <a:lnTo>
                      <a:pt x="613" y="51"/>
                    </a:lnTo>
                    <a:lnTo>
                      <a:pt x="615" y="46"/>
                    </a:lnTo>
                    <a:lnTo>
                      <a:pt x="617" y="43"/>
                    </a:lnTo>
                    <a:lnTo>
                      <a:pt x="620" y="39"/>
                    </a:lnTo>
                    <a:lnTo>
                      <a:pt x="625" y="36"/>
                    </a:lnTo>
                    <a:lnTo>
                      <a:pt x="630" y="34"/>
                    </a:lnTo>
                    <a:lnTo>
                      <a:pt x="634" y="32"/>
                    </a:lnTo>
                    <a:lnTo>
                      <a:pt x="638" y="30"/>
                    </a:lnTo>
                    <a:lnTo>
                      <a:pt x="650" y="23"/>
                    </a:lnTo>
                    <a:lnTo>
                      <a:pt x="665" y="19"/>
                    </a:lnTo>
                    <a:lnTo>
                      <a:pt x="679" y="17"/>
                    </a:lnTo>
                    <a:close/>
                    <a:moveTo>
                      <a:pt x="2227" y="17"/>
                    </a:moveTo>
                    <a:lnTo>
                      <a:pt x="2228" y="18"/>
                    </a:lnTo>
                    <a:lnTo>
                      <a:pt x="2230" y="20"/>
                    </a:lnTo>
                    <a:lnTo>
                      <a:pt x="2231" y="24"/>
                    </a:lnTo>
                    <a:lnTo>
                      <a:pt x="2232" y="28"/>
                    </a:lnTo>
                    <a:lnTo>
                      <a:pt x="2232" y="31"/>
                    </a:lnTo>
                    <a:lnTo>
                      <a:pt x="2233" y="33"/>
                    </a:lnTo>
                    <a:lnTo>
                      <a:pt x="2233" y="35"/>
                    </a:lnTo>
                    <a:lnTo>
                      <a:pt x="2235" y="39"/>
                    </a:lnTo>
                    <a:lnTo>
                      <a:pt x="2237" y="42"/>
                    </a:lnTo>
                    <a:lnTo>
                      <a:pt x="2238" y="45"/>
                    </a:lnTo>
                    <a:lnTo>
                      <a:pt x="2238" y="47"/>
                    </a:lnTo>
                    <a:lnTo>
                      <a:pt x="2238" y="49"/>
                    </a:lnTo>
                    <a:lnTo>
                      <a:pt x="2238" y="49"/>
                    </a:lnTo>
                    <a:lnTo>
                      <a:pt x="2237" y="49"/>
                    </a:lnTo>
                    <a:lnTo>
                      <a:pt x="2237" y="47"/>
                    </a:lnTo>
                    <a:lnTo>
                      <a:pt x="2235" y="46"/>
                    </a:lnTo>
                    <a:lnTo>
                      <a:pt x="2234" y="46"/>
                    </a:lnTo>
                    <a:lnTo>
                      <a:pt x="2233" y="46"/>
                    </a:lnTo>
                    <a:lnTo>
                      <a:pt x="2233" y="46"/>
                    </a:lnTo>
                    <a:lnTo>
                      <a:pt x="2233" y="47"/>
                    </a:lnTo>
                    <a:lnTo>
                      <a:pt x="2233" y="54"/>
                    </a:lnTo>
                    <a:lnTo>
                      <a:pt x="2232" y="54"/>
                    </a:lnTo>
                    <a:lnTo>
                      <a:pt x="2231" y="53"/>
                    </a:lnTo>
                    <a:lnTo>
                      <a:pt x="2231" y="52"/>
                    </a:lnTo>
                    <a:lnTo>
                      <a:pt x="2230" y="52"/>
                    </a:lnTo>
                    <a:lnTo>
                      <a:pt x="2229" y="50"/>
                    </a:lnTo>
                    <a:lnTo>
                      <a:pt x="2228" y="47"/>
                    </a:lnTo>
                    <a:lnTo>
                      <a:pt x="2227" y="46"/>
                    </a:lnTo>
                    <a:lnTo>
                      <a:pt x="2227" y="45"/>
                    </a:lnTo>
                    <a:lnTo>
                      <a:pt x="2226" y="43"/>
                    </a:lnTo>
                    <a:lnTo>
                      <a:pt x="2224" y="42"/>
                    </a:lnTo>
                    <a:lnTo>
                      <a:pt x="2223" y="41"/>
                    </a:lnTo>
                    <a:lnTo>
                      <a:pt x="2223" y="40"/>
                    </a:lnTo>
                    <a:lnTo>
                      <a:pt x="2223" y="39"/>
                    </a:lnTo>
                    <a:lnTo>
                      <a:pt x="2223" y="38"/>
                    </a:lnTo>
                    <a:lnTo>
                      <a:pt x="2223" y="36"/>
                    </a:lnTo>
                    <a:lnTo>
                      <a:pt x="2223" y="34"/>
                    </a:lnTo>
                    <a:lnTo>
                      <a:pt x="2223" y="32"/>
                    </a:lnTo>
                    <a:lnTo>
                      <a:pt x="2222" y="30"/>
                    </a:lnTo>
                    <a:lnTo>
                      <a:pt x="2221" y="28"/>
                    </a:lnTo>
                    <a:lnTo>
                      <a:pt x="2221" y="27"/>
                    </a:lnTo>
                    <a:lnTo>
                      <a:pt x="2222" y="25"/>
                    </a:lnTo>
                    <a:lnTo>
                      <a:pt x="2222" y="23"/>
                    </a:lnTo>
                    <a:lnTo>
                      <a:pt x="2223" y="22"/>
                    </a:lnTo>
                    <a:lnTo>
                      <a:pt x="2224" y="20"/>
                    </a:lnTo>
                    <a:lnTo>
                      <a:pt x="2224" y="18"/>
                    </a:lnTo>
                    <a:lnTo>
                      <a:pt x="2226" y="17"/>
                    </a:lnTo>
                    <a:lnTo>
                      <a:pt x="2227" y="17"/>
                    </a:lnTo>
                    <a:close/>
                    <a:moveTo>
                      <a:pt x="1659" y="12"/>
                    </a:moveTo>
                    <a:lnTo>
                      <a:pt x="1661" y="12"/>
                    </a:lnTo>
                    <a:lnTo>
                      <a:pt x="1663" y="14"/>
                    </a:lnTo>
                    <a:lnTo>
                      <a:pt x="1665" y="18"/>
                    </a:lnTo>
                    <a:lnTo>
                      <a:pt x="1666" y="21"/>
                    </a:lnTo>
                    <a:lnTo>
                      <a:pt x="1667" y="24"/>
                    </a:lnTo>
                    <a:lnTo>
                      <a:pt x="1669" y="27"/>
                    </a:lnTo>
                    <a:lnTo>
                      <a:pt x="1670" y="30"/>
                    </a:lnTo>
                    <a:lnTo>
                      <a:pt x="1672" y="34"/>
                    </a:lnTo>
                    <a:lnTo>
                      <a:pt x="1674" y="39"/>
                    </a:lnTo>
                    <a:lnTo>
                      <a:pt x="1674" y="43"/>
                    </a:lnTo>
                    <a:lnTo>
                      <a:pt x="1674" y="44"/>
                    </a:lnTo>
                    <a:lnTo>
                      <a:pt x="1674" y="46"/>
                    </a:lnTo>
                    <a:lnTo>
                      <a:pt x="1673" y="47"/>
                    </a:lnTo>
                    <a:lnTo>
                      <a:pt x="1673" y="49"/>
                    </a:lnTo>
                    <a:lnTo>
                      <a:pt x="1672" y="49"/>
                    </a:lnTo>
                    <a:lnTo>
                      <a:pt x="1671" y="49"/>
                    </a:lnTo>
                    <a:lnTo>
                      <a:pt x="1670" y="45"/>
                    </a:lnTo>
                    <a:lnTo>
                      <a:pt x="1665" y="36"/>
                    </a:lnTo>
                    <a:lnTo>
                      <a:pt x="1660" y="28"/>
                    </a:lnTo>
                    <a:lnTo>
                      <a:pt x="1655" y="19"/>
                    </a:lnTo>
                    <a:lnTo>
                      <a:pt x="1655" y="17"/>
                    </a:lnTo>
                    <a:lnTo>
                      <a:pt x="1656" y="16"/>
                    </a:lnTo>
                    <a:lnTo>
                      <a:pt x="1656" y="13"/>
                    </a:lnTo>
                    <a:lnTo>
                      <a:pt x="1656" y="12"/>
                    </a:lnTo>
                    <a:lnTo>
                      <a:pt x="1658" y="12"/>
                    </a:lnTo>
                    <a:lnTo>
                      <a:pt x="1659" y="12"/>
                    </a:lnTo>
                    <a:close/>
                    <a:moveTo>
                      <a:pt x="537" y="10"/>
                    </a:moveTo>
                    <a:lnTo>
                      <a:pt x="548" y="12"/>
                    </a:lnTo>
                    <a:lnTo>
                      <a:pt x="551" y="12"/>
                    </a:lnTo>
                    <a:lnTo>
                      <a:pt x="554" y="13"/>
                    </a:lnTo>
                    <a:lnTo>
                      <a:pt x="557" y="13"/>
                    </a:lnTo>
                    <a:lnTo>
                      <a:pt x="560" y="14"/>
                    </a:lnTo>
                    <a:lnTo>
                      <a:pt x="563" y="14"/>
                    </a:lnTo>
                    <a:lnTo>
                      <a:pt x="580" y="14"/>
                    </a:lnTo>
                    <a:lnTo>
                      <a:pt x="585" y="13"/>
                    </a:lnTo>
                    <a:lnTo>
                      <a:pt x="592" y="14"/>
                    </a:lnTo>
                    <a:lnTo>
                      <a:pt x="597" y="17"/>
                    </a:lnTo>
                    <a:lnTo>
                      <a:pt x="600" y="21"/>
                    </a:lnTo>
                    <a:lnTo>
                      <a:pt x="596" y="27"/>
                    </a:lnTo>
                    <a:lnTo>
                      <a:pt x="590" y="31"/>
                    </a:lnTo>
                    <a:lnTo>
                      <a:pt x="582" y="33"/>
                    </a:lnTo>
                    <a:lnTo>
                      <a:pt x="579" y="34"/>
                    </a:lnTo>
                    <a:lnTo>
                      <a:pt x="578" y="35"/>
                    </a:lnTo>
                    <a:lnTo>
                      <a:pt x="576" y="35"/>
                    </a:lnTo>
                    <a:lnTo>
                      <a:pt x="576" y="36"/>
                    </a:lnTo>
                    <a:lnTo>
                      <a:pt x="576" y="38"/>
                    </a:lnTo>
                    <a:lnTo>
                      <a:pt x="576" y="40"/>
                    </a:lnTo>
                    <a:lnTo>
                      <a:pt x="576" y="42"/>
                    </a:lnTo>
                    <a:lnTo>
                      <a:pt x="575" y="44"/>
                    </a:lnTo>
                    <a:lnTo>
                      <a:pt x="574" y="46"/>
                    </a:lnTo>
                    <a:lnTo>
                      <a:pt x="573" y="47"/>
                    </a:lnTo>
                    <a:lnTo>
                      <a:pt x="572" y="51"/>
                    </a:lnTo>
                    <a:lnTo>
                      <a:pt x="569" y="53"/>
                    </a:lnTo>
                    <a:lnTo>
                      <a:pt x="567" y="55"/>
                    </a:lnTo>
                    <a:lnTo>
                      <a:pt x="563" y="58"/>
                    </a:lnTo>
                    <a:lnTo>
                      <a:pt x="561" y="61"/>
                    </a:lnTo>
                    <a:lnTo>
                      <a:pt x="560" y="64"/>
                    </a:lnTo>
                    <a:lnTo>
                      <a:pt x="559" y="67"/>
                    </a:lnTo>
                    <a:lnTo>
                      <a:pt x="558" y="69"/>
                    </a:lnTo>
                    <a:lnTo>
                      <a:pt x="557" y="72"/>
                    </a:lnTo>
                    <a:lnTo>
                      <a:pt x="552" y="75"/>
                    </a:lnTo>
                    <a:lnTo>
                      <a:pt x="547" y="75"/>
                    </a:lnTo>
                    <a:lnTo>
                      <a:pt x="540" y="73"/>
                    </a:lnTo>
                    <a:lnTo>
                      <a:pt x="534" y="71"/>
                    </a:lnTo>
                    <a:lnTo>
                      <a:pt x="528" y="69"/>
                    </a:lnTo>
                    <a:lnTo>
                      <a:pt x="526" y="69"/>
                    </a:lnTo>
                    <a:lnTo>
                      <a:pt x="525" y="71"/>
                    </a:lnTo>
                    <a:lnTo>
                      <a:pt x="525" y="72"/>
                    </a:lnTo>
                    <a:lnTo>
                      <a:pt x="525" y="73"/>
                    </a:lnTo>
                    <a:lnTo>
                      <a:pt x="526" y="74"/>
                    </a:lnTo>
                    <a:lnTo>
                      <a:pt x="527" y="75"/>
                    </a:lnTo>
                    <a:lnTo>
                      <a:pt x="528" y="76"/>
                    </a:lnTo>
                    <a:lnTo>
                      <a:pt x="529" y="77"/>
                    </a:lnTo>
                    <a:lnTo>
                      <a:pt x="530" y="78"/>
                    </a:lnTo>
                    <a:lnTo>
                      <a:pt x="532" y="84"/>
                    </a:lnTo>
                    <a:lnTo>
                      <a:pt x="531" y="92"/>
                    </a:lnTo>
                    <a:lnTo>
                      <a:pt x="526" y="97"/>
                    </a:lnTo>
                    <a:lnTo>
                      <a:pt x="519" y="103"/>
                    </a:lnTo>
                    <a:lnTo>
                      <a:pt x="511" y="107"/>
                    </a:lnTo>
                    <a:lnTo>
                      <a:pt x="504" y="110"/>
                    </a:lnTo>
                    <a:lnTo>
                      <a:pt x="500" y="109"/>
                    </a:lnTo>
                    <a:lnTo>
                      <a:pt x="498" y="108"/>
                    </a:lnTo>
                    <a:lnTo>
                      <a:pt x="496" y="106"/>
                    </a:lnTo>
                    <a:lnTo>
                      <a:pt x="494" y="103"/>
                    </a:lnTo>
                    <a:lnTo>
                      <a:pt x="493" y="100"/>
                    </a:lnTo>
                    <a:lnTo>
                      <a:pt x="492" y="97"/>
                    </a:lnTo>
                    <a:lnTo>
                      <a:pt x="491" y="95"/>
                    </a:lnTo>
                    <a:lnTo>
                      <a:pt x="491" y="93"/>
                    </a:lnTo>
                    <a:lnTo>
                      <a:pt x="489" y="83"/>
                    </a:lnTo>
                    <a:lnTo>
                      <a:pt x="492" y="72"/>
                    </a:lnTo>
                    <a:lnTo>
                      <a:pt x="493" y="61"/>
                    </a:lnTo>
                    <a:lnTo>
                      <a:pt x="494" y="54"/>
                    </a:lnTo>
                    <a:lnTo>
                      <a:pt x="496" y="49"/>
                    </a:lnTo>
                    <a:lnTo>
                      <a:pt x="499" y="43"/>
                    </a:lnTo>
                    <a:lnTo>
                      <a:pt x="506" y="40"/>
                    </a:lnTo>
                    <a:lnTo>
                      <a:pt x="508" y="39"/>
                    </a:lnTo>
                    <a:lnTo>
                      <a:pt x="509" y="38"/>
                    </a:lnTo>
                    <a:lnTo>
                      <a:pt x="509" y="35"/>
                    </a:lnTo>
                    <a:lnTo>
                      <a:pt x="509" y="34"/>
                    </a:lnTo>
                    <a:lnTo>
                      <a:pt x="507" y="32"/>
                    </a:lnTo>
                    <a:lnTo>
                      <a:pt x="506" y="31"/>
                    </a:lnTo>
                    <a:lnTo>
                      <a:pt x="505" y="29"/>
                    </a:lnTo>
                    <a:lnTo>
                      <a:pt x="504" y="27"/>
                    </a:lnTo>
                    <a:lnTo>
                      <a:pt x="503" y="25"/>
                    </a:lnTo>
                    <a:lnTo>
                      <a:pt x="503" y="23"/>
                    </a:lnTo>
                    <a:lnTo>
                      <a:pt x="504" y="22"/>
                    </a:lnTo>
                    <a:lnTo>
                      <a:pt x="506" y="20"/>
                    </a:lnTo>
                    <a:lnTo>
                      <a:pt x="509" y="19"/>
                    </a:lnTo>
                    <a:lnTo>
                      <a:pt x="511" y="18"/>
                    </a:lnTo>
                    <a:lnTo>
                      <a:pt x="515" y="17"/>
                    </a:lnTo>
                    <a:lnTo>
                      <a:pt x="526" y="12"/>
                    </a:lnTo>
                    <a:lnTo>
                      <a:pt x="537" y="10"/>
                    </a:lnTo>
                    <a:close/>
                    <a:moveTo>
                      <a:pt x="2196" y="10"/>
                    </a:moveTo>
                    <a:lnTo>
                      <a:pt x="2197" y="10"/>
                    </a:lnTo>
                    <a:lnTo>
                      <a:pt x="2198" y="11"/>
                    </a:lnTo>
                    <a:lnTo>
                      <a:pt x="2199" y="12"/>
                    </a:lnTo>
                    <a:lnTo>
                      <a:pt x="2199" y="14"/>
                    </a:lnTo>
                    <a:lnTo>
                      <a:pt x="2199" y="16"/>
                    </a:lnTo>
                    <a:lnTo>
                      <a:pt x="2198" y="17"/>
                    </a:lnTo>
                    <a:lnTo>
                      <a:pt x="2198" y="17"/>
                    </a:lnTo>
                    <a:lnTo>
                      <a:pt x="2197" y="16"/>
                    </a:lnTo>
                    <a:lnTo>
                      <a:pt x="2196" y="14"/>
                    </a:lnTo>
                    <a:lnTo>
                      <a:pt x="2196" y="13"/>
                    </a:lnTo>
                    <a:lnTo>
                      <a:pt x="2195" y="11"/>
                    </a:lnTo>
                    <a:lnTo>
                      <a:pt x="2196" y="10"/>
                    </a:lnTo>
                    <a:lnTo>
                      <a:pt x="2196" y="10"/>
                    </a:lnTo>
                    <a:close/>
                    <a:moveTo>
                      <a:pt x="2074" y="9"/>
                    </a:moveTo>
                    <a:lnTo>
                      <a:pt x="2075" y="10"/>
                    </a:lnTo>
                    <a:lnTo>
                      <a:pt x="2078" y="11"/>
                    </a:lnTo>
                    <a:lnTo>
                      <a:pt x="2080" y="12"/>
                    </a:lnTo>
                    <a:lnTo>
                      <a:pt x="2082" y="12"/>
                    </a:lnTo>
                    <a:lnTo>
                      <a:pt x="2082" y="17"/>
                    </a:lnTo>
                    <a:lnTo>
                      <a:pt x="2080" y="17"/>
                    </a:lnTo>
                    <a:lnTo>
                      <a:pt x="2078" y="14"/>
                    </a:lnTo>
                    <a:lnTo>
                      <a:pt x="2075" y="12"/>
                    </a:lnTo>
                    <a:lnTo>
                      <a:pt x="2074" y="11"/>
                    </a:lnTo>
                    <a:lnTo>
                      <a:pt x="2074" y="10"/>
                    </a:lnTo>
                    <a:lnTo>
                      <a:pt x="2074" y="9"/>
                    </a:lnTo>
                    <a:lnTo>
                      <a:pt x="2074" y="9"/>
                    </a:lnTo>
                    <a:close/>
                    <a:moveTo>
                      <a:pt x="2147" y="1"/>
                    </a:moveTo>
                    <a:lnTo>
                      <a:pt x="2150" y="1"/>
                    </a:lnTo>
                    <a:lnTo>
                      <a:pt x="2151" y="1"/>
                    </a:lnTo>
                    <a:lnTo>
                      <a:pt x="2153" y="1"/>
                    </a:lnTo>
                    <a:lnTo>
                      <a:pt x="2154" y="2"/>
                    </a:lnTo>
                    <a:lnTo>
                      <a:pt x="2156" y="3"/>
                    </a:lnTo>
                    <a:lnTo>
                      <a:pt x="2156" y="8"/>
                    </a:lnTo>
                    <a:lnTo>
                      <a:pt x="2152" y="6"/>
                    </a:lnTo>
                    <a:lnTo>
                      <a:pt x="2150" y="3"/>
                    </a:lnTo>
                    <a:lnTo>
                      <a:pt x="2148" y="2"/>
                    </a:lnTo>
                    <a:lnTo>
                      <a:pt x="2147" y="1"/>
                    </a:lnTo>
                    <a:close/>
                    <a:moveTo>
                      <a:pt x="1897" y="0"/>
                    </a:moveTo>
                    <a:lnTo>
                      <a:pt x="1897" y="0"/>
                    </a:lnTo>
                    <a:lnTo>
                      <a:pt x="1899" y="1"/>
                    </a:lnTo>
                    <a:lnTo>
                      <a:pt x="1900" y="3"/>
                    </a:lnTo>
                    <a:lnTo>
                      <a:pt x="1903" y="5"/>
                    </a:lnTo>
                    <a:lnTo>
                      <a:pt x="1905" y="7"/>
                    </a:lnTo>
                    <a:lnTo>
                      <a:pt x="1906" y="9"/>
                    </a:lnTo>
                    <a:lnTo>
                      <a:pt x="1909" y="12"/>
                    </a:lnTo>
                    <a:lnTo>
                      <a:pt x="1910" y="14"/>
                    </a:lnTo>
                    <a:lnTo>
                      <a:pt x="1912" y="17"/>
                    </a:lnTo>
                    <a:lnTo>
                      <a:pt x="1913" y="19"/>
                    </a:lnTo>
                    <a:lnTo>
                      <a:pt x="1914" y="22"/>
                    </a:lnTo>
                    <a:lnTo>
                      <a:pt x="1914" y="22"/>
                    </a:lnTo>
                    <a:lnTo>
                      <a:pt x="1915" y="24"/>
                    </a:lnTo>
                    <a:lnTo>
                      <a:pt x="1917" y="25"/>
                    </a:lnTo>
                    <a:lnTo>
                      <a:pt x="1918" y="28"/>
                    </a:lnTo>
                    <a:lnTo>
                      <a:pt x="1920" y="29"/>
                    </a:lnTo>
                    <a:lnTo>
                      <a:pt x="1920" y="30"/>
                    </a:lnTo>
                    <a:lnTo>
                      <a:pt x="1920" y="31"/>
                    </a:lnTo>
                    <a:lnTo>
                      <a:pt x="1920" y="31"/>
                    </a:lnTo>
                    <a:lnTo>
                      <a:pt x="1918" y="30"/>
                    </a:lnTo>
                    <a:lnTo>
                      <a:pt x="1916" y="29"/>
                    </a:lnTo>
                    <a:lnTo>
                      <a:pt x="1914" y="24"/>
                    </a:lnTo>
                    <a:lnTo>
                      <a:pt x="1912" y="21"/>
                    </a:lnTo>
                    <a:lnTo>
                      <a:pt x="1909" y="17"/>
                    </a:lnTo>
                    <a:lnTo>
                      <a:pt x="1905" y="12"/>
                    </a:lnTo>
                    <a:lnTo>
                      <a:pt x="1903" y="11"/>
                    </a:lnTo>
                    <a:lnTo>
                      <a:pt x="1901" y="9"/>
                    </a:lnTo>
                    <a:lnTo>
                      <a:pt x="1899" y="7"/>
                    </a:lnTo>
                    <a:lnTo>
                      <a:pt x="1897" y="5"/>
                    </a:lnTo>
                    <a:lnTo>
                      <a:pt x="1896" y="3"/>
                    </a:lnTo>
                    <a:lnTo>
                      <a:pt x="1896" y="2"/>
                    </a:lnTo>
                    <a:lnTo>
                      <a:pt x="1896" y="1"/>
                    </a:lnTo>
                    <a:lnTo>
                      <a:pt x="18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7"/>
              <p:cNvSpPr/>
              <p:nvPr/>
            </p:nvSpPr>
            <p:spPr>
              <a:xfrm>
                <a:off x="8477640" y="4657680"/>
                <a:ext cx="433080" cy="22644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2128" h="1086">
                    <a:moveTo>
                      <a:pt x="2056" y="426"/>
                    </a:move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6"/>
                    </a:lnTo>
                    <a:close/>
                    <a:moveTo>
                      <a:pt x="2034" y="426"/>
                    </a:moveTo>
                    <a:lnTo>
                      <a:pt x="2037" y="427"/>
                    </a:lnTo>
                    <a:lnTo>
                      <a:pt x="2039" y="427"/>
                    </a:lnTo>
                    <a:lnTo>
                      <a:pt x="2041" y="428"/>
                    </a:lnTo>
                    <a:lnTo>
                      <a:pt x="2043" y="429"/>
                    </a:lnTo>
                    <a:lnTo>
                      <a:pt x="2045" y="432"/>
                    </a:lnTo>
                    <a:lnTo>
                      <a:pt x="2048" y="434"/>
                    </a:lnTo>
                    <a:lnTo>
                      <a:pt x="2050" y="436"/>
                    </a:lnTo>
                    <a:lnTo>
                      <a:pt x="2053" y="438"/>
                    </a:lnTo>
                    <a:lnTo>
                      <a:pt x="2054" y="438"/>
                    </a:lnTo>
                    <a:lnTo>
                      <a:pt x="2055" y="438"/>
                    </a:lnTo>
                    <a:lnTo>
                      <a:pt x="2056" y="439"/>
                    </a:lnTo>
                    <a:lnTo>
                      <a:pt x="2057" y="438"/>
                    </a:lnTo>
                    <a:lnTo>
                      <a:pt x="2057" y="438"/>
                    </a:lnTo>
                    <a:lnTo>
                      <a:pt x="2057" y="436"/>
                    </a:lnTo>
                    <a:lnTo>
                      <a:pt x="2057" y="435"/>
                    </a:lnTo>
                    <a:lnTo>
                      <a:pt x="2056" y="434"/>
                    </a:lnTo>
                    <a:lnTo>
                      <a:pt x="2056" y="434"/>
                    </a:lnTo>
                    <a:lnTo>
                      <a:pt x="2057" y="434"/>
                    </a:lnTo>
                    <a:lnTo>
                      <a:pt x="2057" y="433"/>
                    </a:lnTo>
                    <a:lnTo>
                      <a:pt x="2059" y="433"/>
                    </a:lnTo>
                    <a:lnTo>
                      <a:pt x="2060" y="434"/>
                    </a:lnTo>
                    <a:lnTo>
                      <a:pt x="2062" y="435"/>
                    </a:lnTo>
                    <a:lnTo>
                      <a:pt x="2063" y="437"/>
                    </a:lnTo>
                    <a:lnTo>
                      <a:pt x="2064" y="438"/>
                    </a:lnTo>
                    <a:lnTo>
                      <a:pt x="2064" y="440"/>
                    </a:lnTo>
                    <a:lnTo>
                      <a:pt x="2065" y="443"/>
                    </a:lnTo>
                    <a:lnTo>
                      <a:pt x="2066" y="445"/>
                    </a:lnTo>
                    <a:lnTo>
                      <a:pt x="2066" y="447"/>
                    </a:lnTo>
                    <a:lnTo>
                      <a:pt x="2067" y="448"/>
                    </a:lnTo>
                    <a:lnTo>
                      <a:pt x="2069" y="449"/>
                    </a:lnTo>
                    <a:lnTo>
                      <a:pt x="2070" y="451"/>
                    </a:lnTo>
                    <a:lnTo>
                      <a:pt x="2071" y="454"/>
                    </a:lnTo>
                    <a:lnTo>
                      <a:pt x="2072" y="456"/>
                    </a:lnTo>
                    <a:lnTo>
                      <a:pt x="2072" y="457"/>
                    </a:lnTo>
                    <a:lnTo>
                      <a:pt x="2072" y="458"/>
                    </a:lnTo>
                    <a:lnTo>
                      <a:pt x="2071" y="459"/>
                    </a:lnTo>
                    <a:lnTo>
                      <a:pt x="2070" y="460"/>
                    </a:lnTo>
                    <a:lnTo>
                      <a:pt x="2069" y="460"/>
                    </a:lnTo>
                    <a:lnTo>
                      <a:pt x="2067" y="459"/>
                    </a:lnTo>
                    <a:lnTo>
                      <a:pt x="2066" y="459"/>
                    </a:lnTo>
                    <a:lnTo>
                      <a:pt x="2066" y="460"/>
                    </a:lnTo>
                    <a:lnTo>
                      <a:pt x="2067" y="462"/>
                    </a:lnTo>
                    <a:lnTo>
                      <a:pt x="2069" y="465"/>
                    </a:lnTo>
                    <a:lnTo>
                      <a:pt x="2069" y="467"/>
                    </a:lnTo>
                    <a:lnTo>
                      <a:pt x="2070" y="468"/>
                    </a:lnTo>
                    <a:lnTo>
                      <a:pt x="2069" y="468"/>
                    </a:lnTo>
                    <a:lnTo>
                      <a:pt x="2069" y="468"/>
                    </a:lnTo>
                    <a:lnTo>
                      <a:pt x="2067" y="467"/>
                    </a:lnTo>
                    <a:lnTo>
                      <a:pt x="2065" y="466"/>
                    </a:lnTo>
                    <a:lnTo>
                      <a:pt x="2064" y="465"/>
                    </a:lnTo>
                    <a:lnTo>
                      <a:pt x="2063" y="464"/>
                    </a:lnTo>
                    <a:lnTo>
                      <a:pt x="2062" y="464"/>
                    </a:lnTo>
                    <a:lnTo>
                      <a:pt x="2061" y="464"/>
                    </a:lnTo>
                    <a:lnTo>
                      <a:pt x="2061" y="465"/>
                    </a:lnTo>
                    <a:lnTo>
                      <a:pt x="2062" y="467"/>
                    </a:lnTo>
                    <a:lnTo>
                      <a:pt x="2063" y="468"/>
                    </a:lnTo>
                    <a:lnTo>
                      <a:pt x="2064" y="470"/>
                    </a:lnTo>
                    <a:lnTo>
                      <a:pt x="2065" y="472"/>
                    </a:lnTo>
                    <a:lnTo>
                      <a:pt x="2065" y="475"/>
                    </a:lnTo>
                    <a:lnTo>
                      <a:pt x="2064" y="476"/>
                    </a:lnTo>
                    <a:lnTo>
                      <a:pt x="2064" y="478"/>
                    </a:lnTo>
                    <a:lnTo>
                      <a:pt x="2064" y="479"/>
                    </a:lnTo>
                    <a:lnTo>
                      <a:pt x="2063" y="479"/>
                    </a:lnTo>
                    <a:lnTo>
                      <a:pt x="2062" y="478"/>
                    </a:lnTo>
                    <a:lnTo>
                      <a:pt x="2061" y="477"/>
                    </a:lnTo>
                    <a:lnTo>
                      <a:pt x="2060" y="476"/>
                    </a:lnTo>
                    <a:lnTo>
                      <a:pt x="2057" y="472"/>
                    </a:lnTo>
                    <a:lnTo>
                      <a:pt x="2055" y="469"/>
                    </a:lnTo>
                    <a:lnTo>
                      <a:pt x="2053" y="467"/>
                    </a:lnTo>
                    <a:lnTo>
                      <a:pt x="2052" y="465"/>
                    </a:lnTo>
                    <a:lnTo>
                      <a:pt x="2050" y="462"/>
                    </a:lnTo>
                    <a:lnTo>
                      <a:pt x="2050" y="460"/>
                    </a:lnTo>
                    <a:lnTo>
                      <a:pt x="2050" y="458"/>
                    </a:lnTo>
                    <a:lnTo>
                      <a:pt x="2050" y="456"/>
                    </a:lnTo>
                    <a:lnTo>
                      <a:pt x="2049" y="454"/>
                    </a:lnTo>
                    <a:lnTo>
                      <a:pt x="2048" y="451"/>
                    </a:lnTo>
                    <a:lnTo>
                      <a:pt x="2045" y="449"/>
                    </a:lnTo>
                    <a:lnTo>
                      <a:pt x="2045" y="447"/>
                    </a:lnTo>
                    <a:lnTo>
                      <a:pt x="2044" y="445"/>
                    </a:lnTo>
                    <a:lnTo>
                      <a:pt x="2043" y="443"/>
                    </a:lnTo>
                    <a:lnTo>
                      <a:pt x="2043" y="442"/>
                    </a:lnTo>
                    <a:lnTo>
                      <a:pt x="2042" y="440"/>
                    </a:lnTo>
                    <a:lnTo>
                      <a:pt x="2042" y="439"/>
                    </a:lnTo>
                    <a:lnTo>
                      <a:pt x="2041" y="440"/>
                    </a:lnTo>
                    <a:lnTo>
                      <a:pt x="2041" y="443"/>
                    </a:lnTo>
                    <a:lnTo>
                      <a:pt x="2041" y="444"/>
                    </a:lnTo>
                    <a:lnTo>
                      <a:pt x="2042" y="446"/>
                    </a:lnTo>
                    <a:lnTo>
                      <a:pt x="2042" y="447"/>
                    </a:lnTo>
                    <a:lnTo>
                      <a:pt x="2041" y="449"/>
                    </a:lnTo>
                    <a:lnTo>
                      <a:pt x="2041" y="450"/>
                    </a:lnTo>
                    <a:lnTo>
                      <a:pt x="2039" y="449"/>
                    </a:lnTo>
                    <a:lnTo>
                      <a:pt x="2038" y="449"/>
                    </a:lnTo>
                    <a:lnTo>
                      <a:pt x="2035" y="447"/>
                    </a:lnTo>
                    <a:lnTo>
                      <a:pt x="2034" y="445"/>
                    </a:lnTo>
                    <a:lnTo>
                      <a:pt x="2031" y="440"/>
                    </a:lnTo>
                    <a:lnTo>
                      <a:pt x="2030" y="437"/>
                    </a:lnTo>
                    <a:lnTo>
                      <a:pt x="2029" y="435"/>
                    </a:lnTo>
                    <a:lnTo>
                      <a:pt x="2029" y="432"/>
                    </a:lnTo>
                    <a:lnTo>
                      <a:pt x="2030" y="429"/>
                    </a:lnTo>
                    <a:lnTo>
                      <a:pt x="2031" y="427"/>
                    </a:lnTo>
                    <a:lnTo>
                      <a:pt x="2032" y="426"/>
                    </a:lnTo>
                    <a:lnTo>
                      <a:pt x="2033" y="426"/>
                    </a:lnTo>
                    <a:lnTo>
                      <a:pt x="2034" y="426"/>
                    </a:lnTo>
                    <a:close/>
                    <a:moveTo>
                      <a:pt x="1956" y="420"/>
                    </a:moveTo>
                    <a:lnTo>
                      <a:pt x="1957" y="420"/>
                    </a:lnTo>
                    <a:lnTo>
                      <a:pt x="1960" y="421"/>
                    </a:lnTo>
                    <a:lnTo>
                      <a:pt x="1961" y="423"/>
                    </a:lnTo>
                    <a:lnTo>
                      <a:pt x="1962" y="425"/>
                    </a:lnTo>
                    <a:lnTo>
                      <a:pt x="1962" y="428"/>
                    </a:lnTo>
                    <a:lnTo>
                      <a:pt x="1960" y="429"/>
                    </a:lnTo>
                    <a:lnTo>
                      <a:pt x="1958" y="431"/>
                    </a:lnTo>
                    <a:lnTo>
                      <a:pt x="1957" y="431"/>
                    </a:lnTo>
                    <a:lnTo>
                      <a:pt x="1956" y="431"/>
                    </a:lnTo>
                    <a:lnTo>
                      <a:pt x="1955" y="432"/>
                    </a:lnTo>
                    <a:lnTo>
                      <a:pt x="1954" y="432"/>
                    </a:lnTo>
                    <a:lnTo>
                      <a:pt x="1953" y="432"/>
                    </a:lnTo>
                    <a:lnTo>
                      <a:pt x="1951" y="431"/>
                    </a:lnTo>
                    <a:lnTo>
                      <a:pt x="1945" y="423"/>
                    </a:lnTo>
                    <a:lnTo>
                      <a:pt x="1945" y="422"/>
                    </a:lnTo>
                    <a:lnTo>
                      <a:pt x="1946" y="421"/>
                    </a:lnTo>
                    <a:lnTo>
                      <a:pt x="1949" y="421"/>
                    </a:lnTo>
                    <a:lnTo>
                      <a:pt x="1951" y="422"/>
                    </a:lnTo>
                    <a:lnTo>
                      <a:pt x="1952" y="422"/>
                    </a:lnTo>
                    <a:lnTo>
                      <a:pt x="1954" y="423"/>
                    </a:lnTo>
                    <a:lnTo>
                      <a:pt x="1955" y="423"/>
                    </a:lnTo>
                    <a:lnTo>
                      <a:pt x="1955" y="423"/>
                    </a:lnTo>
                    <a:lnTo>
                      <a:pt x="1955" y="422"/>
                    </a:lnTo>
                    <a:lnTo>
                      <a:pt x="1956" y="421"/>
                    </a:lnTo>
                    <a:lnTo>
                      <a:pt x="1956" y="420"/>
                    </a:lnTo>
                    <a:lnTo>
                      <a:pt x="1956" y="420"/>
                    </a:lnTo>
                    <a:close/>
                    <a:moveTo>
                      <a:pt x="2114" y="417"/>
                    </a:moveTo>
                    <a:lnTo>
                      <a:pt x="2115" y="417"/>
                    </a:lnTo>
                    <a:lnTo>
                      <a:pt x="2115" y="418"/>
                    </a:lnTo>
                    <a:lnTo>
                      <a:pt x="2117" y="418"/>
                    </a:lnTo>
                    <a:lnTo>
                      <a:pt x="2119" y="420"/>
                    </a:lnTo>
                    <a:lnTo>
                      <a:pt x="2121" y="420"/>
                    </a:lnTo>
                    <a:lnTo>
                      <a:pt x="2121" y="422"/>
                    </a:lnTo>
                    <a:lnTo>
                      <a:pt x="2120" y="423"/>
                    </a:lnTo>
                    <a:lnTo>
                      <a:pt x="2120" y="423"/>
                    </a:lnTo>
                    <a:lnTo>
                      <a:pt x="2119" y="423"/>
                    </a:lnTo>
                    <a:lnTo>
                      <a:pt x="2118" y="422"/>
                    </a:lnTo>
                    <a:lnTo>
                      <a:pt x="2118" y="422"/>
                    </a:lnTo>
                    <a:lnTo>
                      <a:pt x="2117" y="421"/>
                    </a:lnTo>
                    <a:lnTo>
                      <a:pt x="2116" y="421"/>
                    </a:lnTo>
                    <a:lnTo>
                      <a:pt x="2115" y="420"/>
                    </a:lnTo>
                    <a:lnTo>
                      <a:pt x="2115" y="418"/>
                    </a:lnTo>
                    <a:lnTo>
                      <a:pt x="2114" y="417"/>
                    </a:lnTo>
                    <a:lnTo>
                      <a:pt x="2114" y="417"/>
                    </a:lnTo>
                    <a:close/>
                    <a:moveTo>
                      <a:pt x="2087" y="416"/>
                    </a:moveTo>
                    <a:lnTo>
                      <a:pt x="2087" y="416"/>
                    </a:lnTo>
                    <a:lnTo>
                      <a:pt x="2088" y="417"/>
                    </a:lnTo>
                    <a:lnTo>
                      <a:pt x="2091" y="420"/>
                    </a:lnTo>
                    <a:lnTo>
                      <a:pt x="2092" y="422"/>
                    </a:lnTo>
                    <a:lnTo>
                      <a:pt x="2094" y="423"/>
                    </a:lnTo>
                    <a:lnTo>
                      <a:pt x="2095" y="424"/>
                    </a:lnTo>
                    <a:lnTo>
                      <a:pt x="2097" y="423"/>
                    </a:lnTo>
                    <a:lnTo>
                      <a:pt x="2097" y="422"/>
                    </a:lnTo>
                    <a:lnTo>
                      <a:pt x="2098" y="422"/>
                    </a:lnTo>
                    <a:lnTo>
                      <a:pt x="2099" y="421"/>
                    </a:lnTo>
                    <a:lnTo>
                      <a:pt x="2100" y="422"/>
                    </a:lnTo>
                    <a:lnTo>
                      <a:pt x="2102" y="422"/>
                    </a:lnTo>
                    <a:lnTo>
                      <a:pt x="2104" y="424"/>
                    </a:lnTo>
                    <a:lnTo>
                      <a:pt x="2105" y="426"/>
                    </a:lnTo>
                    <a:lnTo>
                      <a:pt x="2105" y="427"/>
                    </a:lnTo>
                    <a:lnTo>
                      <a:pt x="2106" y="429"/>
                    </a:lnTo>
                    <a:lnTo>
                      <a:pt x="2106" y="431"/>
                    </a:lnTo>
                    <a:lnTo>
                      <a:pt x="2105" y="431"/>
                    </a:lnTo>
                    <a:lnTo>
                      <a:pt x="2105" y="431"/>
                    </a:lnTo>
                    <a:lnTo>
                      <a:pt x="2104" y="429"/>
                    </a:lnTo>
                    <a:lnTo>
                      <a:pt x="2103" y="429"/>
                    </a:lnTo>
                    <a:lnTo>
                      <a:pt x="2100" y="429"/>
                    </a:lnTo>
                    <a:lnTo>
                      <a:pt x="2099" y="429"/>
                    </a:lnTo>
                    <a:lnTo>
                      <a:pt x="2097" y="428"/>
                    </a:lnTo>
                    <a:lnTo>
                      <a:pt x="2096" y="429"/>
                    </a:lnTo>
                    <a:lnTo>
                      <a:pt x="2095" y="429"/>
                    </a:lnTo>
                    <a:lnTo>
                      <a:pt x="2097" y="432"/>
                    </a:lnTo>
                    <a:lnTo>
                      <a:pt x="2099" y="435"/>
                    </a:lnTo>
                    <a:lnTo>
                      <a:pt x="2103" y="437"/>
                    </a:lnTo>
                    <a:lnTo>
                      <a:pt x="2104" y="439"/>
                    </a:lnTo>
                    <a:lnTo>
                      <a:pt x="2105" y="442"/>
                    </a:lnTo>
                    <a:lnTo>
                      <a:pt x="2105" y="443"/>
                    </a:lnTo>
                    <a:lnTo>
                      <a:pt x="2105" y="444"/>
                    </a:lnTo>
                    <a:lnTo>
                      <a:pt x="2105" y="445"/>
                    </a:lnTo>
                    <a:lnTo>
                      <a:pt x="2106" y="446"/>
                    </a:lnTo>
                    <a:lnTo>
                      <a:pt x="2107" y="448"/>
                    </a:lnTo>
                    <a:lnTo>
                      <a:pt x="2109" y="450"/>
                    </a:lnTo>
                    <a:lnTo>
                      <a:pt x="2109" y="453"/>
                    </a:lnTo>
                    <a:lnTo>
                      <a:pt x="2109" y="455"/>
                    </a:lnTo>
                    <a:lnTo>
                      <a:pt x="2110" y="456"/>
                    </a:lnTo>
                    <a:lnTo>
                      <a:pt x="2109" y="457"/>
                    </a:lnTo>
                    <a:lnTo>
                      <a:pt x="2109" y="457"/>
                    </a:lnTo>
                    <a:lnTo>
                      <a:pt x="2107" y="457"/>
                    </a:lnTo>
                    <a:lnTo>
                      <a:pt x="2106" y="457"/>
                    </a:lnTo>
                    <a:lnTo>
                      <a:pt x="2105" y="457"/>
                    </a:lnTo>
                    <a:lnTo>
                      <a:pt x="2104" y="456"/>
                    </a:lnTo>
                    <a:lnTo>
                      <a:pt x="2104" y="457"/>
                    </a:lnTo>
                    <a:lnTo>
                      <a:pt x="2104" y="458"/>
                    </a:lnTo>
                    <a:lnTo>
                      <a:pt x="2104" y="459"/>
                    </a:lnTo>
                    <a:lnTo>
                      <a:pt x="2105" y="461"/>
                    </a:lnTo>
                    <a:lnTo>
                      <a:pt x="2105" y="462"/>
                    </a:lnTo>
                    <a:lnTo>
                      <a:pt x="2106" y="464"/>
                    </a:lnTo>
                    <a:lnTo>
                      <a:pt x="2108" y="465"/>
                    </a:lnTo>
                    <a:lnTo>
                      <a:pt x="2109" y="466"/>
                    </a:lnTo>
                    <a:lnTo>
                      <a:pt x="2109" y="467"/>
                    </a:lnTo>
                    <a:lnTo>
                      <a:pt x="2111" y="467"/>
                    </a:lnTo>
                    <a:lnTo>
                      <a:pt x="2114" y="469"/>
                    </a:lnTo>
                    <a:lnTo>
                      <a:pt x="2114" y="471"/>
                    </a:lnTo>
                    <a:lnTo>
                      <a:pt x="2115" y="473"/>
                    </a:lnTo>
                    <a:lnTo>
                      <a:pt x="2115" y="473"/>
                    </a:lnTo>
                    <a:lnTo>
                      <a:pt x="2116" y="475"/>
                    </a:lnTo>
                    <a:lnTo>
                      <a:pt x="2118" y="477"/>
                    </a:lnTo>
                    <a:lnTo>
                      <a:pt x="2119" y="478"/>
                    </a:lnTo>
                    <a:lnTo>
                      <a:pt x="2119" y="479"/>
                    </a:lnTo>
                    <a:lnTo>
                      <a:pt x="2119" y="481"/>
                    </a:lnTo>
                    <a:lnTo>
                      <a:pt x="2118" y="481"/>
                    </a:lnTo>
                    <a:lnTo>
                      <a:pt x="2117" y="482"/>
                    </a:lnTo>
                    <a:lnTo>
                      <a:pt x="2116" y="483"/>
                    </a:lnTo>
                    <a:lnTo>
                      <a:pt x="2116" y="483"/>
                    </a:lnTo>
                    <a:lnTo>
                      <a:pt x="2116" y="486"/>
                    </a:lnTo>
                    <a:lnTo>
                      <a:pt x="2116" y="487"/>
                    </a:lnTo>
                    <a:lnTo>
                      <a:pt x="2116" y="488"/>
                    </a:lnTo>
                    <a:lnTo>
                      <a:pt x="2116" y="489"/>
                    </a:lnTo>
                    <a:lnTo>
                      <a:pt x="2114" y="489"/>
                    </a:lnTo>
                    <a:lnTo>
                      <a:pt x="2114" y="489"/>
                    </a:lnTo>
                    <a:lnTo>
                      <a:pt x="2113" y="488"/>
                    </a:lnTo>
                    <a:lnTo>
                      <a:pt x="2111" y="487"/>
                    </a:lnTo>
                    <a:lnTo>
                      <a:pt x="2109" y="486"/>
                    </a:lnTo>
                    <a:lnTo>
                      <a:pt x="2108" y="484"/>
                    </a:lnTo>
                    <a:lnTo>
                      <a:pt x="2107" y="484"/>
                    </a:lnTo>
                    <a:lnTo>
                      <a:pt x="2107" y="486"/>
                    </a:lnTo>
                    <a:lnTo>
                      <a:pt x="2106" y="486"/>
                    </a:lnTo>
                    <a:lnTo>
                      <a:pt x="2105" y="486"/>
                    </a:lnTo>
                    <a:lnTo>
                      <a:pt x="2104" y="484"/>
                    </a:lnTo>
                    <a:lnTo>
                      <a:pt x="2103" y="483"/>
                    </a:lnTo>
                    <a:lnTo>
                      <a:pt x="2102" y="482"/>
                    </a:lnTo>
                    <a:lnTo>
                      <a:pt x="2102" y="480"/>
                    </a:lnTo>
                    <a:lnTo>
                      <a:pt x="2100" y="479"/>
                    </a:lnTo>
                    <a:lnTo>
                      <a:pt x="2098" y="478"/>
                    </a:lnTo>
                    <a:lnTo>
                      <a:pt x="2098" y="477"/>
                    </a:lnTo>
                    <a:lnTo>
                      <a:pt x="2097" y="477"/>
                    </a:lnTo>
                    <a:lnTo>
                      <a:pt x="2095" y="475"/>
                    </a:lnTo>
                    <a:lnTo>
                      <a:pt x="2094" y="475"/>
                    </a:lnTo>
                    <a:lnTo>
                      <a:pt x="2094" y="473"/>
                    </a:lnTo>
                    <a:lnTo>
                      <a:pt x="2094" y="472"/>
                    </a:lnTo>
                    <a:lnTo>
                      <a:pt x="2093" y="470"/>
                    </a:lnTo>
                    <a:lnTo>
                      <a:pt x="2093" y="469"/>
                    </a:lnTo>
                    <a:lnTo>
                      <a:pt x="2091" y="466"/>
                    </a:lnTo>
                    <a:lnTo>
                      <a:pt x="2088" y="464"/>
                    </a:lnTo>
                    <a:lnTo>
                      <a:pt x="2085" y="462"/>
                    </a:lnTo>
                    <a:lnTo>
                      <a:pt x="2082" y="460"/>
                    </a:lnTo>
                    <a:lnTo>
                      <a:pt x="2080" y="457"/>
                    </a:lnTo>
                    <a:lnTo>
                      <a:pt x="2080" y="453"/>
                    </a:lnTo>
                    <a:lnTo>
                      <a:pt x="2080" y="448"/>
                    </a:lnTo>
                    <a:lnTo>
                      <a:pt x="2080" y="447"/>
                    </a:lnTo>
                    <a:lnTo>
                      <a:pt x="2078" y="445"/>
                    </a:lnTo>
                    <a:lnTo>
                      <a:pt x="2078" y="444"/>
                    </a:lnTo>
                    <a:lnTo>
                      <a:pt x="2078" y="443"/>
                    </a:lnTo>
                    <a:lnTo>
                      <a:pt x="2078" y="442"/>
                    </a:lnTo>
                    <a:lnTo>
                      <a:pt x="2080" y="442"/>
                    </a:lnTo>
                    <a:lnTo>
                      <a:pt x="2081" y="443"/>
                    </a:lnTo>
                    <a:lnTo>
                      <a:pt x="2082" y="445"/>
                    </a:lnTo>
                    <a:lnTo>
                      <a:pt x="2084" y="446"/>
                    </a:lnTo>
                    <a:lnTo>
                      <a:pt x="2085" y="448"/>
                    </a:lnTo>
                    <a:lnTo>
                      <a:pt x="2086" y="450"/>
                    </a:lnTo>
                    <a:lnTo>
                      <a:pt x="2086" y="450"/>
                    </a:lnTo>
                    <a:lnTo>
                      <a:pt x="2087" y="451"/>
                    </a:lnTo>
                    <a:lnTo>
                      <a:pt x="2089" y="453"/>
                    </a:lnTo>
                    <a:lnTo>
                      <a:pt x="2091" y="453"/>
                    </a:lnTo>
                    <a:lnTo>
                      <a:pt x="2091" y="451"/>
                    </a:lnTo>
                    <a:lnTo>
                      <a:pt x="2091" y="450"/>
                    </a:lnTo>
                    <a:lnTo>
                      <a:pt x="2089" y="449"/>
                    </a:lnTo>
                    <a:lnTo>
                      <a:pt x="2088" y="448"/>
                    </a:lnTo>
                    <a:lnTo>
                      <a:pt x="2088" y="446"/>
                    </a:lnTo>
                    <a:lnTo>
                      <a:pt x="2086" y="445"/>
                    </a:lnTo>
                    <a:lnTo>
                      <a:pt x="2084" y="444"/>
                    </a:lnTo>
                    <a:lnTo>
                      <a:pt x="2082" y="442"/>
                    </a:lnTo>
                    <a:lnTo>
                      <a:pt x="2082" y="440"/>
                    </a:lnTo>
                    <a:lnTo>
                      <a:pt x="2081" y="438"/>
                    </a:lnTo>
                    <a:lnTo>
                      <a:pt x="2080" y="436"/>
                    </a:lnTo>
                    <a:lnTo>
                      <a:pt x="2080" y="434"/>
                    </a:lnTo>
                    <a:lnTo>
                      <a:pt x="2078" y="432"/>
                    </a:lnTo>
                    <a:lnTo>
                      <a:pt x="2077" y="431"/>
                    </a:lnTo>
                    <a:lnTo>
                      <a:pt x="2077" y="431"/>
                    </a:lnTo>
                    <a:lnTo>
                      <a:pt x="2078" y="431"/>
                    </a:lnTo>
                    <a:lnTo>
                      <a:pt x="2080" y="432"/>
                    </a:lnTo>
                    <a:lnTo>
                      <a:pt x="2081" y="432"/>
                    </a:lnTo>
                    <a:lnTo>
                      <a:pt x="2082" y="433"/>
                    </a:lnTo>
                    <a:lnTo>
                      <a:pt x="2084" y="434"/>
                    </a:lnTo>
                    <a:lnTo>
                      <a:pt x="2086" y="436"/>
                    </a:lnTo>
                    <a:lnTo>
                      <a:pt x="2088" y="437"/>
                    </a:lnTo>
                    <a:lnTo>
                      <a:pt x="2091" y="438"/>
                    </a:lnTo>
                    <a:lnTo>
                      <a:pt x="2091" y="432"/>
                    </a:lnTo>
                    <a:lnTo>
                      <a:pt x="2089" y="431"/>
                    </a:lnTo>
                    <a:lnTo>
                      <a:pt x="2087" y="429"/>
                    </a:lnTo>
                    <a:lnTo>
                      <a:pt x="2086" y="428"/>
                    </a:lnTo>
                    <a:lnTo>
                      <a:pt x="2086" y="427"/>
                    </a:lnTo>
                    <a:lnTo>
                      <a:pt x="2083" y="426"/>
                    </a:lnTo>
                    <a:lnTo>
                      <a:pt x="2082" y="425"/>
                    </a:lnTo>
                    <a:lnTo>
                      <a:pt x="2081" y="423"/>
                    </a:lnTo>
                    <a:lnTo>
                      <a:pt x="2081" y="422"/>
                    </a:lnTo>
                    <a:lnTo>
                      <a:pt x="2082" y="421"/>
                    </a:lnTo>
                    <a:lnTo>
                      <a:pt x="2084" y="422"/>
                    </a:lnTo>
                    <a:lnTo>
                      <a:pt x="2085" y="422"/>
                    </a:lnTo>
                    <a:lnTo>
                      <a:pt x="2086" y="422"/>
                    </a:lnTo>
                    <a:lnTo>
                      <a:pt x="2086" y="421"/>
                    </a:lnTo>
                    <a:lnTo>
                      <a:pt x="2086" y="420"/>
                    </a:lnTo>
                    <a:lnTo>
                      <a:pt x="2086" y="417"/>
                    </a:lnTo>
                    <a:lnTo>
                      <a:pt x="2086" y="417"/>
                    </a:lnTo>
                    <a:lnTo>
                      <a:pt x="2086" y="416"/>
                    </a:lnTo>
                    <a:lnTo>
                      <a:pt x="2087" y="416"/>
                    </a:lnTo>
                    <a:close/>
                    <a:moveTo>
                      <a:pt x="2115" y="410"/>
                    </a:moveTo>
                    <a:lnTo>
                      <a:pt x="2116" y="410"/>
                    </a:lnTo>
                    <a:lnTo>
                      <a:pt x="2118" y="411"/>
                    </a:lnTo>
                    <a:lnTo>
                      <a:pt x="2120" y="412"/>
                    </a:lnTo>
                    <a:lnTo>
                      <a:pt x="2121" y="414"/>
                    </a:lnTo>
                    <a:lnTo>
                      <a:pt x="2124" y="416"/>
                    </a:lnTo>
                    <a:lnTo>
                      <a:pt x="2126" y="418"/>
                    </a:lnTo>
                    <a:lnTo>
                      <a:pt x="2127" y="420"/>
                    </a:lnTo>
                    <a:lnTo>
                      <a:pt x="2127" y="422"/>
                    </a:lnTo>
                    <a:lnTo>
                      <a:pt x="2128" y="423"/>
                    </a:lnTo>
                    <a:lnTo>
                      <a:pt x="2127" y="423"/>
                    </a:lnTo>
                    <a:lnTo>
                      <a:pt x="2126" y="422"/>
                    </a:lnTo>
                    <a:lnTo>
                      <a:pt x="2124" y="421"/>
                    </a:lnTo>
                    <a:lnTo>
                      <a:pt x="2122" y="420"/>
                    </a:lnTo>
                    <a:lnTo>
                      <a:pt x="2120" y="417"/>
                    </a:lnTo>
                    <a:lnTo>
                      <a:pt x="2118" y="415"/>
                    </a:lnTo>
                    <a:lnTo>
                      <a:pt x="2116" y="414"/>
                    </a:lnTo>
                    <a:lnTo>
                      <a:pt x="2115" y="412"/>
                    </a:lnTo>
                    <a:lnTo>
                      <a:pt x="2115" y="411"/>
                    </a:lnTo>
                    <a:lnTo>
                      <a:pt x="2115" y="410"/>
                    </a:lnTo>
                    <a:lnTo>
                      <a:pt x="2115" y="410"/>
                    </a:lnTo>
                    <a:close/>
                    <a:moveTo>
                      <a:pt x="2086" y="399"/>
                    </a:moveTo>
                    <a:lnTo>
                      <a:pt x="2087" y="399"/>
                    </a:lnTo>
                    <a:lnTo>
                      <a:pt x="2093" y="401"/>
                    </a:lnTo>
                    <a:lnTo>
                      <a:pt x="2096" y="404"/>
                    </a:lnTo>
                    <a:lnTo>
                      <a:pt x="2097" y="406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7" y="413"/>
                    </a:lnTo>
                    <a:lnTo>
                      <a:pt x="2096" y="414"/>
                    </a:lnTo>
                    <a:lnTo>
                      <a:pt x="2095" y="415"/>
                    </a:lnTo>
                    <a:lnTo>
                      <a:pt x="2092" y="411"/>
                    </a:lnTo>
                    <a:lnTo>
                      <a:pt x="2089" y="410"/>
                    </a:lnTo>
                    <a:lnTo>
                      <a:pt x="2087" y="409"/>
                    </a:lnTo>
                    <a:lnTo>
                      <a:pt x="2086" y="406"/>
                    </a:lnTo>
                    <a:lnTo>
                      <a:pt x="2084" y="405"/>
                    </a:lnTo>
                    <a:lnTo>
                      <a:pt x="2084" y="404"/>
                    </a:lnTo>
                    <a:lnTo>
                      <a:pt x="2084" y="402"/>
                    </a:lnTo>
                    <a:lnTo>
                      <a:pt x="2084" y="401"/>
                    </a:lnTo>
                    <a:lnTo>
                      <a:pt x="2085" y="399"/>
                    </a:lnTo>
                    <a:lnTo>
                      <a:pt x="2086" y="399"/>
                    </a:lnTo>
                    <a:close/>
                    <a:moveTo>
                      <a:pt x="77" y="399"/>
                    </a:moveTo>
                    <a:lnTo>
                      <a:pt x="79" y="399"/>
                    </a:lnTo>
                    <a:lnTo>
                      <a:pt x="80" y="400"/>
                    </a:lnTo>
                    <a:lnTo>
                      <a:pt x="79" y="402"/>
                    </a:lnTo>
                    <a:lnTo>
                      <a:pt x="77" y="403"/>
                    </a:lnTo>
                    <a:lnTo>
                      <a:pt x="75" y="405"/>
                    </a:lnTo>
                    <a:lnTo>
                      <a:pt x="74" y="406"/>
                    </a:lnTo>
                    <a:lnTo>
                      <a:pt x="72" y="407"/>
                    </a:lnTo>
                    <a:lnTo>
                      <a:pt x="69" y="411"/>
                    </a:lnTo>
                    <a:lnTo>
                      <a:pt x="66" y="414"/>
                    </a:lnTo>
                    <a:lnTo>
                      <a:pt x="64" y="418"/>
                    </a:lnTo>
                    <a:lnTo>
                      <a:pt x="58" y="425"/>
                    </a:lnTo>
                    <a:lnTo>
                      <a:pt x="51" y="431"/>
                    </a:lnTo>
                    <a:lnTo>
                      <a:pt x="43" y="432"/>
                    </a:lnTo>
                    <a:lnTo>
                      <a:pt x="41" y="428"/>
                    </a:lnTo>
                    <a:lnTo>
                      <a:pt x="43" y="423"/>
                    </a:lnTo>
                    <a:lnTo>
                      <a:pt x="46" y="416"/>
                    </a:lnTo>
                    <a:lnTo>
                      <a:pt x="53" y="412"/>
                    </a:lnTo>
                    <a:lnTo>
                      <a:pt x="58" y="407"/>
                    </a:lnTo>
                    <a:lnTo>
                      <a:pt x="62" y="406"/>
                    </a:lnTo>
                    <a:lnTo>
                      <a:pt x="64" y="405"/>
                    </a:lnTo>
                    <a:lnTo>
                      <a:pt x="66" y="403"/>
                    </a:lnTo>
                    <a:lnTo>
                      <a:pt x="66" y="403"/>
                    </a:lnTo>
                    <a:lnTo>
                      <a:pt x="67" y="402"/>
                    </a:lnTo>
                    <a:lnTo>
                      <a:pt x="67" y="402"/>
                    </a:lnTo>
                    <a:lnTo>
                      <a:pt x="69" y="401"/>
                    </a:lnTo>
                    <a:lnTo>
                      <a:pt x="70" y="400"/>
                    </a:lnTo>
                    <a:lnTo>
                      <a:pt x="73" y="399"/>
                    </a:lnTo>
                    <a:lnTo>
                      <a:pt x="75" y="399"/>
                    </a:lnTo>
                    <a:lnTo>
                      <a:pt x="77" y="399"/>
                    </a:lnTo>
                    <a:close/>
                    <a:moveTo>
                      <a:pt x="278" y="381"/>
                    </a:moveTo>
                    <a:lnTo>
                      <a:pt x="281" y="382"/>
                    </a:lnTo>
                    <a:lnTo>
                      <a:pt x="283" y="382"/>
                    </a:lnTo>
                    <a:lnTo>
                      <a:pt x="286" y="383"/>
                    </a:lnTo>
                    <a:lnTo>
                      <a:pt x="286" y="385"/>
                    </a:lnTo>
                    <a:lnTo>
                      <a:pt x="285" y="389"/>
                    </a:lnTo>
                    <a:lnTo>
                      <a:pt x="285" y="392"/>
                    </a:lnTo>
                    <a:lnTo>
                      <a:pt x="284" y="395"/>
                    </a:lnTo>
                    <a:lnTo>
                      <a:pt x="283" y="398"/>
                    </a:lnTo>
                    <a:lnTo>
                      <a:pt x="281" y="399"/>
                    </a:lnTo>
                    <a:lnTo>
                      <a:pt x="278" y="401"/>
                    </a:lnTo>
                    <a:lnTo>
                      <a:pt x="275" y="403"/>
                    </a:lnTo>
                    <a:lnTo>
                      <a:pt x="273" y="404"/>
                    </a:lnTo>
                    <a:lnTo>
                      <a:pt x="271" y="404"/>
                    </a:lnTo>
                    <a:lnTo>
                      <a:pt x="269" y="403"/>
                    </a:lnTo>
                    <a:lnTo>
                      <a:pt x="267" y="401"/>
                    </a:lnTo>
                    <a:lnTo>
                      <a:pt x="267" y="398"/>
                    </a:lnTo>
                    <a:lnTo>
                      <a:pt x="269" y="393"/>
                    </a:lnTo>
                    <a:lnTo>
                      <a:pt x="271" y="389"/>
                    </a:lnTo>
                    <a:lnTo>
                      <a:pt x="273" y="385"/>
                    </a:lnTo>
                    <a:lnTo>
                      <a:pt x="275" y="382"/>
                    </a:lnTo>
                    <a:lnTo>
                      <a:pt x="276" y="381"/>
                    </a:lnTo>
                    <a:lnTo>
                      <a:pt x="278" y="381"/>
                    </a:lnTo>
                    <a:close/>
                    <a:moveTo>
                      <a:pt x="1567" y="380"/>
                    </a:moveTo>
                    <a:lnTo>
                      <a:pt x="1568" y="381"/>
                    </a:lnTo>
                    <a:lnTo>
                      <a:pt x="1570" y="381"/>
                    </a:lnTo>
                    <a:lnTo>
                      <a:pt x="1571" y="382"/>
                    </a:lnTo>
                    <a:lnTo>
                      <a:pt x="1572" y="384"/>
                    </a:lnTo>
                    <a:lnTo>
                      <a:pt x="1572" y="388"/>
                    </a:lnTo>
                    <a:lnTo>
                      <a:pt x="1573" y="389"/>
                    </a:lnTo>
                    <a:lnTo>
                      <a:pt x="1573" y="391"/>
                    </a:lnTo>
                    <a:lnTo>
                      <a:pt x="1573" y="393"/>
                    </a:lnTo>
                    <a:lnTo>
                      <a:pt x="1573" y="394"/>
                    </a:lnTo>
                    <a:lnTo>
                      <a:pt x="1572" y="394"/>
                    </a:lnTo>
                    <a:lnTo>
                      <a:pt x="1571" y="395"/>
                    </a:lnTo>
                    <a:lnTo>
                      <a:pt x="1570" y="395"/>
                    </a:lnTo>
                    <a:lnTo>
                      <a:pt x="1569" y="394"/>
                    </a:lnTo>
                    <a:lnTo>
                      <a:pt x="1568" y="392"/>
                    </a:lnTo>
                    <a:lnTo>
                      <a:pt x="1568" y="391"/>
                    </a:lnTo>
                    <a:lnTo>
                      <a:pt x="1568" y="389"/>
                    </a:lnTo>
                    <a:lnTo>
                      <a:pt x="1568" y="386"/>
                    </a:lnTo>
                    <a:lnTo>
                      <a:pt x="1567" y="384"/>
                    </a:lnTo>
                    <a:lnTo>
                      <a:pt x="1567" y="382"/>
                    </a:lnTo>
                    <a:lnTo>
                      <a:pt x="1567" y="381"/>
                    </a:lnTo>
                    <a:lnTo>
                      <a:pt x="1567" y="380"/>
                    </a:lnTo>
                    <a:close/>
                    <a:moveTo>
                      <a:pt x="1811" y="380"/>
                    </a:moveTo>
                    <a:lnTo>
                      <a:pt x="1812" y="380"/>
                    </a:lnTo>
                    <a:lnTo>
                      <a:pt x="1812" y="381"/>
                    </a:lnTo>
                    <a:lnTo>
                      <a:pt x="1813" y="382"/>
                    </a:lnTo>
                    <a:lnTo>
                      <a:pt x="1814" y="384"/>
                    </a:lnTo>
                    <a:lnTo>
                      <a:pt x="1816" y="386"/>
                    </a:lnTo>
                    <a:lnTo>
                      <a:pt x="1818" y="386"/>
                    </a:lnTo>
                    <a:lnTo>
                      <a:pt x="1819" y="386"/>
                    </a:lnTo>
                    <a:lnTo>
                      <a:pt x="1820" y="385"/>
                    </a:lnTo>
                    <a:lnTo>
                      <a:pt x="1820" y="384"/>
                    </a:lnTo>
                    <a:lnTo>
                      <a:pt x="1821" y="384"/>
                    </a:lnTo>
                    <a:lnTo>
                      <a:pt x="1822" y="384"/>
                    </a:lnTo>
                    <a:lnTo>
                      <a:pt x="1823" y="386"/>
                    </a:lnTo>
                    <a:lnTo>
                      <a:pt x="1825" y="389"/>
                    </a:lnTo>
                    <a:lnTo>
                      <a:pt x="1826" y="391"/>
                    </a:lnTo>
                    <a:lnTo>
                      <a:pt x="1826" y="392"/>
                    </a:lnTo>
                    <a:lnTo>
                      <a:pt x="1826" y="393"/>
                    </a:lnTo>
                    <a:lnTo>
                      <a:pt x="1826" y="393"/>
                    </a:lnTo>
                    <a:lnTo>
                      <a:pt x="1825" y="394"/>
                    </a:lnTo>
                    <a:lnTo>
                      <a:pt x="1825" y="395"/>
                    </a:lnTo>
                    <a:lnTo>
                      <a:pt x="1826" y="398"/>
                    </a:lnTo>
                    <a:lnTo>
                      <a:pt x="1826" y="399"/>
                    </a:lnTo>
                    <a:lnTo>
                      <a:pt x="1827" y="401"/>
                    </a:lnTo>
                    <a:lnTo>
                      <a:pt x="1829" y="403"/>
                    </a:lnTo>
                    <a:lnTo>
                      <a:pt x="1831" y="404"/>
                    </a:lnTo>
                    <a:lnTo>
                      <a:pt x="1832" y="405"/>
                    </a:lnTo>
                    <a:lnTo>
                      <a:pt x="1833" y="405"/>
                    </a:lnTo>
                    <a:lnTo>
                      <a:pt x="1833" y="404"/>
                    </a:lnTo>
                    <a:lnTo>
                      <a:pt x="1832" y="402"/>
                    </a:lnTo>
                    <a:lnTo>
                      <a:pt x="1832" y="400"/>
                    </a:lnTo>
                    <a:lnTo>
                      <a:pt x="1832" y="398"/>
                    </a:lnTo>
                    <a:lnTo>
                      <a:pt x="1832" y="395"/>
                    </a:lnTo>
                    <a:lnTo>
                      <a:pt x="1832" y="395"/>
                    </a:lnTo>
                    <a:lnTo>
                      <a:pt x="1834" y="396"/>
                    </a:lnTo>
                    <a:lnTo>
                      <a:pt x="1835" y="399"/>
                    </a:lnTo>
                    <a:lnTo>
                      <a:pt x="1837" y="401"/>
                    </a:lnTo>
                    <a:lnTo>
                      <a:pt x="1838" y="404"/>
                    </a:lnTo>
                    <a:lnTo>
                      <a:pt x="1841" y="406"/>
                    </a:lnTo>
                    <a:lnTo>
                      <a:pt x="1843" y="409"/>
                    </a:lnTo>
                    <a:lnTo>
                      <a:pt x="1844" y="410"/>
                    </a:lnTo>
                    <a:lnTo>
                      <a:pt x="1845" y="411"/>
                    </a:lnTo>
                    <a:lnTo>
                      <a:pt x="1846" y="410"/>
                    </a:lnTo>
                    <a:lnTo>
                      <a:pt x="1846" y="404"/>
                    </a:lnTo>
                    <a:lnTo>
                      <a:pt x="1844" y="398"/>
                    </a:lnTo>
                    <a:lnTo>
                      <a:pt x="1842" y="391"/>
                    </a:lnTo>
                    <a:lnTo>
                      <a:pt x="1841" y="390"/>
                    </a:lnTo>
                    <a:lnTo>
                      <a:pt x="1841" y="388"/>
                    </a:lnTo>
                    <a:lnTo>
                      <a:pt x="1841" y="386"/>
                    </a:lnTo>
                    <a:lnTo>
                      <a:pt x="1841" y="385"/>
                    </a:lnTo>
                    <a:lnTo>
                      <a:pt x="1842" y="384"/>
                    </a:lnTo>
                    <a:lnTo>
                      <a:pt x="1844" y="385"/>
                    </a:lnTo>
                    <a:lnTo>
                      <a:pt x="1846" y="388"/>
                    </a:lnTo>
                    <a:lnTo>
                      <a:pt x="1847" y="390"/>
                    </a:lnTo>
                    <a:lnTo>
                      <a:pt x="1849" y="392"/>
                    </a:lnTo>
                    <a:lnTo>
                      <a:pt x="1851" y="395"/>
                    </a:lnTo>
                    <a:lnTo>
                      <a:pt x="1855" y="400"/>
                    </a:lnTo>
                    <a:lnTo>
                      <a:pt x="1855" y="402"/>
                    </a:lnTo>
                    <a:lnTo>
                      <a:pt x="1857" y="404"/>
                    </a:lnTo>
                    <a:lnTo>
                      <a:pt x="1858" y="405"/>
                    </a:lnTo>
                    <a:lnTo>
                      <a:pt x="1858" y="406"/>
                    </a:lnTo>
                    <a:lnTo>
                      <a:pt x="1858" y="407"/>
                    </a:lnTo>
                    <a:lnTo>
                      <a:pt x="1859" y="410"/>
                    </a:lnTo>
                    <a:lnTo>
                      <a:pt x="1860" y="412"/>
                    </a:lnTo>
                    <a:lnTo>
                      <a:pt x="1863" y="414"/>
                    </a:lnTo>
                    <a:lnTo>
                      <a:pt x="1863" y="412"/>
                    </a:lnTo>
                    <a:lnTo>
                      <a:pt x="1865" y="414"/>
                    </a:lnTo>
                    <a:lnTo>
                      <a:pt x="1866" y="417"/>
                    </a:lnTo>
                    <a:lnTo>
                      <a:pt x="1867" y="421"/>
                    </a:lnTo>
                    <a:lnTo>
                      <a:pt x="1868" y="424"/>
                    </a:lnTo>
                    <a:lnTo>
                      <a:pt x="1868" y="427"/>
                    </a:lnTo>
                    <a:lnTo>
                      <a:pt x="1875" y="434"/>
                    </a:lnTo>
                    <a:lnTo>
                      <a:pt x="1876" y="436"/>
                    </a:lnTo>
                    <a:lnTo>
                      <a:pt x="1877" y="437"/>
                    </a:lnTo>
                    <a:lnTo>
                      <a:pt x="1879" y="438"/>
                    </a:lnTo>
                    <a:lnTo>
                      <a:pt x="1880" y="439"/>
                    </a:lnTo>
                    <a:lnTo>
                      <a:pt x="1882" y="440"/>
                    </a:lnTo>
                    <a:lnTo>
                      <a:pt x="1884" y="442"/>
                    </a:lnTo>
                    <a:lnTo>
                      <a:pt x="1885" y="444"/>
                    </a:lnTo>
                    <a:lnTo>
                      <a:pt x="1886" y="445"/>
                    </a:lnTo>
                    <a:lnTo>
                      <a:pt x="1887" y="446"/>
                    </a:lnTo>
                    <a:lnTo>
                      <a:pt x="1887" y="447"/>
                    </a:lnTo>
                    <a:lnTo>
                      <a:pt x="1888" y="448"/>
                    </a:lnTo>
                    <a:lnTo>
                      <a:pt x="1890" y="450"/>
                    </a:lnTo>
                    <a:lnTo>
                      <a:pt x="1891" y="451"/>
                    </a:lnTo>
                    <a:lnTo>
                      <a:pt x="1892" y="451"/>
                    </a:lnTo>
                    <a:lnTo>
                      <a:pt x="1893" y="453"/>
                    </a:lnTo>
                    <a:lnTo>
                      <a:pt x="1895" y="455"/>
                    </a:lnTo>
                    <a:lnTo>
                      <a:pt x="1895" y="457"/>
                    </a:lnTo>
                    <a:lnTo>
                      <a:pt x="1896" y="459"/>
                    </a:lnTo>
                    <a:lnTo>
                      <a:pt x="1897" y="460"/>
                    </a:lnTo>
                    <a:lnTo>
                      <a:pt x="1898" y="461"/>
                    </a:lnTo>
                    <a:lnTo>
                      <a:pt x="1899" y="464"/>
                    </a:lnTo>
                    <a:lnTo>
                      <a:pt x="1898" y="464"/>
                    </a:lnTo>
                    <a:lnTo>
                      <a:pt x="1897" y="465"/>
                    </a:lnTo>
                    <a:lnTo>
                      <a:pt x="1896" y="465"/>
                    </a:lnTo>
                    <a:lnTo>
                      <a:pt x="1893" y="465"/>
                    </a:lnTo>
                    <a:lnTo>
                      <a:pt x="1892" y="465"/>
                    </a:lnTo>
                    <a:lnTo>
                      <a:pt x="1891" y="465"/>
                    </a:lnTo>
                    <a:lnTo>
                      <a:pt x="1890" y="465"/>
                    </a:lnTo>
                    <a:lnTo>
                      <a:pt x="1889" y="466"/>
                    </a:lnTo>
                    <a:lnTo>
                      <a:pt x="1889" y="467"/>
                    </a:lnTo>
                    <a:lnTo>
                      <a:pt x="1888" y="468"/>
                    </a:lnTo>
                    <a:lnTo>
                      <a:pt x="1888" y="469"/>
                    </a:lnTo>
                    <a:lnTo>
                      <a:pt x="1887" y="472"/>
                    </a:lnTo>
                    <a:lnTo>
                      <a:pt x="1887" y="475"/>
                    </a:lnTo>
                    <a:lnTo>
                      <a:pt x="1887" y="477"/>
                    </a:lnTo>
                    <a:lnTo>
                      <a:pt x="1888" y="480"/>
                    </a:lnTo>
                    <a:lnTo>
                      <a:pt x="1889" y="483"/>
                    </a:lnTo>
                    <a:lnTo>
                      <a:pt x="1889" y="487"/>
                    </a:lnTo>
                    <a:lnTo>
                      <a:pt x="1890" y="489"/>
                    </a:lnTo>
                    <a:lnTo>
                      <a:pt x="1890" y="491"/>
                    </a:lnTo>
                    <a:lnTo>
                      <a:pt x="1889" y="491"/>
                    </a:lnTo>
                    <a:lnTo>
                      <a:pt x="1889" y="492"/>
                    </a:lnTo>
                    <a:lnTo>
                      <a:pt x="1889" y="494"/>
                    </a:lnTo>
                    <a:lnTo>
                      <a:pt x="1888" y="497"/>
                    </a:lnTo>
                    <a:lnTo>
                      <a:pt x="1888" y="499"/>
                    </a:lnTo>
                    <a:lnTo>
                      <a:pt x="1890" y="503"/>
                    </a:lnTo>
                    <a:lnTo>
                      <a:pt x="1890" y="508"/>
                    </a:lnTo>
                    <a:lnTo>
                      <a:pt x="1890" y="512"/>
                    </a:lnTo>
                    <a:lnTo>
                      <a:pt x="1891" y="514"/>
                    </a:lnTo>
                    <a:lnTo>
                      <a:pt x="1891" y="515"/>
                    </a:lnTo>
                    <a:lnTo>
                      <a:pt x="1891" y="518"/>
                    </a:lnTo>
                    <a:lnTo>
                      <a:pt x="1890" y="520"/>
                    </a:lnTo>
                    <a:lnTo>
                      <a:pt x="1890" y="523"/>
                    </a:lnTo>
                    <a:lnTo>
                      <a:pt x="1893" y="538"/>
                    </a:lnTo>
                    <a:lnTo>
                      <a:pt x="1895" y="554"/>
                    </a:lnTo>
                    <a:lnTo>
                      <a:pt x="1892" y="552"/>
                    </a:lnTo>
                    <a:lnTo>
                      <a:pt x="1890" y="549"/>
                    </a:lnTo>
                    <a:lnTo>
                      <a:pt x="1888" y="546"/>
                    </a:lnTo>
                    <a:lnTo>
                      <a:pt x="1886" y="543"/>
                    </a:lnTo>
                    <a:lnTo>
                      <a:pt x="1885" y="540"/>
                    </a:lnTo>
                    <a:lnTo>
                      <a:pt x="1885" y="537"/>
                    </a:lnTo>
                    <a:lnTo>
                      <a:pt x="1885" y="535"/>
                    </a:lnTo>
                    <a:lnTo>
                      <a:pt x="1886" y="533"/>
                    </a:lnTo>
                    <a:lnTo>
                      <a:pt x="1887" y="531"/>
                    </a:lnTo>
                    <a:lnTo>
                      <a:pt x="1885" y="531"/>
                    </a:lnTo>
                    <a:lnTo>
                      <a:pt x="1884" y="532"/>
                    </a:lnTo>
                    <a:lnTo>
                      <a:pt x="1882" y="532"/>
                    </a:lnTo>
                    <a:lnTo>
                      <a:pt x="1881" y="531"/>
                    </a:lnTo>
                    <a:lnTo>
                      <a:pt x="1880" y="529"/>
                    </a:lnTo>
                    <a:lnTo>
                      <a:pt x="1878" y="526"/>
                    </a:lnTo>
                    <a:lnTo>
                      <a:pt x="1877" y="524"/>
                    </a:lnTo>
                    <a:lnTo>
                      <a:pt x="1876" y="523"/>
                    </a:lnTo>
                    <a:lnTo>
                      <a:pt x="1874" y="520"/>
                    </a:lnTo>
                    <a:lnTo>
                      <a:pt x="1871" y="518"/>
                    </a:lnTo>
                    <a:lnTo>
                      <a:pt x="1870" y="515"/>
                    </a:lnTo>
                    <a:lnTo>
                      <a:pt x="1868" y="514"/>
                    </a:lnTo>
                    <a:lnTo>
                      <a:pt x="1866" y="511"/>
                    </a:lnTo>
                    <a:lnTo>
                      <a:pt x="1864" y="509"/>
                    </a:lnTo>
                    <a:lnTo>
                      <a:pt x="1863" y="505"/>
                    </a:lnTo>
                    <a:lnTo>
                      <a:pt x="1863" y="504"/>
                    </a:lnTo>
                    <a:lnTo>
                      <a:pt x="1864" y="503"/>
                    </a:lnTo>
                    <a:lnTo>
                      <a:pt x="1864" y="503"/>
                    </a:lnTo>
                    <a:lnTo>
                      <a:pt x="1865" y="503"/>
                    </a:lnTo>
                    <a:lnTo>
                      <a:pt x="1866" y="503"/>
                    </a:lnTo>
                    <a:lnTo>
                      <a:pt x="1866" y="503"/>
                    </a:lnTo>
                    <a:lnTo>
                      <a:pt x="1867" y="503"/>
                    </a:lnTo>
                    <a:lnTo>
                      <a:pt x="1868" y="504"/>
                    </a:lnTo>
                    <a:lnTo>
                      <a:pt x="1869" y="504"/>
                    </a:lnTo>
                    <a:lnTo>
                      <a:pt x="1870" y="503"/>
                    </a:lnTo>
                    <a:lnTo>
                      <a:pt x="1870" y="501"/>
                    </a:lnTo>
                    <a:lnTo>
                      <a:pt x="1868" y="499"/>
                    </a:lnTo>
                    <a:lnTo>
                      <a:pt x="1866" y="495"/>
                    </a:lnTo>
                    <a:lnTo>
                      <a:pt x="1864" y="493"/>
                    </a:lnTo>
                    <a:lnTo>
                      <a:pt x="1863" y="492"/>
                    </a:lnTo>
                    <a:lnTo>
                      <a:pt x="1862" y="492"/>
                    </a:lnTo>
                    <a:lnTo>
                      <a:pt x="1859" y="491"/>
                    </a:lnTo>
                    <a:lnTo>
                      <a:pt x="1858" y="489"/>
                    </a:lnTo>
                    <a:lnTo>
                      <a:pt x="1856" y="486"/>
                    </a:lnTo>
                    <a:lnTo>
                      <a:pt x="1854" y="482"/>
                    </a:lnTo>
                    <a:lnTo>
                      <a:pt x="1853" y="480"/>
                    </a:lnTo>
                    <a:lnTo>
                      <a:pt x="1851" y="477"/>
                    </a:lnTo>
                    <a:lnTo>
                      <a:pt x="1851" y="476"/>
                    </a:lnTo>
                    <a:lnTo>
                      <a:pt x="1851" y="475"/>
                    </a:lnTo>
                    <a:lnTo>
                      <a:pt x="1852" y="473"/>
                    </a:lnTo>
                    <a:lnTo>
                      <a:pt x="1852" y="473"/>
                    </a:lnTo>
                    <a:lnTo>
                      <a:pt x="1854" y="473"/>
                    </a:lnTo>
                    <a:lnTo>
                      <a:pt x="1855" y="473"/>
                    </a:lnTo>
                    <a:lnTo>
                      <a:pt x="1856" y="473"/>
                    </a:lnTo>
                    <a:lnTo>
                      <a:pt x="1857" y="473"/>
                    </a:lnTo>
                    <a:lnTo>
                      <a:pt x="1858" y="472"/>
                    </a:lnTo>
                    <a:lnTo>
                      <a:pt x="1858" y="470"/>
                    </a:lnTo>
                    <a:lnTo>
                      <a:pt x="1858" y="469"/>
                    </a:lnTo>
                    <a:lnTo>
                      <a:pt x="1858" y="467"/>
                    </a:lnTo>
                    <a:lnTo>
                      <a:pt x="1859" y="467"/>
                    </a:lnTo>
                    <a:lnTo>
                      <a:pt x="1862" y="467"/>
                    </a:lnTo>
                    <a:lnTo>
                      <a:pt x="1863" y="467"/>
                    </a:lnTo>
                    <a:lnTo>
                      <a:pt x="1864" y="467"/>
                    </a:lnTo>
                    <a:lnTo>
                      <a:pt x="1866" y="468"/>
                    </a:lnTo>
                    <a:lnTo>
                      <a:pt x="1868" y="467"/>
                    </a:lnTo>
                    <a:lnTo>
                      <a:pt x="1868" y="466"/>
                    </a:lnTo>
                    <a:lnTo>
                      <a:pt x="1868" y="464"/>
                    </a:lnTo>
                    <a:lnTo>
                      <a:pt x="1868" y="461"/>
                    </a:lnTo>
                    <a:lnTo>
                      <a:pt x="1867" y="458"/>
                    </a:lnTo>
                    <a:lnTo>
                      <a:pt x="1866" y="455"/>
                    </a:lnTo>
                    <a:lnTo>
                      <a:pt x="1865" y="453"/>
                    </a:lnTo>
                    <a:lnTo>
                      <a:pt x="1864" y="453"/>
                    </a:lnTo>
                    <a:lnTo>
                      <a:pt x="1863" y="453"/>
                    </a:lnTo>
                    <a:lnTo>
                      <a:pt x="1863" y="454"/>
                    </a:lnTo>
                    <a:lnTo>
                      <a:pt x="1863" y="455"/>
                    </a:lnTo>
                    <a:lnTo>
                      <a:pt x="1863" y="455"/>
                    </a:lnTo>
                    <a:lnTo>
                      <a:pt x="1863" y="457"/>
                    </a:lnTo>
                    <a:lnTo>
                      <a:pt x="1862" y="458"/>
                    </a:lnTo>
                    <a:lnTo>
                      <a:pt x="1862" y="460"/>
                    </a:lnTo>
                    <a:lnTo>
                      <a:pt x="1862" y="461"/>
                    </a:lnTo>
                    <a:lnTo>
                      <a:pt x="1860" y="461"/>
                    </a:lnTo>
                    <a:lnTo>
                      <a:pt x="1859" y="458"/>
                    </a:lnTo>
                    <a:lnTo>
                      <a:pt x="1858" y="456"/>
                    </a:lnTo>
                    <a:lnTo>
                      <a:pt x="1857" y="454"/>
                    </a:lnTo>
                    <a:lnTo>
                      <a:pt x="1856" y="453"/>
                    </a:lnTo>
                    <a:lnTo>
                      <a:pt x="1855" y="451"/>
                    </a:lnTo>
                    <a:lnTo>
                      <a:pt x="1854" y="451"/>
                    </a:lnTo>
                    <a:lnTo>
                      <a:pt x="1853" y="453"/>
                    </a:lnTo>
                    <a:lnTo>
                      <a:pt x="1853" y="453"/>
                    </a:lnTo>
                    <a:lnTo>
                      <a:pt x="1853" y="456"/>
                    </a:lnTo>
                    <a:lnTo>
                      <a:pt x="1853" y="458"/>
                    </a:lnTo>
                    <a:lnTo>
                      <a:pt x="1854" y="460"/>
                    </a:lnTo>
                    <a:lnTo>
                      <a:pt x="1854" y="464"/>
                    </a:lnTo>
                    <a:lnTo>
                      <a:pt x="1854" y="465"/>
                    </a:lnTo>
                    <a:lnTo>
                      <a:pt x="1853" y="465"/>
                    </a:lnTo>
                    <a:lnTo>
                      <a:pt x="1852" y="465"/>
                    </a:lnTo>
                    <a:lnTo>
                      <a:pt x="1851" y="465"/>
                    </a:lnTo>
                    <a:lnTo>
                      <a:pt x="1848" y="467"/>
                    </a:lnTo>
                    <a:lnTo>
                      <a:pt x="1847" y="467"/>
                    </a:lnTo>
                    <a:lnTo>
                      <a:pt x="1846" y="466"/>
                    </a:lnTo>
                    <a:lnTo>
                      <a:pt x="1844" y="464"/>
                    </a:lnTo>
                    <a:lnTo>
                      <a:pt x="1843" y="461"/>
                    </a:lnTo>
                    <a:lnTo>
                      <a:pt x="1842" y="458"/>
                    </a:lnTo>
                    <a:lnTo>
                      <a:pt x="1841" y="456"/>
                    </a:lnTo>
                    <a:lnTo>
                      <a:pt x="1838" y="453"/>
                    </a:lnTo>
                    <a:lnTo>
                      <a:pt x="1832" y="444"/>
                    </a:lnTo>
                    <a:lnTo>
                      <a:pt x="1826" y="434"/>
                    </a:lnTo>
                    <a:lnTo>
                      <a:pt x="1825" y="432"/>
                    </a:lnTo>
                    <a:lnTo>
                      <a:pt x="1824" y="429"/>
                    </a:lnTo>
                    <a:lnTo>
                      <a:pt x="1825" y="427"/>
                    </a:lnTo>
                    <a:lnTo>
                      <a:pt x="1825" y="424"/>
                    </a:lnTo>
                    <a:lnTo>
                      <a:pt x="1825" y="422"/>
                    </a:lnTo>
                    <a:lnTo>
                      <a:pt x="1824" y="418"/>
                    </a:lnTo>
                    <a:lnTo>
                      <a:pt x="1818" y="412"/>
                    </a:lnTo>
                    <a:lnTo>
                      <a:pt x="1816" y="410"/>
                    </a:lnTo>
                    <a:lnTo>
                      <a:pt x="1814" y="407"/>
                    </a:lnTo>
                    <a:lnTo>
                      <a:pt x="1814" y="406"/>
                    </a:lnTo>
                    <a:lnTo>
                      <a:pt x="1813" y="404"/>
                    </a:lnTo>
                    <a:lnTo>
                      <a:pt x="1812" y="402"/>
                    </a:lnTo>
                    <a:lnTo>
                      <a:pt x="1811" y="399"/>
                    </a:lnTo>
                    <a:lnTo>
                      <a:pt x="1810" y="396"/>
                    </a:lnTo>
                    <a:lnTo>
                      <a:pt x="1809" y="393"/>
                    </a:lnTo>
                    <a:lnTo>
                      <a:pt x="1808" y="390"/>
                    </a:lnTo>
                    <a:lnTo>
                      <a:pt x="1806" y="386"/>
                    </a:lnTo>
                    <a:lnTo>
                      <a:pt x="1805" y="384"/>
                    </a:lnTo>
                    <a:lnTo>
                      <a:pt x="1806" y="382"/>
                    </a:lnTo>
                    <a:lnTo>
                      <a:pt x="1808" y="381"/>
                    </a:lnTo>
                    <a:lnTo>
                      <a:pt x="1810" y="380"/>
                    </a:lnTo>
                    <a:lnTo>
                      <a:pt x="1811" y="380"/>
                    </a:lnTo>
                    <a:close/>
                    <a:moveTo>
                      <a:pt x="428" y="372"/>
                    </a:moveTo>
                    <a:lnTo>
                      <a:pt x="436" y="374"/>
                    </a:lnTo>
                    <a:lnTo>
                      <a:pt x="440" y="378"/>
                    </a:lnTo>
                    <a:lnTo>
                      <a:pt x="446" y="384"/>
                    </a:lnTo>
                    <a:lnTo>
                      <a:pt x="450" y="390"/>
                    </a:lnTo>
                    <a:lnTo>
                      <a:pt x="454" y="396"/>
                    </a:lnTo>
                    <a:lnTo>
                      <a:pt x="455" y="403"/>
                    </a:lnTo>
                    <a:lnTo>
                      <a:pt x="450" y="411"/>
                    </a:lnTo>
                    <a:lnTo>
                      <a:pt x="443" y="417"/>
                    </a:lnTo>
                    <a:lnTo>
                      <a:pt x="434" y="420"/>
                    </a:lnTo>
                    <a:lnTo>
                      <a:pt x="423" y="418"/>
                    </a:lnTo>
                    <a:lnTo>
                      <a:pt x="413" y="416"/>
                    </a:lnTo>
                    <a:lnTo>
                      <a:pt x="404" y="413"/>
                    </a:lnTo>
                    <a:lnTo>
                      <a:pt x="398" y="410"/>
                    </a:lnTo>
                    <a:lnTo>
                      <a:pt x="397" y="405"/>
                    </a:lnTo>
                    <a:lnTo>
                      <a:pt x="398" y="399"/>
                    </a:lnTo>
                    <a:lnTo>
                      <a:pt x="402" y="392"/>
                    </a:lnTo>
                    <a:lnTo>
                      <a:pt x="406" y="385"/>
                    </a:lnTo>
                    <a:lnTo>
                      <a:pt x="409" y="380"/>
                    </a:lnTo>
                    <a:lnTo>
                      <a:pt x="414" y="374"/>
                    </a:lnTo>
                    <a:lnTo>
                      <a:pt x="420" y="372"/>
                    </a:lnTo>
                    <a:lnTo>
                      <a:pt x="428" y="372"/>
                    </a:lnTo>
                    <a:close/>
                    <a:moveTo>
                      <a:pt x="1855" y="372"/>
                    </a:moveTo>
                    <a:lnTo>
                      <a:pt x="1856" y="373"/>
                    </a:lnTo>
                    <a:lnTo>
                      <a:pt x="1857" y="374"/>
                    </a:lnTo>
                    <a:lnTo>
                      <a:pt x="1858" y="375"/>
                    </a:lnTo>
                    <a:lnTo>
                      <a:pt x="1859" y="378"/>
                    </a:lnTo>
                    <a:lnTo>
                      <a:pt x="1860" y="379"/>
                    </a:lnTo>
                    <a:lnTo>
                      <a:pt x="1862" y="381"/>
                    </a:lnTo>
                    <a:lnTo>
                      <a:pt x="1863" y="383"/>
                    </a:lnTo>
                    <a:lnTo>
                      <a:pt x="1864" y="385"/>
                    </a:lnTo>
                    <a:lnTo>
                      <a:pt x="1866" y="386"/>
                    </a:lnTo>
                    <a:lnTo>
                      <a:pt x="1868" y="389"/>
                    </a:lnTo>
                    <a:lnTo>
                      <a:pt x="1869" y="390"/>
                    </a:lnTo>
                    <a:lnTo>
                      <a:pt x="1869" y="390"/>
                    </a:lnTo>
                    <a:lnTo>
                      <a:pt x="1870" y="389"/>
                    </a:lnTo>
                    <a:lnTo>
                      <a:pt x="1870" y="388"/>
                    </a:lnTo>
                    <a:lnTo>
                      <a:pt x="1870" y="388"/>
                    </a:lnTo>
                    <a:lnTo>
                      <a:pt x="1870" y="386"/>
                    </a:lnTo>
                    <a:lnTo>
                      <a:pt x="1871" y="385"/>
                    </a:lnTo>
                    <a:lnTo>
                      <a:pt x="1871" y="385"/>
                    </a:lnTo>
                    <a:lnTo>
                      <a:pt x="1873" y="386"/>
                    </a:lnTo>
                    <a:lnTo>
                      <a:pt x="1876" y="389"/>
                    </a:lnTo>
                    <a:lnTo>
                      <a:pt x="1876" y="390"/>
                    </a:lnTo>
                    <a:lnTo>
                      <a:pt x="1876" y="389"/>
                    </a:lnTo>
                    <a:lnTo>
                      <a:pt x="1876" y="389"/>
                    </a:lnTo>
                    <a:lnTo>
                      <a:pt x="1876" y="388"/>
                    </a:lnTo>
                    <a:lnTo>
                      <a:pt x="1876" y="386"/>
                    </a:lnTo>
                    <a:lnTo>
                      <a:pt x="1876" y="386"/>
                    </a:lnTo>
                    <a:lnTo>
                      <a:pt x="1876" y="385"/>
                    </a:lnTo>
                    <a:lnTo>
                      <a:pt x="1876" y="383"/>
                    </a:lnTo>
                    <a:lnTo>
                      <a:pt x="1876" y="382"/>
                    </a:lnTo>
                    <a:lnTo>
                      <a:pt x="1877" y="381"/>
                    </a:lnTo>
                    <a:lnTo>
                      <a:pt x="1878" y="382"/>
                    </a:lnTo>
                    <a:lnTo>
                      <a:pt x="1880" y="383"/>
                    </a:lnTo>
                    <a:lnTo>
                      <a:pt x="1882" y="384"/>
                    </a:lnTo>
                    <a:lnTo>
                      <a:pt x="1885" y="386"/>
                    </a:lnTo>
                    <a:lnTo>
                      <a:pt x="1886" y="390"/>
                    </a:lnTo>
                    <a:lnTo>
                      <a:pt x="1887" y="392"/>
                    </a:lnTo>
                    <a:lnTo>
                      <a:pt x="1887" y="393"/>
                    </a:lnTo>
                    <a:lnTo>
                      <a:pt x="1887" y="395"/>
                    </a:lnTo>
                    <a:lnTo>
                      <a:pt x="1887" y="396"/>
                    </a:lnTo>
                    <a:lnTo>
                      <a:pt x="1887" y="399"/>
                    </a:lnTo>
                    <a:lnTo>
                      <a:pt x="1887" y="400"/>
                    </a:lnTo>
                    <a:lnTo>
                      <a:pt x="1888" y="402"/>
                    </a:lnTo>
                    <a:lnTo>
                      <a:pt x="1889" y="402"/>
                    </a:lnTo>
                    <a:lnTo>
                      <a:pt x="1890" y="402"/>
                    </a:lnTo>
                    <a:lnTo>
                      <a:pt x="1890" y="400"/>
                    </a:lnTo>
                    <a:lnTo>
                      <a:pt x="1890" y="399"/>
                    </a:lnTo>
                    <a:lnTo>
                      <a:pt x="1889" y="396"/>
                    </a:lnTo>
                    <a:lnTo>
                      <a:pt x="1889" y="395"/>
                    </a:lnTo>
                    <a:lnTo>
                      <a:pt x="1890" y="394"/>
                    </a:lnTo>
                    <a:lnTo>
                      <a:pt x="1890" y="393"/>
                    </a:lnTo>
                    <a:lnTo>
                      <a:pt x="1892" y="393"/>
                    </a:lnTo>
                    <a:lnTo>
                      <a:pt x="1893" y="393"/>
                    </a:lnTo>
                    <a:lnTo>
                      <a:pt x="1901" y="400"/>
                    </a:lnTo>
                    <a:lnTo>
                      <a:pt x="1902" y="402"/>
                    </a:lnTo>
                    <a:lnTo>
                      <a:pt x="1904" y="404"/>
                    </a:lnTo>
                    <a:lnTo>
                      <a:pt x="1906" y="405"/>
                    </a:lnTo>
                    <a:lnTo>
                      <a:pt x="1908" y="406"/>
                    </a:lnTo>
                    <a:lnTo>
                      <a:pt x="1910" y="407"/>
                    </a:lnTo>
                    <a:lnTo>
                      <a:pt x="1913" y="409"/>
                    </a:lnTo>
                    <a:lnTo>
                      <a:pt x="1915" y="410"/>
                    </a:lnTo>
                    <a:lnTo>
                      <a:pt x="1918" y="411"/>
                    </a:lnTo>
                    <a:lnTo>
                      <a:pt x="1920" y="413"/>
                    </a:lnTo>
                    <a:lnTo>
                      <a:pt x="1922" y="414"/>
                    </a:lnTo>
                    <a:lnTo>
                      <a:pt x="1923" y="416"/>
                    </a:lnTo>
                    <a:lnTo>
                      <a:pt x="1923" y="417"/>
                    </a:lnTo>
                    <a:lnTo>
                      <a:pt x="1923" y="418"/>
                    </a:lnTo>
                    <a:lnTo>
                      <a:pt x="1922" y="420"/>
                    </a:lnTo>
                    <a:lnTo>
                      <a:pt x="1922" y="421"/>
                    </a:lnTo>
                    <a:lnTo>
                      <a:pt x="1922" y="422"/>
                    </a:lnTo>
                    <a:lnTo>
                      <a:pt x="1922" y="423"/>
                    </a:lnTo>
                    <a:lnTo>
                      <a:pt x="1923" y="424"/>
                    </a:lnTo>
                    <a:lnTo>
                      <a:pt x="1924" y="426"/>
                    </a:lnTo>
                    <a:lnTo>
                      <a:pt x="1925" y="428"/>
                    </a:lnTo>
                    <a:lnTo>
                      <a:pt x="1925" y="429"/>
                    </a:lnTo>
                    <a:lnTo>
                      <a:pt x="1924" y="431"/>
                    </a:lnTo>
                    <a:lnTo>
                      <a:pt x="1924" y="432"/>
                    </a:lnTo>
                    <a:lnTo>
                      <a:pt x="1924" y="433"/>
                    </a:lnTo>
                    <a:lnTo>
                      <a:pt x="1922" y="435"/>
                    </a:lnTo>
                    <a:lnTo>
                      <a:pt x="1922" y="437"/>
                    </a:lnTo>
                    <a:lnTo>
                      <a:pt x="1922" y="439"/>
                    </a:lnTo>
                    <a:lnTo>
                      <a:pt x="1921" y="442"/>
                    </a:lnTo>
                    <a:lnTo>
                      <a:pt x="1921" y="444"/>
                    </a:lnTo>
                    <a:lnTo>
                      <a:pt x="1920" y="446"/>
                    </a:lnTo>
                    <a:lnTo>
                      <a:pt x="1920" y="448"/>
                    </a:lnTo>
                    <a:lnTo>
                      <a:pt x="1920" y="449"/>
                    </a:lnTo>
                    <a:lnTo>
                      <a:pt x="1919" y="450"/>
                    </a:lnTo>
                    <a:lnTo>
                      <a:pt x="1917" y="450"/>
                    </a:lnTo>
                    <a:lnTo>
                      <a:pt x="1914" y="450"/>
                    </a:lnTo>
                    <a:lnTo>
                      <a:pt x="1913" y="449"/>
                    </a:lnTo>
                    <a:lnTo>
                      <a:pt x="1911" y="448"/>
                    </a:lnTo>
                    <a:lnTo>
                      <a:pt x="1909" y="447"/>
                    </a:lnTo>
                    <a:lnTo>
                      <a:pt x="1907" y="445"/>
                    </a:lnTo>
                    <a:lnTo>
                      <a:pt x="1906" y="444"/>
                    </a:lnTo>
                    <a:lnTo>
                      <a:pt x="1902" y="442"/>
                    </a:lnTo>
                    <a:lnTo>
                      <a:pt x="1899" y="439"/>
                    </a:lnTo>
                    <a:lnTo>
                      <a:pt x="1896" y="437"/>
                    </a:lnTo>
                    <a:lnTo>
                      <a:pt x="1889" y="436"/>
                    </a:lnTo>
                    <a:lnTo>
                      <a:pt x="1882" y="434"/>
                    </a:lnTo>
                    <a:lnTo>
                      <a:pt x="1876" y="428"/>
                    </a:lnTo>
                    <a:lnTo>
                      <a:pt x="1875" y="427"/>
                    </a:lnTo>
                    <a:lnTo>
                      <a:pt x="1874" y="425"/>
                    </a:lnTo>
                    <a:lnTo>
                      <a:pt x="1874" y="424"/>
                    </a:lnTo>
                    <a:lnTo>
                      <a:pt x="1873" y="422"/>
                    </a:lnTo>
                    <a:lnTo>
                      <a:pt x="1873" y="421"/>
                    </a:lnTo>
                    <a:lnTo>
                      <a:pt x="1873" y="420"/>
                    </a:lnTo>
                    <a:lnTo>
                      <a:pt x="1878" y="422"/>
                    </a:lnTo>
                    <a:lnTo>
                      <a:pt x="1878" y="422"/>
                    </a:lnTo>
                    <a:lnTo>
                      <a:pt x="1878" y="421"/>
                    </a:lnTo>
                    <a:lnTo>
                      <a:pt x="1878" y="420"/>
                    </a:lnTo>
                    <a:lnTo>
                      <a:pt x="1877" y="418"/>
                    </a:lnTo>
                    <a:lnTo>
                      <a:pt x="1877" y="417"/>
                    </a:lnTo>
                    <a:lnTo>
                      <a:pt x="1878" y="417"/>
                    </a:lnTo>
                    <a:lnTo>
                      <a:pt x="1879" y="417"/>
                    </a:lnTo>
                    <a:lnTo>
                      <a:pt x="1880" y="417"/>
                    </a:lnTo>
                    <a:lnTo>
                      <a:pt x="1880" y="417"/>
                    </a:lnTo>
                    <a:lnTo>
                      <a:pt x="1881" y="417"/>
                    </a:lnTo>
                    <a:lnTo>
                      <a:pt x="1880" y="416"/>
                    </a:lnTo>
                    <a:lnTo>
                      <a:pt x="1880" y="415"/>
                    </a:lnTo>
                    <a:lnTo>
                      <a:pt x="1879" y="413"/>
                    </a:lnTo>
                    <a:lnTo>
                      <a:pt x="1878" y="411"/>
                    </a:lnTo>
                    <a:lnTo>
                      <a:pt x="1877" y="410"/>
                    </a:lnTo>
                    <a:lnTo>
                      <a:pt x="1875" y="409"/>
                    </a:lnTo>
                    <a:lnTo>
                      <a:pt x="1874" y="409"/>
                    </a:lnTo>
                    <a:lnTo>
                      <a:pt x="1871" y="409"/>
                    </a:lnTo>
                    <a:lnTo>
                      <a:pt x="1870" y="409"/>
                    </a:lnTo>
                    <a:lnTo>
                      <a:pt x="1869" y="410"/>
                    </a:lnTo>
                    <a:lnTo>
                      <a:pt x="1868" y="411"/>
                    </a:lnTo>
                    <a:lnTo>
                      <a:pt x="1867" y="412"/>
                    </a:lnTo>
                    <a:lnTo>
                      <a:pt x="1866" y="412"/>
                    </a:lnTo>
                    <a:lnTo>
                      <a:pt x="1864" y="411"/>
                    </a:lnTo>
                    <a:lnTo>
                      <a:pt x="1863" y="411"/>
                    </a:lnTo>
                    <a:lnTo>
                      <a:pt x="1862" y="411"/>
                    </a:lnTo>
                    <a:lnTo>
                      <a:pt x="1862" y="410"/>
                    </a:lnTo>
                    <a:lnTo>
                      <a:pt x="1860" y="409"/>
                    </a:lnTo>
                    <a:lnTo>
                      <a:pt x="1859" y="406"/>
                    </a:lnTo>
                    <a:lnTo>
                      <a:pt x="1858" y="405"/>
                    </a:lnTo>
                    <a:lnTo>
                      <a:pt x="1857" y="404"/>
                    </a:lnTo>
                    <a:lnTo>
                      <a:pt x="1856" y="402"/>
                    </a:lnTo>
                    <a:lnTo>
                      <a:pt x="1855" y="400"/>
                    </a:lnTo>
                    <a:lnTo>
                      <a:pt x="1855" y="400"/>
                    </a:lnTo>
                    <a:lnTo>
                      <a:pt x="1855" y="399"/>
                    </a:lnTo>
                    <a:lnTo>
                      <a:pt x="1856" y="398"/>
                    </a:lnTo>
                    <a:lnTo>
                      <a:pt x="1856" y="398"/>
                    </a:lnTo>
                    <a:lnTo>
                      <a:pt x="1857" y="398"/>
                    </a:lnTo>
                    <a:lnTo>
                      <a:pt x="1856" y="396"/>
                    </a:lnTo>
                    <a:lnTo>
                      <a:pt x="1855" y="394"/>
                    </a:lnTo>
                    <a:lnTo>
                      <a:pt x="1854" y="392"/>
                    </a:lnTo>
                    <a:lnTo>
                      <a:pt x="1852" y="390"/>
                    </a:lnTo>
                    <a:lnTo>
                      <a:pt x="1849" y="389"/>
                    </a:lnTo>
                    <a:lnTo>
                      <a:pt x="1848" y="389"/>
                    </a:lnTo>
                    <a:lnTo>
                      <a:pt x="1846" y="386"/>
                    </a:lnTo>
                    <a:lnTo>
                      <a:pt x="1845" y="385"/>
                    </a:lnTo>
                    <a:lnTo>
                      <a:pt x="1845" y="383"/>
                    </a:lnTo>
                    <a:lnTo>
                      <a:pt x="1845" y="382"/>
                    </a:lnTo>
                    <a:lnTo>
                      <a:pt x="1846" y="381"/>
                    </a:lnTo>
                    <a:lnTo>
                      <a:pt x="1847" y="381"/>
                    </a:lnTo>
                    <a:lnTo>
                      <a:pt x="1848" y="382"/>
                    </a:lnTo>
                    <a:lnTo>
                      <a:pt x="1851" y="383"/>
                    </a:lnTo>
                    <a:lnTo>
                      <a:pt x="1853" y="384"/>
                    </a:lnTo>
                    <a:lnTo>
                      <a:pt x="1854" y="385"/>
                    </a:lnTo>
                    <a:lnTo>
                      <a:pt x="1855" y="385"/>
                    </a:lnTo>
                    <a:lnTo>
                      <a:pt x="1855" y="385"/>
                    </a:lnTo>
                    <a:lnTo>
                      <a:pt x="1855" y="384"/>
                    </a:lnTo>
                    <a:lnTo>
                      <a:pt x="1855" y="382"/>
                    </a:lnTo>
                    <a:lnTo>
                      <a:pt x="1855" y="381"/>
                    </a:lnTo>
                    <a:lnTo>
                      <a:pt x="1855" y="380"/>
                    </a:lnTo>
                    <a:lnTo>
                      <a:pt x="1854" y="379"/>
                    </a:lnTo>
                    <a:lnTo>
                      <a:pt x="1854" y="378"/>
                    </a:lnTo>
                    <a:lnTo>
                      <a:pt x="1854" y="378"/>
                    </a:lnTo>
                    <a:lnTo>
                      <a:pt x="1854" y="377"/>
                    </a:lnTo>
                    <a:lnTo>
                      <a:pt x="1855" y="375"/>
                    </a:lnTo>
                    <a:lnTo>
                      <a:pt x="1854" y="373"/>
                    </a:lnTo>
                    <a:lnTo>
                      <a:pt x="1854" y="372"/>
                    </a:lnTo>
                    <a:lnTo>
                      <a:pt x="1855" y="372"/>
                    </a:lnTo>
                    <a:close/>
                    <a:moveTo>
                      <a:pt x="1843" y="361"/>
                    </a:moveTo>
                    <a:lnTo>
                      <a:pt x="1844" y="361"/>
                    </a:lnTo>
                    <a:lnTo>
                      <a:pt x="1845" y="361"/>
                    </a:lnTo>
                    <a:lnTo>
                      <a:pt x="1847" y="362"/>
                    </a:lnTo>
                    <a:lnTo>
                      <a:pt x="1849" y="363"/>
                    </a:lnTo>
                    <a:lnTo>
                      <a:pt x="1853" y="367"/>
                    </a:lnTo>
                    <a:lnTo>
                      <a:pt x="1852" y="368"/>
                    </a:lnTo>
                    <a:lnTo>
                      <a:pt x="1851" y="368"/>
                    </a:lnTo>
                    <a:lnTo>
                      <a:pt x="1849" y="367"/>
                    </a:lnTo>
                    <a:lnTo>
                      <a:pt x="1848" y="367"/>
                    </a:lnTo>
                    <a:lnTo>
                      <a:pt x="1846" y="366"/>
                    </a:lnTo>
                    <a:lnTo>
                      <a:pt x="1845" y="364"/>
                    </a:lnTo>
                    <a:lnTo>
                      <a:pt x="1844" y="363"/>
                    </a:lnTo>
                    <a:lnTo>
                      <a:pt x="1843" y="362"/>
                    </a:lnTo>
                    <a:lnTo>
                      <a:pt x="1843" y="362"/>
                    </a:lnTo>
                    <a:lnTo>
                      <a:pt x="1843" y="361"/>
                    </a:lnTo>
                    <a:lnTo>
                      <a:pt x="1843" y="361"/>
                    </a:lnTo>
                    <a:close/>
                    <a:moveTo>
                      <a:pt x="431" y="352"/>
                    </a:moveTo>
                    <a:lnTo>
                      <a:pt x="437" y="352"/>
                    </a:lnTo>
                    <a:lnTo>
                      <a:pt x="441" y="353"/>
                    </a:lnTo>
                    <a:lnTo>
                      <a:pt x="444" y="355"/>
                    </a:lnTo>
                    <a:lnTo>
                      <a:pt x="439" y="358"/>
                    </a:lnTo>
                    <a:lnTo>
                      <a:pt x="433" y="359"/>
                    </a:lnTo>
                    <a:lnTo>
                      <a:pt x="427" y="358"/>
                    </a:lnTo>
                    <a:lnTo>
                      <a:pt x="425" y="355"/>
                    </a:lnTo>
                    <a:lnTo>
                      <a:pt x="427" y="353"/>
                    </a:lnTo>
                    <a:lnTo>
                      <a:pt x="431" y="352"/>
                    </a:lnTo>
                    <a:close/>
                    <a:moveTo>
                      <a:pt x="133" y="345"/>
                    </a:moveTo>
                    <a:lnTo>
                      <a:pt x="134" y="345"/>
                    </a:lnTo>
                    <a:lnTo>
                      <a:pt x="135" y="346"/>
                    </a:lnTo>
                    <a:lnTo>
                      <a:pt x="135" y="347"/>
                    </a:lnTo>
                    <a:lnTo>
                      <a:pt x="136" y="348"/>
                    </a:lnTo>
                    <a:lnTo>
                      <a:pt x="136" y="350"/>
                    </a:lnTo>
                    <a:lnTo>
                      <a:pt x="138" y="352"/>
                    </a:lnTo>
                    <a:lnTo>
                      <a:pt x="136" y="355"/>
                    </a:lnTo>
                    <a:lnTo>
                      <a:pt x="136" y="356"/>
                    </a:lnTo>
                    <a:lnTo>
                      <a:pt x="135" y="357"/>
                    </a:lnTo>
                    <a:lnTo>
                      <a:pt x="132" y="358"/>
                    </a:lnTo>
                    <a:lnTo>
                      <a:pt x="129" y="359"/>
                    </a:lnTo>
                    <a:lnTo>
                      <a:pt x="125" y="360"/>
                    </a:lnTo>
                    <a:lnTo>
                      <a:pt x="122" y="360"/>
                    </a:lnTo>
                    <a:lnTo>
                      <a:pt x="121" y="358"/>
                    </a:lnTo>
                    <a:lnTo>
                      <a:pt x="120" y="355"/>
                    </a:lnTo>
                    <a:lnTo>
                      <a:pt x="120" y="352"/>
                    </a:lnTo>
                    <a:lnTo>
                      <a:pt x="122" y="349"/>
                    </a:lnTo>
                    <a:lnTo>
                      <a:pt x="124" y="347"/>
                    </a:lnTo>
                    <a:lnTo>
                      <a:pt x="127" y="347"/>
                    </a:lnTo>
                    <a:lnTo>
                      <a:pt x="128" y="347"/>
                    </a:lnTo>
                    <a:lnTo>
                      <a:pt x="130" y="346"/>
                    </a:lnTo>
                    <a:lnTo>
                      <a:pt x="131" y="345"/>
                    </a:lnTo>
                    <a:lnTo>
                      <a:pt x="133" y="345"/>
                    </a:lnTo>
                    <a:close/>
                    <a:moveTo>
                      <a:pt x="696" y="334"/>
                    </a:moveTo>
                    <a:lnTo>
                      <a:pt x="698" y="335"/>
                    </a:lnTo>
                    <a:lnTo>
                      <a:pt x="699" y="337"/>
                    </a:lnTo>
                    <a:lnTo>
                      <a:pt x="699" y="339"/>
                    </a:lnTo>
                    <a:lnTo>
                      <a:pt x="699" y="341"/>
                    </a:lnTo>
                    <a:lnTo>
                      <a:pt x="698" y="344"/>
                    </a:lnTo>
                    <a:lnTo>
                      <a:pt x="697" y="347"/>
                    </a:lnTo>
                    <a:lnTo>
                      <a:pt x="695" y="348"/>
                    </a:lnTo>
                    <a:lnTo>
                      <a:pt x="692" y="350"/>
                    </a:lnTo>
                    <a:lnTo>
                      <a:pt x="689" y="350"/>
                    </a:lnTo>
                    <a:lnTo>
                      <a:pt x="686" y="349"/>
                    </a:lnTo>
                    <a:lnTo>
                      <a:pt x="684" y="348"/>
                    </a:lnTo>
                    <a:lnTo>
                      <a:pt x="681" y="347"/>
                    </a:lnTo>
                    <a:lnTo>
                      <a:pt x="680" y="346"/>
                    </a:lnTo>
                    <a:lnTo>
                      <a:pt x="680" y="344"/>
                    </a:lnTo>
                    <a:lnTo>
                      <a:pt x="681" y="341"/>
                    </a:lnTo>
                    <a:lnTo>
                      <a:pt x="685" y="340"/>
                    </a:lnTo>
                    <a:lnTo>
                      <a:pt x="686" y="339"/>
                    </a:lnTo>
                    <a:lnTo>
                      <a:pt x="688" y="337"/>
                    </a:lnTo>
                    <a:lnTo>
                      <a:pt x="690" y="336"/>
                    </a:lnTo>
                    <a:lnTo>
                      <a:pt x="692" y="335"/>
                    </a:lnTo>
                    <a:lnTo>
                      <a:pt x="694" y="334"/>
                    </a:lnTo>
                    <a:lnTo>
                      <a:pt x="696" y="334"/>
                    </a:lnTo>
                    <a:close/>
                    <a:moveTo>
                      <a:pt x="281" y="331"/>
                    </a:moveTo>
                    <a:lnTo>
                      <a:pt x="282" y="333"/>
                    </a:lnTo>
                    <a:lnTo>
                      <a:pt x="283" y="333"/>
                    </a:lnTo>
                    <a:lnTo>
                      <a:pt x="283" y="333"/>
                    </a:lnTo>
                    <a:lnTo>
                      <a:pt x="284" y="333"/>
                    </a:lnTo>
                    <a:lnTo>
                      <a:pt x="285" y="331"/>
                    </a:lnTo>
                    <a:lnTo>
                      <a:pt x="288" y="335"/>
                    </a:lnTo>
                    <a:lnTo>
                      <a:pt x="292" y="336"/>
                    </a:lnTo>
                    <a:lnTo>
                      <a:pt x="294" y="337"/>
                    </a:lnTo>
                    <a:lnTo>
                      <a:pt x="296" y="339"/>
                    </a:lnTo>
                    <a:lnTo>
                      <a:pt x="298" y="340"/>
                    </a:lnTo>
                    <a:lnTo>
                      <a:pt x="300" y="341"/>
                    </a:lnTo>
                    <a:lnTo>
                      <a:pt x="303" y="342"/>
                    </a:lnTo>
                    <a:lnTo>
                      <a:pt x="303" y="345"/>
                    </a:lnTo>
                    <a:lnTo>
                      <a:pt x="302" y="347"/>
                    </a:lnTo>
                    <a:lnTo>
                      <a:pt x="299" y="348"/>
                    </a:lnTo>
                    <a:lnTo>
                      <a:pt x="296" y="349"/>
                    </a:lnTo>
                    <a:lnTo>
                      <a:pt x="294" y="350"/>
                    </a:lnTo>
                    <a:lnTo>
                      <a:pt x="292" y="350"/>
                    </a:lnTo>
                    <a:lnTo>
                      <a:pt x="288" y="350"/>
                    </a:lnTo>
                    <a:lnTo>
                      <a:pt x="285" y="349"/>
                    </a:lnTo>
                    <a:lnTo>
                      <a:pt x="282" y="348"/>
                    </a:lnTo>
                    <a:lnTo>
                      <a:pt x="278" y="347"/>
                    </a:lnTo>
                    <a:lnTo>
                      <a:pt x="277" y="345"/>
                    </a:lnTo>
                    <a:lnTo>
                      <a:pt x="276" y="342"/>
                    </a:lnTo>
                    <a:lnTo>
                      <a:pt x="277" y="340"/>
                    </a:lnTo>
                    <a:lnTo>
                      <a:pt x="277" y="337"/>
                    </a:lnTo>
                    <a:lnTo>
                      <a:pt x="280" y="335"/>
                    </a:lnTo>
                    <a:lnTo>
                      <a:pt x="281" y="331"/>
                    </a:lnTo>
                    <a:close/>
                    <a:moveTo>
                      <a:pt x="210" y="326"/>
                    </a:moveTo>
                    <a:lnTo>
                      <a:pt x="212" y="327"/>
                    </a:lnTo>
                    <a:lnTo>
                      <a:pt x="215" y="331"/>
                    </a:lnTo>
                    <a:lnTo>
                      <a:pt x="214" y="336"/>
                    </a:lnTo>
                    <a:lnTo>
                      <a:pt x="211" y="342"/>
                    </a:lnTo>
                    <a:lnTo>
                      <a:pt x="210" y="347"/>
                    </a:lnTo>
                    <a:lnTo>
                      <a:pt x="211" y="350"/>
                    </a:lnTo>
                    <a:lnTo>
                      <a:pt x="211" y="352"/>
                    </a:lnTo>
                    <a:lnTo>
                      <a:pt x="211" y="353"/>
                    </a:lnTo>
                    <a:lnTo>
                      <a:pt x="211" y="356"/>
                    </a:lnTo>
                    <a:lnTo>
                      <a:pt x="210" y="359"/>
                    </a:lnTo>
                    <a:lnTo>
                      <a:pt x="210" y="361"/>
                    </a:lnTo>
                    <a:lnTo>
                      <a:pt x="210" y="363"/>
                    </a:lnTo>
                    <a:lnTo>
                      <a:pt x="211" y="364"/>
                    </a:lnTo>
                    <a:lnTo>
                      <a:pt x="212" y="364"/>
                    </a:lnTo>
                    <a:lnTo>
                      <a:pt x="215" y="366"/>
                    </a:lnTo>
                    <a:lnTo>
                      <a:pt x="218" y="366"/>
                    </a:lnTo>
                    <a:lnTo>
                      <a:pt x="219" y="367"/>
                    </a:lnTo>
                    <a:lnTo>
                      <a:pt x="221" y="369"/>
                    </a:lnTo>
                    <a:lnTo>
                      <a:pt x="222" y="371"/>
                    </a:lnTo>
                    <a:lnTo>
                      <a:pt x="223" y="372"/>
                    </a:lnTo>
                    <a:lnTo>
                      <a:pt x="225" y="373"/>
                    </a:lnTo>
                    <a:lnTo>
                      <a:pt x="226" y="374"/>
                    </a:lnTo>
                    <a:lnTo>
                      <a:pt x="228" y="374"/>
                    </a:lnTo>
                    <a:lnTo>
                      <a:pt x="230" y="373"/>
                    </a:lnTo>
                    <a:lnTo>
                      <a:pt x="231" y="372"/>
                    </a:lnTo>
                    <a:lnTo>
                      <a:pt x="232" y="370"/>
                    </a:lnTo>
                    <a:lnTo>
                      <a:pt x="234" y="367"/>
                    </a:lnTo>
                    <a:lnTo>
                      <a:pt x="236" y="366"/>
                    </a:lnTo>
                    <a:lnTo>
                      <a:pt x="238" y="363"/>
                    </a:lnTo>
                    <a:lnTo>
                      <a:pt x="241" y="363"/>
                    </a:lnTo>
                    <a:lnTo>
                      <a:pt x="249" y="363"/>
                    </a:lnTo>
                    <a:lnTo>
                      <a:pt x="253" y="367"/>
                    </a:lnTo>
                    <a:lnTo>
                      <a:pt x="254" y="372"/>
                    </a:lnTo>
                    <a:lnTo>
                      <a:pt x="253" y="380"/>
                    </a:lnTo>
                    <a:lnTo>
                      <a:pt x="250" y="388"/>
                    </a:lnTo>
                    <a:lnTo>
                      <a:pt x="247" y="395"/>
                    </a:lnTo>
                    <a:lnTo>
                      <a:pt x="242" y="403"/>
                    </a:lnTo>
                    <a:lnTo>
                      <a:pt x="239" y="407"/>
                    </a:lnTo>
                    <a:lnTo>
                      <a:pt x="233" y="414"/>
                    </a:lnTo>
                    <a:lnTo>
                      <a:pt x="227" y="420"/>
                    </a:lnTo>
                    <a:lnTo>
                      <a:pt x="220" y="423"/>
                    </a:lnTo>
                    <a:lnTo>
                      <a:pt x="212" y="422"/>
                    </a:lnTo>
                    <a:lnTo>
                      <a:pt x="210" y="420"/>
                    </a:lnTo>
                    <a:lnTo>
                      <a:pt x="208" y="420"/>
                    </a:lnTo>
                    <a:lnTo>
                      <a:pt x="206" y="420"/>
                    </a:lnTo>
                    <a:lnTo>
                      <a:pt x="205" y="421"/>
                    </a:lnTo>
                    <a:lnTo>
                      <a:pt x="204" y="423"/>
                    </a:lnTo>
                    <a:lnTo>
                      <a:pt x="203" y="424"/>
                    </a:lnTo>
                    <a:lnTo>
                      <a:pt x="201" y="425"/>
                    </a:lnTo>
                    <a:lnTo>
                      <a:pt x="200" y="427"/>
                    </a:lnTo>
                    <a:lnTo>
                      <a:pt x="199" y="428"/>
                    </a:lnTo>
                    <a:lnTo>
                      <a:pt x="198" y="428"/>
                    </a:lnTo>
                    <a:lnTo>
                      <a:pt x="189" y="427"/>
                    </a:lnTo>
                    <a:lnTo>
                      <a:pt x="182" y="427"/>
                    </a:lnTo>
                    <a:lnTo>
                      <a:pt x="174" y="431"/>
                    </a:lnTo>
                    <a:lnTo>
                      <a:pt x="171" y="434"/>
                    </a:lnTo>
                    <a:lnTo>
                      <a:pt x="168" y="437"/>
                    </a:lnTo>
                    <a:lnTo>
                      <a:pt x="166" y="439"/>
                    </a:lnTo>
                    <a:lnTo>
                      <a:pt x="163" y="442"/>
                    </a:lnTo>
                    <a:lnTo>
                      <a:pt x="160" y="445"/>
                    </a:lnTo>
                    <a:lnTo>
                      <a:pt x="155" y="447"/>
                    </a:lnTo>
                    <a:lnTo>
                      <a:pt x="151" y="450"/>
                    </a:lnTo>
                    <a:lnTo>
                      <a:pt x="147" y="453"/>
                    </a:lnTo>
                    <a:lnTo>
                      <a:pt x="144" y="456"/>
                    </a:lnTo>
                    <a:lnTo>
                      <a:pt x="142" y="459"/>
                    </a:lnTo>
                    <a:lnTo>
                      <a:pt x="139" y="462"/>
                    </a:lnTo>
                    <a:lnTo>
                      <a:pt x="134" y="467"/>
                    </a:lnTo>
                    <a:lnTo>
                      <a:pt x="131" y="468"/>
                    </a:lnTo>
                    <a:lnTo>
                      <a:pt x="127" y="469"/>
                    </a:lnTo>
                    <a:lnTo>
                      <a:pt x="123" y="470"/>
                    </a:lnTo>
                    <a:lnTo>
                      <a:pt x="119" y="471"/>
                    </a:lnTo>
                    <a:lnTo>
                      <a:pt x="111" y="469"/>
                    </a:lnTo>
                    <a:lnTo>
                      <a:pt x="103" y="466"/>
                    </a:lnTo>
                    <a:lnTo>
                      <a:pt x="100" y="459"/>
                    </a:lnTo>
                    <a:lnTo>
                      <a:pt x="100" y="454"/>
                    </a:lnTo>
                    <a:lnTo>
                      <a:pt x="103" y="450"/>
                    </a:lnTo>
                    <a:lnTo>
                      <a:pt x="109" y="447"/>
                    </a:lnTo>
                    <a:lnTo>
                      <a:pt x="113" y="444"/>
                    </a:lnTo>
                    <a:lnTo>
                      <a:pt x="117" y="439"/>
                    </a:lnTo>
                    <a:lnTo>
                      <a:pt x="122" y="436"/>
                    </a:lnTo>
                    <a:lnTo>
                      <a:pt x="128" y="435"/>
                    </a:lnTo>
                    <a:lnTo>
                      <a:pt x="134" y="434"/>
                    </a:lnTo>
                    <a:lnTo>
                      <a:pt x="140" y="432"/>
                    </a:lnTo>
                    <a:lnTo>
                      <a:pt x="143" y="428"/>
                    </a:lnTo>
                    <a:lnTo>
                      <a:pt x="143" y="427"/>
                    </a:lnTo>
                    <a:lnTo>
                      <a:pt x="143" y="426"/>
                    </a:lnTo>
                    <a:lnTo>
                      <a:pt x="141" y="426"/>
                    </a:lnTo>
                    <a:lnTo>
                      <a:pt x="140" y="426"/>
                    </a:lnTo>
                    <a:lnTo>
                      <a:pt x="136" y="427"/>
                    </a:lnTo>
                    <a:lnTo>
                      <a:pt x="134" y="428"/>
                    </a:lnTo>
                    <a:lnTo>
                      <a:pt x="132" y="428"/>
                    </a:lnTo>
                    <a:lnTo>
                      <a:pt x="130" y="429"/>
                    </a:lnTo>
                    <a:lnTo>
                      <a:pt x="128" y="431"/>
                    </a:lnTo>
                    <a:lnTo>
                      <a:pt x="125" y="431"/>
                    </a:lnTo>
                    <a:lnTo>
                      <a:pt x="123" y="429"/>
                    </a:lnTo>
                    <a:lnTo>
                      <a:pt x="122" y="429"/>
                    </a:lnTo>
                    <a:lnTo>
                      <a:pt x="120" y="429"/>
                    </a:lnTo>
                    <a:lnTo>
                      <a:pt x="117" y="431"/>
                    </a:lnTo>
                    <a:lnTo>
                      <a:pt x="114" y="432"/>
                    </a:lnTo>
                    <a:lnTo>
                      <a:pt x="112" y="432"/>
                    </a:lnTo>
                    <a:lnTo>
                      <a:pt x="110" y="432"/>
                    </a:lnTo>
                    <a:lnTo>
                      <a:pt x="109" y="431"/>
                    </a:lnTo>
                    <a:lnTo>
                      <a:pt x="106" y="429"/>
                    </a:lnTo>
                    <a:lnTo>
                      <a:pt x="105" y="431"/>
                    </a:lnTo>
                    <a:lnTo>
                      <a:pt x="103" y="432"/>
                    </a:lnTo>
                    <a:lnTo>
                      <a:pt x="102" y="434"/>
                    </a:lnTo>
                    <a:lnTo>
                      <a:pt x="102" y="435"/>
                    </a:lnTo>
                    <a:lnTo>
                      <a:pt x="96" y="442"/>
                    </a:lnTo>
                    <a:lnTo>
                      <a:pt x="89" y="446"/>
                    </a:lnTo>
                    <a:lnTo>
                      <a:pt x="83" y="446"/>
                    </a:lnTo>
                    <a:lnTo>
                      <a:pt x="80" y="445"/>
                    </a:lnTo>
                    <a:lnTo>
                      <a:pt x="79" y="443"/>
                    </a:lnTo>
                    <a:lnTo>
                      <a:pt x="79" y="440"/>
                    </a:lnTo>
                    <a:lnTo>
                      <a:pt x="79" y="438"/>
                    </a:lnTo>
                    <a:lnTo>
                      <a:pt x="78" y="437"/>
                    </a:lnTo>
                    <a:lnTo>
                      <a:pt x="77" y="436"/>
                    </a:lnTo>
                    <a:lnTo>
                      <a:pt x="76" y="436"/>
                    </a:lnTo>
                    <a:lnTo>
                      <a:pt x="74" y="436"/>
                    </a:lnTo>
                    <a:lnTo>
                      <a:pt x="72" y="437"/>
                    </a:lnTo>
                    <a:lnTo>
                      <a:pt x="69" y="437"/>
                    </a:lnTo>
                    <a:lnTo>
                      <a:pt x="67" y="437"/>
                    </a:lnTo>
                    <a:lnTo>
                      <a:pt x="65" y="436"/>
                    </a:lnTo>
                    <a:lnTo>
                      <a:pt x="63" y="436"/>
                    </a:lnTo>
                    <a:lnTo>
                      <a:pt x="62" y="435"/>
                    </a:lnTo>
                    <a:lnTo>
                      <a:pt x="60" y="433"/>
                    </a:lnTo>
                    <a:lnTo>
                      <a:pt x="59" y="432"/>
                    </a:lnTo>
                    <a:lnTo>
                      <a:pt x="60" y="429"/>
                    </a:lnTo>
                    <a:lnTo>
                      <a:pt x="62" y="426"/>
                    </a:lnTo>
                    <a:lnTo>
                      <a:pt x="65" y="424"/>
                    </a:lnTo>
                    <a:lnTo>
                      <a:pt x="73" y="418"/>
                    </a:lnTo>
                    <a:lnTo>
                      <a:pt x="81" y="416"/>
                    </a:lnTo>
                    <a:lnTo>
                      <a:pt x="91" y="415"/>
                    </a:lnTo>
                    <a:lnTo>
                      <a:pt x="94" y="413"/>
                    </a:lnTo>
                    <a:lnTo>
                      <a:pt x="95" y="412"/>
                    </a:lnTo>
                    <a:lnTo>
                      <a:pt x="95" y="412"/>
                    </a:lnTo>
                    <a:lnTo>
                      <a:pt x="94" y="411"/>
                    </a:lnTo>
                    <a:lnTo>
                      <a:pt x="92" y="411"/>
                    </a:lnTo>
                    <a:lnTo>
                      <a:pt x="90" y="411"/>
                    </a:lnTo>
                    <a:lnTo>
                      <a:pt x="88" y="411"/>
                    </a:lnTo>
                    <a:lnTo>
                      <a:pt x="86" y="411"/>
                    </a:lnTo>
                    <a:lnTo>
                      <a:pt x="84" y="411"/>
                    </a:lnTo>
                    <a:lnTo>
                      <a:pt x="81" y="411"/>
                    </a:lnTo>
                    <a:lnTo>
                      <a:pt x="80" y="411"/>
                    </a:lnTo>
                    <a:lnTo>
                      <a:pt x="80" y="411"/>
                    </a:lnTo>
                    <a:lnTo>
                      <a:pt x="80" y="409"/>
                    </a:lnTo>
                    <a:lnTo>
                      <a:pt x="81" y="407"/>
                    </a:lnTo>
                    <a:lnTo>
                      <a:pt x="84" y="406"/>
                    </a:lnTo>
                    <a:lnTo>
                      <a:pt x="86" y="405"/>
                    </a:lnTo>
                    <a:lnTo>
                      <a:pt x="88" y="404"/>
                    </a:lnTo>
                    <a:lnTo>
                      <a:pt x="91" y="403"/>
                    </a:lnTo>
                    <a:lnTo>
                      <a:pt x="92" y="402"/>
                    </a:lnTo>
                    <a:lnTo>
                      <a:pt x="94" y="401"/>
                    </a:lnTo>
                    <a:lnTo>
                      <a:pt x="92" y="400"/>
                    </a:lnTo>
                    <a:lnTo>
                      <a:pt x="91" y="400"/>
                    </a:lnTo>
                    <a:lnTo>
                      <a:pt x="90" y="399"/>
                    </a:lnTo>
                    <a:lnTo>
                      <a:pt x="88" y="399"/>
                    </a:lnTo>
                    <a:lnTo>
                      <a:pt x="86" y="399"/>
                    </a:lnTo>
                    <a:lnTo>
                      <a:pt x="84" y="399"/>
                    </a:lnTo>
                    <a:lnTo>
                      <a:pt x="83" y="398"/>
                    </a:lnTo>
                    <a:lnTo>
                      <a:pt x="83" y="396"/>
                    </a:lnTo>
                    <a:lnTo>
                      <a:pt x="85" y="390"/>
                    </a:lnTo>
                    <a:lnTo>
                      <a:pt x="91" y="384"/>
                    </a:lnTo>
                    <a:lnTo>
                      <a:pt x="100" y="379"/>
                    </a:lnTo>
                    <a:lnTo>
                      <a:pt x="102" y="377"/>
                    </a:lnTo>
                    <a:lnTo>
                      <a:pt x="105" y="373"/>
                    </a:lnTo>
                    <a:lnTo>
                      <a:pt x="106" y="371"/>
                    </a:lnTo>
                    <a:lnTo>
                      <a:pt x="107" y="368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3" y="363"/>
                    </a:lnTo>
                    <a:lnTo>
                      <a:pt x="117" y="362"/>
                    </a:lnTo>
                    <a:lnTo>
                      <a:pt x="120" y="362"/>
                    </a:lnTo>
                    <a:lnTo>
                      <a:pt x="122" y="362"/>
                    </a:lnTo>
                    <a:lnTo>
                      <a:pt x="124" y="363"/>
                    </a:lnTo>
                    <a:lnTo>
                      <a:pt x="125" y="366"/>
                    </a:lnTo>
                    <a:lnTo>
                      <a:pt x="125" y="367"/>
                    </a:lnTo>
                    <a:lnTo>
                      <a:pt x="125" y="370"/>
                    </a:lnTo>
                    <a:lnTo>
                      <a:pt x="127" y="372"/>
                    </a:lnTo>
                    <a:lnTo>
                      <a:pt x="128" y="373"/>
                    </a:lnTo>
                    <a:lnTo>
                      <a:pt x="130" y="374"/>
                    </a:lnTo>
                    <a:lnTo>
                      <a:pt x="132" y="374"/>
                    </a:lnTo>
                    <a:lnTo>
                      <a:pt x="134" y="373"/>
                    </a:lnTo>
                    <a:lnTo>
                      <a:pt x="136" y="372"/>
                    </a:lnTo>
                    <a:lnTo>
                      <a:pt x="139" y="371"/>
                    </a:lnTo>
                    <a:lnTo>
                      <a:pt x="141" y="370"/>
                    </a:lnTo>
                    <a:lnTo>
                      <a:pt x="145" y="368"/>
                    </a:lnTo>
                    <a:lnTo>
                      <a:pt x="149" y="368"/>
                    </a:lnTo>
                    <a:lnTo>
                      <a:pt x="152" y="368"/>
                    </a:lnTo>
                    <a:lnTo>
                      <a:pt x="154" y="370"/>
                    </a:lnTo>
                    <a:lnTo>
                      <a:pt x="156" y="372"/>
                    </a:lnTo>
                    <a:lnTo>
                      <a:pt x="157" y="373"/>
                    </a:lnTo>
                    <a:lnTo>
                      <a:pt x="157" y="375"/>
                    </a:lnTo>
                    <a:lnTo>
                      <a:pt x="157" y="378"/>
                    </a:lnTo>
                    <a:lnTo>
                      <a:pt x="156" y="381"/>
                    </a:lnTo>
                    <a:lnTo>
                      <a:pt x="156" y="383"/>
                    </a:lnTo>
                    <a:lnTo>
                      <a:pt x="156" y="384"/>
                    </a:lnTo>
                    <a:lnTo>
                      <a:pt x="157" y="384"/>
                    </a:lnTo>
                    <a:lnTo>
                      <a:pt x="158" y="384"/>
                    </a:lnTo>
                    <a:lnTo>
                      <a:pt x="161" y="384"/>
                    </a:lnTo>
                    <a:lnTo>
                      <a:pt x="162" y="385"/>
                    </a:lnTo>
                    <a:lnTo>
                      <a:pt x="163" y="386"/>
                    </a:lnTo>
                    <a:lnTo>
                      <a:pt x="163" y="388"/>
                    </a:lnTo>
                    <a:lnTo>
                      <a:pt x="164" y="389"/>
                    </a:lnTo>
                    <a:lnTo>
                      <a:pt x="163" y="391"/>
                    </a:lnTo>
                    <a:lnTo>
                      <a:pt x="163" y="392"/>
                    </a:lnTo>
                    <a:lnTo>
                      <a:pt x="162" y="393"/>
                    </a:lnTo>
                    <a:lnTo>
                      <a:pt x="163" y="394"/>
                    </a:lnTo>
                    <a:lnTo>
                      <a:pt x="165" y="395"/>
                    </a:lnTo>
                    <a:lnTo>
                      <a:pt x="167" y="396"/>
                    </a:lnTo>
                    <a:lnTo>
                      <a:pt x="169" y="396"/>
                    </a:lnTo>
                    <a:lnTo>
                      <a:pt x="172" y="396"/>
                    </a:lnTo>
                    <a:lnTo>
                      <a:pt x="174" y="396"/>
                    </a:lnTo>
                    <a:lnTo>
                      <a:pt x="178" y="398"/>
                    </a:lnTo>
                    <a:lnTo>
                      <a:pt x="184" y="399"/>
                    </a:lnTo>
                    <a:lnTo>
                      <a:pt x="189" y="399"/>
                    </a:lnTo>
                    <a:lnTo>
                      <a:pt x="194" y="398"/>
                    </a:lnTo>
                    <a:lnTo>
                      <a:pt x="198" y="392"/>
                    </a:lnTo>
                    <a:lnTo>
                      <a:pt x="198" y="389"/>
                    </a:lnTo>
                    <a:lnTo>
                      <a:pt x="197" y="386"/>
                    </a:lnTo>
                    <a:lnTo>
                      <a:pt x="196" y="384"/>
                    </a:lnTo>
                    <a:lnTo>
                      <a:pt x="194" y="382"/>
                    </a:lnTo>
                    <a:lnTo>
                      <a:pt x="193" y="380"/>
                    </a:lnTo>
                    <a:lnTo>
                      <a:pt x="192" y="377"/>
                    </a:lnTo>
                    <a:lnTo>
                      <a:pt x="192" y="373"/>
                    </a:lnTo>
                    <a:lnTo>
                      <a:pt x="192" y="371"/>
                    </a:lnTo>
                    <a:lnTo>
                      <a:pt x="192" y="369"/>
                    </a:lnTo>
                    <a:lnTo>
                      <a:pt x="192" y="367"/>
                    </a:lnTo>
                    <a:lnTo>
                      <a:pt x="192" y="366"/>
                    </a:lnTo>
                    <a:lnTo>
                      <a:pt x="189" y="364"/>
                    </a:lnTo>
                    <a:lnTo>
                      <a:pt x="187" y="363"/>
                    </a:lnTo>
                    <a:lnTo>
                      <a:pt x="185" y="363"/>
                    </a:lnTo>
                    <a:lnTo>
                      <a:pt x="183" y="363"/>
                    </a:lnTo>
                    <a:lnTo>
                      <a:pt x="179" y="362"/>
                    </a:lnTo>
                    <a:lnTo>
                      <a:pt x="178" y="360"/>
                    </a:lnTo>
                    <a:lnTo>
                      <a:pt x="177" y="358"/>
                    </a:lnTo>
                    <a:lnTo>
                      <a:pt x="178" y="356"/>
                    </a:lnTo>
                    <a:lnTo>
                      <a:pt x="178" y="353"/>
                    </a:lnTo>
                    <a:lnTo>
                      <a:pt x="180" y="351"/>
                    </a:lnTo>
                    <a:lnTo>
                      <a:pt x="183" y="349"/>
                    </a:lnTo>
                    <a:lnTo>
                      <a:pt x="185" y="347"/>
                    </a:lnTo>
                    <a:lnTo>
                      <a:pt x="189" y="345"/>
                    </a:lnTo>
                    <a:lnTo>
                      <a:pt x="194" y="342"/>
                    </a:lnTo>
                    <a:lnTo>
                      <a:pt x="197" y="340"/>
                    </a:lnTo>
                    <a:lnTo>
                      <a:pt x="199" y="337"/>
                    </a:lnTo>
                    <a:lnTo>
                      <a:pt x="203" y="334"/>
                    </a:lnTo>
                    <a:lnTo>
                      <a:pt x="203" y="333"/>
                    </a:lnTo>
                    <a:lnTo>
                      <a:pt x="203" y="330"/>
                    </a:lnTo>
                    <a:lnTo>
                      <a:pt x="205" y="329"/>
                    </a:lnTo>
                    <a:lnTo>
                      <a:pt x="206" y="327"/>
                    </a:lnTo>
                    <a:lnTo>
                      <a:pt x="208" y="326"/>
                    </a:lnTo>
                    <a:lnTo>
                      <a:pt x="210" y="326"/>
                    </a:lnTo>
                    <a:close/>
                    <a:moveTo>
                      <a:pt x="347" y="315"/>
                    </a:moveTo>
                    <a:lnTo>
                      <a:pt x="357" y="316"/>
                    </a:lnTo>
                    <a:lnTo>
                      <a:pt x="360" y="316"/>
                    </a:lnTo>
                    <a:lnTo>
                      <a:pt x="363" y="316"/>
                    </a:lnTo>
                    <a:lnTo>
                      <a:pt x="365" y="317"/>
                    </a:lnTo>
                    <a:lnTo>
                      <a:pt x="368" y="317"/>
                    </a:lnTo>
                    <a:lnTo>
                      <a:pt x="370" y="318"/>
                    </a:lnTo>
                    <a:lnTo>
                      <a:pt x="373" y="319"/>
                    </a:lnTo>
                    <a:lnTo>
                      <a:pt x="376" y="320"/>
                    </a:lnTo>
                    <a:lnTo>
                      <a:pt x="379" y="320"/>
                    </a:lnTo>
                    <a:lnTo>
                      <a:pt x="381" y="323"/>
                    </a:lnTo>
                    <a:lnTo>
                      <a:pt x="385" y="327"/>
                    </a:lnTo>
                    <a:lnTo>
                      <a:pt x="386" y="334"/>
                    </a:lnTo>
                    <a:lnTo>
                      <a:pt x="386" y="340"/>
                    </a:lnTo>
                    <a:lnTo>
                      <a:pt x="385" y="347"/>
                    </a:lnTo>
                    <a:lnTo>
                      <a:pt x="385" y="352"/>
                    </a:lnTo>
                    <a:lnTo>
                      <a:pt x="387" y="357"/>
                    </a:lnTo>
                    <a:lnTo>
                      <a:pt x="391" y="361"/>
                    </a:lnTo>
                    <a:lnTo>
                      <a:pt x="395" y="367"/>
                    </a:lnTo>
                    <a:lnTo>
                      <a:pt x="395" y="369"/>
                    </a:lnTo>
                    <a:lnTo>
                      <a:pt x="394" y="370"/>
                    </a:lnTo>
                    <a:lnTo>
                      <a:pt x="393" y="371"/>
                    </a:lnTo>
                    <a:lnTo>
                      <a:pt x="391" y="371"/>
                    </a:lnTo>
                    <a:lnTo>
                      <a:pt x="389" y="372"/>
                    </a:lnTo>
                    <a:lnTo>
                      <a:pt x="385" y="373"/>
                    </a:lnTo>
                    <a:lnTo>
                      <a:pt x="383" y="373"/>
                    </a:lnTo>
                    <a:lnTo>
                      <a:pt x="381" y="375"/>
                    </a:lnTo>
                    <a:lnTo>
                      <a:pt x="379" y="379"/>
                    </a:lnTo>
                    <a:lnTo>
                      <a:pt x="376" y="381"/>
                    </a:lnTo>
                    <a:lnTo>
                      <a:pt x="375" y="384"/>
                    </a:lnTo>
                    <a:lnTo>
                      <a:pt x="374" y="386"/>
                    </a:lnTo>
                    <a:lnTo>
                      <a:pt x="372" y="389"/>
                    </a:lnTo>
                    <a:lnTo>
                      <a:pt x="370" y="391"/>
                    </a:lnTo>
                    <a:lnTo>
                      <a:pt x="368" y="393"/>
                    </a:lnTo>
                    <a:lnTo>
                      <a:pt x="365" y="395"/>
                    </a:lnTo>
                    <a:lnTo>
                      <a:pt x="359" y="400"/>
                    </a:lnTo>
                    <a:lnTo>
                      <a:pt x="351" y="402"/>
                    </a:lnTo>
                    <a:lnTo>
                      <a:pt x="343" y="403"/>
                    </a:lnTo>
                    <a:lnTo>
                      <a:pt x="336" y="402"/>
                    </a:lnTo>
                    <a:lnTo>
                      <a:pt x="334" y="400"/>
                    </a:lnTo>
                    <a:lnTo>
                      <a:pt x="331" y="398"/>
                    </a:lnTo>
                    <a:lnTo>
                      <a:pt x="329" y="395"/>
                    </a:lnTo>
                    <a:lnTo>
                      <a:pt x="327" y="393"/>
                    </a:lnTo>
                    <a:lnTo>
                      <a:pt x="326" y="391"/>
                    </a:lnTo>
                    <a:lnTo>
                      <a:pt x="325" y="389"/>
                    </a:lnTo>
                    <a:lnTo>
                      <a:pt x="326" y="386"/>
                    </a:lnTo>
                    <a:lnTo>
                      <a:pt x="327" y="384"/>
                    </a:lnTo>
                    <a:lnTo>
                      <a:pt x="330" y="382"/>
                    </a:lnTo>
                    <a:lnTo>
                      <a:pt x="335" y="379"/>
                    </a:lnTo>
                    <a:lnTo>
                      <a:pt x="340" y="375"/>
                    </a:lnTo>
                    <a:lnTo>
                      <a:pt x="345" y="371"/>
                    </a:lnTo>
                    <a:lnTo>
                      <a:pt x="345" y="369"/>
                    </a:lnTo>
                    <a:lnTo>
                      <a:pt x="341" y="368"/>
                    </a:lnTo>
                    <a:lnTo>
                      <a:pt x="336" y="370"/>
                    </a:lnTo>
                    <a:lnTo>
                      <a:pt x="329" y="372"/>
                    </a:lnTo>
                    <a:lnTo>
                      <a:pt x="325" y="373"/>
                    </a:lnTo>
                    <a:lnTo>
                      <a:pt x="320" y="375"/>
                    </a:lnTo>
                    <a:lnTo>
                      <a:pt x="316" y="379"/>
                    </a:lnTo>
                    <a:lnTo>
                      <a:pt x="310" y="380"/>
                    </a:lnTo>
                    <a:lnTo>
                      <a:pt x="306" y="380"/>
                    </a:lnTo>
                    <a:lnTo>
                      <a:pt x="304" y="378"/>
                    </a:lnTo>
                    <a:lnTo>
                      <a:pt x="305" y="372"/>
                    </a:lnTo>
                    <a:lnTo>
                      <a:pt x="306" y="366"/>
                    </a:lnTo>
                    <a:lnTo>
                      <a:pt x="309" y="360"/>
                    </a:lnTo>
                    <a:lnTo>
                      <a:pt x="314" y="356"/>
                    </a:lnTo>
                    <a:lnTo>
                      <a:pt x="319" y="353"/>
                    </a:lnTo>
                    <a:lnTo>
                      <a:pt x="325" y="350"/>
                    </a:lnTo>
                    <a:lnTo>
                      <a:pt x="327" y="347"/>
                    </a:lnTo>
                    <a:lnTo>
                      <a:pt x="327" y="346"/>
                    </a:lnTo>
                    <a:lnTo>
                      <a:pt x="325" y="345"/>
                    </a:lnTo>
                    <a:lnTo>
                      <a:pt x="324" y="345"/>
                    </a:lnTo>
                    <a:lnTo>
                      <a:pt x="321" y="344"/>
                    </a:lnTo>
                    <a:lnTo>
                      <a:pt x="319" y="342"/>
                    </a:lnTo>
                    <a:lnTo>
                      <a:pt x="318" y="341"/>
                    </a:lnTo>
                    <a:lnTo>
                      <a:pt x="317" y="340"/>
                    </a:lnTo>
                    <a:lnTo>
                      <a:pt x="317" y="339"/>
                    </a:lnTo>
                    <a:lnTo>
                      <a:pt x="318" y="337"/>
                    </a:lnTo>
                    <a:lnTo>
                      <a:pt x="320" y="336"/>
                    </a:lnTo>
                    <a:lnTo>
                      <a:pt x="320" y="335"/>
                    </a:lnTo>
                    <a:lnTo>
                      <a:pt x="323" y="335"/>
                    </a:lnTo>
                    <a:lnTo>
                      <a:pt x="325" y="335"/>
                    </a:lnTo>
                    <a:lnTo>
                      <a:pt x="328" y="334"/>
                    </a:lnTo>
                    <a:lnTo>
                      <a:pt x="331" y="333"/>
                    </a:lnTo>
                    <a:lnTo>
                      <a:pt x="334" y="333"/>
                    </a:lnTo>
                    <a:lnTo>
                      <a:pt x="336" y="331"/>
                    </a:lnTo>
                    <a:lnTo>
                      <a:pt x="338" y="330"/>
                    </a:lnTo>
                    <a:lnTo>
                      <a:pt x="339" y="329"/>
                    </a:lnTo>
                    <a:lnTo>
                      <a:pt x="338" y="328"/>
                    </a:lnTo>
                    <a:lnTo>
                      <a:pt x="336" y="327"/>
                    </a:lnTo>
                    <a:lnTo>
                      <a:pt x="335" y="327"/>
                    </a:lnTo>
                    <a:lnTo>
                      <a:pt x="332" y="327"/>
                    </a:lnTo>
                    <a:lnTo>
                      <a:pt x="330" y="326"/>
                    </a:lnTo>
                    <a:lnTo>
                      <a:pt x="328" y="326"/>
                    </a:lnTo>
                    <a:lnTo>
                      <a:pt x="326" y="326"/>
                    </a:lnTo>
                    <a:lnTo>
                      <a:pt x="324" y="325"/>
                    </a:lnTo>
                    <a:lnTo>
                      <a:pt x="323" y="324"/>
                    </a:lnTo>
                    <a:lnTo>
                      <a:pt x="324" y="323"/>
                    </a:lnTo>
                    <a:lnTo>
                      <a:pt x="325" y="322"/>
                    </a:lnTo>
                    <a:lnTo>
                      <a:pt x="327" y="320"/>
                    </a:lnTo>
                    <a:lnTo>
                      <a:pt x="337" y="316"/>
                    </a:lnTo>
                    <a:lnTo>
                      <a:pt x="347" y="315"/>
                    </a:lnTo>
                    <a:close/>
                    <a:moveTo>
                      <a:pt x="123" y="314"/>
                    </a:moveTo>
                    <a:lnTo>
                      <a:pt x="124" y="314"/>
                    </a:lnTo>
                    <a:lnTo>
                      <a:pt x="125" y="315"/>
                    </a:lnTo>
                    <a:lnTo>
                      <a:pt x="124" y="316"/>
                    </a:lnTo>
                    <a:lnTo>
                      <a:pt x="123" y="317"/>
                    </a:lnTo>
                    <a:lnTo>
                      <a:pt x="122" y="319"/>
                    </a:lnTo>
                    <a:lnTo>
                      <a:pt x="121" y="320"/>
                    </a:lnTo>
                    <a:lnTo>
                      <a:pt x="120" y="322"/>
                    </a:lnTo>
                    <a:lnTo>
                      <a:pt x="120" y="322"/>
                    </a:lnTo>
                    <a:lnTo>
                      <a:pt x="118" y="324"/>
                    </a:lnTo>
                    <a:lnTo>
                      <a:pt x="118" y="325"/>
                    </a:lnTo>
                    <a:lnTo>
                      <a:pt x="118" y="326"/>
                    </a:lnTo>
                    <a:lnTo>
                      <a:pt x="119" y="326"/>
                    </a:lnTo>
                    <a:lnTo>
                      <a:pt x="119" y="327"/>
                    </a:lnTo>
                    <a:lnTo>
                      <a:pt x="120" y="328"/>
                    </a:lnTo>
                    <a:lnTo>
                      <a:pt x="121" y="329"/>
                    </a:lnTo>
                    <a:lnTo>
                      <a:pt x="122" y="331"/>
                    </a:lnTo>
                    <a:lnTo>
                      <a:pt x="121" y="333"/>
                    </a:lnTo>
                    <a:lnTo>
                      <a:pt x="120" y="334"/>
                    </a:lnTo>
                    <a:lnTo>
                      <a:pt x="118" y="335"/>
                    </a:lnTo>
                    <a:lnTo>
                      <a:pt x="116" y="336"/>
                    </a:lnTo>
                    <a:lnTo>
                      <a:pt x="112" y="339"/>
                    </a:lnTo>
                    <a:lnTo>
                      <a:pt x="111" y="341"/>
                    </a:lnTo>
                    <a:lnTo>
                      <a:pt x="110" y="344"/>
                    </a:lnTo>
                    <a:lnTo>
                      <a:pt x="110" y="346"/>
                    </a:lnTo>
                    <a:lnTo>
                      <a:pt x="111" y="349"/>
                    </a:lnTo>
                    <a:lnTo>
                      <a:pt x="110" y="351"/>
                    </a:lnTo>
                    <a:lnTo>
                      <a:pt x="110" y="355"/>
                    </a:lnTo>
                    <a:lnTo>
                      <a:pt x="108" y="357"/>
                    </a:lnTo>
                    <a:lnTo>
                      <a:pt x="107" y="359"/>
                    </a:lnTo>
                    <a:lnTo>
                      <a:pt x="105" y="361"/>
                    </a:lnTo>
                    <a:lnTo>
                      <a:pt x="100" y="366"/>
                    </a:lnTo>
                    <a:lnTo>
                      <a:pt x="96" y="370"/>
                    </a:lnTo>
                    <a:lnTo>
                      <a:pt x="94" y="373"/>
                    </a:lnTo>
                    <a:lnTo>
                      <a:pt x="91" y="377"/>
                    </a:lnTo>
                    <a:lnTo>
                      <a:pt x="89" y="380"/>
                    </a:lnTo>
                    <a:lnTo>
                      <a:pt x="87" y="382"/>
                    </a:lnTo>
                    <a:lnTo>
                      <a:pt x="85" y="384"/>
                    </a:lnTo>
                    <a:lnTo>
                      <a:pt x="84" y="385"/>
                    </a:lnTo>
                    <a:lnTo>
                      <a:pt x="81" y="386"/>
                    </a:lnTo>
                    <a:lnTo>
                      <a:pt x="80" y="385"/>
                    </a:lnTo>
                    <a:lnTo>
                      <a:pt x="79" y="384"/>
                    </a:lnTo>
                    <a:lnTo>
                      <a:pt x="78" y="382"/>
                    </a:lnTo>
                    <a:lnTo>
                      <a:pt x="77" y="380"/>
                    </a:lnTo>
                    <a:lnTo>
                      <a:pt x="76" y="378"/>
                    </a:lnTo>
                    <a:lnTo>
                      <a:pt x="76" y="375"/>
                    </a:lnTo>
                    <a:lnTo>
                      <a:pt x="75" y="374"/>
                    </a:lnTo>
                    <a:lnTo>
                      <a:pt x="74" y="373"/>
                    </a:lnTo>
                    <a:lnTo>
                      <a:pt x="73" y="373"/>
                    </a:lnTo>
                    <a:lnTo>
                      <a:pt x="70" y="374"/>
                    </a:lnTo>
                    <a:lnTo>
                      <a:pt x="68" y="375"/>
                    </a:lnTo>
                    <a:lnTo>
                      <a:pt x="67" y="377"/>
                    </a:lnTo>
                    <a:lnTo>
                      <a:pt x="65" y="378"/>
                    </a:lnTo>
                    <a:lnTo>
                      <a:pt x="64" y="379"/>
                    </a:lnTo>
                    <a:lnTo>
                      <a:pt x="63" y="380"/>
                    </a:lnTo>
                    <a:lnTo>
                      <a:pt x="59" y="383"/>
                    </a:lnTo>
                    <a:lnTo>
                      <a:pt x="58" y="385"/>
                    </a:lnTo>
                    <a:lnTo>
                      <a:pt x="57" y="389"/>
                    </a:lnTo>
                    <a:lnTo>
                      <a:pt x="56" y="391"/>
                    </a:lnTo>
                    <a:lnTo>
                      <a:pt x="55" y="393"/>
                    </a:lnTo>
                    <a:lnTo>
                      <a:pt x="54" y="396"/>
                    </a:lnTo>
                    <a:lnTo>
                      <a:pt x="52" y="399"/>
                    </a:lnTo>
                    <a:lnTo>
                      <a:pt x="49" y="402"/>
                    </a:lnTo>
                    <a:lnTo>
                      <a:pt x="47" y="405"/>
                    </a:lnTo>
                    <a:lnTo>
                      <a:pt x="44" y="409"/>
                    </a:lnTo>
                    <a:lnTo>
                      <a:pt x="42" y="412"/>
                    </a:lnTo>
                    <a:lnTo>
                      <a:pt x="38" y="413"/>
                    </a:lnTo>
                    <a:lnTo>
                      <a:pt x="36" y="414"/>
                    </a:lnTo>
                    <a:lnTo>
                      <a:pt x="34" y="413"/>
                    </a:lnTo>
                    <a:lnTo>
                      <a:pt x="33" y="412"/>
                    </a:lnTo>
                    <a:lnTo>
                      <a:pt x="32" y="411"/>
                    </a:lnTo>
                    <a:lnTo>
                      <a:pt x="31" y="410"/>
                    </a:lnTo>
                    <a:lnTo>
                      <a:pt x="30" y="409"/>
                    </a:lnTo>
                    <a:lnTo>
                      <a:pt x="27" y="409"/>
                    </a:lnTo>
                    <a:lnTo>
                      <a:pt x="25" y="409"/>
                    </a:lnTo>
                    <a:lnTo>
                      <a:pt x="23" y="410"/>
                    </a:lnTo>
                    <a:lnTo>
                      <a:pt x="22" y="411"/>
                    </a:lnTo>
                    <a:lnTo>
                      <a:pt x="20" y="412"/>
                    </a:lnTo>
                    <a:lnTo>
                      <a:pt x="18" y="414"/>
                    </a:lnTo>
                    <a:lnTo>
                      <a:pt x="16" y="415"/>
                    </a:lnTo>
                    <a:lnTo>
                      <a:pt x="14" y="415"/>
                    </a:lnTo>
                    <a:lnTo>
                      <a:pt x="12" y="413"/>
                    </a:lnTo>
                    <a:lnTo>
                      <a:pt x="11" y="412"/>
                    </a:lnTo>
                    <a:lnTo>
                      <a:pt x="9" y="412"/>
                    </a:lnTo>
                    <a:lnTo>
                      <a:pt x="7" y="413"/>
                    </a:lnTo>
                    <a:lnTo>
                      <a:pt x="3" y="414"/>
                    </a:lnTo>
                    <a:lnTo>
                      <a:pt x="1" y="415"/>
                    </a:lnTo>
                    <a:lnTo>
                      <a:pt x="0" y="415"/>
                    </a:lnTo>
                    <a:lnTo>
                      <a:pt x="0" y="414"/>
                    </a:lnTo>
                    <a:lnTo>
                      <a:pt x="1" y="412"/>
                    </a:lnTo>
                    <a:lnTo>
                      <a:pt x="2" y="410"/>
                    </a:lnTo>
                    <a:lnTo>
                      <a:pt x="2" y="409"/>
                    </a:lnTo>
                    <a:lnTo>
                      <a:pt x="3" y="407"/>
                    </a:lnTo>
                    <a:lnTo>
                      <a:pt x="4" y="405"/>
                    </a:lnTo>
                    <a:lnTo>
                      <a:pt x="5" y="403"/>
                    </a:lnTo>
                    <a:lnTo>
                      <a:pt x="5" y="403"/>
                    </a:lnTo>
                    <a:lnTo>
                      <a:pt x="4" y="401"/>
                    </a:lnTo>
                    <a:lnTo>
                      <a:pt x="3" y="399"/>
                    </a:lnTo>
                    <a:lnTo>
                      <a:pt x="3" y="396"/>
                    </a:lnTo>
                    <a:lnTo>
                      <a:pt x="4" y="394"/>
                    </a:lnTo>
                    <a:lnTo>
                      <a:pt x="8" y="392"/>
                    </a:lnTo>
                    <a:lnTo>
                      <a:pt x="11" y="390"/>
                    </a:lnTo>
                    <a:lnTo>
                      <a:pt x="14" y="389"/>
                    </a:lnTo>
                    <a:lnTo>
                      <a:pt x="18" y="388"/>
                    </a:lnTo>
                    <a:lnTo>
                      <a:pt x="21" y="386"/>
                    </a:lnTo>
                    <a:lnTo>
                      <a:pt x="26" y="382"/>
                    </a:lnTo>
                    <a:lnTo>
                      <a:pt x="31" y="378"/>
                    </a:lnTo>
                    <a:lnTo>
                      <a:pt x="34" y="373"/>
                    </a:lnTo>
                    <a:lnTo>
                      <a:pt x="40" y="367"/>
                    </a:lnTo>
                    <a:lnTo>
                      <a:pt x="46" y="361"/>
                    </a:lnTo>
                    <a:lnTo>
                      <a:pt x="54" y="355"/>
                    </a:lnTo>
                    <a:lnTo>
                      <a:pt x="65" y="347"/>
                    </a:lnTo>
                    <a:lnTo>
                      <a:pt x="76" y="338"/>
                    </a:lnTo>
                    <a:lnTo>
                      <a:pt x="83" y="335"/>
                    </a:lnTo>
                    <a:lnTo>
                      <a:pt x="90" y="333"/>
                    </a:lnTo>
                    <a:lnTo>
                      <a:pt x="98" y="330"/>
                    </a:lnTo>
                    <a:lnTo>
                      <a:pt x="102" y="327"/>
                    </a:lnTo>
                    <a:lnTo>
                      <a:pt x="107" y="324"/>
                    </a:lnTo>
                    <a:lnTo>
                      <a:pt x="111" y="322"/>
                    </a:lnTo>
                    <a:lnTo>
                      <a:pt x="112" y="320"/>
                    </a:lnTo>
                    <a:lnTo>
                      <a:pt x="114" y="318"/>
                    </a:lnTo>
                    <a:lnTo>
                      <a:pt x="118" y="316"/>
                    </a:lnTo>
                    <a:lnTo>
                      <a:pt x="121" y="314"/>
                    </a:lnTo>
                    <a:lnTo>
                      <a:pt x="123" y="314"/>
                    </a:lnTo>
                    <a:close/>
                    <a:moveTo>
                      <a:pt x="1539" y="307"/>
                    </a:moveTo>
                    <a:lnTo>
                      <a:pt x="1540" y="307"/>
                    </a:lnTo>
                    <a:lnTo>
                      <a:pt x="1542" y="308"/>
                    </a:lnTo>
                    <a:lnTo>
                      <a:pt x="1544" y="309"/>
                    </a:lnTo>
                    <a:lnTo>
                      <a:pt x="1547" y="311"/>
                    </a:lnTo>
                    <a:lnTo>
                      <a:pt x="1548" y="312"/>
                    </a:lnTo>
                    <a:lnTo>
                      <a:pt x="1549" y="313"/>
                    </a:lnTo>
                    <a:lnTo>
                      <a:pt x="1549" y="314"/>
                    </a:lnTo>
                    <a:lnTo>
                      <a:pt x="1550" y="316"/>
                    </a:lnTo>
                    <a:lnTo>
                      <a:pt x="1551" y="318"/>
                    </a:lnTo>
                    <a:lnTo>
                      <a:pt x="1551" y="320"/>
                    </a:lnTo>
                    <a:lnTo>
                      <a:pt x="1552" y="323"/>
                    </a:lnTo>
                    <a:lnTo>
                      <a:pt x="1552" y="325"/>
                    </a:lnTo>
                    <a:lnTo>
                      <a:pt x="1551" y="326"/>
                    </a:lnTo>
                    <a:lnTo>
                      <a:pt x="1551" y="326"/>
                    </a:lnTo>
                    <a:lnTo>
                      <a:pt x="1550" y="326"/>
                    </a:lnTo>
                    <a:lnTo>
                      <a:pt x="1548" y="324"/>
                    </a:lnTo>
                    <a:lnTo>
                      <a:pt x="1542" y="320"/>
                    </a:lnTo>
                    <a:lnTo>
                      <a:pt x="1539" y="317"/>
                    </a:lnTo>
                    <a:lnTo>
                      <a:pt x="1538" y="313"/>
                    </a:lnTo>
                    <a:lnTo>
                      <a:pt x="1537" y="309"/>
                    </a:lnTo>
                    <a:lnTo>
                      <a:pt x="1538" y="307"/>
                    </a:lnTo>
                    <a:lnTo>
                      <a:pt x="1539" y="307"/>
                    </a:lnTo>
                    <a:close/>
                    <a:moveTo>
                      <a:pt x="139" y="287"/>
                    </a:moveTo>
                    <a:lnTo>
                      <a:pt x="141" y="287"/>
                    </a:lnTo>
                    <a:lnTo>
                      <a:pt x="142" y="289"/>
                    </a:lnTo>
                    <a:lnTo>
                      <a:pt x="143" y="290"/>
                    </a:lnTo>
                    <a:lnTo>
                      <a:pt x="144" y="291"/>
                    </a:lnTo>
                    <a:lnTo>
                      <a:pt x="145" y="292"/>
                    </a:lnTo>
                    <a:lnTo>
                      <a:pt x="145" y="293"/>
                    </a:lnTo>
                    <a:lnTo>
                      <a:pt x="144" y="295"/>
                    </a:lnTo>
                    <a:lnTo>
                      <a:pt x="143" y="297"/>
                    </a:lnTo>
                    <a:lnTo>
                      <a:pt x="142" y="300"/>
                    </a:lnTo>
                    <a:lnTo>
                      <a:pt x="139" y="301"/>
                    </a:lnTo>
                    <a:lnTo>
                      <a:pt x="136" y="301"/>
                    </a:lnTo>
                    <a:lnTo>
                      <a:pt x="135" y="298"/>
                    </a:lnTo>
                    <a:lnTo>
                      <a:pt x="133" y="297"/>
                    </a:lnTo>
                    <a:lnTo>
                      <a:pt x="133" y="294"/>
                    </a:lnTo>
                    <a:lnTo>
                      <a:pt x="133" y="292"/>
                    </a:lnTo>
                    <a:lnTo>
                      <a:pt x="134" y="290"/>
                    </a:lnTo>
                    <a:lnTo>
                      <a:pt x="136" y="287"/>
                    </a:lnTo>
                    <a:lnTo>
                      <a:pt x="139" y="287"/>
                    </a:lnTo>
                    <a:close/>
                    <a:moveTo>
                      <a:pt x="434" y="285"/>
                    </a:moveTo>
                    <a:lnTo>
                      <a:pt x="434" y="287"/>
                    </a:lnTo>
                    <a:lnTo>
                      <a:pt x="434" y="289"/>
                    </a:lnTo>
                    <a:lnTo>
                      <a:pt x="433" y="290"/>
                    </a:lnTo>
                    <a:lnTo>
                      <a:pt x="433" y="291"/>
                    </a:lnTo>
                    <a:lnTo>
                      <a:pt x="431" y="292"/>
                    </a:lnTo>
                    <a:lnTo>
                      <a:pt x="429" y="293"/>
                    </a:lnTo>
                    <a:lnTo>
                      <a:pt x="428" y="293"/>
                    </a:lnTo>
                    <a:lnTo>
                      <a:pt x="427" y="292"/>
                    </a:lnTo>
                    <a:lnTo>
                      <a:pt x="426" y="291"/>
                    </a:lnTo>
                    <a:lnTo>
                      <a:pt x="426" y="291"/>
                    </a:lnTo>
                    <a:lnTo>
                      <a:pt x="426" y="289"/>
                    </a:lnTo>
                    <a:lnTo>
                      <a:pt x="427" y="287"/>
                    </a:lnTo>
                    <a:lnTo>
                      <a:pt x="429" y="286"/>
                    </a:lnTo>
                    <a:lnTo>
                      <a:pt x="431" y="285"/>
                    </a:lnTo>
                    <a:lnTo>
                      <a:pt x="434" y="285"/>
                    </a:lnTo>
                    <a:close/>
                    <a:moveTo>
                      <a:pt x="266" y="280"/>
                    </a:moveTo>
                    <a:lnTo>
                      <a:pt x="269" y="280"/>
                    </a:lnTo>
                    <a:lnTo>
                      <a:pt x="271" y="281"/>
                    </a:lnTo>
                    <a:lnTo>
                      <a:pt x="273" y="282"/>
                    </a:lnTo>
                    <a:lnTo>
                      <a:pt x="274" y="283"/>
                    </a:lnTo>
                    <a:lnTo>
                      <a:pt x="275" y="284"/>
                    </a:lnTo>
                    <a:lnTo>
                      <a:pt x="282" y="296"/>
                    </a:lnTo>
                    <a:lnTo>
                      <a:pt x="283" y="297"/>
                    </a:lnTo>
                    <a:lnTo>
                      <a:pt x="284" y="298"/>
                    </a:lnTo>
                    <a:lnTo>
                      <a:pt x="284" y="300"/>
                    </a:lnTo>
                    <a:lnTo>
                      <a:pt x="284" y="302"/>
                    </a:lnTo>
                    <a:lnTo>
                      <a:pt x="284" y="304"/>
                    </a:lnTo>
                    <a:lnTo>
                      <a:pt x="280" y="308"/>
                    </a:lnTo>
                    <a:lnTo>
                      <a:pt x="275" y="309"/>
                    </a:lnTo>
                    <a:lnTo>
                      <a:pt x="270" y="309"/>
                    </a:lnTo>
                    <a:lnTo>
                      <a:pt x="265" y="307"/>
                    </a:lnTo>
                    <a:lnTo>
                      <a:pt x="262" y="305"/>
                    </a:lnTo>
                    <a:lnTo>
                      <a:pt x="261" y="304"/>
                    </a:lnTo>
                    <a:lnTo>
                      <a:pt x="261" y="301"/>
                    </a:lnTo>
                    <a:lnTo>
                      <a:pt x="261" y="298"/>
                    </a:lnTo>
                    <a:lnTo>
                      <a:pt x="261" y="296"/>
                    </a:lnTo>
                    <a:lnTo>
                      <a:pt x="262" y="294"/>
                    </a:lnTo>
                    <a:lnTo>
                      <a:pt x="262" y="292"/>
                    </a:lnTo>
                    <a:lnTo>
                      <a:pt x="262" y="286"/>
                    </a:lnTo>
                    <a:lnTo>
                      <a:pt x="263" y="283"/>
                    </a:lnTo>
                    <a:lnTo>
                      <a:pt x="264" y="282"/>
                    </a:lnTo>
                    <a:lnTo>
                      <a:pt x="265" y="281"/>
                    </a:lnTo>
                    <a:lnTo>
                      <a:pt x="266" y="280"/>
                    </a:lnTo>
                    <a:close/>
                    <a:moveTo>
                      <a:pt x="210" y="270"/>
                    </a:moveTo>
                    <a:lnTo>
                      <a:pt x="211" y="271"/>
                    </a:lnTo>
                    <a:lnTo>
                      <a:pt x="211" y="272"/>
                    </a:lnTo>
                    <a:lnTo>
                      <a:pt x="211" y="273"/>
                    </a:lnTo>
                    <a:lnTo>
                      <a:pt x="211" y="275"/>
                    </a:lnTo>
                    <a:lnTo>
                      <a:pt x="211" y="278"/>
                    </a:lnTo>
                    <a:lnTo>
                      <a:pt x="210" y="279"/>
                    </a:lnTo>
                    <a:lnTo>
                      <a:pt x="209" y="279"/>
                    </a:lnTo>
                    <a:lnTo>
                      <a:pt x="207" y="281"/>
                    </a:lnTo>
                    <a:lnTo>
                      <a:pt x="204" y="282"/>
                    </a:lnTo>
                    <a:lnTo>
                      <a:pt x="201" y="283"/>
                    </a:lnTo>
                    <a:lnTo>
                      <a:pt x="199" y="283"/>
                    </a:lnTo>
                    <a:lnTo>
                      <a:pt x="196" y="284"/>
                    </a:lnTo>
                    <a:lnTo>
                      <a:pt x="194" y="285"/>
                    </a:lnTo>
                    <a:lnTo>
                      <a:pt x="193" y="287"/>
                    </a:lnTo>
                    <a:lnTo>
                      <a:pt x="193" y="290"/>
                    </a:lnTo>
                    <a:lnTo>
                      <a:pt x="194" y="291"/>
                    </a:lnTo>
                    <a:lnTo>
                      <a:pt x="195" y="293"/>
                    </a:lnTo>
                    <a:lnTo>
                      <a:pt x="197" y="294"/>
                    </a:lnTo>
                    <a:lnTo>
                      <a:pt x="198" y="295"/>
                    </a:lnTo>
                    <a:lnTo>
                      <a:pt x="198" y="296"/>
                    </a:lnTo>
                    <a:lnTo>
                      <a:pt x="197" y="300"/>
                    </a:lnTo>
                    <a:lnTo>
                      <a:pt x="196" y="304"/>
                    </a:lnTo>
                    <a:lnTo>
                      <a:pt x="193" y="307"/>
                    </a:lnTo>
                    <a:lnTo>
                      <a:pt x="189" y="311"/>
                    </a:lnTo>
                    <a:lnTo>
                      <a:pt x="185" y="313"/>
                    </a:lnTo>
                    <a:lnTo>
                      <a:pt x="175" y="316"/>
                    </a:lnTo>
                    <a:lnTo>
                      <a:pt x="167" y="316"/>
                    </a:lnTo>
                    <a:lnTo>
                      <a:pt x="161" y="313"/>
                    </a:lnTo>
                    <a:lnTo>
                      <a:pt x="157" y="307"/>
                    </a:lnTo>
                    <a:lnTo>
                      <a:pt x="156" y="301"/>
                    </a:lnTo>
                    <a:lnTo>
                      <a:pt x="163" y="291"/>
                    </a:lnTo>
                    <a:lnTo>
                      <a:pt x="174" y="282"/>
                    </a:lnTo>
                    <a:lnTo>
                      <a:pt x="177" y="281"/>
                    </a:lnTo>
                    <a:lnTo>
                      <a:pt x="179" y="280"/>
                    </a:lnTo>
                    <a:lnTo>
                      <a:pt x="182" y="279"/>
                    </a:lnTo>
                    <a:lnTo>
                      <a:pt x="185" y="276"/>
                    </a:lnTo>
                    <a:lnTo>
                      <a:pt x="188" y="275"/>
                    </a:lnTo>
                    <a:lnTo>
                      <a:pt x="192" y="275"/>
                    </a:lnTo>
                    <a:lnTo>
                      <a:pt x="195" y="275"/>
                    </a:lnTo>
                    <a:lnTo>
                      <a:pt x="198" y="274"/>
                    </a:lnTo>
                    <a:lnTo>
                      <a:pt x="199" y="273"/>
                    </a:lnTo>
                    <a:lnTo>
                      <a:pt x="201" y="272"/>
                    </a:lnTo>
                    <a:lnTo>
                      <a:pt x="204" y="271"/>
                    </a:lnTo>
                    <a:lnTo>
                      <a:pt x="206" y="270"/>
                    </a:lnTo>
                    <a:lnTo>
                      <a:pt x="208" y="270"/>
                    </a:lnTo>
                    <a:lnTo>
                      <a:pt x="210" y="270"/>
                    </a:lnTo>
                    <a:close/>
                    <a:moveTo>
                      <a:pt x="517" y="268"/>
                    </a:moveTo>
                    <a:lnTo>
                      <a:pt x="520" y="270"/>
                    </a:lnTo>
                    <a:lnTo>
                      <a:pt x="521" y="271"/>
                    </a:lnTo>
                    <a:lnTo>
                      <a:pt x="522" y="273"/>
                    </a:lnTo>
                    <a:lnTo>
                      <a:pt x="521" y="275"/>
                    </a:lnTo>
                    <a:lnTo>
                      <a:pt x="520" y="278"/>
                    </a:lnTo>
                    <a:lnTo>
                      <a:pt x="517" y="280"/>
                    </a:lnTo>
                    <a:lnTo>
                      <a:pt x="514" y="282"/>
                    </a:lnTo>
                    <a:lnTo>
                      <a:pt x="511" y="284"/>
                    </a:lnTo>
                    <a:lnTo>
                      <a:pt x="507" y="285"/>
                    </a:lnTo>
                    <a:lnTo>
                      <a:pt x="504" y="285"/>
                    </a:lnTo>
                    <a:lnTo>
                      <a:pt x="502" y="284"/>
                    </a:lnTo>
                    <a:lnTo>
                      <a:pt x="501" y="282"/>
                    </a:lnTo>
                    <a:lnTo>
                      <a:pt x="501" y="280"/>
                    </a:lnTo>
                    <a:lnTo>
                      <a:pt x="502" y="278"/>
                    </a:lnTo>
                    <a:lnTo>
                      <a:pt x="504" y="275"/>
                    </a:lnTo>
                    <a:lnTo>
                      <a:pt x="506" y="274"/>
                    </a:lnTo>
                    <a:lnTo>
                      <a:pt x="507" y="272"/>
                    </a:lnTo>
                    <a:lnTo>
                      <a:pt x="510" y="272"/>
                    </a:lnTo>
                    <a:lnTo>
                      <a:pt x="512" y="271"/>
                    </a:lnTo>
                    <a:lnTo>
                      <a:pt x="514" y="270"/>
                    </a:lnTo>
                    <a:lnTo>
                      <a:pt x="515" y="268"/>
                    </a:lnTo>
                    <a:lnTo>
                      <a:pt x="517" y="268"/>
                    </a:lnTo>
                    <a:close/>
                    <a:moveTo>
                      <a:pt x="330" y="266"/>
                    </a:moveTo>
                    <a:lnTo>
                      <a:pt x="332" y="266"/>
                    </a:lnTo>
                    <a:lnTo>
                      <a:pt x="335" y="268"/>
                    </a:lnTo>
                    <a:lnTo>
                      <a:pt x="337" y="268"/>
                    </a:lnTo>
                    <a:lnTo>
                      <a:pt x="338" y="268"/>
                    </a:lnTo>
                    <a:lnTo>
                      <a:pt x="338" y="269"/>
                    </a:lnTo>
                    <a:lnTo>
                      <a:pt x="338" y="271"/>
                    </a:lnTo>
                    <a:lnTo>
                      <a:pt x="337" y="272"/>
                    </a:lnTo>
                    <a:lnTo>
                      <a:pt x="336" y="273"/>
                    </a:lnTo>
                    <a:lnTo>
                      <a:pt x="334" y="274"/>
                    </a:lnTo>
                    <a:lnTo>
                      <a:pt x="330" y="275"/>
                    </a:lnTo>
                    <a:lnTo>
                      <a:pt x="328" y="276"/>
                    </a:lnTo>
                    <a:lnTo>
                      <a:pt x="327" y="276"/>
                    </a:lnTo>
                    <a:lnTo>
                      <a:pt x="324" y="276"/>
                    </a:lnTo>
                    <a:lnTo>
                      <a:pt x="320" y="275"/>
                    </a:lnTo>
                    <a:lnTo>
                      <a:pt x="318" y="275"/>
                    </a:lnTo>
                    <a:lnTo>
                      <a:pt x="317" y="274"/>
                    </a:lnTo>
                    <a:lnTo>
                      <a:pt x="317" y="272"/>
                    </a:lnTo>
                    <a:lnTo>
                      <a:pt x="318" y="271"/>
                    </a:lnTo>
                    <a:lnTo>
                      <a:pt x="319" y="269"/>
                    </a:lnTo>
                    <a:lnTo>
                      <a:pt x="321" y="268"/>
                    </a:lnTo>
                    <a:lnTo>
                      <a:pt x="324" y="268"/>
                    </a:lnTo>
                    <a:lnTo>
                      <a:pt x="327" y="266"/>
                    </a:lnTo>
                    <a:lnTo>
                      <a:pt x="330" y="266"/>
                    </a:lnTo>
                    <a:close/>
                    <a:moveTo>
                      <a:pt x="460" y="258"/>
                    </a:moveTo>
                    <a:lnTo>
                      <a:pt x="463" y="259"/>
                    </a:lnTo>
                    <a:lnTo>
                      <a:pt x="465" y="260"/>
                    </a:lnTo>
                    <a:lnTo>
                      <a:pt x="466" y="262"/>
                    </a:lnTo>
                    <a:lnTo>
                      <a:pt x="466" y="264"/>
                    </a:lnTo>
                    <a:lnTo>
                      <a:pt x="465" y="266"/>
                    </a:lnTo>
                    <a:lnTo>
                      <a:pt x="463" y="269"/>
                    </a:lnTo>
                    <a:lnTo>
                      <a:pt x="461" y="271"/>
                    </a:lnTo>
                    <a:lnTo>
                      <a:pt x="458" y="273"/>
                    </a:lnTo>
                    <a:lnTo>
                      <a:pt x="456" y="274"/>
                    </a:lnTo>
                    <a:lnTo>
                      <a:pt x="448" y="275"/>
                    </a:lnTo>
                    <a:lnTo>
                      <a:pt x="441" y="274"/>
                    </a:lnTo>
                    <a:lnTo>
                      <a:pt x="436" y="274"/>
                    </a:lnTo>
                    <a:lnTo>
                      <a:pt x="431" y="275"/>
                    </a:lnTo>
                    <a:lnTo>
                      <a:pt x="428" y="275"/>
                    </a:lnTo>
                    <a:lnTo>
                      <a:pt x="424" y="275"/>
                    </a:lnTo>
                    <a:lnTo>
                      <a:pt x="420" y="274"/>
                    </a:lnTo>
                    <a:lnTo>
                      <a:pt x="418" y="272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7" y="266"/>
                    </a:lnTo>
                    <a:lnTo>
                      <a:pt x="418" y="264"/>
                    </a:lnTo>
                    <a:lnTo>
                      <a:pt x="420" y="262"/>
                    </a:lnTo>
                    <a:lnTo>
                      <a:pt x="423" y="262"/>
                    </a:lnTo>
                    <a:lnTo>
                      <a:pt x="426" y="261"/>
                    </a:lnTo>
                    <a:lnTo>
                      <a:pt x="428" y="261"/>
                    </a:lnTo>
                    <a:lnTo>
                      <a:pt x="431" y="260"/>
                    </a:lnTo>
                    <a:lnTo>
                      <a:pt x="434" y="260"/>
                    </a:lnTo>
                    <a:lnTo>
                      <a:pt x="435" y="260"/>
                    </a:lnTo>
                    <a:lnTo>
                      <a:pt x="436" y="260"/>
                    </a:lnTo>
                    <a:lnTo>
                      <a:pt x="436" y="260"/>
                    </a:lnTo>
                    <a:lnTo>
                      <a:pt x="434" y="260"/>
                    </a:lnTo>
                    <a:lnTo>
                      <a:pt x="447" y="259"/>
                    </a:lnTo>
                    <a:lnTo>
                      <a:pt x="460" y="258"/>
                    </a:lnTo>
                    <a:close/>
                    <a:moveTo>
                      <a:pt x="208" y="246"/>
                    </a:moveTo>
                    <a:lnTo>
                      <a:pt x="212" y="250"/>
                    </a:lnTo>
                    <a:lnTo>
                      <a:pt x="214" y="251"/>
                    </a:lnTo>
                    <a:lnTo>
                      <a:pt x="215" y="252"/>
                    </a:lnTo>
                    <a:lnTo>
                      <a:pt x="216" y="254"/>
                    </a:lnTo>
                    <a:lnTo>
                      <a:pt x="217" y="255"/>
                    </a:lnTo>
                    <a:lnTo>
                      <a:pt x="217" y="258"/>
                    </a:lnTo>
                    <a:lnTo>
                      <a:pt x="217" y="260"/>
                    </a:lnTo>
                    <a:lnTo>
                      <a:pt x="215" y="262"/>
                    </a:lnTo>
                    <a:lnTo>
                      <a:pt x="211" y="263"/>
                    </a:lnTo>
                    <a:lnTo>
                      <a:pt x="208" y="264"/>
                    </a:lnTo>
                    <a:lnTo>
                      <a:pt x="205" y="264"/>
                    </a:lnTo>
                    <a:lnTo>
                      <a:pt x="201" y="264"/>
                    </a:lnTo>
                    <a:lnTo>
                      <a:pt x="199" y="264"/>
                    </a:lnTo>
                    <a:lnTo>
                      <a:pt x="198" y="263"/>
                    </a:lnTo>
                    <a:lnTo>
                      <a:pt x="196" y="263"/>
                    </a:lnTo>
                    <a:lnTo>
                      <a:pt x="195" y="263"/>
                    </a:lnTo>
                    <a:lnTo>
                      <a:pt x="193" y="264"/>
                    </a:lnTo>
                    <a:lnTo>
                      <a:pt x="192" y="264"/>
                    </a:lnTo>
                    <a:lnTo>
                      <a:pt x="190" y="265"/>
                    </a:lnTo>
                    <a:lnTo>
                      <a:pt x="189" y="265"/>
                    </a:lnTo>
                    <a:lnTo>
                      <a:pt x="188" y="266"/>
                    </a:lnTo>
                    <a:lnTo>
                      <a:pt x="186" y="265"/>
                    </a:lnTo>
                    <a:lnTo>
                      <a:pt x="183" y="265"/>
                    </a:lnTo>
                    <a:lnTo>
                      <a:pt x="179" y="265"/>
                    </a:lnTo>
                    <a:lnTo>
                      <a:pt x="176" y="265"/>
                    </a:lnTo>
                    <a:lnTo>
                      <a:pt x="173" y="266"/>
                    </a:lnTo>
                    <a:lnTo>
                      <a:pt x="172" y="268"/>
                    </a:lnTo>
                    <a:lnTo>
                      <a:pt x="169" y="269"/>
                    </a:lnTo>
                    <a:lnTo>
                      <a:pt x="167" y="270"/>
                    </a:lnTo>
                    <a:lnTo>
                      <a:pt x="165" y="271"/>
                    </a:lnTo>
                    <a:lnTo>
                      <a:pt x="164" y="272"/>
                    </a:lnTo>
                    <a:lnTo>
                      <a:pt x="162" y="272"/>
                    </a:lnTo>
                    <a:lnTo>
                      <a:pt x="161" y="272"/>
                    </a:lnTo>
                    <a:lnTo>
                      <a:pt x="160" y="271"/>
                    </a:lnTo>
                    <a:lnTo>
                      <a:pt x="160" y="270"/>
                    </a:lnTo>
                    <a:lnTo>
                      <a:pt x="161" y="268"/>
                    </a:lnTo>
                    <a:lnTo>
                      <a:pt x="163" y="264"/>
                    </a:lnTo>
                    <a:lnTo>
                      <a:pt x="165" y="262"/>
                    </a:lnTo>
                    <a:lnTo>
                      <a:pt x="169" y="259"/>
                    </a:lnTo>
                    <a:lnTo>
                      <a:pt x="174" y="257"/>
                    </a:lnTo>
                    <a:lnTo>
                      <a:pt x="177" y="255"/>
                    </a:lnTo>
                    <a:lnTo>
                      <a:pt x="186" y="252"/>
                    </a:lnTo>
                    <a:lnTo>
                      <a:pt x="194" y="249"/>
                    </a:lnTo>
                    <a:lnTo>
                      <a:pt x="201" y="246"/>
                    </a:lnTo>
                    <a:lnTo>
                      <a:pt x="208" y="246"/>
                    </a:lnTo>
                    <a:close/>
                    <a:moveTo>
                      <a:pt x="404" y="204"/>
                    </a:moveTo>
                    <a:lnTo>
                      <a:pt x="409" y="204"/>
                    </a:lnTo>
                    <a:lnTo>
                      <a:pt x="413" y="205"/>
                    </a:lnTo>
                    <a:lnTo>
                      <a:pt x="416" y="207"/>
                    </a:lnTo>
                    <a:lnTo>
                      <a:pt x="417" y="208"/>
                    </a:lnTo>
                    <a:lnTo>
                      <a:pt x="418" y="209"/>
                    </a:lnTo>
                    <a:lnTo>
                      <a:pt x="419" y="211"/>
                    </a:lnTo>
                    <a:lnTo>
                      <a:pt x="422" y="213"/>
                    </a:lnTo>
                    <a:lnTo>
                      <a:pt x="423" y="214"/>
                    </a:lnTo>
                    <a:lnTo>
                      <a:pt x="425" y="215"/>
                    </a:lnTo>
                    <a:lnTo>
                      <a:pt x="427" y="216"/>
                    </a:lnTo>
                    <a:lnTo>
                      <a:pt x="430" y="215"/>
                    </a:lnTo>
                    <a:lnTo>
                      <a:pt x="433" y="215"/>
                    </a:lnTo>
                    <a:lnTo>
                      <a:pt x="435" y="215"/>
                    </a:lnTo>
                    <a:lnTo>
                      <a:pt x="437" y="216"/>
                    </a:lnTo>
                    <a:lnTo>
                      <a:pt x="439" y="218"/>
                    </a:lnTo>
                    <a:lnTo>
                      <a:pt x="440" y="219"/>
                    </a:lnTo>
                    <a:lnTo>
                      <a:pt x="440" y="220"/>
                    </a:lnTo>
                    <a:lnTo>
                      <a:pt x="441" y="222"/>
                    </a:lnTo>
                    <a:lnTo>
                      <a:pt x="441" y="225"/>
                    </a:lnTo>
                    <a:lnTo>
                      <a:pt x="441" y="226"/>
                    </a:lnTo>
                    <a:lnTo>
                      <a:pt x="441" y="228"/>
                    </a:lnTo>
                    <a:lnTo>
                      <a:pt x="444" y="229"/>
                    </a:lnTo>
                    <a:lnTo>
                      <a:pt x="445" y="229"/>
                    </a:lnTo>
                    <a:lnTo>
                      <a:pt x="446" y="230"/>
                    </a:lnTo>
                    <a:lnTo>
                      <a:pt x="448" y="230"/>
                    </a:lnTo>
                    <a:lnTo>
                      <a:pt x="449" y="232"/>
                    </a:lnTo>
                    <a:lnTo>
                      <a:pt x="449" y="233"/>
                    </a:lnTo>
                    <a:lnTo>
                      <a:pt x="449" y="235"/>
                    </a:lnTo>
                    <a:lnTo>
                      <a:pt x="448" y="236"/>
                    </a:lnTo>
                    <a:lnTo>
                      <a:pt x="446" y="237"/>
                    </a:lnTo>
                    <a:lnTo>
                      <a:pt x="444" y="238"/>
                    </a:lnTo>
                    <a:lnTo>
                      <a:pt x="441" y="240"/>
                    </a:lnTo>
                    <a:lnTo>
                      <a:pt x="441" y="240"/>
                    </a:lnTo>
                    <a:lnTo>
                      <a:pt x="443" y="241"/>
                    </a:lnTo>
                    <a:lnTo>
                      <a:pt x="443" y="242"/>
                    </a:lnTo>
                    <a:lnTo>
                      <a:pt x="444" y="244"/>
                    </a:lnTo>
                    <a:lnTo>
                      <a:pt x="441" y="247"/>
                    </a:lnTo>
                    <a:lnTo>
                      <a:pt x="439" y="248"/>
                    </a:lnTo>
                    <a:lnTo>
                      <a:pt x="436" y="249"/>
                    </a:lnTo>
                    <a:lnTo>
                      <a:pt x="433" y="250"/>
                    </a:lnTo>
                    <a:lnTo>
                      <a:pt x="429" y="251"/>
                    </a:lnTo>
                    <a:lnTo>
                      <a:pt x="423" y="252"/>
                    </a:lnTo>
                    <a:lnTo>
                      <a:pt x="417" y="255"/>
                    </a:lnTo>
                    <a:lnTo>
                      <a:pt x="411" y="258"/>
                    </a:lnTo>
                    <a:lnTo>
                      <a:pt x="407" y="258"/>
                    </a:lnTo>
                    <a:lnTo>
                      <a:pt x="404" y="257"/>
                    </a:lnTo>
                    <a:lnTo>
                      <a:pt x="403" y="255"/>
                    </a:lnTo>
                    <a:lnTo>
                      <a:pt x="401" y="254"/>
                    </a:lnTo>
                    <a:lnTo>
                      <a:pt x="400" y="253"/>
                    </a:lnTo>
                    <a:lnTo>
                      <a:pt x="398" y="252"/>
                    </a:lnTo>
                    <a:lnTo>
                      <a:pt x="396" y="251"/>
                    </a:lnTo>
                    <a:lnTo>
                      <a:pt x="394" y="250"/>
                    </a:lnTo>
                    <a:lnTo>
                      <a:pt x="393" y="248"/>
                    </a:lnTo>
                    <a:lnTo>
                      <a:pt x="391" y="247"/>
                    </a:lnTo>
                    <a:lnTo>
                      <a:pt x="391" y="246"/>
                    </a:lnTo>
                    <a:lnTo>
                      <a:pt x="392" y="244"/>
                    </a:lnTo>
                    <a:lnTo>
                      <a:pt x="395" y="243"/>
                    </a:lnTo>
                    <a:lnTo>
                      <a:pt x="397" y="243"/>
                    </a:lnTo>
                    <a:lnTo>
                      <a:pt x="401" y="243"/>
                    </a:lnTo>
                    <a:lnTo>
                      <a:pt x="402" y="243"/>
                    </a:lnTo>
                    <a:lnTo>
                      <a:pt x="404" y="242"/>
                    </a:lnTo>
                    <a:lnTo>
                      <a:pt x="407" y="242"/>
                    </a:lnTo>
                    <a:lnTo>
                      <a:pt x="408" y="241"/>
                    </a:lnTo>
                    <a:lnTo>
                      <a:pt x="409" y="240"/>
                    </a:lnTo>
                    <a:lnTo>
                      <a:pt x="409" y="238"/>
                    </a:lnTo>
                    <a:lnTo>
                      <a:pt x="408" y="237"/>
                    </a:lnTo>
                    <a:lnTo>
                      <a:pt x="406" y="236"/>
                    </a:lnTo>
                    <a:lnTo>
                      <a:pt x="404" y="236"/>
                    </a:lnTo>
                    <a:lnTo>
                      <a:pt x="402" y="236"/>
                    </a:lnTo>
                    <a:lnTo>
                      <a:pt x="400" y="235"/>
                    </a:lnTo>
                    <a:lnTo>
                      <a:pt x="397" y="235"/>
                    </a:lnTo>
                    <a:lnTo>
                      <a:pt x="397" y="233"/>
                    </a:lnTo>
                    <a:lnTo>
                      <a:pt x="396" y="231"/>
                    </a:lnTo>
                    <a:lnTo>
                      <a:pt x="396" y="230"/>
                    </a:lnTo>
                    <a:lnTo>
                      <a:pt x="396" y="228"/>
                    </a:lnTo>
                    <a:lnTo>
                      <a:pt x="397" y="227"/>
                    </a:lnTo>
                    <a:lnTo>
                      <a:pt x="396" y="226"/>
                    </a:lnTo>
                    <a:lnTo>
                      <a:pt x="395" y="226"/>
                    </a:lnTo>
                    <a:lnTo>
                      <a:pt x="394" y="225"/>
                    </a:lnTo>
                    <a:lnTo>
                      <a:pt x="392" y="225"/>
                    </a:lnTo>
                    <a:lnTo>
                      <a:pt x="391" y="222"/>
                    </a:lnTo>
                    <a:lnTo>
                      <a:pt x="391" y="221"/>
                    </a:lnTo>
                    <a:lnTo>
                      <a:pt x="392" y="219"/>
                    </a:lnTo>
                    <a:lnTo>
                      <a:pt x="392" y="218"/>
                    </a:lnTo>
                    <a:lnTo>
                      <a:pt x="393" y="217"/>
                    </a:lnTo>
                    <a:lnTo>
                      <a:pt x="394" y="215"/>
                    </a:lnTo>
                    <a:lnTo>
                      <a:pt x="395" y="214"/>
                    </a:lnTo>
                    <a:lnTo>
                      <a:pt x="394" y="211"/>
                    </a:lnTo>
                    <a:lnTo>
                      <a:pt x="394" y="210"/>
                    </a:lnTo>
                    <a:lnTo>
                      <a:pt x="394" y="209"/>
                    </a:lnTo>
                    <a:lnTo>
                      <a:pt x="395" y="207"/>
                    </a:lnTo>
                    <a:lnTo>
                      <a:pt x="396" y="206"/>
                    </a:lnTo>
                    <a:lnTo>
                      <a:pt x="400" y="205"/>
                    </a:lnTo>
                    <a:lnTo>
                      <a:pt x="404" y="204"/>
                    </a:lnTo>
                    <a:close/>
                    <a:moveTo>
                      <a:pt x="310" y="194"/>
                    </a:moveTo>
                    <a:lnTo>
                      <a:pt x="313" y="195"/>
                    </a:lnTo>
                    <a:lnTo>
                      <a:pt x="315" y="196"/>
                    </a:lnTo>
                    <a:lnTo>
                      <a:pt x="317" y="197"/>
                    </a:lnTo>
                    <a:lnTo>
                      <a:pt x="319" y="197"/>
                    </a:lnTo>
                    <a:lnTo>
                      <a:pt x="321" y="199"/>
                    </a:lnTo>
                    <a:lnTo>
                      <a:pt x="323" y="202"/>
                    </a:lnTo>
                    <a:lnTo>
                      <a:pt x="323" y="205"/>
                    </a:lnTo>
                    <a:lnTo>
                      <a:pt x="324" y="207"/>
                    </a:lnTo>
                    <a:lnTo>
                      <a:pt x="324" y="210"/>
                    </a:lnTo>
                    <a:lnTo>
                      <a:pt x="325" y="211"/>
                    </a:lnTo>
                    <a:lnTo>
                      <a:pt x="327" y="213"/>
                    </a:lnTo>
                    <a:lnTo>
                      <a:pt x="328" y="213"/>
                    </a:lnTo>
                    <a:lnTo>
                      <a:pt x="330" y="213"/>
                    </a:lnTo>
                    <a:lnTo>
                      <a:pt x="331" y="210"/>
                    </a:lnTo>
                    <a:lnTo>
                      <a:pt x="332" y="210"/>
                    </a:lnTo>
                    <a:lnTo>
                      <a:pt x="335" y="209"/>
                    </a:lnTo>
                    <a:lnTo>
                      <a:pt x="336" y="208"/>
                    </a:lnTo>
                    <a:lnTo>
                      <a:pt x="337" y="207"/>
                    </a:lnTo>
                    <a:lnTo>
                      <a:pt x="338" y="208"/>
                    </a:lnTo>
                    <a:lnTo>
                      <a:pt x="340" y="209"/>
                    </a:lnTo>
                    <a:lnTo>
                      <a:pt x="342" y="210"/>
                    </a:lnTo>
                    <a:lnTo>
                      <a:pt x="342" y="213"/>
                    </a:lnTo>
                    <a:lnTo>
                      <a:pt x="342" y="214"/>
                    </a:lnTo>
                    <a:lnTo>
                      <a:pt x="343" y="216"/>
                    </a:lnTo>
                    <a:lnTo>
                      <a:pt x="343" y="218"/>
                    </a:lnTo>
                    <a:lnTo>
                      <a:pt x="345" y="219"/>
                    </a:lnTo>
                    <a:lnTo>
                      <a:pt x="347" y="221"/>
                    </a:lnTo>
                    <a:lnTo>
                      <a:pt x="349" y="224"/>
                    </a:lnTo>
                    <a:lnTo>
                      <a:pt x="352" y="225"/>
                    </a:lnTo>
                    <a:lnTo>
                      <a:pt x="354" y="227"/>
                    </a:lnTo>
                    <a:lnTo>
                      <a:pt x="357" y="229"/>
                    </a:lnTo>
                    <a:lnTo>
                      <a:pt x="358" y="231"/>
                    </a:lnTo>
                    <a:lnTo>
                      <a:pt x="359" y="235"/>
                    </a:lnTo>
                    <a:lnTo>
                      <a:pt x="359" y="237"/>
                    </a:lnTo>
                    <a:lnTo>
                      <a:pt x="359" y="239"/>
                    </a:lnTo>
                    <a:lnTo>
                      <a:pt x="359" y="242"/>
                    </a:lnTo>
                    <a:lnTo>
                      <a:pt x="359" y="244"/>
                    </a:lnTo>
                    <a:lnTo>
                      <a:pt x="361" y="248"/>
                    </a:lnTo>
                    <a:lnTo>
                      <a:pt x="362" y="248"/>
                    </a:lnTo>
                    <a:lnTo>
                      <a:pt x="363" y="249"/>
                    </a:lnTo>
                    <a:lnTo>
                      <a:pt x="363" y="250"/>
                    </a:lnTo>
                    <a:lnTo>
                      <a:pt x="365" y="252"/>
                    </a:lnTo>
                    <a:lnTo>
                      <a:pt x="367" y="254"/>
                    </a:lnTo>
                    <a:lnTo>
                      <a:pt x="368" y="257"/>
                    </a:lnTo>
                    <a:lnTo>
                      <a:pt x="368" y="260"/>
                    </a:lnTo>
                    <a:lnTo>
                      <a:pt x="368" y="262"/>
                    </a:lnTo>
                    <a:lnTo>
                      <a:pt x="365" y="264"/>
                    </a:lnTo>
                    <a:lnTo>
                      <a:pt x="364" y="265"/>
                    </a:lnTo>
                    <a:lnTo>
                      <a:pt x="361" y="266"/>
                    </a:lnTo>
                    <a:lnTo>
                      <a:pt x="357" y="266"/>
                    </a:lnTo>
                    <a:lnTo>
                      <a:pt x="353" y="266"/>
                    </a:lnTo>
                    <a:lnTo>
                      <a:pt x="351" y="265"/>
                    </a:lnTo>
                    <a:lnTo>
                      <a:pt x="349" y="264"/>
                    </a:lnTo>
                    <a:lnTo>
                      <a:pt x="348" y="262"/>
                    </a:lnTo>
                    <a:lnTo>
                      <a:pt x="347" y="260"/>
                    </a:lnTo>
                    <a:lnTo>
                      <a:pt x="347" y="257"/>
                    </a:lnTo>
                    <a:lnTo>
                      <a:pt x="347" y="254"/>
                    </a:lnTo>
                    <a:lnTo>
                      <a:pt x="347" y="252"/>
                    </a:lnTo>
                    <a:lnTo>
                      <a:pt x="346" y="251"/>
                    </a:lnTo>
                    <a:lnTo>
                      <a:pt x="345" y="250"/>
                    </a:lnTo>
                    <a:lnTo>
                      <a:pt x="342" y="250"/>
                    </a:lnTo>
                    <a:lnTo>
                      <a:pt x="340" y="250"/>
                    </a:lnTo>
                    <a:lnTo>
                      <a:pt x="338" y="250"/>
                    </a:lnTo>
                    <a:lnTo>
                      <a:pt x="335" y="249"/>
                    </a:lnTo>
                    <a:lnTo>
                      <a:pt x="331" y="249"/>
                    </a:lnTo>
                    <a:lnTo>
                      <a:pt x="329" y="248"/>
                    </a:lnTo>
                    <a:lnTo>
                      <a:pt x="328" y="246"/>
                    </a:lnTo>
                    <a:lnTo>
                      <a:pt x="326" y="246"/>
                    </a:lnTo>
                    <a:lnTo>
                      <a:pt x="324" y="246"/>
                    </a:lnTo>
                    <a:lnTo>
                      <a:pt x="321" y="248"/>
                    </a:lnTo>
                    <a:lnTo>
                      <a:pt x="320" y="249"/>
                    </a:lnTo>
                    <a:lnTo>
                      <a:pt x="319" y="251"/>
                    </a:lnTo>
                    <a:lnTo>
                      <a:pt x="319" y="252"/>
                    </a:lnTo>
                    <a:lnTo>
                      <a:pt x="318" y="253"/>
                    </a:lnTo>
                    <a:lnTo>
                      <a:pt x="317" y="254"/>
                    </a:lnTo>
                    <a:lnTo>
                      <a:pt x="310" y="255"/>
                    </a:lnTo>
                    <a:lnTo>
                      <a:pt x="303" y="254"/>
                    </a:lnTo>
                    <a:lnTo>
                      <a:pt x="296" y="251"/>
                    </a:lnTo>
                    <a:lnTo>
                      <a:pt x="291" y="248"/>
                    </a:lnTo>
                    <a:lnTo>
                      <a:pt x="288" y="243"/>
                    </a:lnTo>
                    <a:lnTo>
                      <a:pt x="288" y="241"/>
                    </a:lnTo>
                    <a:lnTo>
                      <a:pt x="291" y="240"/>
                    </a:lnTo>
                    <a:lnTo>
                      <a:pt x="293" y="238"/>
                    </a:lnTo>
                    <a:lnTo>
                      <a:pt x="296" y="237"/>
                    </a:lnTo>
                    <a:lnTo>
                      <a:pt x="298" y="237"/>
                    </a:lnTo>
                    <a:lnTo>
                      <a:pt x="300" y="236"/>
                    </a:lnTo>
                    <a:lnTo>
                      <a:pt x="303" y="236"/>
                    </a:lnTo>
                    <a:lnTo>
                      <a:pt x="305" y="235"/>
                    </a:lnTo>
                    <a:lnTo>
                      <a:pt x="307" y="232"/>
                    </a:lnTo>
                    <a:lnTo>
                      <a:pt x="308" y="231"/>
                    </a:lnTo>
                    <a:lnTo>
                      <a:pt x="308" y="229"/>
                    </a:lnTo>
                    <a:lnTo>
                      <a:pt x="307" y="227"/>
                    </a:lnTo>
                    <a:lnTo>
                      <a:pt x="305" y="225"/>
                    </a:lnTo>
                    <a:lnTo>
                      <a:pt x="303" y="222"/>
                    </a:lnTo>
                    <a:lnTo>
                      <a:pt x="300" y="221"/>
                    </a:lnTo>
                    <a:lnTo>
                      <a:pt x="298" y="220"/>
                    </a:lnTo>
                    <a:lnTo>
                      <a:pt x="296" y="219"/>
                    </a:lnTo>
                    <a:lnTo>
                      <a:pt x="295" y="218"/>
                    </a:lnTo>
                    <a:lnTo>
                      <a:pt x="293" y="218"/>
                    </a:lnTo>
                    <a:lnTo>
                      <a:pt x="291" y="218"/>
                    </a:lnTo>
                    <a:lnTo>
                      <a:pt x="289" y="218"/>
                    </a:lnTo>
                    <a:lnTo>
                      <a:pt x="288" y="218"/>
                    </a:lnTo>
                    <a:lnTo>
                      <a:pt x="287" y="217"/>
                    </a:lnTo>
                    <a:lnTo>
                      <a:pt x="286" y="215"/>
                    </a:lnTo>
                    <a:lnTo>
                      <a:pt x="286" y="213"/>
                    </a:lnTo>
                    <a:lnTo>
                      <a:pt x="287" y="209"/>
                    </a:lnTo>
                    <a:lnTo>
                      <a:pt x="288" y="206"/>
                    </a:lnTo>
                    <a:lnTo>
                      <a:pt x="291" y="203"/>
                    </a:lnTo>
                    <a:lnTo>
                      <a:pt x="294" y="199"/>
                    </a:lnTo>
                    <a:lnTo>
                      <a:pt x="298" y="197"/>
                    </a:lnTo>
                    <a:lnTo>
                      <a:pt x="300" y="196"/>
                    </a:lnTo>
                    <a:lnTo>
                      <a:pt x="304" y="195"/>
                    </a:lnTo>
                    <a:lnTo>
                      <a:pt x="307" y="194"/>
                    </a:lnTo>
                    <a:lnTo>
                      <a:pt x="310" y="194"/>
                    </a:lnTo>
                    <a:close/>
                    <a:moveTo>
                      <a:pt x="401" y="148"/>
                    </a:moveTo>
                    <a:lnTo>
                      <a:pt x="405" y="149"/>
                    </a:lnTo>
                    <a:lnTo>
                      <a:pt x="408" y="151"/>
                    </a:lnTo>
                    <a:lnTo>
                      <a:pt x="411" y="153"/>
                    </a:lnTo>
                    <a:lnTo>
                      <a:pt x="412" y="155"/>
                    </a:lnTo>
                    <a:lnTo>
                      <a:pt x="412" y="158"/>
                    </a:lnTo>
                    <a:lnTo>
                      <a:pt x="411" y="160"/>
                    </a:lnTo>
                    <a:lnTo>
                      <a:pt x="408" y="162"/>
                    </a:lnTo>
                    <a:lnTo>
                      <a:pt x="405" y="163"/>
                    </a:lnTo>
                    <a:lnTo>
                      <a:pt x="401" y="163"/>
                    </a:lnTo>
                    <a:lnTo>
                      <a:pt x="398" y="163"/>
                    </a:lnTo>
                    <a:lnTo>
                      <a:pt x="395" y="162"/>
                    </a:lnTo>
                    <a:lnTo>
                      <a:pt x="394" y="162"/>
                    </a:lnTo>
                    <a:lnTo>
                      <a:pt x="392" y="160"/>
                    </a:lnTo>
                    <a:lnTo>
                      <a:pt x="391" y="159"/>
                    </a:lnTo>
                    <a:lnTo>
                      <a:pt x="389" y="156"/>
                    </a:lnTo>
                    <a:lnTo>
                      <a:pt x="381" y="156"/>
                    </a:lnTo>
                    <a:lnTo>
                      <a:pt x="379" y="156"/>
                    </a:lnTo>
                    <a:lnTo>
                      <a:pt x="378" y="155"/>
                    </a:lnTo>
                    <a:lnTo>
                      <a:pt x="378" y="154"/>
                    </a:lnTo>
                    <a:lnTo>
                      <a:pt x="379" y="153"/>
                    </a:lnTo>
                    <a:lnTo>
                      <a:pt x="380" y="152"/>
                    </a:lnTo>
                    <a:lnTo>
                      <a:pt x="383" y="151"/>
                    </a:lnTo>
                    <a:lnTo>
                      <a:pt x="385" y="150"/>
                    </a:lnTo>
                    <a:lnTo>
                      <a:pt x="389" y="150"/>
                    </a:lnTo>
                    <a:lnTo>
                      <a:pt x="391" y="149"/>
                    </a:lnTo>
                    <a:lnTo>
                      <a:pt x="394" y="149"/>
                    </a:lnTo>
                    <a:lnTo>
                      <a:pt x="396" y="149"/>
                    </a:lnTo>
                    <a:lnTo>
                      <a:pt x="401" y="148"/>
                    </a:lnTo>
                    <a:close/>
                    <a:moveTo>
                      <a:pt x="1203" y="0"/>
                    </a:moveTo>
                    <a:lnTo>
                      <a:pt x="1204" y="0"/>
                    </a:lnTo>
                    <a:lnTo>
                      <a:pt x="1207" y="1"/>
                    </a:lnTo>
                    <a:lnTo>
                      <a:pt x="1210" y="2"/>
                    </a:lnTo>
                    <a:lnTo>
                      <a:pt x="1212" y="4"/>
                    </a:lnTo>
                    <a:lnTo>
                      <a:pt x="1212" y="6"/>
                    </a:lnTo>
                    <a:lnTo>
                      <a:pt x="1213" y="6"/>
                    </a:lnTo>
                    <a:lnTo>
                      <a:pt x="1215" y="8"/>
                    </a:lnTo>
                    <a:lnTo>
                      <a:pt x="1216" y="9"/>
                    </a:lnTo>
                    <a:lnTo>
                      <a:pt x="1219" y="10"/>
                    </a:lnTo>
                    <a:lnTo>
                      <a:pt x="1220" y="10"/>
                    </a:lnTo>
                    <a:lnTo>
                      <a:pt x="1221" y="10"/>
                    </a:lnTo>
                    <a:lnTo>
                      <a:pt x="1221" y="9"/>
                    </a:lnTo>
                    <a:lnTo>
                      <a:pt x="1221" y="8"/>
                    </a:lnTo>
                    <a:lnTo>
                      <a:pt x="1220" y="6"/>
                    </a:lnTo>
                    <a:lnTo>
                      <a:pt x="1219" y="3"/>
                    </a:lnTo>
                    <a:lnTo>
                      <a:pt x="1218" y="2"/>
                    </a:lnTo>
                    <a:lnTo>
                      <a:pt x="1216" y="1"/>
                    </a:lnTo>
                    <a:lnTo>
                      <a:pt x="1216" y="0"/>
                    </a:lnTo>
                    <a:lnTo>
                      <a:pt x="1219" y="0"/>
                    </a:lnTo>
                    <a:lnTo>
                      <a:pt x="1221" y="1"/>
                    </a:lnTo>
                    <a:lnTo>
                      <a:pt x="1223" y="2"/>
                    </a:lnTo>
                    <a:lnTo>
                      <a:pt x="1225" y="2"/>
                    </a:lnTo>
                    <a:lnTo>
                      <a:pt x="1227" y="2"/>
                    </a:lnTo>
                    <a:lnTo>
                      <a:pt x="1230" y="2"/>
                    </a:lnTo>
                    <a:lnTo>
                      <a:pt x="1231" y="2"/>
                    </a:lnTo>
                    <a:lnTo>
                      <a:pt x="1233" y="1"/>
                    </a:lnTo>
                    <a:lnTo>
                      <a:pt x="1234" y="0"/>
                    </a:lnTo>
                    <a:lnTo>
                      <a:pt x="1236" y="0"/>
                    </a:lnTo>
                    <a:lnTo>
                      <a:pt x="1240" y="2"/>
                    </a:lnTo>
                    <a:lnTo>
                      <a:pt x="1243" y="3"/>
                    </a:lnTo>
                    <a:lnTo>
                      <a:pt x="1246" y="6"/>
                    </a:lnTo>
                    <a:lnTo>
                      <a:pt x="1251" y="7"/>
                    </a:lnTo>
                    <a:lnTo>
                      <a:pt x="1254" y="7"/>
                    </a:lnTo>
                    <a:lnTo>
                      <a:pt x="1255" y="6"/>
                    </a:lnTo>
                    <a:lnTo>
                      <a:pt x="1257" y="6"/>
                    </a:lnTo>
                    <a:lnTo>
                      <a:pt x="1259" y="6"/>
                    </a:lnTo>
                    <a:lnTo>
                      <a:pt x="1263" y="7"/>
                    </a:lnTo>
                    <a:lnTo>
                      <a:pt x="1266" y="8"/>
                    </a:lnTo>
                    <a:lnTo>
                      <a:pt x="1270" y="9"/>
                    </a:lnTo>
                    <a:lnTo>
                      <a:pt x="1275" y="10"/>
                    </a:lnTo>
                    <a:lnTo>
                      <a:pt x="1278" y="11"/>
                    </a:lnTo>
                    <a:lnTo>
                      <a:pt x="1291" y="14"/>
                    </a:lnTo>
                    <a:lnTo>
                      <a:pt x="1304" y="20"/>
                    </a:lnTo>
                    <a:lnTo>
                      <a:pt x="1307" y="22"/>
                    </a:lnTo>
                    <a:lnTo>
                      <a:pt x="1308" y="23"/>
                    </a:lnTo>
                    <a:lnTo>
                      <a:pt x="1309" y="25"/>
                    </a:lnTo>
                    <a:lnTo>
                      <a:pt x="1311" y="28"/>
                    </a:lnTo>
                    <a:lnTo>
                      <a:pt x="1313" y="29"/>
                    </a:lnTo>
                    <a:lnTo>
                      <a:pt x="1322" y="29"/>
                    </a:lnTo>
                    <a:lnTo>
                      <a:pt x="1329" y="32"/>
                    </a:lnTo>
                    <a:lnTo>
                      <a:pt x="1335" y="35"/>
                    </a:lnTo>
                    <a:lnTo>
                      <a:pt x="1342" y="38"/>
                    </a:lnTo>
                    <a:lnTo>
                      <a:pt x="1345" y="40"/>
                    </a:lnTo>
                    <a:lnTo>
                      <a:pt x="1349" y="43"/>
                    </a:lnTo>
                    <a:lnTo>
                      <a:pt x="1349" y="45"/>
                    </a:lnTo>
                    <a:lnTo>
                      <a:pt x="1349" y="47"/>
                    </a:lnTo>
                    <a:lnTo>
                      <a:pt x="1346" y="49"/>
                    </a:lnTo>
                    <a:lnTo>
                      <a:pt x="1340" y="49"/>
                    </a:lnTo>
                    <a:lnTo>
                      <a:pt x="1338" y="49"/>
                    </a:lnTo>
                    <a:lnTo>
                      <a:pt x="1336" y="50"/>
                    </a:lnTo>
                    <a:lnTo>
                      <a:pt x="1335" y="50"/>
                    </a:lnTo>
                    <a:lnTo>
                      <a:pt x="1333" y="50"/>
                    </a:lnTo>
                    <a:lnTo>
                      <a:pt x="1331" y="49"/>
                    </a:lnTo>
                    <a:lnTo>
                      <a:pt x="1298" y="42"/>
                    </a:lnTo>
                    <a:lnTo>
                      <a:pt x="1296" y="41"/>
                    </a:lnTo>
                    <a:lnTo>
                      <a:pt x="1295" y="41"/>
                    </a:lnTo>
                    <a:lnTo>
                      <a:pt x="1293" y="41"/>
                    </a:lnTo>
                    <a:lnTo>
                      <a:pt x="1292" y="42"/>
                    </a:lnTo>
                    <a:lnTo>
                      <a:pt x="1291" y="42"/>
                    </a:lnTo>
                    <a:lnTo>
                      <a:pt x="1288" y="43"/>
                    </a:lnTo>
                    <a:lnTo>
                      <a:pt x="1285" y="43"/>
                    </a:lnTo>
                    <a:lnTo>
                      <a:pt x="1282" y="42"/>
                    </a:lnTo>
                    <a:lnTo>
                      <a:pt x="1280" y="42"/>
                    </a:lnTo>
                    <a:lnTo>
                      <a:pt x="1278" y="42"/>
                    </a:lnTo>
                    <a:lnTo>
                      <a:pt x="1276" y="43"/>
                    </a:lnTo>
                    <a:lnTo>
                      <a:pt x="1274" y="43"/>
                    </a:lnTo>
                    <a:lnTo>
                      <a:pt x="1270" y="43"/>
                    </a:lnTo>
                    <a:lnTo>
                      <a:pt x="1267" y="42"/>
                    </a:lnTo>
                    <a:lnTo>
                      <a:pt x="1258" y="42"/>
                    </a:lnTo>
                    <a:lnTo>
                      <a:pt x="1256" y="42"/>
                    </a:lnTo>
                    <a:lnTo>
                      <a:pt x="1253" y="42"/>
                    </a:lnTo>
                    <a:lnTo>
                      <a:pt x="1251" y="42"/>
                    </a:lnTo>
                    <a:lnTo>
                      <a:pt x="1248" y="43"/>
                    </a:lnTo>
                    <a:lnTo>
                      <a:pt x="1247" y="43"/>
                    </a:lnTo>
                    <a:lnTo>
                      <a:pt x="1247" y="44"/>
                    </a:lnTo>
                    <a:lnTo>
                      <a:pt x="1251" y="45"/>
                    </a:lnTo>
                    <a:lnTo>
                      <a:pt x="1254" y="45"/>
                    </a:lnTo>
                    <a:lnTo>
                      <a:pt x="1256" y="44"/>
                    </a:lnTo>
                    <a:lnTo>
                      <a:pt x="1258" y="44"/>
                    </a:lnTo>
                    <a:lnTo>
                      <a:pt x="1265" y="44"/>
                    </a:lnTo>
                    <a:lnTo>
                      <a:pt x="1273" y="45"/>
                    </a:lnTo>
                    <a:lnTo>
                      <a:pt x="1280" y="46"/>
                    </a:lnTo>
                    <a:lnTo>
                      <a:pt x="1298" y="46"/>
                    </a:lnTo>
                    <a:lnTo>
                      <a:pt x="1304" y="45"/>
                    </a:lnTo>
                    <a:lnTo>
                      <a:pt x="1313" y="47"/>
                    </a:lnTo>
                    <a:lnTo>
                      <a:pt x="1322" y="51"/>
                    </a:lnTo>
                    <a:lnTo>
                      <a:pt x="1328" y="53"/>
                    </a:lnTo>
                    <a:lnTo>
                      <a:pt x="1335" y="55"/>
                    </a:lnTo>
                    <a:lnTo>
                      <a:pt x="1342" y="57"/>
                    </a:lnTo>
                    <a:lnTo>
                      <a:pt x="1344" y="56"/>
                    </a:lnTo>
                    <a:lnTo>
                      <a:pt x="1346" y="55"/>
                    </a:lnTo>
                    <a:lnTo>
                      <a:pt x="1349" y="55"/>
                    </a:lnTo>
                    <a:lnTo>
                      <a:pt x="1351" y="55"/>
                    </a:lnTo>
                    <a:lnTo>
                      <a:pt x="1355" y="56"/>
                    </a:lnTo>
                    <a:lnTo>
                      <a:pt x="1360" y="57"/>
                    </a:lnTo>
                    <a:lnTo>
                      <a:pt x="1362" y="57"/>
                    </a:lnTo>
                    <a:lnTo>
                      <a:pt x="1363" y="58"/>
                    </a:lnTo>
                    <a:lnTo>
                      <a:pt x="1365" y="61"/>
                    </a:lnTo>
                    <a:lnTo>
                      <a:pt x="1366" y="63"/>
                    </a:lnTo>
                    <a:lnTo>
                      <a:pt x="1367" y="64"/>
                    </a:lnTo>
                    <a:lnTo>
                      <a:pt x="1368" y="66"/>
                    </a:lnTo>
                    <a:lnTo>
                      <a:pt x="1368" y="68"/>
                    </a:lnTo>
                    <a:lnTo>
                      <a:pt x="1367" y="71"/>
                    </a:lnTo>
                    <a:lnTo>
                      <a:pt x="1367" y="73"/>
                    </a:lnTo>
                    <a:lnTo>
                      <a:pt x="1367" y="75"/>
                    </a:lnTo>
                    <a:lnTo>
                      <a:pt x="1368" y="76"/>
                    </a:lnTo>
                    <a:lnTo>
                      <a:pt x="1371" y="78"/>
                    </a:lnTo>
                    <a:lnTo>
                      <a:pt x="1373" y="78"/>
                    </a:lnTo>
                    <a:lnTo>
                      <a:pt x="1375" y="78"/>
                    </a:lnTo>
                    <a:lnTo>
                      <a:pt x="1377" y="78"/>
                    </a:lnTo>
                    <a:lnTo>
                      <a:pt x="1378" y="77"/>
                    </a:lnTo>
                    <a:lnTo>
                      <a:pt x="1379" y="76"/>
                    </a:lnTo>
                    <a:lnTo>
                      <a:pt x="1380" y="76"/>
                    </a:lnTo>
                    <a:lnTo>
                      <a:pt x="1382" y="76"/>
                    </a:lnTo>
                    <a:lnTo>
                      <a:pt x="1383" y="76"/>
                    </a:lnTo>
                    <a:lnTo>
                      <a:pt x="1385" y="77"/>
                    </a:lnTo>
                    <a:lnTo>
                      <a:pt x="1387" y="79"/>
                    </a:lnTo>
                    <a:lnTo>
                      <a:pt x="1389" y="82"/>
                    </a:lnTo>
                    <a:lnTo>
                      <a:pt x="1393" y="84"/>
                    </a:lnTo>
                    <a:lnTo>
                      <a:pt x="1395" y="85"/>
                    </a:lnTo>
                    <a:lnTo>
                      <a:pt x="1398" y="86"/>
                    </a:lnTo>
                    <a:lnTo>
                      <a:pt x="1401" y="88"/>
                    </a:lnTo>
                    <a:lnTo>
                      <a:pt x="1405" y="90"/>
                    </a:lnTo>
                    <a:lnTo>
                      <a:pt x="1408" y="93"/>
                    </a:lnTo>
                    <a:lnTo>
                      <a:pt x="1409" y="95"/>
                    </a:lnTo>
                    <a:lnTo>
                      <a:pt x="1411" y="97"/>
                    </a:lnTo>
                    <a:lnTo>
                      <a:pt x="1413" y="99"/>
                    </a:lnTo>
                    <a:lnTo>
                      <a:pt x="1416" y="101"/>
                    </a:lnTo>
                    <a:lnTo>
                      <a:pt x="1418" y="104"/>
                    </a:lnTo>
                    <a:lnTo>
                      <a:pt x="1418" y="106"/>
                    </a:lnTo>
                    <a:lnTo>
                      <a:pt x="1418" y="107"/>
                    </a:lnTo>
                    <a:lnTo>
                      <a:pt x="1417" y="108"/>
                    </a:lnTo>
                    <a:lnTo>
                      <a:pt x="1417" y="108"/>
                    </a:lnTo>
                    <a:lnTo>
                      <a:pt x="1416" y="110"/>
                    </a:lnTo>
                    <a:lnTo>
                      <a:pt x="1413" y="110"/>
                    </a:lnTo>
                    <a:lnTo>
                      <a:pt x="1412" y="112"/>
                    </a:lnTo>
                    <a:lnTo>
                      <a:pt x="1411" y="115"/>
                    </a:lnTo>
                    <a:lnTo>
                      <a:pt x="1410" y="116"/>
                    </a:lnTo>
                    <a:lnTo>
                      <a:pt x="1409" y="116"/>
                    </a:lnTo>
                    <a:lnTo>
                      <a:pt x="1409" y="117"/>
                    </a:lnTo>
                    <a:lnTo>
                      <a:pt x="1407" y="117"/>
                    </a:lnTo>
                    <a:lnTo>
                      <a:pt x="1400" y="117"/>
                    </a:lnTo>
                    <a:lnTo>
                      <a:pt x="1398" y="117"/>
                    </a:lnTo>
                    <a:lnTo>
                      <a:pt x="1396" y="118"/>
                    </a:lnTo>
                    <a:lnTo>
                      <a:pt x="1395" y="119"/>
                    </a:lnTo>
                    <a:lnTo>
                      <a:pt x="1393" y="119"/>
                    </a:lnTo>
                    <a:lnTo>
                      <a:pt x="1389" y="119"/>
                    </a:lnTo>
                    <a:lnTo>
                      <a:pt x="1382" y="118"/>
                    </a:lnTo>
                    <a:lnTo>
                      <a:pt x="1375" y="117"/>
                    </a:lnTo>
                    <a:lnTo>
                      <a:pt x="1366" y="115"/>
                    </a:lnTo>
                    <a:lnTo>
                      <a:pt x="1362" y="112"/>
                    </a:lnTo>
                    <a:lnTo>
                      <a:pt x="1358" y="112"/>
                    </a:lnTo>
                    <a:lnTo>
                      <a:pt x="1354" y="111"/>
                    </a:lnTo>
                    <a:lnTo>
                      <a:pt x="1351" y="110"/>
                    </a:lnTo>
                    <a:lnTo>
                      <a:pt x="1340" y="110"/>
                    </a:lnTo>
                    <a:lnTo>
                      <a:pt x="1333" y="108"/>
                    </a:lnTo>
                    <a:lnTo>
                      <a:pt x="1329" y="109"/>
                    </a:lnTo>
                    <a:lnTo>
                      <a:pt x="1324" y="110"/>
                    </a:lnTo>
                    <a:lnTo>
                      <a:pt x="1320" y="110"/>
                    </a:lnTo>
                    <a:lnTo>
                      <a:pt x="1309" y="110"/>
                    </a:lnTo>
                    <a:lnTo>
                      <a:pt x="1306" y="110"/>
                    </a:lnTo>
                    <a:lnTo>
                      <a:pt x="1303" y="110"/>
                    </a:lnTo>
                    <a:lnTo>
                      <a:pt x="1301" y="110"/>
                    </a:lnTo>
                    <a:lnTo>
                      <a:pt x="1300" y="111"/>
                    </a:lnTo>
                    <a:lnTo>
                      <a:pt x="1300" y="112"/>
                    </a:lnTo>
                    <a:lnTo>
                      <a:pt x="1300" y="112"/>
                    </a:lnTo>
                    <a:lnTo>
                      <a:pt x="1300" y="115"/>
                    </a:lnTo>
                    <a:lnTo>
                      <a:pt x="1300" y="117"/>
                    </a:lnTo>
                    <a:lnTo>
                      <a:pt x="1301" y="119"/>
                    </a:lnTo>
                    <a:lnTo>
                      <a:pt x="1302" y="121"/>
                    </a:lnTo>
                    <a:lnTo>
                      <a:pt x="1304" y="123"/>
                    </a:lnTo>
                    <a:lnTo>
                      <a:pt x="1307" y="124"/>
                    </a:lnTo>
                    <a:lnTo>
                      <a:pt x="1309" y="124"/>
                    </a:lnTo>
                    <a:lnTo>
                      <a:pt x="1310" y="123"/>
                    </a:lnTo>
                    <a:lnTo>
                      <a:pt x="1311" y="122"/>
                    </a:lnTo>
                    <a:lnTo>
                      <a:pt x="1312" y="121"/>
                    </a:lnTo>
                    <a:lnTo>
                      <a:pt x="1313" y="120"/>
                    </a:lnTo>
                    <a:lnTo>
                      <a:pt x="1313" y="119"/>
                    </a:lnTo>
                    <a:lnTo>
                      <a:pt x="1314" y="118"/>
                    </a:lnTo>
                    <a:lnTo>
                      <a:pt x="1318" y="118"/>
                    </a:lnTo>
                    <a:lnTo>
                      <a:pt x="1320" y="118"/>
                    </a:lnTo>
                    <a:lnTo>
                      <a:pt x="1323" y="118"/>
                    </a:lnTo>
                    <a:lnTo>
                      <a:pt x="1327" y="119"/>
                    </a:lnTo>
                    <a:lnTo>
                      <a:pt x="1330" y="120"/>
                    </a:lnTo>
                    <a:lnTo>
                      <a:pt x="1332" y="120"/>
                    </a:lnTo>
                    <a:lnTo>
                      <a:pt x="1335" y="120"/>
                    </a:lnTo>
                    <a:lnTo>
                      <a:pt x="1338" y="119"/>
                    </a:lnTo>
                    <a:lnTo>
                      <a:pt x="1343" y="117"/>
                    </a:lnTo>
                    <a:lnTo>
                      <a:pt x="1350" y="117"/>
                    </a:lnTo>
                    <a:lnTo>
                      <a:pt x="1360" y="119"/>
                    </a:lnTo>
                    <a:lnTo>
                      <a:pt x="1371" y="123"/>
                    </a:lnTo>
                    <a:lnTo>
                      <a:pt x="1383" y="128"/>
                    </a:lnTo>
                    <a:lnTo>
                      <a:pt x="1387" y="129"/>
                    </a:lnTo>
                    <a:lnTo>
                      <a:pt x="1390" y="131"/>
                    </a:lnTo>
                    <a:lnTo>
                      <a:pt x="1393" y="134"/>
                    </a:lnTo>
                    <a:lnTo>
                      <a:pt x="1394" y="138"/>
                    </a:lnTo>
                    <a:lnTo>
                      <a:pt x="1395" y="141"/>
                    </a:lnTo>
                    <a:lnTo>
                      <a:pt x="1394" y="142"/>
                    </a:lnTo>
                    <a:lnTo>
                      <a:pt x="1393" y="143"/>
                    </a:lnTo>
                    <a:lnTo>
                      <a:pt x="1391" y="143"/>
                    </a:lnTo>
                    <a:lnTo>
                      <a:pt x="1388" y="143"/>
                    </a:lnTo>
                    <a:lnTo>
                      <a:pt x="1386" y="144"/>
                    </a:lnTo>
                    <a:lnTo>
                      <a:pt x="1383" y="144"/>
                    </a:lnTo>
                    <a:lnTo>
                      <a:pt x="1382" y="145"/>
                    </a:lnTo>
                    <a:lnTo>
                      <a:pt x="1379" y="147"/>
                    </a:lnTo>
                    <a:lnTo>
                      <a:pt x="1377" y="149"/>
                    </a:lnTo>
                    <a:lnTo>
                      <a:pt x="1376" y="151"/>
                    </a:lnTo>
                    <a:lnTo>
                      <a:pt x="1376" y="153"/>
                    </a:lnTo>
                    <a:lnTo>
                      <a:pt x="1378" y="155"/>
                    </a:lnTo>
                    <a:lnTo>
                      <a:pt x="1382" y="155"/>
                    </a:lnTo>
                    <a:lnTo>
                      <a:pt x="1384" y="154"/>
                    </a:lnTo>
                    <a:lnTo>
                      <a:pt x="1386" y="153"/>
                    </a:lnTo>
                    <a:lnTo>
                      <a:pt x="1388" y="152"/>
                    </a:lnTo>
                    <a:lnTo>
                      <a:pt x="1389" y="152"/>
                    </a:lnTo>
                    <a:lnTo>
                      <a:pt x="1389" y="151"/>
                    </a:lnTo>
                    <a:lnTo>
                      <a:pt x="1393" y="151"/>
                    </a:lnTo>
                    <a:lnTo>
                      <a:pt x="1397" y="150"/>
                    </a:lnTo>
                    <a:lnTo>
                      <a:pt x="1400" y="150"/>
                    </a:lnTo>
                    <a:lnTo>
                      <a:pt x="1405" y="150"/>
                    </a:lnTo>
                    <a:lnTo>
                      <a:pt x="1407" y="149"/>
                    </a:lnTo>
                    <a:lnTo>
                      <a:pt x="1409" y="148"/>
                    </a:lnTo>
                    <a:lnTo>
                      <a:pt x="1410" y="147"/>
                    </a:lnTo>
                    <a:lnTo>
                      <a:pt x="1410" y="144"/>
                    </a:lnTo>
                    <a:lnTo>
                      <a:pt x="1410" y="142"/>
                    </a:lnTo>
                    <a:lnTo>
                      <a:pt x="1409" y="140"/>
                    </a:lnTo>
                    <a:lnTo>
                      <a:pt x="1409" y="138"/>
                    </a:lnTo>
                    <a:lnTo>
                      <a:pt x="1409" y="135"/>
                    </a:lnTo>
                    <a:lnTo>
                      <a:pt x="1410" y="134"/>
                    </a:lnTo>
                    <a:lnTo>
                      <a:pt x="1412" y="133"/>
                    </a:lnTo>
                    <a:lnTo>
                      <a:pt x="1415" y="132"/>
                    </a:lnTo>
                    <a:lnTo>
                      <a:pt x="1418" y="133"/>
                    </a:lnTo>
                    <a:lnTo>
                      <a:pt x="1421" y="134"/>
                    </a:lnTo>
                    <a:lnTo>
                      <a:pt x="1424" y="135"/>
                    </a:lnTo>
                    <a:lnTo>
                      <a:pt x="1427" y="139"/>
                    </a:lnTo>
                    <a:lnTo>
                      <a:pt x="1429" y="142"/>
                    </a:lnTo>
                    <a:lnTo>
                      <a:pt x="1430" y="144"/>
                    </a:lnTo>
                    <a:lnTo>
                      <a:pt x="1431" y="148"/>
                    </a:lnTo>
                    <a:lnTo>
                      <a:pt x="1431" y="149"/>
                    </a:lnTo>
                    <a:lnTo>
                      <a:pt x="1434" y="160"/>
                    </a:lnTo>
                    <a:lnTo>
                      <a:pt x="1440" y="171"/>
                    </a:lnTo>
                    <a:lnTo>
                      <a:pt x="1440" y="180"/>
                    </a:lnTo>
                    <a:lnTo>
                      <a:pt x="1439" y="182"/>
                    </a:lnTo>
                    <a:lnTo>
                      <a:pt x="1439" y="183"/>
                    </a:lnTo>
                    <a:lnTo>
                      <a:pt x="1440" y="185"/>
                    </a:lnTo>
                    <a:lnTo>
                      <a:pt x="1440" y="186"/>
                    </a:lnTo>
                    <a:lnTo>
                      <a:pt x="1440" y="191"/>
                    </a:lnTo>
                    <a:lnTo>
                      <a:pt x="1440" y="193"/>
                    </a:lnTo>
                    <a:lnTo>
                      <a:pt x="1438" y="195"/>
                    </a:lnTo>
                    <a:lnTo>
                      <a:pt x="1437" y="197"/>
                    </a:lnTo>
                    <a:lnTo>
                      <a:pt x="1436" y="199"/>
                    </a:lnTo>
                    <a:lnTo>
                      <a:pt x="1436" y="202"/>
                    </a:lnTo>
                    <a:lnTo>
                      <a:pt x="1436" y="204"/>
                    </a:lnTo>
                    <a:lnTo>
                      <a:pt x="1438" y="208"/>
                    </a:lnTo>
                    <a:lnTo>
                      <a:pt x="1440" y="207"/>
                    </a:lnTo>
                    <a:lnTo>
                      <a:pt x="1441" y="206"/>
                    </a:lnTo>
                    <a:lnTo>
                      <a:pt x="1443" y="205"/>
                    </a:lnTo>
                    <a:lnTo>
                      <a:pt x="1444" y="204"/>
                    </a:lnTo>
                    <a:lnTo>
                      <a:pt x="1444" y="203"/>
                    </a:lnTo>
                    <a:lnTo>
                      <a:pt x="1444" y="200"/>
                    </a:lnTo>
                    <a:lnTo>
                      <a:pt x="1445" y="199"/>
                    </a:lnTo>
                    <a:lnTo>
                      <a:pt x="1445" y="198"/>
                    </a:lnTo>
                    <a:lnTo>
                      <a:pt x="1447" y="197"/>
                    </a:lnTo>
                    <a:lnTo>
                      <a:pt x="1449" y="196"/>
                    </a:lnTo>
                    <a:lnTo>
                      <a:pt x="1450" y="195"/>
                    </a:lnTo>
                    <a:lnTo>
                      <a:pt x="1451" y="194"/>
                    </a:lnTo>
                    <a:lnTo>
                      <a:pt x="1451" y="193"/>
                    </a:lnTo>
                    <a:lnTo>
                      <a:pt x="1451" y="184"/>
                    </a:lnTo>
                    <a:lnTo>
                      <a:pt x="1451" y="182"/>
                    </a:lnTo>
                    <a:lnTo>
                      <a:pt x="1452" y="181"/>
                    </a:lnTo>
                    <a:lnTo>
                      <a:pt x="1452" y="180"/>
                    </a:lnTo>
                    <a:lnTo>
                      <a:pt x="1453" y="177"/>
                    </a:lnTo>
                    <a:lnTo>
                      <a:pt x="1453" y="175"/>
                    </a:lnTo>
                    <a:lnTo>
                      <a:pt x="1454" y="173"/>
                    </a:lnTo>
                    <a:lnTo>
                      <a:pt x="1455" y="172"/>
                    </a:lnTo>
                    <a:lnTo>
                      <a:pt x="1455" y="170"/>
                    </a:lnTo>
                    <a:lnTo>
                      <a:pt x="1455" y="167"/>
                    </a:lnTo>
                    <a:lnTo>
                      <a:pt x="1454" y="165"/>
                    </a:lnTo>
                    <a:lnTo>
                      <a:pt x="1451" y="162"/>
                    </a:lnTo>
                    <a:lnTo>
                      <a:pt x="1450" y="161"/>
                    </a:lnTo>
                    <a:lnTo>
                      <a:pt x="1450" y="160"/>
                    </a:lnTo>
                    <a:lnTo>
                      <a:pt x="1450" y="160"/>
                    </a:lnTo>
                    <a:lnTo>
                      <a:pt x="1452" y="160"/>
                    </a:lnTo>
                    <a:lnTo>
                      <a:pt x="1453" y="161"/>
                    </a:lnTo>
                    <a:lnTo>
                      <a:pt x="1454" y="161"/>
                    </a:lnTo>
                    <a:lnTo>
                      <a:pt x="1455" y="162"/>
                    </a:lnTo>
                    <a:lnTo>
                      <a:pt x="1462" y="169"/>
                    </a:lnTo>
                    <a:lnTo>
                      <a:pt x="1464" y="171"/>
                    </a:lnTo>
                    <a:lnTo>
                      <a:pt x="1466" y="172"/>
                    </a:lnTo>
                    <a:lnTo>
                      <a:pt x="1467" y="173"/>
                    </a:lnTo>
                    <a:lnTo>
                      <a:pt x="1469" y="173"/>
                    </a:lnTo>
                    <a:lnTo>
                      <a:pt x="1471" y="173"/>
                    </a:lnTo>
                    <a:lnTo>
                      <a:pt x="1472" y="174"/>
                    </a:lnTo>
                    <a:lnTo>
                      <a:pt x="1473" y="175"/>
                    </a:lnTo>
                    <a:lnTo>
                      <a:pt x="1474" y="176"/>
                    </a:lnTo>
                    <a:lnTo>
                      <a:pt x="1476" y="178"/>
                    </a:lnTo>
                    <a:lnTo>
                      <a:pt x="1477" y="180"/>
                    </a:lnTo>
                    <a:lnTo>
                      <a:pt x="1481" y="182"/>
                    </a:lnTo>
                    <a:lnTo>
                      <a:pt x="1483" y="183"/>
                    </a:lnTo>
                    <a:lnTo>
                      <a:pt x="1485" y="183"/>
                    </a:lnTo>
                    <a:lnTo>
                      <a:pt x="1486" y="183"/>
                    </a:lnTo>
                    <a:lnTo>
                      <a:pt x="1487" y="182"/>
                    </a:lnTo>
                    <a:lnTo>
                      <a:pt x="1487" y="180"/>
                    </a:lnTo>
                    <a:lnTo>
                      <a:pt x="1486" y="177"/>
                    </a:lnTo>
                    <a:lnTo>
                      <a:pt x="1484" y="175"/>
                    </a:lnTo>
                    <a:lnTo>
                      <a:pt x="1481" y="173"/>
                    </a:lnTo>
                    <a:lnTo>
                      <a:pt x="1477" y="171"/>
                    </a:lnTo>
                    <a:lnTo>
                      <a:pt x="1474" y="169"/>
                    </a:lnTo>
                    <a:lnTo>
                      <a:pt x="1472" y="166"/>
                    </a:lnTo>
                    <a:lnTo>
                      <a:pt x="1471" y="164"/>
                    </a:lnTo>
                    <a:lnTo>
                      <a:pt x="1469" y="162"/>
                    </a:lnTo>
                    <a:lnTo>
                      <a:pt x="1467" y="161"/>
                    </a:lnTo>
                    <a:lnTo>
                      <a:pt x="1465" y="160"/>
                    </a:lnTo>
                    <a:lnTo>
                      <a:pt x="1464" y="160"/>
                    </a:lnTo>
                    <a:lnTo>
                      <a:pt x="1463" y="159"/>
                    </a:lnTo>
                    <a:lnTo>
                      <a:pt x="1463" y="158"/>
                    </a:lnTo>
                    <a:lnTo>
                      <a:pt x="1464" y="158"/>
                    </a:lnTo>
                    <a:lnTo>
                      <a:pt x="1465" y="158"/>
                    </a:lnTo>
                    <a:lnTo>
                      <a:pt x="1466" y="158"/>
                    </a:lnTo>
                    <a:lnTo>
                      <a:pt x="1467" y="158"/>
                    </a:lnTo>
                    <a:lnTo>
                      <a:pt x="1470" y="159"/>
                    </a:lnTo>
                    <a:lnTo>
                      <a:pt x="1471" y="160"/>
                    </a:lnTo>
                    <a:lnTo>
                      <a:pt x="1472" y="161"/>
                    </a:lnTo>
                    <a:lnTo>
                      <a:pt x="1474" y="163"/>
                    </a:lnTo>
                    <a:lnTo>
                      <a:pt x="1476" y="165"/>
                    </a:lnTo>
                    <a:lnTo>
                      <a:pt x="1478" y="167"/>
                    </a:lnTo>
                    <a:lnTo>
                      <a:pt x="1481" y="170"/>
                    </a:lnTo>
                    <a:lnTo>
                      <a:pt x="1483" y="171"/>
                    </a:lnTo>
                    <a:lnTo>
                      <a:pt x="1485" y="173"/>
                    </a:lnTo>
                    <a:lnTo>
                      <a:pt x="1486" y="173"/>
                    </a:lnTo>
                    <a:lnTo>
                      <a:pt x="1486" y="173"/>
                    </a:lnTo>
                    <a:lnTo>
                      <a:pt x="1486" y="171"/>
                    </a:lnTo>
                    <a:lnTo>
                      <a:pt x="1485" y="169"/>
                    </a:lnTo>
                    <a:lnTo>
                      <a:pt x="1484" y="166"/>
                    </a:lnTo>
                    <a:lnTo>
                      <a:pt x="1484" y="165"/>
                    </a:lnTo>
                    <a:lnTo>
                      <a:pt x="1485" y="165"/>
                    </a:lnTo>
                    <a:lnTo>
                      <a:pt x="1487" y="164"/>
                    </a:lnTo>
                    <a:lnTo>
                      <a:pt x="1488" y="164"/>
                    </a:lnTo>
                    <a:lnTo>
                      <a:pt x="1489" y="163"/>
                    </a:lnTo>
                    <a:lnTo>
                      <a:pt x="1492" y="164"/>
                    </a:lnTo>
                    <a:lnTo>
                      <a:pt x="1493" y="164"/>
                    </a:lnTo>
                    <a:lnTo>
                      <a:pt x="1493" y="164"/>
                    </a:lnTo>
                    <a:lnTo>
                      <a:pt x="1494" y="164"/>
                    </a:lnTo>
                    <a:lnTo>
                      <a:pt x="1495" y="163"/>
                    </a:lnTo>
                    <a:lnTo>
                      <a:pt x="1496" y="163"/>
                    </a:lnTo>
                    <a:lnTo>
                      <a:pt x="1497" y="162"/>
                    </a:lnTo>
                    <a:lnTo>
                      <a:pt x="1499" y="162"/>
                    </a:lnTo>
                    <a:lnTo>
                      <a:pt x="1500" y="163"/>
                    </a:lnTo>
                    <a:lnTo>
                      <a:pt x="1503" y="163"/>
                    </a:lnTo>
                    <a:lnTo>
                      <a:pt x="1506" y="164"/>
                    </a:lnTo>
                    <a:lnTo>
                      <a:pt x="1509" y="166"/>
                    </a:lnTo>
                    <a:lnTo>
                      <a:pt x="1513" y="169"/>
                    </a:lnTo>
                    <a:lnTo>
                      <a:pt x="1515" y="171"/>
                    </a:lnTo>
                    <a:lnTo>
                      <a:pt x="1517" y="173"/>
                    </a:lnTo>
                    <a:lnTo>
                      <a:pt x="1521" y="177"/>
                    </a:lnTo>
                    <a:lnTo>
                      <a:pt x="1526" y="181"/>
                    </a:lnTo>
                    <a:lnTo>
                      <a:pt x="1530" y="184"/>
                    </a:lnTo>
                    <a:lnTo>
                      <a:pt x="1532" y="186"/>
                    </a:lnTo>
                    <a:lnTo>
                      <a:pt x="1536" y="188"/>
                    </a:lnTo>
                    <a:lnTo>
                      <a:pt x="1539" y="191"/>
                    </a:lnTo>
                    <a:lnTo>
                      <a:pt x="1542" y="193"/>
                    </a:lnTo>
                    <a:lnTo>
                      <a:pt x="1544" y="195"/>
                    </a:lnTo>
                    <a:lnTo>
                      <a:pt x="1546" y="197"/>
                    </a:lnTo>
                    <a:lnTo>
                      <a:pt x="1547" y="199"/>
                    </a:lnTo>
                    <a:lnTo>
                      <a:pt x="1546" y="202"/>
                    </a:lnTo>
                    <a:lnTo>
                      <a:pt x="1544" y="204"/>
                    </a:lnTo>
                    <a:lnTo>
                      <a:pt x="1543" y="206"/>
                    </a:lnTo>
                    <a:lnTo>
                      <a:pt x="1542" y="207"/>
                    </a:lnTo>
                    <a:lnTo>
                      <a:pt x="1540" y="209"/>
                    </a:lnTo>
                    <a:lnTo>
                      <a:pt x="1539" y="211"/>
                    </a:lnTo>
                    <a:lnTo>
                      <a:pt x="1539" y="215"/>
                    </a:lnTo>
                    <a:lnTo>
                      <a:pt x="1539" y="216"/>
                    </a:lnTo>
                    <a:lnTo>
                      <a:pt x="1538" y="216"/>
                    </a:lnTo>
                    <a:lnTo>
                      <a:pt x="1536" y="216"/>
                    </a:lnTo>
                    <a:lnTo>
                      <a:pt x="1535" y="215"/>
                    </a:lnTo>
                    <a:lnTo>
                      <a:pt x="1532" y="215"/>
                    </a:lnTo>
                    <a:lnTo>
                      <a:pt x="1531" y="215"/>
                    </a:lnTo>
                    <a:lnTo>
                      <a:pt x="1530" y="216"/>
                    </a:lnTo>
                    <a:lnTo>
                      <a:pt x="1530" y="217"/>
                    </a:lnTo>
                    <a:lnTo>
                      <a:pt x="1530" y="219"/>
                    </a:lnTo>
                    <a:lnTo>
                      <a:pt x="1531" y="220"/>
                    </a:lnTo>
                    <a:lnTo>
                      <a:pt x="1533" y="222"/>
                    </a:lnTo>
                    <a:lnTo>
                      <a:pt x="1535" y="224"/>
                    </a:lnTo>
                    <a:lnTo>
                      <a:pt x="1535" y="226"/>
                    </a:lnTo>
                    <a:lnTo>
                      <a:pt x="1535" y="228"/>
                    </a:lnTo>
                    <a:lnTo>
                      <a:pt x="1530" y="228"/>
                    </a:lnTo>
                    <a:lnTo>
                      <a:pt x="1529" y="228"/>
                    </a:lnTo>
                    <a:lnTo>
                      <a:pt x="1529" y="229"/>
                    </a:lnTo>
                    <a:lnTo>
                      <a:pt x="1529" y="230"/>
                    </a:lnTo>
                    <a:lnTo>
                      <a:pt x="1529" y="231"/>
                    </a:lnTo>
                    <a:lnTo>
                      <a:pt x="1528" y="232"/>
                    </a:lnTo>
                    <a:lnTo>
                      <a:pt x="1526" y="232"/>
                    </a:lnTo>
                    <a:lnTo>
                      <a:pt x="1525" y="232"/>
                    </a:lnTo>
                    <a:lnTo>
                      <a:pt x="1522" y="231"/>
                    </a:lnTo>
                    <a:lnTo>
                      <a:pt x="1520" y="230"/>
                    </a:lnTo>
                    <a:lnTo>
                      <a:pt x="1519" y="230"/>
                    </a:lnTo>
                    <a:lnTo>
                      <a:pt x="1517" y="229"/>
                    </a:lnTo>
                    <a:lnTo>
                      <a:pt x="1515" y="228"/>
                    </a:lnTo>
                    <a:lnTo>
                      <a:pt x="1513" y="227"/>
                    </a:lnTo>
                    <a:lnTo>
                      <a:pt x="1510" y="226"/>
                    </a:lnTo>
                    <a:lnTo>
                      <a:pt x="1507" y="224"/>
                    </a:lnTo>
                    <a:lnTo>
                      <a:pt x="1503" y="221"/>
                    </a:lnTo>
                    <a:lnTo>
                      <a:pt x="1499" y="219"/>
                    </a:lnTo>
                    <a:lnTo>
                      <a:pt x="1499" y="219"/>
                    </a:lnTo>
                    <a:lnTo>
                      <a:pt x="1499" y="220"/>
                    </a:lnTo>
                    <a:lnTo>
                      <a:pt x="1499" y="221"/>
                    </a:lnTo>
                    <a:lnTo>
                      <a:pt x="1500" y="224"/>
                    </a:lnTo>
                    <a:lnTo>
                      <a:pt x="1500" y="225"/>
                    </a:lnTo>
                    <a:lnTo>
                      <a:pt x="1500" y="227"/>
                    </a:lnTo>
                    <a:lnTo>
                      <a:pt x="1500" y="228"/>
                    </a:lnTo>
                    <a:lnTo>
                      <a:pt x="1499" y="228"/>
                    </a:lnTo>
                    <a:lnTo>
                      <a:pt x="1498" y="228"/>
                    </a:lnTo>
                    <a:lnTo>
                      <a:pt x="1497" y="227"/>
                    </a:lnTo>
                    <a:lnTo>
                      <a:pt x="1495" y="227"/>
                    </a:lnTo>
                    <a:lnTo>
                      <a:pt x="1494" y="226"/>
                    </a:lnTo>
                    <a:lnTo>
                      <a:pt x="1492" y="225"/>
                    </a:lnTo>
                    <a:lnTo>
                      <a:pt x="1491" y="225"/>
                    </a:lnTo>
                    <a:lnTo>
                      <a:pt x="1489" y="225"/>
                    </a:lnTo>
                    <a:lnTo>
                      <a:pt x="1489" y="226"/>
                    </a:lnTo>
                    <a:lnTo>
                      <a:pt x="1491" y="228"/>
                    </a:lnTo>
                    <a:lnTo>
                      <a:pt x="1493" y="230"/>
                    </a:lnTo>
                    <a:lnTo>
                      <a:pt x="1495" y="231"/>
                    </a:lnTo>
                    <a:lnTo>
                      <a:pt x="1496" y="232"/>
                    </a:lnTo>
                    <a:lnTo>
                      <a:pt x="1498" y="233"/>
                    </a:lnTo>
                    <a:lnTo>
                      <a:pt x="1499" y="235"/>
                    </a:lnTo>
                    <a:lnTo>
                      <a:pt x="1502" y="233"/>
                    </a:lnTo>
                    <a:lnTo>
                      <a:pt x="1503" y="233"/>
                    </a:lnTo>
                    <a:lnTo>
                      <a:pt x="1504" y="232"/>
                    </a:lnTo>
                    <a:lnTo>
                      <a:pt x="1505" y="231"/>
                    </a:lnTo>
                    <a:lnTo>
                      <a:pt x="1506" y="232"/>
                    </a:lnTo>
                    <a:lnTo>
                      <a:pt x="1514" y="236"/>
                    </a:lnTo>
                    <a:lnTo>
                      <a:pt x="1524" y="240"/>
                    </a:lnTo>
                    <a:lnTo>
                      <a:pt x="1530" y="248"/>
                    </a:lnTo>
                    <a:lnTo>
                      <a:pt x="1531" y="251"/>
                    </a:lnTo>
                    <a:lnTo>
                      <a:pt x="1530" y="254"/>
                    </a:lnTo>
                    <a:lnTo>
                      <a:pt x="1528" y="257"/>
                    </a:lnTo>
                    <a:lnTo>
                      <a:pt x="1526" y="259"/>
                    </a:lnTo>
                    <a:lnTo>
                      <a:pt x="1522" y="259"/>
                    </a:lnTo>
                    <a:lnTo>
                      <a:pt x="1517" y="257"/>
                    </a:lnTo>
                    <a:lnTo>
                      <a:pt x="1511" y="253"/>
                    </a:lnTo>
                    <a:lnTo>
                      <a:pt x="1506" y="250"/>
                    </a:lnTo>
                    <a:lnTo>
                      <a:pt x="1502" y="248"/>
                    </a:lnTo>
                    <a:lnTo>
                      <a:pt x="1498" y="247"/>
                    </a:lnTo>
                    <a:lnTo>
                      <a:pt x="1496" y="246"/>
                    </a:lnTo>
                    <a:lnTo>
                      <a:pt x="1494" y="246"/>
                    </a:lnTo>
                    <a:lnTo>
                      <a:pt x="1493" y="247"/>
                    </a:lnTo>
                    <a:lnTo>
                      <a:pt x="1492" y="249"/>
                    </a:lnTo>
                    <a:lnTo>
                      <a:pt x="1492" y="250"/>
                    </a:lnTo>
                    <a:lnTo>
                      <a:pt x="1493" y="252"/>
                    </a:lnTo>
                    <a:lnTo>
                      <a:pt x="1493" y="254"/>
                    </a:lnTo>
                    <a:lnTo>
                      <a:pt x="1494" y="258"/>
                    </a:lnTo>
                    <a:lnTo>
                      <a:pt x="1495" y="261"/>
                    </a:lnTo>
                    <a:lnTo>
                      <a:pt x="1496" y="265"/>
                    </a:lnTo>
                    <a:lnTo>
                      <a:pt x="1498" y="268"/>
                    </a:lnTo>
                    <a:lnTo>
                      <a:pt x="1502" y="270"/>
                    </a:lnTo>
                    <a:lnTo>
                      <a:pt x="1504" y="270"/>
                    </a:lnTo>
                    <a:lnTo>
                      <a:pt x="1505" y="270"/>
                    </a:lnTo>
                    <a:lnTo>
                      <a:pt x="1505" y="269"/>
                    </a:lnTo>
                    <a:lnTo>
                      <a:pt x="1505" y="268"/>
                    </a:lnTo>
                    <a:lnTo>
                      <a:pt x="1505" y="265"/>
                    </a:lnTo>
                    <a:lnTo>
                      <a:pt x="1505" y="263"/>
                    </a:lnTo>
                    <a:lnTo>
                      <a:pt x="1504" y="261"/>
                    </a:lnTo>
                    <a:lnTo>
                      <a:pt x="1504" y="260"/>
                    </a:lnTo>
                    <a:lnTo>
                      <a:pt x="1504" y="259"/>
                    </a:lnTo>
                    <a:lnTo>
                      <a:pt x="1504" y="258"/>
                    </a:lnTo>
                    <a:lnTo>
                      <a:pt x="1506" y="258"/>
                    </a:lnTo>
                    <a:lnTo>
                      <a:pt x="1507" y="259"/>
                    </a:lnTo>
                    <a:lnTo>
                      <a:pt x="1509" y="260"/>
                    </a:lnTo>
                    <a:lnTo>
                      <a:pt x="1510" y="261"/>
                    </a:lnTo>
                    <a:lnTo>
                      <a:pt x="1514" y="261"/>
                    </a:lnTo>
                    <a:lnTo>
                      <a:pt x="1517" y="261"/>
                    </a:lnTo>
                    <a:lnTo>
                      <a:pt x="1521" y="261"/>
                    </a:lnTo>
                    <a:lnTo>
                      <a:pt x="1525" y="263"/>
                    </a:lnTo>
                    <a:lnTo>
                      <a:pt x="1526" y="265"/>
                    </a:lnTo>
                    <a:lnTo>
                      <a:pt x="1527" y="268"/>
                    </a:lnTo>
                    <a:lnTo>
                      <a:pt x="1527" y="270"/>
                    </a:lnTo>
                    <a:lnTo>
                      <a:pt x="1527" y="272"/>
                    </a:lnTo>
                    <a:lnTo>
                      <a:pt x="1526" y="274"/>
                    </a:lnTo>
                    <a:lnTo>
                      <a:pt x="1526" y="276"/>
                    </a:lnTo>
                    <a:lnTo>
                      <a:pt x="1526" y="276"/>
                    </a:lnTo>
                    <a:lnTo>
                      <a:pt x="1526" y="278"/>
                    </a:lnTo>
                    <a:lnTo>
                      <a:pt x="1526" y="279"/>
                    </a:lnTo>
                    <a:lnTo>
                      <a:pt x="1525" y="280"/>
                    </a:lnTo>
                    <a:lnTo>
                      <a:pt x="1525" y="281"/>
                    </a:lnTo>
                    <a:lnTo>
                      <a:pt x="1524" y="281"/>
                    </a:lnTo>
                    <a:lnTo>
                      <a:pt x="1520" y="280"/>
                    </a:lnTo>
                    <a:lnTo>
                      <a:pt x="1518" y="280"/>
                    </a:lnTo>
                    <a:lnTo>
                      <a:pt x="1516" y="279"/>
                    </a:lnTo>
                    <a:lnTo>
                      <a:pt x="1515" y="279"/>
                    </a:lnTo>
                    <a:lnTo>
                      <a:pt x="1513" y="278"/>
                    </a:lnTo>
                    <a:lnTo>
                      <a:pt x="1511" y="279"/>
                    </a:lnTo>
                    <a:lnTo>
                      <a:pt x="1511" y="280"/>
                    </a:lnTo>
                    <a:lnTo>
                      <a:pt x="1511" y="282"/>
                    </a:lnTo>
                    <a:lnTo>
                      <a:pt x="1511" y="284"/>
                    </a:lnTo>
                    <a:lnTo>
                      <a:pt x="1513" y="287"/>
                    </a:lnTo>
                    <a:lnTo>
                      <a:pt x="1513" y="290"/>
                    </a:lnTo>
                    <a:lnTo>
                      <a:pt x="1514" y="292"/>
                    </a:lnTo>
                    <a:lnTo>
                      <a:pt x="1515" y="294"/>
                    </a:lnTo>
                    <a:lnTo>
                      <a:pt x="1517" y="295"/>
                    </a:lnTo>
                    <a:lnTo>
                      <a:pt x="1519" y="297"/>
                    </a:lnTo>
                    <a:lnTo>
                      <a:pt x="1521" y="297"/>
                    </a:lnTo>
                    <a:lnTo>
                      <a:pt x="1521" y="300"/>
                    </a:lnTo>
                    <a:lnTo>
                      <a:pt x="1522" y="300"/>
                    </a:lnTo>
                    <a:lnTo>
                      <a:pt x="1524" y="301"/>
                    </a:lnTo>
                    <a:lnTo>
                      <a:pt x="1526" y="302"/>
                    </a:lnTo>
                    <a:lnTo>
                      <a:pt x="1527" y="304"/>
                    </a:lnTo>
                    <a:lnTo>
                      <a:pt x="1527" y="306"/>
                    </a:lnTo>
                    <a:lnTo>
                      <a:pt x="1526" y="307"/>
                    </a:lnTo>
                    <a:lnTo>
                      <a:pt x="1525" y="307"/>
                    </a:lnTo>
                    <a:lnTo>
                      <a:pt x="1524" y="308"/>
                    </a:lnTo>
                    <a:lnTo>
                      <a:pt x="1521" y="308"/>
                    </a:lnTo>
                    <a:lnTo>
                      <a:pt x="1520" y="309"/>
                    </a:lnTo>
                    <a:lnTo>
                      <a:pt x="1519" y="309"/>
                    </a:lnTo>
                    <a:lnTo>
                      <a:pt x="1519" y="311"/>
                    </a:lnTo>
                    <a:lnTo>
                      <a:pt x="1519" y="313"/>
                    </a:lnTo>
                    <a:lnTo>
                      <a:pt x="1520" y="315"/>
                    </a:lnTo>
                    <a:lnTo>
                      <a:pt x="1521" y="318"/>
                    </a:lnTo>
                    <a:lnTo>
                      <a:pt x="1521" y="319"/>
                    </a:lnTo>
                    <a:lnTo>
                      <a:pt x="1522" y="320"/>
                    </a:lnTo>
                    <a:lnTo>
                      <a:pt x="1522" y="322"/>
                    </a:lnTo>
                    <a:lnTo>
                      <a:pt x="1521" y="322"/>
                    </a:lnTo>
                    <a:lnTo>
                      <a:pt x="1519" y="322"/>
                    </a:lnTo>
                    <a:lnTo>
                      <a:pt x="1517" y="322"/>
                    </a:lnTo>
                    <a:lnTo>
                      <a:pt x="1515" y="323"/>
                    </a:lnTo>
                    <a:lnTo>
                      <a:pt x="1514" y="323"/>
                    </a:lnTo>
                    <a:lnTo>
                      <a:pt x="1513" y="325"/>
                    </a:lnTo>
                    <a:lnTo>
                      <a:pt x="1513" y="326"/>
                    </a:lnTo>
                    <a:lnTo>
                      <a:pt x="1513" y="328"/>
                    </a:lnTo>
                    <a:lnTo>
                      <a:pt x="1515" y="339"/>
                    </a:lnTo>
                    <a:lnTo>
                      <a:pt x="1519" y="350"/>
                    </a:lnTo>
                    <a:lnTo>
                      <a:pt x="1520" y="352"/>
                    </a:lnTo>
                    <a:lnTo>
                      <a:pt x="1520" y="355"/>
                    </a:lnTo>
                    <a:lnTo>
                      <a:pt x="1520" y="357"/>
                    </a:lnTo>
                    <a:lnTo>
                      <a:pt x="1519" y="359"/>
                    </a:lnTo>
                    <a:lnTo>
                      <a:pt x="1519" y="361"/>
                    </a:lnTo>
                    <a:lnTo>
                      <a:pt x="1519" y="363"/>
                    </a:lnTo>
                    <a:lnTo>
                      <a:pt x="1519" y="366"/>
                    </a:lnTo>
                    <a:lnTo>
                      <a:pt x="1520" y="368"/>
                    </a:lnTo>
                    <a:lnTo>
                      <a:pt x="1521" y="370"/>
                    </a:lnTo>
                    <a:lnTo>
                      <a:pt x="1522" y="372"/>
                    </a:lnTo>
                    <a:lnTo>
                      <a:pt x="1525" y="373"/>
                    </a:lnTo>
                    <a:lnTo>
                      <a:pt x="1526" y="372"/>
                    </a:lnTo>
                    <a:lnTo>
                      <a:pt x="1526" y="372"/>
                    </a:lnTo>
                    <a:lnTo>
                      <a:pt x="1527" y="370"/>
                    </a:lnTo>
                    <a:lnTo>
                      <a:pt x="1527" y="369"/>
                    </a:lnTo>
                    <a:lnTo>
                      <a:pt x="1528" y="368"/>
                    </a:lnTo>
                    <a:lnTo>
                      <a:pt x="1528" y="367"/>
                    </a:lnTo>
                    <a:lnTo>
                      <a:pt x="1529" y="366"/>
                    </a:lnTo>
                    <a:lnTo>
                      <a:pt x="1530" y="366"/>
                    </a:lnTo>
                    <a:lnTo>
                      <a:pt x="1532" y="368"/>
                    </a:lnTo>
                    <a:lnTo>
                      <a:pt x="1535" y="370"/>
                    </a:lnTo>
                    <a:lnTo>
                      <a:pt x="1537" y="372"/>
                    </a:lnTo>
                    <a:lnTo>
                      <a:pt x="1539" y="374"/>
                    </a:lnTo>
                    <a:lnTo>
                      <a:pt x="1541" y="377"/>
                    </a:lnTo>
                    <a:lnTo>
                      <a:pt x="1548" y="383"/>
                    </a:lnTo>
                    <a:lnTo>
                      <a:pt x="1549" y="385"/>
                    </a:lnTo>
                    <a:lnTo>
                      <a:pt x="1549" y="386"/>
                    </a:lnTo>
                    <a:lnTo>
                      <a:pt x="1549" y="388"/>
                    </a:lnTo>
                    <a:lnTo>
                      <a:pt x="1548" y="388"/>
                    </a:lnTo>
                    <a:lnTo>
                      <a:pt x="1547" y="388"/>
                    </a:lnTo>
                    <a:lnTo>
                      <a:pt x="1544" y="388"/>
                    </a:lnTo>
                    <a:lnTo>
                      <a:pt x="1542" y="388"/>
                    </a:lnTo>
                    <a:lnTo>
                      <a:pt x="1541" y="388"/>
                    </a:lnTo>
                    <a:lnTo>
                      <a:pt x="1539" y="389"/>
                    </a:lnTo>
                    <a:lnTo>
                      <a:pt x="1538" y="389"/>
                    </a:lnTo>
                    <a:lnTo>
                      <a:pt x="1537" y="390"/>
                    </a:lnTo>
                    <a:lnTo>
                      <a:pt x="1537" y="391"/>
                    </a:lnTo>
                    <a:lnTo>
                      <a:pt x="1539" y="393"/>
                    </a:lnTo>
                    <a:lnTo>
                      <a:pt x="1541" y="395"/>
                    </a:lnTo>
                    <a:lnTo>
                      <a:pt x="1543" y="396"/>
                    </a:lnTo>
                    <a:lnTo>
                      <a:pt x="1546" y="399"/>
                    </a:lnTo>
                    <a:lnTo>
                      <a:pt x="1548" y="399"/>
                    </a:lnTo>
                    <a:lnTo>
                      <a:pt x="1550" y="400"/>
                    </a:lnTo>
                    <a:lnTo>
                      <a:pt x="1552" y="401"/>
                    </a:lnTo>
                    <a:lnTo>
                      <a:pt x="1553" y="402"/>
                    </a:lnTo>
                    <a:lnTo>
                      <a:pt x="1554" y="404"/>
                    </a:lnTo>
                    <a:lnTo>
                      <a:pt x="1555" y="405"/>
                    </a:lnTo>
                    <a:lnTo>
                      <a:pt x="1557" y="405"/>
                    </a:lnTo>
                    <a:lnTo>
                      <a:pt x="1558" y="406"/>
                    </a:lnTo>
                    <a:lnTo>
                      <a:pt x="1560" y="406"/>
                    </a:lnTo>
                    <a:lnTo>
                      <a:pt x="1561" y="406"/>
                    </a:lnTo>
                    <a:lnTo>
                      <a:pt x="1562" y="406"/>
                    </a:lnTo>
                    <a:lnTo>
                      <a:pt x="1563" y="407"/>
                    </a:lnTo>
                    <a:lnTo>
                      <a:pt x="1565" y="410"/>
                    </a:lnTo>
                    <a:lnTo>
                      <a:pt x="1568" y="412"/>
                    </a:lnTo>
                    <a:lnTo>
                      <a:pt x="1570" y="414"/>
                    </a:lnTo>
                    <a:lnTo>
                      <a:pt x="1572" y="417"/>
                    </a:lnTo>
                    <a:lnTo>
                      <a:pt x="1574" y="421"/>
                    </a:lnTo>
                    <a:lnTo>
                      <a:pt x="1574" y="422"/>
                    </a:lnTo>
                    <a:lnTo>
                      <a:pt x="1574" y="425"/>
                    </a:lnTo>
                    <a:lnTo>
                      <a:pt x="1575" y="427"/>
                    </a:lnTo>
                    <a:lnTo>
                      <a:pt x="1575" y="429"/>
                    </a:lnTo>
                    <a:lnTo>
                      <a:pt x="1574" y="432"/>
                    </a:lnTo>
                    <a:lnTo>
                      <a:pt x="1573" y="432"/>
                    </a:lnTo>
                    <a:lnTo>
                      <a:pt x="1572" y="432"/>
                    </a:lnTo>
                    <a:lnTo>
                      <a:pt x="1571" y="432"/>
                    </a:lnTo>
                    <a:lnTo>
                      <a:pt x="1569" y="431"/>
                    </a:lnTo>
                    <a:lnTo>
                      <a:pt x="1568" y="429"/>
                    </a:lnTo>
                    <a:lnTo>
                      <a:pt x="1564" y="428"/>
                    </a:lnTo>
                    <a:lnTo>
                      <a:pt x="1561" y="427"/>
                    </a:lnTo>
                    <a:lnTo>
                      <a:pt x="1559" y="425"/>
                    </a:lnTo>
                    <a:lnTo>
                      <a:pt x="1557" y="423"/>
                    </a:lnTo>
                    <a:lnTo>
                      <a:pt x="1553" y="420"/>
                    </a:lnTo>
                    <a:lnTo>
                      <a:pt x="1550" y="418"/>
                    </a:lnTo>
                    <a:lnTo>
                      <a:pt x="1548" y="418"/>
                    </a:lnTo>
                    <a:lnTo>
                      <a:pt x="1546" y="418"/>
                    </a:lnTo>
                    <a:lnTo>
                      <a:pt x="1544" y="420"/>
                    </a:lnTo>
                    <a:lnTo>
                      <a:pt x="1546" y="422"/>
                    </a:lnTo>
                    <a:lnTo>
                      <a:pt x="1546" y="424"/>
                    </a:lnTo>
                    <a:lnTo>
                      <a:pt x="1546" y="425"/>
                    </a:lnTo>
                    <a:lnTo>
                      <a:pt x="1546" y="427"/>
                    </a:lnTo>
                    <a:lnTo>
                      <a:pt x="1543" y="428"/>
                    </a:lnTo>
                    <a:lnTo>
                      <a:pt x="1542" y="427"/>
                    </a:lnTo>
                    <a:lnTo>
                      <a:pt x="1540" y="426"/>
                    </a:lnTo>
                    <a:lnTo>
                      <a:pt x="1537" y="425"/>
                    </a:lnTo>
                    <a:lnTo>
                      <a:pt x="1535" y="423"/>
                    </a:lnTo>
                    <a:lnTo>
                      <a:pt x="1532" y="423"/>
                    </a:lnTo>
                    <a:lnTo>
                      <a:pt x="1531" y="423"/>
                    </a:lnTo>
                    <a:lnTo>
                      <a:pt x="1531" y="424"/>
                    </a:lnTo>
                    <a:lnTo>
                      <a:pt x="1531" y="425"/>
                    </a:lnTo>
                    <a:lnTo>
                      <a:pt x="1532" y="427"/>
                    </a:lnTo>
                    <a:lnTo>
                      <a:pt x="1535" y="429"/>
                    </a:lnTo>
                    <a:lnTo>
                      <a:pt x="1535" y="432"/>
                    </a:lnTo>
                    <a:lnTo>
                      <a:pt x="1536" y="433"/>
                    </a:lnTo>
                    <a:lnTo>
                      <a:pt x="1537" y="434"/>
                    </a:lnTo>
                    <a:lnTo>
                      <a:pt x="1539" y="435"/>
                    </a:lnTo>
                    <a:lnTo>
                      <a:pt x="1541" y="436"/>
                    </a:lnTo>
                    <a:lnTo>
                      <a:pt x="1542" y="436"/>
                    </a:lnTo>
                    <a:lnTo>
                      <a:pt x="1543" y="437"/>
                    </a:lnTo>
                    <a:lnTo>
                      <a:pt x="1544" y="438"/>
                    </a:lnTo>
                    <a:lnTo>
                      <a:pt x="1544" y="439"/>
                    </a:lnTo>
                    <a:lnTo>
                      <a:pt x="1544" y="442"/>
                    </a:lnTo>
                    <a:lnTo>
                      <a:pt x="1546" y="443"/>
                    </a:lnTo>
                    <a:lnTo>
                      <a:pt x="1548" y="445"/>
                    </a:lnTo>
                    <a:lnTo>
                      <a:pt x="1551" y="446"/>
                    </a:lnTo>
                    <a:lnTo>
                      <a:pt x="1553" y="447"/>
                    </a:lnTo>
                    <a:lnTo>
                      <a:pt x="1555" y="447"/>
                    </a:lnTo>
                    <a:lnTo>
                      <a:pt x="1558" y="448"/>
                    </a:lnTo>
                    <a:lnTo>
                      <a:pt x="1560" y="450"/>
                    </a:lnTo>
                    <a:lnTo>
                      <a:pt x="1563" y="454"/>
                    </a:lnTo>
                    <a:lnTo>
                      <a:pt x="1564" y="456"/>
                    </a:lnTo>
                    <a:lnTo>
                      <a:pt x="1565" y="457"/>
                    </a:lnTo>
                    <a:lnTo>
                      <a:pt x="1567" y="459"/>
                    </a:lnTo>
                    <a:lnTo>
                      <a:pt x="1568" y="460"/>
                    </a:lnTo>
                    <a:lnTo>
                      <a:pt x="1568" y="461"/>
                    </a:lnTo>
                    <a:lnTo>
                      <a:pt x="1568" y="462"/>
                    </a:lnTo>
                    <a:lnTo>
                      <a:pt x="1567" y="464"/>
                    </a:lnTo>
                    <a:lnTo>
                      <a:pt x="1565" y="464"/>
                    </a:lnTo>
                    <a:lnTo>
                      <a:pt x="1564" y="465"/>
                    </a:lnTo>
                    <a:lnTo>
                      <a:pt x="1563" y="466"/>
                    </a:lnTo>
                    <a:lnTo>
                      <a:pt x="1563" y="466"/>
                    </a:lnTo>
                    <a:lnTo>
                      <a:pt x="1563" y="468"/>
                    </a:lnTo>
                    <a:lnTo>
                      <a:pt x="1565" y="470"/>
                    </a:lnTo>
                    <a:lnTo>
                      <a:pt x="1568" y="471"/>
                    </a:lnTo>
                    <a:lnTo>
                      <a:pt x="1571" y="473"/>
                    </a:lnTo>
                    <a:lnTo>
                      <a:pt x="1573" y="476"/>
                    </a:lnTo>
                    <a:lnTo>
                      <a:pt x="1576" y="477"/>
                    </a:lnTo>
                    <a:lnTo>
                      <a:pt x="1578" y="482"/>
                    </a:lnTo>
                    <a:lnTo>
                      <a:pt x="1579" y="487"/>
                    </a:lnTo>
                    <a:lnTo>
                      <a:pt x="1580" y="491"/>
                    </a:lnTo>
                    <a:lnTo>
                      <a:pt x="1581" y="494"/>
                    </a:lnTo>
                    <a:lnTo>
                      <a:pt x="1581" y="497"/>
                    </a:lnTo>
                    <a:lnTo>
                      <a:pt x="1581" y="499"/>
                    </a:lnTo>
                    <a:lnTo>
                      <a:pt x="1582" y="500"/>
                    </a:lnTo>
                    <a:lnTo>
                      <a:pt x="1582" y="502"/>
                    </a:lnTo>
                    <a:lnTo>
                      <a:pt x="1582" y="504"/>
                    </a:lnTo>
                    <a:lnTo>
                      <a:pt x="1582" y="505"/>
                    </a:lnTo>
                    <a:lnTo>
                      <a:pt x="1581" y="505"/>
                    </a:lnTo>
                    <a:lnTo>
                      <a:pt x="1580" y="505"/>
                    </a:lnTo>
                    <a:lnTo>
                      <a:pt x="1579" y="503"/>
                    </a:lnTo>
                    <a:lnTo>
                      <a:pt x="1574" y="501"/>
                    </a:lnTo>
                    <a:lnTo>
                      <a:pt x="1570" y="497"/>
                    </a:lnTo>
                    <a:lnTo>
                      <a:pt x="1568" y="492"/>
                    </a:lnTo>
                    <a:lnTo>
                      <a:pt x="1567" y="492"/>
                    </a:lnTo>
                    <a:lnTo>
                      <a:pt x="1564" y="492"/>
                    </a:lnTo>
                    <a:lnTo>
                      <a:pt x="1563" y="491"/>
                    </a:lnTo>
                    <a:lnTo>
                      <a:pt x="1562" y="491"/>
                    </a:lnTo>
                    <a:lnTo>
                      <a:pt x="1561" y="491"/>
                    </a:lnTo>
                    <a:lnTo>
                      <a:pt x="1560" y="491"/>
                    </a:lnTo>
                    <a:lnTo>
                      <a:pt x="1561" y="492"/>
                    </a:lnTo>
                    <a:lnTo>
                      <a:pt x="1564" y="495"/>
                    </a:lnTo>
                    <a:lnTo>
                      <a:pt x="1568" y="498"/>
                    </a:lnTo>
                    <a:lnTo>
                      <a:pt x="1571" y="500"/>
                    </a:lnTo>
                    <a:lnTo>
                      <a:pt x="1573" y="502"/>
                    </a:lnTo>
                    <a:lnTo>
                      <a:pt x="1576" y="505"/>
                    </a:lnTo>
                    <a:lnTo>
                      <a:pt x="1578" y="508"/>
                    </a:lnTo>
                    <a:lnTo>
                      <a:pt x="1578" y="509"/>
                    </a:lnTo>
                    <a:lnTo>
                      <a:pt x="1578" y="509"/>
                    </a:lnTo>
                    <a:lnTo>
                      <a:pt x="1576" y="510"/>
                    </a:lnTo>
                    <a:lnTo>
                      <a:pt x="1575" y="510"/>
                    </a:lnTo>
                    <a:lnTo>
                      <a:pt x="1574" y="509"/>
                    </a:lnTo>
                    <a:lnTo>
                      <a:pt x="1572" y="509"/>
                    </a:lnTo>
                    <a:lnTo>
                      <a:pt x="1571" y="509"/>
                    </a:lnTo>
                    <a:lnTo>
                      <a:pt x="1571" y="510"/>
                    </a:lnTo>
                    <a:lnTo>
                      <a:pt x="1570" y="511"/>
                    </a:lnTo>
                    <a:lnTo>
                      <a:pt x="1571" y="512"/>
                    </a:lnTo>
                    <a:lnTo>
                      <a:pt x="1572" y="514"/>
                    </a:lnTo>
                    <a:lnTo>
                      <a:pt x="1573" y="518"/>
                    </a:lnTo>
                    <a:lnTo>
                      <a:pt x="1574" y="520"/>
                    </a:lnTo>
                    <a:lnTo>
                      <a:pt x="1575" y="522"/>
                    </a:lnTo>
                    <a:lnTo>
                      <a:pt x="1576" y="525"/>
                    </a:lnTo>
                    <a:lnTo>
                      <a:pt x="1579" y="527"/>
                    </a:lnTo>
                    <a:lnTo>
                      <a:pt x="1581" y="529"/>
                    </a:lnTo>
                    <a:lnTo>
                      <a:pt x="1583" y="530"/>
                    </a:lnTo>
                    <a:lnTo>
                      <a:pt x="1584" y="530"/>
                    </a:lnTo>
                    <a:lnTo>
                      <a:pt x="1587" y="530"/>
                    </a:lnTo>
                    <a:lnTo>
                      <a:pt x="1589" y="531"/>
                    </a:lnTo>
                    <a:lnTo>
                      <a:pt x="1591" y="533"/>
                    </a:lnTo>
                    <a:lnTo>
                      <a:pt x="1593" y="536"/>
                    </a:lnTo>
                    <a:lnTo>
                      <a:pt x="1595" y="540"/>
                    </a:lnTo>
                    <a:lnTo>
                      <a:pt x="1596" y="542"/>
                    </a:lnTo>
                    <a:lnTo>
                      <a:pt x="1596" y="545"/>
                    </a:lnTo>
                    <a:lnTo>
                      <a:pt x="1596" y="547"/>
                    </a:lnTo>
                    <a:lnTo>
                      <a:pt x="1595" y="548"/>
                    </a:lnTo>
                    <a:lnTo>
                      <a:pt x="1594" y="548"/>
                    </a:lnTo>
                    <a:lnTo>
                      <a:pt x="1592" y="547"/>
                    </a:lnTo>
                    <a:lnTo>
                      <a:pt x="1590" y="546"/>
                    </a:lnTo>
                    <a:lnTo>
                      <a:pt x="1587" y="545"/>
                    </a:lnTo>
                    <a:lnTo>
                      <a:pt x="1583" y="543"/>
                    </a:lnTo>
                    <a:lnTo>
                      <a:pt x="1580" y="541"/>
                    </a:lnTo>
                    <a:lnTo>
                      <a:pt x="1576" y="538"/>
                    </a:lnTo>
                    <a:lnTo>
                      <a:pt x="1573" y="538"/>
                    </a:lnTo>
                    <a:lnTo>
                      <a:pt x="1571" y="538"/>
                    </a:lnTo>
                    <a:lnTo>
                      <a:pt x="1569" y="540"/>
                    </a:lnTo>
                    <a:lnTo>
                      <a:pt x="1568" y="541"/>
                    </a:lnTo>
                    <a:lnTo>
                      <a:pt x="1568" y="543"/>
                    </a:lnTo>
                    <a:lnTo>
                      <a:pt x="1568" y="545"/>
                    </a:lnTo>
                    <a:lnTo>
                      <a:pt x="1568" y="547"/>
                    </a:lnTo>
                    <a:lnTo>
                      <a:pt x="1569" y="549"/>
                    </a:lnTo>
                    <a:lnTo>
                      <a:pt x="1570" y="552"/>
                    </a:lnTo>
                    <a:lnTo>
                      <a:pt x="1571" y="554"/>
                    </a:lnTo>
                    <a:lnTo>
                      <a:pt x="1574" y="556"/>
                    </a:lnTo>
                    <a:lnTo>
                      <a:pt x="1576" y="557"/>
                    </a:lnTo>
                    <a:lnTo>
                      <a:pt x="1580" y="559"/>
                    </a:lnTo>
                    <a:lnTo>
                      <a:pt x="1583" y="560"/>
                    </a:lnTo>
                    <a:lnTo>
                      <a:pt x="1584" y="563"/>
                    </a:lnTo>
                    <a:lnTo>
                      <a:pt x="1587" y="565"/>
                    </a:lnTo>
                    <a:lnTo>
                      <a:pt x="1590" y="567"/>
                    </a:lnTo>
                    <a:lnTo>
                      <a:pt x="1592" y="569"/>
                    </a:lnTo>
                    <a:lnTo>
                      <a:pt x="1592" y="573"/>
                    </a:lnTo>
                    <a:lnTo>
                      <a:pt x="1592" y="575"/>
                    </a:lnTo>
                    <a:lnTo>
                      <a:pt x="1592" y="577"/>
                    </a:lnTo>
                    <a:lnTo>
                      <a:pt x="1591" y="579"/>
                    </a:lnTo>
                    <a:lnTo>
                      <a:pt x="1590" y="580"/>
                    </a:lnTo>
                    <a:lnTo>
                      <a:pt x="1587" y="582"/>
                    </a:lnTo>
                    <a:lnTo>
                      <a:pt x="1587" y="585"/>
                    </a:lnTo>
                    <a:lnTo>
                      <a:pt x="1586" y="587"/>
                    </a:lnTo>
                    <a:lnTo>
                      <a:pt x="1585" y="589"/>
                    </a:lnTo>
                    <a:lnTo>
                      <a:pt x="1579" y="589"/>
                    </a:lnTo>
                    <a:lnTo>
                      <a:pt x="1571" y="586"/>
                    </a:lnTo>
                    <a:lnTo>
                      <a:pt x="1563" y="580"/>
                    </a:lnTo>
                    <a:lnTo>
                      <a:pt x="1558" y="576"/>
                    </a:lnTo>
                    <a:lnTo>
                      <a:pt x="1552" y="571"/>
                    </a:lnTo>
                    <a:lnTo>
                      <a:pt x="1548" y="567"/>
                    </a:lnTo>
                    <a:lnTo>
                      <a:pt x="1546" y="566"/>
                    </a:lnTo>
                    <a:lnTo>
                      <a:pt x="1546" y="566"/>
                    </a:lnTo>
                    <a:lnTo>
                      <a:pt x="1544" y="567"/>
                    </a:lnTo>
                    <a:lnTo>
                      <a:pt x="1544" y="568"/>
                    </a:lnTo>
                    <a:lnTo>
                      <a:pt x="1546" y="569"/>
                    </a:lnTo>
                    <a:lnTo>
                      <a:pt x="1546" y="570"/>
                    </a:lnTo>
                    <a:lnTo>
                      <a:pt x="1546" y="571"/>
                    </a:lnTo>
                    <a:lnTo>
                      <a:pt x="1544" y="573"/>
                    </a:lnTo>
                    <a:lnTo>
                      <a:pt x="1542" y="573"/>
                    </a:lnTo>
                    <a:lnTo>
                      <a:pt x="1540" y="574"/>
                    </a:lnTo>
                    <a:lnTo>
                      <a:pt x="1539" y="575"/>
                    </a:lnTo>
                    <a:lnTo>
                      <a:pt x="1537" y="576"/>
                    </a:lnTo>
                    <a:lnTo>
                      <a:pt x="1537" y="578"/>
                    </a:lnTo>
                    <a:lnTo>
                      <a:pt x="1537" y="580"/>
                    </a:lnTo>
                    <a:lnTo>
                      <a:pt x="1538" y="581"/>
                    </a:lnTo>
                    <a:lnTo>
                      <a:pt x="1540" y="584"/>
                    </a:lnTo>
                    <a:lnTo>
                      <a:pt x="1542" y="585"/>
                    </a:lnTo>
                    <a:lnTo>
                      <a:pt x="1546" y="587"/>
                    </a:lnTo>
                    <a:lnTo>
                      <a:pt x="1548" y="588"/>
                    </a:lnTo>
                    <a:lnTo>
                      <a:pt x="1549" y="590"/>
                    </a:lnTo>
                    <a:lnTo>
                      <a:pt x="1549" y="591"/>
                    </a:lnTo>
                    <a:lnTo>
                      <a:pt x="1548" y="593"/>
                    </a:lnTo>
                    <a:lnTo>
                      <a:pt x="1547" y="595"/>
                    </a:lnTo>
                    <a:lnTo>
                      <a:pt x="1546" y="595"/>
                    </a:lnTo>
                    <a:lnTo>
                      <a:pt x="1544" y="596"/>
                    </a:lnTo>
                    <a:lnTo>
                      <a:pt x="1542" y="596"/>
                    </a:lnTo>
                    <a:lnTo>
                      <a:pt x="1541" y="596"/>
                    </a:lnTo>
                    <a:lnTo>
                      <a:pt x="1540" y="597"/>
                    </a:lnTo>
                    <a:lnTo>
                      <a:pt x="1540" y="599"/>
                    </a:lnTo>
                    <a:lnTo>
                      <a:pt x="1540" y="600"/>
                    </a:lnTo>
                    <a:lnTo>
                      <a:pt x="1541" y="601"/>
                    </a:lnTo>
                    <a:lnTo>
                      <a:pt x="1543" y="602"/>
                    </a:lnTo>
                    <a:lnTo>
                      <a:pt x="1546" y="603"/>
                    </a:lnTo>
                    <a:lnTo>
                      <a:pt x="1549" y="603"/>
                    </a:lnTo>
                    <a:lnTo>
                      <a:pt x="1551" y="604"/>
                    </a:lnTo>
                    <a:lnTo>
                      <a:pt x="1552" y="607"/>
                    </a:lnTo>
                    <a:lnTo>
                      <a:pt x="1554" y="609"/>
                    </a:lnTo>
                    <a:lnTo>
                      <a:pt x="1554" y="613"/>
                    </a:lnTo>
                    <a:lnTo>
                      <a:pt x="1557" y="617"/>
                    </a:lnTo>
                    <a:lnTo>
                      <a:pt x="1559" y="620"/>
                    </a:lnTo>
                    <a:lnTo>
                      <a:pt x="1562" y="622"/>
                    </a:lnTo>
                    <a:lnTo>
                      <a:pt x="1564" y="625"/>
                    </a:lnTo>
                    <a:lnTo>
                      <a:pt x="1568" y="628"/>
                    </a:lnTo>
                    <a:lnTo>
                      <a:pt x="1570" y="631"/>
                    </a:lnTo>
                    <a:lnTo>
                      <a:pt x="1583" y="643"/>
                    </a:lnTo>
                    <a:lnTo>
                      <a:pt x="1591" y="651"/>
                    </a:lnTo>
                    <a:lnTo>
                      <a:pt x="1596" y="660"/>
                    </a:lnTo>
                    <a:lnTo>
                      <a:pt x="1601" y="669"/>
                    </a:lnTo>
                    <a:lnTo>
                      <a:pt x="1601" y="673"/>
                    </a:lnTo>
                    <a:lnTo>
                      <a:pt x="1603" y="676"/>
                    </a:lnTo>
                    <a:lnTo>
                      <a:pt x="1604" y="679"/>
                    </a:lnTo>
                    <a:lnTo>
                      <a:pt x="1605" y="683"/>
                    </a:lnTo>
                    <a:lnTo>
                      <a:pt x="1606" y="687"/>
                    </a:lnTo>
                    <a:lnTo>
                      <a:pt x="1606" y="691"/>
                    </a:lnTo>
                    <a:lnTo>
                      <a:pt x="1607" y="695"/>
                    </a:lnTo>
                    <a:lnTo>
                      <a:pt x="1607" y="698"/>
                    </a:lnTo>
                    <a:lnTo>
                      <a:pt x="1612" y="718"/>
                    </a:lnTo>
                    <a:lnTo>
                      <a:pt x="1611" y="718"/>
                    </a:lnTo>
                    <a:lnTo>
                      <a:pt x="1611" y="718"/>
                    </a:lnTo>
                    <a:lnTo>
                      <a:pt x="1609" y="717"/>
                    </a:lnTo>
                    <a:lnTo>
                      <a:pt x="1608" y="715"/>
                    </a:lnTo>
                    <a:lnTo>
                      <a:pt x="1607" y="713"/>
                    </a:lnTo>
                    <a:lnTo>
                      <a:pt x="1607" y="713"/>
                    </a:lnTo>
                    <a:lnTo>
                      <a:pt x="1605" y="711"/>
                    </a:lnTo>
                    <a:lnTo>
                      <a:pt x="1604" y="709"/>
                    </a:lnTo>
                    <a:lnTo>
                      <a:pt x="1603" y="707"/>
                    </a:lnTo>
                    <a:lnTo>
                      <a:pt x="1601" y="705"/>
                    </a:lnTo>
                    <a:lnTo>
                      <a:pt x="1600" y="704"/>
                    </a:lnTo>
                    <a:lnTo>
                      <a:pt x="1598" y="704"/>
                    </a:lnTo>
                    <a:lnTo>
                      <a:pt x="1598" y="705"/>
                    </a:lnTo>
                    <a:lnTo>
                      <a:pt x="1597" y="706"/>
                    </a:lnTo>
                    <a:lnTo>
                      <a:pt x="1596" y="707"/>
                    </a:lnTo>
                    <a:lnTo>
                      <a:pt x="1596" y="709"/>
                    </a:lnTo>
                    <a:lnTo>
                      <a:pt x="1594" y="711"/>
                    </a:lnTo>
                    <a:lnTo>
                      <a:pt x="1590" y="709"/>
                    </a:lnTo>
                    <a:lnTo>
                      <a:pt x="1585" y="704"/>
                    </a:lnTo>
                    <a:lnTo>
                      <a:pt x="1580" y="698"/>
                    </a:lnTo>
                    <a:lnTo>
                      <a:pt x="1576" y="691"/>
                    </a:lnTo>
                    <a:lnTo>
                      <a:pt x="1574" y="687"/>
                    </a:lnTo>
                    <a:lnTo>
                      <a:pt x="1572" y="680"/>
                    </a:lnTo>
                    <a:lnTo>
                      <a:pt x="1570" y="674"/>
                    </a:lnTo>
                    <a:lnTo>
                      <a:pt x="1567" y="666"/>
                    </a:lnTo>
                    <a:lnTo>
                      <a:pt x="1561" y="661"/>
                    </a:lnTo>
                    <a:lnTo>
                      <a:pt x="1558" y="660"/>
                    </a:lnTo>
                    <a:lnTo>
                      <a:pt x="1554" y="658"/>
                    </a:lnTo>
                    <a:lnTo>
                      <a:pt x="1551" y="657"/>
                    </a:lnTo>
                    <a:lnTo>
                      <a:pt x="1548" y="654"/>
                    </a:lnTo>
                    <a:lnTo>
                      <a:pt x="1546" y="653"/>
                    </a:lnTo>
                    <a:lnTo>
                      <a:pt x="1543" y="650"/>
                    </a:lnTo>
                    <a:lnTo>
                      <a:pt x="1540" y="646"/>
                    </a:lnTo>
                    <a:lnTo>
                      <a:pt x="1537" y="643"/>
                    </a:lnTo>
                    <a:lnTo>
                      <a:pt x="1532" y="640"/>
                    </a:lnTo>
                    <a:lnTo>
                      <a:pt x="1528" y="638"/>
                    </a:lnTo>
                    <a:lnTo>
                      <a:pt x="1524" y="635"/>
                    </a:lnTo>
                    <a:lnTo>
                      <a:pt x="1521" y="633"/>
                    </a:lnTo>
                    <a:lnTo>
                      <a:pt x="1520" y="633"/>
                    </a:lnTo>
                    <a:lnTo>
                      <a:pt x="1519" y="632"/>
                    </a:lnTo>
                    <a:lnTo>
                      <a:pt x="1519" y="631"/>
                    </a:lnTo>
                    <a:lnTo>
                      <a:pt x="1517" y="629"/>
                    </a:lnTo>
                    <a:lnTo>
                      <a:pt x="1515" y="626"/>
                    </a:lnTo>
                    <a:lnTo>
                      <a:pt x="1513" y="626"/>
                    </a:lnTo>
                    <a:lnTo>
                      <a:pt x="1514" y="630"/>
                    </a:lnTo>
                    <a:lnTo>
                      <a:pt x="1516" y="633"/>
                    </a:lnTo>
                    <a:lnTo>
                      <a:pt x="1519" y="636"/>
                    </a:lnTo>
                    <a:lnTo>
                      <a:pt x="1524" y="640"/>
                    </a:lnTo>
                    <a:lnTo>
                      <a:pt x="1528" y="641"/>
                    </a:lnTo>
                    <a:lnTo>
                      <a:pt x="1531" y="645"/>
                    </a:lnTo>
                    <a:lnTo>
                      <a:pt x="1535" y="649"/>
                    </a:lnTo>
                    <a:lnTo>
                      <a:pt x="1539" y="653"/>
                    </a:lnTo>
                    <a:lnTo>
                      <a:pt x="1543" y="656"/>
                    </a:lnTo>
                    <a:lnTo>
                      <a:pt x="1546" y="657"/>
                    </a:lnTo>
                    <a:lnTo>
                      <a:pt x="1549" y="658"/>
                    </a:lnTo>
                    <a:lnTo>
                      <a:pt x="1552" y="661"/>
                    </a:lnTo>
                    <a:lnTo>
                      <a:pt x="1555" y="662"/>
                    </a:lnTo>
                    <a:lnTo>
                      <a:pt x="1559" y="665"/>
                    </a:lnTo>
                    <a:lnTo>
                      <a:pt x="1560" y="668"/>
                    </a:lnTo>
                    <a:lnTo>
                      <a:pt x="1560" y="669"/>
                    </a:lnTo>
                    <a:lnTo>
                      <a:pt x="1559" y="671"/>
                    </a:lnTo>
                    <a:lnTo>
                      <a:pt x="1558" y="672"/>
                    </a:lnTo>
                    <a:lnTo>
                      <a:pt x="1557" y="673"/>
                    </a:lnTo>
                    <a:lnTo>
                      <a:pt x="1555" y="673"/>
                    </a:lnTo>
                    <a:lnTo>
                      <a:pt x="1554" y="674"/>
                    </a:lnTo>
                    <a:lnTo>
                      <a:pt x="1553" y="675"/>
                    </a:lnTo>
                    <a:lnTo>
                      <a:pt x="1552" y="676"/>
                    </a:lnTo>
                    <a:lnTo>
                      <a:pt x="1550" y="676"/>
                    </a:lnTo>
                    <a:lnTo>
                      <a:pt x="1548" y="676"/>
                    </a:lnTo>
                    <a:lnTo>
                      <a:pt x="1547" y="676"/>
                    </a:lnTo>
                    <a:lnTo>
                      <a:pt x="1546" y="675"/>
                    </a:lnTo>
                    <a:lnTo>
                      <a:pt x="1544" y="674"/>
                    </a:lnTo>
                    <a:lnTo>
                      <a:pt x="1542" y="674"/>
                    </a:lnTo>
                    <a:lnTo>
                      <a:pt x="1541" y="674"/>
                    </a:lnTo>
                    <a:lnTo>
                      <a:pt x="1541" y="674"/>
                    </a:lnTo>
                    <a:lnTo>
                      <a:pt x="1543" y="677"/>
                    </a:lnTo>
                    <a:lnTo>
                      <a:pt x="1546" y="679"/>
                    </a:lnTo>
                    <a:lnTo>
                      <a:pt x="1549" y="682"/>
                    </a:lnTo>
                    <a:lnTo>
                      <a:pt x="1552" y="684"/>
                    </a:lnTo>
                    <a:lnTo>
                      <a:pt x="1554" y="685"/>
                    </a:lnTo>
                    <a:lnTo>
                      <a:pt x="1557" y="687"/>
                    </a:lnTo>
                    <a:lnTo>
                      <a:pt x="1558" y="688"/>
                    </a:lnTo>
                    <a:lnTo>
                      <a:pt x="1558" y="689"/>
                    </a:lnTo>
                    <a:lnTo>
                      <a:pt x="1557" y="689"/>
                    </a:lnTo>
                    <a:lnTo>
                      <a:pt x="1555" y="689"/>
                    </a:lnTo>
                    <a:lnTo>
                      <a:pt x="1554" y="689"/>
                    </a:lnTo>
                    <a:lnTo>
                      <a:pt x="1552" y="689"/>
                    </a:lnTo>
                    <a:lnTo>
                      <a:pt x="1551" y="689"/>
                    </a:lnTo>
                    <a:lnTo>
                      <a:pt x="1550" y="689"/>
                    </a:lnTo>
                    <a:lnTo>
                      <a:pt x="1549" y="690"/>
                    </a:lnTo>
                    <a:lnTo>
                      <a:pt x="1550" y="693"/>
                    </a:lnTo>
                    <a:lnTo>
                      <a:pt x="1551" y="694"/>
                    </a:lnTo>
                    <a:lnTo>
                      <a:pt x="1552" y="695"/>
                    </a:lnTo>
                    <a:lnTo>
                      <a:pt x="1553" y="696"/>
                    </a:lnTo>
                    <a:lnTo>
                      <a:pt x="1554" y="696"/>
                    </a:lnTo>
                    <a:lnTo>
                      <a:pt x="1555" y="698"/>
                    </a:lnTo>
                    <a:lnTo>
                      <a:pt x="1557" y="700"/>
                    </a:lnTo>
                    <a:lnTo>
                      <a:pt x="1559" y="702"/>
                    </a:lnTo>
                    <a:lnTo>
                      <a:pt x="1561" y="705"/>
                    </a:lnTo>
                    <a:lnTo>
                      <a:pt x="1563" y="706"/>
                    </a:lnTo>
                    <a:lnTo>
                      <a:pt x="1565" y="706"/>
                    </a:lnTo>
                    <a:lnTo>
                      <a:pt x="1568" y="705"/>
                    </a:lnTo>
                    <a:lnTo>
                      <a:pt x="1570" y="705"/>
                    </a:lnTo>
                    <a:lnTo>
                      <a:pt x="1572" y="705"/>
                    </a:lnTo>
                    <a:lnTo>
                      <a:pt x="1574" y="705"/>
                    </a:lnTo>
                    <a:lnTo>
                      <a:pt x="1579" y="708"/>
                    </a:lnTo>
                    <a:lnTo>
                      <a:pt x="1583" y="711"/>
                    </a:lnTo>
                    <a:lnTo>
                      <a:pt x="1587" y="713"/>
                    </a:lnTo>
                    <a:lnTo>
                      <a:pt x="1590" y="715"/>
                    </a:lnTo>
                    <a:lnTo>
                      <a:pt x="1592" y="716"/>
                    </a:lnTo>
                    <a:lnTo>
                      <a:pt x="1596" y="718"/>
                    </a:lnTo>
                    <a:lnTo>
                      <a:pt x="1598" y="720"/>
                    </a:lnTo>
                    <a:lnTo>
                      <a:pt x="1601" y="722"/>
                    </a:lnTo>
                    <a:lnTo>
                      <a:pt x="1603" y="723"/>
                    </a:lnTo>
                    <a:lnTo>
                      <a:pt x="1605" y="726"/>
                    </a:lnTo>
                    <a:lnTo>
                      <a:pt x="1606" y="728"/>
                    </a:lnTo>
                    <a:lnTo>
                      <a:pt x="1607" y="731"/>
                    </a:lnTo>
                    <a:lnTo>
                      <a:pt x="1606" y="733"/>
                    </a:lnTo>
                    <a:lnTo>
                      <a:pt x="1605" y="735"/>
                    </a:lnTo>
                    <a:lnTo>
                      <a:pt x="1603" y="737"/>
                    </a:lnTo>
                    <a:lnTo>
                      <a:pt x="1601" y="739"/>
                    </a:lnTo>
                    <a:lnTo>
                      <a:pt x="1598" y="740"/>
                    </a:lnTo>
                    <a:lnTo>
                      <a:pt x="1596" y="741"/>
                    </a:lnTo>
                    <a:lnTo>
                      <a:pt x="1594" y="742"/>
                    </a:lnTo>
                    <a:lnTo>
                      <a:pt x="1593" y="744"/>
                    </a:lnTo>
                    <a:lnTo>
                      <a:pt x="1593" y="748"/>
                    </a:lnTo>
                    <a:lnTo>
                      <a:pt x="1592" y="751"/>
                    </a:lnTo>
                    <a:lnTo>
                      <a:pt x="1590" y="752"/>
                    </a:lnTo>
                    <a:lnTo>
                      <a:pt x="1589" y="753"/>
                    </a:lnTo>
                    <a:lnTo>
                      <a:pt x="1586" y="754"/>
                    </a:lnTo>
                    <a:lnTo>
                      <a:pt x="1584" y="754"/>
                    </a:lnTo>
                    <a:lnTo>
                      <a:pt x="1582" y="754"/>
                    </a:lnTo>
                    <a:lnTo>
                      <a:pt x="1581" y="755"/>
                    </a:lnTo>
                    <a:lnTo>
                      <a:pt x="1578" y="760"/>
                    </a:lnTo>
                    <a:lnTo>
                      <a:pt x="1574" y="766"/>
                    </a:lnTo>
                    <a:lnTo>
                      <a:pt x="1571" y="772"/>
                    </a:lnTo>
                    <a:lnTo>
                      <a:pt x="1567" y="776"/>
                    </a:lnTo>
                    <a:lnTo>
                      <a:pt x="1561" y="777"/>
                    </a:lnTo>
                    <a:lnTo>
                      <a:pt x="1553" y="776"/>
                    </a:lnTo>
                    <a:lnTo>
                      <a:pt x="1546" y="777"/>
                    </a:lnTo>
                    <a:lnTo>
                      <a:pt x="1539" y="780"/>
                    </a:lnTo>
                    <a:lnTo>
                      <a:pt x="1537" y="780"/>
                    </a:lnTo>
                    <a:lnTo>
                      <a:pt x="1535" y="780"/>
                    </a:lnTo>
                    <a:lnTo>
                      <a:pt x="1532" y="780"/>
                    </a:lnTo>
                    <a:lnTo>
                      <a:pt x="1530" y="782"/>
                    </a:lnTo>
                    <a:lnTo>
                      <a:pt x="1528" y="782"/>
                    </a:lnTo>
                    <a:lnTo>
                      <a:pt x="1526" y="784"/>
                    </a:lnTo>
                    <a:lnTo>
                      <a:pt x="1524" y="786"/>
                    </a:lnTo>
                    <a:lnTo>
                      <a:pt x="1520" y="787"/>
                    </a:lnTo>
                    <a:lnTo>
                      <a:pt x="1517" y="787"/>
                    </a:lnTo>
                    <a:lnTo>
                      <a:pt x="1514" y="786"/>
                    </a:lnTo>
                    <a:lnTo>
                      <a:pt x="1511" y="785"/>
                    </a:lnTo>
                    <a:lnTo>
                      <a:pt x="1508" y="782"/>
                    </a:lnTo>
                    <a:lnTo>
                      <a:pt x="1505" y="778"/>
                    </a:lnTo>
                    <a:lnTo>
                      <a:pt x="1503" y="775"/>
                    </a:lnTo>
                    <a:lnTo>
                      <a:pt x="1500" y="773"/>
                    </a:lnTo>
                    <a:lnTo>
                      <a:pt x="1497" y="771"/>
                    </a:lnTo>
                    <a:lnTo>
                      <a:pt x="1496" y="774"/>
                    </a:lnTo>
                    <a:lnTo>
                      <a:pt x="1496" y="776"/>
                    </a:lnTo>
                    <a:lnTo>
                      <a:pt x="1497" y="778"/>
                    </a:lnTo>
                    <a:lnTo>
                      <a:pt x="1498" y="781"/>
                    </a:lnTo>
                    <a:lnTo>
                      <a:pt x="1499" y="784"/>
                    </a:lnTo>
                    <a:lnTo>
                      <a:pt x="1502" y="786"/>
                    </a:lnTo>
                    <a:lnTo>
                      <a:pt x="1503" y="788"/>
                    </a:lnTo>
                    <a:lnTo>
                      <a:pt x="1503" y="789"/>
                    </a:lnTo>
                    <a:lnTo>
                      <a:pt x="1502" y="792"/>
                    </a:lnTo>
                    <a:lnTo>
                      <a:pt x="1499" y="793"/>
                    </a:lnTo>
                    <a:lnTo>
                      <a:pt x="1497" y="795"/>
                    </a:lnTo>
                    <a:lnTo>
                      <a:pt x="1494" y="796"/>
                    </a:lnTo>
                    <a:lnTo>
                      <a:pt x="1491" y="798"/>
                    </a:lnTo>
                    <a:lnTo>
                      <a:pt x="1486" y="799"/>
                    </a:lnTo>
                    <a:lnTo>
                      <a:pt x="1483" y="800"/>
                    </a:lnTo>
                    <a:lnTo>
                      <a:pt x="1482" y="802"/>
                    </a:lnTo>
                    <a:lnTo>
                      <a:pt x="1482" y="804"/>
                    </a:lnTo>
                    <a:lnTo>
                      <a:pt x="1482" y="806"/>
                    </a:lnTo>
                    <a:lnTo>
                      <a:pt x="1482" y="809"/>
                    </a:lnTo>
                    <a:lnTo>
                      <a:pt x="1482" y="818"/>
                    </a:lnTo>
                    <a:lnTo>
                      <a:pt x="1481" y="827"/>
                    </a:lnTo>
                    <a:lnTo>
                      <a:pt x="1480" y="833"/>
                    </a:lnTo>
                    <a:lnTo>
                      <a:pt x="1480" y="837"/>
                    </a:lnTo>
                    <a:lnTo>
                      <a:pt x="1478" y="839"/>
                    </a:lnTo>
                    <a:lnTo>
                      <a:pt x="1477" y="840"/>
                    </a:lnTo>
                    <a:lnTo>
                      <a:pt x="1476" y="841"/>
                    </a:lnTo>
                    <a:lnTo>
                      <a:pt x="1474" y="841"/>
                    </a:lnTo>
                    <a:lnTo>
                      <a:pt x="1473" y="842"/>
                    </a:lnTo>
                    <a:lnTo>
                      <a:pt x="1471" y="843"/>
                    </a:lnTo>
                    <a:lnTo>
                      <a:pt x="1469" y="846"/>
                    </a:lnTo>
                    <a:lnTo>
                      <a:pt x="1467" y="848"/>
                    </a:lnTo>
                    <a:lnTo>
                      <a:pt x="1466" y="850"/>
                    </a:lnTo>
                    <a:lnTo>
                      <a:pt x="1466" y="853"/>
                    </a:lnTo>
                    <a:lnTo>
                      <a:pt x="1464" y="855"/>
                    </a:lnTo>
                    <a:lnTo>
                      <a:pt x="1462" y="858"/>
                    </a:lnTo>
                    <a:lnTo>
                      <a:pt x="1458" y="860"/>
                    </a:lnTo>
                    <a:lnTo>
                      <a:pt x="1456" y="861"/>
                    </a:lnTo>
                    <a:lnTo>
                      <a:pt x="1455" y="860"/>
                    </a:lnTo>
                    <a:lnTo>
                      <a:pt x="1453" y="859"/>
                    </a:lnTo>
                    <a:lnTo>
                      <a:pt x="1452" y="858"/>
                    </a:lnTo>
                    <a:lnTo>
                      <a:pt x="1450" y="858"/>
                    </a:lnTo>
                    <a:lnTo>
                      <a:pt x="1449" y="858"/>
                    </a:lnTo>
                    <a:lnTo>
                      <a:pt x="1448" y="859"/>
                    </a:lnTo>
                    <a:lnTo>
                      <a:pt x="1447" y="861"/>
                    </a:lnTo>
                    <a:lnTo>
                      <a:pt x="1445" y="862"/>
                    </a:lnTo>
                    <a:lnTo>
                      <a:pt x="1445" y="863"/>
                    </a:lnTo>
                    <a:lnTo>
                      <a:pt x="1444" y="864"/>
                    </a:lnTo>
                    <a:lnTo>
                      <a:pt x="1444" y="864"/>
                    </a:lnTo>
                    <a:lnTo>
                      <a:pt x="1442" y="864"/>
                    </a:lnTo>
                    <a:lnTo>
                      <a:pt x="1440" y="864"/>
                    </a:lnTo>
                    <a:lnTo>
                      <a:pt x="1437" y="862"/>
                    </a:lnTo>
                    <a:lnTo>
                      <a:pt x="1434" y="861"/>
                    </a:lnTo>
                    <a:lnTo>
                      <a:pt x="1433" y="859"/>
                    </a:lnTo>
                    <a:lnTo>
                      <a:pt x="1433" y="855"/>
                    </a:lnTo>
                    <a:lnTo>
                      <a:pt x="1434" y="854"/>
                    </a:lnTo>
                    <a:lnTo>
                      <a:pt x="1434" y="852"/>
                    </a:lnTo>
                    <a:lnTo>
                      <a:pt x="1436" y="850"/>
                    </a:lnTo>
                    <a:lnTo>
                      <a:pt x="1436" y="847"/>
                    </a:lnTo>
                    <a:lnTo>
                      <a:pt x="1436" y="846"/>
                    </a:lnTo>
                    <a:lnTo>
                      <a:pt x="1434" y="844"/>
                    </a:lnTo>
                    <a:lnTo>
                      <a:pt x="1432" y="844"/>
                    </a:lnTo>
                    <a:lnTo>
                      <a:pt x="1431" y="844"/>
                    </a:lnTo>
                    <a:lnTo>
                      <a:pt x="1430" y="846"/>
                    </a:lnTo>
                    <a:lnTo>
                      <a:pt x="1429" y="847"/>
                    </a:lnTo>
                    <a:lnTo>
                      <a:pt x="1429" y="850"/>
                    </a:lnTo>
                    <a:lnTo>
                      <a:pt x="1429" y="853"/>
                    </a:lnTo>
                    <a:lnTo>
                      <a:pt x="1429" y="855"/>
                    </a:lnTo>
                    <a:lnTo>
                      <a:pt x="1428" y="858"/>
                    </a:lnTo>
                    <a:lnTo>
                      <a:pt x="1428" y="860"/>
                    </a:lnTo>
                    <a:lnTo>
                      <a:pt x="1426" y="861"/>
                    </a:lnTo>
                    <a:lnTo>
                      <a:pt x="1422" y="862"/>
                    </a:lnTo>
                    <a:lnTo>
                      <a:pt x="1421" y="863"/>
                    </a:lnTo>
                    <a:lnTo>
                      <a:pt x="1419" y="864"/>
                    </a:lnTo>
                    <a:lnTo>
                      <a:pt x="1418" y="865"/>
                    </a:lnTo>
                    <a:lnTo>
                      <a:pt x="1416" y="866"/>
                    </a:lnTo>
                    <a:lnTo>
                      <a:pt x="1413" y="866"/>
                    </a:lnTo>
                    <a:lnTo>
                      <a:pt x="1411" y="866"/>
                    </a:lnTo>
                    <a:lnTo>
                      <a:pt x="1409" y="868"/>
                    </a:lnTo>
                    <a:lnTo>
                      <a:pt x="1407" y="869"/>
                    </a:lnTo>
                    <a:lnTo>
                      <a:pt x="1405" y="871"/>
                    </a:lnTo>
                    <a:lnTo>
                      <a:pt x="1405" y="872"/>
                    </a:lnTo>
                    <a:lnTo>
                      <a:pt x="1404" y="874"/>
                    </a:lnTo>
                    <a:lnTo>
                      <a:pt x="1404" y="876"/>
                    </a:lnTo>
                    <a:lnTo>
                      <a:pt x="1404" y="879"/>
                    </a:lnTo>
                    <a:lnTo>
                      <a:pt x="1402" y="880"/>
                    </a:lnTo>
                    <a:lnTo>
                      <a:pt x="1402" y="881"/>
                    </a:lnTo>
                    <a:lnTo>
                      <a:pt x="1401" y="881"/>
                    </a:lnTo>
                    <a:lnTo>
                      <a:pt x="1400" y="882"/>
                    </a:lnTo>
                    <a:lnTo>
                      <a:pt x="1399" y="883"/>
                    </a:lnTo>
                    <a:lnTo>
                      <a:pt x="1398" y="883"/>
                    </a:lnTo>
                    <a:lnTo>
                      <a:pt x="1398" y="884"/>
                    </a:lnTo>
                    <a:lnTo>
                      <a:pt x="1400" y="884"/>
                    </a:lnTo>
                    <a:lnTo>
                      <a:pt x="1401" y="886"/>
                    </a:lnTo>
                    <a:lnTo>
                      <a:pt x="1404" y="887"/>
                    </a:lnTo>
                    <a:lnTo>
                      <a:pt x="1405" y="890"/>
                    </a:lnTo>
                    <a:lnTo>
                      <a:pt x="1405" y="891"/>
                    </a:lnTo>
                    <a:lnTo>
                      <a:pt x="1404" y="892"/>
                    </a:lnTo>
                    <a:lnTo>
                      <a:pt x="1401" y="892"/>
                    </a:lnTo>
                    <a:lnTo>
                      <a:pt x="1399" y="892"/>
                    </a:lnTo>
                    <a:lnTo>
                      <a:pt x="1398" y="891"/>
                    </a:lnTo>
                    <a:lnTo>
                      <a:pt x="1396" y="891"/>
                    </a:lnTo>
                    <a:lnTo>
                      <a:pt x="1395" y="891"/>
                    </a:lnTo>
                    <a:lnTo>
                      <a:pt x="1393" y="892"/>
                    </a:lnTo>
                    <a:lnTo>
                      <a:pt x="1390" y="893"/>
                    </a:lnTo>
                    <a:lnTo>
                      <a:pt x="1389" y="894"/>
                    </a:lnTo>
                    <a:lnTo>
                      <a:pt x="1388" y="896"/>
                    </a:lnTo>
                    <a:lnTo>
                      <a:pt x="1388" y="898"/>
                    </a:lnTo>
                    <a:lnTo>
                      <a:pt x="1389" y="901"/>
                    </a:lnTo>
                    <a:lnTo>
                      <a:pt x="1391" y="904"/>
                    </a:lnTo>
                    <a:lnTo>
                      <a:pt x="1394" y="905"/>
                    </a:lnTo>
                    <a:lnTo>
                      <a:pt x="1396" y="906"/>
                    </a:lnTo>
                    <a:lnTo>
                      <a:pt x="1397" y="907"/>
                    </a:lnTo>
                    <a:lnTo>
                      <a:pt x="1399" y="908"/>
                    </a:lnTo>
                    <a:lnTo>
                      <a:pt x="1400" y="911"/>
                    </a:lnTo>
                    <a:lnTo>
                      <a:pt x="1401" y="912"/>
                    </a:lnTo>
                    <a:lnTo>
                      <a:pt x="1400" y="913"/>
                    </a:lnTo>
                    <a:lnTo>
                      <a:pt x="1399" y="914"/>
                    </a:lnTo>
                    <a:lnTo>
                      <a:pt x="1396" y="915"/>
                    </a:lnTo>
                    <a:lnTo>
                      <a:pt x="1395" y="916"/>
                    </a:lnTo>
                    <a:lnTo>
                      <a:pt x="1394" y="918"/>
                    </a:lnTo>
                    <a:lnTo>
                      <a:pt x="1394" y="920"/>
                    </a:lnTo>
                    <a:lnTo>
                      <a:pt x="1395" y="923"/>
                    </a:lnTo>
                    <a:lnTo>
                      <a:pt x="1395" y="926"/>
                    </a:lnTo>
                    <a:lnTo>
                      <a:pt x="1396" y="928"/>
                    </a:lnTo>
                    <a:lnTo>
                      <a:pt x="1399" y="930"/>
                    </a:lnTo>
                    <a:lnTo>
                      <a:pt x="1400" y="933"/>
                    </a:lnTo>
                    <a:lnTo>
                      <a:pt x="1401" y="936"/>
                    </a:lnTo>
                    <a:lnTo>
                      <a:pt x="1401" y="939"/>
                    </a:lnTo>
                    <a:lnTo>
                      <a:pt x="1401" y="942"/>
                    </a:lnTo>
                    <a:lnTo>
                      <a:pt x="1400" y="946"/>
                    </a:lnTo>
                    <a:lnTo>
                      <a:pt x="1399" y="950"/>
                    </a:lnTo>
                    <a:lnTo>
                      <a:pt x="1397" y="953"/>
                    </a:lnTo>
                    <a:lnTo>
                      <a:pt x="1395" y="957"/>
                    </a:lnTo>
                    <a:lnTo>
                      <a:pt x="1391" y="959"/>
                    </a:lnTo>
                    <a:lnTo>
                      <a:pt x="1390" y="960"/>
                    </a:lnTo>
                    <a:lnTo>
                      <a:pt x="1390" y="963"/>
                    </a:lnTo>
                    <a:lnTo>
                      <a:pt x="1390" y="967"/>
                    </a:lnTo>
                    <a:lnTo>
                      <a:pt x="1389" y="970"/>
                    </a:lnTo>
                    <a:lnTo>
                      <a:pt x="1389" y="973"/>
                    </a:lnTo>
                    <a:lnTo>
                      <a:pt x="1390" y="975"/>
                    </a:lnTo>
                    <a:lnTo>
                      <a:pt x="1389" y="978"/>
                    </a:lnTo>
                    <a:lnTo>
                      <a:pt x="1388" y="979"/>
                    </a:lnTo>
                    <a:lnTo>
                      <a:pt x="1387" y="979"/>
                    </a:lnTo>
                    <a:lnTo>
                      <a:pt x="1385" y="979"/>
                    </a:lnTo>
                    <a:lnTo>
                      <a:pt x="1383" y="979"/>
                    </a:lnTo>
                    <a:lnTo>
                      <a:pt x="1380" y="980"/>
                    </a:lnTo>
                    <a:lnTo>
                      <a:pt x="1379" y="980"/>
                    </a:lnTo>
                    <a:lnTo>
                      <a:pt x="1377" y="981"/>
                    </a:lnTo>
                    <a:lnTo>
                      <a:pt x="1376" y="982"/>
                    </a:lnTo>
                    <a:lnTo>
                      <a:pt x="1376" y="985"/>
                    </a:lnTo>
                    <a:lnTo>
                      <a:pt x="1377" y="989"/>
                    </a:lnTo>
                    <a:lnTo>
                      <a:pt x="1378" y="991"/>
                    </a:lnTo>
                    <a:lnTo>
                      <a:pt x="1379" y="994"/>
                    </a:lnTo>
                    <a:lnTo>
                      <a:pt x="1380" y="996"/>
                    </a:lnTo>
                    <a:lnTo>
                      <a:pt x="1380" y="1000"/>
                    </a:lnTo>
                    <a:lnTo>
                      <a:pt x="1383" y="1010"/>
                    </a:lnTo>
                    <a:lnTo>
                      <a:pt x="1385" y="1020"/>
                    </a:lnTo>
                    <a:lnTo>
                      <a:pt x="1386" y="1023"/>
                    </a:lnTo>
                    <a:lnTo>
                      <a:pt x="1386" y="1025"/>
                    </a:lnTo>
                    <a:lnTo>
                      <a:pt x="1385" y="1027"/>
                    </a:lnTo>
                    <a:lnTo>
                      <a:pt x="1384" y="1029"/>
                    </a:lnTo>
                    <a:lnTo>
                      <a:pt x="1383" y="1032"/>
                    </a:lnTo>
                    <a:lnTo>
                      <a:pt x="1380" y="1035"/>
                    </a:lnTo>
                    <a:lnTo>
                      <a:pt x="1379" y="1038"/>
                    </a:lnTo>
                    <a:lnTo>
                      <a:pt x="1377" y="1042"/>
                    </a:lnTo>
                    <a:lnTo>
                      <a:pt x="1377" y="1045"/>
                    </a:lnTo>
                    <a:lnTo>
                      <a:pt x="1376" y="1048"/>
                    </a:lnTo>
                    <a:lnTo>
                      <a:pt x="1376" y="1053"/>
                    </a:lnTo>
                    <a:lnTo>
                      <a:pt x="1377" y="1057"/>
                    </a:lnTo>
                    <a:lnTo>
                      <a:pt x="1377" y="1062"/>
                    </a:lnTo>
                    <a:lnTo>
                      <a:pt x="1377" y="1070"/>
                    </a:lnTo>
                    <a:lnTo>
                      <a:pt x="1377" y="1077"/>
                    </a:lnTo>
                    <a:lnTo>
                      <a:pt x="1376" y="1081"/>
                    </a:lnTo>
                    <a:lnTo>
                      <a:pt x="1374" y="1083"/>
                    </a:lnTo>
                    <a:lnTo>
                      <a:pt x="1369" y="1081"/>
                    </a:lnTo>
                    <a:lnTo>
                      <a:pt x="1367" y="1079"/>
                    </a:lnTo>
                    <a:lnTo>
                      <a:pt x="1365" y="1077"/>
                    </a:lnTo>
                    <a:lnTo>
                      <a:pt x="1362" y="1077"/>
                    </a:lnTo>
                    <a:lnTo>
                      <a:pt x="1360" y="1077"/>
                    </a:lnTo>
                    <a:lnTo>
                      <a:pt x="1357" y="1079"/>
                    </a:lnTo>
                    <a:lnTo>
                      <a:pt x="1356" y="1080"/>
                    </a:lnTo>
                    <a:lnTo>
                      <a:pt x="1355" y="1082"/>
                    </a:lnTo>
                    <a:lnTo>
                      <a:pt x="1354" y="1083"/>
                    </a:lnTo>
                    <a:lnTo>
                      <a:pt x="1353" y="1084"/>
                    </a:lnTo>
                    <a:lnTo>
                      <a:pt x="1352" y="1086"/>
                    </a:lnTo>
                    <a:lnTo>
                      <a:pt x="1350" y="1086"/>
                    </a:lnTo>
                    <a:lnTo>
                      <a:pt x="1349" y="1083"/>
                    </a:lnTo>
                    <a:lnTo>
                      <a:pt x="1345" y="1081"/>
                    </a:lnTo>
                    <a:lnTo>
                      <a:pt x="1344" y="1079"/>
                    </a:lnTo>
                    <a:lnTo>
                      <a:pt x="1344" y="1077"/>
                    </a:lnTo>
                    <a:lnTo>
                      <a:pt x="1344" y="1073"/>
                    </a:lnTo>
                    <a:lnTo>
                      <a:pt x="1344" y="1071"/>
                    </a:lnTo>
                    <a:lnTo>
                      <a:pt x="1344" y="1068"/>
                    </a:lnTo>
                    <a:lnTo>
                      <a:pt x="1343" y="1066"/>
                    </a:lnTo>
                    <a:lnTo>
                      <a:pt x="1341" y="1065"/>
                    </a:lnTo>
                    <a:lnTo>
                      <a:pt x="1339" y="1064"/>
                    </a:lnTo>
                    <a:lnTo>
                      <a:pt x="1336" y="1062"/>
                    </a:lnTo>
                    <a:lnTo>
                      <a:pt x="1334" y="1062"/>
                    </a:lnTo>
                    <a:lnTo>
                      <a:pt x="1333" y="1061"/>
                    </a:lnTo>
                    <a:lnTo>
                      <a:pt x="1331" y="1060"/>
                    </a:lnTo>
                    <a:lnTo>
                      <a:pt x="1329" y="1058"/>
                    </a:lnTo>
                    <a:lnTo>
                      <a:pt x="1328" y="1057"/>
                    </a:lnTo>
                    <a:lnTo>
                      <a:pt x="1328" y="1054"/>
                    </a:lnTo>
                    <a:lnTo>
                      <a:pt x="1327" y="1050"/>
                    </a:lnTo>
                    <a:lnTo>
                      <a:pt x="1324" y="1048"/>
                    </a:lnTo>
                    <a:lnTo>
                      <a:pt x="1322" y="1047"/>
                    </a:lnTo>
                    <a:lnTo>
                      <a:pt x="1319" y="1046"/>
                    </a:lnTo>
                    <a:lnTo>
                      <a:pt x="1316" y="1046"/>
                    </a:lnTo>
                    <a:lnTo>
                      <a:pt x="1313" y="1046"/>
                    </a:lnTo>
                    <a:lnTo>
                      <a:pt x="1310" y="1046"/>
                    </a:lnTo>
                    <a:lnTo>
                      <a:pt x="1308" y="1046"/>
                    </a:lnTo>
                    <a:lnTo>
                      <a:pt x="1307" y="1047"/>
                    </a:lnTo>
                    <a:lnTo>
                      <a:pt x="1306" y="1048"/>
                    </a:lnTo>
                    <a:lnTo>
                      <a:pt x="1306" y="1049"/>
                    </a:lnTo>
                    <a:lnTo>
                      <a:pt x="1304" y="1051"/>
                    </a:lnTo>
                    <a:lnTo>
                      <a:pt x="1303" y="1053"/>
                    </a:lnTo>
                    <a:lnTo>
                      <a:pt x="1302" y="1055"/>
                    </a:lnTo>
                    <a:lnTo>
                      <a:pt x="1301" y="1056"/>
                    </a:lnTo>
                    <a:lnTo>
                      <a:pt x="1301" y="1055"/>
                    </a:lnTo>
                    <a:lnTo>
                      <a:pt x="1300" y="1054"/>
                    </a:lnTo>
                    <a:lnTo>
                      <a:pt x="1300" y="1051"/>
                    </a:lnTo>
                    <a:lnTo>
                      <a:pt x="1300" y="1048"/>
                    </a:lnTo>
                    <a:lnTo>
                      <a:pt x="1300" y="1046"/>
                    </a:lnTo>
                    <a:lnTo>
                      <a:pt x="1300" y="1045"/>
                    </a:lnTo>
                    <a:lnTo>
                      <a:pt x="1300" y="1044"/>
                    </a:lnTo>
                    <a:lnTo>
                      <a:pt x="1299" y="1040"/>
                    </a:lnTo>
                    <a:lnTo>
                      <a:pt x="1298" y="1038"/>
                    </a:lnTo>
                    <a:lnTo>
                      <a:pt x="1296" y="1037"/>
                    </a:lnTo>
                    <a:lnTo>
                      <a:pt x="1293" y="1035"/>
                    </a:lnTo>
                    <a:lnTo>
                      <a:pt x="1291" y="1034"/>
                    </a:lnTo>
                    <a:lnTo>
                      <a:pt x="1289" y="1033"/>
                    </a:lnTo>
                    <a:lnTo>
                      <a:pt x="1285" y="1031"/>
                    </a:lnTo>
                    <a:lnTo>
                      <a:pt x="1280" y="1026"/>
                    </a:lnTo>
                    <a:lnTo>
                      <a:pt x="1278" y="1022"/>
                    </a:lnTo>
                    <a:lnTo>
                      <a:pt x="1274" y="1012"/>
                    </a:lnTo>
                    <a:lnTo>
                      <a:pt x="1268" y="1003"/>
                    </a:lnTo>
                    <a:lnTo>
                      <a:pt x="1263" y="993"/>
                    </a:lnTo>
                    <a:lnTo>
                      <a:pt x="1259" y="982"/>
                    </a:lnTo>
                    <a:lnTo>
                      <a:pt x="1256" y="971"/>
                    </a:lnTo>
                    <a:lnTo>
                      <a:pt x="1252" y="961"/>
                    </a:lnTo>
                    <a:lnTo>
                      <a:pt x="1246" y="950"/>
                    </a:lnTo>
                    <a:lnTo>
                      <a:pt x="1240" y="939"/>
                    </a:lnTo>
                    <a:lnTo>
                      <a:pt x="1235" y="929"/>
                    </a:lnTo>
                    <a:lnTo>
                      <a:pt x="1234" y="917"/>
                    </a:lnTo>
                    <a:lnTo>
                      <a:pt x="1235" y="913"/>
                    </a:lnTo>
                    <a:lnTo>
                      <a:pt x="1237" y="907"/>
                    </a:lnTo>
                    <a:lnTo>
                      <a:pt x="1241" y="901"/>
                    </a:lnTo>
                    <a:lnTo>
                      <a:pt x="1242" y="895"/>
                    </a:lnTo>
                    <a:lnTo>
                      <a:pt x="1242" y="891"/>
                    </a:lnTo>
                    <a:lnTo>
                      <a:pt x="1238" y="889"/>
                    </a:lnTo>
                    <a:lnTo>
                      <a:pt x="1235" y="889"/>
                    </a:lnTo>
                    <a:lnTo>
                      <a:pt x="1233" y="891"/>
                    </a:lnTo>
                    <a:lnTo>
                      <a:pt x="1232" y="892"/>
                    </a:lnTo>
                    <a:lnTo>
                      <a:pt x="1230" y="895"/>
                    </a:lnTo>
                    <a:lnTo>
                      <a:pt x="1229" y="897"/>
                    </a:lnTo>
                    <a:lnTo>
                      <a:pt x="1227" y="900"/>
                    </a:lnTo>
                    <a:lnTo>
                      <a:pt x="1226" y="901"/>
                    </a:lnTo>
                    <a:lnTo>
                      <a:pt x="1225" y="903"/>
                    </a:lnTo>
                    <a:lnTo>
                      <a:pt x="1224" y="904"/>
                    </a:lnTo>
                    <a:lnTo>
                      <a:pt x="1223" y="905"/>
                    </a:lnTo>
                    <a:lnTo>
                      <a:pt x="1221" y="905"/>
                    </a:lnTo>
                    <a:lnTo>
                      <a:pt x="1219" y="904"/>
                    </a:lnTo>
                    <a:lnTo>
                      <a:pt x="1218" y="894"/>
                    </a:lnTo>
                    <a:lnTo>
                      <a:pt x="1219" y="884"/>
                    </a:lnTo>
                    <a:lnTo>
                      <a:pt x="1215" y="871"/>
                    </a:lnTo>
                    <a:lnTo>
                      <a:pt x="1212" y="860"/>
                    </a:lnTo>
                    <a:lnTo>
                      <a:pt x="1210" y="852"/>
                    </a:lnTo>
                    <a:lnTo>
                      <a:pt x="1208" y="847"/>
                    </a:lnTo>
                    <a:lnTo>
                      <a:pt x="1203" y="840"/>
                    </a:lnTo>
                    <a:lnTo>
                      <a:pt x="1190" y="820"/>
                    </a:lnTo>
                    <a:lnTo>
                      <a:pt x="1188" y="817"/>
                    </a:lnTo>
                    <a:lnTo>
                      <a:pt x="1188" y="814"/>
                    </a:lnTo>
                    <a:lnTo>
                      <a:pt x="1188" y="810"/>
                    </a:lnTo>
                    <a:lnTo>
                      <a:pt x="1189" y="807"/>
                    </a:lnTo>
                    <a:lnTo>
                      <a:pt x="1190" y="803"/>
                    </a:lnTo>
                    <a:lnTo>
                      <a:pt x="1191" y="800"/>
                    </a:lnTo>
                    <a:lnTo>
                      <a:pt x="1192" y="798"/>
                    </a:lnTo>
                    <a:lnTo>
                      <a:pt x="1193" y="797"/>
                    </a:lnTo>
                    <a:lnTo>
                      <a:pt x="1194" y="795"/>
                    </a:lnTo>
                    <a:lnTo>
                      <a:pt x="1194" y="793"/>
                    </a:lnTo>
                    <a:lnTo>
                      <a:pt x="1190" y="792"/>
                    </a:lnTo>
                    <a:lnTo>
                      <a:pt x="1186" y="789"/>
                    </a:lnTo>
                    <a:lnTo>
                      <a:pt x="1181" y="787"/>
                    </a:lnTo>
                    <a:lnTo>
                      <a:pt x="1179" y="784"/>
                    </a:lnTo>
                    <a:lnTo>
                      <a:pt x="1178" y="782"/>
                    </a:lnTo>
                    <a:lnTo>
                      <a:pt x="1177" y="781"/>
                    </a:lnTo>
                    <a:lnTo>
                      <a:pt x="1177" y="780"/>
                    </a:lnTo>
                    <a:lnTo>
                      <a:pt x="1177" y="778"/>
                    </a:lnTo>
                    <a:lnTo>
                      <a:pt x="1178" y="778"/>
                    </a:lnTo>
                    <a:lnTo>
                      <a:pt x="1179" y="780"/>
                    </a:lnTo>
                    <a:lnTo>
                      <a:pt x="1181" y="778"/>
                    </a:lnTo>
                    <a:lnTo>
                      <a:pt x="1183" y="778"/>
                    </a:lnTo>
                    <a:lnTo>
                      <a:pt x="1184" y="776"/>
                    </a:lnTo>
                    <a:lnTo>
                      <a:pt x="1184" y="775"/>
                    </a:lnTo>
                    <a:lnTo>
                      <a:pt x="1183" y="773"/>
                    </a:lnTo>
                    <a:lnTo>
                      <a:pt x="1181" y="770"/>
                    </a:lnTo>
                    <a:lnTo>
                      <a:pt x="1181" y="767"/>
                    </a:lnTo>
                    <a:lnTo>
                      <a:pt x="1180" y="765"/>
                    </a:lnTo>
                    <a:lnTo>
                      <a:pt x="1180" y="762"/>
                    </a:lnTo>
                    <a:lnTo>
                      <a:pt x="1179" y="760"/>
                    </a:lnTo>
                    <a:lnTo>
                      <a:pt x="1177" y="758"/>
                    </a:lnTo>
                    <a:lnTo>
                      <a:pt x="1176" y="756"/>
                    </a:lnTo>
                    <a:lnTo>
                      <a:pt x="1173" y="754"/>
                    </a:lnTo>
                    <a:lnTo>
                      <a:pt x="1173" y="752"/>
                    </a:lnTo>
                    <a:lnTo>
                      <a:pt x="1173" y="750"/>
                    </a:lnTo>
                    <a:lnTo>
                      <a:pt x="1175" y="749"/>
                    </a:lnTo>
                    <a:lnTo>
                      <a:pt x="1178" y="745"/>
                    </a:lnTo>
                    <a:lnTo>
                      <a:pt x="1181" y="744"/>
                    </a:lnTo>
                    <a:lnTo>
                      <a:pt x="1183" y="743"/>
                    </a:lnTo>
                    <a:lnTo>
                      <a:pt x="1186" y="742"/>
                    </a:lnTo>
                    <a:lnTo>
                      <a:pt x="1188" y="740"/>
                    </a:lnTo>
                    <a:lnTo>
                      <a:pt x="1190" y="739"/>
                    </a:lnTo>
                    <a:lnTo>
                      <a:pt x="1193" y="739"/>
                    </a:lnTo>
                    <a:lnTo>
                      <a:pt x="1196" y="739"/>
                    </a:lnTo>
                    <a:lnTo>
                      <a:pt x="1199" y="740"/>
                    </a:lnTo>
                    <a:lnTo>
                      <a:pt x="1202" y="742"/>
                    </a:lnTo>
                    <a:lnTo>
                      <a:pt x="1205" y="742"/>
                    </a:lnTo>
                    <a:lnTo>
                      <a:pt x="1209" y="742"/>
                    </a:lnTo>
                    <a:lnTo>
                      <a:pt x="1213" y="742"/>
                    </a:lnTo>
                    <a:lnTo>
                      <a:pt x="1216" y="742"/>
                    </a:lnTo>
                    <a:lnTo>
                      <a:pt x="1219" y="743"/>
                    </a:lnTo>
                    <a:lnTo>
                      <a:pt x="1221" y="746"/>
                    </a:lnTo>
                    <a:lnTo>
                      <a:pt x="1223" y="749"/>
                    </a:lnTo>
                    <a:lnTo>
                      <a:pt x="1225" y="750"/>
                    </a:lnTo>
                    <a:lnTo>
                      <a:pt x="1227" y="751"/>
                    </a:lnTo>
                    <a:lnTo>
                      <a:pt x="1230" y="751"/>
                    </a:lnTo>
                    <a:lnTo>
                      <a:pt x="1230" y="750"/>
                    </a:lnTo>
                    <a:lnTo>
                      <a:pt x="1230" y="749"/>
                    </a:lnTo>
                    <a:lnTo>
                      <a:pt x="1229" y="746"/>
                    </a:lnTo>
                    <a:lnTo>
                      <a:pt x="1227" y="744"/>
                    </a:lnTo>
                    <a:lnTo>
                      <a:pt x="1225" y="742"/>
                    </a:lnTo>
                    <a:lnTo>
                      <a:pt x="1223" y="741"/>
                    </a:lnTo>
                    <a:lnTo>
                      <a:pt x="1221" y="740"/>
                    </a:lnTo>
                    <a:lnTo>
                      <a:pt x="1220" y="739"/>
                    </a:lnTo>
                    <a:lnTo>
                      <a:pt x="1219" y="737"/>
                    </a:lnTo>
                    <a:lnTo>
                      <a:pt x="1218" y="734"/>
                    </a:lnTo>
                    <a:lnTo>
                      <a:pt x="1218" y="732"/>
                    </a:lnTo>
                    <a:lnTo>
                      <a:pt x="1216" y="730"/>
                    </a:lnTo>
                    <a:lnTo>
                      <a:pt x="1214" y="729"/>
                    </a:lnTo>
                    <a:lnTo>
                      <a:pt x="1209" y="729"/>
                    </a:lnTo>
                    <a:lnTo>
                      <a:pt x="1202" y="731"/>
                    </a:lnTo>
                    <a:lnTo>
                      <a:pt x="1197" y="732"/>
                    </a:lnTo>
                    <a:lnTo>
                      <a:pt x="1192" y="731"/>
                    </a:lnTo>
                    <a:lnTo>
                      <a:pt x="1191" y="728"/>
                    </a:lnTo>
                    <a:lnTo>
                      <a:pt x="1191" y="726"/>
                    </a:lnTo>
                    <a:lnTo>
                      <a:pt x="1192" y="724"/>
                    </a:lnTo>
                    <a:lnTo>
                      <a:pt x="1193" y="722"/>
                    </a:lnTo>
                    <a:lnTo>
                      <a:pt x="1197" y="721"/>
                    </a:lnTo>
                    <a:lnTo>
                      <a:pt x="1199" y="721"/>
                    </a:lnTo>
                    <a:lnTo>
                      <a:pt x="1201" y="720"/>
                    </a:lnTo>
                    <a:lnTo>
                      <a:pt x="1203" y="720"/>
                    </a:lnTo>
                    <a:lnTo>
                      <a:pt x="1205" y="720"/>
                    </a:lnTo>
                    <a:lnTo>
                      <a:pt x="1209" y="720"/>
                    </a:lnTo>
                    <a:lnTo>
                      <a:pt x="1210" y="719"/>
                    </a:lnTo>
                    <a:lnTo>
                      <a:pt x="1211" y="717"/>
                    </a:lnTo>
                    <a:lnTo>
                      <a:pt x="1211" y="716"/>
                    </a:lnTo>
                    <a:lnTo>
                      <a:pt x="1211" y="713"/>
                    </a:lnTo>
                    <a:lnTo>
                      <a:pt x="1210" y="711"/>
                    </a:lnTo>
                    <a:lnTo>
                      <a:pt x="1210" y="709"/>
                    </a:lnTo>
                    <a:lnTo>
                      <a:pt x="1209" y="707"/>
                    </a:lnTo>
                    <a:lnTo>
                      <a:pt x="1210" y="705"/>
                    </a:lnTo>
                    <a:lnTo>
                      <a:pt x="1210" y="704"/>
                    </a:lnTo>
                    <a:lnTo>
                      <a:pt x="1212" y="702"/>
                    </a:lnTo>
                    <a:lnTo>
                      <a:pt x="1214" y="701"/>
                    </a:lnTo>
                    <a:lnTo>
                      <a:pt x="1215" y="698"/>
                    </a:lnTo>
                    <a:lnTo>
                      <a:pt x="1216" y="696"/>
                    </a:lnTo>
                    <a:lnTo>
                      <a:pt x="1216" y="693"/>
                    </a:lnTo>
                    <a:lnTo>
                      <a:pt x="1216" y="689"/>
                    </a:lnTo>
                    <a:lnTo>
                      <a:pt x="1216" y="687"/>
                    </a:lnTo>
                    <a:lnTo>
                      <a:pt x="1219" y="684"/>
                    </a:lnTo>
                    <a:lnTo>
                      <a:pt x="1220" y="679"/>
                    </a:lnTo>
                    <a:lnTo>
                      <a:pt x="1220" y="675"/>
                    </a:lnTo>
                    <a:lnTo>
                      <a:pt x="1219" y="669"/>
                    </a:lnTo>
                    <a:lnTo>
                      <a:pt x="1218" y="663"/>
                    </a:lnTo>
                    <a:lnTo>
                      <a:pt x="1213" y="657"/>
                    </a:lnTo>
                    <a:lnTo>
                      <a:pt x="1207" y="654"/>
                    </a:lnTo>
                    <a:lnTo>
                      <a:pt x="1199" y="654"/>
                    </a:lnTo>
                    <a:lnTo>
                      <a:pt x="1198" y="654"/>
                    </a:lnTo>
                    <a:lnTo>
                      <a:pt x="1196" y="654"/>
                    </a:lnTo>
                    <a:lnTo>
                      <a:pt x="1193" y="654"/>
                    </a:lnTo>
                    <a:lnTo>
                      <a:pt x="1191" y="654"/>
                    </a:lnTo>
                    <a:lnTo>
                      <a:pt x="1189" y="654"/>
                    </a:lnTo>
                    <a:lnTo>
                      <a:pt x="1187" y="655"/>
                    </a:lnTo>
                    <a:lnTo>
                      <a:pt x="1186" y="655"/>
                    </a:lnTo>
                    <a:lnTo>
                      <a:pt x="1184" y="656"/>
                    </a:lnTo>
                    <a:lnTo>
                      <a:pt x="1183" y="657"/>
                    </a:lnTo>
                    <a:lnTo>
                      <a:pt x="1184" y="658"/>
                    </a:lnTo>
                    <a:lnTo>
                      <a:pt x="1186" y="661"/>
                    </a:lnTo>
                    <a:lnTo>
                      <a:pt x="1188" y="663"/>
                    </a:lnTo>
                    <a:lnTo>
                      <a:pt x="1192" y="667"/>
                    </a:lnTo>
                    <a:lnTo>
                      <a:pt x="1196" y="673"/>
                    </a:lnTo>
                    <a:lnTo>
                      <a:pt x="1197" y="677"/>
                    </a:lnTo>
                    <a:lnTo>
                      <a:pt x="1196" y="680"/>
                    </a:lnTo>
                    <a:lnTo>
                      <a:pt x="1190" y="683"/>
                    </a:lnTo>
                    <a:lnTo>
                      <a:pt x="1175" y="683"/>
                    </a:lnTo>
                    <a:lnTo>
                      <a:pt x="1172" y="684"/>
                    </a:lnTo>
                    <a:lnTo>
                      <a:pt x="1169" y="685"/>
                    </a:lnTo>
                    <a:lnTo>
                      <a:pt x="1168" y="685"/>
                    </a:lnTo>
                    <a:lnTo>
                      <a:pt x="1166" y="685"/>
                    </a:lnTo>
                    <a:lnTo>
                      <a:pt x="1164" y="684"/>
                    </a:lnTo>
                    <a:lnTo>
                      <a:pt x="1161" y="680"/>
                    </a:lnTo>
                    <a:lnTo>
                      <a:pt x="1160" y="679"/>
                    </a:lnTo>
                    <a:lnTo>
                      <a:pt x="1160" y="677"/>
                    </a:lnTo>
                    <a:lnTo>
                      <a:pt x="1160" y="675"/>
                    </a:lnTo>
                    <a:lnTo>
                      <a:pt x="1160" y="674"/>
                    </a:lnTo>
                    <a:lnTo>
                      <a:pt x="1159" y="672"/>
                    </a:lnTo>
                    <a:lnTo>
                      <a:pt x="1158" y="671"/>
                    </a:lnTo>
                    <a:lnTo>
                      <a:pt x="1155" y="669"/>
                    </a:lnTo>
                    <a:lnTo>
                      <a:pt x="1153" y="669"/>
                    </a:lnTo>
                    <a:lnTo>
                      <a:pt x="1150" y="667"/>
                    </a:lnTo>
                    <a:lnTo>
                      <a:pt x="1148" y="665"/>
                    </a:lnTo>
                    <a:lnTo>
                      <a:pt x="1147" y="662"/>
                    </a:lnTo>
                    <a:lnTo>
                      <a:pt x="1146" y="660"/>
                    </a:lnTo>
                    <a:lnTo>
                      <a:pt x="1146" y="656"/>
                    </a:lnTo>
                    <a:lnTo>
                      <a:pt x="1146" y="653"/>
                    </a:lnTo>
                    <a:lnTo>
                      <a:pt x="1147" y="649"/>
                    </a:lnTo>
                    <a:lnTo>
                      <a:pt x="1147" y="645"/>
                    </a:lnTo>
                    <a:lnTo>
                      <a:pt x="1148" y="641"/>
                    </a:lnTo>
                    <a:lnTo>
                      <a:pt x="1150" y="640"/>
                    </a:lnTo>
                    <a:lnTo>
                      <a:pt x="1151" y="639"/>
                    </a:lnTo>
                    <a:lnTo>
                      <a:pt x="1154" y="636"/>
                    </a:lnTo>
                    <a:lnTo>
                      <a:pt x="1155" y="635"/>
                    </a:lnTo>
                    <a:lnTo>
                      <a:pt x="1155" y="633"/>
                    </a:lnTo>
                    <a:lnTo>
                      <a:pt x="1155" y="629"/>
                    </a:lnTo>
                    <a:lnTo>
                      <a:pt x="1153" y="623"/>
                    </a:lnTo>
                    <a:lnTo>
                      <a:pt x="1150" y="618"/>
                    </a:lnTo>
                    <a:lnTo>
                      <a:pt x="1149" y="612"/>
                    </a:lnTo>
                    <a:lnTo>
                      <a:pt x="1150" y="609"/>
                    </a:lnTo>
                    <a:lnTo>
                      <a:pt x="1155" y="609"/>
                    </a:lnTo>
                    <a:lnTo>
                      <a:pt x="1158" y="609"/>
                    </a:lnTo>
                    <a:lnTo>
                      <a:pt x="1161" y="611"/>
                    </a:lnTo>
                    <a:lnTo>
                      <a:pt x="1165" y="613"/>
                    </a:lnTo>
                    <a:lnTo>
                      <a:pt x="1168" y="615"/>
                    </a:lnTo>
                    <a:lnTo>
                      <a:pt x="1172" y="618"/>
                    </a:lnTo>
                    <a:lnTo>
                      <a:pt x="1176" y="619"/>
                    </a:lnTo>
                    <a:lnTo>
                      <a:pt x="1179" y="620"/>
                    </a:lnTo>
                    <a:lnTo>
                      <a:pt x="1182" y="621"/>
                    </a:lnTo>
                    <a:lnTo>
                      <a:pt x="1186" y="622"/>
                    </a:lnTo>
                    <a:lnTo>
                      <a:pt x="1188" y="622"/>
                    </a:lnTo>
                    <a:lnTo>
                      <a:pt x="1191" y="623"/>
                    </a:lnTo>
                    <a:lnTo>
                      <a:pt x="1193" y="624"/>
                    </a:lnTo>
                    <a:lnTo>
                      <a:pt x="1197" y="625"/>
                    </a:lnTo>
                    <a:lnTo>
                      <a:pt x="1199" y="626"/>
                    </a:lnTo>
                    <a:lnTo>
                      <a:pt x="1201" y="628"/>
                    </a:lnTo>
                    <a:lnTo>
                      <a:pt x="1202" y="628"/>
                    </a:lnTo>
                    <a:lnTo>
                      <a:pt x="1203" y="626"/>
                    </a:lnTo>
                    <a:lnTo>
                      <a:pt x="1204" y="625"/>
                    </a:lnTo>
                    <a:lnTo>
                      <a:pt x="1204" y="623"/>
                    </a:lnTo>
                    <a:lnTo>
                      <a:pt x="1203" y="620"/>
                    </a:lnTo>
                    <a:lnTo>
                      <a:pt x="1202" y="614"/>
                    </a:lnTo>
                    <a:lnTo>
                      <a:pt x="1200" y="611"/>
                    </a:lnTo>
                    <a:lnTo>
                      <a:pt x="1198" y="609"/>
                    </a:lnTo>
                    <a:lnTo>
                      <a:pt x="1194" y="607"/>
                    </a:lnTo>
                    <a:lnTo>
                      <a:pt x="1190" y="604"/>
                    </a:lnTo>
                    <a:lnTo>
                      <a:pt x="1188" y="602"/>
                    </a:lnTo>
                    <a:lnTo>
                      <a:pt x="1186" y="600"/>
                    </a:lnTo>
                    <a:lnTo>
                      <a:pt x="1183" y="598"/>
                    </a:lnTo>
                    <a:lnTo>
                      <a:pt x="1183" y="595"/>
                    </a:lnTo>
                    <a:lnTo>
                      <a:pt x="1183" y="592"/>
                    </a:lnTo>
                    <a:lnTo>
                      <a:pt x="1182" y="590"/>
                    </a:lnTo>
                    <a:lnTo>
                      <a:pt x="1180" y="588"/>
                    </a:lnTo>
                    <a:lnTo>
                      <a:pt x="1177" y="587"/>
                    </a:lnTo>
                    <a:lnTo>
                      <a:pt x="1176" y="587"/>
                    </a:lnTo>
                    <a:lnTo>
                      <a:pt x="1173" y="587"/>
                    </a:lnTo>
                    <a:lnTo>
                      <a:pt x="1171" y="587"/>
                    </a:lnTo>
                    <a:lnTo>
                      <a:pt x="1170" y="587"/>
                    </a:lnTo>
                    <a:lnTo>
                      <a:pt x="1168" y="587"/>
                    </a:lnTo>
                    <a:lnTo>
                      <a:pt x="1167" y="586"/>
                    </a:lnTo>
                    <a:lnTo>
                      <a:pt x="1166" y="585"/>
                    </a:lnTo>
                    <a:lnTo>
                      <a:pt x="1166" y="582"/>
                    </a:lnTo>
                    <a:lnTo>
                      <a:pt x="1166" y="580"/>
                    </a:lnTo>
                    <a:lnTo>
                      <a:pt x="1167" y="578"/>
                    </a:lnTo>
                    <a:lnTo>
                      <a:pt x="1167" y="576"/>
                    </a:lnTo>
                    <a:lnTo>
                      <a:pt x="1167" y="574"/>
                    </a:lnTo>
                    <a:lnTo>
                      <a:pt x="1166" y="573"/>
                    </a:lnTo>
                    <a:lnTo>
                      <a:pt x="1164" y="571"/>
                    </a:lnTo>
                    <a:lnTo>
                      <a:pt x="1161" y="570"/>
                    </a:lnTo>
                    <a:lnTo>
                      <a:pt x="1158" y="569"/>
                    </a:lnTo>
                    <a:lnTo>
                      <a:pt x="1155" y="569"/>
                    </a:lnTo>
                    <a:lnTo>
                      <a:pt x="1153" y="570"/>
                    </a:lnTo>
                    <a:lnTo>
                      <a:pt x="1150" y="571"/>
                    </a:lnTo>
                    <a:lnTo>
                      <a:pt x="1149" y="571"/>
                    </a:lnTo>
                    <a:lnTo>
                      <a:pt x="1148" y="573"/>
                    </a:lnTo>
                    <a:lnTo>
                      <a:pt x="1148" y="574"/>
                    </a:lnTo>
                    <a:lnTo>
                      <a:pt x="1148" y="576"/>
                    </a:lnTo>
                    <a:lnTo>
                      <a:pt x="1148" y="578"/>
                    </a:lnTo>
                    <a:lnTo>
                      <a:pt x="1148" y="580"/>
                    </a:lnTo>
                    <a:lnTo>
                      <a:pt x="1148" y="584"/>
                    </a:lnTo>
                    <a:lnTo>
                      <a:pt x="1147" y="586"/>
                    </a:lnTo>
                    <a:lnTo>
                      <a:pt x="1145" y="587"/>
                    </a:lnTo>
                    <a:lnTo>
                      <a:pt x="1142" y="587"/>
                    </a:lnTo>
                    <a:lnTo>
                      <a:pt x="1138" y="586"/>
                    </a:lnTo>
                    <a:lnTo>
                      <a:pt x="1135" y="584"/>
                    </a:lnTo>
                    <a:lnTo>
                      <a:pt x="1131" y="580"/>
                    </a:lnTo>
                    <a:lnTo>
                      <a:pt x="1128" y="578"/>
                    </a:lnTo>
                    <a:lnTo>
                      <a:pt x="1127" y="576"/>
                    </a:lnTo>
                    <a:lnTo>
                      <a:pt x="1127" y="574"/>
                    </a:lnTo>
                    <a:lnTo>
                      <a:pt x="1127" y="571"/>
                    </a:lnTo>
                    <a:lnTo>
                      <a:pt x="1127" y="569"/>
                    </a:lnTo>
                    <a:lnTo>
                      <a:pt x="1126" y="567"/>
                    </a:lnTo>
                    <a:lnTo>
                      <a:pt x="1126" y="564"/>
                    </a:lnTo>
                    <a:lnTo>
                      <a:pt x="1125" y="560"/>
                    </a:lnTo>
                    <a:lnTo>
                      <a:pt x="1124" y="558"/>
                    </a:lnTo>
                    <a:lnTo>
                      <a:pt x="1123" y="556"/>
                    </a:lnTo>
                    <a:lnTo>
                      <a:pt x="1122" y="554"/>
                    </a:lnTo>
                    <a:lnTo>
                      <a:pt x="1122" y="551"/>
                    </a:lnTo>
                    <a:lnTo>
                      <a:pt x="1122" y="548"/>
                    </a:lnTo>
                    <a:lnTo>
                      <a:pt x="1122" y="547"/>
                    </a:lnTo>
                    <a:lnTo>
                      <a:pt x="1123" y="545"/>
                    </a:lnTo>
                    <a:lnTo>
                      <a:pt x="1124" y="544"/>
                    </a:lnTo>
                    <a:lnTo>
                      <a:pt x="1126" y="543"/>
                    </a:lnTo>
                    <a:lnTo>
                      <a:pt x="1127" y="542"/>
                    </a:lnTo>
                    <a:lnTo>
                      <a:pt x="1127" y="541"/>
                    </a:lnTo>
                    <a:lnTo>
                      <a:pt x="1127" y="538"/>
                    </a:lnTo>
                    <a:lnTo>
                      <a:pt x="1126" y="536"/>
                    </a:lnTo>
                    <a:lnTo>
                      <a:pt x="1125" y="535"/>
                    </a:lnTo>
                    <a:lnTo>
                      <a:pt x="1123" y="533"/>
                    </a:lnTo>
                    <a:lnTo>
                      <a:pt x="1122" y="531"/>
                    </a:lnTo>
                    <a:lnTo>
                      <a:pt x="1120" y="529"/>
                    </a:lnTo>
                    <a:lnTo>
                      <a:pt x="1118" y="526"/>
                    </a:lnTo>
                    <a:lnTo>
                      <a:pt x="1117" y="525"/>
                    </a:lnTo>
                    <a:lnTo>
                      <a:pt x="1120" y="523"/>
                    </a:lnTo>
                    <a:lnTo>
                      <a:pt x="1122" y="522"/>
                    </a:lnTo>
                    <a:lnTo>
                      <a:pt x="1123" y="521"/>
                    </a:lnTo>
                    <a:lnTo>
                      <a:pt x="1125" y="520"/>
                    </a:lnTo>
                    <a:lnTo>
                      <a:pt x="1126" y="519"/>
                    </a:lnTo>
                    <a:lnTo>
                      <a:pt x="1128" y="516"/>
                    </a:lnTo>
                    <a:lnTo>
                      <a:pt x="1129" y="513"/>
                    </a:lnTo>
                    <a:lnTo>
                      <a:pt x="1128" y="512"/>
                    </a:lnTo>
                    <a:lnTo>
                      <a:pt x="1127" y="510"/>
                    </a:lnTo>
                    <a:lnTo>
                      <a:pt x="1125" y="509"/>
                    </a:lnTo>
                    <a:lnTo>
                      <a:pt x="1122" y="508"/>
                    </a:lnTo>
                    <a:lnTo>
                      <a:pt x="1118" y="506"/>
                    </a:lnTo>
                    <a:lnTo>
                      <a:pt x="1116" y="505"/>
                    </a:lnTo>
                    <a:lnTo>
                      <a:pt x="1115" y="504"/>
                    </a:lnTo>
                    <a:lnTo>
                      <a:pt x="1115" y="502"/>
                    </a:lnTo>
                    <a:lnTo>
                      <a:pt x="1115" y="500"/>
                    </a:lnTo>
                    <a:lnTo>
                      <a:pt x="1115" y="498"/>
                    </a:lnTo>
                    <a:lnTo>
                      <a:pt x="1116" y="495"/>
                    </a:lnTo>
                    <a:lnTo>
                      <a:pt x="1116" y="494"/>
                    </a:lnTo>
                    <a:lnTo>
                      <a:pt x="1115" y="492"/>
                    </a:lnTo>
                    <a:lnTo>
                      <a:pt x="1114" y="489"/>
                    </a:lnTo>
                    <a:lnTo>
                      <a:pt x="1112" y="486"/>
                    </a:lnTo>
                    <a:lnTo>
                      <a:pt x="1109" y="483"/>
                    </a:lnTo>
                    <a:lnTo>
                      <a:pt x="1105" y="481"/>
                    </a:lnTo>
                    <a:lnTo>
                      <a:pt x="1103" y="479"/>
                    </a:lnTo>
                    <a:lnTo>
                      <a:pt x="1099" y="478"/>
                    </a:lnTo>
                    <a:lnTo>
                      <a:pt x="1098" y="477"/>
                    </a:lnTo>
                    <a:lnTo>
                      <a:pt x="1098" y="476"/>
                    </a:lnTo>
                    <a:lnTo>
                      <a:pt x="1098" y="475"/>
                    </a:lnTo>
                    <a:lnTo>
                      <a:pt x="1098" y="472"/>
                    </a:lnTo>
                    <a:lnTo>
                      <a:pt x="1099" y="470"/>
                    </a:lnTo>
                    <a:lnTo>
                      <a:pt x="1099" y="466"/>
                    </a:lnTo>
                    <a:lnTo>
                      <a:pt x="1099" y="461"/>
                    </a:lnTo>
                    <a:lnTo>
                      <a:pt x="1098" y="457"/>
                    </a:lnTo>
                    <a:lnTo>
                      <a:pt x="1096" y="454"/>
                    </a:lnTo>
                    <a:lnTo>
                      <a:pt x="1094" y="448"/>
                    </a:lnTo>
                    <a:lnTo>
                      <a:pt x="1093" y="445"/>
                    </a:lnTo>
                    <a:lnTo>
                      <a:pt x="1092" y="442"/>
                    </a:lnTo>
                    <a:lnTo>
                      <a:pt x="1090" y="438"/>
                    </a:lnTo>
                    <a:lnTo>
                      <a:pt x="1089" y="435"/>
                    </a:lnTo>
                    <a:lnTo>
                      <a:pt x="1088" y="433"/>
                    </a:lnTo>
                    <a:lnTo>
                      <a:pt x="1084" y="431"/>
                    </a:lnTo>
                    <a:lnTo>
                      <a:pt x="1081" y="429"/>
                    </a:lnTo>
                    <a:lnTo>
                      <a:pt x="1079" y="427"/>
                    </a:lnTo>
                    <a:lnTo>
                      <a:pt x="1078" y="425"/>
                    </a:lnTo>
                    <a:lnTo>
                      <a:pt x="1076" y="423"/>
                    </a:lnTo>
                    <a:lnTo>
                      <a:pt x="1073" y="420"/>
                    </a:lnTo>
                    <a:lnTo>
                      <a:pt x="1072" y="418"/>
                    </a:lnTo>
                    <a:lnTo>
                      <a:pt x="1070" y="415"/>
                    </a:lnTo>
                    <a:lnTo>
                      <a:pt x="1066" y="412"/>
                    </a:lnTo>
                    <a:lnTo>
                      <a:pt x="1062" y="409"/>
                    </a:lnTo>
                    <a:lnTo>
                      <a:pt x="1059" y="405"/>
                    </a:lnTo>
                    <a:lnTo>
                      <a:pt x="1057" y="401"/>
                    </a:lnTo>
                    <a:lnTo>
                      <a:pt x="1055" y="396"/>
                    </a:lnTo>
                    <a:lnTo>
                      <a:pt x="1055" y="392"/>
                    </a:lnTo>
                    <a:lnTo>
                      <a:pt x="1049" y="382"/>
                    </a:lnTo>
                    <a:lnTo>
                      <a:pt x="1041" y="372"/>
                    </a:lnTo>
                    <a:lnTo>
                      <a:pt x="1033" y="366"/>
                    </a:lnTo>
                    <a:lnTo>
                      <a:pt x="1020" y="359"/>
                    </a:lnTo>
                    <a:lnTo>
                      <a:pt x="1008" y="355"/>
                    </a:lnTo>
                    <a:lnTo>
                      <a:pt x="1005" y="352"/>
                    </a:lnTo>
                    <a:lnTo>
                      <a:pt x="1002" y="351"/>
                    </a:lnTo>
                    <a:lnTo>
                      <a:pt x="997" y="350"/>
                    </a:lnTo>
                    <a:lnTo>
                      <a:pt x="994" y="349"/>
                    </a:lnTo>
                    <a:lnTo>
                      <a:pt x="991" y="348"/>
                    </a:lnTo>
                    <a:lnTo>
                      <a:pt x="987" y="346"/>
                    </a:lnTo>
                    <a:lnTo>
                      <a:pt x="983" y="344"/>
                    </a:lnTo>
                    <a:lnTo>
                      <a:pt x="979" y="341"/>
                    </a:lnTo>
                    <a:lnTo>
                      <a:pt x="975" y="339"/>
                    </a:lnTo>
                    <a:lnTo>
                      <a:pt x="973" y="339"/>
                    </a:lnTo>
                    <a:lnTo>
                      <a:pt x="970" y="338"/>
                    </a:lnTo>
                    <a:lnTo>
                      <a:pt x="967" y="337"/>
                    </a:lnTo>
                    <a:lnTo>
                      <a:pt x="964" y="336"/>
                    </a:lnTo>
                    <a:lnTo>
                      <a:pt x="962" y="336"/>
                    </a:lnTo>
                    <a:lnTo>
                      <a:pt x="960" y="335"/>
                    </a:lnTo>
                    <a:lnTo>
                      <a:pt x="959" y="337"/>
                    </a:lnTo>
                    <a:lnTo>
                      <a:pt x="960" y="338"/>
                    </a:lnTo>
                    <a:lnTo>
                      <a:pt x="961" y="340"/>
                    </a:lnTo>
                    <a:lnTo>
                      <a:pt x="963" y="342"/>
                    </a:lnTo>
                    <a:lnTo>
                      <a:pt x="964" y="344"/>
                    </a:lnTo>
                    <a:lnTo>
                      <a:pt x="964" y="345"/>
                    </a:lnTo>
                    <a:lnTo>
                      <a:pt x="962" y="346"/>
                    </a:lnTo>
                    <a:lnTo>
                      <a:pt x="961" y="346"/>
                    </a:lnTo>
                    <a:lnTo>
                      <a:pt x="959" y="346"/>
                    </a:lnTo>
                    <a:lnTo>
                      <a:pt x="957" y="345"/>
                    </a:lnTo>
                    <a:lnTo>
                      <a:pt x="954" y="345"/>
                    </a:lnTo>
                    <a:lnTo>
                      <a:pt x="952" y="344"/>
                    </a:lnTo>
                    <a:lnTo>
                      <a:pt x="951" y="344"/>
                    </a:lnTo>
                    <a:lnTo>
                      <a:pt x="943" y="341"/>
                    </a:lnTo>
                    <a:lnTo>
                      <a:pt x="937" y="340"/>
                    </a:lnTo>
                    <a:lnTo>
                      <a:pt x="933" y="341"/>
                    </a:lnTo>
                    <a:lnTo>
                      <a:pt x="931" y="346"/>
                    </a:lnTo>
                    <a:lnTo>
                      <a:pt x="928" y="346"/>
                    </a:lnTo>
                    <a:lnTo>
                      <a:pt x="925" y="344"/>
                    </a:lnTo>
                    <a:lnTo>
                      <a:pt x="921" y="341"/>
                    </a:lnTo>
                    <a:lnTo>
                      <a:pt x="918" y="339"/>
                    </a:lnTo>
                    <a:lnTo>
                      <a:pt x="916" y="339"/>
                    </a:lnTo>
                    <a:lnTo>
                      <a:pt x="915" y="340"/>
                    </a:lnTo>
                    <a:lnTo>
                      <a:pt x="914" y="341"/>
                    </a:lnTo>
                    <a:lnTo>
                      <a:pt x="914" y="344"/>
                    </a:lnTo>
                    <a:lnTo>
                      <a:pt x="914" y="346"/>
                    </a:lnTo>
                    <a:lnTo>
                      <a:pt x="914" y="348"/>
                    </a:lnTo>
                    <a:lnTo>
                      <a:pt x="914" y="349"/>
                    </a:lnTo>
                    <a:lnTo>
                      <a:pt x="914" y="350"/>
                    </a:lnTo>
                    <a:lnTo>
                      <a:pt x="910" y="350"/>
                    </a:lnTo>
                    <a:lnTo>
                      <a:pt x="907" y="349"/>
                    </a:lnTo>
                    <a:lnTo>
                      <a:pt x="904" y="348"/>
                    </a:lnTo>
                    <a:lnTo>
                      <a:pt x="900" y="347"/>
                    </a:lnTo>
                    <a:lnTo>
                      <a:pt x="896" y="346"/>
                    </a:lnTo>
                    <a:lnTo>
                      <a:pt x="893" y="345"/>
                    </a:lnTo>
                    <a:lnTo>
                      <a:pt x="888" y="344"/>
                    </a:lnTo>
                    <a:lnTo>
                      <a:pt x="885" y="342"/>
                    </a:lnTo>
                    <a:lnTo>
                      <a:pt x="881" y="341"/>
                    </a:lnTo>
                    <a:lnTo>
                      <a:pt x="877" y="340"/>
                    </a:lnTo>
                    <a:lnTo>
                      <a:pt x="875" y="338"/>
                    </a:lnTo>
                    <a:lnTo>
                      <a:pt x="874" y="336"/>
                    </a:lnTo>
                    <a:lnTo>
                      <a:pt x="872" y="335"/>
                    </a:lnTo>
                    <a:lnTo>
                      <a:pt x="870" y="333"/>
                    </a:lnTo>
                    <a:lnTo>
                      <a:pt x="866" y="331"/>
                    </a:lnTo>
                    <a:lnTo>
                      <a:pt x="862" y="330"/>
                    </a:lnTo>
                    <a:lnTo>
                      <a:pt x="859" y="329"/>
                    </a:lnTo>
                    <a:lnTo>
                      <a:pt x="854" y="328"/>
                    </a:lnTo>
                    <a:lnTo>
                      <a:pt x="852" y="328"/>
                    </a:lnTo>
                    <a:lnTo>
                      <a:pt x="851" y="327"/>
                    </a:lnTo>
                    <a:lnTo>
                      <a:pt x="851" y="326"/>
                    </a:lnTo>
                    <a:lnTo>
                      <a:pt x="852" y="325"/>
                    </a:lnTo>
                    <a:lnTo>
                      <a:pt x="854" y="324"/>
                    </a:lnTo>
                    <a:lnTo>
                      <a:pt x="856" y="323"/>
                    </a:lnTo>
                    <a:lnTo>
                      <a:pt x="860" y="322"/>
                    </a:lnTo>
                    <a:lnTo>
                      <a:pt x="862" y="320"/>
                    </a:lnTo>
                    <a:lnTo>
                      <a:pt x="863" y="319"/>
                    </a:lnTo>
                    <a:lnTo>
                      <a:pt x="866" y="319"/>
                    </a:lnTo>
                    <a:lnTo>
                      <a:pt x="869" y="319"/>
                    </a:lnTo>
                    <a:lnTo>
                      <a:pt x="872" y="319"/>
                    </a:lnTo>
                    <a:lnTo>
                      <a:pt x="875" y="319"/>
                    </a:lnTo>
                    <a:lnTo>
                      <a:pt x="877" y="318"/>
                    </a:lnTo>
                    <a:lnTo>
                      <a:pt x="880" y="318"/>
                    </a:lnTo>
                    <a:lnTo>
                      <a:pt x="882" y="317"/>
                    </a:lnTo>
                    <a:lnTo>
                      <a:pt x="882" y="315"/>
                    </a:lnTo>
                    <a:lnTo>
                      <a:pt x="881" y="313"/>
                    </a:lnTo>
                    <a:lnTo>
                      <a:pt x="880" y="312"/>
                    </a:lnTo>
                    <a:lnTo>
                      <a:pt x="876" y="311"/>
                    </a:lnTo>
                    <a:lnTo>
                      <a:pt x="873" y="309"/>
                    </a:lnTo>
                    <a:lnTo>
                      <a:pt x="870" y="309"/>
                    </a:lnTo>
                    <a:lnTo>
                      <a:pt x="867" y="311"/>
                    </a:lnTo>
                    <a:lnTo>
                      <a:pt x="865" y="311"/>
                    </a:lnTo>
                    <a:lnTo>
                      <a:pt x="862" y="311"/>
                    </a:lnTo>
                    <a:lnTo>
                      <a:pt x="859" y="309"/>
                    </a:lnTo>
                    <a:lnTo>
                      <a:pt x="855" y="307"/>
                    </a:lnTo>
                    <a:lnTo>
                      <a:pt x="853" y="306"/>
                    </a:lnTo>
                    <a:lnTo>
                      <a:pt x="850" y="304"/>
                    </a:lnTo>
                    <a:lnTo>
                      <a:pt x="843" y="302"/>
                    </a:lnTo>
                    <a:lnTo>
                      <a:pt x="836" y="301"/>
                    </a:lnTo>
                    <a:lnTo>
                      <a:pt x="829" y="297"/>
                    </a:lnTo>
                    <a:lnTo>
                      <a:pt x="827" y="296"/>
                    </a:lnTo>
                    <a:lnTo>
                      <a:pt x="826" y="293"/>
                    </a:lnTo>
                    <a:lnTo>
                      <a:pt x="826" y="291"/>
                    </a:lnTo>
                    <a:lnTo>
                      <a:pt x="827" y="289"/>
                    </a:lnTo>
                    <a:lnTo>
                      <a:pt x="829" y="286"/>
                    </a:lnTo>
                    <a:lnTo>
                      <a:pt x="831" y="284"/>
                    </a:lnTo>
                    <a:lnTo>
                      <a:pt x="836" y="283"/>
                    </a:lnTo>
                    <a:lnTo>
                      <a:pt x="839" y="282"/>
                    </a:lnTo>
                    <a:lnTo>
                      <a:pt x="842" y="282"/>
                    </a:lnTo>
                    <a:lnTo>
                      <a:pt x="845" y="281"/>
                    </a:lnTo>
                    <a:lnTo>
                      <a:pt x="848" y="281"/>
                    </a:lnTo>
                    <a:lnTo>
                      <a:pt x="850" y="280"/>
                    </a:lnTo>
                    <a:lnTo>
                      <a:pt x="852" y="280"/>
                    </a:lnTo>
                    <a:lnTo>
                      <a:pt x="853" y="281"/>
                    </a:lnTo>
                    <a:lnTo>
                      <a:pt x="855" y="282"/>
                    </a:lnTo>
                    <a:lnTo>
                      <a:pt x="858" y="283"/>
                    </a:lnTo>
                    <a:lnTo>
                      <a:pt x="859" y="285"/>
                    </a:lnTo>
                    <a:lnTo>
                      <a:pt x="863" y="285"/>
                    </a:lnTo>
                    <a:lnTo>
                      <a:pt x="865" y="284"/>
                    </a:lnTo>
                    <a:lnTo>
                      <a:pt x="867" y="283"/>
                    </a:lnTo>
                    <a:lnTo>
                      <a:pt x="870" y="282"/>
                    </a:lnTo>
                    <a:lnTo>
                      <a:pt x="872" y="280"/>
                    </a:lnTo>
                    <a:lnTo>
                      <a:pt x="874" y="279"/>
                    </a:lnTo>
                    <a:lnTo>
                      <a:pt x="876" y="279"/>
                    </a:lnTo>
                    <a:lnTo>
                      <a:pt x="881" y="278"/>
                    </a:lnTo>
                    <a:lnTo>
                      <a:pt x="885" y="279"/>
                    </a:lnTo>
                    <a:lnTo>
                      <a:pt x="892" y="281"/>
                    </a:lnTo>
                    <a:lnTo>
                      <a:pt x="896" y="282"/>
                    </a:lnTo>
                    <a:lnTo>
                      <a:pt x="900" y="281"/>
                    </a:lnTo>
                    <a:lnTo>
                      <a:pt x="900" y="279"/>
                    </a:lnTo>
                    <a:lnTo>
                      <a:pt x="902" y="276"/>
                    </a:lnTo>
                    <a:lnTo>
                      <a:pt x="903" y="276"/>
                    </a:lnTo>
                    <a:lnTo>
                      <a:pt x="904" y="275"/>
                    </a:lnTo>
                    <a:lnTo>
                      <a:pt x="906" y="275"/>
                    </a:lnTo>
                    <a:lnTo>
                      <a:pt x="908" y="275"/>
                    </a:lnTo>
                    <a:lnTo>
                      <a:pt x="909" y="275"/>
                    </a:lnTo>
                    <a:lnTo>
                      <a:pt x="911" y="275"/>
                    </a:lnTo>
                    <a:lnTo>
                      <a:pt x="913" y="274"/>
                    </a:lnTo>
                    <a:lnTo>
                      <a:pt x="914" y="273"/>
                    </a:lnTo>
                    <a:lnTo>
                      <a:pt x="913" y="272"/>
                    </a:lnTo>
                    <a:lnTo>
                      <a:pt x="911" y="270"/>
                    </a:lnTo>
                    <a:lnTo>
                      <a:pt x="908" y="265"/>
                    </a:lnTo>
                    <a:lnTo>
                      <a:pt x="903" y="262"/>
                    </a:lnTo>
                    <a:lnTo>
                      <a:pt x="897" y="260"/>
                    </a:lnTo>
                    <a:lnTo>
                      <a:pt x="892" y="261"/>
                    </a:lnTo>
                    <a:lnTo>
                      <a:pt x="892" y="262"/>
                    </a:lnTo>
                    <a:lnTo>
                      <a:pt x="891" y="263"/>
                    </a:lnTo>
                    <a:lnTo>
                      <a:pt x="889" y="265"/>
                    </a:lnTo>
                    <a:lnTo>
                      <a:pt x="888" y="266"/>
                    </a:lnTo>
                    <a:lnTo>
                      <a:pt x="887" y="268"/>
                    </a:lnTo>
                    <a:lnTo>
                      <a:pt x="886" y="268"/>
                    </a:lnTo>
                    <a:lnTo>
                      <a:pt x="883" y="268"/>
                    </a:lnTo>
                    <a:lnTo>
                      <a:pt x="882" y="265"/>
                    </a:lnTo>
                    <a:lnTo>
                      <a:pt x="878" y="264"/>
                    </a:lnTo>
                    <a:lnTo>
                      <a:pt x="875" y="264"/>
                    </a:lnTo>
                    <a:lnTo>
                      <a:pt x="872" y="265"/>
                    </a:lnTo>
                    <a:lnTo>
                      <a:pt x="870" y="265"/>
                    </a:lnTo>
                    <a:lnTo>
                      <a:pt x="869" y="268"/>
                    </a:lnTo>
                    <a:lnTo>
                      <a:pt x="867" y="270"/>
                    </a:lnTo>
                    <a:lnTo>
                      <a:pt x="866" y="271"/>
                    </a:lnTo>
                    <a:lnTo>
                      <a:pt x="863" y="271"/>
                    </a:lnTo>
                    <a:lnTo>
                      <a:pt x="860" y="272"/>
                    </a:lnTo>
                    <a:lnTo>
                      <a:pt x="856" y="272"/>
                    </a:lnTo>
                    <a:lnTo>
                      <a:pt x="854" y="271"/>
                    </a:lnTo>
                    <a:lnTo>
                      <a:pt x="852" y="270"/>
                    </a:lnTo>
                    <a:lnTo>
                      <a:pt x="849" y="269"/>
                    </a:lnTo>
                    <a:lnTo>
                      <a:pt x="847" y="269"/>
                    </a:lnTo>
                    <a:lnTo>
                      <a:pt x="844" y="266"/>
                    </a:lnTo>
                    <a:lnTo>
                      <a:pt x="844" y="265"/>
                    </a:lnTo>
                    <a:lnTo>
                      <a:pt x="844" y="263"/>
                    </a:lnTo>
                    <a:lnTo>
                      <a:pt x="845" y="261"/>
                    </a:lnTo>
                    <a:lnTo>
                      <a:pt x="845" y="259"/>
                    </a:lnTo>
                    <a:lnTo>
                      <a:pt x="841" y="253"/>
                    </a:lnTo>
                    <a:lnTo>
                      <a:pt x="833" y="252"/>
                    </a:lnTo>
                    <a:lnTo>
                      <a:pt x="825" y="251"/>
                    </a:lnTo>
                    <a:lnTo>
                      <a:pt x="818" y="250"/>
                    </a:lnTo>
                    <a:lnTo>
                      <a:pt x="812" y="247"/>
                    </a:lnTo>
                    <a:lnTo>
                      <a:pt x="808" y="244"/>
                    </a:lnTo>
                    <a:lnTo>
                      <a:pt x="805" y="241"/>
                    </a:lnTo>
                    <a:lnTo>
                      <a:pt x="802" y="238"/>
                    </a:lnTo>
                    <a:lnTo>
                      <a:pt x="800" y="235"/>
                    </a:lnTo>
                    <a:lnTo>
                      <a:pt x="798" y="231"/>
                    </a:lnTo>
                    <a:lnTo>
                      <a:pt x="797" y="229"/>
                    </a:lnTo>
                    <a:lnTo>
                      <a:pt x="796" y="227"/>
                    </a:lnTo>
                    <a:lnTo>
                      <a:pt x="796" y="224"/>
                    </a:lnTo>
                    <a:lnTo>
                      <a:pt x="796" y="221"/>
                    </a:lnTo>
                    <a:lnTo>
                      <a:pt x="796" y="219"/>
                    </a:lnTo>
                    <a:lnTo>
                      <a:pt x="796" y="217"/>
                    </a:lnTo>
                    <a:lnTo>
                      <a:pt x="797" y="216"/>
                    </a:lnTo>
                    <a:lnTo>
                      <a:pt x="798" y="215"/>
                    </a:lnTo>
                    <a:lnTo>
                      <a:pt x="807" y="210"/>
                    </a:lnTo>
                    <a:lnTo>
                      <a:pt x="817" y="207"/>
                    </a:lnTo>
                    <a:lnTo>
                      <a:pt x="827" y="204"/>
                    </a:lnTo>
                    <a:lnTo>
                      <a:pt x="830" y="204"/>
                    </a:lnTo>
                    <a:lnTo>
                      <a:pt x="834" y="203"/>
                    </a:lnTo>
                    <a:lnTo>
                      <a:pt x="838" y="202"/>
                    </a:lnTo>
                    <a:lnTo>
                      <a:pt x="842" y="199"/>
                    </a:lnTo>
                    <a:lnTo>
                      <a:pt x="844" y="198"/>
                    </a:lnTo>
                    <a:lnTo>
                      <a:pt x="847" y="197"/>
                    </a:lnTo>
                    <a:lnTo>
                      <a:pt x="850" y="195"/>
                    </a:lnTo>
                    <a:lnTo>
                      <a:pt x="852" y="194"/>
                    </a:lnTo>
                    <a:lnTo>
                      <a:pt x="853" y="193"/>
                    </a:lnTo>
                    <a:lnTo>
                      <a:pt x="854" y="191"/>
                    </a:lnTo>
                    <a:lnTo>
                      <a:pt x="855" y="189"/>
                    </a:lnTo>
                    <a:lnTo>
                      <a:pt x="856" y="188"/>
                    </a:lnTo>
                    <a:lnTo>
                      <a:pt x="859" y="188"/>
                    </a:lnTo>
                    <a:lnTo>
                      <a:pt x="862" y="188"/>
                    </a:lnTo>
                    <a:lnTo>
                      <a:pt x="865" y="189"/>
                    </a:lnTo>
                    <a:lnTo>
                      <a:pt x="867" y="189"/>
                    </a:lnTo>
                    <a:lnTo>
                      <a:pt x="871" y="189"/>
                    </a:lnTo>
                    <a:lnTo>
                      <a:pt x="872" y="188"/>
                    </a:lnTo>
                    <a:lnTo>
                      <a:pt x="874" y="188"/>
                    </a:lnTo>
                    <a:lnTo>
                      <a:pt x="876" y="187"/>
                    </a:lnTo>
                    <a:lnTo>
                      <a:pt x="878" y="186"/>
                    </a:lnTo>
                    <a:lnTo>
                      <a:pt x="881" y="186"/>
                    </a:lnTo>
                    <a:lnTo>
                      <a:pt x="881" y="186"/>
                    </a:lnTo>
                    <a:lnTo>
                      <a:pt x="882" y="187"/>
                    </a:lnTo>
                    <a:lnTo>
                      <a:pt x="883" y="188"/>
                    </a:lnTo>
                    <a:lnTo>
                      <a:pt x="889" y="188"/>
                    </a:lnTo>
                    <a:lnTo>
                      <a:pt x="893" y="188"/>
                    </a:lnTo>
                    <a:lnTo>
                      <a:pt x="896" y="187"/>
                    </a:lnTo>
                    <a:lnTo>
                      <a:pt x="897" y="185"/>
                    </a:lnTo>
                    <a:lnTo>
                      <a:pt x="899" y="183"/>
                    </a:lnTo>
                    <a:lnTo>
                      <a:pt x="902" y="181"/>
                    </a:lnTo>
                    <a:lnTo>
                      <a:pt x="904" y="178"/>
                    </a:lnTo>
                    <a:lnTo>
                      <a:pt x="907" y="177"/>
                    </a:lnTo>
                    <a:lnTo>
                      <a:pt x="910" y="176"/>
                    </a:lnTo>
                    <a:lnTo>
                      <a:pt x="913" y="174"/>
                    </a:lnTo>
                    <a:lnTo>
                      <a:pt x="915" y="172"/>
                    </a:lnTo>
                    <a:lnTo>
                      <a:pt x="915" y="170"/>
                    </a:lnTo>
                    <a:lnTo>
                      <a:pt x="914" y="166"/>
                    </a:lnTo>
                    <a:lnTo>
                      <a:pt x="911" y="164"/>
                    </a:lnTo>
                    <a:lnTo>
                      <a:pt x="910" y="163"/>
                    </a:lnTo>
                    <a:lnTo>
                      <a:pt x="909" y="162"/>
                    </a:lnTo>
                    <a:lnTo>
                      <a:pt x="907" y="160"/>
                    </a:lnTo>
                    <a:lnTo>
                      <a:pt x="905" y="159"/>
                    </a:lnTo>
                    <a:lnTo>
                      <a:pt x="904" y="158"/>
                    </a:lnTo>
                    <a:lnTo>
                      <a:pt x="903" y="156"/>
                    </a:lnTo>
                    <a:lnTo>
                      <a:pt x="904" y="155"/>
                    </a:lnTo>
                    <a:lnTo>
                      <a:pt x="905" y="154"/>
                    </a:lnTo>
                    <a:lnTo>
                      <a:pt x="907" y="153"/>
                    </a:lnTo>
                    <a:lnTo>
                      <a:pt x="909" y="153"/>
                    </a:lnTo>
                    <a:lnTo>
                      <a:pt x="911" y="153"/>
                    </a:lnTo>
                    <a:lnTo>
                      <a:pt x="913" y="153"/>
                    </a:lnTo>
                    <a:lnTo>
                      <a:pt x="914" y="153"/>
                    </a:lnTo>
                    <a:lnTo>
                      <a:pt x="915" y="152"/>
                    </a:lnTo>
                    <a:lnTo>
                      <a:pt x="914" y="151"/>
                    </a:lnTo>
                    <a:lnTo>
                      <a:pt x="911" y="149"/>
                    </a:lnTo>
                    <a:lnTo>
                      <a:pt x="910" y="149"/>
                    </a:lnTo>
                    <a:lnTo>
                      <a:pt x="909" y="148"/>
                    </a:lnTo>
                    <a:lnTo>
                      <a:pt x="908" y="148"/>
                    </a:lnTo>
                    <a:lnTo>
                      <a:pt x="907" y="147"/>
                    </a:lnTo>
                    <a:lnTo>
                      <a:pt x="908" y="147"/>
                    </a:lnTo>
                    <a:lnTo>
                      <a:pt x="909" y="147"/>
                    </a:lnTo>
                    <a:lnTo>
                      <a:pt x="910" y="145"/>
                    </a:lnTo>
                    <a:lnTo>
                      <a:pt x="910" y="145"/>
                    </a:lnTo>
                    <a:lnTo>
                      <a:pt x="909" y="144"/>
                    </a:lnTo>
                    <a:lnTo>
                      <a:pt x="907" y="143"/>
                    </a:lnTo>
                    <a:lnTo>
                      <a:pt x="905" y="143"/>
                    </a:lnTo>
                    <a:lnTo>
                      <a:pt x="902" y="142"/>
                    </a:lnTo>
                    <a:lnTo>
                      <a:pt x="898" y="142"/>
                    </a:lnTo>
                    <a:lnTo>
                      <a:pt x="898" y="143"/>
                    </a:lnTo>
                    <a:lnTo>
                      <a:pt x="897" y="143"/>
                    </a:lnTo>
                    <a:lnTo>
                      <a:pt x="897" y="144"/>
                    </a:lnTo>
                    <a:lnTo>
                      <a:pt x="897" y="144"/>
                    </a:lnTo>
                    <a:lnTo>
                      <a:pt x="896" y="144"/>
                    </a:lnTo>
                    <a:lnTo>
                      <a:pt x="892" y="144"/>
                    </a:lnTo>
                    <a:lnTo>
                      <a:pt x="887" y="142"/>
                    </a:lnTo>
                    <a:lnTo>
                      <a:pt x="883" y="140"/>
                    </a:lnTo>
                    <a:lnTo>
                      <a:pt x="881" y="140"/>
                    </a:lnTo>
                    <a:lnTo>
                      <a:pt x="877" y="139"/>
                    </a:lnTo>
                    <a:lnTo>
                      <a:pt x="874" y="139"/>
                    </a:lnTo>
                    <a:lnTo>
                      <a:pt x="872" y="139"/>
                    </a:lnTo>
                    <a:lnTo>
                      <a:pt x="870" y="138"/>
                    </a:lnTo>
                    <a:lnTo>
                      <a:pt x="869" y="135"/>
                    </a:lnTo>
                    <a:lnTo>
                      <a:pt x="869" y="133"/>
                    </a:lnTo>
                    <a:lnTo>
                      <a:pt x="867" y="131"/>
                    </a:lnTo>
                    <a:lnTo>
                      <a:pt x="867" y="129"/>
                    </a:lnTo>
                    <a:lnTo>
                      <a:pt x="867" y="128"/>
                    </a:lnTo>
                    <a:lnTo>
                      <a:pt x="869" y="126"/>
                    </a:lnTo>
                    <a:lnTo>
                      <a:pt x="869" y="124"/>
                    </a:lnTo>
                    <a:lnTo>
                      <a:pt x="870" y="122"/>
                    </a:lnTo>
                    <a:lnTo>
                      <a:pt x="872" y="121"/>
                    </a:lnTo>
                    <a:lnTo>
                      <a:pt x="873" y="119"/>
                    </a:lnTo>
                    <a:lnTo>
                      <a:pt x="874" y="118"/>
                    </a:lnTo>
                    <a:lnTo>
                      <a:pt x="876" y="117"/>
                    </a:lnTo>
                    <a:lnTo>
                      <a:pt x="878" y="116"/>
                    </a:lnTo>
                    <a:lnTo>
                      <a:pt x="878" y="115"/>
                    </a:lnTo>
                    <a:lnTo>
                      <a:pt x="878" y="113"/>
                    </a:lnTo>
                    <a:lnTo>
                      <a:pt x="878" y="112"/>
                    </a:lnTo>
                    <a:lnTo>
                      <a:pt x="878" y="111"/>
                    </a:lnTo>
                    <a:lnTo>
                      <a:pt x="878" y="109"/>
                    </a:lnTo>
                    <a:lnTo>
                      <a:pt x="878" y="108"/>
                    </a:lnTo>
                    <a:lnTo>
                      <a:pt x="878" y="107"/>
                    </a:lnTo>
                    <a:lnTo>
                      <a:pt x="878" y="108"/>
                    </a:lnTo>
                    <a:lnTo>
                      <a:pt x="882" y="108"/>
                    </a:lnTo>
                    <a:lnTo>
                      <a:pt x="884" y="109"/>
                    </a:lnTo>
                    <a:lnTo>
                      <a:pt x="886" y="109"/>
                    </a:lnTo>
                    <a:lnTo>
                      <a:pt x="887" y="110"/>
                    </a:lnTo>
                    <a:lnTo>
                      <a:pt x="891" y="109"/>
                    </a:lnTo>
                    <a:lnTo>
                      <a:pt x="893" y="107"/>
                    </a:lnTo>
                    <a:lnTo>
                      <a:pt x="894" y="105"/>
                    </a:lnTo>
                    <a:lnTo>
                      <a:pt x="895" y="102"/>
                    </a:lnTo>
                    <a:lnTo>
                      <a:pt x="896" y="100"/>
                    </a:lnTo>
                    <a:lnTo>
                      <a:pt x="897" y="99"/>
                    </a:lnTo>
                    <a:lnTo>
                      <a:pt x="898" y="97"/>
                    </a:lnTo>
                    <a:lnTo>
                      <a:pt x="900" y="94"/>
                    </a:lnTo>
                    <a:lnTo>
                      <a:pt x="903" y="93"/>
                    </a:lnTo>
                    <a:lnTo>
                      <a:pt x="905" y="91"/>
                    </a:lnTo>
                    <a:lnTo>
                      <a:pt x="907" y="90"/>
                    </a:lnTo>
                    <a:lnTo>
                      <a:pt x="909" y="88"/>
                    </a:lnTo>
                    <a:lnTo>
                      <a:pt x="911" y="86"/>
                    </a:lnTo>
                    <a:lnTo>
                      <a:pt x="914" y="86"/>
                    </a:lnTo>
                    <a:lnTo>
                      <a:pt x="921" y="86"/>
                    </a:lnTo>
                    <a:lnTo>
                      <a:pt x="928" y="88"/>
                    </a:lnTo>
                    <a:lnTo>
                      <a:pt x="933" y="91"/>
                    </a:lnTo>
                    <a:lnTo>
                      <a:pt x="940" y="93"/>
                    </a:lnTo>
                    <a:lnTo>
                      <a:pt x="943" y="93"/>
                    </a:lnTo>
                    <a:lnTo>
                      <a:pt x="945" y="93"/>
                    </a:lnTo>
                    <a:lnTo>
                      <a:pt x="946" y="91"/>
                    </a:lnTo>
                    <a:lnTo>
                      <a:pt x="947" y="90"/>
                    </a:lnTo>
                    <a:lnTo>
                      <a:pt x="947" y="88"/>
                    </a:lnTo>
                    <a:lnTo>
                      <a:pt x="947" y="86"/>
                    </a:lnTo>
                    <a:lnTo>
                      <a:pt x="947" y="85"/>
                    </a:lnTo>
                    <a:lnTo>
                      <a:pt x="947" y="83"/>
                    </a:lnTo>
                    <a:lnTo>
                      <a:pt x="947" y="80"/>
                    </a:lnTo>
                    <a:lnTo>
                      <a:pt x="947" y="79"/>
                    </a:lnTo>
                    <a:lnTo>
                      <a:pt x="948" y="76"/>
                    </a:lnTo>
                    <a:lnTo>
                      <a:pt x="949" y="74"/>
                    </a:lnTo>
                    <a:lnTo>
                      <a:pt x="949" y="72"/>
                    </a:lnTo>
                    <a:lnTo>
                      <a:pt x="948" y="68"/>
                    </a:lnTo>
                    <a:lnTo>
                      <a:pt x="945" y="66"/>
                    </a:lnTo>
                    <a:lnTo>
                      <a:pt x="942" y="64"/>
                    </a:lnTo>
                    <a:lnTo>
                      <a:pt x="940" y="62"/>
                    </a:lnTo>
                    <a:lnTo>
                      <a:pt x="938" y="60"/>
                    </a:lnTo>
                    <a:lnTo>
                      <a:pt x="936" y="57"/>
                    </a:lnTo>
                    <a:lnTo>
                      <a:pt x="935" y="55"/>
                    </a:lnTo>
                    <a:lnTo>
                      <a:pt x="935" y="53"/>
                    </a:lnTo>
                    <a:lnTo>
                      <a:pt x="936" y="51"/>
                    </a:lnTo>
                    <a:lnTo>
                      <a:pt x="939" y="50"/>
                    </a:lnTo>
                    <a:lnTo>
                      <a:pt x="943" y="47"/>
                    </a:lnTo>
                    <a:lnTo>
                      <a:pt x="949" y="47"/>
                    </a:lnTo>
                    <a:lnTo>
                      <a:pt x="953" y="49"/>
                    </a:lnTo>
                    <a:lnTo>
                      <a:pt x="959" y="53"/>
                    </a:lnTo>
                    <a:lnTo>
                      <a:pt x="964" y="58"/>
                    </a:lnTo>
                    <a:lnTo>
                      <a:pt x="973" y="62"/>
                    </a:lnTo>
                    <a:lnTo>
                      <a:pt x="976" y="64"/>
                    </a:lnTo>
                    <a:lnTo>
                      <a:pt x="980" y="66"/>
                    </a:lnTo>
                    <a:lnTo>
                      <a:pt x="984" y="68"/>
                    </a:lnTo>
                    <a:lnTo>
                      <a:pt x="987" y="71"/>
                    </a:lnTo>
                    <a:lnTo>
                      <a:pt x="990" y="73"/>
                    </a:lnTo>
                    <a:lnTo>
                      <a:pt x="992" y="75"/>
                    </a:lnTo>
                    <a:lnTo>
                      <a:pt x="995" y="77"/>
                    </a:lnTo>
                    <a:lnTo>
                      <a:pt x="997" y="78"/>
                    </a:lnTo>
                    <a:lnTo>
                      <a:pt x="1000" y="79"/>
                    </a:lnTo>
                    <a:lnTo>
                      <a:pt x="1001" y="79"/>
                    </a:lnTo>
                    <a:lnTo>
                      <a:pt x="1002" y="79"/>
                    </a:lnTo>
                    <a:lnTo>
                      <a:pt x="1002" y="78"/>
                    </a:lnTo>
                    <a:lnTo>
                      <a:pt x="1002" y="77"/>
                    </a:lnTo>
                    <a:lnTo>
                      <a:pt x="1000" y="74"/>
                    </a:lnTo>
                    <a:lnTo>
                      <a:pt x="997" y="72"/>
                    </a:lnTo>
                    <a:lnTo>
                      <a:pt x="994" y="69"/>
                    </a:lnTo>
                    <a:lnTo>
                      <a:pt x="991" y="68"/>
                    </a:lnTo>
                    <a:lnTo>
                      <a:pt x="978" y="61"/>
                    </a:lnTo>
                    <a:lnTo>
                      <a:pt x="967" y="53"/>
                    </a:lnTo>
                    <a:lnTo>
                      <a:pt x="965" y="52"/>
                    </a:lnTo>
                    <a:lnTo>
                      <a:pt x="963" y="50"/>
                    </a:lnTo>
                    <a:lnTo>
                      <a:pt x="962" y="49"/>
                    </a:lnTo>
                    <a:lnTo>
                      <a:pt x="960" y="47"/>
                    </a:lnTo>
                    <a:lnTo>
                      <a:pt x="960" y="45"/>
                    </a:lnTo>
                    <a:lnTo>
                      <a:pt x="960" y="44"/>
                    </a:lnTo>
                    <a:lnTo>
                      <a:pt x="973" y="44"/>
                    </a:lnTo>
                    <a:lnTo>
                      <a:pt x="976" y="44"/>
                    </a:lnTo>
                    <a:lnTo>
                      <a:pt x="981" y="44"/>
                    </a:lnTo>
                    <a:lnTo>
                      <a:pt x="985" y="43"/>
                    </a:lnTo>
                    <a:lnTo>
                      <a:pt x="989" y="42"/>
                    </a:lnTo>
                    <a:lnTo>
                      <a:pt x="990" y="42"/>
                    </a:lnTo>
                    <a:lnTo>
                      <a:pt x="992" y="41"/>
                    </a:lnTo>
                    <a:lnTo>
                      <a:pt x="994" y="40"/>
                    </a:lnTo>
                    <a:lnTo>
                      <a:pt x="997" y="40"/>
                    </a:lnTo>
                    <a:lnTo>
                      <a:pt x="1002" y="40"/>
                    </a:lnTo>
                    <a:lnTo>
                      <a:pt x="1004" y="40"/>
                    </a:lnTo>
                    <a:lnTo>
                      <a:pt x="1006" y="39"/>
                    </a:lnTo>
                    <a:lnTo>
                      <a:pt x="1008" y="38"/>
                    </a:lnTo>
                    <a:lnTo>
                      <a:pt x="1009" y="38"/>
                    </a:lnTo>
                    <a:lnTo>
                      <a:pt x="1012" y="36"/>
                    </a:lnTo>
                    <a:lnTo>
                      <a:pt x="1014" y="35"/>
                    </a:lnTo>
                    <a:lnTo>
                      <a:pt x="1017" y="35"/>
                    </a:lnTo>
                    <a:lnTo>
                      <a:pt x="1020" y="35"/>
                    </a:lnTo>
                    <a:lnTo>
                      <a:pt x="1024" y="36"/>
                    </a:lnTo>
                    <a:lnTo>
                      <a:pt x="1026" y="38"/>
                    </a:lnTo>
                    <a:lnTo>
                      <a:pt x="1027" y="39"/>
                    </a:lnTo>
                    <a:lnTo>
                      <a:pt x="1028" y="41"/>
                    </a:lnTo>
                    <a:lnTo>
                      <a:pt x="1030" y="42"/>
                    </a:lnTo>
                    <a:lnTo>
                      <a:pt x="1033" y="44"/>
                    </a:lnTo>
                    <a:lnTo>
                      <a:pt x="1034" y="45"/>
                    </a:lnTo>
                    <a:lnTo>
                      <a:pt x="1036" y="46"/>
                    </a:lnTo>
                    <a:lnTo>
                      <a:pt x="1037" y="46"/>
                    </a:lnTo>
                    <a:lnTo>
                      <a:pt x="1038" y="47"/>
                    </a:lnTo>
                    <a:lnTo>
                      <a:pt x="1039" y="49"/>
                    </a:lnTo>
                    <a:lnTo>
                      <a:pt x="1039" y="55"/>
                    </a:lnTo>
                    <a:lnTo>
                      <a:pt x="1039" y="60"/>
                    </a:lnTo>
                    <a:lnTo>
                      <a:pt x="1040" y="64"/>
                    </a:lnTo>
                    <a:lnTo>
                      <a:pt x="1040" y="68"/>
                    </a:lnTo>
                    <a:lnTo>
                      <a:pt x="1041" y="73"/>
                    </a:lnTo>
                    <a:lnTo>
                      <a:pt x="1041" y="73"/>
                    </a:lnTo>
                    <a:lnTo>
                      <a:pt x="1041" y="75"/>
                    </a:lnTo>
                    <a:lnTo>
                      <a:pt x="1041" y="77"/>
                    </a:lnTo>
                    <a:lnTo>
                      <a:pt x="1042" y="78"/>
                    </a:lnTo>
                    <a:lnTo>
                      <a:pt x="1044" y="79"/>
                    </a:lnTo>
                    <a:lnTo>
                      <a:pt x="1045" y="78"/>
                    </a:lnTo>
                    <a:lnTo>
                      <a:pt x="1046" y="77"/>
                    </a:lnTo>
                    <a:lnTo>
                      <a:pt x="1047" y="76"/>
                    </a:lnTo>
                    <a:lnTo>
                      <a:pt x="1047" y="75"/>
                    </a:lnTo>
                    <a:lnTo>
                      <a:pt x="1048" y="75"/>
                    </a:lnTo>
                    <a:lnTo>
                      <a:pt x="1048" y="73"/>
                    </a:lnTo>
                    <a:lnTo>
                      <a:pt x="1048" y="69"/>
                    </a:lnTo>
                    <a:lnTo>
                      <a:pt x="1047" y="66"/>
                    </a:lnTo>
                    <a:lnTo>
                      <a:pt x="1046" y="63"/>
                    </a:lnTo>
                    <a:lnTo>
                      <a:pt x="1045" y="60"/>
                    </a:lnTo>
                    <a:lnTo>
                      <a:pt x="1046" y="57"/>
                    </a:lnTo>
                    <a:lnTo>
                      <a:pt x="1047" y="56"/>
                    </a:lnTo>
                    <a:lnTo>
                      <a:pt x="1047" y="55"/>
                    </a:lnTo>
                    <a:lnTo>
                      <a:pt x="1048" y="55"/>
                    </a:lnTo>
                    <a:lnTo>
                      <a:pt x="1048" y="54"/>
                    </a:lnTo>
                    <a:lnTo>
                      <a:pt x="1047" y="53"/>
                    </a:lnTo>
                    <a:lnTo>
                      <a:pt x="1046" y="51"/>
                    </a:lnTo>
                    <a:lnTo>
                      <a:pt x="1044" y="49"/>
                    </a:lnTo>
                    <a:lnTo>
                      <a:pt x="1041" y="46"/>
                    </a:lnTo>
                    <a:lnTo>
                      <a:pt x="1041" y="44"/>
                    </a:lnTo>
                    <a:lnTo>
                      <a:pt x="1040" y="42"/>
                    </a:lnTo>
                    <a:lnTo>
                      <a:pt x="1041" y="42"/>
                    </a:lnTo>
                    <a:lnTo>
                      <a:pt x="1041" y="42"/>
                    </a:lnTo>
                    <a:lnTo>
                      <a:pt x="1044" y="42"/>
                    </a:lnTo>
                    <a:lnTo>
                      <a:pt x="1045" y="43"/>
                    </a:lnTo>
                    <a:lnTo>
                      <a:pt x="1046" y="44"/>
                    </a:lnTo>
                    <a:lnTo>
                      <a:pt x="1048" y="45"/>
                    </a:lnTo>
                    <a:lnTo>
                      <a:pt x="1049" y="47"/>
                    </a:lnTo>
                    <a:lnTo>
                      <a:pt x="1050" y="49"/>
                    </a:lnTo>
                    <a:lnTo>
                      <a:pt x="1052" y="51"/>
                    </a:lnTo>
                    <a:lnTo>
                      <a:pt x="1055" y="53"/>
                    </a:lnTo>
                    <a:lnTo>
                      <a:pt x="1059" y="55"/>
                    </a:lnTo>
                    <a:lnTo>
                      <a:pt x="1061" y="56"/>
                    </a:lnTo>
                    <a:lnTo>
                      <a:pt x="1062" y="58"/>
                    </a:lnTo>
                    <a:lnTo>
                      <a:pt x="1063" y="60"/>
                    </a:lnTo>
                    <a:lnTo>
                      <a:pt x="1063" y="60"/>
                    </a:lnTo>
                    <a:lnTo>
                      <a:pt x="1063" y="63"/>
                    </a:lnTo>
                    <a:lnTo>
                      <a:pt x="1065" y="66"/>
                    </a:lnTo>
                    <a:lnTo>
                      <a:pt x="1067" y="68"/>
                    </a:lnTo>
                    <a:lnTo>
                      <a:pt x="1070" y="71"/>
                    </a:lnTo>
                    <a:lnTo>
                      <a:pt x="1071" y="72"/>
                    </a:lnTo>
                    <a:lnTo>
                      <a:pt x="1074" y="74"/>
                    </a:lnTo>
                    <a:lnTo>
                      <a:pt x="1077" y="74"/>
                    </a:lnTo>
                    <a:lnTo>
                      <a:pt x="1079" y="75"/>
                    </a:lnTo>
                    <a:lnTo>
                      <a:pt x="1080" y="75"/>
                    </a:lnTo>
                    <a:lnTo>
                      <a:pt x="1080" y="74"/>
                    </a:lnTo>
                    <a:lnTo>
                      <a:pt x="1080" y="74"/>
                    </a:lnTo>
                    <a:lnTo>
                      <a:pt x="1079" y="73"/>
                    </a:lnTo>
                    <a:lnTo>
                      <a:pt x="1079" y="72"/>
                    </a:lnTo>
                    <a:lnTo>
                      <a:pt x="1079" y="71"/>
                    </a:lnTo>
                    <a:lnTo>
                      <a:pt x="1077" y="69"/>
                    </a:lnTo>
                    <a:lnTo>
                      <a:pt x="1076" y="68"/>
                    </a:lnTo>
                    <a:lnTo>
                      <a:pt x="1076" y="67"/>
                    </a:lnTo>
                    <a:lnTo>
                      <a:pt x="1077" y="67"/>
                    </a:lnTo>
                    <a:lnTo>
                      <a:pt x="1078" y="67"/>
                    </a:lnTo>
                    <a:lnTo>
                      <a:pt x="1080" y="67"/>
                    </a:lnTo>
                    <a:lnTo>
                      <a:pt x="1082" y="67"/>
                    </a:lnTo>
                    <a:lnTo>
                      <a:pt x="1084" y="67"/>
                    </a:lnTo>
                    <a:lnTo>
                      <a:pt x="1088" y="68"/>
                    </a:lnTo>
                    <a:lnTo>
                      <a:pt x="1090" y="69"/>
                    </a:lnTo>
                    <a:lnTo>
                      <a:pt x="1092" y="69"/>
                    </a:lnTo>
                    <a:lnTo>
                      <a:pt x="1093" y="69"/>
                    </a:lnTo>
                    <a:lnTo>
                      <a:pt x="1094" y="69"/>
                    </a:lnTo>
                    <a:lnTo>
                      <a:pt x="1094" y="68"/>
                    </a:lnTo>
                    <a:lnTo>
                      <a:pt x="1093" y="66"/>
                    </a:lnTo>
                    <a:lnTo>
                      <a:pt x="1092" y="65"/>
                    </a:lnTo>
                    <a:lnTo>
                      <a:pt x="1090" y="64"/>
                    </a:lnTo>
                    <a:lnTo>
                      <a:pt x="1089" y="63"/>
                    </a:lnTo>
                    <a:lnTo>
                      <a:pt x="1087" y="63"/>
                    </a:lnTo>
                    <a:lnTo>
                      <a:pt x="1085" y="62"/>
                    </a:lnTo>
                    <a:lnTo>
                      <a:pt x="1080" y="58"/>
                    </a:lnTo>
                    <a:lnTo>
                      <a:pt x="1077" y="55"/>
                    </a:lnTo>
                    <a:lnTo>
                      <a:pt x="1073" y="51"/>
                    </a:lnTo>
                    <a:lnTo>
                      <a:pt x="1070" y="47"/>
                    </a:lnTo>
                    <a:lnTo>
                      <a:pt x="1068" y="44"/>
                    </a:lnTo>
                    <a:lnTo>
                      <a:pt x="1067" y="43"/>
                    </a:lnTo>
                    <a:lnTo>
                      <a:pt x="1065" y="41"/>
                    </a:lnTo>
                    <a:lnTo>
                      <a:pt x="1063" y="40"/>
                    </a:lnTo>
                    <a:lnTo>
                      <a:pt x="1062" y="38"/>
                    </a:lnTo>
                    <a:lnTo>
                      <a:pt x="1061" y="36"/>
                    </a:lnTo>
                    <a:lnTo>
                      <a:pt x="1060" y="35"/>
                    </a:lnTo>
                    <a:lnTo>
                      <a:pt x="1061" y="34"/>
                    </a:lnTo>
                    <a:lnTo>
                      <a:pt x="1062" y="33"/>
                    </a:lnTo>
                    <a:lnTo>
                      <a:pt x="1066" y="33"/>
                    </a:lnTo>
                    <a:lnTo>
                      <a:pt x="1071" y="34"/>
                    </a:lnTo>
                    <a:lnTo>
                      <a:pt x="1079" y="35"/>
                    </a:lnTo>
                    <a:lnTo>
                      <a:pt x="1085" y="38"/>
                    </a:lnTo>
                    <a:lnTo>
                      <a:pt x="1088" y="40"/>
                    </a:lnTo>
                    <a:lnTo>
                      <a:pt x="1091" y="42"/>
                    </a:lnTo>
                    <a:lnTo>
                      <a:pt x="1093" y="44"/>
                    </a:lnTo>
                    <a:lnTo>
                      <a:pt x="1096" y="46"/>
                    </a:lnTo>
                    <a:lnTo>
                      <a:pt x="1109" y="53"/>
                    </a:lnTo>
                    <a:lnTo>
                      <a:pt x="1122" y="61"/>
                    </a:lnTo>
                    <a:lnTo>
                      <a:pt x="1135" y="68"/>
                    </a:lnTo>
                    <a:lnTo>
                      <a:pt x="1137" y="71"/>
                    </a:lnTo>
                    <a:lnTo>
                      <a:pt x="1139" y="73"/>
                    </a:lnTo>
                    <a:lnTo>
                      <a:pt x="1140" y="75"/>
                    </a:lnTo>
                    <a:lnTo>
                      <a:pt x="1142" y="77"/>
                    </a:lnTo>
                    <a:lnTo>
                      <a:pt x="1144" y="79"/>
                    </a:lnTo>
                    <a:lnTo>
                      <a:pt x="1147" y="82"/>
                    </a:lnTo>
                    <a:lnTo>
                      <a:pt x="1150" y="84"/>
                    </a:lnTo>
                    <a:lnTo>
                      <a:pt x="1155" y="86"/>
                    </a:lnTo>
                    <a:lnTo>
                      <a:pt x="1157" y="86"/>
                    </a:lnTo>
                    <a:lnTo>
                      <a:pt x="1158" y="87"/>
                    </a:lnTo>
                    <a:lnTo>
                      <a:pt x="1158" y="86"/>
                    </a:lnTo>
                    <a:lnTo>
                      <a:pt x="1158" y="86"/>
                    </a:lnTo>
                    <a:lnTo>
                      <a:pt x="1157" y="85"/>
                    </a:lnTo>
                    <a:lnTo>
                      <a:pt x="1157" y="84"/>
                    </a:lnTo>
                    <a:lnTo>
                      <a:pt x="1155" y="82"/>
                    </a:lnTo>
                    <a:lnTo>
                      <a:pt x="1153" y="79"/>
                    </a:lnTo>
                    <a:lnTo>
                      <a:pt x="1150" y="79"/>
                    </a:lnTo>
                    <a:lnTo>
                      <a:pt x="1149" y="76"/>
                    </a:lnTo>
                    <a:lnTo>
                      <a:pt x="1148" y="74"/>
                    </a:lnTo>
                    <a:lnTo>
                      <a:pt x="1147" y="72"/>
                    </a:lnTo>
                    <a:lnTo>
                      <a:pt x="1147" y="69"/>
                    </a:lnTo>
                    <a:lnTo>
                      <a:pt x="1146" y="68"/>
                    </a:lnTo>
                    <a:lnTo>
                      <a:pt x="1146" y="66"/>
                    </a:lnTo>
                    <a:lnTo>
                      <a:pt x="1146" y="64"/>
                    </a:lnTo>
                    <a:lnTo>
                      <a:pt x="1146" y="63"/>
                    </a:lnTo>
                    <a:lnTo>
                      <a:pt x="1145" y="62"/>
                    </a:lnTo>
                    <a:lnTo>
                      <a:pt x="1144" y="60"/>
                    </a:lnTo>
                    <a:lnTo>
                      <a:pt x="1144" y="58"/>
                    </a:lnTo>
                    <a:lnTo>
                      <a:pt x="1144" y="57"/>
                    </a:lnTo>
                    <a:lnTo>
                      <a:pt x="1144" y="57"/>
                    </a:lnTo>
                    <a:lnTo>
                      <a:pt x="1145" y="57"/>
                    </a:lnTo>
                    <a:lnTo>
                      <a:pt x="1146" y="57"/>
                    </a:lnTo>
                    <a:lnTo>
                      <a:pt x="1149" y="58"/>
                    </a:lnTo>
                    <a:lnTo>
                      <a:pt x="1151" y="58"/>
                    </a:lnTo>
                    <a:lnTo>
                      <a:pt x="1153" y="58"/>
                    </a:lnTo>
                    <a:lnTo>
                      <a:pt x="1153" y="57"/>
                    </a:lnTo>
                    <a:lnTo>
                      <a:pt x="1153" y="54"/>
                    </a:lnTo>
                    <a:lnTo>
                      <a:pt x="1150" y="52"/>
                    </a:lnTo>
                    <a:lnTo>
                      <a:pt x="1148" y="49"/>
                    </a:lnTo>
                    <a:lnTo>
                      <a:pt x="1145" y="46"/>
                    </a:lnTo>
                    <a:lnTo>
                      <a:pt x="1140" y="44"/>
                    </a:lnTo>
                    <a:lnTo>
                      <a:pt x="1137" y="42"/>
                    </a:lnTo>
                    <a:lnTo>
                      <a:pt x="1136" y="40"/>
                    </a:lnTo>
                    <a:lnTo>
                      <a:pt x="1134" y="38"/>
                    </a:lnTo>
                    <a:lnTo>
                      <a:pt x="1132" y="34"/>
                    </a:lnTo>
                    <a:lnTo>
                      <a:pt x="1129" y="32"/>
                    </a:lnTo>
                    <a:lnTo>
                      <a:pt x="1127" y="30"/>
                    </a:lnTo>
                    <a:lnTo>
                      <a:pt x="1126" y="29"/>
                    </a:lnTo>
                    <a:lnTo>
                      <a:pt x="1134" y="30"/>
                    </a:lnTo>
                    <a:lnTo>
                      <a:pt x="1142" y="32"/>
                    </a:lnTo>
                    <a:lnTo>
                      <a:pt x="1148" y="33"/>
                    </a:lnTo>
                    <a:lnTo>
                      <a:pt x="1156" y="33"/>
                    </a:lnTo>
                    <a:lnTo>
                      <a:pt x="1162" y="36"/>
                    </a:lnTo>
                    <a:lnTo>
                      <a:pt x="1168" y="40"/>
                    </a:lnTo>
                    <a:lnTo>
                      <a:pt x="1173" y="42"/>
                    </a:lnTo>
                    <a:lnTo>
                      <a:pt x="1178" y="43"/>
                    </a:lnTo>
                    <a:lnTo>
                      <a:pt x="1182" y="45"/>
                    </a:lnTo>
                    <a:lnTo>
                      <a:pt x="1186" y="49"/>
                    </a:lnTo>
                    <a:lnTo>
                      <a:pt x="1189" y="51"/>
                    </a:lnTo>
                    <a:lnTo>
                      <a:pt x="1191" y="53"/>
                    </a:lnTo>
                    <a:lnTo>
                      <a:pt x="1193" y="55"/>
                    </a:lnTo>
                    <a:lnTo>
                      <a:pt x="1197" y="56"/>
                    </a:lnTo>
                    <a:lnTo>
                      <a:pt x="1199" y="57"/>
                    </a:lnTo>
                    <a:lnTo>
                      <a:pt x="1199" y="54"/>
                    </a:lnTo>
                    <a:lnTo>
                      <a:pt x="1199" y="52"/>
                    </a:lnTo>
                    <a:lnTo>
                      <a:pt x="1198" y="50"/>
                    </a:lnTo>
                    <a:lnTo>
                      <a:pt x="1197" y="47"/>
                    </a:lnTo>
                    <a:lnTo>
                      <a:pt x="1194" y="45"/>
                    </a:lnTo>
                    <a:lnTo>
                      <a:pt x="1190" y="42"/>
                    </a:lnTo>
                    <a:lnTo>
                      <a:pt x="1183" y="40"/>
                    </a:lnTo>
                    <a:lnTo>
                      <a:pt x="1178" y="38"/>
                    </a:lnTo>
                    <a:lnTo>
                      <a:pt x="1172" y="35"/>
                    </a:lnTo>
                    <a:lnTo>
                      <a:pt x="1167" y="33"/>
                    </a:lnTo>
                    <a:lnTo>
                      <a:pt x="1161" y="31"/>
                    </a:lnTo>
                    <a:lnTo>
                      <a:pt x="1155" y="29"/>
                    </a:lnTo>
                    <a:lnTo>
                      <a:pt x="1144" y="28"/>
                    </a:lnTo>
                    <a:lnTo>
                      <a:pt x="1133" y="27"/>
                    </a:lnTo>
                    <a:lnTo>
                      <a:pt x="1131" y="25"/>
                    </a:lnTo>
                    <a:lnTo>
                      <a:pt x="1127" y="23"/>
                    </a:lnTo>
                    <a:lnTo>
                      <a:pt x="1125" y="22"/>
                    </a:lnTo>
                    <a:lnTo>
                      <a:pt x="1122" y="22"/>
                    </a:lnTo>
                    <a:lnTo>
                      <a:pt x="1121" y="22"/>
                    </a:lnTo>
                    <a:lnTo>
                      <a:pt x="1118" y="22"/>
                    </a:lnTo>
                    <a:lnTo>
                      <a:pt x="1116" y="23"/>
                    </a:lnTo>
                    <a:lnTo>
                      <a:pt x="1114" y="22"/>
                    </a:lnTo>
                    <a:lnTo>
                      <a:pt x="1113" y="22"/>
                    </a:lnTo>
                    <a:lnTo>
                      <a:pt x="1111" y="20"/>
                    </a:lnTo>
                    <a:lnTo>
                      <a:pt x="1111" y="19"/>
                    </a:lnTo>
                    <a:lnTo>
                      <a:pt x="1111" y="18"/>
                    </a:lnTo>
                    <a:lnTo>
                      <a:pt x="1112" y="18"/>
                    </a:lnTo>
                    <a:lnTo>
                      <a:pt x="1113" y="17"/>
                    </a:lnTo>
                    <a:lnTo>
                      <a:pt x="1113" y="15"/>
                    </a:lnTo>
                    <a:lnTo>
                      <a:pt x="1113" y="14"/>
                    </a:lnTo>
                    <a:lnTo>
                      <a:pt x="1111" y="13"/>
                    </a:lnTo>
                    <a:lnTo>
                      <a:pt x="1110" y="12"/>
                    </a:lnTo>
                    <a:lnTo>
                      <a:pt x="1107" y="10"/>
                    </a:lnTo>
                    <a:lnTo>
                      <a:pt x="1106" y="9"/>
                    </a:lnTo>
                    <a:lnTo>
                      <a:pt x="1106" y="8"/>
                    </a:lnTo>
                    <a:lnTo>
                      <a:pt x="1107" y="8"/>
                    </a:lnTo>
                    <a:lnTo>
                      <a:pt x="1109" y="8"/>
                    </a:lnTo>
                    <a:lnTo>
                      <a:pt x="1111" y="8"/>
                    </a:lnTo>
                    <a:lnTo>
                      <a:pt x="1113" y="9"/>
                    </a:lnTo>
                    <a:lnTo>
                      <a:pt x="1115" y="10"/>
                    </a:lnTo>
                    <a:lnTo>
                      <a:pt x="1117" y="11"/>
                    </a:lnTo>
                    <a:lnTo>
                      <a:pt x="1118" y="13"/>
                    </a:lnTo>
                    <a:lnTo>
                      <a:pt x="1121" y="15"/>
                    </a:lnTo>
                    <a:lnTo>
                      <a:pt x="1122" y="15"/>
                    </a:lnTo>
                    <a:lnTo>
                      <a:pt x="1124" y="15"/>
                    </a:lnTo>
                    <a:lnTo>
                      <a:pt x="1125" y="14"/>
                    </a:lnTo>
                    <a:lnTo>
                      <a:pt x="1126" y="13"/>
                    </a:lnTo>
                    <a:lnTo>
                      <a:pt x="1125" y="12"/>
                    </a:lnTo>
                    <a:lnTo>
                      <a:pt x="1124" y="11"/>
                    </a:lnTo>
                    <a:lnTo>
                      <a:pt x="1123" y="10"/>
                    </a:lnTo>
                    <a:lnTo>
                      <a:pt x="1122" y="9"/>
                    </a:lnTo>
                    <a:lnTo>
                      <a:pt x="1121" y="8"/>
                    </a:lnTo>
                    <a:lnTo>
                      <a:pt x="1121" y="7"/>
                    </a:lnTo>
                    <a:lnTo>
                      <a:pt x="1121" y="7"/>
                    </a:lnTo>
                    <a:lnTo>
                      <a:pt x="1123" y="7"/>
                    </a:lnTo>
                    <a:lnTo>
                      <a:pt x="1124" y="7"/>
                    </a:lnTo>
                    <a:lnTo>
                      <a:pt x="1127" y="8"/>
                    </a:lnTo>
                    <a:lnTo>
                      <a:pt x="1129" y="9"/>
                    </a:lnTo>
                    <a:lnTo>
                      <a:pt x="1133" y="9"/>
                    </a:lnTo>
                    <a:lnTo>
                      <a:pt x="1135" y="10"/>
                    </a:lnTo>
                    <a:lnTo>
                      <a:pt x="1137" y="11"/>
                    </a:lnTo>
                    <a:lnTo>
                      <a:pt x="1138" y="11"/>
                    </a:lnTo>
                    <a:lnTo>
                      <a:pt x="1139" y="11"/>
                    </a:lnTo>
                    <a:lnTo>
                      <a:pt x="1142" y="11"/>
                    </a:lnTo>
                    <a:lnTo>
                      <a:pt x="1143" y="12"/>
                    </a:lnTo>
                    <a:lnTo>
                      <a:pt x="1145" y="12"/>
                    </a:lnTo>
                    <a:lnTo>
                      <a:pt x="1146" y="12"/>
                    </a:lnTo>
                    <a:lnTo>
                      <a:pt x="1146" y="11"/>
                    </a:lnTo>
                    <a:lnTo>
                      <a:pt x="1145" y="11"/>
                    </a:lnTo>
                    <a:lnTo>
                      <a:pt x="1144" y="10"/>
                    </a:lnTo>
                    <a:lnTo>
                      <a:pt x="1144" y="10"/>
                    </a:lnTo>
                    <a:lnTo>
                      <a:pt x="1142" y="9"/>
                    </a:lnTo>
                    <a:lnTo>
                      <a:pt x="1142" y="8"/>
                    </a:lnTo>
                    <a:lnTo>
                      <a:pt x="1140" y="7"/>
                    </a:lnTo>
                    <a:lnTo>
                      <a:pt x="1140" y="7"/>
                    </a:lnTo>
                    <a:lnTo>
                      <a:pt x="1139" y="7"/>
                    </a:lnTo>
                    <a:lnTo>
                      <a:pt x="1139" y="7"/>
                    </a:lnTo>
                    <a:lnTo>
                      <a:pt x="1140" y="7"/>
                    </a:lnTo>
                    <a:lnTo>
                      <a:pt x="1142" y="7"/>
                    </a:lnTo>
                    <a:lnTo>
                      <a:pt x="1144" y="7"/>
                    </a:lnTo>
                    <a:lnTo>
                      <a:pt x="1145" y="8"/>
                    </a:lnTo>
                    <a:lnTo>
                      <a:pt x="1147" y="9"/>
                    </a:lnTo>
                    <a:lnTo>
                      <a:pt x="1148" y="9"/>
                    </a:lnTo>
                    <a:lnTo>
                      <a:pt x="1148" y="9"/>
                    </a:lnTo>
                    <a:lnTo>
                      <a:pt x="1149" y="9"/>
                    </a:lnTo>
                    <a:lnTo>
                      <a:pt x="1149" y="8"/>
                    </a:lnTo>
                    <a:lnTo>
                      <a:pt x="1148" y="7"/>
                    </a:lnTo>
                    <a:lnTo>
                      <a:pt x="1147" y="6"/>
                    </a:lnTo>
                    <a:lnTo>
                      <a:pt x="1146" y="4"/>
                    </a:lnTo>
                    <a:lnTo>
                      <a:pt x="1147" y="3"/>
                    </a:lnTo>
                    <a:lnTo>
                      <a:pt x="1148" y="3"/>
                    </a:lnTo>
                    <a:lnTo>
                      <a:pt x="1150" y="2"/>
                    </a:lnTo>
                    <a:lnTo>
                      <a:pt x="1153" y="2"/>
                    </a:lnTo>
                    <a:lnTo>
                      <a:pt x="1157" y="4"/>
                    </a:lnTo>
                    <a:lnTo>
                      <a:pt x="1159" y="7"/>
                    </a:lnTo>
                    <a:lnTo>
                      <a:pt x="1161" y="9"/>
                    </a:lnTo>
                    <a:lnTo>
                      <a:pt x="1162" y="10"/>
                    </a:lnTo>
                    <a:lnTo>
                      <a:pt x="1164" y="12"/>
                    </a:lnTo>
                    <a:lnTo>
                      <a:pt x="1165" y="13"/>
                    </a:lnTo>
                    <a:lnTo>
                      <a:pt x="1166" y="15"/>
                    </a:lnTo>
                    <a:lnTo>
                      <a:pt x="1168" y="18"/>
                    </a:lnTo>
                    <a:lnTo>
                      <a:pt x="1181" y="24"/>
                    </a:lnTo>
                    <a:lnTo>
                      <a:pt x="1186" y="27"/>
                    </a:lnTo>
                    <a:lnTo>
                      <a:pt x="1189" y="28"/>
                    </a:lnTo>
                    <a:lnTo>
                      <a:pt x="1193" y="30"/>
                    </a:lnTo>
                    <a:lnTo>
                      <a:pt x="1197" y="31"/>
                    </a:lnTo>
                    <a:lnTo>
                      <a:pt x="1199" y="33"/>
                    </a:lnTo>
                    <a:lnTo>
                      <a:pt x="1202" y="35"/>
                    </a:lnTo>
                    <a:lnTo>
                      <a:pt x="1203" y="36"/>
                    </a:lnTo>
                    <a:lnTo>
                      <a:pt x="1205" y="39"/>
                    </a:lnTo>
                    <a:lnTo>
                      <a:pt x="1208" y="40"/>
                    </a:lnTo>
                    <a:lnTo>
                      <a:pt x="1209" y="41"/>
                    </a:lnTo>
                    <a:lnTo>
                      <a:pt x="1210" y="40"/>
                    </a:lnTo>
                    <a:lnTo>
                      <a:pt x="1210" y="40"/>
                    </a:lnTo>
                    <a:lnTo>
                      <a:pt x="1209" y="39"/>
                    </a:lnTo>
                    <a:lnTo>
                      <a:pt x="1208" y="38"/>
                    </a:lnTo>
                    <a:lnTo>
                      <a:pt x="1207" y="36"/>
                    </a:lnTo>
                    <a:lnTo>
                      <a:pt x="1205" y="35"/>
                    </a:lnTo>
                    <a:lnTo>
                      <a:pt x="1205" y="35"/>
                    </a:lnTo>
                    <a:lnTo>
                      <a:pt x="1204" y="34"/>
                    </a:lnTo>
                    <a:lnTo>
                      <a:pt x="1202" y="33"/>
                    </a:lnTo>
                    <a:lnTo>
                      <a:pt x="1201" y="32"/>
                    </a:lnTo>
                    <a:lnTo>
                      <a:pt x="1201" y="30"/>
                    </a:lnTo>
                    <a:lnTo>
                      <a:pt x="1201" y="29"/>
                    </a:lnTo>
                    <a:lnTo>
                      <a:pt x="1202" y="29"/>
                    </a:lnTo>
                    <a:lnTo>
                      <a:pt x="1204" y="29"/>
                    </a:lnTo>
                    <a:lnTo>
                      <a:pt x="1207" y="30"/>
                    </a:lnTo>
                    <a:lnTo>
                      <a:pt x="1208" y="30"/>
                    </a:lnTo>
                    <a:lnTo>
                      <a:pt x="1210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0" y="29"/>
                    </a:lnTo>
                    <a:lnTo>
                      <a:pt x="1208" y="27"/>
                    </a:lnTo>
                    <a:lnTo>
                      <a:pt x="1207" y="25"/>
                    </a:lnTo>
                    <a:lnTo>
                      <a:pt x="1207" y="24"/>
                    </a:lnTo>
                    <a:lnTo>
                      <a:pt x="1208" y="23"/>
                    </a:lnTo>
                    <a:lnTo>
                      <a:pt x="1209" y="23"/>
                    </a:lnTo>
                    <a:lnTo>
                      <a:pt x="1210" y="23"/>
                    </a:lnTo>
                    <a:lnTo>
                      <a:pt x="1212" y="23"/>
                    </a:lnTo>
                    <a:lnTo>
                      <a:pt x="1213" y="23"/>
                    </a:lnTo>
                    <a:lnTo>
                      <a:pt x="1215" y="23"/>
                    </a:lnTo>
                    <a:lnTo>
                      <a:pt x="1215" y="22"/>
                    </a:lnTo>
                    <a:lnTo>
                      <a:pt x="1215" y="22"/>
                    </a:lnTo>
                    <a:lnTo>
                      <a:pt x="1214" y="20"/>
                    </a:lnTo>
                    <a:lnTo>
                      <a:pt x="1211" y="18"/>
                    </a:lnTo>
                    <a:lnTo>
                      <a:pt x="1208" y="15"/>
                    </a:lnTo>
                    <a:lnTo>
                      <a:pt x="1204" y="14"/>
                    </a:lnTo>
                    <a:lnTo>
                      <a:pt x="1201" y="13"/>
                    </a:lnTo>
                    <a:lnTo>
                      <a:pt x="1199" y="12"/>
                    </a:lnTo>
                    <a:lnTo>
                      <a:pt x="1197" y="10"/>
                    </a:lnTo>
                    <a:lnTo>
                      <a:pt x="1196" y="9"/>
                    </a:lnTo>
                    <a:lnTo>
                      <a:pt x="1194" y="7"/>
                    </a:lnTo>
                    <a:lnTo>
                      <a:pt x="1193" y="4"/>
                    </a:lnTo>
                    <a:lnTo>
                      <a:pt x="1193" y="3"/>
                    </a:lnTo>
                    <a:lnTo>
                      <a:pt x="1194" y="2"/>
                    </a:lnTo>
                    <a:lnTo>
                      <a:pt x="1196" y="2"/>
                    </a:lnTo>
                    <a:lnTo>
                      <a:pt x="1197" y="1"/>
                    </a:lnTo>
                    <a:lnTo>
                      <a:pt x="1199" y="1"/>
                    </a:lnTo>
                    <a:lnTo>
                      <a:pt x="1200" y="1"/>
                    </a:lnTo>
                    <a:lnTo>
                      <a:pt x="1201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8"/>
              <p:cNvSpPr/>
              <p:nvPr/>
            </p:nvSpPr>
            <p:spPr>
              <a:xfrm>
                <a:off x="8313840" y="4561560"/>
                <a:ext cx="695520" cy="714240"/>
              </a:xfrm>
              <a:custGeom>
                <a:avLst/>
                <a:gdLst>
                  <a:gd name="textAreaLeft" fmla="*/ 0 w 695520"/>
                  <a:gd name="textAreaRight" fmla="*/ 695880 w 695520"/>
                  <a:gd name="textAreaTop" fmla="*/ 0 h 714240"/>
                  <a:gd name="textAreaBottom" fmla="*/ 714240 h 714240"/>
                </a:gdLst>
                <a:ahLst/>
                <a:rect l="textAreaLeft" t="textAreaTop" r="textAreaRight" b="textAreaBottom"/>
                <a:pathLst>
                  <a:path w="3420" h="3420">
                    <a:moveTo>
                      <a:pt x="1591" y="420"/>
                    </a:moveTo>
                    <a:lnTo>
                      <a:pt x="1595" y="421"/>
                    </a:lnTo>
                    <a:lnTo>
                      <a:pt x="1601" y="422"/>
                    </a:lnTo>
                    <a:lnTo>
                      <a:pt x="1605" y="424"/>
                    </a:lnTo>
                    <a:lnTo>
                      <a:pt x="1607" y="426"/>
                    </a:lnTo>
                    <a:lnTo>
                      <a:pt x="1610" y="426"/>
                    </a:lnTo>
                    <a:lnTo>
                      <a:pt x="1614" y="427"/>
                    </a:lnTo>
                    <a:lnTo>
                      <a:pt x="1617" y="427"/>
                    </a:lnTo>
                    <a:lnTo>
                      <a:pt x="1622" y="427"/>
                    </a:lnTo>
                    <a:lnTo>
                      <a:pt x="1625" y="429"/>
                    </a:lnTo>
                    <a:lnTo>
                      <a:pt x="1628" y="429"/>
                    </a:lnTo>
                    <a:lnTo>
                      <a:pt x="1630" y="430"/>
                    </a:lnTo>
                    <a:lnTo>
                      <a:pt x="1633" y="430"/>
                    </a:lnTo>
                    <a:lnTo>
                      <a:pt x="1636" y="431"/>
                    </a:lnTo>
                    <a:lnTo>
                      <a:pt x="1642" y="431"/>
                    </a:lnTo>
                    <a:lnTo>
                      <a:pt x="1648" y="433"/>
                    </a:lnTo>
                    <a:lnTo>
                      <a:pt x="1653" y="435"/>
                    </a:lnTo>
                    <a:lnTo>
                      <a:pt x="1656" y="435"/>
                    </a:lnTo>
                    <a:lnTo>
                      <a:pt x="1657" y="436"/>
                    </a:lnTo>
                    <a:lnTo>
                      <a:pt x="1657" y="438"/>
                    </a:lnTo>
                    <a:lnTo>
                      <a:pt x="1655" y="440"/>
                    </a:lnTo>
                    <a:lnTo>
                      <a:pt x="1653" y="441"/>
                    </a:lnTo>
                    <a:lnTo>
                      <a:pt x="1651" y="442"/>
                    </a:lnTo>
                    <a:lnTo>
                      <a:pt x="1649" y="443"/>
                    </a:lnTo>
                    <a:lnTo>
                      <a:pt x="1647" y="444"/>
                    </a:lnTo>
                    <a:lnTo>
                      <a:pt x="1646" y="445"/>
                    </a:lnTo>
                    <a:lnTo>
                      <a:pt x="1645" y="445"/>
                    </a:lnTo>
                    <a:lnTo>
                      <a:pt x="1644" y="446"/>
                    </a:lnTo>
                    <a:lnTo>
                      <a:pt x="1642" y="447"/>
                    </a:lnTo>
                    <a:lnTo>
                      <a:pt x="1640" y="448"/>
                    </a:lnTo>
                    <a:lnTo>
                      <a:pt x="1639" y="448"/>
                    </a:lnTo>
                    <a:lnTo>
                      <a:pt x="1638" y="448"/>
                    </a:lnTo>
                    <a:lnTo>
                      <a:pt x="1637" y="448"/>
                    </a:lnTo>
                    <a:lnTo>
                      <a:pt x="1637" y="449"/>
                    </a:lnTo>
                    <a:lnTo>
                      <a:pt x="1638" y="451"/>
                    </a:lnTo>
                    <a:lnTo>
                      <a:pt x="1640" y="451"/>
                    </a:lnTo>
                    <a:lnTo>
                      <a:pt x="1641" y="451"/>
                    </a:lnTo>
                    <a:lnTo>
                      <a:pt x="1644" y="451"/>
                    </a:lnTo>
                    <a:lnTo>
                      <a:pt x="1645" y="451"/>
                    </a:lnTo>
                    <a:lnTo>
                      <a:pt x="1647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9" y="451"/>
                    </a:lnTo>
                    <a:lnTo>
                      <a:pt x="1650" y="448"/>
                    </a:lnTo>
                    <a:lnTo>
                      <a:pt x="1653" y="447"/>
                    </a:lnTo>
                    <a:lnTo>
                      <a:pt x="1656" y="447"/>
                    </a:lnTo>
                    <a:lnTo>
                      <a:pt x="1658" y="446"/>
                    </a:lnTo>
                    <a:lnTo>
                      <a:pt x="1660" y="445"/>
                    </a:lnTo>
                    <a:lnTo>
                      <a:pt x="1662" y="444"/>
                    </a:lnTo>
                    <a:lnTo>
                      <a:pt x="1663" y="442"/>
                    </a:lnTo>
                    <a:lnTo>
                      <a:pt x="1666" y="441"/>
                    </a:lnTo>
                    <a:lnTo>
                      <a:pt x="1669" y="441"/>
                    </a:lnTo>
                    <a:lnTo>
                      <a:pt x="1672" y="442"/>
                    </a:lnTo>
                    <a:lnTo>
                      <a:pt x="1675" y="444"/>
                    </a:lnTo>
                    <a:lnTo>
                      <a:pt x="1678" y="445"/>
                    </a:lnTo>
                    <a:lnTo>
                      <a:pt x="1679" y="445"/>
                    </a:lnTo>
                    <a:lnTo>
                      <a:pt x="1679" y="445"/>
                    </a:lnTo>
                    <a:lnTo>
                      <a:pt x="1679" y="444"/>
                    </a:lnTo>
                    <a:lnTo>
                      <a:pt x="1679" y="443"/>
                    </a:lnTo>
                    <a:lnTo>
                      <a:pt x="1678" y="442"/>
                    </a:lnTo>
                    <a:lnTo>
                      <a:pt x="1678" y="441"/>
                    </a:lnTo>
                    <a:lnTo>
                      <a:pt x="1678" y="440"/>
                    </a:lnTo>
                    <a:lnTo>
                      <a:pt x="1678" y="437"/>
                    </a:lnTo>
                    <a:lnTo>
                      <a:pt x="1678" y="437"/>
                    </a:lnTo>
                    <a:lnTo>
                      <a:pt x="1680" y="436"/>
                    </a:lnTo>
                    <a:lnTo>
                      <a:pt x="1681" y="437"/>
                    </a:lnTo>
                    <a:lnTo>
                      <a:pt x="1683" y="437"/>
                    </a:lnTo>
                    <a:lnTo>
                      <a:pt x="1685" y="438"/>
                    </a:lnTo>
                    <a:lnTo>
                      <a:pt x="1688" y="440"/>
                    </a:lnTo>
                    <a:lnTo>
                      <a:pt x="1689" y="442"/>
                    </a:lnTo>
                    <a:lnTo>
                      <a:pt x="1689" y="442"/>
                    </a:lnTo>
                    <a:lnTo>
                      <a:pt x="1690" y="443"/>
                    </a:lnTo>
                    <a:lnTo>
                      <a:pt x="1690" y="444"/>
                    </a:lnTo>
                    <a:lnTo>
                      <a:pt x="1692" y="444"/>
                    </a:lnTo>
                    <a:lnTo>
                      <a:pt x="1693" y="444"/>
                    </a:lnTo>
                    <a:lnTo>
                      <a:pt x="1695" y="442"/>
                    </a:lnTo>
                    <a:lnTo>
                      <a:pt x="1697" y="442"/>
                    </a:lnTo>
                    <a:lnTo>
                      <a:pt x="1702" y="442"/>
                    </a:lnTo>
                    <a:lnTo>
                      <a:pt x="1704" y="442"/>
                    </a:lnTo>
                    <a:lnTo>
                      <a:pt x="1705" y="443"/>
                    </a:lnTo>
                    <a:lnTo>
                      <a:pt x="1704" y="444"/>
                    </a:lnTo>
                    <a:lnTo>
                      <a:pt x="1703" y="445"/>
                    </a:lnTo>
                    <a:lnTo>
                      <a:pt x="1703" y="446"/>
                    </a:lnTo>
                    <a:lnTo>
                      <a:pt x="1702" y="447"/>
                    </a:lnTo>
                    <a:lnTo>
                      <a:pt x="1702" y="448"/>
                    </a:lnTo>
                    <a:lnTo>
                      <a:pt x="1704" y="451"/>
                    </a:lnTo>
                    <a:lnTo>
                      <a:pt x="1706" y="452"/>
                    </a:lnTo>
                    <a:lnTo>
                      <a:pt x="1708" y="453"/>
                    </a:lnTo>
                    <a:lnTo>
                      <a:pt x="1711" y="455"/>
                    </a:lnTo>
                    <a:lnTo>
                      <a:pt x="1712" y="456"/>
                    </a:lnTo>
                    <a:lnTo>
                      <a:pt x="1713" y="459"/>
                    </a:lnTo>
                    <a:lnTo>
                      <a:pt x="1713" y="460"/>
                    </a:lnTo>
                    <a:lnTo>
                      <a:pt x="1713" y="462"/>
                    </a:lnTo>
                    <a:lnTo>
                      <a:pt x="1713" y="462"/>
                    </a:lnTo>
                    <a:lnTo>
                      <a:pt x="1715" y="464"/>
                    </a:lnTo>
                    <a:lnTo>
                      <a:pt x="1718" y="465"/>
                    </a:lnTo>
                    <a:lnTo>
                      <a:pt x="1723" y="466"/>
                    </a:lnTo>
                    <a:lnTo>
                      <a:pt x="1726" y="466"/>
                    </a:lnTo>
                    <a:lnTo>
                      <a:pt x="1728" y="466"/>
                    </a:lnTo>
                    <a:lnTo>
                      <a:pt x="1730" y="466"/>
                    </a:lnTo>
                    <a:lnTo>
                      <a:pt x="1733" y="467"/>
                    </a:lnTo>
                    <a:lnTo>
                      <a:pt x="1734" y="468"/>
                    </a:lnTo>
                    <a:lnTo>
                      <a:pt x="1736" y="470"/>
                    </a:lnTo>
                    <a:lnTo>
                      <a:pt x="1739" y="471"/>
                    </a:lnTo>
                    <a:lnTo>
                      <a:pt x="1741" y="473"/>
                    </a:lnTo>
                    <a:lnTo>
                      <a:pt x="1744" y="474"/>
                    </a:lnTo>
                    <a:lnTo>
                      <a:pt x="1745" y="477"/>
                    </a:lnTo>
                    <a:lnTo>
                      <a:pt x="1746" y="477"/>
                    </a:lnTo>
                    <a:lnTo>
                      <a:pt x="1746" y="478"/>
                    </a:lnTo>
                    <a:lnTo>
                      <a:pt x="1747" y="479"/>
                    </a:lnTo>
                    <a:lnTo>
                      <a:pt x="1748" y="480"/>
                    </a:lnTo>
                    <a:lnTo>
                      <a:pt x="1749" y="481"/>
                    </a:lnTo>
                    <a:lnTo>
                      <a:pt x="1749" y="483"/>
                    </a:lnTo>
                    <a:lnTo>
                      <a:pt x="1747" y="484"/>
                    </a:lnTo>
                    <a:lnTo>
                      <a:pt x="1745" y="485"/>
                    </a:lnTo>
                    <a:lnTo>
                      <a:pt x="1744" y="485"/>
                    </a:lnTo>
                    <a:lnTo>
                      <a:pt x="1743" y="486"/>
                    </a:lnTo>
                    <a:lnTo>
                      <a:pt x="1740" y="487"/>
                    </a:lnTo>
                    <a:lnTo>
                      <a:pt x="1738" y="488"/>
                    </a:lnTo>
                    <a:lnTo>
                      <a:pt x="1736" y="490"/>
                    </a:lnTo>
                    <a:lnTo>
                      <a:pt x="1735" y="491"/>
                    </a:lnTo>
                    <a:lnTo>
                      <a:pt x="1733" y="492"/>
                    </a:lnTo>
                    <a:lnTo>
                      <a:pt x="1732" y="492"/>
                    </a:lnTo>
                    <a:lnTo>
                      <a:pt x="1729" y="492"/>
                    </a:lnTo>
                    <a:lnTo>
                      <a:pt x="1728" y="494"/>
                    </a:lnTo>
                    <a:lnTo>
                      <a:pt x="1726" y="495"/>
                    </a:lnTo>
                    <a:lnTo>
                      <a:pt x="1723" y="497"/>
                    </a:lnTo>
                    <a:lnTo>
                      <a:pt x="1718" y="499"/>
                    </a:lnTo>
                    <a:lnTo>
                      <a:pt x="1715" y="501"/>
                    </a:lnTo>
                    <a:lnTo>
                      <a:pt x="1713" y="501"/>
                    </a:lnTo>
                    <a:lnTo>
                      <a:pt x="1711" y="502"/>
                    </a:lnTo>
                    <a:lnTo>
                      <a:pt x="1710" y="502"/>
                    </a:lnTo>
                    <a:lnTo>
                      <a:pt x="1708" y="505"/>
                    </a:lnTo>
                    <a:lnTo>
                      <a:pt x="1706" y="506"/>
                    </a:lnTo>
                    <a:lnTo>
                      <a:pt x="1703" y="506"/>
                    </a:lnTo>
                    <a:lnTo>
                      <a:pt x="1700" y="505"/>
                    </a:lnTo>
                    <a:lnTo>
                      <a:pt x="1697" y="505"/>
                    </a:lnTo>
                    <a:lnTo>
                      <a:pt x="1694" y="505"/>
                    </a:lnTo>
                    <a:lnTo>
                      <a:pt x="1693" y="506"/>
                    </a:lnTo>
                    <a:lnTo>
                      <a:pt x="1693" y="510"/>
                    </a:lnTo>
                    <a:lnTo>
                      <a:pt x="1691" y="510"/>
                    </a:lnTo>
                    <a:lnTo>
                      <a:pt x="1689" y="511"/>
                    </a:lnTo>
                    <a:lnTo>
                      <a:pt x="1685" y="510"/>
                    </a:lnTo>
                    <a:lnTo>
                      <a:pt x="1682" y="510"/>
                    </a:lnTo>
                    <a:lnTo>
                      <a:pt x="1680" y="510"/>
                    </a:lnTo>
                    <a:lnTo>
                      <a:pt x="1660" y="510"/>
                    </a:lnTo>
                    <a:lnTo>
                      <a:pt x="1659" y="510"/>
                    </a:lnTo>
                    <a:lnTo>
                      <a:pt x="1658" y="510"/>
                    </a:lnTo>
                    <a:lnTo>
                      <a:pt x="1655" y="510"/>
                    </a:lnTo>
                    <a:lnTo>
                      <a:pt x="1652" y="510"/>
                    </a:lnTo>
                    <a:lnTo>
                      <a:pt x="1649" y="510"/>
                    </a:lnTo>
                    <a:lnTo>
                      <a:pt x="1648" y="511"/>
                    </a:lnTo>
                    <a:lnTo>
                      <a:pt x="1647" y="512"/>
                    </a:lnTo>
                    <a:lnTo>
                      <a:pt x="1649" y="512"/>
                    </a:lnTo>
                    <a:lnTo>
                      <a:pt x="1651" y="513"/>
                    </a:lnTo>
                    <a:lnTo>
                      <a:pt x="1653" y="513"/>
                    </a:lnTo>
                    <a:lnTo>
                      <a:pt x="1656" y="514"/>
                    </a:lnTo>
                    <a:lnTo>
                      <a:pt x="1658" y="514"/>
                    </a:lnTo>
                    <a:lnTo>
                      <a:pt x="1660" y="514"/>
                    </a:lnTo>
                    <a:lnTo>
                      <a:pt x="1662" y="514"/>
                    </a:lnTo>
                    <a:lnTo>
                      <a:pt x="1663" y="516"/>
                    </a:lnTo>
                    <a:lnTo>
                      <a:pt x="1664" y="517"/>
                    </a:lnTo>
                    <a:lnTo>
                      <a:pt x="1664" y="518"/>
                    </a:lnTo>
                    <a:lnTo>
                      <a:pt x="1663" y="519"/>
                    </a:lnTo>
                    <a:lnTo>
                      <a:pt x="1662" y="520"/>
                    </a:lnTo>
                    <a:lnTo>
                      <a:pt x="1662" y="521"/>
                    </a:lnTo>
                    <a:lnTo>
                      <a:pt x="1662" y="525"/>
                    </a:lnTo>
                    <a:lnTo>
                      <a:pt x="1675" y="523"/>
                    </a:lnTo>
                    <a:lnTo>
                      <a:pt x="1686" y="521"/>
                    </a:lnTo>
                    <a:lnTo>
                      <a:pt x="1689" y="519"/>
                    </a:lnTo>
                    <a:lnTo>
                      <a:pt x="1692" y="518"/>
                    </a:lnTo>
                    <a:lnTo>
                      <a:pt x="1694" y="516"/>
                    </a:lnTo>
                    <a:lnTo>
                      <a:pt x="1697" y="514"/>
                    </a:lnTo>
                    <a:lnTo>
                      <a:pt x="1702" y="514"/>
                    </a:lnTo>
                    <a:lnTo>
                      <a:pt x="1705" y="516"/>
                    </a:lnTo>
                    <a:lnTo>
                      <a:pt x="1707" y="517"/>
                    </a:lnTo>
                    <a:lnTo>
                      <a:pt x="1708" y="517"/>
                    </a:lnTo>
                    <a:lnTo>
                      <a:pt x="1708" y="519"/>
                    </a:lnTo>
                    <a:lnTo>
                      <a:pt x="1708" y="521"/>
                    </a:lnTo>
                    <a:lnTo>
                      <a:pt x="1704" y="524"/>
                    </a:lnTo>
                    <a:lnTo>
                      <a:pt x="1699" y="528"/>
                    </a:lnTo>
                    <a:lnTo>
                      <a:pt x="1693" y="530"/>
                    </a:lnTo>
                    <a:lnTo>
                      <a:pt x="1681" y="539"/>
                    </a:lnTo>
                    <a:lnTo>
                      <a:pt x="1671" y="547"/>
                    </a:lnTo>
                    <a:lnTo>
                      <a:pt x="1662" y="551"/>
                    </a:lnTo>
                    <a:lnTo>
                      <a:pt x="1653" y="554"/>
                    </a:lnTo>
                    <a:lnTo>
                      <a:pt x="1647" y="558"/>
                    </a:lnTo>
                    <a:lnTo>
                      <a:pt x="1644" y="561"/>
                    </a:lnTo>
                    <a:lnTo>
                      <a:pt x="1641" y="563"/>
                    </a:lnTo>
                    <a:lnTo>
                      <a:pt x="1640" y="565"/>
                    </a:lnTo>
                    <a:lnTo>
                      <a:pt x="1638" y="567"/>
                    </a:lnTo>
                    <a:lnTo>
                      <a:pt x="1638" y="568"/>
                    </a:lnTo>
                    <a:lnTo>
                      <a:pt x="1638" y="569"/>
                    </a:lnTo>
                    <a:lnTo>
                      <a:pt x="1639" y="572"/>
                    </a:lnTo>
                    <a:lnTo>
                      <a:pt x="1638" y="573"/>
                    </a:lnTo>
                    <a:lnTo>
                      <a:pt x="1638" y="573"/>
                    </a:lnTo>
                    <a:lnTo>
                      <a:pt x="1636" y="574"/>
                    </a:lnTo>
                    <a:lnTo>
                      <a:pt x="1634" y="573"/>
                    </a:lnTo>
                    <a:lnTo>
                      <a:pt x="1631" y="572"/>
                    </a:lnTo>
                    <a:lnTo>
                      <a:pt x="1629" y="569"/>
                    </a:lnTo>
                    <a:lnTo>
                      <a:pt x="1627" y="569"/>
                    </a:lnTo>
                    <a:lnTo>
                      <a:pt x="1625" y="571"/>
                    </a:lnTo>
                    <a:lnTo>
                      <a:pt x="1624" y="572"/>
                    </a:lnTo>
                    <a:lnTo>
                      <a:pt x="1623" y="574"/>
                    </a:lnTo>
                    <a:lnTo>
                      <a:pt x="1624" y="575"/>
                    </a:lnTo>
                    <a:lnTo>
                      <a:pt x="1626" y="577"/>
                    </a:lnTo>
                    <a:lnTo>
                      <a:pt x="1628" y="578"/>
                    </a:lnTo>
                    <a:lnTo>
                      <a:pt x="1631" y="580"/>
                    </a:lnTo>
                    <a:lnTo>
                      <a:pt x="1633" y="582"/>
                    </a:lnTo>
                    <a:lnTo>
                      <a:pt x="1633" y="583"/>
                    </a:lnTo>
                    <a:lnTo>
                      <a:pt x="1633" y="584"/>
                    </a:lnTo>
                    <a:lnTo>
                      <a:pt x="1631" y="585"/>
                    </a:lnTo>
                    <a:lnTo>
                      <a:pt x="1629" y="585"/>
                    </a:lnTo>
                    <a:lnTo>
                      <a:pt x="1628" y="586"/>
                    </a:lnTo>
                    <a:lnTo>
                      <a:pt x="1627" y="587"/>
                    </a:lnTo>
                    <a:lnTo>
                      <a:pt x="1626" y="588"/>
                    </a:lnTo>
                    <a:lnTo>
                      <a:pt x="1626" y="590"/>
                    </a:lnTo>
                    <a:lnTo>
                      <a:pt x="1626" y="591"/>
                    </a:lnTo>
                    <a:lnTo>
                      <a:pt x="1625" y="594"/>
                    </a:lnTo>
                    <a:lnTo>
                      <a:pt x="1623" y="594"/>
                    </a:lnTo>
                    <a:lnTo>
                      <a:pt x="1619" y="595"/>
                    </a:lnTo>
                    <a:lnTo>
                      <a:pt x="1618" y="596"/>
                    </a:lnTo>
                    <a:lnTo>
                      <a:pt x="1616" y="596"/>
                    </a:lnTo>
                    <a:lnTo>
                      <a:pt x="1614" y="597"/>
                    </a:lnTo>
                    <a:lnTo>
                      <a:pt x="1613" y="598"/>
                    </a:lnTo>
                    <a:lnTo>
                      <a:pt x="1612" y="599"/>
                    </a:lnTo>
                    <a:lnTo>
                      <a:pt x="1612" y="600"/>
                    </a:lnTo>
                    <a:lnTo>
                      <a:pt x="1612" y="603"/>
                    </a:lnTo>
                    <a:lnTo>
                      <a:pt x="1612" y="603"/>
                    </a:lnTo>
                    <a:lnTo>
                      <a:pt x="1610" y="604"/>
                    </a:lnTo>
                    <a:lnTo>
                      <a:pt x="1610" y="605"/>
                    </a:lnTo>
                    <a:lnTo>
                      <a:pt x="1610" y="606"/>
                    </a:lnTo>
                    <a:lnTo>
                      <a:pt x="1609" y="608"/>
                    </a:lnTo>
                    <a:lnTo>
                      <a:pt x="1609" y="609"/>
                    </a:lnTo>
                    <a:lnTo>
                      <a:pt x="1607" y="609"/>
                    </a:lnTo>
                    <a:lnTo>
                      <a:pt x="1604" y="609"/>
                    </a:lnTo>
                    <a:lnTo>
                      <a:pt x="1601" y="608"/>
                    </a:lnTo>
                    <a:lnTo>
                      <a:pt x="1597" y="608"/>
                    </a:lnTo>
                    <a:lnTo>
                      <a:pt x="1594" y="609"/>
                    </a:lnTo>
                    <a:lnTo>
                      <a:pt x="1592" y="610"/>
                    </a:lnTo>
                    <a:lnTo>
                      <a:pt x="1590" y="611"/>
                    </a:lnTo>
                    <a:lnTo>
                      <a:pt x="1585" y="611"/>
                    </a:lnTo>
                    <a:lnTo>
                      <a:pt x="1580" y="612"/>
                    </a:lnTo>
                    <a:lnTo>
                      <a:pt x="1575" y="617"/>
                    </a:lnTo>
                    <a:lnTo>
                      <a:pt x="1571" y="619"/>
                    </a:lnTo>
                    <a:lnTo>
                      <a:pt x="1564" y="620"/>
                    </a:lnTo>
                    <a:lnTo>
                      <a:pt x="1560" y="619"/>
                    </a:lnTo>
                    <a:lnTo>
                      <a:pt x="1558" y="619"/>
                    </a:lnTo>
                    <a:lnTo>
                      <a:pt x="1557" y="619"/>
                    </a:lnTo>
                    <a:lnTo>
                      <a:pt x="1555" y="620"/>
                    </a:lnTo>
                    <a:lnTo>
                      <a:pt x="1554" y="620"/>
                    </a:lnTo>
                    <a:lnTo>
                      <a:pt x="1553" y="621"/>
                    </a:lnTo>
                    <a:lnTo>
                      <a:pt x="1552" y="622"/>
                    </a:lnTo>
                    <a:lnTo>
                      <a:pt x="1551" y="623"/>
                    </a:lnTo>
                    <a:lnTo>
                      <a:pt x="1549" y="625"/>
                    </a:lnTo>
                    <a:lnTo>
                      <a:pt x="1547" y="625"/>
                    </a:lnTo>
                    <a:lnTo>
                      <a:pt x="1542" y="625"/>
                    </a:lnTo>
                    <a:lnTo>
                      <a:pt x="1539" y="623"/>
                    </a:lnTo>
                    <a:lnTo>
                      <a:pt x="1537" y="623"/>
                    </a:lnTo>
                    <a:lnTo>
                      <a:pt x="1533" y="625"/>
                    </a:lnTo>
                    <a:lnTo>
                      <a:pt x="1531" y="627"/>
                    </a:lnTo>
                    <a:lnTo>
                      <a:pt x="1530" y="627"/>
                    </a:lnTo>
                    <a:lnTo>
                      <a:pt x="1530" y="628"/>
                    </a:lnTo>
                    <a:lnTo>
                      <a:pt x="1531" y="629"/>
                    </a:lnTo>
                    <a:lnTo>
                      <a:pt x="1533" y="630"/>
                    </a:lnTo>
                    <a:lnTo>
                      <a:pt x="1536" y="631"/>
                    </a:lnTo>
                    <a:lnTo>
                      <a:pt x="1543" y="630"/>
                    </a:lnTo>
                    <a:lnTo>
                      <a:pt x="1552" y="629"/>
                    </a:lnTo>
                    <a:lnTo>
                      <a:pt x="1562" y="629"/>
                    </a:lnTo>
                    <a:lnTo>
                      <a:pt x="1565" y="629"/>
                    </a:lnTo>
                    <a:lnTo>
                      <a:pt x="1568" y="630"/>
                    </a:lnTo>
                    <a:lnTo>
                      <a:pt x="1570" y="632"/>
                    </a:lnTo>
                    <a:lnTo>
                      <a:pt x="1570" y="634"/>
                    </a:lnTo>
                    <a:lnTo>
                      <a:pt x="1570" y="637"/>
                    </a:lnTo>
                    <a:lnTo>
                      <a:pt x="1568" y="638"/>
                    </a:lnTo>
                    <a:lnTo>
                      <a:pt x="1565" y="639"/>
                    </a:lnTo>
                    <a:lnTo>
                      <a:pt x="1562" y="640"/>
                    </a:lnTo>
                    <a:lnTo>
                      <a:pt x="1558" y="639"/>
                    </a:lnTo>
                    <a:lnTo>
                      <a:pt x="1553" y="638"/>
                    </a:lnTo>
                    <a:lnTo>
                      <a:pt x="1549" y="636"/>
                    </a:lnTo>
                    <a:lnTo>
                      <a:pt x="1547" y="636"/>
                    </a:lnTo>
                    <a:lnTo>
                      <a:pt x="1546" y="637"/>
                    </a:lnTo>
                    <a:lnTo>
                      <a:pt x="1546" y="638"/>
                    </a:lnTo>
                    <a:lnTo>
                      <a:pt x="1546" y="639"/>
                    </a:lnTo>
                    <a:lnTo>
                      <a:pt x="1547" y="640"/>
                    </a:lnTo>
                    <a:lnTo>
                      <a:pt x="1549" y="641"/>
                    </a:lnTo>
                    <a:lnTo>
                      <a:pt x="1551" y="642"/>
                    </a:lnTo>
                    <a:lnTo>
                      <a:pt x="1553" y="642"/>
                    </a:lnTo>
                    <a:lnTo>
                      <a:pt x="1554" y="643"/>
                    </a:lnTo>
                    <a:lnTo>
                      <a:pt x="1555" y="644"/>
                    </a:lnTo>
                    <a:lnTo>
                      <a:pt x="1558" y="645"/>
                    </a:lnTo>
                    <a:lnTo>
                      <a:pt x="1560" y="647"/>
                    </a:lnTo>
                    <a:lnTo>
                      <a:pt x="1563" y="649"/>
                    </a:lnTo>
                    <a:lnTo>
                      <a:pt x="1565" y="651"/>
                    </a:lnTo>
                    <a:lnTo>
                      <a:pt x="1566" y="653"/>
                    </a:lnTo>
                    <a:lnTo>
                      <a:pt x="1565" y="655"/>
                    </a:lnTo>
                    <a:lnTo>
                      <a:pt x="1565" y="658"/>
                    </a:lnTo>
                    <a:lnTo>
                      <a:pt x="1565" y="660"/>
                    </a:lnTo>
                    <a:lnTo>
                      <a:pt x="1565" y="662"/>
                    </a:lnTo>
                    <a:lnTo>
                      <a:pt x="1564" y="665"/>
                    </a:lnTo>
                    <a:lnTo>
                      <a:pt x="1562" y="666"/>
                    </a:lnTo>
                    <a:lnTo>
                      <a:pt x="1560" y="667"/>
                    </a:lnTo>
                    <a:lnTo>
                      <a:pt x="1558" y="669"/>
                    </a:lnTo>
                    <a:lnTo>
                      <a:pt x="1558" y="670"/>
                    </a:lnTo>
                    <a:lnTo>
                      <a:pt x="1558" y="670"/>
                    </a:lnTo>
                    <a:lnTo>
                      <a:pt x="1560" y="671"/>
                    </a:lnTo>
                    <a:lnTo>
                      <a:pt x="1562" y="672"/>
                    </a:lnTo>
                    <a:lnTo>
                      <a:pt x="1564" y="673"/>
                    </a:lnTo>
                    <a:lnTo>
                      <a:pt x="1566" y="673"/>
                    </a:lnTo>
                    <a:lnTo>
                      <a:pt x="1568" y="675"/>
                    </a:lnTo>
                    <a:lnTo>
                      <a:pt x="1568" y="676"/>
                    </a:lnTo>
                    <a:lnTo>
                      <a:pt x="1566" y="677"/>
                    </a:lnTo>
                    <a:lnTo>
                      <a:pt x="1564" y="678"/>
                    </a:lnTo>
                    <a:lnTo>
                      <a:pt x="1562" y="680"/>
                    </a:lnTo>
                    <a:lnTo>
                      <a:pt x="1560" y="682"/>
                    </a:lnTo>
                    <a:lnTo>
                      <a:pt x="1560" y="683"/>
                    </a:lnTo>
                    <a:lnTo>
                      <a:pt x="1560" y="684"/>
                    </a:lnTo>
                    <a:lnTo>
                      <a:pt x="1560" y="686"/>
                    </a:lnTo>
                    <a:lnTo>
                      <a:pt x="1559" y="687"/>
                    </a:lnTo>
                    <a:lnTo>
                      <a:pt x="1558" y="688"/>
                    </a:lnTo>
                    <a:lnTo>
                      <a:pt x="1552" y="691"/>
                    </a:lnTo>
                    <a:lnTo>
                      <a:pt x="1547" y="693"/>
                    </a:lnTo>
                    <a:lnTo>
                      <a:pt x="1540" y="695"/>
                    </a:lnTo>
                    <a:lnTo>
                      <a:pt x="1536" y="695"/>
                    </a:lnTo>
                    <a:lnTo>
                      <a:pt x="1532" y="694"/>
                    </a:lnTo>
                    <a:lnTo>
                      <a:pt x="1528" y="692"/>
                    </a:lnTo>
                    <a:lnTo>
                      <a:pt x="1525" y="691"/>
                    </a:lnTo>
                    <a:lnTo>
                      <a:pt x="1520" y="691"/>
                    </a:lnTo>
                    <a:lnTo>
                      <a:pt x="1516" y="692"/>
                    </a:lnTo>
                    <a:lnTo>
                      <a:pt x="1511" y="693"/>
                    </a:lnTo>
                    <a:lnTo>
                      <a:pt x="1510" y="695"/>
                    </a:lnTo>
                    <a:lnTo>
                      <a:pt x="1510" y="697"/>
                    </a:lnTo>
                    <a:lnTo>
                      <a:pt x="1511" y="699"/>
                    </a:lnTo>
                    <a:lnTo>
                      <a:pt x="1514" y="702"/>
                    </a:lnTo>
                    <a:lnTo>
                      <a:pt x="1516" y="704"/>
                    </a:lnTo>
                    <a:lnTo>
                      <a:pt x="1519" y="709"/>
                    </a:lnTo>
                    <a:lnTo>
                      <a:pt x="1519" y="715"/>
                    </a:lnTo>
                    <a:lnTo>
                      <a:pt x="1516" y="721"/>
                    </a:lnTo>
                    <a:lnTo>
                      <a:pt x="1511" y="726"/>
                    </a:lnTo>
                    <a:lnTo>
                      <a:pt x="1505" y="728"/>
                    </a:lnTo>
                    <a:lnTo>
                      <a:pt x="1496" y="728"/>
                    </a:lnTo>
                    <a:lnTo>
                      <a:pt x="1487" y="728"/>
                    </a:lnTo>
                    <a:lnTo>
                      <a:pt x="1479" y="728"/>
                    </a:lnTo>
                    <a:lnTo>
                      <a:pt x="1473" y="727"/>
                    </a:lnTo>
                    <a:lnTo>
                      <a:pt x="1465" y="726"/>
                    </a:lnTo>
                    <a:lnTo>
                      <a:pt x="1463" y="726"/>
                    </a:lnTo>
                    <a:lnTo>
                      <a:pt x="1461" y="727"/>
                    </a:lnTo>
                    <a:lnTo>
                      <a:pt x="1460" y="729"/>
                    </a:lnTo>
                    <a:lnTo>
                      <a:pt x="1459" y="730"/>
                    </a:lnTo>
                    <a:lnTo>
                      <a:pt x="1460" y="732"/>
                    </a:lnTo>
                    <a:lnTo>
                      <a:pt x="1461" y="732"/>
                    </a:lnTo>
                    <a:lnTo>
                      <a:pt x="1462" y="732"/>
                    </a:lnTo>
                    <a:lnTo>
                      <a:pt x="1464" y="732"/>
                    </a:lnTo>
                    <a:lnTo>
                      <a:pt x="1466" y="731"/>
                    </a:lnTo>
                    <a:lnTo>
                      <a:pt x="1467" y="730"/>
                    </a:lnTo>
                    <a:lnTo>
                      <a:pt x="1479" y="729"/>
                    </a:lnTo>
                    <a:lnTo>
                      <a:pt x="1492" y="731"/>
                    </a:lnTo>
                    <a:lnTo>
                      <a:pt x="1500" y="735"/>
                    </a:lnTo>
                    <a:lnTo>
                      <a:pt x="1504" y="739"/>
                    </a:lnTo>
                    <a:lnTo>
                      <a:pt x="1504" y="748"/>
                    </a:lnTo>
                    <a:lnTo>
                      <a:pt x="1507" y="752"/>
                    </a:lnTo>
                    <a:lnTo>
                      <a:pt x="1508" y="752"/>
                    </a:lnTo>
                    <a:lnTo>
                      <a:pt x="1509" y="752"/>
                    </a:lnTo>
                    <a:lnTo>
                      <a:pt x="1510" y="750"/>
                    </a:lnTo>
                    <a:lnTo>
                      <a:pt x="1511" y="749"/>
                    </a:lnTo>
                    <a:lnTo>
                      <a:pt x="1511" y="747"/>
                    </a:lnTo>
                    <a:lnTo>
                      <a:pt x="1511" y="745"/>
                    </a:lnTo>
                    <a:lnTo>
                      <a:pt x="1511" y="743"/>
                    </a:lnTo>
                    <a:lnTo>
                      <a:pt x="1514" y="742"/>
                    </a:lnTo>
                    <a:lnTo>
                      <a:pt x="1516" y="741"/>
                    </a:lnTo>
                    <a:lnTo>
                      <a:pt x="1519" y="741"/>
                    </a:lnTo>
                    <a:lnTo>
                      <a:pt x="1522" y="741"/>
                    </a:lnTo>
                    <a:lnTo>
                      <a:pt x="1528" y="746"/>
                    </a:lnTo>
                    <a:lnTo>
                      <a:pt x="1530" y="751"/>
                    </a:lnTo>
                    <a:lnTo>
                      <a:pt x="1530" y="757"/>
                    </a:lnTo>
                    <a:lnTo>
                      <a:pt x="1527" y="761"/>
                    </a:lnTo>
                    <a:lnTo>
                      <a:pt x="1520" y="764"/>
                    </a:lnTo>
                    <a:lnTo>
                      <a:pt x="1511" y="767"/>
                    </a:lnTo>
                    <a:lnTo>
                      <a:pt x="1503" y="770"/>
                    </a:lnTo>
                    <a:lnTo>
                      <a:pt x="1496" y="774"/>
                    </a:lnTo>
                    <a:lnTo>
                      <a:pt x="1493" y="778"/>
                    </a:lnTo>
                    <a:lnTo>
                      <a:pt x="1486" y="782"/>
                    </a:lnTo>
                    <a:lnTo>
                      <a:pt x="1479" y="785"/>
                    </a:lnTo>
                    <a:lnTo>
                      <a:pt x="1474" y="785"/>
                    </a:lnTo>
                    <a:lnTo>
                      <a:pt x="1473" y="784"/>
                    </a:lnTo>
                    <a:lnTo>
                      <a:pt x="1472" y="783"/>
                    </a:lnTo>
                    <a:lnTo>
                      <a:pt x="1473" y="781"/>
                    </a:lnTo>
                    <a:lnTo>
                      <a:pt x="1473" y="780"/>
                    </a:lnTo>
                    <a:lnTo>
                      <a:pt x="1474" y="778"/>
                    </a:lnTo>
                    <a:lnTo>
                      <a:pt x="1475" y="776"/>
                    </a:lnTo>
                    <a:lnTo>
                      <a:pt x="1475" y="774"/>
                    </a:lnTo>
                    <a:lnTo>
                      <a:pt x="1474" y="773"/>
                    </a:lnTo>
                    <a:lnTo>
                      <a:pt x="1472" y="772"/>
                    </a:lnTo>
                    <a:lnTo>
                      <a:pt x="1467" y="772"/>
                    </a:lnTo>
                    <a:lnTo>
                      <a:pt x="1463" y="771"/>
                    </a:lnTo>
                    <a:lnTo>
                      <a:pt x="1460" y="770"/>
                    </a:lnTo>
                    <a:lnTo>
                      <a:pt x="1456" y="768"/>
                    </a:lnTo>
                    <a:lnTo>
                      <a:pt x="1455" y="767"/>
                    </a:lnTo>
                    <a:lnTo>
                      <a:pt x="1454" y="765"/>
                    </a:lnTo>
                    <a:lnTo>
                      <a:pt x="1452" y="765"/>
                    </a:lnTo>
                    <a:lnTo>
                      <a:pt x="1450" y="765"/>
                    </a:lnTo>
                    <a:lnTo>
                      <a:pt x="1448" y="768"/>
                    </a:lnTo>
                    <a:lnTo>
                      <a:pt x="1446" y="769"/>
                    </a:lnTo>
                    <a:lnTo>
                      <a:pt x="1444" y="769"/>
                    </a:lnTo>
                    <a:lnTo>
                      <a:pt x="1442" y="769"/>
                    </a:lnTo>
                    <a:lnTo>
                      <a:pt x="1440" y="768"/>
                    </a:lnTo>
                    <a:lnTo>
                      <a:pt x="1437" y="767"/>
                    </a:lnTo>
                    <a:lnTo>
                      <a:pt x="1434" y="767"/>
                    </a:lnTo>
                    <a:lnTo>
                      <a:pt x="1433" y="767"/>
                    </a:lnTo>
                    <a:lnTo>
                      <a:pt x="1431" y="768"/>
                    </a:lnTo>
                    <a:lnTo>
                      <a:pt x="1430" y="770"/>
                    </a:lnTo>
                    <a:lnTo>
                      <a:pt x="1430" y="772"/>
                    </a:lnTo>
                    <a:lnTo>
                      <a:pt x="1429" y="773"/>
                    </a:lnTo>
                    <a:lnTo>
                      <a:pt x="1427" y="774"/>
                    </a:lnTo>
                    <a:lnTo>
                      <a:pt x="1426" y="774"/>
                    </a:lnTo>
                    <a:lnTo>
                      <a:pt x="1423" y="773"/>
                    </a:lnTo>
                    <a:lnTo>
                      <a:pt x="1421" y="771"/>
                    </a:lnTo>
                    <a:lnTo>
                      <a:pt x="1420" y="770"/>
                    </a:lnTo>
                    <a:lnTo>
                      <a:pt x="1419" y="768"/>
                    </a:lnTo>
                    <a:lnTo>
                      <a:pt x="1419" y="765"/>
                    </a:lnTo>
                    <a:lnTo>
                      <a:pt x="1418" y="764"/>
                    </a:lnTo>
                    <a:lnTo>
                      <a:pt x="1417" y="763"/>
                    </a:lnTo>
                    <a:lnTo>
                      <a:pt x="1415" y="763"/>
                    </a:lnTo>
                    <a:lnTo>
                      <a:pt x="1413" y="764"/>
                    </a:lnTo>
                    <a:lnTo>
                      <a:pt x="1412" y="765"/>
                    </a:lnTo>
                    <a:lnTo>
                      <a:pt x="1410" y="765"/>
                    </a:lnTo>
                    <a:lnTo>
                      <a:pt x="1409" y="769"/>
                    </a:lnTo>
                    <a:lnTo>
                      <a:pt x="1408" y="771"/>
                    </a:lnTo>
                    <a:lnTo>
                      <a:pt x="1408" y="773"/>
                    </a:lnTo>
                    <a:lnTo>
                      <a:pt x="1406" y="776"/>
                    </a:lnTo>
                    <a:lnTo>
                      <a:pt x="1404" y="780"/>
                    </a:lnTo>
                    <a:lnTo>
                      <a:pt x="1398" y="781"/>
                    </a:lnTo>
                    <a:lnTo>
                      <a:pt x="1393" y="780"/>
                    </a:lnTo>
                    <a:lnTo>
                      <a:pt x="1387" y="779"/>
                    </a:lnTo>
                    <a:lnTo>
                      <a:pt x="1374" y="772"/>
                    </a:lnTo>
                    <a:lnTo>
                      <a:pt x="1369" y="772"/>
                    </a:lnTo>
                    <a:lnTo>
                      <a:pt x="1367" y="773"/>
                    </a:lnTo>
                    <a:lnTo>
                      <a:pt x="1365" y="775"/>
                    </a:lnTo>
                    <a:lnTo>
                      <a:pt x="1362" y="776"/>
                    </a:lnTo>
                    <a:lnTo>
                      <a:pt x="1358" y="776"/>
                    </a:lnTo>
                    <a:lnTo>
                      <a:pt x="1353" y="776"/>
                    </a:lnTo>
                    <a:lnTo>
                      <a:pt x="1348" y="774"/>
                    </a:lnTo>
                    <a:lnTo>
                      <a:pt x="1345" y="773"/>
                    </a:lnTo>
                    <a:lnTo>
                      <a:pt x="1342" y="772"/>
                    </a:lnTo>
                    <a:lnTo>
                      <a:pt x="1336" y="774"/>
                    </a:lnTo>
                    <a:lnTo>
                      <a:pt x="1334" y="775"/>
                    </a:lnTo>
                    <a:lnTo>
                      <a:pt x="1332" y="778"/>
                    </a:lnTo>
                    <a:lnTo>
                      <a:pt x="1331" y="781"/>
                    </a:lnTo>
                    <a:lnTo>
                      <a:pt x="1329" y="783"/>
                    </a:lnTo>
                    <a:lnTo>
                      <a:pt x="1328" y="786"/>
                    </a:lnTo>
                    <a:lnTo>
                      <a:pt x="1325" y="789"/>
                    </a:lnTo>
                    <a:lnTo>
                      <a:pt x="1323" y="790"/>
                    </a:lnTo>
                    <a:lnTo>
                      <a:pt x="1319" y="790"/>
                    </a:lnTo>
                    <a:lnTo>
                      <a:pt x="1314" y="789"/>
                    </a:lnTo>
                    <a:lnTo>
                      <a:pt x="1309" y="789"/>
                    </a:lnTo>
                    <a:lnTo>
                      <a:pt x="1303" y="792"/>
                    </a:lnTo>
                    <a:lnTo>
                      <a:pt x="1301" y="794"/>
                    </a:lnTo>
                    <a:lnTo>
                      <a:pt x="1300" y="796"/>
                    </a:lnTo>
                    <a:lnTo>
                      <a:pt x="1300" y="798"/>
                    </a:lnTo>
                    <a:lnTo>
                      <a:pt x="1301" y="800"/>
                    </a:lnTo>
                    <a:lnTo>
                      <a:pt x="1303" y="801"/>
                    </a:lnTo>
                    <a:lnTo>
                      <a:pt x="1307" y="802"/>
                    </a:lnTo>
                    <a:lnTo>
                      <a:pt x="1310" y="803"/>
                    </a:lnTo>
                    <a:lnTo>
                      <a:pt x="1312" y="804"/>
                    </a:lnTo>
                    <a:lnTo>
                      <a:pt x="1314" y="805"/>
                    </a:lnTo>
                    <a:lnTo>
                      <a:pt x="1318" y="806"/>
                    </a:lnTo>
                    <a:lnTo>
                      <a:pt x="1320" y="807"/>
                    </a:lnTo>
                    <a:lnTo>
                      <a:pt x="1323" y="808"/>
                    </a:lnTo>
                    <a:lnTo>
                      <a:pt x="1325" y="809"/>
                    </a:lnTo>
                    <a:lnTo>
                      <a:pt x="1326" y="811"/>
                    </a:lnTo>
                    <a:lnTo>
                      <a:pt x="1326" y="813"/>
                    </a:lnTo>
                    <a:lnTo>
                      <a:pt x="1325" y="814"/>
                    </a:lnTo>
                    <a:lnTo>
                      <a:pt x="1323" y="816"/>
                    </a:lnTo>
                    <a:lnTo>
                      <a:pt x="1323" y="817"/>
                    </a:lnTo>
                    <a:lnTo>
                      <a:pt x="1323" y="818"/>
                    </a:lnTo>
                    <a:lnTo>
                      <a:pt x="1324" y="818"/>
                    </a:lnTo>
                    <a:lnTo>
                      <a:pt x="1326" y="818"/>
                    </a:lnTo>
                    <a:lnTo>
                      <a:pt x="1330" y="818"/>
                    </a:lnTo>
                    <a:lnTo>
                      <a:pt x="1333" y="818"/>
                    </a:lnTo>
                    <a:lnTo>
                      <a:pt x="1335" y="819"/>
                    </a:lnTo>
                    <a:lnTo>
                      <a:pt x="1337" y="820"/>
                    </a:lnTo>
                    <a:lnTo>
                      <a:pt x="1341" y="820"/>
                    </a:lnTo>
                    <a:lnTo>
                      <a:pt x="1344" y="819"/>
                    </a:lnTo>
                    <a:lnTo>
                      <a:pt x="1347" y="818"/>
                    </a:lnTo>
                    <a:lnTo>
                      <a:pt x="1351" y="817"/>
                    </a:lnTo>
                    <a:lnTo>
                      <a:pt x="1354" y="816"/>
                    </a:lnTo>
                    <a:lnTo>
                      <a:pt x="1356" y="816"/>
                    </a:lnTo>
                    <a:lnTo>
                      <a:pt x="1359" y="816"/>
                    </a:lnTo>
                    <a:lnTo>
                      <a:pt x="1363" y="817"/>
                    </a:lnTo>
                    <a:lnTo>
                      <a:pt x="1365" y="818"/>
                    </a:lnTo>
                    <a:lnTo>
                      <a:pt x="1367" y="818"/>
                    </a:lnTo>
                    <a:lnTo>
                      <a:pt x="1368" y="820"/>
                    </a:lnTo>
                    <a:lnTo>
                      <a:pt x="1370" y="822"/>
                    </a:lnTo>
                    <a:lnTo>
                      <a:pt x="1372" y="823"/>
                    </a:lnTo>
                    <a:lnTo>
                      <a:pt x="1373" y="824"/>
                    </a:lnTo>
                    <a:lnTo>
                      <a:pt x="1375" y="824"/>
                    </a:lnTo>
                    <a:lnTo>
                      <a:pt x="1378" y="823"/>
                    </a:lnTo>
                    <a:lnTo>
                      <a:pt x="1383" y="823"/>
                    </a:lnTo>
                    <a:lnTo>
                      <a:pt x="1386" y="822"/>
                    </a:lnTo>
                    <a:lnTo>
                      <a:pt x="1390" y="820"/>
                    </a:lnTo>
                    <a:lnTo>
                      <a:pt x="1394" y="818"/>
                    </a:lnTo>
                    <a:lnTo>
                      <a:pt x="1402" y="813"/>
                    </a:lnTo>
                    <a:lnTo>
                      <a:pt x="1412" y="806"/>
                    </a:lnTo>
                    <a:lnTo>
                      <a:pt x="1423" y="801"/>
                    </a:lnTo>
                    <a:lnTo>
                      <a:pt x="1434" y="801"/>
                    </a:lnTo>
                    <a:lnTo>
                      <a:pt x="1445" y="803"/>
                    </a:lnTo>
                    <a:lnTo>
                      <a:pt x="1456" y="805"/>
                    </a:lnTo>
                    <a:lnTo>
                      <a:pt x="1467" y="805"/>
                    </a:lnTo>
                    <a:lnTo>
                      <a:pt x="1478" y="806"/>
                    </a:lnTo>
                    <a:lnTo>
                      <a:pt x="1485" y="809"/>
                    </a:lnTo>
                    <a:lnTo>
                      <a:pt x="1487" y="813"/>
                    </a:lnTo>
                    <a:lnTo>
                      <a:pt x="1489" y="816"/>
                    </a:lnTo>
                    <a:lnTo>
                      <a:pt x="1492" y="819"/>
                    </a:lnTo>
                    <a:lnTo>
                      <a:pt x="1492" y="823"/>
                    </a:lnTo>
                    <a:lnTo>
                      <a:pt x="1492" y="825"/>
                    </a:lnTo>
                    <a:lnTo>
                      <a:pt x="1489" y="828"/>
                    </a:lnTo>
                    <a:lnTo>
                      <a:pt x="1487" y="830"/>
                    </a:lnTo>
                    <a:lnTo>
                      <a:pt x="1486" y="833"/>
                    </a:lnTo>
                    <a:lnTo>
                      <a:pt x="1485" y="834"/>
                    </a:lnTo>
                    <a:lnTo>
                      <a:pt x="1485" y="836"/>
                    </a:lnTo>
                    <a:lnTo>
                      <a:pt x="1487" y="836"/>
                    </a:lnTo>
                    <a:lnTo>
                      <a:pt x="1488" y="837"/>
                    </a:lnTo>
                    <a:lnTo>
                      <a:pt x="1490" y="837"/>
                    </a:lnTo>
                    <a:lnTo>
                      <a:pt x="1493" y="837"/>
                    </a:lnTo>
                    <a:lnTo>
                      <a:pt x="1494" y="838"/>
                    </a:lnTo>
                    <a:lnTo>
                      <a:pt x="1495" y="840"/>
                    </a:lnTo>
                    <a:lnTo>
                      <a:pt x="1497" y="841"/>
                    </a:lnTo>
                    <a:lnTo>
                      <a:pt x="1498" y="844"/>
                    </a:lnTo>
                    <a:lnTo>
                      <a:pt x="1499" y="846"/>
                    </a:lnTo>
                    <a:lnTo>
                      <a:pt x="1500" y="847"/>
                    </a:lnTo>
                    <a:lnTo>
                      <a:pt x="1496" y="852"/>
                    </a:lnTo>
                    <a:lnTo>
                      <a:pt x="1489" y="856"/>
                    </a:lnTo>
                    <a:lnTo>
                      <a:pt x="1482" y="859"/>
                    </a:lnTo>
                    <a:lnTo>
                      <a:pt x="1474" y="860"/>
                    </a:lnTo>
                    <a:lnTo>
                      <a:pt x="1465" y="862"/>
                    </a:lnTo>
                    <a:lnTo>
                      <a:pt x="1455" y="865"/>
                    </a:lnTo>
                    <a:lnTo>
                      <a:pt x="1446" y="865"/>
                    </a:lnTo>
                    <a:lnTo>
                      <a:pt x="1439" y="860"/>
                    </a:lnTo>
                    <a:lnTo>
                      <a:pt x="1438" y="859"/>
                    </a:lnTo>
                    <a:lnTo>
                      <a:pt x="1437" y="857"/>
                    </a:lnTo>
                    <a:lnTo>
                      <a:pt x="1435" y="856"/>
                    </a:lnTo>
                    <a:lnTo>
                      <a:pt x="1434" y="855"/>
                    </a:lnTo>
                    <a:lnTo>
                      <a:pt x="1433" y="855"/>
                    </a:lnTo>
                    <a:lnTo>
                      <a:pt x="1433" y="855"/>
                    </a:lnTo>
                    <a:lnTo>
                      <a:pt x="1432" y="857"/>
                    </a:lnTo>
                    <a:lnTo>
                      <a:pt x="1432" y="860"/>
                    </a:lnTo>
                    <a:lnTo>
                      <a:pt x="1430" y="863"/>
                    </a:lnTo>
                    <a:lnTo>
                      <a:pt x="1426" y="866"/>
                    </a:lnTo>
                    <a:lnTo>
                      <a:pt x="1419" y="867"/>
                    </a:lnTo>
                    <a:lnTo>
                      <a:pt x="1412" y="867"/>
                    </a:lnTo>
                    <a:lnTo>
                      <a:pt x="1398" y="868"/>
                    </a:lnTo>
                    <a:lnTo>
                      <a:pt x="1383" y="869"/>
                    </a:lnTo>
                    <a:lnTo>
                      <a:pt x="1361" y="870"/>
                    </a:lnTo>
                    <a:lnTo>
                      <a:pt x="1341" y="869"/>
                    </a:lnTo>
                    <a:lnTo>
                      <a:pt x="1337" y="868"/>
                    </a:lnTo>
                    <a:lnTo>
                      <a:pt x="1335" y="868"/>
                    </a:lnTo>
                    <a:lnTo>
                      <a:pt x="1335" y="867"/>
                    </a:lnTo>
                    <a:lnTo>
                      <a:pt x="1335" y="866"/>
                    </a:lnTo>
                    <a:lnTo>
                      <a:pt x="1335" y="865"/>
                    </a:lnTo>
                    <a:lnTo>
                      <a:pt x="1335" y="863"/>
                    </a:lnTo>
                    <a:lnTo>
                      <a:pt x="1335" y="862"/>
                    </a:lnTo>
                    <a:lnTo>
                      <a:pt x="1334" y="860"/>
                    </a:lnTo>
                    <a:lnTo>
                      <a:pt x="1332" y="858"/>
                    </a:lnTo>
                    <a:lnTo>
                      <a:pt x="1329" y="858"/>
                    </a:lnTo>
                    <a:lnTo>
                      <a:pt x="1326" y="858"/>
                    </a:lnTo>
                    <a:lnTo>
                      <a:pt x="1323" y="858"/>
                    </a:lnTo>
                    <a:lnTo>
                      <a:pt x="1321" y="858"/>
                    </a:lnTo>
                    <a:lnTo>
                      <a:pt x="1317" y="860"/>
                    </a:lnTo>
                    <a:lnTo>
                      <a:pt x="1313" y="861"/>
                    </a:lnTo>
                    <a:lnTo>
                      <a:pt x="1311" y="863"/>
                    </a:lnTo>
                    <a:lnTo>
                      <a:pt x="1308" y="867"/>
                    </a:lnTo>
                    <a:lnTo>
                      <a:pt x="1306" y="869"/>
                    </a:lnTo>
                    <a:lnTo>
                      <a:pt x="1304" y="869"/>
                    </a:lnTo>
                    <a:lnTo>
                      <a:pt x="1302" y="869"/>
                    </a:lnTo>
                    <a:lnTo>
                      <a:pt x="1301" y="868"/>
                    </a:lnTo>
                    <a:lnTo>
                      <a:pt x="1299" y="867"/>
                    </a:lnTo>
                    <a:lnTo>
                      <a:pt x="1297" y="867"/>
                    </a:lnTo>
                    <a:lnTo>
                      <a:pt x="1295" y="867"/>
                    </a:lnTo>
                    <a:lnTo>
                      <a:pt x="1292" y="867"/>
                    </a:lnTo>
                    <a:lnTo>
                      <a:pt x="1290" y="867"/>
                    </a:lnTo>
                    <a:lnTo>
                      <a:pt x="1289" y="867"/>
                    </a:lnTo>
                    <a:lnTo>
                      <a:pt x="1287" y="867"/>
                    </a:lnTo>
                    <a:lnTo>
                      <a:pt x="1286" y="865"/>
                    </a:lnTo>
                    <a:lnTo>
                      <a:pt x="1284" y="861"/>
                    </a:lnTo>
                    <a:lnTo>
                      <a:pt x="1281" y="858"/>
                    </a:lnTo>
                    <a:lnTo>
                      <a:pt x="1279" y="854"/>
                    </a:lnTo>
                    <a:lnTo>
                      <a:pt x="1277" y="842"/>
                    </a:lnTo>
                    <a:lnTo>
                      <a:pt x="1277" y="829"/>
                    </a:lnTo>
                    <a:lnTo>
                      <a:pt x="1279" y="822"/>
                    </a:lnTo>
                    <a:lnTo>
                      <a:pt x="1281" y="815"/>
                    </a:lnTo>
                    <a:lnTo>
                      <a:pt x="1281" y="808"/>
                    </a:lnTo>
                    <a:lnTo>
                      <a:pt x="1277" y="803"/>
                    </a:lnTo>
                    <a:lnTo>
                      <a:pt x="1274" y="800"/>
                    </a:lnTo>
                    <a:lnTo>
                      <a:pt x="1271" y="797"/>
                    </a:lnTo>
                    <a:lnTo>
                      <a:pt x="1270" y="794"/>
                    </a:lnTo>
                    <a:lnTo>
                      <a:pt x="1269" y="791"/>
                    </a:lnTo>
                    <a:lnTo>
                      <a:pt x="1268" y="787"/>
                    </a:lnTo>
                    <a:lnTo>
                      <a:pt x="1264" y="785"/>
                    </a:lnTo>
                    <a:lnTo>
                      <a:pt x="1258" y="786"/>
                    </a:lnTo>
                    <a:lnTo>
                      <a:pt x="1252" y="790"/>
                    </a:lnTo>
                    <a:lnTo>
                      <a:pt x="1246" y="792"/>
                    </a:lnTo>
                    <a:lnTo>
                      <a:pt x="1243" y="793"/>
                    </a:lnTo>
                    <a:lnTo>
                      <a:pt x="1239" y="793"/>
                    </a:lnTo>
                    <a:lnTo>
                      <a:pt x="1237" y="792"/>
                    </a:lnTo>
                    <a:lnTo>
                      <a:pt x="1235" y="791"/>
                    </a:lnTo>
                    <a:lnTo>
                      <a:pt x="1233" y="790"/>
                    </a:lnTo>
                    <a:lnTo>
                      <a:pt x="1231" y="787"/>
                    </a:lnTo>
                    <a:lnTo>
                      <a:pt x="1228" y="786"/>
                    </a:lnTo>
                    <a:lnTo>
                      <a:pt x="1227" y="785"/>
                    </a:lnTo>
                    <a:lnTo>
                      <a:pt x="1225" y="784"/>
                    </a:lnTo>
                    <a:lnTo>
                      <a:pt x="1223" y="783"/>
                    </a:lnTo>
                    <a:lnTo>
                      <a:pt x="1220" y="782"/>
                    </a:lnTo>
                    <a:lnTo>
                      <a:pt x="1217" y="780"/>
                    </a:lnTo>
                    <a:lnTo>
                      <a:pt x="1216" y="778"/>
                    </a:lnTo>
                    <a:lnTo>
                      <a:pt x="1215" y="774"/>
                    </a:lnTo>
                    <a:lnTo>
                      <a:pt x="1214" y="772"/>
                    </a:lnTo>
                    <a:lnTo>
                      <a:pt x="1214" y="770"/>
                    </a:lnTo>
                    <a:lnTo>
                      <a:pt x="1213" y="769"/>
                    </a:lnTo>
                    <a:lnTo>
                      <a:pt x="1212" y="768"/>
                    </a:lnTo>
                    <a:lnTo>
                      <a:pt x="1211" y="767"/>
                    </a:lnTo>
                    <a:lnTo>
                      <a:pt x="1209" y="765"/>
                    </a:lnTo>
                    <a:lnTo>
                      <a:pt x="1208" y="763"/>
                    </a:lnTo>
                    <a:lnTo>
                      <a:pt x="1206" y="760"/>
                    </a:lnTo>
                    <a:lnTo>
                      <a:pt x="1208" y="758"/>
                    </a:lnTo>
                    <a:lnTo>
                      <a:pt x="1210" y="756"/>
                    </a:lnTo>
                    <a:lnTo>
                      <a:pt x="1213" y="753"/>
                    </a:lnTo>
                    <a:lnTo>
                      <a:pt x="1217" y="752"/>
                    </a:lnTo>
                    <a:lnTo>
                      <a:pt x="1223" y="752"/>
                    </a:lnTo>
                    <a:lnTo>
                      <a:pt x="1225" y="752"/>
                    </a:lnTo>
                    <a:lnTo>
                      <a:pt x="1228" y="752"/>
                    </a:lnTo>
                    <a:lnTo>
                      <a:pt x="1231" y="753"/>
                    </a:lnTo>
                    <a:lnTo>
                      <a:pt x="1233" y="753"/>
                    </a:lnTo>
                    <a:lnTo>
                      <a:pt x="1236" y="753"/>
                    </a:lnTo>
                    <a:lnTo>
                      <a:pt x="1239" y="752"/>
                    </a:lnTo>
                    <a:lnTo>
                      <a:pt x="1243" y="752"/>
                    </a:lnTo>
                    <a:lnTo>
                      <a:pt x="1245" y="751"/>
                    </a:lnTo>
                    <a:lnTo>
                      <a:pt x="1247" y="751"/>
                    </a:lnTo>
                    <a:lnTo>
                      <a:pt x="1249" y="751"/>
                    </a:lnTo>
                    <a:lnTo>
                      <a:pt x="1251" y="752"/>
                    </a:lnTo>
                    <a:lnTo>
                      <a:pt x="1255" y="754"/>
                    </a:lnTo>
                    <a:lnTo>
                      <a:pt x="1258" y="757"/>
                    </a:lnTo>
                    <a:lnTo>
                      <a:pt x="1259" y="759"/>
                    </a:lnTo>
                    <a:lnTo>
                      <a:pt x="1259" y="762"/>
                    </a:lnTo>
                    <a:lnTo>
                      <a:pt x="1259" y="764"/>
                    </a:lnTo>
                    <a:lnTo>
                      <a:pt x="1259" y="768"/>
                    </a:lnTo>
                    <a:lnTo>
                      <a:pt x="1259" y="769"/>
                    </a:lnTo>
                    <a:lnTo>
                      <a:pt x="1260" y="770"/>
                    </a:lnTo>
                    <a:lnTo>
                      <a:pt x="1262" y="770"/>
                    </a:lnTo>
                    <a:lnTo>
                      <a:pt x="1264" y="770"/>
                    </a:lnTo>
                    <a:lnTo>
                      <a:pt x="1265" y="770"/>
                    </a:lnTo>
                    <a:lnTo>
                      <a:pt x="1267" y="770"/>
                    </a:lnTo>
                    <a:lnTo>
                      <a:pt x="1268" y="770"/>
                    </a:lnTo>
                    <a:lnTo>
                      <a:pt x="1274" y="769"/>
                    </a:lnTo>
                    <a:lnTo>
                      <a:pt x="1278" y="768"/>
                    </a:lnTo>
                    <a:lnTo>
                      <a:pt x="1282" y="767"/>
                    </a:lnTo>
                    <a:lnTo>
                      <a:pt x="1286" y="765"/>
                    </a:lnTo>
                    <a:lnTo>
                      <a:pt x="1290" y="764"/>
                    </a:lnTo>
                    <a:lnTo>
                      <a:pt x="1293" y="762"/>
                    </a:lnTo>
                    <a:lnTo>
                      <a:pt x="1297" y="761"/>
                    </a:lnTo>
                    <a:lnTo>
                      <a:pt x="1300" y="760"/>
                    </a:lnTo>
                    <a:lnTo>
                      <a:pt x="1303" y="761"/>
                    </a:lnTo>
                    <a:lnTo>
                      <a:pt x="1307" y="761"/>
                    </a:lnTo>
                    <a:lnTo>
                      <a:pt x="1309" y="762"/>
                    </a:lnTo>
                    <a:lnTo>
                      <a:pt x="1311" y="764"/>
                    </a:lnTo>
                    <a:lnTo>
                      <a:pt x="1312" y="765"/>
                    </a:lnTo>
                    <a:lnTo>
                      <a:pt x="1315" y="767"/>
                    </a:lnTo>
                    <a:lnTo>
                      <a:pt x="1319" y="767"/>
                    </a:lnTo>
                    <a:lnTo>
                      <a:pt x="1321" y="765"/>
                    </a:lnTo>
                    <a:lnTo>
                      <a:pt x="1323" y="764"/>
                    </a:lnTo>
                    <a:lnTo>
                      <a:pt x="1325" y="763"/>
                    </a:lnTo>
                    <a:lnTo>
                      <a:pt x="1326" y="761"/>
                    </a:lnTo>
                    <a:lnTo>
                      <a:pt x="1326" y="759"/>
                    </a:lnTo>
                    <a:lnTo>
                      <a:pt x="1326" y="757"/>
                    </a:lnTo>
                    <a:lnTo>
                      <a:pt x="1328" y="754"/>
                    </a:lnTo>
                    <a:lnTo>
                      <a:pt x="1330" y="752"/>
                    </a:lnTo>
                    <a:lnTo>
                      <a:pt x="1332" y="751"/>
                    </a:lnTo>
                    <a:lnTo>
                      <a:pt x="1334" y="750"/>
                    </a:lnTo>
                    <a:lnTo>
                      <a:pt x="1336" y="749"/>
                    </a:lnTo>
                    <a:lnTo>
                      <a:pt x="1339" y="748"/>
                    </a:lnTo>
                    <a:lnTo>
                      <a:pt x="1341" y="746"/>
                    </a:lnTo>
                    <a:lnTo>
                      <a:pt x="1342" y="743"/>
                    </a:lnTo>
                    <a:lnTo>
                      <a:pt x="1343" y="742"/>
                    </a:lnTo>
                    <a:lnTo>
                      <a:pt x="1344" y="740"/>
                    </a:lnTo>
                    <a:lnTo>
                      <a:pt x="1347" y="739"/>
                    </a:lnTo>
                    <a:lnTo>
                      <a:pt x="1351" y="737"/>
                    </a:lnTo>
                    <a:lnTo>
                      <a:pt x="1354" y="736"/>
                    </a:lnTo>
                    <a:lnTo>
                      <a:pt x="1355" y="734"/>
                    </a:lnTo>
                    <a:lnTo>
                      <a:pt x="1356" y="731"/>
                    </a:lnTo>
                    <a:lnTo>
                      <a:pt x="1357" y="729"/>
                    </a:lnTo>
                    <a:lnTo>
                      <a:pt x="1356" y="726"/>
                    </a:lnTo>
                    <a:lnTo>
                      <a:pt x="1354" y="724"/>
                    </a:lnTo>
                    <a:lnTo>
                      <a:pt x="1352" y="721"/>
                    </a:lnTo>
                    <a:lnTo>
                      <a:pt x="1350" y="720"/>
                    </a:lnTo>
                    <a:lnTo>
                      <a:pt x="1348" y="718"/>
                    </a:lnTo>
                    <a:lnTo>
                      <a:pt x="1346" y="717"/>
                    </a:lnTo>
                    <a:lnTo>
                      <a:pt x="1346" y="715"/>
                    </a:lnTo>
                    <a:lnTo>
                      <a:pt x="1346" y="713"/>
                    </a:lnTo>
                    <a:lnTo>
                      <a:pt x="1347" y="710"/>
                    </a:lnTo>
                    <a:lnTo>
                      <a:pt x="1350" y="708"/>
                    </a:lnTo>
                    <a:lnTo>
                      <a:pt x="1358" y="704"/>
                    </a:lnTo>
                    <a:lnTo>
                      <a:pt x="1369" y="702"/>
                    </a:lnTo>
                    <a:lnTo>
                      <a:pt x="1380" y="704"/>
                    </a:lnTo>
                    <a:lnTo>
                      <a:pt x="1384" y="707"/>
                    </a:lnTo>
                    <a:lnTo>
                      <a:pt x="1386" y="709"/>
                    </a:lnTo>
                    <a:lnTo>
                      <a:pt x="1388" y="713"/>
                    </a:lnTo>
                    <a:lnTo>
                      <a:pt x="1390" y="716"/>
                    </a:lnTo>
                    <a:lnTo>
                      <a:pt x="1394" y="719"/>
                    </a:lnTo>
                    <a:lnTo>
                      <a:pt x="1398" y="726"/>
                    </a:lnTo>
                    <a:lnTo>
                      <a:pt x="1407" y="729"/>
                    </a:lnTo>
                    <a:lnTo>
                      <a:pt x="1417" y="728"/>
                    </a:lnTo>
                    <a:lnTo>
                      <a:pt x="1418" y="727"/>
                    </a:lnTo>
                    <a:lnTo>
                      <a:pt x="1420" y="726"/>
                    </a:lnTo>
                    <a:lnTo>
                      <a:pt x="1422" y="725"/>
                    </a:lnTo>
                    <a:lnTo>
                      <a:pt x="1423" y="724"/>
                    </a:lnTo>
                    <a:lnTo>
                      <a:pt x="1426" y="721"/>
                    </a:lnTo>
                    <a:lnTo>
                      <a:pt x="1427" y="720"/>
                    </a:lnTo>
                    <a:lnTo>
                      <a:pt x="1427" y="719"/>
                    </a:lnTo>
                    <a:lnTo>
                      <a:pt x="1426" y="718"/>
                    </a:lnTo>
                    <a:lnTo>
                      <a:pt x="1423" y="717"/>
                    </a:lnTo>
                    <a:lnTo>
                      <a:pt x="1419" y="717"/>
                    </a:lnTo>
                    <a:lnTo>
                      <a:pt x="1416" y="717"/>
                    </a:lnTo>
                    <a:lnTo>
                      <a:pt x="1412" y="716"/>
                    </a:lnTo>
                    <a:lnTo>
                      <a:pt x="1410" y="715"/>
                    </a:lnTo>
                    <a:lnTo>
                      <a:pt x="1408" y="713"/>
                    </a:lnTo>
                    <a:lnTo>
                      <a:pt x="1406" y="710"/>
                    </a:lnTo>
                    <a:lnTo>
                      <a:pt x="1404" y="709"/>
                    </a:lnTo>
                    <a:lnTo>
                      <a:pt x="1402" y="707"/>
                    </a:lnTo>
                    <a:lnTo>
                      <a:pt x="1399" y="706"/>
                    </a:lnTo>
                    <a:lnTo>
                      <a:pt x="1398" y="702"/>
                    </a:lnTo>
                    <a:lnTo>
                      <a:pt x="1400" y="697"/>
                    </a:lnTo>
                    <a:lnTo>
                      <a:pt x="1406" y="693"/>
                    </a:lnTo>
                    <a:lnTo>
                      <a:pt x="1408" y="688"/>
                    </a:lnTo>
                    <a:lnTo>
                      <a:pt x="1409" y="686"/>
                    </a:lnTo>
                    <a:lnTo>
                      <a:pt x="1408" y="685"/>
                    </a:lnTo>
                    <a:lnTo>
                      <a:pt x="1407" y="684"/>
                    </a:lnTo>
                    <a:lnTo>
                      <a:pt x="1405" y="684"/>
                    </a:lnTo>
                    <a:lnTo>
                      <a:pt x="1402" y="684"/>
                    </a:lnTo>
                    <a:lnTo>
                      <a:pt x="1399" y="684"/>
                    </a:lnTo>
                    <a:lnTo>
                      <a:pt x="1396" y="684"/>
                    </a:lnTo>
                    <a:lnTo>
                      <a:pt x="1394" y="685"/>
                    </a:lnTo>
                    <a:lnTo>
                      <a:pt x="1391" y="685"/>
                    </a:lnTo>
                    <a:lnTo>
                      <a:pt x="1390" y="684"/>
                    </a:lnTo>
                    <a:lnTo>
                      <a:pt x="1388" y="684"/>
                    </a:lnTo>
                    <a:lnTo>
                      <a:pt x="1387" y="684"/>
                    </a:lnTo>
                    <a:lnTo>
                      <a:pt x="1385" y="683"/>
                    </a:lnTo>
                    <a:lnTo>
                      <a:pt x="1383" y="684"/>
                    </a:lnTo>
                    <a:lnTo>
                      <a:pt x="1382" y="685"/>
                    </a:lnTo>
                    <a:lnTo>
                      <a:pt x="1379" y="686"/>
                    </a:lnTo>
                    <a:lnTo>
                      <a:pt x="1378" y="686"/>
                    </a:lnTo>
                    <a:lnTo>
                      <a:pt x="1374" y="686"/>
                    </a:lnTo>
                    <a:lnTo>
                      <a:pt x="1369" y="684"/>
                    </a:lnTo>
                    <a:lnTo>
                      <a:pt x="1367" y="683"/>
                    </a:lnTo>
                    <a:lnTo>
                      <a:pt x="1365" y="680"/>
                    </a:lnTo>
                    <a:lnTo>
                      <a:pt x="1364" y="677"/>
                    </a:lnTo>
                    <a:lnTo>
                      <a:pt x="1364" y="675"/>
                    </a:lnTo>
                    <a:lnTo>
                      <a:pt x="1364" y="673"/>
                    </a:lnTo>
                    <a:lnTo>
                      <a:pt x="1365" y="671"/>
                    </a:lnTo>
                    <a:lnTo>
                      <a:pt x="1365" y="669"/>
                    </a:lnTo>
                    <a:lnTo>
                      <a:pt x="1365" y="666"/>
                    </a:lnTo>
                    <a:lnTo>
                      <a:pt x="1365" y="665"/>
                    </a:lnTo>
                    <a:lnTo>
                      <a:pt x="1364" y="663"/>
                    </a:lnTo>
                    <a:lnTo>
                      <a:pt x="1364" y="661"/>
                    </a:lnTo>
                    <a:lnTo>
                      <a:pt x="1365" y="660"/>
                    </a:lnTo>
                    <a:lnTo>
                      <a:pt x="1365" y="659"/>
                    </a:lnTo>
                    <a:lnTo>
                      <a:pt x="1367" y="658"/>
                    </a:lnTo>
                    <a:lnTo>
                      <a:pt x="1369" y="658"/>
                    </a:lnTo>
                    <a:lnTo>
                      <a:pt x="1373" y="658"/>
                    </a:lnTo>
                    <a:lnTo>
                      <a:pt x="1375" y="658"/>
                    </a:lnTo>
                    <a:lnTo>
                      <a:pt x="1378" y="658"/>
                    </a:lnTo>
                    <a:lnTo>
                      <a:pt x="1379" y="655"/>
                    </a:lnTo>
                    <a:lnTo>
                      <a:pt x="1379" y="653"/>
                    </a:lnTo>
                    <a:lnTo>
                      <a:pt x="1379" y="652"/>
                    </a:lnTo>
                    <a:lnTo>
                      <a:pt x="1378" y="650"/>
                    </a:lnTo>
                    <a:lnTo>
                      <a:pt x="1378" y="649"/>
                    </a:lnTo>
                    <a:lnTo>
                      <a:pt x="1380" y="647"/>
                    </a:lnTo>
                    <a:lnTo>
                      <a:pt x="1382" y="645"/>
                    </a:lnTo>
                    <a:lnTo>
                      <a:pt x="1384" y="644"/>
                    </a:lnTo>
                    <a:lnTo>
                      <a:pt x="1387" y="644"/>
                    </a:lnTo>
                    <a:lnTo>
                      <a:pt x="1389" y="645"/>
                    </a:lnTo>
                    <a:lnTo>
                      <a:pt x="1391" y="647"/>
                    </a:lnTo>
                    <a:lnTo>
                      <a:pt x="1394" y="649"/>
                    </a:lnTo>
                    <a:lnTo>
                      <a:pt x="1396" y="650"/>
                    </a:lnTo>
                    <a:lnTo>
                      <a:pt x="1398" y="651"/>
                    </a:lnTo>
                    <a:lnTo>
                      <a:pt x="1404" y="652"/>
                    </a:lnTo>
                    <a:lnTo>
                      <a:pt x="1410" y="653"/>
                    </a:lnTo>
                    <a:lnTo>
                      <a:pt x="1415" y="653"/>
                    </a:lnTo>
                    <a:lnTo>
                      <a:pt x="1426" y="655"/>
                    </a:lnTo>
                    <a:lnTo>
                      <a:pt x="1437" y="655"/>
                    </a:lnTo>
                    <a:lnTo>
                      <a:pt x="1440" y="654"/>
                    </a:lnTo>
                    <a:lnTo>
                      <a:pt x="1441" y="652"/>
                    </a:lnTo>
                    <a:lnTo>
                      <a:pt x="1441" y="651"/>
                    </a:lnTo>
                    <a:lnTo>
                      <a:pt x="1440" y="649"/>
                    </a:lnTo>
                    <a:lnTo>
                      <a:pt x="1438" y="648"/>
                    </a:lnTo>
                    <a:lnTo>
                      <a:pt x="1434" y="647"/>
                    </a:lnTo>
                    <a:lnTo>
                      <a:pt x="1427" y="645"/>
                    </a:lnTo>
                    <a:lnTo>
                      <a:pt x="1418" y="645"/>
                    </a:lnTo>
                    <a:lnTo>
                      <a:pt x="1408" y="647"/>
                    </a:lnTo>
                    <a:lnTo>
                      <a:pt x="1408" y="647"/>
                    </a:lnTo>
                    <a:lnTo>
                      <a:pt x="1407" y="647"/>
                    </a:lnTo>
                    <a:lnTo>
                      <a:pt x="1405" y="648"/>
                    </a:lnTo>
                    <a:lnTo>
                      <a:pt x="1404" y="648"/>
                    </a:lnTo>
                    <a:lnTo>
                      <a:pt x="1402" y="648"/>
                    </a:lnTo>
                    <a:lnTo>
                      <a:pt x="1401" y="648"/>
                    </a:lnTo>
                    <a:lnTo>
                      <a:pt x="1401" y="647"/>
                    </a:lnTo>
                    <a:lnTo>
                      <a:pt x="1404" y="643"/>
                    </a:lnTo>
                    <a:lnTo>
                      <a:pt x="1404" y="641"/>
                    </a:lnTo>
                    <a:lnTo>
                      <a:pt x="1404" y="639"/>
                    </a:lnTo>
                    <a:lnTo>
                      <a:pt x="1404" y="636"/>
                    </a:lnTo>
                    <a:lnTo>
                      <a:pt x="1401" y="636"/>
                    </a:lnTo>
                    <a:lnTo>
                      <a:pt x="1399" y="637"/>
                    </a:lnTo>
                    <a:lnTo>
                      <a:pt x="1397" y="638"/>
                    </a:lnTo>
                    <a:lnTo>
                      <a:pt x="1396" y="640"/>
                    </a:lnTo>
                    <a:lnTo>
                      <a:pt x="1394" y="641"/>
                    </a:lnTo>
                    <a:lnTo>
                      <a:pt x="1391" y="641"/>
                    </a:lnTo>
                    <a:lnTo>
                      <a:pt x="1388" y="640"/>
                    </a:lnTo>
                    <a:lnTo>
                      <a:pt x="1385" y="640"/>
                    </a:lnTo>
                    <a:lnTo>
                      <a:pt x="1383" y="640"/>
                    </a:lnTo>
                    <a:lnTo>
                      <a:pt x="1378" y="642"/>
                    </a:lnTo>
                    <a:lnTo>
                      <a:pt x="1375" y="645"/>
                    </a:lnTo>
                    <a:lnTo>
                      <a:pt x="1374" y="648"/>
                    </a:lnTo>
                    <a:lnTo>
                      <a:pt x="1373" y="650"/>
                    </a:lnTo>
                    <a:lnTo>
                      <a:pt x="1372" y="653"/>
                    </a:lnTo>
                    <a:lnTo>
                      <a:pt x="1369" y="651"/>
                    </a:lnTo>
                    <a:lnTo>
                      <a:pt x="1368" y="650"/>
                    </a:lnTo>
                    <a:lnTo>
                      <a:pt x="1367" y="648"/>
                    </a:lnTo>
                    <a:lnTo>
                      <a:pt x="1366" y="645"/>
                    </a:lnTo>
                    <a:lnTo>
                      <a:pt x="1365" y="644"/>
                    </a:lnTo>
                    <a:lnTo>
                      <a:pt x="1362" y="645"/>
                    </a:lnTo>
                    <a:lnTo>
                      <a:pt x="1359" y="649"/>
                    </a:lnTo>
                    <a:lnTo>
                      <a:pt x="1358" y="654"/>
                    </a:lnTo>
                    <a:lnTo>
                      <a:pt x="1358" y="659"/>
                    </a:lnTo>
                    <a:lnTo>
                      <a:pt x="1358" y="662"/>
                    </a:lnTo>
                    <a:lnTo>
                      <a:pt x="1359" y="664"/>
                    </a:lnTo>
                    <a:lnTo>
                      <a:pt x="1359" y="666"/>
                    </a:lnTo>
                    <a:lnTo>
                      <a:pt x="1359" y="669"/>
                    </a:lnTo>
                    <a:lnTo>
                      <a:pt x="1358" y="671"/>
                    </a:lnTo>
                    <a:lnTo>
                      <a:pt x="1356" y="673"/>
                    </a:lnTo>
                    <a:lnTo>
                      <a:pt x="1354" y="675"/>
                    </a:lnTo>
                    <a:lnTo>
                      <a:pt x="1352" y="677"/>
                    </a:lnTo>
                    <a:lnTo>
                      <a:pt x="1348" y="678"/>
                    </a:lnTo>
                    <a:lnTo>
                      <a:pt x="1345" y="680"/>
                    </a:lnTo>
                    <a:lnTo>
                      <a:pt x="1343" y="680"/>
                    </a:lnTo>
                    <a:lnTo>
                      <a:pt x="1342" y="680"/>
                    </a:lnTo>
                    <a:lnTo>
                      <a:pt x="1341" y="678"/>
                    </a:lnTo>
                    <a:lnTo>
                      <a:pt x="1340" y="677"/>
                    </a:lnTo>
                    <a:lnTo>
                      <a:pt x="1339" y="675"/>
                    </a:lnTo>
                    <a:lnTo>
                      <a:pt x="1337" y="674"/>
                    </a:lnTo>
                    <a:lnTo>
                      <a:pt x="1336" y="673"/>
                    </a:lnTo>
                    <a:lnTo>
                      <a:pt x="1334" y="673"/>
                    </a:lnTo>
                    <a:lnTo>
                      <a:pt x="1333" y="674"/>
                    </a:lnTo>
                    <a:lnTo>
                      <a:pt x="1334" y="676"/>
                    </a:lnTo>
                    <a:lnTo>
                      <a:pt x="1334" y="678"/>
                    </a:lnTo>
                    <a:lnTo>
                      <a:pt x="1334" y="681"/>
                    </a:lnTo>
                    <a:lnTo>
                      <a:pt x="1334" y="682"/>
                    </a:lnTo>
                    <a:lnTo>
                      <a:pt x="1331" y="682"/>
                    </a:lnTo>
                    <a:lnTo>
                      <a:pt x="1328" y="682"/>
                    </a:lnTo>
                    <a:lnTo>
                      <a:pt x="1324" y="681"/>
                    </a:lnTo>
                    <a:lnTo>
                      <a:pt x="1322" y="678"/>
                    </a:lnTo>
                    <a:lnTo>
                      <a:pt x="1321" y="677"/>
                    </a:lnTo>
                    <a:lnTo>
                      <a:pt x="1320" y="676"/>
                    </a:lnTo>
                    <a:lnTo>
                      <a:pt x="1319" y="676"/>
                    </a:lnTo>
                    <a:lnTo>
                      <a:pt x="1318" y="677"/>
                    </a:lnTo>
                    <a:lnTo>
                      <a:pt x="1318" y="678"/>
                    </a:lnTo>
                    <a:lnTo>
                      <a:pt x="1317" y="681"/>
                    </a:lnTo>
                    <a:lnTo>
                      <a:pt x="1317" y="682"/>
                    </a:lnTo>
                    <a:lnTo>
                      <a:pt x="1315" y="684"/>
                    </a:lnTo>
                    <a:lnTo>
                      <a:pt x="1313" y="686"/>
                    </a:lnTo>
                    <a:lnTo>
                      <a:pt x="1312" y="687"/>
                    </a:lnTo>
                    <a:lnTo>
                      <a:pt x="1309" y="688"/>
                    </a:lnTo>
                    <a:lnTo>
                      <a:pt x="1306" y="688"/>
                    </a:lnTo>
                    <a:lnTo>
                      <a:pt x="1299" y="688"/>
                    </a:lnTo>
                    <a:lnTo>
                      <a:pt x="1290" y="687"/>
                    </a:lnTo>
                    <a:lnTo>
                      <a:pt x="1282" y="686"/>
                    </a:lnTo>
                    <a:lnTo>
                      <a:pt x="1277" y="684"/>
                    </a:lnTo>
                    <a:lnTo>
                      <a:pt x="1275" y="680"/>
                    </a:lnTo>
                    <a:lnTo>
                      <a:pt x="1277" y="677"/>
                    </a:lnTo>
                    <a:lnTo>
                      <a:pt x="1279" y="676"/>
                    </a:lnTo>
                    <a:lnTo>
                      <a:pt x="1281" y="675"/>
                    </a:lnTo>
                    <a:lnTo>
                      <a:pt x="1285" y="674"/>
                    </a:lnTo>
                    <a:lnTo>
                      <a:pt x="1287" y="672"/>
                    </a:lnTo>
                    <a:lnTo>
                      <a:pt x="1289" y="671"/>
                    </a:lnTo>
                    <a:lnTo>
                      <a:pt x="1290" y="669"/>
                    </a:lnTo>
                    <a:lnTo>
                      <a:pt x="1290" y="666"/>
                    </a:lnTo>
                    <a:lnTo>
                      <a:pt x="1289" y="666"/>
                    </a:lnTo>
                    <a:lnTo>
                      <a:pt x="1288" y="667"/>
                    </a:lnTo>
                    <a:lnTo>
                      <a:pt x="1287" y="667"/>
                    </a:lnTo>
                    <a:lnTo>
                      <a:pt x="1286" y="669"/>
                    </a:lnTo>
                    <a:lnTo>
                      <a:pt x="1284" y="669"/>
                    </a:lnTo>
                    <a:lnTo>
                      <a:pt x="1282" y="669"/>
                    </a:lnTo>
                    <a:lnTo>
                      <a:pt x="1281" y="669"/>
                    </a:lnTo>
                    <a:lnTo>
                      <a:pt x="1280" y="667"/>
                    </a:lnTo>
                    <a:lnTo>
                      <a:pt x="1279" y="666"/>
                    </a:lnTo>
                    <a:lnTo>
                      <a:pt x="1268" y="666"/>
                    </a:lnTo>
                    <a:lnTo>
                      <a:pt x="1267" y="664"/>
                    </a:lnTo>
                    <a:lnTo>
                      <a:pt x="1267" y="663"/>
                    </a:lnTo>
                    <a:lnTo>
                      <a:pt x="1267" y="661"/>
                    </a:lnTo>
                    <a:lnTo>
                      <a:pt x="1269" y="660"/>
                    </a:lnTo>
                    <a:lnTo>
                      <a:pt x="1270" y="658"/>
                    </a:lnTo>
                    <a:lnTo>
                      <a:pt x="1271" y="655"/>
                    </a:lnTo>
                    <a:lnTo>
                      <a:pt x="1273" y="654"/>
                    </a:lnTo>
                    <a:lnTo>
                      <a:pt x="1273" y="652"/>
                    </a:lnTo>
                    <a:lnTo>
                      <a:pt x="1270" y="651"/>
                    </a:lnTo>
                    <a:lnTo>
                      <a:pt x="1268" y="650"/>
                    </a:lnTo>
                    <a:lnTo>
                      <a:pt x="1267" y="649"/>
                    </a:lnTo>
                    <a:lnTo>
                      <a:pt x="1266" y="647"/>
                    </a:lnTo>
                    <a:lnTo>
                      <a:pt x="1267" y="645"/>
                    </a:lnTo>
                    <a:lnTo>
                      <a:pt x="1269" y="643"/>
                    </a:lnTo>
                    <a:lnTo>
                      <a:pt x="1270" y="642"/>
                    </a:lnTo>
                    <a:lnTo>
                      <a:pt x="1273" y="640"/>
                    </a:lnTo>
                    <a:lnTo>
                      <a:pt x="1279" y="637"/>
                    </a:lnTo>
                    <a:lnTo>
                      <a:pt x="1285" y="634"/>
                    </a:lnTo>
                    <a:lnTo>
                      <a:pt x="1292" y="633"/>
                    </a:lnTo>
                    <a:lnTo>
                      <a:pt x="1297" y="632"/>
                    </a:lnTo>
                    <a:lnTo>
                      <a:pt x="1299" y="631"/>
                    </a:lnTo>
                    <a:lnTo>
                      <a:pt x="1301" y="630"/>
                    </a:lnTo>
                    <a:lnTo>
                      <a:pt x="1301" y="629"/>
                    </a:lnTo>
                    <a:lnTo>
                      <a:pt x="1300" y="627"/>
                    </a:lnTo>
                    <a:lnTo>
                      <a:pt x="1299" y="626"/>
                    </a:lnTo>
                    <a:lnTo>
                      <a:pt x="1297" y="625"/>
                    </a:lnTo>
                    <a:lnTo>
                      <a:pt x="1295" y="623"/>
                    </a:lnTo>
                    <a:lnTo>
                      <a:pt x="1292" y="622"/>
                    </a:lnTo>
                    <a:lnTo>
                      <a:pt x="1282" y="620"/>
                    </a:lnTo>
                    <a:lnTo>
                      <a:pt x="1274" y="622"/>
                    </a:lnTo>
                    <a:lnTo>
                      <a:pt x="1262" y="627"/>
                    </a:lnTo>
                    <a:lnTo>
                      <a:pt x="1248" y="627"/>
                    </a:lnTo>
                    <a:lnTo>
                      <a:pt x="1247" y="626"/>
                    </a:lnTo>
                    <a:lnTo>
                      <a:pt x="1246" y="625"/>
                    </a:lnTo>
                    <a:lnTo>
                      <a:pt x="1246" y="625"/>
                    </a:lnTo>
                    <a:lnTo>
                      <a:pt x="1246" y="623"/>
                    </a:lnTo>
                    <a:lnTo>
                      <a:pt x="1246" y="622"/>
                    </a:lnTo>
                    <a:lnTo>
                      <a:pt x="1248" y="621"/>
                    </a:lnTo>
                    <a:lnTo>
                      <a:pt x="1251" y="620"/>
                    </a:lnTo>
                    <a:lnTo>
                      <a:pt x="1254" y="620"/>
                    </a:lnTo>
                    <a:lnTo>
                      <a:pt x="1257" y="619"/>
                    </a:lnTo>
                    <a:lnTo>
                      <a:pt x="1259" y="618"/>
                    </a:lnTo>
                    <a:lnTo>
                      <a:pt x="1262" y="617"/>
                    </a:lnTo>
                    <a:lnTo>
                      <a:pt x="1263" y="615"/>
                    </a:lnTo>
                    <a:lnTo>
                      <a:pt x="1264" y="614"/>
                    </a:lnTo>
                    <a:lnTo>
                      <a:pt x="1265" y="612"/>
                    </a:lnTo>
                    <a:lnTo>
                      <a:pt x="1264" y="611"/>
                    </a:lnTo>
                    <a:lnTo>
                      <a:pt x="1262" y="611"/>
                    </a:lnTo>
                    <a:lnTo>
                      <a:pt x="1258" y="612"/>
                    </a:lnTo>
                    <a:lnTo>
                      <a:pt x="1255" y="614"/>
                    </a:lnTo>
                    <a:lnTo>
                      <a:pt x="1252" y="614"/>
                    </a:lnTo>
                    <a:lnTo>
                      <a:pt x="1248" y="614"/>
                    </a:lnTo>
                    <a:lnTo>
                      <a:pt x="1246" y="614"/>
                    </a:lnTo>
                    <a:lnTo>
                      <a:pt x="1243" y="612"/>
                    </a:lnTo>
                    <a:lnTo>
                      <a:pt x="1241" y="611"/>
                    </a:lnTo>
                    <a:lnTo>
                      <a:pt x="1238" y="610"/>
                    </a:lnTo>
                    <a:lnTo>
                      <a:pt x="1237" y="609"/>
                    </a:lnTo>
                    <a:lnTo>
                      <a:pt x="1237" y="607"/>
                    </a:lnTo>
                    <a:lnTo>
                      <a:pt x="1238" y="605"/>
                    </a:lnTo>
                    <a:lnTo>
                      <a:pt x="1239" y="604"/>
                    </a:lnTo>
                    <a:lnTo>
                      <a:pt x="1241" y="601"/>
                    </a:lnTo>
                    <a:lnTo>
                      <a:pt x="1242" y="600"/>
                    </a:lnTo>
                    <a:lnTo>
                      <a:pt x="1242" y="598"/>
                    </a:lnTo>
                    <a:lnTo>
                      <a:pt x="1242" y="597"/>
                    </a:lnTo>
                    <a:lnTo>
                      <a:pt x="1242" y="595"/>
                    </a:lnTo>
                    <a:lnTo>
                      <a:pt x="1242" y="594"/>
                    </a:lnTo>
                    <a:lnTo>
                      <a:pt x="1243" y="591"/>
                    </a:lnTo>
                    <a:lnTo>
                      <a:pt x="1244" y="590"/>
                    </a:lnTo>
                    <a:lnTo>
                      <a:pt x="1246" y="589"/>
                    </a:lnTo>
                    <a:lnTo>
                      <a:pt x="1248" y="589"/>
                    </a:lnTo>
                    <a:lnTo>
                      <a:pt x="1251" y="589"/>
                    </a:lnTo>
                    <a:lnTo>
                      <a:pt x="1253" y="589"/>
                    </a:lnTo>
                    <a:lnTo>
                      <a:pt x="1255" y="588"/>
                    </a:lnTo>
                    <a:lnTo>
                      <a:pt x="1257" y="588"/>
                    </a:lnTo>
                    <a:lnTo>
                      <a:pt x="1257" y="587"/>
                    </a:lnTo>
                    <a:lnTo>
                      <a:pt x="1258" y="586"/>
                    </a:lnTo>
                    <a:lnTo>
                      <a:pt x="1257" y="585"/>
                    </a:lnTo>
                    <a:lnTo>
                      <a:pt x="1255" y="584"/>
                    </a:lnTo>
                    <a:lnTo>
                      <a:pt x="1253" y="583"/>
                    </a:lnTo>
                    <a:lnTo>
                      <a:pt x="1251" y="583"/>
                    </a:lnTo>
                    <a:lnTo>
                      <a:pt x="1248" y="582"/>
                    </a:lnTo>
                    <a:lnTo>
                      <a:pt x="1248" y="580"/>
                    </a:lnTo>
                    <a:lnTo>
                      <a:pt x="1248" y="579"/>
                    </a:lnTo>
                    <a:lnTo>
                      <a:pt x="1248" y="577"/>
                    </a:lnTo>
                    <a:lnTo>
                      <a:pt x="1249" y="576"/>
                    </a:lnTo>
                    <a:lnTo>
                      <a:pt x="1248" y="574"/>
                    </a:lnTo>
                    <a:lnTo>
                      <a:pt x="1248" y="572"/>
                    </a:lnTo>
                    <a:lnTo>
                      <a:pt x="1247" y="571"/>
                    </a:lnTo>
                    <a:lnTo>
                      <a:pt x="1247" y="568"/>
                    </a:lnTo>
                    <a:lnTo>
                      <a:pt x="1248" y="566"/>
                    </a:lnTo>
                    <a:lnTo>
                      <a:pt x="1251" y="565"/>
                    </a:lnTo>
                    <a:lnTo>
                      <a:pt x="1253" y="565"/>
                    </a:lnTo>
                    <a:lnTo>
                      <a:pt x="1256" y="565"/>
                    </a:lnTo>
                    <a:lnTo>
                      <a:pt x="1258" y="566"/>
                    </a:lnTo>
                    <a:lnTo>
                      <a:pt x="1260" y="566"/>
                    </a:lnTo>
                    <a:lnTo>
                      <a:pt x="1263" y="567"/>
                    </a:lnTo>
                    <a:lnTo>
                      <a:pt x="1265" y="566"/>
                    </a:lnTo>
                    <a:lnTo>
                      <a:pt x="1266" y="565"/>
                    </a:lnTo>
                    <a:lnTo>
                      <a:pt x="1267" y="564"/>
                    </a:lnTo>
                    <a:lnTo>
                      <a:pt x="1266" y="562"/>
                    </a:lnTo>
                    <a:lnTo>
                      <a:pt x="1265" y="562"/>
                    </a:lnTo>
                    <a:lnTo>
                      <a:pt x="1263" y="561"/>
                    </a:lnTo>
                    <a:lnTo>
                      <a:pt x="1259" y="561"/>
                    </a:lnTo>
                    <a:lnTo>
                      <a:pt x="1258" y="558"/>
                    </a:lnTo>
                    <a:lnTo>
                      <a:pt x="1258" y="556"/>
                    </a:lnTo>
                    <a:lnTo>
                      <a:pt x="1258" y="554"/>
                    </a:lnTo>
                    <a:lnTo>
                      <a:pt x="1259" y="552"/>
                    </a:lnTo>
                    <a:lnTo>
                      <a:pt x="1262" y="549"/>
                    </a:lnTo>
                    <a:lnTo>
                      <a:pt x="1265" y="547"/>
                    </a:lnTo>
                    <a:lnTo>
                      <a:pt x="1268" y="545"/>
                    </a:lnTo>
                    <a:lnTo>
                      <a:pt x="1271" y="545"/>
                    </a:lnTo>
                    <a:lnTo>
                      <a:pt x="1275" y="545"/>
                    </a:lnTo>
                    <a:lnTo>
                      <a:pt x="1278" y="545"/>
                    </a:lnTo>
                    <a:lnTo>
                      <a:pt x="1280" y="545"/>
                    </a:lnTo>
                    <a:lnTo>
                      <a:pt x="1281" y="545"/>
                    </a:lnTo>
                    <a:lnTo>
                      <a:pt x="1281" y="544"/>
                    </a:lnTo>
                    <a:lnTo>
                      <a:pt x="1281" y="543"/>
                    </a:lnTo>
                    <a:lnTo>
                      <a:pt x="1281" y="542"/>
                    </a:lnTo>
                    <a:lnTo>
                      <a:pt x="1281" y="541"/>
                    </a:lnTo>
                    <a:lnTo>
                      <a:pt x="1284" y="540"/>
                    </a:lnTo>
                    <a:lnTo>
                      <a:pt x="1286" y="539"/>
                    </a:lnTo>
                    <a:lnTo>
                      <a:pt x="1288" y="539"/>
                    </a:lnTo>
                    <a:lnTo>
                      <a:pt x="1291" y="539"/>
                    </a:lnTo>
                    <a:lnTo>
                      <a:pt x="1292" y="539"/>
                    </a:lnTo>
                    <a:lnTo>
                      <a:pt x="1292" y="536"/>
                    </a:lnTo>
                    <a:lnTo>
                      <a:pt x="1289" y="534"/>
                    </a:lnTo>
                    <a:lnTo>
                      <a:pt x="1284" y="534"/>
                    </a:lnTo>
                    <a:lnTo>
                      <a:pt x="1278" y="534"/>
                    </a:lnTo>
                    <a:lnTo>
                      <a:pt x="1273" y="534"/>
                    </a:lnTo>
                    <a:lnTo>
                      <a:pt x="1268" y="534"/>
                    </a:lnTo>
                    <a:lnTo>
                      <a:pt x="1267" y="533"/>
                    </a:lnTo>
                    <a:lnTo>
                      <a:pt x="1266" y="533"/>
                    </a:lnTo>
                    <a:lnTo>
                      <a:pt x="1266" y="531"/>
                    </a:lnTo>
                    <a:lnTo>
                      <a:pt x="1267" y="530"/>
                    </a:lnTo>
                    <a:lnTo>
                      <a:pt x="1268" y="529"/>
                    </a:lnTo>
                    <a:lnTo>
                      <a:pt x="1270" y="528"/>
                    </a:lnTo>
                    <a:lnTo>
                      <a:pt x="1273" y="527"/>
                    </a:lnTo>
                    <a:lnTo>
                      <a:pt x="1275" y="525"/>
                    </a:lnTo>
                    <a:lnTo>
                      <a:pt x="1278" y="525"/>
                    </a:lnTo>
                    <a:lnTo>
                      <a:pt x="1281" y="525"/>
                    </a:lnTo>
                    <a:lnTo>
                      <a:pt x="1284" y="525"/>
                    </a:lnTo>
                    <a:lnTo>
                      <a:pt x="1292" y="523"/>
                    </a:lnTo>
                    <a:lnTo>
                      <a:pt x="1299" y="524"/>
                    </a:lnTo>
                    <a:lnTo>
                      <a:pt x="1306" y="528"/>
                    </a:lnTo>
                    <a:lnTo>
                      <a:pt x="1308" y="530"/>
                    </a:lnTo>
                    <a:lnTo>
                      <a:pt x="1309" y="532"/>
                    </a:lnTo>
                    <a:lnTo>
                      <a:pt x="1309" y="534"/>
                    </a:lnTo>
                    <a:lnTo>
                      <a:pt x="1309" y="536"/>
                    </a:lnTo>
                    <a:lnTo>
                      <a:pt x="1308" y="540"/>
                    </a:lnTo>
                    <a:lnTo>
                      <a:pt x="1308" y="543"/>
                    </a:lnTo>
                    <a:lnTo>
                      <a:pt x="1310" y="545"/>
                    </a:lnTo>
                    <a:lnTo>
                      <a:pt x="1312" y="547"/>
                    </a:lnTo>
                    <a:lnTo>
                      <a:pt x="1314" y="550"/>
                    </a:lnTo>
                    <a:lnTo>
                      <a:pt x="1317" y="552"/>
                    </a:lnTo>
                    <a:lnTo>
                      <a:pt x="1319" y="554"/>
                    </a:lnTo>
                    <a:lnTo>
                      <a:pt x="1320" y="555"/>
                    </a:lnTo>
                    <a:lnTo>
                      <a:pt x="1320" y="557"/>
                    </a:lnTo>
                    <a:lnTo>
                      <a:pt x="1321" y="560"/>
                    </a:lnTo>
                    <a:lnTo>
                      <a:pt x="1322" y="561"/>
                    </a:lnTo>
                    <a:lnTo>
                      <a:pt x="1323" y="563"/>
                    </a:lnTo>
                    <a:lnTo>
                      <a:pt x="1325" y="564"/>
                    </a:lnTo>
                    <a:lnTo>
                      <a:pt x="1328" y="565"/>
                    </a:lnTo>
                    <a:lnTo>
                      <a:pt x="1329" y="565"/>
                    </a:lnTo>
                    <a:lnTo>
                      <a:pt x="1331" y="564"/>
                    </a:lnTo>
                    <a:lnTo>
                      <a:pt x="1333" y="564"/>
                    </a:lnTo>
                    <a:lnTo>
                      <a:pt x="1334" y="564"/>
                    </a:lnTo>
                    <a:lnTo>
                      <a:pt x="1336" y="565"/>
                    </a:lnTo>
                    <a:lnTo>
                      <a:pt x="1345" y="565"/>
                    </a:lnTo>
                    <a:lnTo>
                      <a:pt x="1346" y="565"/>
                    </a:lnTo>
                    <a:lnTo>
                      <a:pt x="1348" y="566"/>
                    </a:lnTo>
                    <a:lnTo>
                      <a:pt x="1350" y="567"/>
                    </a:lnTo>
                    <a:lnTo>
                      <a:pt x="1350" y="569"/>
                    </a:lnTo>
                    <a:lnTo>
                      <a:pt x="1350" y="572"/>
                    </a:lnTo>
                    <a:lnTo>
                      <a:pt x="1348" y="573"/>
                    </a:lnTo>
                    <a:lnTo>
                      <a:pt x="1347" y="574"/>
                    </a:lnTo>
                    <a:lnTo>
                      <a:pt x="1346" y="576"/>
                    </a:lnTo>
                    <a:lnTo>
                      <a:pt x="1345" y="578"/>
                    </a:lnTo>
                    <a:lnTo>
                      <a:pt x="1345" y="580"/>
                    </a:lnTo>
                    <a:lnTo>
                      <a:pt x="1345" y="582"/>
                    </a:lnTo>
                    <a:lnTo>
                      <a:pt x="1347" y="584"/>
                    </a:lnTo>
                    <a:lnTo>
                      <a:pt x="1350" y="585"/>
                    </a:lnTo>
                    <a:lnTo>
                      <a:pt x="1352" y="587"/>
                    </a:lnTo>
                    <a:lnTo>
                      <a:pt x="1354" y="588"/>
                    </a:lnTo>
                    <a:lnTo>
                      <a:pt x="1356" y="588"/>
                    </a:lnTo>
                    <a:lnTo>
                      <a:pt x="1358" y="588"/>
                    </a:lnTo>
                    <a:lnTo>
                      <a:pt x="1358" y="587"/>
                    </a:lnTo>
                    <a:lnTo>
                      <a:pt x="1358" y="585"/>
                    </a:lnTo>
                    <a:lnTo>
                      <a:pt x="1358" y="583"/>
                    </a:lnTo>
                    <a:lnTo>
                      <a:pt x="1355" y="580"/>
                    </a:lnTo>
                    <a:lnTo>
                      <a:pt x="1354" y="578"/>
                    </a:lnTo>
                    <a:lnTo>
                      <a:pt x="1353" y="575"/>
                    </a:lnTo>
                    <a:lnTo>
                      <a:pt x="1354" y="572"/>
                    </a:lnTo>
                    <a:lnTo>
                      <a:pt x="1356" y="569"/>
                    </a:lnTo>
                    <a:lnTo>
                      <a:pt x="1359" y="568"/>
                    </a:lnTo>
                    <a:lnTo>
                      <a:pt x="1363" y="568"/>
                    </a:lnTo>
                    <a:lnTo>
                      <a:pt x="1365" y="569"/>
                    </a:lnTo>
                    <a:lnTo>
                      <a:pt x="1367" y="571"/>
                    </a:lnTo>
                    <a:lnTo>
                      <a:pt x="1368" y="573"/>
                    </a:lnTo>
                    <a:lnTo>
                      <a:pt x="1369" y="574"/>
                    </a:lnTo>
                    <a:lnTo>
                      <a:pt x="1369" y="576"/>
                    </a:lnTo>
                    <a:lnTo>
                      <a:pt x="1369" y="579"/>
                    </a:lnTo>
                    <a:lnTo>
                      <a:pt x="1370" y="580"/>
                    </a:lnTo>
                    <a:lnTo>
                      <a:pt x="1369" y="583"/>
                    </a:lnTo>
                    <a:lnTo>
                      <a:pt x="1368" y="584"/>
                    </a:lnTo>
                    <a:lnTo>
                      <a:pt x="1367" y="585"/>
                    </a:lnTo>
                    <a:lnTo>
                      <a:pt x="1368" y="586"/>
                    </a:lnTo>
                    <a:lnTo>
                      <a:pt x="1369" y="587"/>
                    </a:lnTo>
                    <a:lnTo>
                      <a:pt x="1370" y="587"/>
                    </a:lnTo>
                    <a:lnTo>
                      <a:pt x="1370" y="588"/>
                    </a:lnTo>
                    <a:lnTo>
                      <a:pt x="1372" y="589"/>
                    </a:lnTo>
                    <a:lnTo>
                      <a:pt x="1370" y="593"/>
                    </a:lnTo>
                    <a:lnTo>
                      <a:pt x="1370" y="598"/>
                    </a:lnTo>
                    <a:lnTo>
                      <a:pt x="1369" y="604"/>
                    </a:lnTo>
                    <a:lnTo>
                      <a:pt x="1370" y="607"/>
                    </a:lnTo>
                    <a:lnTo>
                      <a:pt x="1374" y="609"/>
                    </a:lnTo>
                    <a:lnTo>
                      <a:pt x="1380" y="610"/>
                    </a:lnTo>
                    <a:lnTo>
                      <a:pt x="1388" y="610"/>
                    </a:lnTo>
                    <a:lnTo>
                      <a:pt x="1396" y="611"/>
                    </a:lnTo>
                    <a:lnTo>
                      <a:pt x="1397" y="612"/>
                    </a:lnTo>
                    <a:lnTo>
                      <a:pt x="1398" y="612"/>
                    </a:lnTo>
                    <a:lnTo>
                      <a:pt x="1400" y="614"/>
                    </a:lnTo>
                    <a:lnTo>
                      <a:pt x="1402" y="615"/>
                    </a:lnTo>
                    <a:lnTo>
                      <a:pt x="1404" y="615"/>
                    </a:lnTo>
                    <a:lnTo>
                      <a:pt x="1406" y="616"/>
                    </a:lnTo>
                    <a:lnTo>
                      <a:pt x="1406" y="615"/>
                    </a:lnTo>
                    <a:lnTo>
                      <a:pt x="1406" y="615"/>
                    </a:lnTo>
                    <a:lnTo>
                      <a:pt x="1404" y="614"/>
                    </a:lnTo>
                    <a:lnTo>
                      <a:pt x="1402" y="611"/>
                    </a:lnTo>
                    <a:lnTo>
                      <a:pt x="1400" y="610"/>
                    </a:lnTo>
                    <a:lnTo>
                      <a:pt x="1398" y="608"/>
                    </a:lnTo>
                    <a:lnTo>
                      <a:pt x="1398" y="607"/>
                    </a:lnTo>
                    <a:lnTo>
                      <a:pt x="1396" y="605"/>
                    </a:lnTo>
                    <a:lnTo>
                      <a:pt x="1395" y="604"/>
                    </a:lnTo>
                    <a:lnTo>
                      <a:pt x="1394" y="601"/>
                    </a:lnTo>
                    <a:lnTo>
                      <a:pt x="1391" y="600"/>
                    </a:lnTo>
                    <a:lnTo>
                      <a:pt x="1389" y="600"/>
                    </a:lnTo>
                    <a:lnTo>
                      <a:pt x="1386" y="599"/>
                    </a:lnTo>
                    <a:lnTo>
                      <a:pt x="1384" y="597"/>
                    </a:lnTo>
                    <a:lnTo>
                      <a:pt x="1383" y="596"/>
                    </a:lnTo>
                    <a:lnTo>
                      <a:pt x="1382" y="594"/>
                    </a:lnTo>
                    <a:lnTo>
                      <a:pt x="1382" y="591"/>
                    </a:lnTo>
                    <a:lnTo>
                      <a:pt x="1383" y="589"/>
                    </a:lnTo>
                    <a:lnTo>
                      <a:pt x="1383" y="587"/>
                    </a:lnTo>
                    <a:lnTo>
                      <a:pt x="1383" y="586"/>
                    </a:lnTo>
                    <a:lnTo>
                      <a:pt x="1382" y="584"/>
                    </a:lnTo>
                    <a:lnTo>
                      <a:pt x="1382" y="582"/>
                    </a:lnTo>
                    <a:lnTo>
                      <a:pt x="1382" y="579"/>
                    </a:lnTo>
                    <a:lnTo>
                      <a:pt x="1383" y="577"/>
                    </a:lnTo>
                    <a:lnTo>
                      <a:pt x="1383" y="576"/>
                    </a:lnTo>
                    <a:lnTo>
                      <a:pt x="1385" y="574"/>
                    </a:lnTo>
                    <a:lnTo>
                      <a:pt x="1386" y="574"/>
                    </a:lnTo>
                    <a:lnTo>
                      <a:pt x="1389" y="574"/>
                    </a:lnTo>
                    <a:lnTo>
                      <a:pt x="1400" y="574"/>
                    </a:lnTo>
                    <a:lnTo>
                      <a:pt x="1412" y="575"/>
                    </a:lnTo>
                    <a:lnTo>
                      <a:pt x="1423" y="578"/>
                    </a:lnTo>
                    <a:lnTo>
                      <a:pt x="1429" y="580"/>
                    </a:lnTo>
                    <a:lnTo>
                      <a:pt x="1432" y="584"/>
                    </a:lnTo>
                    <a:lnTo>
                      <a:pt x="1435" y="587"/>
                    </a:lnTo>
                    <a:lnTo>
                      <a:pt x="1439" y="590"/>
                    </a:lnTo>
                    <a:lnTo>
                      <a:pt x="1441" y="594"/>
                    </a:lnTo>
                    <a:lnTo>
                      <a:pt x="1443" y="596"/>
                    </a:lnTo>
                    <a:lnTo>
                      <a:pt x="1444" y="597"/>
                    </a:lnTo>
                    <a:lnTo>
                      <a:pt x="1444" y="599"/>
                    </a:lnTo>
                    <a:lnTo>
                      <a:pt x="1445" y="600"/>
                    </a:lnTo>
                    <a:lnTo>
                      <a:pt x="1448" y="603"/>
                    </a:lnTo>
                    <a:lnTo>
                      <a:pt x="1450" y="605"/>
                    </a:lnTo>
                    <a:lnTo>
                      <a:pt x="1452" y="605"/>
                    </a:lnTo>
                    <a:lnTo>
                      <a:pt x="1454" y="606"/>
                    </a:lnTo>
                    <a:lnTo>
                      <a:pt x="1456" y="607"/>
                    </a:lnTo>
                    <a:lnTo>
                      <a:pt x="1459" y="608"/>
                    </a:lnTo>
                    <a:lnTo>
                      <a:pt x="1461" y="609"/>
                    </a:lnTo>
                    <a:lnTo>
                      <a:pt x="1464" y="609"/>
                    </a:lnTo>
                    <a:lnTo>
                      <a:pt x="1466" y="609"/>
                    </a:lnTo>
                    <a:lnTo>
                      <a:pt x="1467" y="609"/>
                    </a:lnTo>
                    <a:lnTo>
                      <a:pt x="1467" y="609"/>
                    </a:lnTo>
                    <a:lnTo>
                      <a:pt x="1466" y="608"/>
                    </a:lnTo>
                    <a:lnTo>
                      <a:pt x="1465" y="607"/>
                    </a:lnTo>
                    <a:lnTo>
                      <a:pt x="1463" y="606"/>
                    </a:lnTo>
                    <a:lnTo>
                      <a:pt x="1461" y="606"/>
                    </a:lnTo>
                    <a:lnTo>
                      <a:pt x="1459" y="605"/>
                    </a:lnTo>
                    <a:lnTo>
                      <a:pt x="1456" y="603"/>
                    </a:lnTo>
                    <a:lnTo>
                      <a:pt x="1455" y="601"/>
                    </a:lnTo>
                    <a:lnTo>
                      <a:pt x="1454" y="599"/>
                    </a:lnTo>
                    <a:lnTo>
                      <a:pt x="1453" y="597"/>
                    </a:lnTo>
                    <a:lnTo>
                      <a:pt x="1452" y="596"/>
                    </a:lnTo>
                    <a:lnTo>
                      <a:pt x="1450" y="593"/>
                    </a:lnTo>
                    <a:lnTo>
                      <a:pt x="1448" y="590"/>
                    </a:lnTo>
                    <a:lnTo>
                      <a:pt x="1445" y="587"/>
                    </a:lnTo>
                    <a:lnTo>
                      <a:pt x="1443" y="585"/>
                    </a:lnTo>
                    <a:lnTo>
                      <a:pt x="1442" y="583"/>
                    </a:lnTo>
                    <a:lnTo>
                      <a:pt x="1440" y="582"/>
                    </a:lnTo>
                    <a:lnTo>
                      <a:pt x="1438" y="579"/>
                    </a:lnTo>
                    <a:lnTo>
                      <a:pt x="1437" y="578"/>
                    </a:lnTo>
                    <a:lnTo>
                      <a:pt x="1437" y="576"/>
                    </a:lnTo>
                    <a:lnTo>
                      <a:pt x="1438" y="575"/>
                    </a:lnTo>
                    <a:lnTo>
                      <a:pt x="1440" y="573"/>
                    </a:lnTo>
                    <a:lnTo>
                      <a:pt x="1443" y="572"/>
                    </a:lnTo>
                    <a:lnTo>
                      <a:pt x="1448" y="569"/>
                    </a:lnTo>
                    <a:lnTo>
                      <a:pt x="1453" y="567"/>
                    </a:lnTo>
                    <a:lnTo>
                      <a:pt x="1459" y="565"/>
                    </a:lnTo>
                    <a:lnTo>
                      <a:pt x="1462" y="565"/>
                    </a:lnTo>
                    <a:lnTo>
                      <a:pt x="1466" y="565"/>
                    </a:lnTo>
                    <a:lnTo>
                      <a:pt x="1471" y="564"/>
                    </a:lnTo>
                    <a:lnTo>
                      <a:pt x="1474" y="563"/>
                    </a:lnTo>
                    <a:lnTo>
                      <a:pt x="1477" y="561"/>
                    </a:lnTo>
                    <a:lnTo>
                      <a:pt x="1481" y="558"/>
                    </a:lnTo>
                    <a:lnTo>
                      <a:pt x="1483" y="556"/>
                    </a:lnTo>
                    <a:lnTo>
                      <a:pt x="1485" y="555"/>
                    </a:lnTo>
                    <a:lnTo>
                      <a:pt x="1487" y="554"/>
                    </a:lnTo>
                    <a:lnTo>
                      <a:pt x="1489" y="553"/>
                    </a:lnTo>
                    <a:lnTo>
                      <a:pt x="1492" y="552"/>
                    </a:lnTo>
                    <a:lnTo>
                      <a:pt x="1502" y="547"/>
                    </a:lnTo>
                    <a:lnTo>
                      <a:pt x="1510" y="546"/>
                    </a:lnTo>
                    <a:lnTo>
                      <a:pt x="1520" y="547"/>
                    </a:lnTo>
                    <a:lnTo>
                      <a:pt x="1521" y="547"/>
                    </a:lnTo>
                    <a:lnTo>
                      <a:pt x="1524" y="546"/>
                    </a:lnTo>
                    <a:lnTo>
                      <a:pt x="1526" y="546"/>
                    </a:lnTo>
                    <a:lnTo>
                      <a:pt x="1529" y="545"/>
                    </a:lnTo>
                    <a:lnTo>
                      <a:pt x="1531" y="545"/>
                    </a:lnTo>
                    <a:lnTo>
                      <a:pt x="1532" y="544"/>
                    </a:lnTo>
                    <a:lnTo>
                      <a:pt x="1532" y="543"/>
                    </a:lnTo>
                    <a:lnTo>
                      <a:pt x="1531" y="543"/>
                    </a:lnTo>
                    <a:lnTo>
                      <a:pt x="1525" y="541"/>
                    </a:lnTo>
                    <a:lnTo>
                      <a:pt x="1517" y="541"/>
                    </a:lnTo>
                    <a:lnTo>
                      <a:pt x="1509" y="541"/>
                    </a:lnTo>
                    <a:lnTo>
                      <a:pt x="1492" y="541"/>
                    </a:lnTo>
                    <a:lnTo>
                      <a:pt x="1489" y="539"/>
                    </a:lnTo>
                    <a:lnTo>
                      <a:pt x="1490" y="535"/>
                    </a:lnTo>
                    <a:lnTo>
                      <a:pt x="1494" y="531"/>
                    </a:lnTo>
                    <a:lnTo>
                      <a:pt x="1499" y="527"/>
                    </a:lnTo>
                    <a:lnTo>
                      <a:pt x="1504" y="523"/>
                    </a:lnTo>
                    <a:lnTo>
                      <a:pt x="1507" y="521"/>
                    </a:lnTo>
                    <a:lnTo>
                      <a:pt x="1509" y="520"/>
                    </a:lnTo>
                    <a:lnTo>
                      <a:pt x="1513" y="519"/>
                    </a:lnTo>
                    <a:lnTo>
                      <a:pt x="1515" y="518"/>
                    </a:lnTo>
                    <a:lnTo>
                      <a:pt x="1516" y="517"/>
                    </a:lnTo>
                    <a:lnTo>
                      <a:pt x="1518" y="514"/>
                    </a:lnTo>
                    <a:lnTo>
                      <a:pt x="1518" y="514"/>
                    </a:lnTo>
                    <a:lnTo>
                      <a:pt x="1518" y="513"/>
                    </a:lnTo>
                    <a:lnTo>
                      <a:pt x="1517" y="512"/>
                    </a:lnTo>
                    <a:lnTo>
                      <a:pt x="1516" y="512"/>
                    </a:lnTo>
                    <a:lnTo>
                      <a:pt x="1514" y="512"/>
                    </a:lnTo>
                    <a:lnTo>
                      <a:pt x="1508" y="512"/>
                    </a:lnTo>
                    <a:lnTo>
                      <a:pt x="1504" y="514"/>
                    </a:lnTo>
                    <a:lnTo>
                      <a:pt x="1499" y="517"/>
                    </a:lnTo>
                    <a:lnTo>
                      <a:pt x="1496" y="519"/>
                    </a:lnTo>
                    <a:lnTo>
                      <a:pt x="1492" y="521"/>
                    </a:lnTo>
                    <a:lnTo>
                      <a:pt x="1487" y="524"/>
                    </a:lnTo>
                    <a:lnTo>
                      <a:pt x="1485" y="528"/>
                    </a:lnTo>
                    <a:lnTo>
                      <a:pt x="1483" y="531"/>
                    </a:lnTo>
                    <a:lnTo>
                      <a:pt x="1483" y="536"/>
                    </a:lnTo>
                    <a:lnTo>
                      <a:pt x="1483" y="538"/>
                    </a:lnTo>
                    <a:lnTo>
                      <a:pt x="1484" y="540"/>
                    </a:lnTo>
                    <a:lnTo>
                      <a:pt x="1484" y="541"/>
                    </a:lnTo>
                    <a:lnTo>
                      <a:pt x="1483" y="543"/>
                    </a:lnTo>
                    <a:lnTo>
                      <a:pt x="1481" y="544"/>
                    </a:lnTo>
                    <a:lnTo>
                      <a:pt x="1478" y="546"/>
                    </a:lnTo>
                    <a:lnTo>
                      <a:pt x="1477" y="547"/>
                    </a:lnTo>
                    <a:lnTo>
                      <a:pt x="1476" y="550"/>
                    </a:lnTo>
                    <a:lnTo>
                      <a:pt x="1472" y="553"/>
                    </a:lnTo>
                    <a:lnTo>
                      <a:pt x="1464" y="555"/>
                    </a:lnTo>
                    <a:lnTo>
                      <a:pt x="1456" y="557"/>
                    </a:lnTo>
                    <a:lnTo>
                      <a:pt x="1448" y="558"/>
                    </a:lnTo>
                    <a:lnTo>
                      <a:pt x="1444" y="560"/>
                    </a:lnTo>
                    <a:lnTo>
                      <a:pt x="1441" y="562"/>
                    </a:lnTo>
                    <a:lnTo>
                      <a:pt x="1437" y="562"/>
                    </a:lnTo>
                    <a:lnTo>
                      <a:pt x="1432" y="563"/>
                    </a:lnTo>
                    <a:lnTo>
                      <a:pt x="1431" y="562"/>
                    </a:lnTo>
                    <a:lnTo>
                      <a:pt x="1430" y="561"/>
                    </a:lnTo>
                    <a:lnTo>
                      <a:pt x="1430" y="558"/>
                    </a:lnTo>
                    <a:lnTo>
                      <a:pt x="1431" y="557"/>
                    </a:lnTo>
                    <a:lnTo>
                      <a:pt x="1431" y="556"/>
                    </a:lnTo>
                    <a:lnTo>
                      <a:pt x="1431" y="555"/>
                    </a:lnTo>
                    <a:lnTo>
                      <a:pt x="1430" y="554"/>
                    </a:lnTo>
                    <a:lnTo>
                      <a:pt x="1428" y="553"/>
                    </a:lnTo>
                    <a:lnTo>
                      <a:pt x="1426" y="554"/>
                    </a:lnTo>
                    <a:lnTo>
                      <a:pt x="1423" y="555"/>
                    </a:lnTo>
                    <a:lnTo>
                      <a:pt x="1420" y="557"/>
                    </a:lnTo>
                    <a:lnTo>
                      <a:pt x="1418" y="560"/>
                    </a:lnTo>
                    <a:lnTo>
                      <a:pt x="1417" y="562"/>
                    </a:lnTo>
                    <a:lnTo>
                      <a:pt x="1415" y="563"/>
                    </a:lnTo>
                    <a:lnTo>
                      <a:pt x="1410" y="564"/>
                    </a:lnTo>
                    <a:lnTo>
                      <a:pt x="1402" y="565"/>
                    </a:lnTo>
                    <a:lnTo>
                      <a:pt x="1396" y="565"/>
                    </a:lnTo>
                    <a:lnTo>
                      <a:pt x="1391" y="563"/>
                    </a:lnTo>
                    <a:lnTo>
                      <a:pt x="1389" y="562"/>
                    </a:lnTo>
                    <a:lnTo>
                      <a:pt x="1389" y="560"/>
                    </a:lnTo>
                    <a:lnTo>
                      <a:pt x="1389" y="558"/>
                    </a:lnTo>
                    <a:lnTo>
                      <a:pt x="1390" y="556"/>
                    </a:lnTo>
                    <a:lnTo>
                      <a:pt x="1390" y="555"/>
                    </a:lnTo>
                    <a:lnTo>
                      <a:pt x="1391" y="554"/>
                    </a:lnTo>
                    <a:lnTo>
                      <a:pt x="1391" y="552"/>
                    </a:lnTo>
                    <a:lnTo>
                      <a:pt x="1393" y="550"/>
                    </a:lnTo>
                    <a:lnTo>
                      <a:pt x="1395" y="547"/>
                    </a:lnTo>
                    <a:lnTo>
                      <a:pt x="1397" y="546"/>
                    </a:lnTo>
                    <a:lnTo>
                      <a:pt x="1399" y="545"/>
                    </a:lnTo>
                    <a:lnTo>
                      <a:pt x="1415" y="540"/>
                    </a:lnTo>
                    <a:lnTo>
                      <a:pt x="1430" y="536"/>
                    </a:lnTo>
                    <a:lnTo>
                      <a:pt x="1433" y="535"/>
                    </a:lnTo>
                    <a:lnTo>
                      <a:pt x="1434" y="534"/>
                    </a:lnTo>
                    <a:lnTo>
                      <a:pt x="1434" y="534"/>
                    </a:lnTo>
                    <a:lnTo>
                      <a:pt x="1433" y="533"/>
                    </a:lnTo>
                    <a:lnTo>
                      <a:pt x="1432" y="533"/>
                    </a:lnTo>
                    <a:lnTo>
                      <a:pt x="1430" y="533"/>
                    </a:lnTo>
                    <a:lnTo>
                      <a:pt x="1428" y="533"/>
                    </a:lnTo>
                    <a:lnTo>
                      <a:pt x="1426" y="534"/>
                    </a:lnTo>
                    <a:lnTo>
                      <a:pt x="1423" y="534"/>
                    </a:lnTo>
                    <a:lnTo>
                      <a:pt x="1421" y="534"/>
                    </a:lnTo>
                    <a:lnTo>
                      <a:pt x="1410" y="535"/>
                    </a:lnTo>
                    <a:lnTo>
                      <a:pt x="1399" y="539"/>
                    </a:lnTo>
                    <a:lnTo>
                      <a:pt x="1389" y="543"/>
                    </a:lnTo>
                    <a:lnTo>
                      <a:pt x="1385" y="544"/>
                    </a:lnTo>
                    <a:lnTo>
                      <a:pt x="1383" y="546"/>
                    </a:lnTo>
                    <a:lnTo>
                      <a:pt x="1380" y="549"/>
                    </a:lnTo>
                    <a:lnTo>
                      <a:pt x="1378" y="551"/>
                    </a:lnTo>
                    <a:lnTo>
                      <a:pt x="1376" y="554"/>
                    </a:lnTo>
                    <a:lnTo>
                      <a:pt x="1369" y="555"/>
                    </a:lnTo>
                    <a:lnTo>
                      <a:pt x="1363" y="554"/>
                    </a:lnTo>
                    <a:lnTo>
                      <a:pt x="1356" y="552"/>
                    </a:lnTo>
                    <a:lnTo>
                      <a:pt x="1352" y="550"/>
                    </a:lnTo>
                    <a:lnTo>
                      <a:pt x="1348" y="549"/>
                    </a:lnTo>
                    <a:lnTo>
                      <a:pt x="1346" y="547"/>
                    </a:lnTo>
                    <a:lnTo>
                      <a:pt x="1346" y="546"/>
                    </a:lnTo>
                    <a:lnTo>
                      <a:pt x="1347" y="545"/>
                    </a:lnTo>
                    <a:lnTo>
                      <a:pt x="1350" y="544"/>
                    </a:lnTo>
                    <a:lnTo>
                      <a:pt x="1354" y="543"/>
                    </a:lnTo>
                    <a:lnTo>
                      <a:pt x="1365" y="540"/>
                    </a:lnTo>
                    <a:lnTo>
                      <a:pt x="1376" y="540"/>
                    </a:lnTo>
                    <a:lnTo>
                      <a:pt x="1387" y="539"/>
                    </a:lnTo>
                    <a:lnTo>
                      <a:pt x="1398" y="532"/>
                    </a:lnTo>
                    <a:lnTo>
                      <a:pt x="1408" y="525"/>
                    </a:lnTo>
                    <a:lnTo>
                      <a:pt x="1410" y="524"/>
                    </a:lnTo>
                    <a:lnTo>
                      <a:pt x="1410" y="524"/>
                    </a:lnTo>
                    <a:lnTo>
                      <a:pt x="1410" y="523"/>
                    </a:lnTo>
                    <a:lnTo>
                      <a:pt x="1408" y="523"/>
                    </a:lnTo>
                    <a:lnTo>
                      <a:pt x="1406" y="523"/>
                    </a:lnTo>
                    <a:lnTo>
                      <a:pt x="1404" y="524"/>
                    </a:lnTo>
                    <a:lnTo>
                      <a:pt x="1401" y="524"/>
                    </a:lnTo>
                    <a:lnTo>
                      <a:pt x="1399" y="525"/>
                    </a:lnTo>
                    <a:lnTo>
                      <a:pt x="1396" y="528"/>
                    </a:lnTo>
                    <a:lnTo>
                      <a:pt x="1391" y="530"/>
                    </a:lnTo>
                    <a:lnTo>
                      <a:pt x="1387" y="532"/>
                    </a:lnTo>
                    <a:lnTo>
                      <a:pt x="1383" y="534"/>
                    </a:lnTo>
                    <a:lnTo>
                      <a:pt x="1372" y="536"/>
                    </a:lnTo>
                    <a:lnTo>
                      <a:pt x="1361" y="539"/>
                    </a:lnTo>
                    <a:lnTo>
                      <a:pt x="1356" y="539"/>
                    </a:lnTo>
                    <a:lnTo>
                      <a:pt x="1353" y="540"/>
                    </a:lnTo>
                    <a:lnTo>
                      <a:pt x="1350" y="541"/>
                    </a:lnTo>
                    <a:lnTo>
                      <a:pt x="1346" y="541"/>
                    </a:lnTo>
                    <a:lnTo>
                      <a:pt x="1343" y="541"/>
                    </a:lnTo>
                    <a:lnTo>
                      <a:pt x="1340" y="541"/>
                    </a:lnTo>
                    <a:lnTo>
                      <a:pt x="1337" y="540"/>
                    </a:lnTo>
                    <a:lnTo>
                      <a:pt x="1335" y="540"/>
                    </a:lnTo>
                    <a:lnTo>
                      <a:pt x="1333" y="539"/>
                    </a:lnTo>
                    <a:lnTo>
                      <a:pt x="1333" y="538"/>
                    </a:lnTo>
                    <a:lnTo>
                      <a:pt x="1333" y="535"/>
                    </a:lnTo>
                    <a:lnTo>
                      <a:pt x="1334" y="534"/>
                    </a:lnTo>
                    <a:lnTo>
                      <a:pt x="1335" y="533"/>
                    </a:lnTo>
                    <a:lnTo>
                      <a:pt x="1336" y="532"/>
                    </a:lnTo>
                    <a:lnTo>
                      <a:pt x="1337" y="531"/>
                    </a:lnTo>
                    <a:lnTo>
                      <a:pt x="1339" y="530"/>
                    </a:lnTo>
                    <a:lnTo>
                      <a:pt x="1340" y="530"/>
                    </a:lnTo>
                    <a:lnTo>
                      <a:pt x="1342" y="529"/>
                    </a:lnTo>
                    <a:lnTo>
                      <a:pt x="1342" y="529"/>
                    </a:lnTo>
                    <a:lnTo>
                      <a:pt x="1343" y="528"/>
                    </a:lnTo>
                    <a:lnTo>
                      <a:pt x="1343" y="527"/>
                    </a:lnTo>
                    <a:lnTo>
                      <a:pt x="1343" y="525"/>
                    </a:lnTo>
                    <a:lnTo>
                      <a:pt x="1342" y="524"/>
                    </a:lnTo>
                    <a:lnTo>
                      <a:pt x="1341" y="524"/>
                    </a:lnTo>
                    <a:lnTo>
                      <a:pt x="1341" y="523"/>
                    </a:lnTo>
                    <a:lnTo>
                      <a:pt x="1341" y="521"/>
                    </a:lnTo>
                    <a:lnTo>
                      <a:pt x="1343" y="519"/>
                    </a:lnTo>
                    <a:lnTo>
                      <a:pt x="1345" y="519"/>
                    </a:lnTo>
                    <a:lnTo>
                      <a:pt x="1351" y="517"/>
                    </a:lnTo>
                    <a:lnTo>
                      <a:pt x="1356" y="513"/>
                    </a:lnTo>
                    <a:lnTo>
                      <a:pt x="1361" y="510"/>
                    </a:lnTo>
                    <a:lnTo>
                      <a:pt x="1356" y="510"/>
                    </a:lnTo>
                    <a:lnTo>
                      <a:pt x="1353" y="511"/>
                    </a:lnTo>
                    <a:lnTo>
                      <a:pt x="1350" y="512"/>
                    </a:lnTo>
                    <a:lnTo>
                      <a:pt x="1346" y="513"/>
                    </a:lnTo>
                    <a:lnTo>
                      <a:pt x="1345" y="514"/>
                    </a:lnTo>
                    <a:lnTo>
                      <a:pt x="1341" y="517"/>
                    </a:lnTo>
                    <a:lnTo>
                      <a:pt x="1336" y="518"/>
                    </a:lnTo>
                    <a:lnTo>
                      <a:pt x="1332" y="519"/>
                    </a:lnTo>
                    <a:lnTo>
                      <a:pt x="1330" y="518"/>
                    </a:lnTo>
                    <a:lnTo>
                      <a:pt x="1330" y="518"/>
                    </a:lnTo>
                    <a:lnTo>
                      <a:pt x="1329" y="517"/>
                    </a:lnTo>
                    <a:lnTo>
                      <a:pt x="1330" y="516"/>
                    </a:lnTo>
                    <a:lnTo>
                      <a:pt x="1330" y="514"/>
                    </a:lnTo>
                    <a:lnTo>
                      <a:pt x="1330" y="514"/>
                    </a:lnTo>
                    <a:lnTo>
                      <a:pt x="1331" y="513"/>
                    </a:lnTo>
                    <a:lnTo>
                      <a:pt x="1332" y="512"/>
                    </a:lnTo>
                    <a:lnTo>
                      <a:pt x="1333" y="511"/>
                    </a:lnTo>
                    <a:lnTo>
                      <a:pt x="1334" y="510"/>
                    </a:lnTo>
                    <a:lnTo>
                      <a:pt x="1335" y="509"/>
                    </a:lnTo>
                    <a:lnTo>
                      <a:pt x="1336" y="508"/>
                    </a:lnTo>
                    <a:lnTo>
                      <a:pt x="1336" y="508"/>
                    </a:lnTo>
                    <a:lnTo>
                      <a:pt x="1336" y="507"/>
                    </a:lnTo>
                    <a:lnTo>
                      <a:pt x="1334" y="507"/>
                    </a:lnTo>
                    <a:lnTo>
                      <a:pt x="1332" y="508"/>
                    </a:lnTo>
                    <a:lnTo>
                      <a:pt x="1329" y="508"/>
                    </a:lnTo>
                    <a:lnTo>
                      <a:pt x="1324" y="509"/>
                    </a:lnTo>
                    <a:lnTo>
                      <a:pt x="1319" y="509"/>
                    </a:lnTo>
                    <a:lnTo>
                      <a:pt x="1314" y="510"/>
                    </a:lnTo>
                    <a:lnTo>
                      <a:pt x="1312" y="509"/>
                    </a:lnTo>
                    <a:lnTo>
                      <a:pt x="1311" y="508"/>
                    </a:lnTo>
                    <a:lnTo>
                      <a:pt x="1311" y="507"/>
                    </a:lnTo>
                    <a:lnTo>
                      <a:pt x="1311" y="505"/>
                    </a:lnTo>
                    <a:lnTo>
                      <a:pt x="1312" y="503"/>
                    </a:lnTo>
                    <a:lnTo>
                      <a:pt x="1314" y="502"/>
                    </a:lnTo>
                    <a:lnTo>
                      <a:pt x="1317" y="501"/>
                    </a:lnTo>
                    <a:lnTo>
                      <a:pt x="1318" y="500"/>
                    </a:lnTo>
                    <a:lnTo>
                      <a:pt x="1319" y="499"/>
                    </a:lnTo>
                    <a:lnTo>
                      <a:pt x="1320" y="497"/>
                    </a:lnTo>
                    <a:lnTo>
                      <a:pt x="1322" y="495"/>
                    </a:lnTo>
                    <a:lnTo>
                      <a:pt x="1324" y="494"/>
                    </a:lnTo>
                    <a:lnTo>
                      <a:pt x="1329" y="492"/>
                    </a:lnTo>
                    <a:lnTo>
                      <a:pt x="1331" y="492"/>
                    </a:lnTo>
                    <a:lnTo>
                      <a:pt x="1334" y="492"/>
                    </a:lnTo>
                    <a:lnTo>
                      <a:pt x="1336" y="492"/>
                    </a:lnTo>
                    <a:lnTo>
                      <a:pt x="1339" y="492"/>
                    </a:lnTo>
                    <a:lnTo>
                      <a:pt x="1340" y="491"/>
                    </a:lnTo>
                    <a:lnTo>
                      <a:pt x="1341" y="489"/>
                    </a:lnTo>
                    <a:lnTo>
                      <a:pt x="1341" y="488"/>
                    </a:lnTo>
                    <a:lnTo>
                      <a:pt x="1343" y="486"/>
                    </a:lnTo>
                    <a:lnTo>
                      <a:pt x="1345" y="485"/>
                    </a:lnTo>
                    <a:lnTo>
                      <a:pt x="1347" y="484"/>
                    </a:lnTo>
                    <a:lnTo>
                      <a:pt x="1351" y="484"/>
                    </a:lnTo>
                    <a:lnTo>
                      <a:pt x="1354" y="484"/>
                    </a:lnTo>
                    <a:lnTo>
                      <a:pt x="1356" y="481"/>
                    </a:lnTo>
                    <a:lnTo>
                      <a:pt x="1361" y="479"/>
                    </a:lnTo>
                    <a:lnTo>
                      <a:pt x="1365" y="479"/>
                    </a:lnTo>
                    <a:lnTo>
                      <a:pt x="1367" y="479"/>
                    </a:lnTo>
                    <a:lnTo>
                      <a:pt x="1369" y="480"/>
                    </a:lnTo>
                    <a:lnTo>
                      <a:pt x="1372" y="480"/>
                    </a:lnTo>
                    <a:lnTo>
                      <a:pt x="1374" y="481"/>
                    </a:lnTo>
                    <a:lnTo>
                      <a:pt x="1376" y="481"/>
                    </a:lnTo>
                    <a:lnTo>
                      <a:pt x="1377" y="483"/>
                    </a:lnTo>
                    <a:lnTo>
                      <a:pt x="1378" y="481"/>
                    </a:lnTo>
                    <a:lnTo>
                      <a:pt x="1380" y="481"/>
                    </a:lnTo>
                    <a:lnTo>
                      <a:pt x="1383" y="481"/>
                    </a:lnTo>
                    <a:lnTo>
                      <a:pt x="1385" y="481"/>
                    </a:lnTo>
                    <a:lnTo>
                      <a:pt x="1387" y="481"/>
                    </a:lnTo>
                    <a:lnTo>
                      <a:pt x="1389" y="484"/>
                    </a:lnTo>
                    <a:lnTo>
                      <a:pt x="1391" y="484"/>
                    </a:lnTo>
                    <a:lnTo>
                      <a:pt x="1394" y="484"/>
                    </a:lnTo>
                    <a:lnTo>
                      <a:pt x="1396" y="483"/>
                    </a:lnTo>
                    <a:lnTo>
                      <a:pt x="1397" y="483"/>
                    </a:lnTo>
                    <a:lnTo>
                      <a:pt x="1397" y="483"/>
                    </a:lnTo>
                    <a:lnTo>
                      <a:pt x="1396" y="481"/>
                    </a:lnTo>
                    <a:lnTo>
                      <a:pt x="1394" y="479"/>
                    </a:lnTo>
                    <a:lnTo>
                      <a:pt x="1393" y="478"/>
                    </a:lnTo>
                    <a:lnTo>
                      <a:pt x="1389" y="477"/>
                    </a:lnTo>
                    <a:lnTo>
                      <a:pt x="1387" y="477"/>
                    </a:lnTo>
                    <a:lnTo>
                      <a:pt x="1385" y="476"/>
                    </a:lnTo>
                    <a:lnTo>
                      <a:pt x="1383" y="475"/>
                    </a:lnTo>
                    <a:lnTo>
                      <a:pt x="1382" y="474"/>
                    </a:lnTo>
                    <a:lnTo>
                      <a:pt x="1383" y="473"/>
                    </a:lnTo>
                    <a:lnTo>
                      <a:pt x="1383" y="471"/>
                    </a:lnTo>
                    <a:lnTo>
                      <a:pt x="1384" y="470"/>
                    </a:lnTo>
                    <a:lnTo>
                      <a:pt x="1386" y="470"/>
                    </a:lnTo>
                    <a:lnTo>
                      <a:pt x="1387" y="470"/>
                    </a:lnTo>
                    <a:lnTo>
                      <a:pt x="1389" y="470"/>
                    </a:lnTo>
                    <a:lnTo>
                      <a:pt x="1390" y="469"/>
                    </a:lnTo>
                    <a:lnTo>
                      <a:pt x="1391" y="469"/>
                    </a:lnTo>
                    <a:lnTo>
                      <a:pt x="1391" y="468"/>
                    </a:lnTo>
                    <a:lnTo>
                      <a:pt x="1391" y="467"/>
                    </a:lnTo>
                    <a:lnTo>
                      <a:pt x="1391" y="466"/>
                    </a:lnTo>
                    <a:lnTo>
                      <a:pt x="1391" y="466"/>
                    </a:lnTo>
                    <a:lnTo>
                      <a:pt x="1389" y="464"/>
                    </a:lnTo>
                    <a:lnTo>
                      <a:pt x="1387" y="463"/>
                    </a:lnTo>
                    <a:lnTo>
                      <a:pt x="1386" y="462"/>
                    </a:lnTo>
                    <a:lnTo>
                      <a:pt x="1385" y="460"/>
                    </a:lnTo>
                    <a:lnTo>
                      <a:pt x="1384" y="459"/>
                    </a:lnTo>
                    <a:lnTo>
                      <a:pt x="1385" y="458"/>
                    </a:lnTo>
                    <a:lnTo>
                      <a:pt x="1387" y="457"/>
                    </a:lnTo>
                    <a:lnTo>
                      <a:pt x="1391" y="457"/>
                    </a:lnTo>
                    <a:lnTo>
                      <a:pt x="1395" y="457"/>
                    </a:lnTo>
                    <a:lnTo>
                      <a:pt x="1399" y="457"/>
                    </a:lnTo>
                    <a:lnTo>
                      <a:pt x="1402" y="457"/>
                    </a:lnTo>
                    <a:lnTo>
                      <a:pt x="1406" y="459"/>
                    </a:lnTo>
                    <a:lnTo>
                      <a:pt x="1408" y="459"/>
                    </a:lnTo>
                    <a:lnTo>
                      <a:pt x="1409" y="462"/>
                    </a:lnTo>
                    <a:lnTo>
                      <a:pt x="1411" y="463"/>
                    </a:lnTo>
                    <a:lnTo>
                      <a:pt x="1412" y="464"/>
                    </a:lnTo>
                    <a:lnTo>
                      <a:pt x="1417" y="466"/>
                    </a:lnTo>
                    <a:lnTo>
                      <a:pt x="1420" y="468"/>
                    </a:lnTo>
                    <a:lnTo>
                      <a:pt x="1423" y="470"/>
                    </a:lnTo>
                    <a:lnTo>
                      <a:pt x="1426" y="469"/>
                    </a:lnTo>
                    <a:lnTo>
                      <a:pt x="1428" y="468"/>
                    </a:lnTo>
                    <a:lnTo>
                      <a:pt x="1430" y="468"/>
                    </a:lnTo>
                    <a:lnTo>
                      <a:pt x="1434" y="470"/>
                    </a:lnTo>
                    <a:lnTo>
                      <a:pt x="1437" y="473"/>
                    </a:lnTo>
                    <a:lnTo>
                      <a:pt x="1439" y="475"/>
                    </a:lnTo>
                    <a:lnTo>
                      <a:pt x="1443" y="476"/>
                    </a:lnTo>
                    <a:lnTo>
                      <a:pt x="1446" y="477"/>
                    </a:lnTo>
                    <a:lnTo>
                      <a:pt x="1451" y="478"/>
                    </a:lnTo>
                    <a:lnTo>
                      <a:pt x="1454" y="479"/>
                    </a:lnTo>
                    <a:lnTo>
                      <a:pt x="1456" y="479"/>
                    </a:lnTo>
                    <a:lnTo>
                      <a:pt x="1457" y="478"/>
                    </a:lnTo>
                    <a:lnTo>
                      <a:pt x="1459" y="477"/>
                    </a:lnTo>
                    <a:lnTo>
                      <a:pt x="1457" y="477"/>
                    </a:lnTo>
                    <a:lnTo>
                      <a:pt x="1456" y="476"/>
                    </a:lnTo>
                    <a:lnTo>
                      <a:pt x="1454" y="475"/>
                    </a:lnTo>
                    <a:lnTo>
                      <a:pt x="1453" y="475"/>
                    </a:lnTo>
                    <a:lnTo>
                      <a:pt x="1452" y="475"/>
                    </a:lnTo>
                    <a:lnTo>
                      <a:pt x="1450" y="473"/>
                    </a:lnTo>
                    <a:lnTo>
                      <a:pt x="1446" y="470"/>
                    </a:lnTo>
                    <a:lnTo>
                      <a:pt x="1443" y="468"/>
                    </a:lnTo>
                    <a:lnTo>
                      <a:pt x="1440" y="466"/>
                    </a:lnTo>
                    <a:lnTo>
                      <a:pt x="1437" y="464"/>
                    </a:lnTo>
                    <a:lnTo>
                      <a:pt x="1434" y="460"/>
                    </a:lnTo>
                    <a:lnTo>
                      <a:pt x="1433" y="458"/>
                    </a:lnTo>
                    <a:lnTo>
                      <a:pt x="1432" y="457"/>
                    </a:lnTo>
                    <a:lnTo>
                      <a:pt x="1433" y="456"/>
                    </a:lnTo>
                    <a:lnTo>
                      <a:pt x="1434" y="455"/>
                    </a:lnTo>
                    <a:lnTo>
                      <a:pt x="1435" y="454"/>
                    </a:lnTo>
                    <a:lnTo>
                      <a:pt x="1437" y="454"/>
                    </a:lnTo>
                    <a:lnTo>
                      <a:pt x="1437" y="453"/>
                    </a:lnTo>
                    <a:lnTo>
                      <a:pt x="1438" y="451"/>
                    </a:lnTo>
                    <a:lnTo>
                      <a:pt x="1439" y="451"/>
                    </a:lnTo>
                    <a:lnTo>
                      <a:pt x="1439" y="449"/>
                    </a:lnTo>
                    <a:lnTo>
                      <a:pt x="1439" y="448"/>
                    </a:lnTo>
                    <a:lnTo>
                      <a:pt x="1439" y="447"/>
                    </a:lnTo>
                    <a:lnTo>
                      <a:pt x="1439" y="447"/>
                    </a:lnTo>
                    <a:lnTo>
                      <a:pt x="1439" y="446"/>
                    </a:lnTo>
                    <a:lnTo>
                      <a:pt x="1440" y="446"/>
                    </a:lnTo>
                    <a:lnTo>
                      <a:pt x="1441" y="446"/>
                    </a:lnTo>
                    <a:lnTo>
                      <a:pt x="1443" y="447"/>
                    </a:lnTo>
                    <a:lnTo>
                      <a:pt x="1445" y="449"/>
                    </a:lnTo>
                    <a:lnTo>
                      <a:pt x="1448" y="451"/>
                    </a:lnTo>
                    <a:lnTo>
                      <a:pt x="1451" y="452"/>
                    </a:lnTo>
                    <a:lnTo>
                      <a:pt x="1453" y="453"/>
                    </a:lnTo>
                    <a:lnTo>
                      <a:pt x="1456" y="453"/>
                    </a:lnTo>
                    <a:lnTo>
                      <a:pt x="1456" y="452"/>
                    </a:lnTo>
                    <a:lnTo>
                      <a:pt x="1455" y="451"/>
                    </a:lnTo>
                    <a:lnTo>
                      <a:pt x="1454" y="448"/>
                    </a:lnTo>
                    <a:lnTo>
                      <a:pt x="1453" y="445"/>
                    </a:lnTo>
                    <a:lnTo>
                      <a:pt x="1452" y="443"/>
                    </a:lnTo>
                    <a:lnTo>
                      <a:pt x="1451" y="441"/>
                    </a:lnTo>
                    <a:lnTo>
                      <a:pt x="1450" y="440"/>
                    </a:lnTo>
                    <a:lnTo>
                      <a:pt x="1449" y="438"/>
                    </a:lnTo>
                    <a:lnTo>
                      <a:pt x="1449" y="437"/>
                    </a:lnTo>
                    <a:lnTo>
                      <a:pt x="1448" y="436"/>
                    </a:lnTo>
                    <a:lnTo>
                      <a:pt x="1449" y="435"/>
                    </a:lnTo>
                    <a:lnTo>
                      <a:pt x="1450" y="434"/>
                    </a:lnTo>
                    <a:lnTo>
                      <a:pt x="1451" y="434"/>
                    </a:lnTo>
                    <a:lnTo>
                      <a:pt x="1454" y="435"/>
                    </a:lnTo>
                    <a:lnTo>
                      <a:pt x="1455" y="435"/>
                    </a:lnTo>
                    <a:lnTo>
                      <a:pt x="1456" y="435"/>
                    </a:lnTo>
                    <a:lnTo>
                      <a:pt x="1457" y="436"/>
                    </a:lnTo>
                    <a:lnTo>
                      <a:pt x="1460" y="437"/>
                    </a:lnTo>
                    <a:lnTo>
                      <a:pt x="1462" y="438"/>
                    </a:lnTo>
                    <a:lnTo>
                      <a:pt x="1463" y="438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37"/>
                    </a:lnTo>
                    <a:lnTo>
                      <a:pt x="1464" y="436"/>
                    </a:lnTo>
                    <a:lnTo>
                      <a:pt x="1463" y="435"/>
                    </a:lnTo>
                    <a:lnTo>
                      <a:pt x="1463" y="434"/>
                    </a:lnTo>
                    <a:lnTo>
                      <a:pt x="1463" y="432"/>
                    </a:lnTo>
                    <a:lnTo>
                      <a:pt x="1463" y="431"/>
                    </a:lnTo>
                    <a:lnTo>
                      <a:pt x="1465" y="430"/>
                    </a:lnTo>
                    <a:lnTo>
                      <a:pt x="1467" y="429"/>
                    </a:lnTo>
                    <a:lnTo>
                      <a:pt x="1471" y="429"/>
                    </a:lnTo>
                    <a:lnTo>
                      <a:pt x="1474" y="429"/>
                    </a:lnTo>
                    <a:lnTo>
                      <a:pt x="1478" y="429"/>
                    </a:lnTo>
                    <a:lnTo>
                      <a:pt x="1482" y="430"/>
                    </a:lnTo>
                    <a:lnTo>
                      <a:pt x="1485" y="431"/>
                    </a:lnTo>
                    <a:lnTo>
                      <a:pt x="1487" y="433"/>
                    </a:lnTo>
                    <a:lnTo>
                      <a:pt x="1490" y="433"/>
                    </a:lnTo>
                    <a:lnTo>
                      <a:pt x="1494" y="433"/>
                    </a:lnTo>
                    <a:lnTo>
                      <a:pt x="1495" y="431"/>
                    </a:lnTo>
                    <a:lnTo>
                      <a:pt x="1496" y="431"/>
                    </a:lnTo>
                    <a:lnTo>
                      <a:pt x="1497" y="431"/>
                    </a:lnTo>
                    <a:lnTo>
                      <a:pt x="1498" y="431"/>
                    </a:lnTo>
                    <a:lnTo>
                      <a:pt x="1503" y="431"/>
                    </a:lnTo>
                    <a:lnTo>
                      <a:pt x="1504" y="432"/>
                    </a:lnTo>
                    <a:lnTo>
                      <a:pt x="1505" y="433"/>
                    </a:lnTo>
                    <a:lnTo>
                      <a:pt x="1506" y="434"/>
                    </a:lnTo>
                    <a:lnTo>
                      <a:pt x="1507" y="435"/>
                    </a:lnTo>
                    <a:lnTo>
                      <a:pt x="1510" y="437"/>
                    </a:lnTo>
                    <a:lnTo>
                      <a:pt x="1514" y="441"/>
                    </a:lnTo>
                    <a:lnTo>
                      <a:pt x="1517" y="443"/>
                    </a:lnTo>
                    <a:lnTo>
                      <a:pt x="1520" y="445"/>
                    </a:lnTo>
                    <a:lnTo>
                      <a:pt x="1522" y="447"/>
                    </a:lnTo>
                    <a:lnTo>
                      <a:pt x="1525" y="451"/>
                    </a:lnTo>
                    <a:lnTo>
                      <a:pt x="1526" y="452"/>
                    </a:lnTo>
                    <a:lnTo>
                      <a:pt x="1527" y="453"/>
                    </a:lnTo>
                    <a:lnTo>
                      <a:pt x="1527" y="454"/>
                    </a:lnTo>
                    <a:lnTo>
                      <a:pt x="1529" y="454"/>
                    </a:lnTo>
                    <a:lnTo>
                      <a:pt x="1531" y="455"/>
                    </a:lnTo>
                    <a:lnTo>
                      <a:pt x="1532" y="454"/>
                    </a:lnTo>
                    <a:lnTo>
                      <a:pt x="1533" y="454"/>
                    </a:lnTo>
                    <a:lnTo>
                      <a:pt x="1533" y="453"/>
                    </a:lnTo>
                    <a:lnTo>
                      <a:pt x="1533" y="452"/>
                    </a:lnTo>
                    <a:lnTo>
                      <a:pt x="1533" y="451"/>
                    </a:lnTo>
                    <a:lnTo>
                      <a:pt x="1532" y="448"/>
                    </a:lnTo>
                    <a:lnTo>
                      <a:pt x="1531" y="446"/>
                    </a:lnTo>
                    <a:lnTo>
                      <a:pt x="1529" y="443"/>
                    </a:lnTo>
                    <a:lnTo>
                      <a:pt x="1527" y="442"/>
                    </a:lnTo>
                    <a:lnTo>
                      <a:pt x="1525" y="440"/>
                    </a:lnTo>
                    <a:lnTo>
                      <a:pt x="1522" y="440"/>
                    </a:lnTo>
                    <a:lnTo>
                      <a:pt x="1519" y="438"/>
                    </a:lnTo>
                    <a:lnTo>
                      <a:pt x="1516" y="437"/>
                    </a:lnTo>
                    <a:lnTo>
                      <a:pt x="1514" y="435"/>
                    </a:lnTo>
                    <a:lnTo>
                      <a:pt x="1511" y="434"/>
                    </a:lnTo>
                    <a:lnTo>
                      <a:pt x="1510" y="433"/>
                    </a:lnTo>
                    <a:lnTo>
                      <a:pt x="1509" y="433"/>
                    </a:lnTo>
                    <a:lnTo>
                      <a:pt x="1507" y="433"/>
                    </a:lnTo>
                    <a:lnTo>
                      <a:pt x="1505" y="431"/>
                    </a:lnTo>
                    <a:lnTo>
                      <a:pt x="1503" y="429"/>
                    </a:lnTo>
                    <a:lnTo>
                      <a:pt x="1503" y="426"/>
                    </a:lnTo>
                    <a:lnTo>
                      <a:pt x="1504" y="425"/>
                    </a:lnTo>
                    <a:lnTo>
                      <a:pt x="1507" y="425"/>
                    </a:lnTo>
                    <a:lnTo>
                      <a:pt x="1509" y="425"/>
                    </a:lnTo>
                    <a:lnTo>
                      <a:pt x="1511" y="425"/>
                    </a:lnTo>
                    <a:lnTo>
                      <a:pt x="1514" y="426"/>
                    </a:lnTo>
                    <a:lnTo>
                      <a:pt x="1517" y="425"/>
                    </a:lnTo>
                    <a:lnTo>
                      <a:pt x="1521" y="425"/>
                    </a:lnTo>
                    <a:lnTo>
                      <a:pt x="1525" y="424"/>
                    </a:lnTo>
                    <a:lnTo>
                      <a:pt x="1529" y="424"/>
                    </a:lnTo>
                    <a:lnTo>
                      <a:pt x="1538" y="424"/>
                    </a:lnTo>
                    <a:lnTo>
                      <a:pt x="1544" y="426"/>
                    </a:lnTo>
                    <a:lnTo>
                      <a:pt x="1551" y="431"/>
                    </a:lnTo>
                    <a:lnTo>
                      <a:pt x="1551" y="432"/>
                    </a:lnTo>
                    <a:lnTo>
                      <a:pt x="1553" y="433"/>
                    </a:lnTo>
                    <a:lnTo>
                      <a:pt x="1555" y="435"/>
                    </a:lnTo>
                    <a:lnTo>
                      <a:pt x="1558" y="436"/>
                    </a:lnTo>
                    <a:lnTo>
                      <a:pt x="1561" y="437"/>
                    </a:lnTo>
                    <a:lnTo>
                      <a:pt x="1563" y="438"/>
                    </a:lnTo>
                    <a:lnTo>
                      <a:pt x="1566" y="440"/>
                    </a:lnTo>
                    <a:lnTo>
                      <a:pt x="1568" y="440"/>
                    </a:lnTo>
                    <a:lnTo>
                      <a:pt x="1560" y="433"/>
                    </a:lnTo>
                    <a:lnTo>
                      <a:pt x="1558" y="431"/>
                    </a:lnTo>
                    <a:lnTo>
                      <a:pt x="1559" y="429"/>
                    </a:lnTo>
                    <a:lnTo>
                      <a:pt x="1560" y="427"/>
                    </a:lnTo>
                    <a:lnTo>
                      <a:pt x="1562" y="426"/>
                    </a:lnTo>
                    <a:lnTo>
                      <a:pt x="1565" y="425"/>
                    </a:lnTo>
                    <a:lnTo>
                      <a:pt x="1568" y="424"/>
                    </a:lnTo>
                    <a:lnTo>
                      <a:pt x="1572" y="422"/>
                    </a:lnTo>
                    <a:lnTo>
                      <a:pt x="1576" y="422"/>
                    </a:lnTo>
                    <a:lnTo>
                      <a:pt x="1581" y="424"/>
                    </a:lnTo>
                    <a:lnTo>
                      <a:pt x="1583" y="424"/>
                    </a:lnTo>
                    <a:lnTo>
                      <a:pt x="1585" y="425"/>
                    </a:lnTo>
                    <a:lnTo>
                      <a:pt x="1587" y="426"/>
                    </a:lnTo>
                    <a:lnTo>
                      <a:pt x="1588" y="425"/>
                    </a:lnTo>
                    <a:lnTo>
                      <a:pt x="1588" y="424"/>
                    </a:lnTo>
                    <a:lnTo>
                      <a:pt x="1588" y="423"/>
                    </a:lnTo>
                    <a:lnTo>
                      <a:pt x="1588" y="422"/>
                    </a:lnTo>
                    <a:lnTo>
                      <a:pt x="1587" y="422"/>
                    </a:lnTo>
                    <a:lnTo>
                      <a:pt x="1591" y="420"/>
                    </a:lnTo>
                    <a:close/>
                    <a:moveTo>
                      <a:pt x="1715" y="120"/>
                    </a:moveTo>
                    <a:lnTo>
                      <a:pt x="1712" y="120"/>
                    </a:lnTo>
                    <a:lnTo>
                      <a:pt x="1638" y="120"/>
                    </a:lnTo>
                    <a:lnTo>
                      <a:pt x="1590" y="124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0" y="129"/>
                    </a:lnTo>
                    <a:lnTo>
                      <a:pt x="1537" y="129"/>
                    </a:lnTo>
                    <a:lnTo>
                      <a:pt x="1532" y="129"/>
                    </a:lnTo>
                    <a:lnTo>
                      <a:pt x="1477" y="136"/>
                    </a:lnTo>
                    <a:lnTo>
                      <a:pt x="1423" y="145"/>
                    </a:lnTo>
                    <a:lnTo>
                      <a:pt x="1375" y="154"/>
                    </a:lnTo>
                    <a:lnTo>
                      <a:pt x="1329" y="167"/>
                    </a:lnTo>
                    <a:lnTo>
                      <a:pt x="1322" y="167"/>
                    </a:lnTo>
                    <a:lnTo>
                      <a:pt x="1304" y="172"/>
                    </a:lnTo>
                    <a:lnTo>
                      <a:pt x="1286" y="178"/>
                    </a:lnTo>
                    <a:lnTo>
                      <a:pt x="1284" y="178"/>
                    </a:lnTo>
                    <a:lnTo>
                      <a:pt x="1281" y="178"/>
                    </a:lnTo>
                    <a:lnTo>
                      <a:pt x="1279" y="179"/>
                    </a:lnTo>
                    <a:lnTo>
                      <a:pt x="1277" y="180"/>
                    </a:lnTo>
                    <a:lnTo>
                      <a:pt x="1247" y="187"/>
                    </a:lnTo>
                    <a:lnTo>
                      <a:pt x="1215" y="197"/>
                    </a:lnTo>
                    <a:lnTo>
                      <a:pt x="1175" y="212"/>
                    </a:lnTo>
                    <a:lnTo>
                      <a:pt x="1132" y="228"/>
                    </a:lnTo>
                    <a:lnTo>
                      <a:pt x="1066" y="256"/>
                    </a:lnTo>
                    <a:lnTo>
                      <a:pt x="1001" y="287"/>
                    </a:lnTo>
                    <a:lnTo>
                      <a:pt x="938" y="321"/>
                    </a:lnTo>
                    <a:lnTo>
                      <a:pt x="876" y="357"/>
                    </a:lnTo>
                    <a:lnTo>
                      <a:pt x="874" y="357"/>
                    </a:lnTo>
                    <a:lnTo>
                      <a:pt x="841" y="378"/>
                    </a:lnTo>
                    <a:lnTo>
                      <a:pt x="808" y="401"/>
                    </a:lnTo>
                    <a:lnTo>
                      <a:pt x="806" y="401"/>
                    </a:lnTo>
                    <a:lnTo>
                      <a:pt x="775" y="424"/>
                    </a:lnTo>
                    <a:lnTo>
                      <a:pt x="744" y="446"/>
                    </a:lnTo>
                    <a:lnTo>
                      <a:pt x="743" y="447"/>
                    </a:lnTo>
                    <a:lnTo>
                      <a:pt x="742" y="447"/>
                    </a:lnTo>
                    <a:lnTo>
                      <a:pt x="742" y="448"/>
                    </a:lnTo>
                    <a:lnTo>
                      <a:pt x="712" y="471"/>
                    </a:lnTo>
                    <a:lnTo>
                      <a:pt x="684" y="495"/>
                    </a:lnTo>
                    <a:lnTo>
                      <a:pt x="682" y="496"/>
                    </a:lnTo>
                    <a:lnTo>
                      <a:pt x="681" y="497"/>
                    </a:lnTo>
                    <a:lnTo>
                      <a:pt x="680" y="498"/>
                    </a:lnTo>
                    <a:lnTo>
                      <a:pt x="679" y="499"/>
                    </a:lnTo>
                    <a:lnTo>
                      <a:pt x="651" y="523"/>
                    </a:lnTo>
                    <a:lnTo>
                      <a:pt x="622" y="550"/>
                    </a:lnTo>
                    <a:lnTo>
                      <a:pt x="622" y="552"/>
                    </a:lnTo>
                    <a:lnTo>
                      <a:pt x="620" y="552"/>
                    </a:lnTo>
                    <a:lnTo>
                      <a:pt x="564" y="607"/>
                    </a:lnTo>
                    <a:lnTo>
                      <a:pt x="511" y="664"/>
                    </a:lnTo>
                    <a:lnTo>
                      <a:pt x="461" y="725"/>
                    </a:lnTo>
                    <a:lnTo>
                      <a:pt x="415" y="786"/>
                    </a:lnTo>
                    <a:lnTo>
                      <a:pt x="371" y="852"/>
                    </a:lnTo>
                    <a:lnTo>
                      <a:pt x="330" y="920"/>
                    </a:lnTo>
                    <a:lnTo>
                      <a:pt x="303" y="969"/>
                    </a:lnTo>
                    <a:lnTo>
                      <a:pt x="277" y="1019"/>
                    </a:lnTo>
                    <a:lnTo>
                      <a:pt x="254" y="1070"/>
                    </a:lnTo>
                    <a:lnTo>
                      <a:pt x="252" y="1070"/>
                    </a:lnTo>
                    <a:lnTo>
                      <a:pt x="218" y="1156"/>
                    </a:lnTo>
                    <a:lnTo>
                      <a:pt x="188" y="1244"/>
                    </a:lnTo>
                    <a:lnTo>
                      <a:pt x="164" y="1334"/>
                    </a:lnTo>
                    <a:lnTo>
                      <a:pt x="145" y="1425"/>
                    </a:lnTo>
                    <a:lnTo>
                      <a:pt x="132" y="1518"/>
                    </a:lnTo>
                    <a:lnTo>
                      <a:pt x="123" y="1613"/>
                    </a:lnTo>
                    <a:lnTo>
                      <a:pt x="121" y="1710"/>
                    </a:lnTo>
                    <a:lnTo>
                      <a:pt x="121" y="1778"/>
                    </a:lnTo>
                    <a:lnTo>
                      <a:pt x="128" y="1875"/>
                    </a:lnTo>
                    <a:lnTo>
                      <a:pt x="141" y="1971"/>
                    </a:lnTo>
                    <a:lnTo>
                      <a:pt x="158" y="2065"/>
                    </a:lnTo>
                    <a:lnTo>
                      <a:pt x="183" y="2156"/>
                    </a:lnTo>
                    <a:lnTo>
                      <a:pt x="211" y="2245"/>
                    </a:lnTo>
                    <a:lnTo>
                      <a:pt x="245" y="2332"/>
                    </a:lnTo>
                    <a:lnTo>
                      <a:pt x="285" y="2417"/>
                    </a:lnTo>
                    <a:lnTo>
                      <a:pt x="329" y="2498"/>
                    </a:lnTo>
                    <a:lnTo>
                      <a:pt x="376" y="2576"/>
                    </a:lnTo>
                    <a:lnTo>
                      <a:pt x="429" y="2652"/>
                    </a:lnTo>
                    <a:lnTo>
                      <a:pt x="486" y="2725"/>
                    </a:lnTo>
                    <a:lnTo>
                      <a:pt x="547" y="2794"/>
                    </a:lnTo>
                    <a:lnTo>
                      <a:pt x="611" y="2859"/>
                    </a:lnTo>
                    <a:lnTo>
                      <a:pt x="637" y="2885"/>
                    </a:lnTo>
                    <a:lnTo>
                      <a:pt x="664" y="2908"/>
                    </a:lnTo>
                    <a:lnTo>
                      <a:pt x="664" y="2908"/>
                    </a:lnTo>
                    <a:lnTo>
                      <a:pt x="664" y="2909"/>
                    </a:lnTo>
                    <a:lnTo>
                      <a:pt x="665" y="2910"/>
                    </a:lnTo>
                    <a:lnTo>
                      <a:pt x="666" y="2910"/>
                    </a:lnTo>
                    <a:lnTo>
                      <a:pt x="692" y="2933"/>
                    </a:lnTo>
                    <a:lnTo>
                      <a:pt x="721" y="2956"/>
                    </a:lnTo>
                    <a:lnTo>
                      <a:pt x="750" y="2978"/>
                    </a:lnTo>
                    <a:lnTo>
                      <a:pt x="779" y="3000"/>
                    </a:lnTo>
                    <a:lnTo>
                      <a:pt x="809" y="3021"/>
                    </a:lnTo>
                    <a:lnTo>
                      <a:pt x="841" y="3041"/>
                    </a:lnTo>
                    <a:lnTo>
                      <a:pt x="841" y="3043"/>
                    </a:lnTo>
                    <a:lnTo>
                      <a:pt x="842" y="3043"/>
                    </a:lnTo>
                    <a:lnTo>
                      <a:pt x="843" y="3044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7"/>
                    </a:lnTo>
                    <a:lnTo>
                      <a:pt x="846" y="3047"/>
                    </a:lnTo>
                    <a:lnTo>
                      <a:pt x="848" y="3048"/>
                    </a:lnTo>
                    <a:lnTo>
                      <a:pt x="850" y="3049"/>
                    </a:lnTo>
                    <a:lnTo>
                      <a:pt x="852" y="3050"/>
                    </a:lnTo>
                    <a:lnTo>
                      <a:pt x="856" y="3052"/>
                    </a:lnTo>
                    <a:lnTo>
                      <a:pt x="861" y="3054"/>
                    </a:lnTo>
                    <a:lnTo>
                      <a:pt x="941" y="3102"/>
                    </a:lnTo>
                    <a:lnTo>
                      <a:pt x="1024" y="3144"/>
                    </a:lnTo>
                    <a:lnTo>
                      <a:pt x="1110" y="3183"/>
                    </a:lnTo>
                    <a:lnTo>
                      <a:pt x="1198" y="3216"/>
                    </a:lnTo>
                    <a:lnTo>
                      <a:pt x="1202" y="3216"/>
                    </a:lnTo>
                    <a:lnTo>
                      <a:pt x="1282" y="3242"/>
                    </a:lnTo>
                    <a:lnTo>
                      <a:pt x="1365" y="3262"/>
                    </a:lnTo>
                    <a:lnTo>
                      <a:pt x="1449" y="3279"/>
                    </a:lnTo>
                    <a:lnTo>
                      <a:pt x="1535" y="3291"/>
                    </a:lnTo>
                    <a:lnTo>
                      <a:pt x="1535" y="3291"/>
                    </a:lnTo>
                    <a:lnTo>
                      <a:pt x="1536" y="3291"/>
                    </a:lnTo>
                    <a:lnTo>
                      <a:pt x="1537" y="3291"/>
                    </a:lnTo>
                    <a:lnTo>
                      <a:pt x="1538" y="3291"/>
                    </a:lnTo>
                    <a:lnTo>
                      <a:pt x="1541" y="3291"/>
                    </a:lnTo>
                    <a:lnTo>
                      <a:pt x="1597" y="3296"/>
                    </a:lnTo>
                    <a:lnTo>
                      <a:pt x="1653" y="3299"/>
                    </a:lnTo>
                    <a:lnTo>
                      <a:pt x="1710" y="3300"/>
                    </a:lnTo>
                    <a:lnTo>
                      <a:pt x="1795" y="3298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2" y="3291"/>
                    </a:lnTo>
                    <a:lnTo>
                      <a:pt x="1886" y="3291"/>
                    </a:lnTo>
                    <a:lnTo>
                      <a:pt x="1890" y="3291"/>
                    </a:lnTo>
                    <a:lnTo>
                      <a:pt x="1911" y="3288"/>
                    </a:lnTo>
                    <a:lnTo>
                      <a:pt x="1931" y="3284"/>
                    </a:lnTo>
                    <a:lnTo>
                      <a:pt x="2006" y="3273"/>
                    </a:lnTo>
                    <a:lnTo>
                      <a:pt x="2079" y="3258"/>
                    </a:lnTo>
                    <a:lnTo>
                      <a:pt x="2151" y="3239"/>
                    </a:lnTo>
                    <a:lnTo>
                      <a:pt x="2220" y="3216"/>
                    </a:lnTo>
                    <a:lnTo>
                      <a:pt x="2225" y="3216"/>
                    </a:lnTo>
                    <a:lnTo>
                      <a:pt x="2313" y="3183"/>
                    </a:lnTo>
                    <a:lnTo>
                      <a:pt x="2398" y="3144"/>
                    </a:lnTo>
                    <a:lnTo>
                      <a:pt x="2480" y="3102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61" y="3054"/>
                    </a:lnTo>
                    <a:lnTo>
                      <a:pt x="2561" y="3054"/>
                    </a:lnTo>
                    <a:lnTo>
                      <a:pt x="2563" y="3053"/>
                    </a:lnTo>
                    <a:lnTo>
                      <a:pt x="2564" y="3052"/>
                    </a:lnTo>
                    <a:lnTo>
                      <a:pt x="2567" y="3051"/>
                    </a:lnTo>
                    <a:lnTo>
                      <a:pt x="2570" y="3049"/>
                    </a:lnTo>
                    <a:lnTo>
                      <a:pt x="2575" y="3045"/>
                    </a:lnTo>
                    <a:lnTo>
                      <a:pt x="2637" y="3004"/>
                    </a:lnTo>
                    <a:lnTo>
                      <a:pt x="2696" y="2958"/>
                    </a:lnTo>
                    <a:lnTo>
                      <a:pt x="2754" y="2911"/>
                    </a:lnTo>
                    <a:lnTo>
                      <a:pt x="2809" y="2859"/>
                    </a:lnTo>
                    <a:lnTo>
                      <a:pt x="2863" y="2805"/>
                    </a:lnTo>
                    <a:lnTo>
                      <a:pt x="2914" y="2750"/>
                    </a:lnTo>
                    <a:lnTo>
                      <a:pt x="2947" y="2711"/>
                    </a:lnTo>
                    <a:lnTo>
                      <a:pt x="2979" y="2671"/>
                    </a:lnTo>
                    <a:lnTo>
                      <a:pt x="3009" y="2629"/>
                    </a:lnTo>
                    <a:lnTo>
                      <a:pt x="3060" y="2551"/>
                    </a:lnTo>
                    <a:lnTo>
                      <a:pt x="3108" y="2470"/>
                    </a:lnTo>
                    <a:lnTo>
                      <a:pt x="3151" y="2386"/>
                    </a:lnTo>
                    <a:lnTo>
                      <a:pt x="3188" y="2299"/>
                    </a:lnTo>
                    <a:lnTo>
                      <a:pt x="3220" y="2211"/>
                    </a:lnTo>
                    <a:lnTo>
                      <a:pt x="3248" y="2120"/>
                    </a:lnTo>
                    <a:lnTo>
                      <a:pt x="3270" y="2025"/>
                    </a:lnTo>
                    <a:lnTo>
                      <a:pt x="3283" y="1945"/>
                    </a:lnTo>
                    <a:lnTo>
                      <a:pt x="3294" y="1862"/>
                    </a:lnTo>
                    <a:lnTo>
                      <a:pt x="3299" y="1778"/>
                    </a:lnTo>
                    <a:lnTo>
                      <a:pt x="3300" y="1745"/>
                    </a:lnTo>
                    <a:lnTo>
                      <a:pt x="3301" y="1710"/>
                    </a:lnTo>
                    <a:lnTo>
                      <a:pt x="3299" y="1613"/>
                    </a:lnTo>
                    <a:lnTo>
                      <a:pt x="3290" y="1518"/>
                    </a:lnTo>
                    <a:lnTo>
                      <a:pt x="3276" y="1425"/>
                    </a:lnTo>
                    <a:lnTo>
                      <a:pt x="3256" y="1334"/>
                    </a:lnTo>
                    <a:lnTo>
                      <a:pt x="3232" y="1244"/>
                    </a:lnTo>
                    <a:lnTo>
                      <a:pt x="3202" y="1156"/>
                    </a:lnTo>
                    <a:lnTo>
                      <a:pt x="3168" y="1070"/>
                    </a:lnTo>
                    <a:lnTo>
                      <a:pt x="3166" y="1070"/>
                    </a:lnTo>
                    <a:lnTo>
                      <a:pt x="3136" y="1007"/>
                    </a:lnTo>
                    <a:lnTo>
                      <a:pt x="3104" y="944"/>
                    </a:lnTo>
                    <a:lnTo>
                      <a:pt x="3068" y="883"/>
                    </a:lnTo>
                    <a:lnTo>
                      <a:pt x="3031" y="824"/>
                    </a:lnTo>
                    <a:lnTo>
                      <a:pt x="2980" y="752"/>
                    </a:lnTo>
                    <a:lnTo>
                      <a:pt x="2926" y="685"/>
                    </a:lnTo>
                    <a:lnTo>
                      <a:pt x="2869" y="620"/>
                    </a:lnTo>
                    <a:lnTo>
                      <a:pt x="2851" y="603"/>
                    </a:lnTo>
                    <a:lnTo>
                      <a:pt x="2834" y="585"/>
                    </a:lnTo>
                    <a:lnTo>
                      <a:pt x="2801" y="552"/>
                    </a:lnTo>
                    <a:lnTo>
                      <a:pt x="2798" y="552"/>
                    </a:lnTo>
                    <a:lnTo>
                      <a:pt x="2798" y="550"/>
                    </a:lnTo>
                    <a:lnTo>
                      <a:pt x="2771" y="523"/>
                    </a:lnTo>
                    <a:lnTo>
                      <a:pt x="2741" y="499"/>
                    </a:lnTo>
                    <a:lnTo>
                      <a:pt x="2740" y="498"/>
                    </a:lnTo>
                    <a:lnTo>
                      <a:pt x="2740" y="497"/>
                    </a:lnTo>
                    <a:lnTo>
                      <a:pt x="2739" y="497"/>
                    </a:lnTo>
                    <a:lnTo>
                      <a:pt x="2739" y="497"/>
                    </a:lnTo>
                    <a:lnTo>
                      <a:pt x="2709" y="473"/>
                    </a:lnTo>
                    <a:lnTo>
                      <a:pt x="2678" y="448"/>
                    </a:lnTo>
                    <a:lnTo>
                      <a:pt x="2678" y="446"/>
                    </a:lnTo>
                    <a:lnTo>
                      <a:pt x="2645" y="424"/>
                    </a:lnTo>
                    <a:lnTo>
                      <a:pt x="2614" y="401"/>
                    </a:lnTo>
                    <a:lnTo>
                      <a:pt x="2612" y="401"/>
                    </a:lnTo>
                    <a:lnTo>
                      <a:pt x="2579" y="378"/>
                    </a:lnTo>
                    <a:lnTo>
                      <a:pt x="2546" y="357"/>
                    </a:lnTo>
                    <a:lnTo>
                      <a:pt x="2463" y="309"/>
                    </a:lnTo>
                    <a:lnTo>
                      <a:pt x="2377" y="266"/>
                    </a:lnTo>
                    <a:lnTo>
                      <a:pt x="2289" y="228"/>
                    </a:lnTo>
                    <a:lnTo>
                      <a:pt x="2216" y="201"/>
                    </a:lnTo>
                    <a:lnTo>
                      <a:pt x="2143" y="180"/>
                    </a:lnTo>
                    <a:lnTo>
                      <a:pt x="2141" y="179"/>
                    </a:lnTo>
                    <a:lnTo>
                      <a:pt x="2139" y="178"/>
                    </a:lnTo>
                    <a:lnTo>
                      <a:pt x="2137" y="178"/>
                    </a:lnTo>
                    <a:lnTo>
                      <a:pt x="2135" y="178"/>
                    </a:lnTo>
                    <a:lnTo>
                      <a:pt x="2098" y="167"/>
                    </a:lnTo>
                    <a:lnTo>
                      <a:pt x="2092" y="167"/>
                    </a:lnTo>
                    <a:lnTo>
                      <a:pt x="2045" y="154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8" y="146"/>
                    </a:lnTo>
                    <a:lnTo>
                      <a:pt x="1997" y="145"/>
                    </a:lnTo>
                    <a:lnTo>
                      <a:pt x="1943" y="136"/>
                    </a:lnTo>
                    <a:lnTo>
                      <a:pt x="1888" y="129"/>
                    </a:lnTo>
                    <a:lnTo>
                      <a:pt x="1888" y="129"/>
                    </a:lnTo>
                    <a:lnTo>
                      <a:pt x="1887" y="129"/>
                    </a:lnTo>
                    <a:lnTo>
                      <a:pt x="1885" y="129"/>
                    </a:lnTo>
                    <a:lnTo>
                      <a:pt x="1881" y="129"/>
                    </a:lnTo>
                    <a:lnTo>
                      <a:pt x="1877" y="129"/>
                    </a:lnTo>
                    <a:lnTo>
                      <a:pt x="1831" y="124"/>
                    </a:lnTo>
                    <a:lnTo>
                      <a:pt x="1782" y="120"/>
                    </a:lnTo>
                    <a:lnTo>
                      <a:pt x="1719" y="120"/>
                    </a:lnTo>
                    <a:lnTo>
                      <a:pt x="1718" y="120"/>
                    </a:lnTo>
                    <a:lnTo>
                      <a:pt x="1718" y="120"/>
                    </a:lnTo>
                    <a:lnTo>
                      <a:pt x="1717" y="120"/>
                    </a:lnTo>
                    <a:lnTo>
                      <a:pt x="1715" y="120"/>
                    </a:lnTo>
                    <a:close/>
                    <a:moveTo>
                      <a:pt x="1710" y="0"/>
                    </a:moveTo>
                    <a:lnTo>
                      <a:pt x="1819" y="4"/>
                    </a:lnTo>
                    <a:lnTo>
                      <a:pt x="1924" y="14"/>
                    </a:lnTo>
                    <a:lnTo>
                      <a:pt x="2029" y="30"/>
                    </a:lnTo>
                    <a:lnTo>
                      <a:pt x="2131" y="52"/>
                    </a:lnTo>
                    <a:lnTo>
                      <a:pt x="2230" y="81"/>
                    </a:lnTo>
                    <a:lnTo>
                      <a:pt x="2328" y="115"/>
                    </a:lnTo>
                    <a:lnTo>
                      <a:pt x="2422" y="156"/>
                    </a:lnTo>
                    <a:lnTo>
                      <a:pt x="2513" y="201"/>
                    </a:lnTo>
                    <a:lnTo>
                      <a:pt x="2602" y="251"/>
                    </a:lnTo>
                    <a:lnTo>
                      <a:pt x="2687" y="306"/>
                    </a:lnTo>
                    <a:lnTo>
                      <a:pt x="2768" y="367"/>
                    </a:lnTo>
                    <a:lnTo>
                      <a:pt x="2846" y="432"/>
                    </a:lnTo>
                    <a:lnTo>
                      <a:pt x="2919" y="501"/>
                    </a:lnTo>
                    <a:lnTo>
                      <a:pt x="2989" y="575"/>
                    </a:lnTo>
                    <a:lnTo>
                      <a:pt x="3054" y="652"/>
                    </a:lnTo>
                    <a:lnTo>
                      <a:pt x="3113" y="734"/>
                    </a:lnTo>
                    <a:lnTo>
                      <a:pt x="3169" y="818"/>
                    </a:lnTo>
                    <a:lnTo>
                      <a:pt x="3220" y="906"/>
                    </a:lnTo>
                    <a:lnTo>
                      <a:pt x="3265" y="998"/>
                    </a:lnTo>
                    <a:lnTo>
                      <a:pt x="3305" y="1092"/>
                    </a:lnTo>
                    <a:lnTo>
                      <a:pt x="3339" y="1189"/>
                    </a:lnTo>
                    <a:lnTo>
                      <a:pt x="3368" y="1289"/>
                    </a:lnTo>
                    <a:lnTo>
                      <a:pt x="3391" y="1392"/>
                    </a:lnTo>
                    <a:lnTo>
                      <a:pt x="3407" y="1495"/>
                    </a:lnTo>
                    <a:lnTo>
                      <a:pt x="3417" y="1602"/>
                    </a:lnTo>
                    <a:lnTo>
                      <a:pt x="3420" y="1710"/>
                    </a:lnTo>
                    <a:lnTo>
                      <a:pt x="3417" y="1818"/>
                    </a:lnTo>
                    <a:lnTo>
                      <a:pt x="3407" y="1925"/>
                    </a:lnTo>
                    <a:lnTo>
                      <a:pt x="3391" y="2029"/>
                    </a:lnTo>
                    <a:lnTo>
                      <a:pt x="3368" y="2131"/>
                    </a:lnTo>
                    <a:lnTo>
                      <a:pt x="3339" y="2231"/>
                    </a:lnTo>
                    <a:lnTo>
                      <a:pt x="3305" y="2328"/>
                    </a:lnTo>
                    <a:lnTo>
                      <a:pt x="3265" y="2422"/>
                    </a:lnTo>
                    <a:lnTo>
                      <a:pt x="3220" y="2514"/>
                    </a:lnTo>
                    <a:lnTo>
                      <a:pt x="3169" y="2602"/>
                    </a:lnTo>
                    <a:lnTo>
                      <a:pt x="3113" y="2687"/>
                    </a:lnTo>
                    <a:lnTo>
                      <a:pt x="3054" y="2768"/>
                    </a:lnTo>
                    <a:lnTo>
                      <a:pt x="2989" y="2845"/>
                    </a:lnTo>
                    <a:lnTo>
                      <a:pt x="2919" y="2919"/>
                    </a:lnTo>
                    <a:lnTo>
                      <a:pt x="2846" y="2988"/>
                    </a:lnTo>
                    <a:lnTo>
                      <a:pt x="2768" y="3053"/>
                    </a:lnTo>
                    <a:lnTo>
                      <a:pt x="2687" y="3114"/>
                    </a:lnTo>
                    <a:lnTo>
                      <a:pt x="2602" y="3169"/>
                    </a:lnTo>
                    <a:lnTo>
                      <a:pt x="2513" y="3219"/>
                    </a:lnTo>
                    <a:lnTo>
                      <a:pt x="2422" y="3266"/>
                    </a:lnTo>
                    <a:lnTo>
                      <a:pt x="2328" y="3305"/>
                    </a:lnTo>
                    <a:lnTo>
                      <a:pt x="2230" y="3339"/>
                    </a:lnTo>
                    <a:lnTo>
                      <a:pt x="2131" y="3368"/>
                    </a:lnTo>
                    <a:lnTo>
                      <a:pt x="2029" y="3390"/>
                    </a:lnTo>
                    <a:lnTo>
                      <a:pt x="1924" y="3407"/>
                    </a:lnTo>
                    <a:lnTo>
                      <a:pt x="1819" y="3416"/>
                    </a:lnTo>
                    <a:lnTo>
                      <a:pt x="1710" y="3420"/>
                    </a:lnTo>
                    <a:lnTo>
                      <a:pt x="1602" y="3416"/>
                    </a:lnTo>
                    <a:lnTo>
                      <a:pt x="1496" y="3407"/>
                    </a:lnTo>
                    <a:lnTo>
                      <a:pt x="1391" y="3390"/>
                    </a:lnTo>
                    <a:lnTo>
                      <a:pt x="1289" y="3368"/>
                    </a:lnTo>
                    <a:lnTo>
                      <a:pt x="1190" y="3339"/>
                    </a:lnTo>
                    <a:lnTo>
                      <a:pt x="1092" y="3305"/>
                    </a:lnTo>
                    <a:lnTo>
                      <a:pt x="998" y="3266"/>
                    </a:lnTo>
                    <a:lnTo>
                      <a:pt x="907" y="3219"/>
                    </a:lnTo>
                    <a:lnTo>
                      <a:pt x="818" y="3169"/>
                    </a:lnTo>
                    <a:lnTo>
                      <a:pt x="733" y="3114"/>
                    </a:lnTo>
                    <a:lnTo>
                      <a:pt x="653" y="3053"/>
                    </a:lnTo>
                    <a:lnTo>
                      <a:pt x="575" y="2988"/>
                    </a:lnTo>
                    <a:lnTo>
                      <a:pt x="501" y="2919"/>
                    </a:lnTo>
                    <a:lnTo>
                      <a:pt x="431" y="2845"/>
                    </a:lnTo>
                    <a:lnTo>
                      <a:pt x="366" y="2768"/>
                    </a:lnTo>
                    <a:lnTo>
                      <a:pt x="307" y="2687"/>
                    </a:lnTo>
                    <a:lnTo>
                      <a:pt x="251" y="2602"/>
                    </a:lnTo>
                    <a:lnTo>
                      <a:pt x="200" y="2514"/>
                    </a:lnTo>
                    <a:lnTo>
                      <a:pt x="155" y="2422"/>
                    </a:lnTo>
                    <a:lnTo>
                      <a:pt x="115" y="2328"/>
                    </a:lnTo>
                    <a:lnTo>
                      <a:pt x="81" y="2231"/>
                    </a:lnTo>
                    <a:lnTo>
                      <a:pt x="53" y="2131"/>
                    </a:lnTo>
                    <a:lnTo>
                      <a:pt x="30" y="2029"/>
                    </a:lnTo>
                    <a:lnTo>
                      <a:pt x="13" y="1925"/>
                    </a:lnTo>
                    <a:lnTo>
                      <a:pt x="3" y="1818"/>
                    </a:lnTo>
                    <a:lnTo>
                      <a:pt x="0" y="1710"/>
                    </a:lnTo>
                    <a:lnTo>
                      <a:pt x="3" y="1602"/>
                    </a:lnTo>
                    <a:lnTo>
                      <a:pt x="13" y="1495"/>
                    </a:lnTo>
                    <a:lnTo>
                      <a:pt x="30" y="1392"/>
                    </a:lnTo>
                    <a:lnTo>
                      <a:pt x="53" y="1289"/>
                    </a:lnTo>
                    <a:lnTo>
                      <a:pt x="81" y="1189"/>
                    </a:lnTo>
                    <a:lnTo>
                      <a:pt x="115" y="1092"/>
                    </a:lnTo>
                    <a:lnTo>
                      <a:pt x="155" y="998"/>
                    </a:lnTo>
                    <a:lnTo>
                      <a:pt x="200" y="906"/>
                    </a:lnTo>
                    <a:lnTo>
                      <a:pt x="251" y="818"/>
                    </a:lnTo>
                    <a:lnTo>
                      <a:pt x="307" y="734"/>
                    </a:lnTo>
                    <a:lnTo>
                      <a:pt x="366" y="652"/>
                    </a:lnTo>
                    <a:lnTo>
                      <a:pt x="431" y="575"/>
                    </a:lnTo>
                    <a:lnTo>
                      <a:pt x="501" y="501"/>
                    </a:lnTo>
                    <a:lnTo>
                      <a:pt x="575" y="432"/>
                    </a:lnTo>
                    <a:lnTo>
                      <a:pt x="653" y="367"/>
                    </a:lnTo>
                    <a:lnTo>
                      <a:pt x="733" y="306"/>
                    </a:lnTo>
                    <a:lnTo>
                      <a:pt x="818" y="251"/>
                    </a:lnTo>
                    <a:lnTo>
                      <a:pt x="907" y="201"/>
                    </a:lnTo>
                    <a:lnTo>
                      <a:pt x="998" y="156"/>
                    </a:lnTo>
                    <a:lnTo>
                      <a:pt x="1092" y="115"/>
                    </a:lnTo>
                    <a:lnTo>
                      <a:pt x="1190" y="81"/>
                    </a:lnTo>
                    <a:lnTo>
                      <a:pt x="1289" y="52"/>
                    </a:lnTo>
                    <a:lnTo>
                      <a:pt x="1391" y="30"/>
                    </a:lnTo>
                    <a:lnTo>
                      <a:pt x="1496" y="14"/>
                    </a:lnTo>
                    <a:lnTo>
                      <a:pt x="1602" y="4"/>
                    </a:lnTo>
                    <a:lnTo>
                      <a:pt x="17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9"/>
              <p:cNvSpPr/>
              <p:nvPr/>
            </p:nvSpPr>
            <p:spPr>
              <a:xfrm>
                <a:off x="8819640" y="5017320"/>
                <a:ext cx="164160" cy="250920"/>
              </a:xfrm>
              <a:custGeom>
                <a:avLst/>
                <a:gdLst>
                  <a:gd name="textAreaLeft" fmla="*/ 0 w 164160"/>
                  <a:gd name="textAreaRight" fmla="*/ 164160 w 1641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203" h="2202">
                    <a:moveTo>
                      <a:pt x="0" y="0"/>
                    </a:moveTo>
                    <a:lnTo>
                      <a:pt x="1855" y="497"/>
                    </a:lnTo>
                    <a:lnTo>
                      <a:pt x="1422" y="929"/>
                    </a:lnTo>
                    <a:lnTo>
                      <a:pt x="1521" y="1030"/>
                    </a:lnTo>
                    <a:lnTo>
                      <a:pt x="2203" y="1711"/>
                    </a:lnTo>
                    <a:lnTo>
                      <a:pt x="1711" y="2202"/>
                    </a:lnTo>
                    <a:lnTo>
                      <a:pt x="1029" y="1521"/>
                    </a:lnTo>
                    <a:lnTo>
                      <a:pt x="930" y="1421"/>
                    </a:lnTo>
                    <a:lnTo>
                      <a:pt x="497" y="18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4423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41"/>
            <p:cNvSpPr/>
            <p:nvPr/>
          </p:nvSpPr>
          <p:spPr>
            <a:xfrm>
              <a:off x="5843160" y="5817600"/>
              <a:ext cx="446760" cy="4957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82" h="89">
                  <a:moveTo>
                    <a:pt x="82" y="42"/>
                  </a:moveTo>
                  <a:cubicBezTo>
                    <a:pt x="82" y="26"/>
                    <a:pt x="82" y="26"/>
                    <a:pt x="82" y="26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4" y="43"/>
                    <a:pt x="0" y="66"/>
                    <a:pt x="14" y="73"/>
                  </a:cubicBezTo>
                  <a:cubicBezTo>
                    <a:pt x="24" y="77"/>
                    <a:pt x="38" y="71"/>
                    <a:pt x="38" y="58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71" y="20"/>
                    <a:pt x="71" y="20"/>
                    <a:pt x="71" y="20"/>
                  </a:cubicBezTo>
                  <a:cubicBezTo>
                    <a:pt x="71" y="55"/>
                    <a:pt x="71" y="55"/>
                    <a:pt x="71" y="55"/>
                  </a:cubicBezTo>
                  <a:cubicBezTo>
                    <a:pt x="48" y="55"/>
                    <a:pt x="43" y="77"/>
                    <a:pt x="58" y="84"/>
                  </a:cubicBezTo>
                  <a:cubicBezTo>
                    <a:pt x="67" y="89"/>
                    <a:pt x="82" y="83"/>
                    <a:pt x="82" y="69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82" y="42"/>
                    <a:pt x="82" y="42"/>
                    <a:pt x="82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6" descr=""/>
            <p:cNvPicPr/>
            <p:nvPr/>
          </p:nvPicPr>
          <p:blipFill>
            <a:blip r:embed="rId4"/>
            <a:stretch/>
          </p:blipFill>
          <p:spPr>
            <a:xfrm>
              <a:off x="6922440" y="6151680"/>
              <a:ext cx="553320" cy="48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113" name="Freeform 37"/>
            <p:cNvSpPr/>
            <p:nvPr/>
          </p:nvSpPr>
          <p:spPr>
            <a:xfrm>
              <a:off x="7871040" y="5924520"/>
              <a:ext cx="632160" cy="38880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214" h="852">
                  <a:moveTo>
                    <a:pt x="1046" y="130"/>
                  </a:moveTo>
                  <a:cubicBezTo>
                    <a:pt x="1070" y="130"/>
                    <a:pt x="1070" y="130"/>
                    <a:pt x="1070" y="130"/>
                  </a:cubicBezTo>
                  <a:cubicBezTo>
                    <a:pt x="1070" y="106"/>
                    <a:pt x="1070" y="106"/>
                    <a:pt x="1070" y="106"/>
                  </a:cubicBezTo>
                  <a:cubicBezTo>
                    <a:pt x="1046" y="106"/>
                    <a:pt x="1046" y="106"/>
                    <a:pt x="1046" y="106"/>
                  </a:cubicBezTo>
                  <a:lnTo>
                    <a:pt x="1046" y="130"/>
                  </a:lnTo>
                  <a:close/>
                  <a:moveTo>
                    <a:pt x="787" y="621"/>
                  </a:moveTo>
                  <a:cubicBezTo>
                    <a:pt x="819" y="635"/>
                    <a:pt x="856" y="620"/>
                    <a:pt x="870" y="588"/>
                  </a:cubicBezTo>
                  <a:cubicBezTo>
                    <a:pt x="884" y="556"/>
                    <a:pt x="869" y="518"/>
                    <a:pt x="837" y="505"/>
                  </a:cubicBezTo>
                  <a:cubicBezTo>
                    <a:pt x="804" y="491"/>
                    <a:pt x="767" y="506"/>
                    <a:pt x="753" y="538"/>
                  </a:cubicBezTo>
                  <a:cubicBezTo>
                    <a:pt x="740" y="571"/>
                    <a:pt x="755" y="608"/>
                    <a:pt x="787" y="621"/>
                  </a:cubicBezTo>
                  <a:close/>
                  <a:moveTo>
                    <a:pt x="782" y="550"/>
                  </a:moveTo>
                  <a:cubicBezTo>
                    <a:pt x="789" y="534"/>
                    <a:pt x="808" y="526"/>
                    <a:pt x="825" y="533"/>
                  </a:cubicBezTo>
                  <a:cubicBezTo>
                    <a:pt x="841" y="540"/>
                    <a:pt x="849" y="559"/>
                    <a:pt x="842" y="576"/>
                  </a:cubicBezTo>
                  <a:cubicBezTo>
                    <a:pt x="835" y="592"/>
                    <a:pt x="816" y="600"/>
                    <a:pt x="799" y="593"/>
                  </a:cubicBezTo>
                  <a:cubicBezTo>
                    <a:pt x="782" y="586"/>
                    <a:pt x="775" y="567"/>
                    <a:pt x="782" y="550"/>
                  </a:cubicBezTo>
                  <a:close/>
                  <a:moveTo>
                    <a:pt x="1175" y="166"/>
                  </a:moveTo>
                  <a:cubicBezTo>
                    <a:pt x="1191" y="166"/>
                    <a:pt x="1204" y="173"/>
                    <a:pt x="1214" y="183"/>
                  </a:cubicBezTo>
                  <a:cubicBezTo>
                    <a:pt x="1214" y="117"/>
                    <a:pt x="1214" y="117"/>
                    <a:pt x="1214" y="117"/>
                  </a:cubicBezTo>
                  <a:cubicBezTo>
                    <a:pt x="1214" y="90"/>
                    <a:pt x="1192" y="68"/>
                    <a:pt x="1164" y="68"/>
                  </a:cubicBezTo>
                  <a:cubicBezTo>
                    <a:pt x="606" y="68"/>
                    <a:pt x="606" y="68"/>
                    <a:pt x="606" y="68"/>
                  </a:cubicBezTo>
                  <a:cubicBezTo>
                    <a:pt x="598" y="29"/>
                    <a:pt x="564" y="0"/>
                    <a:pt x="523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38" y="0"/>
                    <a:pt x="0" y="37"/>
                    <a:pt x="0" y="83"/>
                  </a:cubicBezTo>
                  <a:cubicBezTo>
                    <a:pt x="0" y="523"/>
                    <a:pt x="0" y="523"/>
                    <a:pt x="0" y="523"/>
                  </a:cubicBezTo>
                  <a:cubicBezTo>
                    <a:pt x="0" y="569"/>
                    <a:pt x="38" y="606"/>
                    <a:pt x="84" y="606"/>
                  </a:cubicBezTo>
                  <a:cubicBezTo>
                    <a:pt x="218" y="606"/>
                    <a:pt x="218" y="606"/>
                    <a:pt x="218" y="606"/>
                  </a:cubicBezTo>
                  <a:cubicBezTo>
                    <a:pt x="218" y="803"/>
                    <a:pt x="218" y="803"/>
                    <a:pt x="218" y="803"/>
                  </a:cubicBezTo>
                  <a:cubicBezTo>
                    <a:pt x="218" y="830"/>
                    <a:pt x="240" y="852"/>
                    <a:pt x="268" y="852"/>
                  </a:cubicBezTo>
                  <a:cubicBezTo>
                    <a:pt x="1164" y="852"/>
                    <a:pt x="1164" y="852"/>
                    <a:pt x="1164" y="852"/>
                  </a:cubicBezTo>
                  <a:cubicBezTo>
                    <a:pt x="1192" y="852"/>
                    <a:pt x="1214" y="830"/>
                    <a:pt x="1214" y="803"/>
                  </a:cubicBezTo>
                  <a:cubicBezTo>
                    <a:pt x="1214" y="256"/>
                    <a:pt x="1214" y="256"/>
                    <a:pt x="1214" y="256"/>
                  </a:cubicBezTo>
                  <a:cubicBezTo>
                    <a:pt x="1214" y="229"/>
                    <a:pt x="1192" y="207"/>
                    <a:pt x="1164" y="207"/>
                  </a:cubicBezTo>
                  <a:cubicBezTo>
                    <a:pt x="607" y="207"/>
                    <a:pt x="607" y="207"/>
                    <a:pt x="607" y="207"/>
                  </a:cubicBezTo>
                  <a:cubicBezTo>
                    <a:pt x="607" y="166"/>
                    <a:pt x="607" y="166"/>
                    <a:pt x="607" y="166"/>
                  </a:cubicBezTo>
                  <a:lnTo>
                    <a:pt x="1175" y="166"/>
                  </a:lnTo>
                  <a:close/>
                  <a:moveTo>
                    <a:pt x="1118" y="100"/>
                  </a:moveTo>
                  <a:cubicBezTo>
                    <a:pt x="1131" y="112"/>
                    <a:pt x="1131" y="112"/>
                    <a:pt x="1131" y="112"/>
                  </a:cubicBezTo>
                  <a:cubicBezTo>
                    <a:pt x="1143" y="100"/>
                    <a:pt x="1143" y="100"/>
                    <a:pt x="1143" y="100"/>
                  </a:cubicBezTo>
                  <a:cubicBezTo>
                    <a:pt x="1154" y="100"/>
                    <a:pt x="1154" y="100"/>
                    <a:pt x="1154" y="100"/>
                  </a:cubicBezTo>
                  <a:cubicBezTo>
                    <a:pt x="1136" y="118"/>
                    <a:pt x="1136" y="118"/>
                    <a:pt x="1136" y="118"/>
                  </a:cubicBezTo>
                  <a:cubicBezTo>
                    <a:pt x="1154" y="136"/>
                    <a:pt x="1154" y="136"/>
                    <a:pt x="1154" y="136"/>
                  </a:cubicBezTo>
                  <a:cubicBezTo>
                    <a:pt x="1143" y="136"/>
                    <a:pt x="1143" y="136"/>
                    <a:pt x="1143" y="136"/>
                  </a:cubicBezTo>
                  <a:cubicBezTo>
                    <a:pt x="1136" y="129"/>
                    <a:pt x="1136" y="129"/>
                    <a:pt x="1136" y="129"/>
                  </a:cubicBezTo>
                  <a:cubicBezTo>
                    <a:pt x="1131" y="124"/>
                    <a:pt x="1131" y="124"/>
                    <a:pt x="1131" y="124"/>
                  </a:cubicBezTo>
                  <a:cubicBezTo>
                    <a:pt x="1119" y="135"/>
                    <a:pt x="1119" y="135"/>
                    <a:pt x="1119" y="135"/>
                  </a:cubicBezTo>
                  <a:cubicBezTo>
                    <a:pt x="1118" y="136"/>
                    <a:pt x="1118" y="136"/>
                    <a:pt x="1118" y="136"/>
                  </a:cubicBezTo>
                  <a:cubicBezTo>
                    <a:pt x="1107" y="136"/>
                    <a:pt x="1107" y="136"/>
                    <a:pt x="1107" y="136"/>
                  </a:cubicBezTo>
                  <a:cubicBezTo>
                    <a:pt x="1125" y="118"/>
                    <a:pt x="1125" y="118"/>
                    <a:pt x="1125" y="118"/>
                  </a:cubicBezTo>
                  <a:cubicBezTo>
                    <a:pt x="1107" y="100"/>
                    <a:pt x="1107" y="100"/>
                    <a:pt x="1107" y="100"/>
                  </a:cubicBezTo>
                  <a:lnTo>
                    <a:pt x="1118" y="100"/>
                  </a:lnTo>
                  <a:close/>
                  <a:moveTo>
                    <a:pt x="1040" y="100"/>
                  </a:moveTo>
                  <a:cubicBezTo>
                    <a:pt x="1076" y="100"/>
                    <a:pt x="1076" y="100"/>
                    <a:pt x="1076" y="100"/>
                  </a:cubicBezTo>
                  <a:cubicBezTo>
                    <a:pt x="1076" y="136"/>
                    <a:pt x="1076" y="136"/>
                    <a:pt x="1076" y="136"/>
                  </a:cubicBezTo>
                  <a:cubicBezTo>
                    <a:pt x="1040" y="136"/>
                    <a:pt x="1040" y="136"/>
                    <a:pt x="1040" y="136"/>
                  </a:cubicBezTo>
                  <a:lnTo>
                    <a:pt x="1040" y="100"/>
                  </a:lnTo>
                  <a:close/>
                  <a:moveTo>
                    <a:pt x="971" y="128"/>
                  </a:moveTo>
                  <a:cubicBezTo>
                    <a:pt x="1015" y="128"/>
                    <a:pt x="1015" y="128"/>
                    <a:pt x="1015" y="128"/>
                  </a:cubicBezTo>
                  <a:cubicBezTo>
                    <a:pt x="1015" y="137"/>
                    <a:pt x="1015" y="137"/>
                    <a:pt x="1015" y="137"/>
                  </a:cubicBezTo>
                  <a:cubicBezTo>
                    <a:pt x="971" y="137"/>
                    <a:pt x="971" y="137"/>
                    <a:pt x="971" y="137"/>
                  </a:cubicBezTo>
                  <a:lnTo>
                    <a:pt x="971" y="128"/>
                  </a:lnTo>
                  <a:close/>
                  <a:moveTo>
                    <a:pt x="607" y="461"/>
                  </a:moveTo>
                  <a:cubicBezTo>
                    <a:pt x="612" y="457"/>
                    <a:pt x="617" y="452"/>
                    <a:pt x="619" y="445"/>
                  </a:cubicBezTo>
                  <a:cubicBezTo>
                    <a:pt x="627" y="428"/>
                    <a:pt x="621" y="408"/>
                    <a:pt x="607" y="397"/>
                  </a:cubicBezTo>
                  <a:cubicBezTo>
                    <a:pt x="607" y="374"/>
                    <a:pt x="607" y="374"/>
                    <a:pt x="607" y="374"/>
                  </a:cubicBezTo>
                  <a:cubicBezTo>
                    <a:pt x="636" y="388"/>
                    <a:pt x="650" y="423"/>
                    <a:pt x="637" y="453"/>
                  </a:cubicBezTo>
                  <a:cubicBezTo>
                    <a:pt x="631" y="467"/>
                    <a:pt x="620" y="478"/>
                    <a:pt x="607" y="484"/>
                  </a:cubicBezTo>
                  <a:lnTo>
                    <a:pt x="607" y="461"/>
                  </a:lnTo>
                  <a:close/>
                  <a:moveTo>
                    <a:pt x="84" y="580"/>
                  </a:moveTo>
                  <a:cubicBezTo>
                    <a:pt x="52" y="580"/>
                    <a:pt x="27" y="554"/>
                    <a:pt x="27" y="523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7" y="52"/>
                    <a:pt x="52" y="26"/>
                    <a:pt x="84" y="26"/>
                  </a:cubicBezTo>
                  <a:cubicBezTo>
                    <a:pt x="523" y="26"/>
                    <a:pt x="523" y="26"/>
                    <a:pt x="523" y="26"/>
                  </a:cubicBezTo>
                  <a:cubicBezTo>
                    <a:pt x="555" y="26"/>
                    <a:pt x="581" y="52"/>
                    <a:pt x="581" y="83"/>
                  </a:cubicBezTo>
                  <a:cubicBezTo>
                    <a:pt x="581" y="523"/>
                    <a:pt x="581" y="523"/>
                    <a:pt x="581" y="523"/>
                  </a:cubicBezTo>
                  <a:cubicBezTo>
                    <a:pt x="581" y="554"/>
                    <a:pt x="555" y="580"/>
                    <a:pt x="523" y="580"/>
                  </a:cubicBezTo>
                  <a:lnTo>
                    <a:pt x="84" y="580"/>
                  </a:lnTo>
                  <a:close/>
                  <a:moveTo>
                    <a:pt x="1164" y="256"/>
                  </a:moveTo>
                  <a:cubicBezTo>
                    <a:pt x="1165" y="256"/>
                    <a:pt x="1165" y="256"/>
                    <a:pt x="1165" y="256"/>
                  </a:cubicBezTo>
                  <a:cubicBezTo>
                    <a:pt x="1165" y="803"/>
                    <a:pt x="1165" y="803"/>
                    <a:pt x="1165" y="803"/>
                  </a:cubicBezTo>
                  <a:cubicBezTo>
                    <a:pt x="1165" y="803"/>
                    <a:pt x="1164" y="803"/>
                    <a:pt x="1164" y="803"/>
                  </a:cubicBezTo>
                  <a:cubicBezTo>
                    <a:pt x="268" y="803"/>
                    <a:pt x="268" y="803"/>
                    <a:pt x="268" y="803"/>
                  </a:cubicBezTo>
                  <a:cubicBezTo>
                    <a:pt x="267" y="803"/>
                    <a:pt x="267" y="803"/>
                    <a:pt x="267" y="803"/>
                  </a:cubicBezTo>
                  <a:cubicBezTo>
                    <a:pt x="267" y="606"/>
                    <a:pt x="267" y="606"/>
                    <a:pt x="267" y="606"/>
                  </a:cubicBezTo>
                  <a:cubicBezTo>
                    <a:pt x="523" y="606"/>
                    <a:pt x="523" y="606"/>
                    <a:pt x="523" y="606"/>
                  </a:cubicBezTo>
                  <a:cubicBezTo>
                    <a:pt x="570" y="606"/>
                    <a:pt x="607" y="569"/>
                    <a:pt x="607" y="523"/>
                  </a:cubicBezTo>
                  <a:cubicBezTo>
                    <a:pt x="607" y="508"/>
                    <a:pt x="607" y="508"/>
                    <a:pt x="607" y="508"/>
                  </a:cubicBezTo>
                  <a:cubicBezTo>
                    <a:pt x="609" y="506"/>
                    <a:pt x="611" y="505"/>
                    <a:pt x="613" y="504"/>
                  </a:cubicBezTo>
                  <a:cubicBezTo>
                    <a:pt x="623" y="500"/>
                    <a:pt x="634" y="502"/>
                    <a:pt x="642" y="508"/>
                  </a:cubicBezTo>
                  <a:cubicBezTo>
                    <a:pt x="649" y="503"/>
                    <a:pt x="656" y="497"/>
                    <a:pt x="661" y="489"/>
                  </a:cubicBezTo>
                  <a:cubicBezTo>
                    <a:pt x="655" y="481"/>
                    <a:pt x="652" y="470"/>
                    <a:pt x="657" y="460"/>
                  </a:cubicBezTo>
                  <a:cubicBezTo>
                    <a:pt x="661" y="450"/>
                    <a:pt x="670" y="443"/>
                    <a:pt x="680" y="442"/>
                  </a:cubicBezTo>
                  <a:cubicBezTo>
                    <a:pt x="681" y="433"/>
                    <a:pt x="681" y="425"/>
                    <a:pt x="680" y="416"/>
                  </a:cubicBezTo>
                  <a:cubicBezTo>
                    <a:pt x="670" y="415"/>
                    <a:pt x="661" y="408"/>
                    <a:pt x="657" y="398"/>
                  </a:cubicBezTo>
                  <a:cubicBezTo>
                    <a:pt x="652" y="388"/>
                    <a:pt x="655" y="377"/>
                    <a:pt x="661" y="369"/>
                  </a:cubicBezTo>
                  <a:cubicBezTo>
                    <a:pt x="656" y="362"/>
                    <a:pt x="649" y="355"/>
                    <a:pt x="642" y="350"/>
                  </a:cubicBezTo>
                  <a:cubicBezTo>
                    <a:pt x="634" y="356"/>
                    <a:pt x="623" y="358"/>
                    <a:pt x="613" y="354"/>
                  </a:cubicBezTo>
                  <a:cubicBezTo>
                    <a:pt x="611" y="353"/>
                    <a:pt x="609" y="352"/>
                    <a:pt x="607" y="350"/>
                  </a:cubicBezTo>
                  <a:cubicBezTo>
                    <a:pt x="607" y="256"/>
                    <a:pt x="607" y="256"/>
                    <a:pt x="607" y="256"/>
                  </a:cubicBezTo>
                  <a:lnTo>
                    <a:pt x="1164" y="256"/>
                  </a:lnTo>
                  <a:close/>
                  <a:moveTo>
                    <a:pt x="660" y="543"/>
                  </a:moveTo>
                  <a:cubicBezTo>
                    <a:pt x="659" y="556"/>
                    <a:pt x="659" y="570"/>
                    <a:pt x="660" y="583"/>
                  </a:cubicBezTo>
                  <a:cubicBezTo>
                    <a:pt x="676" y="585"/>
                    <a:pt x="690" y="595"/>
                    <a:pt x="697" y="610"/>
                  </a:cubicBezTo>
                  <a:cubicBezTo>
                    <a:pt x="703" y="626"/>
                    <a:pt x="700" y="643"/>
                    <a:pt x="690" y="655"/>
                  </a:cubicBezTo>
                  <a:cubicBezTo>
                    <a:pt x="698" y="666"/>
                    <a:pt x="707" y="675"/>
                    <a:pt x="718" y="684"/>
                  </a:cubicBezTo>
                  <a:cubicBezTo>
                    <a:pt x="731" y="674"/>
                    <a:pt x="748" y="671"/>
                    <a:pt x="763" y="678"/>
                  </a:cubicBezTo>
                  <a:cubicBezTo>
                    <a:pt x="779" y="684"/>
                    <a:pt x="788" y="699"/>
                    <a:pt x="790" y="714"/>
                  </a:cubicBezTo>
                  <a:cubicBezTo>
                    <a:pt x="805" y="716"/>
                    <a:pt x="819" y="716"/>
                    <a:pt x="834" y="714"/>
                  </a:cubicBezTo>
                  <a:cubicBezTo>
                    <a:pt x="835" y="699"/>
                    <a:pt x="845" y="684"/>
                    <a:pt x="861" y="678"/>
                  </a:cubicBezTo>
                  <a:cubicBezTo>
                    <a:pt x="876" y="671"/>
                    <a:pt x="893" y="674"/>
                    <a:pt x="905" y="684"/>
                  </a:cubicBezTo>
                  <a:cubicBezTo>
                    <a:pt x="916" y="676"/>
                    <a:pt x="926" y="666"/>
                    <a:pt x="934" y="655"/>
                  </a:cubicBezTo>
                  <a:cubicBezTo>
                    <a:pt x="924" y="643"/>
                    <a:pt x="921" y="626"/>
                    <a:pt x="927" y="610"/>
                  </a:cubicBezTo>
                  <a:cubicBezTo>
                    <a:pt x="933" y="595"/>
                    <a:pt x="948" y="585"/>
                    <a:pt x="963" y="583"/>
                  </a:cubicBezTo>
                  <a:cubicBezTo>
                    <a:pt x="965" y="570"/>
                    <a:pt x="965" y="556"/>
                    <a:pt x="963" y="543"/>
                  </a:cubicBezTo>
                  <a:cubicBezTo>
                    <a:pt x="948" y="541"/>
                    <a:pt x="933" y="531"/>
                    <a:pt x="927" y="516"/>
                  </a:cubicBezTo>
                  <a:cubicBezTo>
                    <a:pt x="921" y="500"/>
                    <a:pt x="924" y="483"/>
                    <a:pt x="934" y="471"/>
                  </a:cubicBezTo>
                  <a:cubicBezTo>
                    <a:pt x="926" y="461"/>
                    <a:pt x="916" y="451"/>
                    <a:pt x="905" y="442"/>
                  </a:cubicBezTo>
                  <a:cubicBezTo>
                    <a:pt x="893" y="452"/>
                    <a:pt x="876" y="455"/>
                    <a:pt x="860" y="448"/>
                  </a:cubicBezTo>
                  <a:cubicBezTo>
                    <a:pt x="845" y="442"/>
                    <a:pt x="835" y="428"/>
                    <a:pt x="834" y="412"/>
                  </a:cubicBezTo>
                  <a:cubicBezTo>
                    <a:pt x="819" y="410"/>
                    <a:pt x="804" y="410"/>
                    <a:pt x="790" y="412"/>
                  </a:cubicBezTo>
                  <a:cubicBezTo>
                    <a:pt x="788" y="428"/>
                    <a:pt x="778" y="442"/>
                    <a:pt x="763" y="448"/>
                  </a:cubicBezTo>
                  <a:cubicBezTo>
                    <a:pt x="748" y="455"/>
                    <a:pt x="731" y="452"/>
                    <a:pt x="718" y="442"/>
                  </a:cubicBezTo>
                  <a:cubicBezTo>
                    <a:pt x="708" y="451"/>
                    <a:pt x="698" y="460"/>
                    <a:pt x="690" y="471"/>
                  </a:cubicBezTo>
                  <a:cubicBezTo>
                    <a:pt x="700" y="483"/>
                    <a:pt x="703" y="500"/>
                    <a:pt x="697" y="516"/>
                  </a:cubicBezTo>
                  <a:cubicBezTo>
                    <a:pt x="690" y="531"/>
                    <a:pt x="676" y="541"/>
                    <a:pt x="660" y="543"/>
                  </a:cubicBezTo>
                  <a:close/>
                  <a:moveTo>
                    <a:pt x="727" y="527"/>
                  </a:moveTo>
                  <a:cubicBezTo>
                    <a:pt x="747" y="480"/>
                    <a:pt x="801" y="458"/>
                    <a:pt x="848" y="478"/>
                  </a:cubicBezTo>
                  <a:cubicBezTo>
                    <a:pt x="895" y="498"/>
                    <a:pt x="917" y="552"/>
                    <a:pt x="897" y="599"/>
                  </a:cubicBezTo>
                  <a:cubicBezTo>
                    <a:pt x="877" y="646"/>
                    <a:pt x="823" y="668"/>
                    <a:pt x="776" y="648"/>
                  </a:cubicBezTo>
                  <a:cubicBezTo>
                    <a:pt x="729" y="628"/>
                    <a:pt x="707" y="574"/>
                    <a:pt x="727" y="527"/>
                  </a:cubicBezTo>
                  <a:close/>
                  <a:moveTo>
                    <a:pt x="218" y="383"/>
                  </a:moveTo>
                  <a:cubicBezTo>
                    <a:pt x="264" y="453"/>
                    <a:pt x="264" y="453"/>
                    <a:pt x="264" y="453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379" y="265"/>
                    <a:pt x="379" y="265"/>
                    <a:pt x="379" y="265"/>
                  </a:cubicBezTo>
                  <a:cubicBezTo>
                    <a:pt x="439" y="185"/>
                    <a:pt x="439" y="185"/>
                    <a:pt x="439" y="185"/>
                  </a:cubicBezTo>
                  <a:cubicBezTo>
                    <a:pt x="488" y="279"/>
                    <a:pt x="488" y="279"/>
                    <a:pt x="488" y="279"/>
                  </a:cubicBezTo>
                  <a:cubicBezTo>
                    <a:pt x="518" y="264"/>
                    <a:pt x="518" y="264"/>
                    <a:pt x="518" y="264"/>
                  </a:cubicBezTo>
                  <a:cubicBezTo>
                    <a:pt x="444" y="121"/>
                    <a:pt x="444" y="121"/>
                    <a:pt x="444" y="121"/>
                  </a:cubicBezTo>
                  <a:cubicBezTo>
                    <a:pt x="362" y="231"/>
                    <a:pt x="362" y="231"/>
                    <a:pt x="362" y="231"/>
                  </a:cubicBezTo>
                  <a:cubicBezTo>
                    <a:pt x="267" y="231"/>
                    <a:pt x="267" y="231"/>
                    <a:pt x="267" y="231"/>
                  </a:cubicBezTo>
                  <a:cubicBezTo>
                    <a:pt x="245" y="363"/>
                    <a:pt x="245" y="363"/>
                    <a:pt x="245" y="363"/>
                  </a:cubicBezTo>
                  <a:cubicBezTo>
                    <a:pt x="223" y="330"/>
                    <a:pt x="223" y="330"/>
                    <a:pt x="223" y="330"/>
                  </a:cubicBezTo>
                  <a:cubicBezTo>
                    <a:pt x="137" y="416"/>
                    <a:pt x="137" y="416"/>
                    <a:pt x="137" y="416"/>
                  </a:cubicBezTo>
                  <a:cubicBezTo>
                    <a:pt x="161" y="440"/>
                    <a:pt x="161" y="440"/>
                    <a:pt x="161" y="440"/>
                  </a:cubicBezTo>
                  <a:lnTo>
                    <a:pt x="218" y="383"/>
                  </a:lnTo>
                  <a:close/>
                  <a:moveTo>
                    <a:pt x="123" y="103"/>
                  </a:moveTo>
                  <a:cubicBezTo>
                    <a:pt x="86" y="103"/>
                    <a:pt x="86" y="103"/>
                    <a:pt x="86" y="103"/>
                  </a:cubicBezTo>
                  <a:cubicBezTo>
                    <a:pt x="86" y="503"/>
                    <a:pt x="86" y="503"/>
                    <a:pt x="86" y="503"/>
                  </a:cubicBezTo>
                  <a:cubicBezTo>
                    <a:pt x="522" y="503"/>
                    <a:pt x="522" y="503"/>
                    <a:pt x="522" y="503"/>
                  </a:cubicBezTo>
                  <a:cubicBezTo>
                    <a:pt x="522" y="465"/>
                    <a:pt x="522" y="465"/>
                    <a:pt x="522" y="465"/>
                  </a:cubicBezTo>
                  <a:cubicBezTo>
                    <a:pt x="123" y="465"/>
                    <a:pt x="123" y="465"/>
                    <a:pt x="123" y="465"/>
                  </a:cubicBezTo>
                  <a:lnTo>
                    <a:pt x="12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橢圓 34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橢圓 35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橢圓 36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橢圓 37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橢圓 38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120" name="等腰三角形 1"/>
          <p:cNvSpPr/>
          <p:nvPr/>
        </p:nvSpPr>
        <p:spPr>
          <a:xfrm>
            <a:off x="2643120" y="1643040"/>
            <a:ext cx="3888000" cy="5219640"/>
          </a:xfrm>
          <a:prstGeom prst="triangle">
            <a:avLst>
              <a:gd name="adj" fmla="val 50000"/>
            </a:avLst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橢圓 2"/>
          <p:cNvSpPr/>
          <p:nvPr/>
        </p:nvSpPr>
        <p:spPr>
          <a:xfrm>
            <a:off x="4389480" y="38242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字方塊 3"/>
          <p:cNvSpPr/>
          <p:nvPr/>
        </p:nvSpPr>
        <p:spPr>
          <a:xfrm rot="5400000">
            <a:off x="4087080" y="5150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 rot="1297200">
            <a:off x="2194560" y="277848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GungsuhChe"/>
              </a:rPr>
              <a:t>6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 rot="20092200">
            <a:off x="5956920" y="454644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GungsuhChe"/>
              </a:rPr>
              <a:t>3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向右箭號 9"/>
          <p:cNvSpPr/>
          <p:nvPr/>
        </p:nvSpPr>
        <p:spPr>
          <a:xfrm rot="2032800">
            <a:off x="-15840" y="1092240"/>
            <a:ext cx="3533760" cy="431640"/>
          </a:xfrm>
          <a:custGeom>
            <a:avLst/>
            <a:gdLst>
              <a:gd name="textAreaLeft" fmla="*/ 226440 w 3533760"/>
              <a:gd name="textAreaRight" fmla="*/ 3307320 w 35337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5" y="0"/>
                </a:lnTo>
                <a:lnTo>
                  <a:pt x="20215" y="0"/>
                </a:lnTo>
                <a:lnTo>
                  <a:pt x="21600" y="10800"/>
                </a:lnTo>
                <a:lnTo>
                  <a:pt x="20215" y="21600"/>
                </a:lnTo>
                <a:lnTo>
                  <a:pt x="20215" y="21600"/>
                </a:lnTo>
                <a:lnTo>
                  <a:pt x="0" y="21600"/>
                </a:lnTo>
                <a:lnTo>
                  <a:pt x="1385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向右箭號 10"/>
          <p:cNvSpPr/>
          <p:nvPr/>
        </p:nvSpPr>
        <p:spPr>
          <a:xfrm rot="2032800">
            <a:off x="209160" y="1808280"/>
            <a:ext cx="2521080" cy="431640"/>
          </a:xfrm>
          <a:custGeom>
            <a:avLst/>
            <a:gdLst>
              <a:gd name="textAreaLeft" fmla="*/ 226800 w 2521080"/>
              <a:gd name="textAreaRight" fmla="*/ 2294280 w 2521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向右箭號 11"/>
          <p:cNvSpPr/>
          <p:nvPr/>
        </p:nvSpPr>
        <p:spPr>
          <a:xfrm rot="20367600">
            <a:off x="442800" y="4286160"/>
            <a:ext cx="2519640" cy="432000"/>
          </a:xfrm>
          <a:custGeom>
            <a:avLst/>
            <a:gdLst>
              <a:gd name="textAreaLeft" fmla="*/ 226800 w 2519640"/>
              <a:gd name="textAreaRight" fmla="*/ 2293200 w 2519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向右箭號 12"/>
          <p:cNvSpPr/>
          <p:nvPr/>
        </p:nvSpPr>
        <p:spPr>
          <a:xfrm>
            <a:off x="0" y="3500280"/>
            <a:ext cx="2521080" cy="432000"/>
          </a:xfrm>
          <a:custGeom>
            <a:avLst/>
            <a:gdLst>
              <a:gd name="textAreaLeft" fmla="*/ 226800 w 2521080"/>
              <a:gd name="textAreaRight" fmla="*/ 2294280 w 2521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向右箭號 13"/>
          <p:cNvSpPr/>
          <p:nvPr/>
        </p:nvSpPr>
        <p:spPr>
          <a:xfrm flipH="1" rot="19185000">
            <a:off x="5841000" y="3335400"/>
            <a:ext cx="2520720" cy="431640"/>
          </a:xfrm>
          <a:custGeom>
            <a:avLst/>
            <a:gdLst>
              <a:gd name="textAreaLeft" fmla="*/ 226800 w 2520720"/>
              <a:gd name="textAreaRight" fmla="*/ 2293920 w 2520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向右箭號 15"/>
          <p:cNvSpPr/>
          <p:nvPr/>
        </p:nvSpPr>
        <p:spPr>
          <a:xfrm flipH="1">
            <a:off x="6622920" y="5357880"/>
            <a:ext cx="2306880" cy="431640"/>
          </a:xfrm>
          <a:custGeom>
            <a:avLst/>
            <a:gdLst>
              <a:gd name="textAreaLeft" fmla="*/ 226800 w 2306880"/>
              <a:gd name="textAreaRight" fmla="*/ 2080080 w 23068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5" y="0"/>
                </a:lnTo>
                <a:lnTo>
                  <a:pt x="19475" y="0"/>
                </a:lnTo>
                <a:lnTo>
                  <a:pt x="21600" y="10800"/>
                </a:lnTo>
                <a:lnTo>
                  <a:pt x="19475" y="21600"/>
                </a:lnTo>
                <a:lnTo>
                  <a:pt x="19475" y="21600"/>
                </a:lnTo>
                <a:lnTo>
                  <a:pt x="0" y="21600"/>
                </a:lnTo>
                <a:lnTo>
                  <a:pt x="2125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燕尾形向右箭號 16"/>
          <p:cNvSpPr/>
          <p:nvPr/>
        </p:nvSpPr>
        <p:spPr>
          <a:xfrm flipH="1" rot="20749800">
            <a:off x="6954120" y="4241880"/>
            <a:ext cx="1846440" cy="431640"/>
          </a:xfrm>
          <a:custGeom>
            <a:avLst/>
            <a:gdLst>
              <a:gd name="textAreaLeft" fmla="*/ 226800 w 1846440"/>
              <a:gd name="textAreaRight" fmla="*/ 1619640 w 1846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7" y="0"/>
                </a:lnTo>
                <a:lnTo>
                  <a:pt x="18947" y="0"/>
                </a:lnTo>
                <a:lnTo>
                  <a:pt x="21600" y="10800"/>
                </a:lnTo>
                <a:lnTo>
                  <a:pt x="18947" y="21600"/>
                </a:lnTo>
                <a:lnTo>
                  <a:pt x="18947" y="21600"/>
                </a:lnTo>
                <a:lnTo>
                  <a:pt x="0" y="21600"/>
                </a:lnTo>
                <a:lnTo>
                  <a:pt x="2653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橢圓 17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橢圓 18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橢圓 19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橢圓 20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21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429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365-ADEA-4B43-A927-A034A96A2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543560" y="1643040"/>
            <a:ext cx="4600440" cy="5214960"/>
          </a:xfrm>
          <a:prstGeom prst="rect">
            <a:avLst/>
          </a:prstGeom>
          <a:ln w="0">
            <a:noFill/>
          </a:ln>
        </p:spPr>
      </p:pic>
      <p:sp>
        <p:nvSpPr>
          <p:cNvPr id="143" name="橢圓 3"/>
          <p:cNvSpPr/>
          <p:nvPr/>
        </p:nvSpPr>
        <p:spPr>
          <a:xfrm>
            <a:off x="6000840" y="37861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字方塊 4"/>
          <p:cNvSpPr/>
          <p:nvPr/>
        </p:nvSpPr>
        <p:spPr>
          <a:xfrm rot="3461400">
            <a:off x="6531840" y="5059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橢圓 14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橢圓 15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橢圓 16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橢圓 17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橢圓 18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甜甜圈 19"/>
          <p:cNvSpPr/>
          <p:nvPr/>
        </p:nvSpPr>
        <p:spPr>
          <a:xfrm>
            <a:off x="500040" y="2357280"/>
            <a:ext cx="4319640" cy="4319640"/>
          </a:xfrm>
          <a:custGeom>
            <a:avLst/>
            <a:gdLst>
              <a:gd name="textAreaLeft" fmla="*/ 632520 w 4319640"/>
              <a:gd name="textAreaRight" fmla="*/ 3687120 w 4319640"/>
              <a:gd name="textAreaTop" fmla="*/ 632520 h 4319640"/>
              <a:gd name="textAreaBottom" fmla="*/ 36871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410" y="10800"/>
                </a:moveTo>
                <a:cubicBezTo>
                  <a:pt x="2410" y="15434"/>
                  <a:pt x="6166" y="19190"/>
                  <a:pt x="10800" y="19190"/>
                </a:cubicBezTo>
                <a:cubicBezTo>
                  <a:pt x="15434" y="19190"/>
                  <a:pt x="19190" y="15434"/>
                  <a:pt x="19190" y="10800"/>
                </a:cubicBezTo>
                <a:cubicBezTo>
                  <a:pt x="19190" y="6166"/>
                  <a:pt x="15434" y="2410"/>
                  <a:pt x="10800" y="2410"/>
                </a:cubicBezTo>
                <a:cubicBezTo>
                  <a:pt x="6166" y="2410"/>
                  <a:pt x="2410" y="6166"/>
                  <a:pt x="2410" y="10800"/>
                </a:cubicBezTo>
                <a:close/>
              </a:path>
            </a:pathLst>
          </a:cu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甜甜圈 20"/>
          <p:cNvSpPr/>
          <p:nvPr/>
        </p:nvSpPr>
        <p:spPr>
          <a:xfrm>
            <a:off x="1252440" y="3159000"/>
            <a:ext cx="2880000" cy="2880000"/>
          </a:xfrm>
          <a:custGeom>
            <a:avLst/>
            <a:gdLst>
              <a:gd name="textAreaLeft" fmla="*/ 421560 w 2880000"/>
              <a:gd name="textAreaRight" fmla="*/ 2458440 w 2880000"/>
              <a:gd name="textAreaTop" fmla="*/ 421560 h 2880000"/>
              <a:gd name="textAreaBottom" fmla="*/ 245844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410" y="10800"/>
                </a:moveTo>
                <a:cubicBezTo>
                  <a:pt x="2410" y="15434"/>
                  <a:pt x="6166" y="19190"/>
                  <a:pt x="10800" y="19190"/>
                </a:cubicBezTo>
                <a:cubicBezTo>
                  <a:pt x="15434" y="19190"/>
                  <a:pt x="19190" y="15434"/>
                  <a:pt x="19190" y="10800"/>
                </a:cubicBezTo>
                <a:cubicBezTo>
                  <a:pt x="19190" y="6166"/>
                  <a:pt x="15434" y="2410"/>
                  <a:pt x="10800" y="2410"/>
                </a:cubicBezTo>
                <a:cubicBezTo>
                  <a:pt x="6166" y="2410"/>
                  <a:pt x="2410" y="6166"/>
                  <a:pt x="2410" y="10800"/>
                </a:cubicBezTo>
                <a:close/>
              </a:path>
            </a:pathLst>
          </a:cu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甜甜圈 21"/>
          <p:cNvSpPr/>
          <p:nvPr/>
        </p:nvSpPr>
        <p:spPr>
          <a:xfrm>
            <a:off x="1967040" y="3824280"/>
            <a:ext cx="1439640" cy="1440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9880" y="1675800"/>
            <a:ext cx="2268720" cy="681840"/>
            <a:chOff x="389880" y="1675800"/>
            <a:chExt cx="2268720" cy="681840"/>
          </a:xfrm>
        </p:grpSpPr>
        <p:cxnSp>
          <p:nvCxnSpPr>
            <p:cNvPr id="154" name="肘形接點 23"/>
            <p:cNvCxnSpPr/>
            <p:nvPr/>
          </p:nvCxnSpPr>
          <p:spPr>
            <a:xfrm flipH="1" flipV="1">
              <a:off x="389880" y="1675800"/>
              <a:ext cx="2269080" cy="68148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55" name=""/>
            <p:cNvSpPr txBox="1"/>
            <p:nvPr/>
          </p:nvSpPr>
          <p:spPr>
            <a:xfrm rot="5400000">
              <a:off x="1183680" y="882720"/>
              <a:ext cx="680760" cy="22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13480" y="2571480"/>
            <a:ext cx="1459440" cy="1008360"/>
            <a:chOff x="213480" y="2571480"/>
            <a:chExt cx="1459440" cy="1008360"/>
          </a:xfrm>
        </p:grpSpPr>
        <p:cxnSp>
          <p:nvCxnSpPr>
            <p:cNvPr id="157" name="肘形接點 32"/>
            <p:cNvCxnSpPr/>
            <p:nvPr/>
          </p:nvCxnSpPr>
          <p:spPr>
            <a:xfrm flipH="1" flipV="1">
              <a:off x="213480" y="2571480"/>
              <a:ext cx="1459800" cy="100872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58" name=""/>
            <p:cNvSpPr txBox="1"/>
            <p:nvPr/>
          </p:nvSpPr>
          <p:spPr>
            <a:xfrm rot="5400000">
              <a:off x="438840" y="2346120"/>
              <a:ext cx="1008000" cy="145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94640" y="5052960"/>
            <a:ext cx="2662920" cy="1448280"/>
            <a:chOff x="3194640" y="5052960"/>
            <a:chExt cx="2662920" cy="1448280"/>
          </a:xfrm>
        </p:grpSpPr>
        <p:cxnSp>
          <p:nvCxnSpPr>
            <p:cNvPr id="160" name="肘形接點 37"/>
            <p:cNvCxnSpPr/>
            <p:nvPr/>
          </p:nvCxnSpPr>
          <p:spPr>
            <a:xfrm>
              <a:off x="3194640" y="5052960"/>
              <a:ext cx="2662560" cy="144864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61" name=""/>
            <p:cNvSpPr txBox="1"/>
            <p:nvPr/>
          </p:nvSpPr>
          <p:spPr>
            <a:xfrm rot="16200000">
              <a:off x="3802320" y="4445640"/>
              <a:ext cx="1447920" cy="266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163" name="直線接點 12"/>
          <p:cNvSpPr/>
          <p:nvPr/>
        </p:nvSpPr>
        <p:spPr>
          <a:xfrm>
            <a:off x="214200" y="4572000"/>
            <a:ext cx="1143000" cy="64296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429080" y="1638360"/>
            <a:ext cx="471636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橢圓 3"/>
          <p:cNvSpPr/>
          <p:nvPr/>
        </p:nvSpPr>
        <p:spPr>
          <a:xfrm>
            <a:off x="7246800" y="33577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字方塊 4"/>
          <p:cNvSpPr/>
          <p:nvPr/>
        </p:nvSpPr>
        <p:spPr>
          <a:xfrm rot="2300400">
            <a:off x="7833960" y="4186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橢圓 5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橢圓 6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橢圓 7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橢圓 8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橢圓 9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接點 15"/>
          <p:cNvSpPr/>
          <p:nvPr/>
        </p:nvSpPr>
        <p:spPr>
          <a:xfrm flipV="1">
            <a:off x="1357200" y="4214880"/>
            <a:ext cx="2143080" cy="100008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線接點 19"/>
          <p:cNvSpPr/>
          <p:nvPr/>
        </p:nvSpPr>
        <p:spPr>
          <a:xfrm>
            <a:off x="3499560" y="4214880"/>
            <a:ext cx="1071720" cy="128592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線接點 21"/>
          <p:cNvSpPr/>
          <p:nvPr/>
        </p:nvSpPr>
        <p:spPr>
          <a:xfrm flipV="1">
            <a:off x="4572000" y="4572000"/>
            <a:ext cx="1785960" cy="9288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線接點 24"/>
          <p:cNvSpPr/>
          <p:nvPr/>
        </p:nvSpPr>
        <p:spPr>
          <a:xfrm>
            <a:off x="6357960" y="4572000"/>
            <a:ext cx="1071720" cy="85716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橢圓 10"/>
          <p:cNvSpPr/>
          <p:nvPr/>
        </p:nvSpPr>
        <p:spPr>
          <a:xfrm>
            <a:off x="1000080" y="4786200"/>
            <a:ext cx="720720" cy="720720"/>
          </a:xfrm>
          <a:prstGeom prst="ellipse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橢圓 11"/>
          <p:cNvSpPr/>
          <p:nvPr/>
        </p:nvSpPr>
        <p:spPr>
          <a:xfrm>
            <a:off x="3214800" y="3929040"/>
            <a:ext cx="539640" cy="539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橢圓 26"/>
          <p:cNvSpPr/>
          <p:nvPr/>
        </p:nvSpPr>
        <p:spPr>
          <a:xfrm>
            <a:off x="6215040" y="4357800"/>
            <a:ext cx="360360" cy="360360"/>
          </a:xfrm>
          <a:prstGeom prst="ellipse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橢圓 27"/>
          <p:cNvSpPr/>
          <p:nvPr/>
        </p:nvSpPr>
        <p:spPr>
          <a:xfrm>
            <a:off x="4336920" y="5194440"/>
            <a:ext cx="449280" cy="449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28"/>
          <p:cNvSpPr/>
          <p:nvPr/>
        </p:nvSpPr>
        <p:spPr>
          <a:xfrm>
            <a:off x="793080" y="5643720"/>
            <a:ext cx="1172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29"/>
          <p:cNvSpPr/>
          <p:nvPr/>
        </p:nvSpPr>
        <p:spPr>
          <a:xfrm>
            <a:off x="2864880" y="3429000"/>
            <a:ext cx="1172880" cy="36828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30"/>
          <p:cNvSpPr/>
          <p:nvPr/>
        </p:nvSpPr>
        <p:spPr>
          <a:xfrm>
            <a:off x="3936240" y="5857920"/>
            <a:ext cx="1172880" cy="36828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31"/>
          <p:cNvSpPr/>
          <p:nvPr/>
        </p:nvSpPr>
        <p:spPr>
          <a:xfrm>
            <a:off x="5865120" y="3929040"/>
            <a:ext cx="1172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8:11Z</dcterms:created>
  <dc:creator>An</dc:creator>
  <dc:description/>
  <dc:language>en-US</dc:language>
  <cp:lastModifiedBy/>
  <dcterms:modified xsi:type="dcterms:W3CDTF">2015-07-11T09:29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