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56.gif" ContentType="image/gif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B8A-197A-41C6-988A-58273A6F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2F5-ADED-4C64-850B-3B9B5410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FE3-B73B-4E18-A40B-B61EC163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7CD-028D-410E-BBC2-90B4DBA5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260-457D-40A5-B7E3-05A1328A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2FC-9052-4739-92A6-EABF57E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CF0-1151-4267-8E4F-464377B2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FC0-08A1-4DA1-A397-66DA5C7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C16-83B5-4533-B324-FB51BE2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7C4-546B-4848-98B5-0EA9684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193-C58C-4570-A083-96928BA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F54-E76E-489B-B060-CF94887D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3941-C39E-487B-B51A-9993E8C3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19162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金梅毛隸書"/>
              </a:rPr>
              <a:t>中國民間工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4724280"/>
            <a:ext cx="327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cc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新細明體"/>
              </a:rPr>
              <a:t>剪紙</a:t>
            </a:r>
            <a:endParaRPr b="0" lang="en-US" sz="6000" spc="-1" strike="noStrike">
              <a:ln w="0">
                <a:noFill/>
              </a:ln>
              <a:solidFill>
                <a:srgbClr val="cc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22856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DFKai-SB"/>
              </a:rPr>
              <a:t>皮影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49532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040" y="1905120"/>
            <a:ext cx="2971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DFKai-SB"/>
              </a:rPr>
              <a:t>蠟染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352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製作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DFKai-SB"/>
              </a:rPr>
              <a:t>摺疊剪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製作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DFKai-SB"/>
              </a:rPr>
              <a:t>平鋪剪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114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製作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DFKai-SB"/>
              </a:rPr>
              <a:t>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DFKai-SB"/>
              </a:rPr>
              <a:t>刻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2743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裝飾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DFKai-SB"/>
              </a:rPr>
              <a:t>單色剪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202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46479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裝飾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DFKai-SB"/>
              </a:rPr>
              <a:t>銅襯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DFKai-SB"/>
              </a:rPr>
              <a:t>剪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DFKai-SB"/>
              </a:rPr>
              <a:t>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3276360"/>
            <a:ext cx="30477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裝飾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填</a:t>
            </a: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DFKai-SB"/>
              </a:rPr>
              <a:t>色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28526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裝飾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DFKai-SB"/>
              </a:rPr>
              <a:t>襯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DFKai-SB"/>
              </a:rPr>
              <a:t>色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DFKai-SB"/>
              </a:rPr>
              <a:t>剪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DFKai-SB"/>
              </a:rPr>
              <a:t>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44720" y="623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裝飾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點染剪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084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金梅毛隸書"/>
              </a:rPr>
              <a:t>是什麼作品</a:t>
            </a:r>
            <a:r>
              <a:rPr b="1" lang="zh-CN" sz="6000" spc="-1" strike="noStrike">
                <a:solidFill>
                  <a:srgbClr val="3366ff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15712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111456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057400" y="762120"/>
            <a:ext cx="2523960" cy="161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143000" y="685800"/>
            <a:ext cx="693720" cy="1954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金梅毛隸書"/>
              </a:rPr>
              <a:t>你曾否看過以上這些作品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59280" y="4834080"/>
            <a:ext cx="26985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題材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山水風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4419720" cy="34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74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題材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蟲鳥花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284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題材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魚獸古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14460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3124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題材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人物仕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05320" y="19810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題材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吉祥圖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84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題材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神話傳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49532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金梅毛隸書"/>
              </a:rPr>
              <a:t>中國剪紙—類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14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題材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民間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00"/>
                </a:solidFill>
                <a:latin typeface="Times New Roman"/>
                <a:ea typeface="金梅毛隸書"/>
              </a:rPr>
              <a:t>中國剪紙—特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5050"/>
                </a:solidFill>
                <a:latin typeface="Times New Roman"/>
                <a:ea typeface="DFKai-SB"/>
              </a:rPr>
              <a:t>單彩與多彩的運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DFKai-SB"/>
              </a:rPr>
              <a:t>加</a:t>
            </a:r>
            <a:r>
              <a:rPr b="1" lang="zh-TW" sz="2800" spc="-1" strike="noStrike">
                <a:solidFill>
                  <a:srgbClr val="ff9933"/>
                </a:solidFill>
                <a:latin typeface="Times New Roman"/>
                <a:ea typeface="DFKai-SB"/>
              </a:rPr>
              <a:t>重圖案裝飾效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9900"/>
                </a:solidFill>
                <a:latin typeface="Times New Roman"/>
                <a:ea typeface="DFKai-SB"/>
              </a:rPr>
              <a:t>佈白得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668760" cy="3962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30481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00"/>
                </a:solidFill>
                <a:latin typeface="Times New Roman"/>
                <a:ea typeface="金梅毛隸書"/>
              </a:rPr>
              <a:t>中國剪紙—特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9880" y="2057400"/>
            <a:ext cx="479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DFKai-SB"/>
              </a:rPr>
              <a:t>雕刻、繪畫與圖案結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DFKai-SB"/>
              </a:rPr>
              <a:t>將三度空間平面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1393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00"/>
                </a:solidFill>
                <a:latin typeface="Times New Roman"/>
                <a:ea typeface="金梅毛隸書"/>
              </a:rPr>
              <a:t>中國剪紙—特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401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DFKai-SB"/>
              </a:rPr>
              <a:t>獨立與多幅併合二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800" y="2351160"/>
            <a:ext cx="4114800" cy="3645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410080" y="3429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Times New Roman"/>
                <a:ea typeface="金梅毛隸書"/>
              </a:rPr>
              <a:t>中國剪紙—起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年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Times New Roman"/>
                <a:ea typeface="DFKai-SB"/>
              </a:rPr>
              <a:t>正確源起，無從稽考（紙張保存不易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DFKai-SB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DFKai-SB"/>
              </a:rPr>
              <a:t>東漢時已具雛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Times New Roman"/>
                <a:ea typeface="DFKai-SB"/>
              </a:rPr>
              <a:t>流行於晉、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DFKai-SB"/>
              </a:rPr>
              <a:t>自宋至清，是鼎盛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DFKai-SB"/>
              </a:rPr>
              <a:t>現今仍廣泛流傳於中國多省郡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65760" y="2141640"/>
            <a:ext cx="3809880" cy="35193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7816680" y="115920"/>
            <a:ext cx="1219320" cy="1295280"/>
            <a:chOff x="7816680" y="115920"/>
            <a:chExt cx="1219320" cy="1295280"/>
          </a:xfrm>
        </p:grpSpPr>
        <p:sp>
          <p:nvSpPr>
            <p:cNvPr id="55" name=""/>
            <p:cNvSpPr/>
            <p:nvPr/>
          </p:nvSpPr>
          <p:spPr>
            <a:xfrm>
              <a:off x="7816680" y="115920"/>
              <a:ext cx="1219320" cy="12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45280" y="344520"/>
              <a:ext cx="762120" cy="838080"/>
            </a:xfrm>
            <a:prstGeom prst="su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0200" y="268200"/>
              <a:ext cx="15228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02480" y="649440"/>
              <a:ext cx="3808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68960" y="649440"/>
              <a:ext cx="3812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50200" y="878040"/>
              <a:ext cx="15228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00"/>
                </a:solidFill>
                <a:latin typeface="Times New Roman"/>
                <a:ea typeface="金梅毛隸書"/>
              </a:rPr>
              <a:t>中國剪紙—特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65480" y="1735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DFKai-SB"/>
              </a:rPr>
              <a:t>具地方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286000"/>
          <a:ext cx="7772400" cy="39783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DFKai-SB"/>
                          <a:ea typeface="DFKai-SB"/>
                        </a:rPr>
                        <a:t>安徽、江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DFKai-SB"/>
                          <a:ea typeface="DFKai-SB"/>
                        </a:rPr>
                        <a:t>浙江、廣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DFKai-SB"/>
                          <a:ea typeface="DFKai-SB"/>
                        </a:rPr>
                        <a:t>山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DFKai-SB"/>
                          <a:ea typeface="DFKai-SB"/>
                        </a:rPr>
                        <a:t>吉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DFKai-SB"/>
                          <a:ea typeface="DFKai-SB"/>
                        </a:rPr>
                        <a:t>陝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DFKai-SB"/>
                          <a:ea typeface="DFKai-SB"/>
                        </a:rPr>
                        <a:t>陝南、山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1371600" cy="138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114444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1143000" cy="1227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943600" y="2362320"/>
            <a:ext cx="116208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943600" y="4952880"/>
            <a:ext cx="101772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7162920" y="49528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4648320" y="2438280"/>
            <a:ext cx="1143000" cy="1189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7162920" y="2362320"/>
            <a:ext cx="1218960" cy="1328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3352680" y="2438280"/>
            <a:ext cx="1219320" cy="1189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3352680" y="4952880"/>
            <a:ext cx="1219320" cy="1195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4572000" y="5105520"/>
            <a:ext cx="1219320" cy="10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1981080" y="5029200"/>
            <a:ext cx="12193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Times New Roman"/>
                <a:ea typeface="金梅毛隸書"/>
              </a:rPr>
              <a:t>中國剪紙練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對摺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1774800" cy="3429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038480" y="2743200"/>
            <a:ext cx="34527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Times New Roman"/>
                <a:ea typeface="金梅毛隸書"/>
              </a:rPr>
              <a:t>中國剪紙練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三摺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171612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06240" y="1981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六摺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81480" y="2971800"/>
            <a:ext cx="1166760" cy="217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2157480" cy="2157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324480" y="2971800"/>
            <a:ext cx="1984320" cy="217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18288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386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99"/>
                </a:solidFill>
                <a:latin typeface="Times New Roman"/>
                <a:ea typeface="DFKai-SB"/>
              </a:rPr>
              <a:t>窗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22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99"/>
                </a:solidFill>
                <a:latin typeface="Times New Roman"/>
                <a:ea typeface="DFKai-SB"/>
              </a:rPr>
              <a:t>燈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39680" y="1676520"/>
            <a:ext cx="452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18960" y="1828440"/>
            <a:ext cx="2819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Times New Roman"/>
                <a:ea typeface="DFKai-SB"/>
              </a:rPr>
              <a:t>鞋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cc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2895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1828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Times New Roman"/>
                <a:ea typeface="DFKai-SB"/>
              </a:rPr>
              <a:t>帽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59120" y="1828800"/>
            <a:ext cx="4470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455292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790960" y="1905120"/>
            <a:ext cx="243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ff"/>
                </a:solidFill>
                <a:latin typeface="Times New Roman"/>
                <a:ea typeface="DFKai-SB"/>
              </a:rPr>
              <a:t>喜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金梅毛隸書"/>
              </a:rPr>
              <a:t>中國剪紙—應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4120" y="1904760"/>
            <a:ext cx="2666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用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Times New Roman"/>
                <a:ea typeface="DFKai-SB"/>
              </a:rPr>
              <a:t>春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2:18Z</dcterms:created>
  <dc:creator/>
  <dc:description/>
  <cp:keywords>民间 工艺</cp:keywords>
  <dc:language>en-US</dc:language>
  <cp:lastModifiedBy/>
  <dcterms:modified xsi:type="dcterms:W3CDTF">2015-07-09T13:22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