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7F45-6FF4-4B17-A367-B9E3E45E9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A644-9686-4470-8AE3-6C116C24D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294E-DF43-462E-958B-AD41BB349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A406-016B-46F4-B0A1-21288BDD7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BB7F-880A-4AC4-8E7B-663261915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3D19-AF4C-4F19-862D-348A7F859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DACA-1F7E-488E-9B8D-724350A03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C37A-16CF-4403-81EE-840EA996B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31F1-FF80-4084-A82D-74C237B5E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C18E-E33E-428E-A4F2-822B527C0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DD0F-BCB6-48D6-9FBD-B600DFCDF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D0B4-DF46-4248-A8EA-800B322DC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58F3-624D-4665-A873-66EFBD56DA47}" type="slidenum">
              <a:rPr b="0" lang="en-US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0"/>
            <a:ext cx="918180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">
            <a:hlinkClick r:id="rId3"/>
          </p:cNvPr>
          <p:cNvSpPr/>
          <p:nvPr/>
        </p:nvSpPr>
        <p:spPr>
          <a:xfrm>
            <a:off x="42480" y="6523200"/>
            <a:ext cx="2129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69696"/>
                </a:solidFill>
                <a:latin typeface="Gulim"/>
              </a:rPr>
              <a:t>Copyright © by ARTCOM PT All rights reserved.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"/>
          <p:cNvSpPr/>
          <p:nvPr/>
        </p:nvSpPr>
        <p:spPr>
          <a:xfrm>
            <a:off x="-9360" y="6553080"/>
            <a:ext cx="91440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"/>
          <p:cNvSpPr/>
          <p:nvPr/>
        </p:nvSpPr>
        <p:spPr>
          <a:xfrm>
            <a:off x="6134040" y="492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com.co.kr/online/ppt_gallery_1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63080" cy="4873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">
            <a:hlinkClick r:id="rId2"/>
          </p:cNvPr>
          <p:cNvSpPr/>
          <p:nvPr/>
        </p:nvSpPr>
        <p:spPr>
          <a:xfrm>
            <a:off x="2921040" y="4235400"/>
            <a:ext cx="330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2349360"/>
            <a:ext cx="6310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紫色飘逸艺术风格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6B52-5E56-41AB-A7D3-49B529F244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"/>
          <p:cNvSpPr/>
          <p:nvPr/>
        </p:nvSpPr>
        <p:spPr>
          <a:xfrm>
            <a:off x="178560" y="28728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PowerPoint Template_Sub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1AF9-480F-466D-9625-CD7CE204D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/>
  <dc:description/>
  <dc:language>en-US</dc:language>
  <cp:lastModifiedBy/>
  <dcterms:modified xsi:type="dcterms:W3CDTF">2015-07-09T10:56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