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063-6223-4795-B21E-59323553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3CE-C36C-4660-B691-722FE855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5B7-46A8-4A17-A217-CCB55025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C6F-0526-4176-9214-86B07B2B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1FC-6376-4238-AC8D-80421542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6B3-6AA8-442C-AD50-4943DF18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433-8018-4281-933B-9DFEDA0E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823-E20F-4189-8BBD-E4F6C871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D20-BB20-4860-83C6-8FEA4E10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7EB-2722-409D-8904-48CE727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A38-CDAC-4DEF-B359-10EE97C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430-C3E4-4658-BA0C-3E0780A8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793-DFFB-491F-8DE1-45646233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2349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5320" y="1270080"/>
            <a:ext cx="31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用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6" name="矩形 14"/>
            <p:cNvSpPr/>
            <p:nvPr/>
          </p:nvSpPr>
          <p:spPr>
            <a:xfrm>
              <a:off x="5076000" y="7153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49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313-22A1-4B80-9D5C-1C66D0119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62" name="矩形 4" descr=""/>
          <p:cNvPicPr/>
          <p:nvPr/>
        </p:nvPicPr>
        <p:blipFill>
          <a:blip r:embed="rId3"/>
          <a:stretch/>
        </p:blipFill>
        <p:spPr>
          <a:xfrm>
            <a:off x="2498760" y="2255760"/>
            <a:ext cx="4852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admin</dc:creator>
  <dc:description/>
  <dc:language>en-US</dc:language>
  <cp:lastModifiedBy>lenovo</cp:lastModifiedBy>
  <dcterms:modified xsi:type="dcterms:W3CDTF">2015-07-11T14:37:48Z</dcterms:modified>
  <cp:revision>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