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249-C454-4D13-A8FE-AC6F79D2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2B9-F421-4CEA-85CA-78C6246D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8A78-E3D9-4DD2-8C0A-732C216A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C10-BDFD-4B54-A2C6-26300D0D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7C6-D214-48A3-992C-6F56C99E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D84-D816-441A-A857-F1C952C0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04C-E906-45D5-8403-FCF9D38D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66E-735F-4CE7-8E92-A4D81CB4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8B6-A02A-4294-8E5F-600B80A5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18E-11CB-47B6-86CC-BBBDA844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28C-C285-451D-8D5B-F1DBAED2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C90-5E4B-4243-BB2B-6D3399D8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E888-8EE1-40F7-98BC-2764A175F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《自由报表的编制》说课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PPT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X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职业中专学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三）、分层教学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3090960"/>
          <a:ext cx="7772400" cy="1893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90960"/>
                    <a:ext cx="777240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46"/>
            </a:gs>
            <a:gs pos="50000">
              <a:srgbClr val="00cc99"/>
            </a:gs>
            <a:gs pos="100000">
              <a:srgbClr val="005e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（四）、直观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Times New Roman"/>
              </a:rPr>
              <a:t>利用多媒体演示教学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324240" y="2746440"/>
          <a:ext cx="26305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4240" y="2746440"/>
                    <a:ext cx="26305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04920" y="28195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971800"/>
            <a:ext cx="82296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Times New Roman"/>
              </a:rPr>
              <a:t>（五）、开展讨论式教学，促进学生创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开展讨论，让学生有充分施展才能的机会，大胆发表与教师或课本不同的看法，培养学生善于独立思考和创造性解决问题的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Times New Roman"/>
              </a:rPr>
              <a:t>四、说学法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一）、课前预习，学会质疑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二）、笔记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三）、小组讨论，合作学习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四）、发展创新思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一）、课前预习，学会质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86000" y="1981080"/>
            <a:ext cx="63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Times New Roman"/>
              </a:rPr>
              <a:t>（二）、笔记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4920" y="1447920"/>
            <a:ext cx="6705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古人说：“好记性不如烂笔头”。把自学思考所得的答案和教师讲述的重点记在笔记本上，不但为课堂的发言提供了依据，也为日后的复学做好了准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三）、小组讨论，合作学习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（四）、发展创新思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14400" y="3287880"/>
            <a:ext cx="7772400" cy="11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五、说教学程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（一）、提出问题，激发学生求知欲望，引入课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（二）、运用比较法，引导学生理解自由报表的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（三）、再次质疑，直奔重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（四）、步步质疑，突破重难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（五）、归纳小结，提炼精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（六）、教师总结，拓展延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（七）、布置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一）、提出问题，激发学生求知欲望，引入课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问题：除了已学的固定报表，还有其他报表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先让学生思考，然后教师利用多媒体演示各种会计报表，创设问题情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教师引导学生产生结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教师板书课题：自由报表的编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548640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21600" h="21600">
                <a:moveTo>
                  <a:pt x="11911" y="14300"/>
                </a:moveTo>
                <a:lnTo>
                  <a:pt x="11911" y="12331"/>
                </a:lnTo>
                <a:cubicBezTo>
                  <a:pt x="11911" y="11500"/>
                  <a:pt x="12244" y="10800"/>
                  <a:pt x="12848" y="10800"/>
                </a:cubicBezTo>
                <a:cubicBezTo>
                  <a:pt x="13985" y="10800"/>
                  <a:pt x="14886" y="9426"/>
                  <a:pt x="14886" y="7834"/>
                </a:cubicBezTo>
                <a:cubicBezTo>
                  <a:pt x="14886" y="5506"/>
                  <a:pt x="13023" y="3756"/>
                  <a:pt x="10800" y="3756"/>
                </a:cubicBezTo>
                <a:cubicBezTo>
                  <a:pt x="8578" y="3756"/>
                  <a:pt x="6898" y="5506"/>
                  <a:pt x="6898" y="7834"/>
                </a:cubicBezTo>
                <a:lnTo>
                  <a:pt x="8761" y="7834"/>
                </a:lnTo>
                <a:cubicBezTo>
                  <a:pt x="8761" y="6688"/>
                  <a:pt x="9689" y="5795"/>
                  <a:pt x="10800" y="5795"/>
                </a:cubicBezTo>
                <a:cubicBezTo>
                  <a:pt x="11911" y="5795"/>
                  <a:pt x="12848" y="6688"/>
                  <a:pt x="12848" y="7834"/>
                </a:cubicBezTo>
                <a:cubicBezTo>
                  <a:pt x="12848" y="8578"/>
                  <a:pt x="12375" y="9313"/>
                  <a:pt x="11911" y="9313"/>
                </a:cubicBezTo>
                <a:cubicBezTo>
                  <a:pt x="10800" y="9313"/>
                  <a:pt x="9689" y="10800"/>
                  <a:pt x="9689" y="12331"/>
                </a:cubicBezTo>
                <a:lnTo>
                  <a:pt x="9689" y="143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F13-8B6C-4256-9FDF-09C529A0A8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（二）、运用比较法，引导学生理解自由报表的概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首先让学生思考两个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）、什么叫自由报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）、固定报表与自由报表有什么异同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然后教师适时加以引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最后学生得出结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通过比较，让学生加深对自由报表概念的理解，同时也为重难点的突破埋下伏笔，学生通过回顾固定报表的编制步骤和方法，联想到自由报表的编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1523880"/>
            <a:ext cx="1214280" cy="12146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303480 h 1214640"/>
              <a:gd name="textAreaBottom" fmla="*/ 911160 h 12146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一、说教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23619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一）、教材地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二）、教学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三）、教学重点与难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四）、教具准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三）、再次质疑，直奔重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、先让学生思考：自由报表在什么系统编制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、教师引导学生动手操作，进入报表选择窗口，学生通过观察、思考。得出结论：与固定报表同样在报表处理系统编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、教师对结论进行肯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、再让学生思考：自由报表与固定报表的编制方法也一样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、教师提示：固定报表的格式，数据单元，取数公式已根据会计制度的统一要求在初始化时建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、引导学生得出结论：自由报表必须由制表人自行设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30492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21600" h="21600">
                <a:moveTo>
                  <a:pt x="11911" y="14300"/>
                </a:moveTo>
                <a:lnTo>
                  <a:pt x="11911" y="12331"/>
                </a:lnTo>
                <a:cubicBezTo>
                  <a:pt x="11911" y="11500"/>
                  <a:pt x="12244" y="10800"/>
                  <a:pt x="12848" y="10800"/>
                </a:cubicBezTo>
                <a:cubicBezTo>
                  <a:pt x="13985" y="10800"/>
                  <a:pt x="14886" y="9426"/>
                  <a:pt x="14886" y="7834"/>
                </a:cubicBezTo>
                <a:cubicBezTo>
                  <a:pt x="14886" y="5506"/>
                  <a:pt x="13023" y="3756"/>
                  <a:pt x="10800" y="3756"/>
                </a:cubicBezTo>
                <a:cubicBezTo>
                  <a:pt x="8578" y="3756"/>
                  <a:pt x="6898" y="5506"/>
                  <a:pt x="6898" y="7834"/>
                </a:cubicBezTo>
                <a:lnTo>
                  <a:pt x="8761" y="7834"/>
                </a:lnTo>
                <a:cubicBezTo>
                  <a:pt x="8761" y="6688"/>
                  <a:pt x="9689" y="5795"/>
                  <a:pt x="10800" y="5795"/>
                </a:cubicBezTo>
                <a:cubicBezTo>
                  <a:pt x="11911" y="5795"/>
                  <a:pt x="12848" y="6688"/>
                  <a:pt x="12848" y="7834"/>
                </a:cubicBezTo>
                <a:cubicBezTo>
                  <a:pt x="12848" y="8578"/>
                  <a:pt x="12375" y="9313"/>
                  <a:pt x="11911" y="9313"/>
                </a:cubicBezTo>
                <a:cubicBezTo>
                  <a:pt x="10800" y="9313"/>
                  <a:pt x="9689" y="10800"/>
                  <a:pt x="9689" y="12331"/>
                </a:cubicBezTo>
                <a:lnTo>
                  <a:pt x="9689" y="143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四）、步步质疑，突破重难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怎样制作一张符合要求的新的自由报表的格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先让学生探究讨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学生发现问题：“增加”按钮呈灰色怎么办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这时教师不急着给学生答案，先引导学生看书，让学生自己找到解决问题的办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教师评价学生的看法，并肯定正确的答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然后让学生根据对话框的提示，自己设计一张符合要求的“自由报表”格式。这时教师在屏幕上出示例表。如：管理费用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引导学生根据例表设置表格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6857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533412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21600" h="21600">
                <a:moveTo>
                  <a:pt x="11911" y="14300"/>
                </a:moveTo>
                <a:lnTo>
                  <a:pt x="11911" y="12331"/>
                </a:lnTo>
                <a:cubicBezTo>
                  <a:pt x="11911" y="11500"/>
                  <a:pt x="12244" y="10800"/>
                  <a:pt x="12848" y="10800"/>
                </a:cubicBezTo>
                <a:cubicBezTo>
                  <a:pt x="13985" y="10800"/>
                  <a:pt x="14886" y="9426"/>
                  <a:pt x="14886" y="7834"/>
                </a:cubicBezTo>
                <a:cubicBezTo>
                  <a:pt x="14886" y="5506"/>
                  <a:pt x="13023" y="3756"/>
                  <a:pt x="10800" y="3756"/>
                </a:cubicBezTo>
                <a:cubicBezTo>
                  <a:pt x="8578" y="3756"/>
                  <a:pt x="6898" y="5506"/>
                  <a:pt x="6898" y="7834"/>
                </a:cubicBezTo>
                <a:lnTo>
                  <a:pt x="8761" y="7834"/>
                </a:lnTo>
                <a:cubicBezTo>
                  <a:pt x="8761" y="6688"/>
                  <a:pt x="9689" y="5795"/>
                  <a:pt x="10800" y="5795"/>
                </a:cubicBezTo>
                <a:cubicBezTo>
                  <a:pt x="11911" y="5795"/>
                  <a:pt x="12848" y="6688"/>
                  <a:pt x="12848" y="7834"/>
                </a:cubicBezTo>
                <a:cubicBezTo>
                  <a:pt x="12848" y="8578"/>
                  <a:pt x="12375" y="9313"/>
                  <a:pt x="11911" y="9313"/>
                </a:cubicBezTo>
                <a:cubicBezTo>
                  <a:pt x="10800" y="9313"/>
                  <a:pt x="9689" y="10800"/>
                  <a:pt x="9689" y="12331"/>
                </a:cubicBezTo>
                <a:lnTo>
                  <a:pt x="9689" y="143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18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1523880" y="1752480"/>
          <a:ext cx="6553080" cy="52322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981080"/>
              </a:tblGrid>
              <a:tr h="622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金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项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发生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本月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本年累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水电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办公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差旅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折旧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。。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523880" y="4572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管理费用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四）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如何对自由报表进行编制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先让学生思考，然后让学生回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引导学生在必要的表格栏中输入文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自由报表中的数据来源何处？如何自动取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引导学生思考：手工制作的自由报表数据来源何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学生通过回顾就知道结论：报表数据来源帐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让学生讨论：如何自动取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先引导学生思考：固定报表是如何自动取数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学生通过反思就知道结论：设定取数公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560" y="6857640"/>
            <a:ext cx="8839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53352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21600" h="21600">
                <a:moveTo>
                  <a:pt x="11911" y="14300"/>
                </a:moveTo>
                <a:lnTo>
                  <a:pt x="11911" y="12331"/>
                </a:lnTo>
                <a:cubicBezTo>
                  <a:pt x="11911" y="11500"/>
                  <a:pt x="12244" y="10800"/>
                  <a:pt x="12848" y="10800"/>
                </a:cubicBezTo>
                <a:cubicBezTo>
                  <a:pt x="13985" y="10800"/>
                  <a:pt x="14886" y="9426"/>
                  <a:pt x="14886" y="7834"/>
                </a:cubicBezTo>
                <a:cubicBezTo>
                  <a:pt x="14886" y="5506"/>
                  <a:pt x="13023" y="3756"/>
                  <a:pt x="10800" y="3756"/>
                </a:cubicBezTo>
                <a:cubicBezTo>
                  <a:pt x="8578" y="3756"/>
                  <a:pt x="6898" y="5506"/>
                  <a:pt x="6898" y="7834"/>
                </a:cubicBezTo>
                <a:lnTo>
                  <a:pt x="8761" y="7834"/>
                </a:lnTo>
                <a:cubicBezTo>
                  <a:pt x="8761" y="6688"/>
                  <a:pt x="9689" y="5795"/>
                  <a:pt x="10800" y="5795"/>
                </a:cubicBezTo>
                <a:cubicBezTo>
                  <a:pt x="11911" y="5795"/>
                  <a:pt x="12848" y="6688"/>
                  <a:pt x="12848" y="7834"/>
                </a:cubicBezTo>
                <a:cubicBezTo>
                  <a:pt x="12848" y="8578"/>
                  <a:pt x="12375" y="9313"/>
                  <a:pt x="11911" y="9313"/>
                </a:cubicBezTo>
                <a:cubicBezTo>
                  <a:pt x="10800" y="9313"/>
                  <a:pt x="9689" y="10800"/>
                  <a:pt x="9689" y="12331"/>
                </a:cubicBezTo>
                <a:lnTo>
                  <a:pt x="9689" y="143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四）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教师对学生分层要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引导优生直接输入取数公式，提高输入速度。引导中下生利用公式向导一步一步设置取数公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提示学生：设置公式后必须保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5791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1219320"/>
            <a:ext cx="1062000" cy="75708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5029200"/>
            <a:ext cx="1143000" cy="102888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55627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800 h 914400"/>
              <a:gd name="textAreaBottom" fmla="*/ 79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  <a:lnTo>
                  <a:pt x="21600" y="20196"/>
                </a:lnTo>
                <a:cubicBezTo>
                  <a:pt x="18000" y="25170"/>
                  <a:pt x="14400" y="15222"/>
                  <a:pt x="10800" y="20196"/>
                </a:cubicBezTo>
                <a:cubicBezTo>
                  <a:pt x="7200" y="25170"/>
                  <a:pt x="3600" y="15222"/>
                  <a:pt x="0" y="2019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四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自由报表中的数据如何自动计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、引导学生思考：固定报表中的数据是如何自动计算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、学生很快得出结论：选择“数据”菜单中的“计算”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、然后教师对学生的结论给予肯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6857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609480"/>
            <a:ext cx="1042920" cy="104328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3280"/>
              <a:gd name="textAreaBottom" fmla="*/ 97812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50" y="20257"/>
                </a:lnTo>
                <a:lnTo>
                  <a:pt x="20250" y="135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350" y="20257"/>
                </a:lnTo>
                <a:lnTo>
                  <a:pt x="20250" y="2025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7"/>
                </a:lnTo>
                <a:close/>
              </a:path>
              <a:path fill="darken" w="21600" h="21607">
                <a:moveTo>
                  <a:pt x="10800" y="14829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21600" h="21607">
                <a:moveTo>
                  <a:pt x="11911" y="14304"/>
                </a:moveTo>
                <a:lnTo>
                  <a:pt x="11911" y="12335"/>
                </a:lnTo>
                <a:cubicBezTo>
                  <a:pt x="11911" y="11504"/>
                  <a:pt x="12244" y="10804"/>
                  <a:pt x="12848" y="10804"/>
                </a:cubicBezTo>
                <a:cubicBezTo>
                  <a:pt x="13985" y="10804"/>
                  <a:pt x="14886" y="9430"/>
                  <a:pt x="14886" y="7837"/>
                </a:cubicBezTo>
                <a:cubicBezTo>
                  <a:pt x="14886" y="5510"/>
                  <a:pt x="13023" y="3760"/>
                  <a:pt x="10800" y="3760"/>
                </a:cubicBezTo>
                <a:cubicBezTo>
                  <a:pt x="8578" y="3760"/>
                  <a:pt x="6898" y="5510"/>
                  <a:pt x="6898" y="7837"/>
                </a:cubicBezTo>
                <a:lnTo>
                  <a:pt x="8761" y="7837"/>
                </a:lnTo>
                <a:cubicBezTo>
                  <a:pt x="8761" y="6691"/>
                  <a:pt x="9689" y="5799"/>
                  <a:pt x="10800" y="5799"/>
                </a:cubicBezTo>
                <a:cubicBezTo>
                  <a:pt x="11911" y="5799"/>
                  <a:pt x="12848" y="6691"/>
                  <a:pt x="12848" y="7837"/>
                </a:cubicBezTo>
                <a:cubicBezTo>
                  <a:pt x="12848" y="8581"/>
                  <a:pt x="12375" y="9316"/>
                  <a:pt x="11911" y="9316"/>
                </a:cubicBezTo>
                <a:cubicBezTo>
                  <a:pt x="10800" y="9316"/>
                  <a:pt x="9689" y="10804"/>
                  <a:pt x="9689" y="12335"/>
                </a:cubicBezTo>
                <a:lnTo>
                  <a:pt x="9689" y="1430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54100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52578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5105520"/>
            <a:ext cx="914400" cy="914400"/>
          </a:xfrm>
          <a:custGeom>
            <a:avLst/>
            <a:gdLst>
              <a:gd name="textAreaLeft" fmla="*/ 214560 w 914400"/>
              <a:gd name="textAreaRight" fmla="*/ 699840 w 914400"/>
              <a:gd name="textAreaTop" fmla="*/ 214560 h 914400"/>
              <a:gd name="textAreaBottom" fmla="*/ 699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四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如何打印输出自由报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引导学生思考：固定报表是如何打印输出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学生马上明白：选择“文件”菜单中的“打印”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教师对学生得出的结论给予肯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至此，通过创设问题情境，让学生主动参与教学活动，充分发挥学生的主体地位。通过师生互动，突破本节课重难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6857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144792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21600" h="21600">
                <a:moveTo>
                  <a:pt x="11911" y="14300"/>
                </a:moveTo>
                <a:lnTo>
                  <a:pt x="11911" y="12331"/>
                </a:lnTo>
                <a:cubicBezTo>
                  <a:pt x="11911" y="11500"/>
                  <a:pt x="12244" y="10800"/>
                  <a:pt x="12848" y="10800"/>
                </a:cubicBezTo>
                <a:cubicBezTo>
                  <a:pt x="13985" y="10800"/>
                  <a:pt x="14886" y="9426"/>
                  <a:pt x="14886" y="7834"/>
                </a:cubicBezTo>
                <a:cubicBezTo>
                  <a:pt x="14886" y="5506"/>
                  <a:pt x="13023" y="3756"/>
                  <a:pt x="10800" y="3756"/>
                </a:cubicBezTo>
                <a:cubicBezTo>
                  <a:pt x="8578" y="3756"/>
                  <a:pt x="6898" y="5506"/>
                  <a:pt x="6898" y="7834"/>
                </a:cubicBezTo>
                <a:lnTo>
                  <a:pt x="8761" y="7834"/>
                </a:lnTo>
                <a:cubicBezTo>
                  <a:pt x="8761" y="6688"/>
                  <a:pt x="9689" y="5795"/>
                  <a:pt x="10800" y="5795"/>
                </a:cubicBezTo>
                <a:cubicBezTo>
                  <a:pt x="11911" y="5795"/>
                  <a:pt x="12848" y="6688"/>
                  <a:pt x="12848" y="7834"/>
                </a:cubicBezTo>
                <a:cubicBezTo>
                  <a:pt x="12848" y="8578"/>
                  <a:pt x="12375" y="9313"/>
                  <a:pt x="11911" y="9313"/>
                </a:cubicBezTo>
                <a:cubicBezTo>
                  <a:pt x="10800" y="9313"/>
                  <a:pt x="9689" y="10800"/>
                  <a:pt x="9689" y="12331"/>
                </a:cubicBezTo>
                <a:lnTo>
                  <a:pt x="9689" y="143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"/>
          </p:cNvPr>
          <p:cNvSpPr/>
          <p:nvPr/>
        </p:nvSpPr>
        <p:spPr>
          <a:xfrm>
            <a:off x="838080" y="609480"/>
            <a:ext cx="1043280" cy="1043280"/>
          </a:xfrm>
          <a:custGeom>
            <a:avLst/>
            <a:gdLst>
              <a:gd name="textAreaLeft" fmla="*/ 65160 w 1043280"/>
              <a:gd name="textAreaRight" fmla="*/ 978120 w 1043280"/>
              <a:gd name="textAreaTop" fmla="*/ 65160 h 1043280"/>
              <a:gd name="textAreaBottom" fmla="*/ 97812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8394"/>
                </a:moveTo>
                <a:lnTo>
                  <a:pt x="8210" y="8394"/>
                </a:lnTo>
                <a:lnTo>
                  <a:pt x="12655" y="3756"/>
                </a:lnTo>
                <a:lnTo>
                  <a:pt x="12655" y="17844"/>
                </a:lnTo>
                <a:lnTo>
                  <a:pt x="8210" y="13206"/>
                </a:lnTo>
                <a:lnTo>
                  <a:pt x="3756" y="13206"/>
                </a:lnTo>
                <a:close/>
              </a:path>
              <a:path fill="darken" w="21600" h="21600">
                <a:moveTo>
                  <a:pt x="14318" y="10800"/>
                </a:moveTo>
                <a:lnTo>
                  <a:pt x="17844" y="10800"/>
                </a:lnTo>
              </a:path>
              <a:path fill="darken" w="21600" h="21600">
                <a:moveTo>
                  <a:pt x="14318" y="8394"/>
                </a:moveTo>
                <a:lnTo>
                  <a:pt x="17844" y="5611"/>
                </a:lnTo>
              </a:path>
              <a:path fill="darken" w="21600" h="21600">
                <a:moveTo>
                  <a:pt x="14318" y="13206"/>
                </a:moveTo>
                <a:lnTo>
                  <a:pt x="17844" y="15989"/>
                </a:lnTo>
              </a:path>
            </a:pathLst>
          </a:custGeom>
          <a:solidFill>
            <a:srgbClr val="00cc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（五）、归纳小结，提炼精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04560" y="205740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让学生交流讨论：自由报表的编制有哪些步骤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通过分组讨论后，各组选派代表交流结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教师对结论作出评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9907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86600" y="487692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25780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5562720"/>
            <a:ext cx="1214280" cy="7617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2232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（六）、教师总结，拓展延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Times New Roman"/>
              </a:rPr>
              <a:t>引导学生思考是否还有其他编制自由报表的方法？让学生实践操作，培养学生的创新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（七）、布置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根据考试软件中的题目编制自由报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一）、教材地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《会计电算化》是中等职业教育财经类国家规划教材会计专业的课程，《自由报表的编制》是《初级会计电算化教程》第十章会计报表子系统第三节的教学内容，该节总课时三课时，我说的是第三课时，自由报表是会计部门提供会计信息的主要形式之一，是会计电算化考试系统的内容之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六、说板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按并列和总分的方法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762120"/>
            <a:ext cx="830592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一）自由报表的概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二）自由报表的编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自由报表的制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自由报表的编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报表取数公式的设置和保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自由报表数据的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自由报表的打印输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三）总结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四）布置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251460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400"/>
                </a:lnTo>
                <a:lnTo>
                  <a:pt x="21600" y="10800"/>
                </a:lnTo>
                <a:lnTo>
                  <a:pt x="18900" y="162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200"/>
                </a:lnTo>
                <a:lnTo>
                  <a:pt x="0" y="10800"/>
                </a:lnTo>
                <a:lnTo>
                  <a:pt x="2700" y="54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1447920"/>
            <a:ext cx="885600" cy="8809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62720" y="9144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3809880"/>
            <a:ext cx="609480" cy="914400"/>
          </a:xfrm>
          <a:prstGeom prst="down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286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33720" y="3049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自由报表的编制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962520" y="9144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二）、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065320"/>
            <a:ext cx="82296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三）、教学重点与难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由报表的制作、编辑、公式的设置与保存，数据的计算和报表的打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4017960"/>
          <a:ext cx="777240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017960"/>
                    <a:ext cx="77724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755640" y="2997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二、学前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765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生已掌握了固定报表编制的方法和步骤，具有编制固定报表的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、说教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440" y="31237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一）、提出问题，引导学生解决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二）、比较分析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三）、分层教学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四）、直观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五）、开展讨论式教学，促进学生创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574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育理论指出，选择教学方法一定要遵循教学有法教无定法，贵在得法的原则，本课采用以下几种教学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1337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一）、提出问题，引导学生解决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3639960"/>
          <a:ext cx="7772400" cy="7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639960"/>
                    <a:ext cx="777240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Times New Roman"/>
              </a:rPr>
              <a:t>（二）、比较分析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把自由报表的编制与固定报表的编制的异同点进行比较，深化理解自由报表的概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03:50Z</dcterms:created>
  <dc:creator/>
  <dc:description/>
  <cp:keywords>自由报表 编制</cp:keywords>
  <dc:language>en-US</dc:language>
  <cp:lastModifiedBy/>
  <dcterms:modified xsi:type="dcterms:W3CDTF">2015-07-11T14:46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