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EC8-22E7-4983-B769-3D357840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17CA-92E0-478B-9E95-44BC0C7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85FB-78A2-4FD7-873C-1CE4F746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A37-69A4-409F-83D7-C32B8B89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745-2941-4335-9B66-4942F8A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F933-9FE7-4F64-94B1-C6D988FF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913-7BC1-457C-83E4-F3E05E2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E6F5-1C26-4ABC-928F-4309E18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BF6-0465-4CCC-956B-3CC7134D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533-8E54-43A8-92F9-24058F2B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7F6-4822-4A6D-9838-2527D12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F27-4FD7-46C7-93AB-A46170B3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063A-CC5D-422E-8516-3837C5833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《珍珠鸟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3056400" y="519120"/>
            <a:ext cx="27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师大版五年级语文下册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479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ccffff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05120" y="1197000"/>
            <a:ext cx="16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珍珠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件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信赖，往往创造出美好的境界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0" y="3809880"/>
            <a:ext cx="9601200" cy="2105280"/>
            <a:chOff x="0" y="3809880"/>
            <a:chExt cx="9601200" cy="2105280"/>
          </a:xfrm>
        </p:grpSpPr>
        <p:sp>
          <p:nvSpPr>
            <p:cNvPr id="72" name="Text Box 4"/>
            <p:cNvSpPr/>
            <p:nvPr/>
          </p:nvSpPr>
          <p:spPr>
            <a:xfrm>
              <a:off x="0" y="3809880"/>
              <a:ext cx="7467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因为我（                      ）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雏儿离我        （               ），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457200" y="5333760"/>
              <a:ext cx="57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雏儿的表现（                 ）。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6"/>
            <p:cNvGrpSpPr/>
            <p:nvPr/>
          </p:nvGrpSpPr>
          <p:grpSpPr>
            <a:xfrm>
              <a:off x="5410080" y="3962160"/>
              <a:ext cx="4191120" cy="1676160"/>
              <a:chOff x="5410080" y="3962160"/>
              <a:chExt cx="4191120" cy="1676160"/>
            </a:xfrm>
          </p:grpSpPr>
          <p:grpSp>
            <p:nvGrpSpPr>
              <p:cNvPr id="75" name="Group 7"/>
              <p:cNvGrpSpPr/>
              <p:nvPr/>
            </p:nvGrpSpPr>
            <p:grpSpPr>
              <a:xfrm>
                <a:off x="5410080" y="3962160"/>
                <a:ext cx="533160" cy="1676160"/>
                <a:chOff x="5410080" y="3962160"/>
                <a:chExt cx="533160" cy="1676160"/>
              </a:xfrm>
            </p:grpSpPr>
            <p:sp>
              <p:nvSpPr>
                <p:cNvPr id="76" name="Line 8"/>
                <p:cNvSpPr/>
                <p:nvPr/>
              </p:nvSpPr>
              <p:spPr>
                <a:xfrm>
                  <a:off x="5562360" y="3962160"/>
                  <a:ext cx="380880" cy="838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Line 9"/>
                <p:cNvSpPr/>
                <p:nvPr/>
              </p:nvSpPr>
              <p:spPr>
                <a:xfrm flipV="1">
                  <a:off x="5410080" y="4799880"/>
                  <a:ext cx="495360" cy="838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Text Box 10"/>
              <p:cNvSpPr/>
              <p:nvPr/>
            </p:nvSpPr>
            <p:spPr>
              <a:xfrm>
                <a:off x="6232320" y="4363920"/>
                <a:ext cx="336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体会到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（        ）。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AutoShape 11"/>
          <p:cNvSpPr/>
          <p:nvPr/>
        </p:nvSpPr>
        <p:spPr>
          <a:xfrm>
            <a:off x="838080" y="2743200"/>
            <a:ext cx="685800" cy="990720"/>
          </a:xfrm>
          <a:prstGeom prst="down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b701b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7238880" y="2819520"/>
            <a:ext cx="533520" cy="1371600"/>
          </a:xfrm>
          <a:prstGeom prst="downArrow">
            <a:avLst>
              <a:gd name="adj1" fmla="val 50000"/>
              <a:gd name="adj2" fmla="val 64271"/>
            </a:avLst>
          </a:prstGeom>
          <a:gradFill rotWithShape="0">
            <a:gsLst>
              <a:gs pos="0">
                <a:srgbClr val="fb731f"/>
              </a:gs>
              <a:gs pos="100000">
                <a:srgbClr val="74350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75120" y="167652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信赖，往往创造出美好的境界。”在你看来，为了在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自然、人与人之间创造这种境界，我们应该做些什么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04920" y="38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2760" y="320760"/>
            <a:ext cx="22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Times New Roman"/>
              </a:rPr>
              <a:t>课外扩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808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28600" y="327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1995840" y="3038400"/>
            <a:ext cx="52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将自己对珍珠鸟的喜爱之情融注在对珍珠鸟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写之中，把 人的灵性赋予无知的小鸟。请仿照这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写一个状物的片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02000" y="-139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99"/>
                </a:solidFill>
                <a:latin typeface="Times New Roman"/>
                <a:ea typeface="隶书"/>
              </a:rPr>
              <a:t>汉语知识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46560" y="609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名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46880" y="1219320"/>
            <a:ext cx="5514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人或事物（包括具体事物、抽象事物、时间、处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位等）的名称的词叫名词。如人、书本、语文、数学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具体事物；科学、理想、见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表示抽象事物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、星期日、早上、去年等是表示时间的，外面、里头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方、上面等是表示处所的，东、西、前、后、中间等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方位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328480" y="3886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中的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32680" y="4495680"/>
            <a:ext cx="12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好！朋友送我一对珍珠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个月后，那一团越发茂盛的绿蔓里边，发出一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尖细又娇嫩的鸣叫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333080" y="571500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名词：朋友    你   里边   珍珠鸟     月    绿蔓     鸣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7760" y="6172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找出第三自然段的所有名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官方logo副本"/>
          <p:cNvPicPr/>
          <p:nvPr/>
        </p:nvPicPr>
        <p:blipFill>
          <a:blip r:embed="rId2"/>
          <a:stretch/>
        </p:blipFill>
        <p:spPr>
          <a:xfrm>
            <a:off x="728964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313-4B8F-4C8F-A287-EC552E2C2B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50520" y="196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898800" y="958680"/>
            <a:ext cx="14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动作行为、发展变化、心理活动、可能意愿等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0240" y="21780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找出下列句子里的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829880" y="2809800"/>
            <a:ext cx="522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很少扒开叶蔓瞧它们，它们便渐渐敢伸出小脑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瞅瞅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渐渐它胆子大了，就落在我的书桌上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046160" y="4486320"/>
            <a:ext cx="46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动词：扒开     瞧     伸出    瞅瞅   敢   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84000" y="51498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八自然段所有动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71840" y="272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是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04920" y="1143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308400" y="95868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示事物的形状、性质、状态等的词叫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356200" y="18730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下列句子中的形容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3036600" y="2505240"/>
            <a:ext cx="301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，它完全放心了，索性用那涂了蜡似的、角质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嘴，“嗒嗒”啄着我颤动的笔尖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77640" y="3724200"/>
            <a:ext cx="13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描 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245600" y="4387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请找出第七自然段的所有形容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872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3048120" y="2997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图象 1 in 珍珠鸟 副本"/>
          <p:cNvPicPr/>
          <p:nvPr/>
        </p:nvPicPr>
        <p:blipFill>
          <a:blip r:embed="rId1"/>
          <a:stretch/>
        </p:blipFill>
        <p:spPr>
          <a:xfrm>
            <a:off x="1143000" y="1219320"/>
            <a:ext cx="6934320" cy="47498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943600" cy="4211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048120" y="5335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珍珠鸟</a:t>
            </a:r>
            <a:endParaRPr b="1" lang="en-US" sz="2800" spc="1" strike="noStrike">
              <a:ln cap="sq"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504000" y="92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99"/>
                </a:solidFill>
                <a:latin typeface="Times New Roman"/>
              </a:rPr>
              <a:t>问题研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738600" y="2971800"/>
            <a:ext cx="16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文章在开始部分用单独一段强调珍珠鸟“是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怕人的鸟”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810080" y="1143000"/>
            <a:ext cx="5593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朗读课文，画出文中交代“我”的举动的语句。说说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的努力下，“我”和珍珠鸟之间的信赖关系是怎样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步建立起来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930480" y="4410000"/>
            <a:ext cx="123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作者在对小鸟神态、动作的描写之中融入了自己的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爱之情。请从文章中选择一两个例子，加以分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685800" y="18572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珍珠鸟在“我”的照料与呵护下发生了哪些变化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5800" y="3533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作者写这篇文章想告诉我们什么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762120" y="533520"/>
            <a:ext cx="34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读后想一想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BD21427_"/>
          <p:cNvPicPr/>
          <p:nvPr/>
        </p:nvPicPr>
        <p:blipFill>
          <a:blip r:embed="rId1"/>
          <a:stretch/>
        </p:blipFill>
        <p:spPr>
          <a:xfrm>
            <a:off x="990720" y="5291280"/>
            <a:ext cx="73911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9"/>
          <p:cNvSpPr txBox="1"/>
          <p:nvPr/>
        </p:nvSpPr>
        <p:spPr>
          <a:xfrm>
            <a:off x="762120" y="3284640"/>
            <a:ext cx="231444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信赖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62" name="Picture 4" descr="金山珍珠"/>
          <p:cNvPicPr/>
          <p:nvPr/>
        </p:nvPicPr>
        <p:blipFill>
          <a:blip r:embed="rId3"/>
          <a:stretch/>
        </p:blipFill>
        <p:spPr>
          <a:xfrm>
            <a:off x="2805120" y="0"/>
            <a:ext cx="6338880" cy="4492800"/>
          </a:xfrm>
          <a:prstGeom prst="rect">
            <a:avLst/>
          </a:prstGeom>
          <a:ln w="0">
            <a:noFill/>
          </a:ln>
        </p:spPr>
      </p:pic>
      <p:sp>
        <p:nvSpPr>
          <p:cNvPr id="63" name="WordArt 6"/>
          <p:cNvSpPr txBox="1"/>
          <p:nvPr/>
        </p:nvSpPr>
        <p:spPr>
          <a:xfrm>
            <a:off x="685800" y="15318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信赖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WordArt 7"/>
          <p:cNvSpPr txBox="1"/>
          <p:nvPr/>
        </p:nvSpPr>
        <p:spPr>
          <a:xfrm>
            <a:off x="838080" y="4884840"/>
            <a:ext cx="8001000" cy="12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往往创造出美好的境界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85800" y="2446200"/>
            <a:ext cx="231444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信赖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6" name=""/>
          <p:cNvSpPr/>
          <p:nvPr/>
        </p:nvSpPr>
        <p:spPr>
          <a:xfrm>
            <a:off x="3492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-1"/>
          <p:cNvPicPr/>
          <p:nvPr/>
        </p:nvPicPr>
        <p:blipFill>
          <a:blip r:embed="rId1"/>
          <a:stretch/>
        </p:blipFill>
        <p:spPr>
          <a:xfrm>
            <a:off x="2268360" y="1557360"/>
            <a:ext cx="46771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B-2"/>
          <p:cNvPicPr/>
          <p:nvPr/>
        </p:nvPicPr>
        <p:blipFill>
          <a:blip r:embed="rId1"/>
          <a:stretch/>
        </p:blipFill>
        <p:spPr>
          <a:xfrm>
            <a:off x="2268360" y="1557360"/>
            <a:ext cx="46785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-3"/>
          <p:cNvPicPr/>
          <p:nvPr/>
        </p:nvPicPr>
        <p:blipFill>
          <a:blip r:embed="rId1"/>
          <a:stretch/>
        </p:blipFill>
        <p:spPr>
          <a:xfrm>
            <a:off x="2268360" y="1557360"/>
            <a:ext cx="46785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09:20:54Z</dcterms:created>
  <dc:creator>An</dc:creator>
  <dc:description/>
  <dc:language>en-US</dc:language>
  <cp:lastModifiedBy/>
  <dcterms:modified xsi:type="dcterms:W3CDTF">2015-07-11T14:11:4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