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4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9.gif" ContentType="image/gif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0419-1F30-4F3D-B9C3-0B4D244D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7606-687A-4874-8F23-1C62EEDF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3DD6-1493-4A76-B44B-6644BE59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AFF9-ED9C-4C6B-A1AF-AC7472D0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05D2-1641-4602-A4F0-0E5D4570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398B-1860-44B1-9D9C-FA8C05D4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D288-2A60-4EF0-AF9F-9FF264F6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0919-E6E5-42FF-9B19-8A8104BF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1DC3-E6B6-4586-9E51-C876B4F9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07C9-8211-4D3B-B85C-29B767E8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28F2-FF97-4AE3-AFE5-951BB0C0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8AED-E249-40C4-8FF8-5E506D5A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3819-3AE1-48F9-92F1-D9794A062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9" descr="29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34"/>
          <p:cNvSpPr/>
          <p:nvPr/>
        </p:nvSpPr>
        <p:spPr>
          <a:xfrm>
            <a:off x="1116000" y="5516640"/>
            <a:ext cx="280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1" descr=""/>
          <p:cNvPicPr/>
          <p:nvPr/>
        </p:nvPicPr>
        <p:blipFill>
          <a:blip r:embed="rId2"/>
          <a:srcRect l="1120" t="0" r="1273" b="0"/>
          <a:stretch/>
        </p:blipFill>
        <p:spPr>
          <a:xfrm>
            <a:off x="1930320" y="2565360"/>
            <a:ext cx="5289480" cy="4014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492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15720" y="105408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珍珠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-280080" y="3429000"/>
            <a:ext cx="18262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不管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971640" y="1773360"/>
            <a:ext cx="57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0" y="2133720"/>
            <a:ext cx="20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4788000" y="386064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不管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26" descr="21"/>
          <p:cNvPicPr/>
          <p:nvPr/>
        </p:nvPicPr>
        <p:blipFill>
          <a:blip r:embed="rId1"/>
          <a:stretch/>
        </p:blipFill>
        <p:spPr>
          <a:xfrm>
            <a:off x="395280" y="260280"/>
            <a:ext cx="4108320" cy="2952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27" descr="22"/>
          <p:cNvPicPr/>
          <p:nvPr/>
        </p:nvPicPr>
        <p:blipFill>
          <a:blip r:embed="rId2"/>
          <a:stretch/>
        </p:blipFill>
        <p:spPr>
          <a:xfrm>
            <a:off x="4876920" y="304920"/>
            <a:ext cx="3940200" cy="2908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28" descr="23"/>
          <p:cNvPicPr/>
          <p:nvPr/>
        </p:nvPicPr>
        <p:blipFill>
          <a:blip r:embed="rId3"/>
          <a:stretch/>
        </p:blipFill>
        <p:spPr>
          <a:xfrm>
            <a:off x="4267080" y="3429000"/>
            <a:ext cx="4322880" cy="3067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29"/>
          <p:cNvSpPr/>
          <p:nvPr/>
        </p:nvSpPr>
        <p:spPr>
          <a:xfrm>
            <a:off x="971640" y="4869000"/>
            <a:ext cx="25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不管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30"/>
          <p:cNvSpPr/>
          <p:nvPr/>
        </p:nvSpPr>
        <p:spPr>
          <a:xfrm>
            <a:off x="971640" y="371628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宋体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MIN17147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684360" y="-38160"/>
            <a:ext cx="9828360" cy="6896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468360" y="62064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渐渐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它胆子大了，就落在我的书桌上。它先是离我较远，见我不去伤害它，便一点点挨近，然后蹦到我的杯子上，俯下头来喝茶，再偏过脸瞧瞧我的反应。我只是微微一笑，依旧写东西。它就放开胆子跑到稿纸上，绕着我的笔尖蹦来蹦去，跳动的小红爪子在纸上发出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嚓嚓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的响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不动声色的写，默默享受着这小家伙亲近的情意。这样，它完全放心了，索性用那涂了蜡似的小红嘴，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嗒嗒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啄着我颤动的笔尖。我用手抚一抚它细腻的绒毛，它也不怕，反而友好地啄两下我的手指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MIN17147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684360" y="-38160"/>
            <a:ext cx="9828360" cy="68961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468360" y="54936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渐渐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它胆子大了，就落在我的书桌上。它先是离我较远，见我不去伤害它，便一点点挨近，然后蹦到我的杯子上，俯下头来喝茶，再偏过脸瞧瞧我的反应。我只是微微一笑，依旧写东西。它就放开胆子跑到稿纸上，绕着我的笔尖蹦来蹦去，跳动的小红爪子在纸上发出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嚓嚓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的响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不动声色的写，默默享受着这小家伙亲近的情意。这样，它完全放心了，索性用那涂了蜡似的小红嘴，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嗒嗒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啄着我颤动的笔尖。我用手抚一抚它细腻的绒毛，它也不怕，反而友好地啄两下我的手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MIN17147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684360" y="-38160"/>
            <a:ext cx="9828360" cy="68961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539640" y="476280"/>
            <a:ext cx="80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b2b2b2"/>
                </a:solidFill>
                <a:latin typeface="楷体_GB2312"/>
                <a:ea typeface="楷体_GB2312"/>
              </a:rPr>
              <a:t>它先是离我较远，见我不去伤害它，便一点点挨近，然后蹦到我的杯子上，俯下头来喝茶，再偏过脸瞧瞧我的反应。我只是微微一笑，依旧写东西，它就放开胆子跑到稿纸上，绕着我的笔尖蹦来蹦去；跳动的小红爪子在纸上发出</a:t>
            </a:r>
            <a:r>
              <a:rPr b="1" lang="zh-CN" sz="3200" spc="-1" strike="noStrike">
                <a:solidFill>
                  <a:srgbClr val="b2b2b2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b2b2b2"/>
                </a:solidFill>
                <a:latin typeface="楷体_GB2312"/>
                <a:ea typeface="楷体_GB2312"/>
              </a:rPr>
              <a:t>嚓嚓</a:t>
            </a:r>
            <a:r>
              <a:rPr b="1" lang="zh-CN" sz="3200" spc="-1" strike="noStrike">
                <a:solidFill>
                  <a:srgbClr val="b2b2b2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b2b2b2"/>
                </a:solidFill>
                <a:latin typeface="楷体_GB2312"/>
                <a:ea typeface="楷体_GB2312"/>
              </a:rPr>
              <a:t>的响声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2b2b2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b2b2b2"/>
                </a:solidFill>
                <a:latin typeface="楷体_GB2312"/>
                <a:ea typeface="楷体_GB2312"/>
              </a:rPr>
              <a:t>我不动声色的写，默默享受着这小家伙亲近的情意。这样，它完全放心了。索性用那涂了蜡似的小红嘴，</a:t>
            </a:r>
            <a:r>
              <a:rPr b="1" lang="zh-CN" sz="3200" spc="-1" strike="noStrike">
                <a:solidFill>
                  <a:srgbClr val="b2b2b2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b2b2b2"/>
                </a:solidFill>
                <a:latin typeface="楷体_GB2312"/>
                <a:ea typeface="楷体_GB2312"/>
              </a:rPr>
              <a:t>嗒嗒</a:t>
            </a:r>
            <a:r>
              <a:rPr b="1" lang="zh-CN" sz="3200" spc="-1" strike="noStrike">
                <a:solidFill>
                  <a:srgbClr val="b2b2b2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b2b2b2"/>
                </a:solidFill>
                <a:latin typeface="楷体_GB2312"/>
                <a:ea typeface="楷体_GB2312"/>
              </a:rPr>
              <a:t>啄着我颤动的笔尖。我用手抚一抚它细腻的绒毛，它也不怕，反而友好地啄两下我的手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50920" y="1844640"/>
            <a:ext cx="8675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远离我</a:t>
            </a:r>
            <a:r>
              <a:rPr b="1" lang="zh-CN" sz="5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→</a:t>
            </a:r>
            <a:r>
              <a:rPr b="1" lang="zh-CN" sz="5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挨近我</a:t>
            </a:r>
            <a:r>
              <a:rPr b="1" lang="zh-CN" sz="5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→</a:t>
            </a:r>
            <a:r>
              <a:rPr b="1" lang="zh-CN" sz="5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喝我的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→</a:t>
            </a:r>
            <a:r>
              <a:rPr b="1" lang="zh-CN" sz="5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啄笔尖</a:t>
            </a:r>
            <a:r>
              <a:rPr b="1" lang="zh-CN" sz="5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→</a:t>
            </a:r>
            <a:r>
              <a:rPr b="1" lang="zh-CN" sz="5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啄手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-90360" y="5018040"/>
            <a:ext cx="18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MIN17147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684360" y="-38160"/>
            <a:ext cx="9828360" cy="68961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539640" y="54936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渐渐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它胆子大了，就落在我的书桌上。它先是离我较远，见我不去伤害它，便一点点挨近，然后蹦到我的杯子上，俯下头来喝茶，再偏过脸瞧瞧我的反应。我只是微微一笑，依旧写东西。它就放开胆子跑到稿纸上，绕着我的笔尖蹦来蹦去，跳动的小红爪子在纸上发出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嚓嚓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的响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不动声色的写，默默享受着这小家伙亲近的情意。这样，它完全放心了，索性用那涂了蜡似的小红嘴，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嗒嗒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啄着我颤动的笔尖。我用手抚一抚它细腻的绒毛，它也不怕，反而友好地啄两下我的手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258920" y="321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MIN17147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684360" y="-38160"/>
            <a:ext cx="9828360" cy="6896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539640" y="549360"/>
            <a:ext cx="8064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渐渐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它胆子大了，就落在我的书桌上。它先是离我较远，见我不去伤害它，便一点点挨近，然后蹦到我的杯子上，俯下头来喝茶，再偏过脸瞧瞧我的反应。我只是微微一笑，依旧写东西。它就放开胆子跑到稿纸上，绕着我的笔尖蹦来蹦去，跳动的小红爪子在纸上发出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嚓嚓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的响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动声色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的写，默默享受着这小家伙亲近的情意。这样，它完全放心了，索性用那涂了蜡似的小红嘴，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嗒嗒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啄着我颤动的笔尖。我用手抚一抚它细腻的绒毛，它也不怕，反而友好地啄两下我的手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MIN17147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684360" y="-38160"/>
            <a:ext cx="9828360" cy="6896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324000" y="62064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渐渐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它胆子大了，就落在我的书桌上。它先是离我较远，见我不去伤害它，便一点点挨近，然后蹦到我的杯子上，俯下头来喝茶，再偏过脸瞧瞧我的反应。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想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__________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；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只是微微一笑，依旧写东西。它就放开胆子跑到稿纸上，绕着我的笔尖蹦来蹦去，跳动的小红爪子在纸上发出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嚓嚓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的响声。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想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__________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不动声色的写，默默享受着这小家伙亲近的情意。这样，它完全放心了，索性用那涂了蜡似的小红嘴，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嗒嗒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啄着我颤动的笔尖。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想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___________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；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用手抚一抚它细腻的绒毛，它也不怕，反而友好地啄两下我的手指。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想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___________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MIN17147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684360" y="-38160"/>
            <a:ext cx="9828360" cy="68961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324000" y="549360"/>
            <a:ext cx="8642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渐渐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它胆子大了，就落在我的书桌上。它先是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较远，见我不去伤害它，便一点点挨近，然后蹦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的杯子上，俯下头来喝茶，再偏过脸瞧瞧我的反应。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想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__________</a:t>
            </a:r>
            <a:r>
              <a:rPr b="1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;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只是微微一笑，依旧写东西。它就放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胆子跑到稿纸上，绕着我的笔尖蹦来蹦去，跳动的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红爪子在纸上发出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嚓嚓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的响声。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想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___________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不动声色的写，默默享受着这小家伙亲近的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意。这样，它完全放心了，索性用那涂了蜡似的小红嘴，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嗒嗒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啄着我颤动的笔尖。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想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___________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；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手抚一抚它细腻的绒毛，它也不怕，反而友好地啄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下我的手指。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想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___________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一首优美的钢琴曲.wma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9" descr="29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3780000" y="2492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1" descr="3"/>
          <p:cNvPicPr/>
          <p:nvPr/>
        </p:nvPicPr>
        <p:blipFill>
          <a:blip r:embed="rId2"/>
          <a:stretch/>
        </p:blipFill>
        <p:spPr>
          <a:xfrm>
            <a:off x="539640" y="549360"/>
            <a:ext cx="8604360" cy="6443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826920" y="1413000"/>
            <a:ext cx="7775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两个黄鹂鸣翠柳，一行白鹭上青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留连戏蝶时时舞，自在娇莺恰恰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草长莺飞二月天，拂堤杨柳醉春烟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几处早莺争暖树，谁家新燕啄春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611280" y="549360"/>
            <a:ext cx="34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Arial"/>
                <a:ea typeface="楷体_GB2312"/>
              </a:rPr>
              <a:t>诗句欣赏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MIN17147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684360" y="-38160"/>
            <a:ext cx="9828360" cy="68961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684360" y="76500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先是离他较远，见他不去伤害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我</a:t>
            </a:r>
            <a:r>
              <a:rPr b="1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便一点点挨近，然后蹦到他的杯子上，俯下头来喝茶，再偏过脸瞧瞧他的反应。他只是微微一笑，依旧写东西。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就放开胆子跑到稿纸上，绕着他的笔尖蹦来蹦去，跳动的小红爪子在纸上发出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嚓嚓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的响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他不动声色的写，默默享受着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亲近的情意。这样，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完全放心了，索性用那涂了蜡似的小红嘴，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嗒嗒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啄着他颤动的笔尖。他用手抚一抚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细腻的绒毛，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也不怕，反而友好地啄两下他的手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92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MIN17147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684360" y="-38160"/>
            <a:ext cx="9828360" cy="68961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539640" y="1052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有一天，我伏案写作时，它居然落到我的肩上。我手中的笔不觉停了，生怕惊跑它。待一会儿，扭头看，这小家伙竟趴在我的肩头睡着了，银灰色的眼睑盖住眸子，小红爪子刚好被胸脯上长长的绒毛盖住。我轻轻抬一抬肩，它没醒，睡得好熟！还咂咂嘴，难道在做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2009311103191.mp3" descr=""/>
          <p:cNvPicPr/>
          <p:nvPr/>
        </p:nvPicPr>
        <p:blipFill>
          <a:blip r:embed="rId2"/>
          <a:stretch/>
        </p:blipFill>
        <p:spPr>
          <a:xfrm>
            <a:off x="-303120" y="6553080"/>
            <a:ext cx="3031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《珍珠鸟》插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MIN17147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684360" y="-38160"/>
            <a:ext cx="9828360" cy="68961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539640" y="1197000"/>
            <a:ext cx="8390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有一天，我伏案写作时，它居然落到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的肩上。我手中的笔不觉停了，生怕惊跑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待一会儿，扭头看，这小家伙竟趴在我的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头睡着了，银灰色的眼睑盖住眸子，小红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子刚好被胸脯上长长的绒毛盖住。我轻轻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一抬肩，它没醒，睡得好熟！还咂咂嘴，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道在做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《珍珠鸟》插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6"/>
          <p:cNvSpPr txBox="1"/>
          <p:nvPr/>
        </p:nvSpPr>
        <p:spPr>
          <a:xfrm>
            <a:off x="611280" y="1484280"/>
            <a:ext cx="23050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信赖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20" name="WordArt 9"/>
          <p:cNvSpPr txBox="1"/>
          <p:nvPr/>
        </p:nvSpPr>
        <p:spPr>
          <a:xfrm>
            <a:off x="539640" y="4149720"/>
            <a:ext cx="8001000" cy="12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往往创造出美好的境界</a:t>
            </a:r>
            <a:endParaRPr b="1" lang="en-US" sz="60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wheel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5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826920" y="1052640"/>
            <a:ext cx="32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95280" y="765000"/>
            <a:ext cx="8424720" cy="31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这是一篇叙事抒情的好散文，‘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头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’起得带劲，这‘劲’中有无限的喜乐；‘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尾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’收得有味，这‘味’中有深澈的哲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                                          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——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冰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                                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Arial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5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826920" y="1052640"/>
            <a:ext cx="32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755640" y="2349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信赖</a:t>
            </a:r>
            <a:r>
              <a:rPr b="1" lang="en-US" sz="5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,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__________________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8"/>
          <p:cNvSpPr txBox="1"/>
          <p:nvPr/>
        </p:nvSpPr>
        <p:spPr>
          <a:xfrm>
            <a:off x="1116000" y="615960"/>
            <a:ext cx="373392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真情流露：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3"/>
          <p:cNvPicPr/>
          <p:nvPr/>
        </p:nvPicPr>
        <p:blipFill>
          <a:blip r:embed="rId1"/>
          <a:stretch/>
        </p:blipFill>
        <p:spPr>
          <a:xfrm>
            <a:off x="0" y="9360"/>
            <a:ext cx="9323280" cy="6848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8edcb3038d80a3debc4af86"/>
          <p:cNvPicPr/>
          <p:nvPr/>
        </p:nvPicPr>
        <p:blipFill>
          <a:blip r:embed="rId2"/>
          <a:stretch/>
        </p:blipFill>
        <p:spPr>
          <a:xfrm>
            <a:off x="1042920" y="981000"/>
            <a:ext cx="7128000" cy="4845240"/>
          </a:xfrm>
          <a:prstGeom prst="rect">
            <a:avLst/>
          </a:prstGeom>
          <a:ln w="0">
            <a:noFill/>
          </a:ln>
        </p:spPr>
      </p:pic>
      <p:pic>
        <p:nvPicPr>
          <p:cNvPr id="130" name="2009311103191.mp3" descr=""/>
          <p:cNvPicPr/>
          <p:nvPr/>
        </p:nvPicPr>
        <p:blipFill>
          <a:blip r:embed="rId3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2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3"/>
          <p:cNvPicPr/>
          <p:nvPr/>
        </p:nvPicPr>
        <p:blipFill>
          <a:blip r:embed="rId1"/>
          <a:stretch/>
        </p:blipFill>
        <p:spPr>
          <a:xfrm>
            <a:off x="0" y="9360"/>
            <a:ext cx="9323280" cy="6848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77ddad866601191b67096e35"/>
          <p:cNvPicPr/>
          <p:nvPr/>
        </p:nvPicPr>
        <p:blipFill>
          <a:blip r:embed="rId2"/>
          <a:stretch/>
        </p:blipFill>
        <p:spPr>
          <a:xfrm>
            <a:off x="1116000" y="836640"/>
            <a:ext cx="7129440" cy="5253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1440_61_1020"/>
          <p:cNvPicPr/>
          <p:nvPr/>
        </p:nvPicPr>
        <p:blipFill>
          <a:blip r:embed="rId1"/>
          <a:stretch/>
        </p:blipFill>
        <p:spPr>
          <a:xfrm>
            <a:off x="611280" y="954000"/>
            <a:ext cx="8064360" cy="5040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29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" descr="3"/>
          <p:cNvPicPr/>
          <p:nvPr/>
        </p:nvPicPr>
        <p:blipFill>
          <a:blip r:embed="rId2"/>
          <a:stretch/>
        </p:blipFill>
        <p:spPr>
          <a:xfrm>
            <a:off x="250920" y="331920"/>
            <a:ext cx="8893080" cy="66610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900000" y="1844640"/>
            <a:ext cx="7632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990099"/>
                </a:solidFill>
                <a:latin typeface="Arial"/>
                <a:ea typeface="楷体_GB2312"/>
              </a:rPr>
              <a:t>它，红嘴红脚，灰蓝色的毛，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Arial"/>
                <a:ea typeface="楷体_GB2312"/>
              </a:rPr>
              <a:t>背还生着珍珠似的圆圆的白点。它那动听的叫声如笛儿般清凉婉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20080615194606414"/>
          <p:cNvPicPr/>
          <p:nvPr/>
        </p:nvPicPr>
        <p:blipFill>
          <a:blip r:embed="rId1"/>
          <a:stretch/>
        </p:blipFill>
        <p:spPr>
          <a:xfrm>
            <a:off x="1979640" y="260280"/>
            <a:ext cx="5514840" cy="6337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3"/>
          <p:cNvPicPr/>
          <p:nvPr/>
        </p:nvPicPr>
        <p:blipFill>
          <a:blip r:embed="rId1"/>
          <a:stretch/>
        </p:blipFill>
        <p:spPr>
          <a:xfrm>
            <a:off x="0" y="9360"/>
            <a:ext cx="9323280" cy="6848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5651640" y="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baby13"/>
          <p:cNvPicPr/>
          <p:nvPr/>
        </p:nvPicPr>
        <p:blipFill>
          <a:blip r:embed="rId2"/>
          <a:srcRect l="0" t="7332" r="0" b="0"/>
          <a:stretch/>
        </p:blipFill>
        <p:spPr>
          <a:xfrm>
            <a:off x="1403280" y="404640"/>
            <a:ext cx="6408720" cy="5946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492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《珍珠鸟》插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WordArt 8"/>
          <p:cNvSpPr txBox="1"/>
          <p:nvPr/>
        </p:nvSpPr>
        <p:spPr>
          <a:xfrm>
            <a:off x="539640" y="1628640"/>
            <a:ext cx="8064720" cy="3168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48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华文新魏"/>
              </a:rPr>
              <a:t>信赖，往往创造出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华文新魏"/>
              </a:rPr>
              <a:t>     </a:t>
            </a: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华文新魏"/>
              </a:rPr>
              <a:t>美好的境界！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华文新魏"/>
              <a:ea typeface="华文新魏"/>
            </a:endParaRPr>
          </a:p>
        </p:txBody>
      </p:sp>
    </p:spTree>
  </p:cSld>
  <p:transition spd="med">
    <p:zoom dir="in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B798-6705-4684-9A84-827539CEB32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31" descr="2009612074235836"/>
          <p:cNvPicPr/>
          <p:nvPr/>
        </p:nvPicPr>
        <p:blipFill>
          <a:blip r:embed="rId1"/>
          <a:stretch/>
        </p:blipFill>
        <p:spPr>
          <a:xfrm>
            <a:off x="0" y="0"/>
            <a:ext cx="10980720" cy="7156440"/>
          </a:xfrm>
          <a:prstGeom prst="rect">
            <a:avLst/>
          </a:prstGeom>
          <a:ln w="0">
            <a:noFill/>
          </a:ln>
        </p:spPr>
      </p:pic>
      <p:sp>
        <p:nvSpPr>
          <p:cNvPr id="145" name="WordArt 1029"/>
          <p:cNvSpPr txBox="1"/>
          <p:nvPr/>
        </p:nvSpPr>
        <p:spPr>
          <a:xfrm>
            <a:off x="900000" y="765000"/>
            <a:ext cx="3456000" cy="92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d60093"/>
                </a:solid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宋体"/>
              </a:rPr>
              <a:t>阅读推荐：</a:t>
            </a:r>
            <a:endParaRPr b="1" lang="en-US" sz="8000" spc="-1" strike="noStrike">
              <a:ln w="9360">
                <a:solidFill>
                  <a:srgbClr val="00ccff"/>
                </a:solidFill>
                <a:miter/>
              </a:ln>
              <a:solidFill>
                <a:srgbClr val="d60093"/>
              </a:solid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6" name="Text Box 1030"/>
          <p:cNvSpPr/>
          <p:nvPr/>
        </p:nvSpPr>
        <p:spPr>
          <a:xfrm>
            <a:off x="684360" y="2492280"/>
            <a:ext cx="489564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我的野生动物朋友</a:t>
            </a:r>
            <a:r>
              <a:rPr b="1" lang="en-US" sz="36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《 </a:t>
            </a:r>
            <a:r>
              <a:rPr b="1" lang="zh-CN" sz="40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摸 书 </a:t>
            </a:r>
            <a:r>
              <a:rPr b="1" lang="en-US" sz="40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16360" y="198900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4" descr="c59585b22546a087d8335a2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b001"/>
          <p:cNvPicPr/>
          <p:nvPr/>
        </p:nvPicPr>
        <p:blipFill>
          <a:blip r:embed="rId2"/>
          <a:stretch/>
        </p:blipFill>
        <p:spPr>
          <a:xfrm rot="433800">
            <a:off x="1763640" y="2349360"/>
            <a:ext cx="2590920" cy="2133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22c7c8c38650023e0ef477ad"/>
          <p:cNvPicPr/>
          <p:nvPr/>
        </p:nvPicPr>
        <p:blipFill>
          <a:blip r:embed="rId3"/>
          <a:stretch/>
        </p:blipFill>
        <p:spPr>
          <a:xfrm rot="21159600">
            <a:off x="3582720" y="4433760"/>
            <a:ext cx="2562120" cy="2219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2007122412137531616255886606"/>
          <p:cNvPicPr/>
          <p:nvPr/>
        </p:nvPicPr>
        <p:blipFill>
          <a:blip r:embed="rId4"/>
          <a:stretch/>
        </p:blipFill>
        <p:spPr>
          <a:xfrm rot="20809200">
            <a:off x="179280" y="259920"/>
            <a:ext cx="2665440" cy="2158920"/>
          </a:xfrm>
          <a:prstGeom prst="rect">
            <a:avLst/>
          </a:prstGeom>
          <a:ln w="0">
            <a:noFill/>
          </a:ln>
        </p:spPr>
      </p:pic>
      <p:sp>
        <p:nvSpPr>
          <p:cNvPr id="152" name="WordArt 15"/>
          <p:cNvSpPr txBox="1"/>
          <p:nvPr/>
        </p:nvSpPr>
        <p:spPr>
          <a:xfrm rot="306600">
            <a:off x="5299200" y="593280"/>
            <a:ext cx="3166920" cy="233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宋体"/>
              </a:rPr>
              <a:t>谢谢！</a:t>
            </a:r>
            <a:endParaRPr b="1" lang="en-US" sz="80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3" name=""/>
          <p:cNvSpPr/>
          <p:nvPr/>
        </p:nvSpPr>
        <p:spPr>
          <a:xfrm>
            <a:off x="828720" y="63817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MIN17147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22200" y="0"/>
            <a:ext cx="9466200" cy="72309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971640" y="234936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真好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！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朋友送我一对珍珠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411280" y="3141720"/>
            <a:ext cx="59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MIN17147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22200" y="0"/>
            <a:ext cx="9466200" cy="72309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1547640" y="184464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8360" y="1916280"/>
            <a:ext cx="83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cc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”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（        ）珍珠鸟，珍珠鸟对我（        ）</a:t>
            </a:r>
            <a:r>
              <a:rPr b="0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</a:t>
            </a: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7" descr="未标题-1 拷贝"/>
          <p:cNvPicPr/>
          <p:nvPr/>
        </p:nvPicPr>
        <p:blipFill>
          <a:blip r:embed="rId1"/>
          <a:stretch/>
        </p:blipFill>
        <p:spPr>
          <a:xfrm>
            <a:off x="0" y="0"/>
            <a:ext cx="11917440" cy="86644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684360" y="1052640"/>
            <a:ext cx="77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001.WAV" descr=""/>
          <p:cNvPicPr/>
          <p:nvPr/>
        </p:nvPicPr>
        <p:blipFill>
          <a:blip r:embed="rId2"/>
          <a:stretch/>
        </p:blipFill>
        <p:spPr>
          <a:xfrm>
            <a:off x="9144000" y="7461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3"/>
          <p:cNvSpPr/>
          <p:nvPr/>
        </p:nvSpPr>
        <p:spPr>
          <a:xfrm>
            <a:off x="4067280" y="2133720"/>
            <a:ext cx="47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5" descr="1"/>
          <p:cNvPicPr/>
          <p:nvPr/>
        </p:nvPicPr>
        <p:blipFill>
          <a:blip r:embed="rId3"/>
          <a:stretch/>
        </p:blipFill>
        <p:spPr>
          <a:xfrm>
            <a:off x="324000" y="907920"/>
            <a:ext cx="5364000" cy="50421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1"/>
          <p:cNvSpPr/>
          <p:nvPr/>
        </p:nvSpPr>
        <p:spPr>
          <a:xfrm>
            <a:off x="4643280" y="2349360"/>
            <a:ext cx="468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哟，雏儿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正是这小家伙</a:t>
            </a:r>
            <a:r>
              <a:rPr b="1" lang="en-US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4969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MIN17147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22200" y="0"/>
            <a:ext cx="9466200" cy="7230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611280" y="90792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起先，这小家伙只在笼子四周活动，随后就在屋里飞来飞去，一会儿落在柜顶上，一会儿神气十足地站在书架上，啄着书背上那些大文豪的名字，一会儿把灯绳撞得来回摇动，跟着逃到画框上去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716360" y="198900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神气十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MIN17147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22200" y="0"/>
            <a:ext cx="9466200" cy="72309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395280" y="69228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起先，这小家伙只在笼子四周活动，随后就在屋里飞来飞去，一会儿落在柜顶上，一会儿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神气十足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地站在书架上，啄着书背上那些大文豪的名字，一会儿把灯绳撞得来回摇动，跟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逃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到画框上去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7740720" y="255420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6567480" y="4946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5651640" y="1268280"/>
            <a:ext cx="1150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684360" y="3789360"/>
            <a:ext cx="77040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一会儿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__________ 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一会儿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________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0" lang="en-US" sz="5400" spc="-1" strike="noStrike">
                <a:solidFill>
                  <a:srgbClr val="333399"/>
                </a:solidFill>
                <a:latin typeface="宋体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052" descr="2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053"/>
          <p:cNvSpPr/>
          <p:nvPr/>
        </p:nvSpPr>
        <p:spPr>
          <a:xfrm>
            <a:off x="1332000" y="17002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不管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054"/>
          <p:cNvSpPr/>
          <p:nvPr/>
        </p:nvSpPr>
        <p:spPr>
          <a:xfrm>
            <a:off x="826920" y="692280"/>
            <a:ext cx="439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5:57:40Z</dcterms:created>
  <dc:creator>An</dc:creator>
  <dc:description/>
  <dc:language>en-US</dc:language>
  <cp:lastModifiedBy/>
  <dcterms:modified xsi:type="dcterms:W3CDTF">2015-07-11T14:37:10Z</dcterms:modified>
  <cp:revision>9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