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014-2794-4428-8ED2-3E152F94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EB7-1561-4F69-BFEB-4449B93A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FAA-CF42-4280-96B5-F173EFBF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FDE-02F6-4A93-BEC9-B7C5E3C9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6D81-C944-440C-9BD7-504872DD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E472-146E-4D49-BD74-50827DF4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66C0-3DC5-4CB2-B39C-9229FD92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4C31-4C08-4A48-B633-CFD47B7E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2AAC-D547-4891-954D-7469CD39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3F40-069D-48A2-9F61-7063000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B5B4-4449-43AE-963F-FA46B95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8AE-942C-41C6-9192-43A021FB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8A19-E4A2-4CCC-888D-CCCA45C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2FF1-A3B9-45E0-B6C5-542B023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3BFE-32BF-40BC-AFC2-6513E6AF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0274-476C-46FF-A7C6-9705B5D5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28D-431E-45E0-92E2-B117AD9A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479-5D6A-4913-83C4-93194C44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5A2-41F6-49D5-82F9-129891B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97E-3B9A-4174-9636-237494AB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297-17C3-4285-996C-393716D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739-1C4C-4CBE-BA78-7863A06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34D-EEBD-4715-BAF0-A158E9F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AD0-4959-4B28-AD2F-4C66808E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E6F-6017-428C-B2B7-B5B3D0C87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2040" y="2710080"/>
              <a:ext cx="587196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64B-8075-465F-ADC3-6D3960B74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行为学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第三章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发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组织发展理论的提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面临的挑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发展的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组织适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个人适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89880" y="41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cc66"/>
                </a:solidFill>
                <a:latin typeface="Arial"/>
              </a:rPr>
              <a:t>第四章   现代企业组织发展趋势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与外部环境联系的企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们对组织理论认识的深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一个机械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一个有机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一个与环境相联系的人格化的有机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关于组织的定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社会实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有明确的目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有精心设计的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有协调的活动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与外部环境相联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296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管理的载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将工作分成不同的部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配工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配资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协调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2895480"/>
          <a:ext cx="171900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17190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的作用——组织存在的原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汇聚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放大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人与组织的交换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4038480"/>
          <a:ext cx="2819520" cy="20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281952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织内的角色分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决策角色（领导人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际角色（管理人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技能角色（操作人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织内的角色分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与领导的区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 Right  Thing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领导的功能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 Things  Righ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管理的功能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第一章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导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一、古典组织理论的三位奠基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工时与动作研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工作细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工人培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与工人合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在工人与管理者之间划清责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024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514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A5A-4352-4574-B186-108CDAB11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第二章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设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组织设计思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的评价标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组织的效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组织的效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员工的满意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49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31813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04:39Z</dcterms:created>
  <dc:creator/>
  <dc:description/>
  <cp:keywords>组织 行为学</cp:keywords>
  <dc:language>en-US</dc:language>
  <cp:lastModifiedBy/>
  <dcterms:modified xsi:type="dcterms:W3CDTF">2015-07-11T14:4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