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838080"/>
            <a:ext cx="8229600" cy="5683320"/>
            <a:chOff x="457200" y="838080"/>
            <a:chExt cx="8229600" cy="5683320"/>
          </a:xfrm>
        </p:grpSpPr>
        <p:sp>
          <p:nvSpPr>
            <p:cNvPr id="2" name=""/>
            <p:cNvSpPr/>
            <p:nvPr/>
          </p:nvSpPr>
          <p:spPr>
            <a:xfrm>
              <a:off x="66294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5146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6294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146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72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294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5146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72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6294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720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5146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572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294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720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146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572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6294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5720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5146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572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57200" y="838080"/>
              <a:ext cx="8229600" cy="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7200" y="243684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57200" y="274320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57200" y="434808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57200" y="464796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" y="624672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57200" y="6521400"/>
              <a:ext cx="8229600" cy="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" y="838080"/>
              <a:ext cx="0" cy="568332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5146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6294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86800" y="838080"/>
              <a:ext cx="0" cy="568332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办公用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1752840" cy="1322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1523880" cy="1312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990720"/>
            <a:ext cx="1447560" cy="128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122640" y="990720"/>
            <a:ext cx="114444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800600" y="4952880"/>
            <a:ext cx="1650960" cy="982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2666880" y="4952880"/>
            <a:ext cx="1752840" cy="101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609480" y="4952880"/>
            <a:ext cx="1676520" cy="965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7227720" y="2895480"/>
            <a:ext cx="1098720" cy="1295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6858000" y="4876920"/>
            <a:ext cx="1663560" cy="1182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7162920" y="990720"/>
            <a:ext cx="10224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4800600" y="31240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838080" y="990720"/>
            <a:ext cx="1371600" cy="1253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99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1295640" cy="1292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13440" y="990720"/>
            <a:ext cx="982440" cy="121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49960" y="990720"/>
            <a:ext cx="107316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858000" y="4876920"/>
            <a:ext cx="1600200" cy="112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819520" y="990720"/>
            <a:ext cx="1447560" cy="1293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7086600" y="2895480"/>
            <a:ext cx="1150920" cy="129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4876920" y="4800600"/>
            <a:ext cx="1523880" cy="1355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2743200" y="4876920"/>
            <a:ext cx="1600200" cy="120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685800" y="4952880"/>
            <a:ext cx="1600200" cy="1028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2895480" y="2895480"/>
            <a:ext cx="1295640" cy="1284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5029200" y="2895480"/>
            <a:ext cx="1295280" cy="1273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838080" y="2895480"/>
            <a:ext cx="1295640" cy="1276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99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1600200" cy="1238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1600200" cy="1222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135920" y="990720"/>
            <a:ext cx="117000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876920" y="289548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800600" y="1066680"/>
            <a:ext cx="1625760" cy="1184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85800" y="4876920"/>
            <a:ext cx="1600200" cy="1218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2895480" y="4800600"/>
            <a:ext cx="1295640" cy="1258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7097760" y="2895480"/>
            <a:ext cx="1284120" cy="129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2743200" y="2895480"/>
            <a:ext cx="1574640" cy="1271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685800" y="3048120"/>
            <a:ext cx="1600200" cy="939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4800600" y="4876920"/>
            <a:ext cx="1676520" cy="1092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77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51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25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9960" y="43624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25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en-US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en-US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22:39:55Z</dcterms:created>
  <dc:creator/>
  <dc:description/>
  <cp:keywords>幻灯片之家 http:/www.eeppt.com</cp:keywords>
  <dc:language>en-US</dc:language>
  <cp:lastModifiedBy/>
  <dcterms:modified xsi:type="dcterms:W3CDTF">2015-07-12T09:03:49Z</dcterms:modified>
  <cp:revision>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