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3285-3423-4442-9AF7-EE93B547B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FC86-2E53-4FDD-BE90-493B04E95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2EE9-D405-427D-B1C7-61A759D29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66ED-370A-4728-AE1E-AF282184A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F2A6-2896-4FB4-8AFE-791EFC7CB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7B9F-4842-47B3-B137-629BB6C727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A053-92C2-4F02-B8A7-B6A5B99B9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4052-F305-431A-910C-95D192A84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0BFC-B940-4871-965B-7C534A583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4528-E346-4DC9-A3E2-DBD620252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EE4B-8D26-4ECB-B8C1-AF49B4828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74FE-7F68-4674-9E50-36A592047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65CB3BF-8BBB-4339-B856-FDC918AC06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3"/>
          <p:cNvPicPr/>
          <p:nvPr/>
        </p:nvPicPr>
        <p:blipFill>
          <a:blip r:embed="rId2"/>
          <a:stretch/>
        </p:blipFill>
        <p:spPr>
          <a:xfrm>
            <a:off x="0" y="-2556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tongyong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9236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18000" y="765000"/>
            <a:ext cx="44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颁奖大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用模板免费下载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786200" y="1557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6120" y="1123920"/>
            <a:ext cx="719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通用ppt模板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www.eeppt.com/moban/tongyong/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06T12:48:44Z</dcterms:modified>
  <cp:revision>2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