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8A6-3F78-49B8-AADA-E79D69B6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4CF-6C5D-4CA1-9ABA-8B9C4859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7DA3-6A0B-4386-BEF7-7939C7B0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FE2-517E-40AF-BDE6-753F3D5B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425-2DC6-40C4-9CC7-9D9DA10F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7B2-8F62-4492-AF90-202EB4CE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332F-9A7D-4AAE-89E7-5AC60978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F711-CD4D-4BC1-9A3E-B820D0CA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038C-125C-471F-B535-0CE455D0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E6A-91B3-4BB6-9842-DA68D0EA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32C-6B54-4755-AA26-9DDF8A63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693-7F7C-41E9-A22E-02C8B78C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C054-884F-4C4C-9814-B90E326E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619280" y="1844640"/>
            <a:ext cx="5715000" cy="13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07160" y="2421000"/>
            <a:ext cx="338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半截蜡烛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568320" y="1989000"/>
            <a:ext cx="2207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选择一个人物细致刻画内心活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将故事编成课本剧，演一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gif0012"/>
          <p:cNvPicPr/>
          <p:nvPr/>
        </p:nvPicPr>
        <p:blipFill>
          <a:blip r:embed="rId2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1979640" y="1700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烛焰摇曳，发出微弱的光，此时此刻，它仿佛成了屋子里最可怕的东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gif001"/>
          <p:cNvPicPr/>
          <p:nvPr/>
        </p:nvPicPr>
        <p:blipFill>
          <a:blip r:embed="rId3"/>
          <a:stretch/>
        </p:blipFill>
        <p:spPr>
          <a:xfrm>
            <a:off x="539640" y="1628640"/>
            <a:ext cx="1113120" cy="151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gif028"/>
          <p:cNvPicPr/>
          <p:nvPr/>
        </p:nvPicPr>
        <p:blipFill>
          <a:blip r:embed="rId4"/>
          <a:stretch/>
        </p:blipFill>
        <p:spPr>
          <a:xfrm>
            <a:off x="7667640" y="566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6"/>
          <p:cNvSpPr/>
          <p:nvPr/>
        </p:nvSpPr>
        <p:spPr>
          <a:xfrm>
            <a:off x="2627280" y="378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命悬于一</a:t>
            </a: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背景音乐.WAV" descr=""/>
          <p:cNvPicPr/>
          <p:nvPr/>
        </p:nvPicPr>
        <p:blipFill>
          <a:blip r:embed="rId5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872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gif001"/>
          <p:cNvPicPr/>
          <p:nvPr/>
        </p:nvPicPr>
        <p:blipFill>
          <a:blip r:embed="rId2"/>
          <a:stretch/>
        </p:blipFill>
        <p:spPr>
          <a:xfrm>
            <a:off x="6443640" y="1268280"/>
            <a:ext cx="981000" cy="13338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11"/>
          <p:cNvSpPr/>
          <p:nvPr/>
        </p:nvSpPr>
        <p:spPr>
          <a:xfrm>
            <a:off x="2341440" y="5805360"/>
            <a:ext cx="158292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伯诺德夫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2"/>
          <p:cNvSpPr/>
          <p:nvPr/>
        </p:nvSpPr>
        <p:spPr>
          <a:xfrm>
            <a:off x="4284720" y="5805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杰   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3"/>
          <p:cNvSpPr/>
          <p:nvPr/>
        </p:nvSpPr>
        <p:spPr>
          <a:xfrm>
            <a:off x="5869080" y="5805360"/>
            <a:ext cx="122400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杰奎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/>
          <p:cNvSpPr/>
          <p:nvPr/>
        </p:nvSpPr>
        <p:spPr>
          <a:xfrm>
            <a:off x="684360" y="580536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课文录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5"/>
          <p:cNvSpPr/>
          <p:nvPr/>
        </p:nvSpPr>
        <p:spPr>
          <a:xfrm>
            <a:off x="7381800" y="5805360"/>
            <a:ext cx="1150920" cy="5763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作  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3001680" y="14842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华文行楷"/>
                <a:ea typeface="华文行楷"/>
              </a:rPr>
              <a:t>半截蜡烛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1" descr="post-1684-1105176484"/>
          <p:cNvPicPr/>
          <p:nvPr/>
        </p:nvPicPr>
        <p:blipFill>
          <a:blip r:embed="rId3"/>
          <a:stretch/>
        </p:blipFill>
        <p:spPr>
          <a:xfrm>
            <a:off x="990720" y="2819520"/>
            <a:ext cx="114588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A82B-2892-46E3-A698-A4013F6FBC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4"/>
          <p:cNvSpPr/>
          <p:nvPr/>
        </p:nvSpPr>
        <p:spPr>
          <a:xfrm>
            <a:off x="6300720" y="3933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gif0281"/>
          <p:cNvPicPr/>
          <p:nvPr/>
        </p:nvPicPr>
        <p:blipFill>
          <a:blip r:embed="rId2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XC018005-1.mp3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0"/>
          <p:cNvSpPr/>
          <p:nvPr/>
        </p:nvSpPr>
        <p:spPr>
          <a:xfrm>
            <a:off x="596880" y="5549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gif0281"/>
          <p:cNvPicPr/>
          <p:nvPr/>
        </p:nvPicPr>
        <p:blipFill>
          <a:blip r:embed="rId2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76360" y="1052640"/>
            <a:ext cx="62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 她看着两个脸色苍白的孩子，急忙从厨房取出一盏油灯放在桌上。  “瞧，先生们，这盏灯亮些。”  说着，轻轻把蜡烛吹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76360" y="1052640"/>
            <a:ext cx="629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    她看着两个脸色苍白的孩子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急忙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从厨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取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出一盏油灯放在桌上。  “瞧，先生们，这盏灯亮些。”  说着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轻轻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把蜡烛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吹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363560" y="4005360"/>
            <a:ext cx="125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瞧，先生们，这盏灯亮些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1" descr="未标题-1 拷贝"/>
          <p:cNvPicPr/>
          <p:nvPr/>
        </p:nvPicPr>
        <p:blipFill>
          <a:blip r:embed="rId3"/>
          <a:stretch/>
        </p:blipFill>
        <p:spPr>
          <a:xfrm>
            <a:off x="250920" y="3933720"/>
            <a:ext cx="1371600" cy="208764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4"/>
          <p:cNvGrpSpPr/>
          <p:nvPr/>
        </p:nvGrpSpPr>
        <p:grpSpPr>
          <a:xfrm>
            <a:off x="1979640" y="5084640"/>
            <a:ext cx="2305080" cy="865080"/>
            <a:chOff x="1979640" y="5084640"/>
            <a:chExt cx="2305080" cy="865080"/>
          </a:xfrm>
        </p:grpSpPr>
        <p:sp>
          <p:nvSpPr>
            <p:cNvPr id="72" name="AutoShape 12"/>
            <p:cNvSpPr/>
            <p:nvPr/>
          </p:nvSpPr>
          <p:spPr>
            <a:xfrm>
              <a:off x="1979640" y="5084640"/>
              <a:ext cx="2305080" cy="865080"/>
            </a:xfrm>
            <a:prstGeom prst="wedgeEllipseCallout">
              <a:avLst>
                <a:gd name="adj1" fmla="val -73828"/>
                <a:gd name="adj2" fmla="val -40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13"/>
            <p:cNvSpPr/>
            <p:nvPr/>
          </p:nvSpPr>
          <p:spPr>
            <a:xfrm>
              <a:off x="2419920" y="5229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内心独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547640" y="1268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时间一分一秒地过去。这时候，   大儿子杰克慢慢地站起来，“天真冷。我到柴房去搬些柴来生个火吧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1403280" y="3573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孩子是懂事的，他知道，厄运即将到来了。在斗争的最后时刻，他从容地搬回一捆木柴，生了火，默默地坐待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547640" y="12682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时间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一分一秒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地过去。这时候，   大儿子杰克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慢慢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站起来，“天真冷。我到柴房去搬些柴来生个火吧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03280" y="35733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孩子是懂事的，他知道，厄运即将到来了。在斗争的最后时刻，他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从容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搬回一捆木柴，生了火，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默默地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坐待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gif0281"/>
          <p:cNvPicPr/>
          <p:nvPr/>
        </p:nvPicPr>
        <p:blipFill>
          <a:blip r:embed="rId2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未标题-2 拷贝"/>
          <p:cNvPicPr/>
          <p:nvPr/>
        </p:nvPicPr>
        <p:blipFill>
          <a:blip r:embed="rId3"/>
          <a:stretch/>
        </p:blipFill>
        <p:spPr>
          <a:xfrm>
            <a:off x="179280" y="189000"/>
            <a:ext cx="1376640" cy="244800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"/>
          <p:cNvGrpSpPr/>
          <p:nvPr/>
        </p:nvGrpSpPr>
        <p:grpSpPr>
          <a:xfrm>
            <a:off x="2050920" y="404640"/>
            <a:ext cx="2305080" cy="865080"/>
            <a:chOff x="2050920" y="404640"/>
            <a:chExt cx="2305080" cy="865080"/>
          </a:xfrm>
        </p:grpSpPr>
        <p:sp>
          <p:nvSpPr>
            <p:cNvPr id="81" name="AutoShape 11"/>
            <p:cNvSpPr/>
            <p:nvPr/>
          </p:nvSpPr>
          <p:spPr>
            <a:xfrm>
              <a:off x="2050920" y="404640"/>
              <a:ext cx="2305080" cy="865080"/>
            </a:xfrm>
            <a:prstGeom prst="wedgeEllipseCallout">
              <a:avLst>
                <a:gd name="adj1" fmla="val -73828"/>
                <a:gd name="adj2" fmla="val -4009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2491200" y="54900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3300"/>
                  </a:solidFill>
                  <a:latin typeface="Times New Roman"/>
                  <a:ea typeface="华文行楷"/>
                </a:rPr>
                <a:t>内心独白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ZR108.wav" descr=""/>
          <p:cNvPicPr/>
          <p:nvPr/>
        </p:nvPicPr>
        <p:blipFill>
          <a:blip r:embed="rId4"/>
          <a:stretch/>
        </p:blipFill>
        <p:spPr>
          <a:xfrm>
            <a:off x="2057400" y="1447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未标题-3 拷贝"/>
          <p:cNvPicPr/>
          <p:nvPr/>
        </p:nvPicPr>
        <p:blipFill>
          <a:blip r:embed="rId2"/>
          <a:stretch/>
        </p:blipFill>
        <p:spPr>
          <a:xfrm>
            <a:off x="179280" y="1628640"/>
            <a:ext cx="1486080" cy="2273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835280" y="112536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小女儿杰奎琳娇声地对德国人说道：“司令官先生，天晚了，楼上黑，我可以拿一盏灯上楼睡觉吗？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杰奎琳镇定地把烛台端起来，向几位军官道过晚安，上楼去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486400" y="56196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　　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娇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gif0281"/>
          <p:cNvPicPr/>
          <p:nvPr/>
        </p:nvPicPr>
        <p:blipFill>
          <a:blip r:embed="rId3"/>
          <a:stretch/>
        </p:blipFill>
        <p:spPr>
          <a:xfrm>
            <a:off x="752472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981080" y="1371600"/>
            <a:ext cx="556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祖国的儿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那光荣的时刻已来临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专制暴政在压迫着我们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我们的祖国鲜血遍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我们的祖国鲜血遍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你可知道那凶狠的兵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到处在残杀人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他们从你的怀抱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杀死你的妻子和儿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公民们，武装起来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公民们，投入战斗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前进前进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万众一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! </a:t>
            </a:r>
            <a:r>
              <a:rPr b="0" lang="zh-CN" sz="2400" spc="-1" strike="noStrike">
                <a:solidFill>
                  <a:srgbClr val="3333cc"/>
                </a:solidFill>
                <a:latin typeface="Arial"/>
              </a:rPr>
              <a:t>把敌人消灭净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065040" y="7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马赛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abotshaja-Marcelesa.mp3" descr=""/>
          <p:cNvPicPr/>
          <p:nvPr/>
        </p:nvPicPr>
        <p:blipFill>
          <a:blip r:embed="rId2"/>
          <a:stretch/>
        </p:blipFill>
        <p:spPr>
          <a:xfrm>
            <a:off x="4267080" y="914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8:35:25Z</dcterms:created>
  <dc:creator/>
  <dc:description/>
  <cp:keywords>幻灯片之家 http:/www.eeppt.com</cp:keywords>
  <dc:language>en-US</dc:language>
  <cp:lastModifiedBy/>
  <dcterms:modified xsi:type="dcterms:W3CDTF">2015-07-03T13:16:25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