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A4AE-26E4-49D3-AB2C-AE4DC354D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9601-12F5-4372-AD5D-352AD1956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A6A6-3389-48AE-AD00-4A5E6CD87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DE06-1639-4162-81E9-F965AFA5B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F959-558E-44DC-BC40-30BED058D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C4F3-68A5-4F5F-9F51-FFA805AA0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D79A-59EA-4518-8440-81FF99628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1A5F-67D8-4497-A564-74206D8CA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FB4D-7916-44F4-8D76-712F7BFFD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631F-B6CA-4FD5-806C-C409E45C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757C-1B2F-48D1-AD41-47054530E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D68E-0EA4-41E1-92B1-5FEBECAAA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82052-B071-4DB8-B8E7-6C242911FE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.jpeg"/><Relationship Id="rId1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8"/>
          <p:cNvSpPr/>
          <p:nvPr/>
        </p:nvSpPr>
        <p:spPr>
          <a:xfrm>
            <a:off x="1403280" y="141300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6583320" y="990720"/>
            <a:ext cx="1646280" cy="49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6" descr="F:\ppt\624x\小学二年级上册语文第十课北京PPT课件2\201304221158579297.jpg"/>
          <p:cNvPicPr/>
          <p:nvPr/>
        </p:nvPicPr>
        <p:blipFill>
          <a:blip r:embed="rId16"/>
          <a:stretch/>
        </p:blipFill>
        <p:spPr>
          <a:xfrm>
            <a:off x="828720" y="981000"/>
            <a:ext cx="5832360" cy="4373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41400" y="476280"/>
            <a:ext cx="228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北京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课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hb"/>
          <p:cNvPicPr/>
          <p:nvPr/>
        </p:nvPicPr>
        <p:blipFill>
          <a:blip r:embed="rId1"/>
          <a:stretch/>
        </p:blipFill>
        <p:spPr>
          <a:xfrm>
            <a:off x="380880" y="380880"/>
            <a:ext cx="4800600" cy="60771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5638680" y="6094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华表：大型建筑物前面做装饰用的巨大石柱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5334120" y="213372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金水桥的东、西两侧耸立着一对汉白玉华表，刻有蟠龙花纹，浑圆精致，映衬着背后的城楼，更增添了天安门的雄伟气势。华表顶端雕成一个蹲着的野兽，名叫“犼”，又叫“望君归”，就是在盼望外出的帝王赶快归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6" descr="tam"/>
          <p:cNvPicPr/>
          <p:nvPr/>
        </p:nvPicPr>
        <p:blipFill>
          <a:blip r:embed="rId1"/>
          <a:stretch/>
        </p:blipFill>
        <p:spPr>
          <a:xfrm>
            <a:off x="228600" y="1676520"/>
            <a:ext cx="6858000" cy="48006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7"/>
          <p:cNvSpPr txBox="1"/>
          <p:nvPr/>
        </p:nvSpPr>
        <p:spPr>
          <a:xfrm>
            <a:off x="1447920" y="228600"/>
            <a:ext cx="16002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我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04" name="WordArt 9"/>
          <p:cNvSpPr txBox="1"/>
          <p:nvPr/>
        </p:nvSpPr>
        <p:spPr>
          <a:xfrm>
            <a:off x="3276720" y="304920"/>
            <a:ext cx="14475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登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05" name="WordArt 10"/>
          <p:cNvSpPr txBox="1"/>
          <p:nvPr/>
        </p:nvSpPr>
        <p:spPr>
          <a:xfrm>
            <a:off x="5029200" y="228600"/>
            <a:ext cx="12193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上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06" name="WordArt 11"/>
          <p:cNvSpPr txBox="1"/>
          <p:nvPr/>
        </p:nvSpPr>
        <p:spPr>
          <a:xfrm>
            <a:off x="6934320" y="304920"/>
            <a:ext cx="12189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了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6525360" y="1981080"/>
            <a:ext cx="2009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天安门城楼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4360" y="551808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04920" y="304560"/>
            <a:ext cx="853416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许多人都向往北京，我也不例外。梦想终于实现了，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岁那年，我跟随爸爸妈妈来到了首都北京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自从改革开放以来，北京的变化可真大！电车在内环线上奔驰，一幢幢拔地而起的高楼，一座座新型的立交桥，一个个鲜花盛开的花坛一一展现在我的眼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       “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天安门广场”大家一定都很熟悉，肯定在电视上看到过，在书本里见到过，在广播里听到过。它是世界上最大的广场，广场的北面便是那庄严、宏伟而又古朴的天安门城楼。天安门城楼始建于明朝初年，当时叫承天门，清朝重建时才改名天安门。城楼正中央悬挂着毛主席的遗像，两边分别写着“中华人民共和国万岁”“世界人民大团结万岁”巨幅标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-360" y="380520"/>
            <a:ext cx="88390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我乘坐电梯，登上城楼，一股热流涌上心头。那朱红色的廊柱，加上屋檐下色彩缤纷的彩画，窗门上玲珑多姿的花纹，使城楼显得更加端庄、华丽。城楼上陈列着珍贵的历史遗物，都用铁索拦着，我不敢去碰它，每走一步都是小心翼翼的。其中有一幅油画，最引人注目。画上画着毛泽东主席和十几位国家领导人站在天安门城楼上，我仿佛听到毛主席庄严地向全世界宣告：“中华人民共和国中央人民政府成立了！”雷鸣般的掌声依然回荡在城楼上空。我穿着印有“天安门”字样，并且画着天安门城楼的衣服，站在毛主席曾经站过的地方，心情异常激动。在这幸福的时刻，爸爸给我拍了一张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我站在城楼上往下看，楼前一水环绕，那就是有名的金水河，河上并列着五座玉带形的汉白玉桥，桥上饰有雕花石栏，金水桥前的两侧，矗立着一对浑圆挺拔的汉白玉华表。天安门城楼和它前面的两座华表，成了新中国的象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雄伟的天安门，今天它已成为各族人民衷心敬仰的地方，世界人民热情向往的地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17"/>
          <p:cNvSpPr/>
          <p:nvPr/>
        </p:nvSpPr>
        <p:spPr>
          <a:xfrm>
            <a:off x="228600" y="304920"/>
            <a:ext cx="6553080" cy="63244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2743200" y="533520"/>
            <a:ext cx="251460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3048120" y="6094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浙江展览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5733360" y="2438280"/>
            <a:ext cx="911880" cy="1600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电信大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6108840" y="4419720"/>
            <a:ext cx="546120" cy="2209680"/>
          </a:xfrm>
          <a:prstGeom prst="rect">
            <a:avLst/>
          </a:prstGeom>
          <a:solidFill>
            <a:srgbClr val="00cc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杭州大酒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533520" y="1828800"/>
            <a:ext cx="457200" cy="25909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3"/>
          <p:cNvSpPr/>
          <p:nvPr/>
        </p:nvSpPr>
        <p:spPr>
          <a:xfrm>
            <a:off x="780480" y="2514600"/>
            <a:ext cx="911880" cy="1371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杭州剧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4"/>
          <p:cNvSpPr/>
          <p:nvPr/>
        </p:nvSpPr>
        <p:spPr>
          <a:xfrm>
            <a:off x="460440" y="2133720"/>
            <a:ext cx="5461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杭州大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6"/>
          <p:cNvSpPr/>
          <p:nvPr/>
        </p:nvSpPr>
        <p:spPr>
          <a:xfrm>
            <a:off x="323280" y="5105520"/>
            <a:ext cx="911880" cy="1447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国际大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18" descr="RM_0779"/>
          <p:cNvPicPr/>
          <p:nvPr/>
        </p:nvPicPr>
        <p:blipFill>
          <a:blip r:embed="rId1"/>
          <a:stretch/>
        </p:blipFill>
        <p:spPr>
          <a:xfrm>
            <a:off x="7162920" y="457200"/>
            <a:ext cx="1523880" cy="1828800"/>
          </a:xfrm>
          <a:prstGeom prst="rect">
            <a:avLst/>
          </a:prstGeom>
          <a:ln w="0">
            <a:noFill/>
          </a:ln>
        </p:spPr>
      </p:pic>
      <p:sp>
        <p:nvSpPr>
          <p:cNvPr id="122" name="Oval 19"/>
          <p:cNvSpPr/>
          <p:nvPr/>
        </p:nvSpPr>
        <p:spPr>
          <a:xfrm>
            <a:off x="3124080" y="3124080"/>
            <a:ext cx="1371600" cy="9144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20"/>
          <p:cNvSpPr/>
          <p:nvPr/>
        </p:nvSpPr>
        <p:spPr>
          <a:xfrm>
            <a:off x="3276720" y="3352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喷水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21"/>
          <p:cNvSpPr/>
          <p:nvPr/>
        </p:nvSpPr>
        <p:spPr>
          <a:xfrm>
            <a:off x="6781680" y="243828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武林广场      示意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22"/>
          <p:cNvSpPr/>
          <p:nvPr/>
        </p:nvSpPr>
        <p:spPr>
          <a:xfrm>
            <a:off x="6858000" y="3733920"/>
            <a:ext cx="2057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翩翩起舞西子姑娘旋转餐厅高耸入云明亮宽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81200" y="658188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04920" y="1828800"/>
            <a:ext cx="3962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北京有许多名胜古迹和风景优美的公园。最著名的有八达岭长城、故宫博物院、颐和园、天坛、中山公园、北海和景山公园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1219320" y="228600"/>
            <a:ext cx="72388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北京多美啊！我们爱北京，我们爱祖国的首都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cc"/>
          <p:cNvPicPr/>
          <p:nvPr/>
        </p:nvPicPr>
        <p:blipFill>
          <a:blip r:embed="rId2"/>
          <a:stretch/>
        </p:blipFill>
        <p:spPr>
          <a:xfrm>
            <a:off x="4067280" y="2703600"/>
            <a:ext cx="4619520" cy="37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8E5F-86D9-46CB-B90A-FD5FBEDE35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04920" y="1828800"/>
            <a:ext cx="3962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北京有许多名胜古迹和风景优美的公园。最著名的有八达岭长城、故宫博物院、颐和园、天坛、中山公园、北海和景山公园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6" descr="yhy"/>
          <p:cNvPicPr/>
          <p:nvPr/>
        </p:nvPicPr>
        <p:blipFill>
          <a:blip r:embed="rId2"/>
          <a:stretch/>
        </p:blipFill>
        <p:spPr>
          <a:xfrm>
            <a:off x="4419720" y="1600200"/>
            <a:ext cx="4190760" cy="48769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7"/>
          <p:cNvSpPr/>
          <p:nvPr/>
        </p:nvSpPr>
        <p:spPr>
          <a:xfrm>
            <a:off x="1219320" y="228600"/>
            <a:ext cx="72388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北京多美啊！我们爱北京，我们爱祖国的首都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486400" y="1371600"/>
            <a:ext cx="3657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北京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有许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又宽又长的大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和造型新颖的立交桥。街道两旁绿树成荫，鲜花盛开。立交桥的四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有绿毯似的草坪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和美丽的花坛。各种车辆来来往往，川流不息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6" descr="ljq"/>
          <p:cNvPicPr/>
          <p:nvPr/>
        </p:nvPicPr>
        <p:blipFill>
          <a:blip r:embed="rId1"/>
          <a:stretch/>
        </p:blipFill>
        <p:spPr>
          <a:xfrm>
            <a:off x="228600" y="1371600"/>
            <a:ext cx="5257800" cy="50292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8"/>
          <p:cNvSpPr/>
          <p:nvPr/>
        </p:nvSpPr>
        <p:spPr>
          <a:xfrm>
            <a:off x="685800" y="45720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北京多美啊！我们爱北京，我们爱祖国的首都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8" descr="dht"/>
          <p:cNvPicPr/>
          <p:nvPr/>
        </p:nvPicPr>
        <p:blipFill>
          <a:blip r:embed="rId1"/>
          <a:stretch/>
        </p:blipFill>
        <p:spPr>
          <a:xfrm>
            <a:off x="914400" y="2133720"/>
            <a:ext cx="609480" cy="2514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jn1"/>
          <p:cNvPicPr/>
          <p:nvPr/>
        </p:nvPicPr>
        <p:blipFill>
          <a:blip r:embed="rId2"/>
          <a:stretch/>
        </p:blipFill>
        <p:spPr>
          <a:xfrm>
            <a:off x="4114800" y="2895480"/>
            <a:ext cx="666720" cy="1035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t1"/>
          <p:cNvPicPr/>
          <p:nvPr/>
        </p:nvPicPr>
        <p:blipFill>
          <a:blip r:embed="rId3"/>
          <a:stretch/>
        </p:blipFill>
        <p:spPr>
          <a:xfrm>
            <a:off x="2971800" y="304920"/>
            <a:ext cx="2819520" cy="946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gm"/>
          <p:cNvPicPr/>
          <p:nvPr/>
        </p:nvPicPr>
        <p:blipFill>
          <a:blip r:embed="rId4"/>
          <a:stretch/>
        </p:blipFill>
        <p:spPr>
          <a:xfrm>
            <a:off x="7696080" y="2057400"/>
            <a:ext cx="534960" cy="2590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" descr="jnt"/>
          <p:cNvPicPr/>
          <p:nvPr/>
        </p:nvPicPr>
        <p:blipFill>
          <a:blip r:embed="rId5"/>
          <a:stretch/>
        </p:blipFill>
        <p:spPr>
          <a:xfrm>
            <a:off x="3733920" y="5486400"/>
            <a:ext cx="1371600" cy="685800"/>
          </a:xfrm>
          <a:prstGeom prst="rect">
            <a:avLst/>
          </a:prstGeom>
          <a:ln w="0">
            <a:noFill/>
          </a:ln>
        </p:spPr>
      </p:pic>
      <p:sp>
        <p:nvSpPr>
          <p:cNvPr id="63" name="WordArt 15"/>
          <p:cNvSpPr txBox="1"/>
          <p:nvPr/>
        </p:nvSpPr>
        <p:spPr>
          <a:xfrm>
            <a:off x="3581280" y="1295280"/>
            <a:ext cx="13716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9900"/>
                </a:solidFill>
                <a:latin typeface="隶书"/>
              </a:rPr>
              <a:t>天安门</a:t>
            </a:r>
            <a:endParaRPr b="0" lang="en-US" sz="2400" spc="-1" strike="noStrike">
              <a:ln w="9360">
                <a:solidFill>
                  <a:srgbClr val="ff0066"/>
                </a:solidFill>
                <a:miter/>
              </a:ln>
              <a:solidFill>
                <a:srgbClr val="ff9900"/>
              </a:solidFill>
              <a:latin typeface="隶书"/>
              <a:ea typeface="隶书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3276720" y="43434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民英雄纪念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7"/>
          <p:cNvSpPr/>
          <p:nvPr/>
        </p:nvSpPr>
        <p:spPr>
          <a:xfrm>
            <a:off x="3505320" y="60958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毛主席纪念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20"/>
          <p:cNvSpPr/>
          <p:nvPr/>
        </p:nvSpPr>
        <p:spPr>
          <a:xfrm>
            <a:off x="1528200" y="2514600"/>
            <a:ext cx="60696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人民大会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1"/>
          <p:cNvSpPr/>
          <p:nvPr/>
        </p:nvSpPr>
        <p:spPr>
          <a:xfrm>
            <a:off x="5894280" y="2286000"/>
            <a:ext cx="18338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国历史博物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国革命博物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22"/>
          <p:cNvSpPr/>
          <p:nvPr/>
        </p:nvSpPr>
        <p:spPr>
          <a:xfrm>
            <a:off x="38862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北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23"/>
          <p:cNvSpPr/>
          <p:nvPr/>
        </p:nvSpPr>
        <p:spPr>
          <a:xfrm>
            <a:off x="4038480" y="6400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南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4"/>
          <p:cNvSpPr/>
          <p:nvPr/>
        </p:nvSpPr>
        <p:spPr>
          <a:xfrm>
            <a:off x="-73800" y="2895480"/>
            <a:ext cx="9118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西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5"/>
          <p:cNvSpPr/>
          <p:nvPr/>
        </p:nvSpPr>
        <p:spPr>
          <a:xfrm>
            <a:off x="8308800" y="3124080"/>
            <a:ext cx="5461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东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26"/>
          <p:cNvSpPr/>
          <p:nvPr/>
        </p:nvSpPr>
        <p:spPr>
          <a:xfrm>
            <a:off x="4038480" y="3886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中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jnb"/>
          <p:cNvPicPr/>
          <p:nvPr/>
        </p:nvPicPr>
        <p:blipFill>
          <a:blip r:embed="rId1"/>
          <a:stretch/>
        </p:blipFill>
        <p:spPr>
          <a:xfrm>
            <a:off x="685800" y="304920"/>
            <a:ext cx="5105520" cy="62481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6477120" y="76212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矗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6019920" y="160020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imes New Roman"/>
              </a:rPr>
              <a:t>高大而直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7"/>
          <p:cNvSpPr/>
          <p:nvPr/>
        </p:nvSpPr>
        <p:spPr>
          <a:xfrm>
            <a:off x="6781680" y="15238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5943600" y="2590920"/>
            <a:ext cx="281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永垂不朽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Oval 9"/>
          <p:cNvSpPr/>
          <p:nvPr/>
        </p:nvSpPr>
        <p:spPr>
          <a:xfrm>
            <a:off x="6858000" y="3429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Oval 10"/>
          <p:cNvSpPr/>
          <p:nvPr/>
        </p:nvSpPr>
        <p:spPr>
          <a:xfrm>
            <a:off x="8153280" y="34290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6095880" y="38098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imes New Roman"/>
              </a:rPr>
              <a:t>永远流传，不会磨灭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bj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152280" y="3429000"/>
          <a:ext cx="8763120" cy="3267000"/>
        </p:xfrm>
        <a:graphic>
          <a:graphicData uri="http://schemas.openxmlformats.org/drawingml/2006/table">
            <a:tbl>
              <a:tblPr/>
              <a:tblGrid>
                <a:gridCol w="2590920"/>
                <a:gridCol w="4038480"/>
                <a:gridCol w="213372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方位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每个方位写了什么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总的感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56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4" name="Text Box 55"/>
          <p:cNvSpPr/>
          <p:nvPr/>
        </p:nvSpPr>
        <p:spPr>
          <a:xfrm>
            <a:off x="914400" y="304920"/>
            <a:ext cx="7696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广场的北面是雄伟的天安门城楼。城楼前有一条金水河，河上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座汉白玉石桥。金水桥的东、西两侧耸立着一对雕刻精美的汉白玉华表。城楼、小河、石桥、华表组成了一幅美丽、庄严的图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56"/>
          <p:cNvSpPr/>
          <p:nvPr/>
        </p:nvSpPr>
        <p:spPr>
          <a:xfrm>
            <a:off x="609480" y="40384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广场的北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59"/>
          <p:cNvSpPr/>
          <p:nvPr/>
        </p:nvSpPr>
        <p:spPr>
          <a:xfrm>
            <a:off x="2743200" y="40384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雄伟的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天安门城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60"/>
          <p:cNvSpPr/>
          <p:nvPr/>
        </p:nvSpPr>
        <p:spPr>
          <a:xfrm>
            <a:off x="609480" y="457200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城楼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61"/>
          <p:cNvSpPr/>
          <p:nvPr/>
        </p:nvSpPr>
        <p:spPr>
          <a:xfrm>
            <a:off x="2819520" y="4572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条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金水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2"/>
          <p:cNvSpPr/>
          <p:nvPr/>
        </p:nvSpPr>
        <p:spPr>
          <a:xfrm>
            <a:off x="762120" y="51055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河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63"/>
          <p:cNvSpPr/>
          <p:nvPr/>
        </p:nvSpPr>
        <p:spPr>
          <a:xfrm>
            <a:off x="2743200" y="51055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座汉白玉</a:t>
            </a: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石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64"/>
          <p:cNvSpPr/>
          <p:nvPr/>
        </p:nvSpPr>
        <p:spPr>
          <a:xfrm>
            <a:off x="457200" y="5638680"/>
            <a:ext cx="3200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金水桥的东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西两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71"/>
          <p:cNvSpPr/>
          <p:nvPr/>
        </p:nvSpPr>
        <p:spPr>
          <a:xfrm>
            <a:off x="2895480" y="594360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雕刻精美的汉白玉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华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74"/>
          <p:cNvSpPr/>
          <p:nvPr/>
        </p:nvSpPr>
        <p:spPr>
          <a:xfrm>
            <a:off x="701028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城楼、小河、石桥、华表组成了一幅美丽、庄严的图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97"/>
          <p:cNvSpPr/>
          <p:nvPr/>
        </p:nvSpPr>
        <p:spPr>
          <a:xfrm>
            <a:off x="1600200" y="762120"/>
            <a:ext cx="20574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98"/>
          <p:cNvSpPr/>
          <p:nvPr/>
        </p:nvSpPr>
        <p:spPr>
          <a:xfrm>
            <a:off x="7924680" y="838080"/>
            <a:ext cx="5335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99"/>
          <p:cNvSpPr/>
          <p:nvPr/>
        </p:nvSpPr>
        <p:spPr>
          <a:xfrm>
            <a:off x="1066680" y="1295280"/>
            <a:ext cx="3049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00"/>
          <p:cNvSpPr/>
          <p:nvPr/>
        </p:nvSpPr>
        <p:spPr>
          <a:xfrm>
            <a:off x="4267080" y="1295280"/>
            <a:ext cx="838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101"/>
          <p:cNvSpPr/>
          <p:nvPr/>
        </p:nvSpPr>
        <p:spPr>
          <a:xfrm>
            <a:off x="1066680" y="1828800"/>
            <a:ext cx="36576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4T13:44:59Z</dcterms:created>
  <dc:creator/>
  <dc:description/>
  <cp:keywords>幻灯片之家 http:/www.eeppt.com</cp:keywords>
  <dc:language>en-US</dc:language>
  <cp:lastModifiedBy/>
  <dcterms:modified xsi:type="dcterms:W3CDTF">2015-07-03T13:18:03Z</dcterms:modified>
  <cp:revision>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