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838080"/>
            <a:ext cx="8229600" cy="5683320"/>
            <a:chOff x="457200" y="838080"/>
            <a:chExt cx="8229600" cy="5683320"/>
          </a:xfrm>
        </p:grpSpPr>
        <p:sp>
          <p:nvSpPr>
            <p:cNvPr id="2" name=""/>
            <p:cNvSpPr/>
            <p:nvPr/>
          </p:nvSpPr>
          <p:spPr>
            <a:xfrm>
              <a:off x="66294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5146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6294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146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72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294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5146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72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6294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720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5146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572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6294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720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146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572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6294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5720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5146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572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57200" y="838080"/>
              <a:ext cx="8229600" cy="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57200" y="243684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57200" y="274320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57200" y="434808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57200" y="464796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" y="624672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57200" y="6521400"/>
              <a:ext cx="8229600" cy="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" y="838080"/>
              <a:ext cx="0" cy="568332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5146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6294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86800" y="838080"/>
              <a:ext cx="0" cy="568332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笔记文件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1447920" cy="1271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0" y="1143000"/>
            <a:ext cx="1612800" cy="1073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76920" y="3200400"/>
            <a:ext cx="1587240" cy="871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55720" y="2895480"/>
            <a:ext cx="1279440" cy="1295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238880" y="2895480"/>
            <a:ext cx="835200" cy="1295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5257800" y="990720"/>
            <a:ext cx="716040" cy="1295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952880" y="4800600"/>
            <a:ext cx="1397160" cy="1285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819520" y="990720"/>
            <a:ext cx="1371600" cy="1312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990720" y="990720"/>
            <a:ext cx="992160" cy="1295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7010280" y="4800600"/>
            <a:ext cx="1422360" cy="1305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2819520" y="4800600"/>
            <a:ext cx="1523880" cy="1287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762120" y="4800600"/>
            <a:ext cx="1523880" cy="1284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99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25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99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01000" y="2895480"/>
            <a:ext cx="1204920" cy="1295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1536480" cy="1296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62120" y="2895480"/>
            <a:ext cx="1447560" cy="126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895480" y="990720"/>
            <a:ext cx="1371600" cy="1309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838080" y="990720"/>
            <a:ext cx="1270080" cy="1295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2743200" y="3048120"/>
            <a:ext cx="1600200" cy="1087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4800600" y="3048120"/>
            <a:ext cx="1587600" cy="10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7085160" y="990720"/>
            <a:ext cx="1279440" cy="1295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762120" y="480060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3276720" y="4800600"/>
            <a:ext cx="71100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5181480" y="4800600"/>
            <a:ext cx="95580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7086600" y="4800600"/>
            <a:ext cx="1189080" cy="1295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99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25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99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22:39:55Z</dcterms:created>
  <dc:creator/>
  <dc:description/>
  <cp:keywords>幻灯片之家 http:/www.eeppt.com</cp:keywords>
  <dc:language>en-US</dc:language>
  <cp:lastModifiedBy/>
  <dcterms:modified xsi:type="dcterms:W3CDTF">2015-07-12T09:07:56Z</dcterms:modified>
  <cp:revision>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