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58E1-934B-4EC4-8837-CB5D0A324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57BD-4CBA-403B-8FDB-E0F9EDD7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E80F-B08F-4E7C-9C99-4AB8A55E0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E0D-E4C5-4471-80CC-8DCD94A42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8767-ACCA-4703-9A68-5CBB541DA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0310-932E-49DC-A919-33C6284FA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E66A1-34AA-4B30-8490-2A48FC8BA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A2B19-A46E-441C-86FA-931C8DEB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2945-30CE-4F29-ACDD-434D7C904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D3AEA-C8BE-4161-A447-AB8C6558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C9DB-8E5C-4601-95D4-1A2C04F52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980F-75C1-49EA-9370-D3B235ED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DAF41-73E6-446B-B805-0EBA86AE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1A1C-1A1C-4EDA-B5AE-F0A4E51E7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E3B6-92FD-4FB8-90F3-2AEE7478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8A55F-6506-42EE-BDE2-B9CF013C9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B9C24-B526-458B-A674-556376B92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53124-CC30-4062-B49B-8B92F620E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1668-FA06-41F6-8ED0-CF8EE3D15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1979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491160" y="99036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90512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1979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491160" y="3672720"/>
            <a:ext cx="21834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4A107-4AE9-4CBF-95FC-B1058593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42640" y="109440"/>
            <a:ext cx="7162920" cy="27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3E7B-DD9C-44FD-8E80-6CCC9E33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1A95-4869-45B0-A0DF-22A8C162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80200" y="367272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482E-BD80-415F-BE3D-31405DFE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512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80200" y="990360"/>
            <a:ext cx="330912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05120" y="3672720"/>
            <a:ext cx="678168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DE64-695E-402D-831E-BBA44B4F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59960" y="0"/>
            <a:ext cx="284040" cy="6188040"/>
          </a:xfrm>
          <a:prstGeom prst="rect">
            <a:avLst/>
          </a:prstGeom>
          <a:gradFill rotWithShape="0">
            <a:gsLst>
              <a:gs pos="0">
                <a:srgbClr val="878fa5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aphicFrame>
        <p:nvGraphicFramePr>
          <p:cNvPr id="1" name="Object 3"/>
          <p:cNvGraphicFramePr/>
          <p:nvPr/>
        </p:nvGraphicFramePr>
        <p:xfrm>
          <a:off x="0" y="0"/>
          <a:ext cx="3848040" cy="379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3848040" cy="379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Line 4"/>
          <p:cNvSpPr/>
          <p:nvPr/>
        </p:nvSpPr>
        <p:spPr>
          <a:xfrm>
            <a:off x="304920" y="6508800"/>
            <a:ext cx="86104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AutoShape 5"/>
          <p:cNvSpPr/>
          <p:nvPr/>
        </p:nvSpPr>
        <p:spPr>
          <a:xfrm>
            <a:off x="8461440" y="-6480"/>
            <a:ext cx="539640" cy="835200"/>
          </a:xfrm>
          <a:custGeom>
            <a:avLst/>
            <a:gdLst>
              <a:gd name="textAreaLeft" fmla="*/ 0 w 539640"/>
              <a:gd name="textAreaRight" fmla="*/ 540000 w 53964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324c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AutoShape 6"/>
          <p:cNvSpPr/>
          <p:nvPr/>
        </p:nvSpPr>
        <p:spPr>
          <a:xfrm>
            <a:off x="8145360" y="-6480"/>
            <a:ext cx="540000" cy="835200"/>
          </a:xfrm>
          <a:custGeom>
            <a:avLst/>
            <a:gdLst>
              <a:gd name="textAreaLeft" fmla="*/ 0 w 540000"/>
              <a:gd name="textAreaRight" fmla="*/ 540360 w 540000"/>
              <a:gd name="textAreaTop" fmla="*/ 0 h 835200"/>
              <a:gd name="textAreaBottom" fmla="*/ 835560 h 83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6ca5d8"/>
              </a:gs>
              <a:gs pos="100000">
                <a:srgbClr val="324c6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6" name="Group 7"/>
          <p:cNvGrpSpPr/>
          <p:nvPr/>
        </p:nvGrpSpPr>
        <p:grpSpPr>
          <a:xfrm>
            <a:off x="3851280" y="0"/>
            <a:ext cx="4464000" cy="836280"/>
            <a:chOff x="3851280" y="0"/>
            <a:chExt cx="4464000" cy="836280"/>
          </a:xfrm>
        </p:grpSpPr>
        <p:sp>
          <p:nvSpPr>
            <p:cNvPr id="7" name="Rectangle 8"/>
            <p:cNvSpPr/>
            <p:nvPr/>
          </p:nvSpPr>
          <p:spPr>
            <a:xfrm>
              <a:off x="3851280" y="2520"/>
              <a:ext cx="4207680" cy="833760"/>
            </a:xfrm>
            <a:prstGeom prst="rect">
              <a:avLst/>
            </a:prstGeom>
            <a:gradFill rotWithShape="0">
              <a:gsLst>
                <a:gs pos="0">
                  <a:srgbClr val="6ca5d8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7889040" y="0"/>
              <a:ext cx="426240" cy="835200"/>
            </a:xfrm>
            <a:custGeom>
              <a:avLst/>
              <a:gdLst>
                <a:gd name="textAreaLeft" fmla="*/ 0 w 426240"/>
                <a:gd name="textAreaRight" fmla="*/ 426600 w 426240"/>
                <a:gd name="textAreaTop" fmla="*/ 0 h 835200"/>
                <a:gd name="textAreaBottom" fmla="*/ 835560 h 83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6ca5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66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318600" y="652428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6019560" y="6553080"/>
            <a:ext cx="289548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4284720" y="6552720"/>
            <a:ext cx="668160" cy="1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905120" y="990360"/>
            <a:ext cx="678168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d4bc7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175b5b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878fa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5d4bc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d4bc7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4"/>
          </p:nvPr>
        </p:nvSpPr>
        <p:spPr>
          <a:xfrm>
            <a:off x="45684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5"/>
          </p:nvPr>
        </p:nvSpPr>
        <p:spPr>
          <a:xfrm>
            <a:off x="3124080" y="632412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6"/>
          </p:nvPr>
        </p:nvSpPr>
        <p:spPr>
          <a:xfrm>
            <a:off x="6552720" y="632412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D852-5AFE-446A-88FA-D183AE55DB1B}" type="slidenum">
              <a:rPr b="0" lang="zh-CN" sz="14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dabi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8120" y="2437920"/>
            <a:ext cx="579096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Times New Roman"/>
              </a:rPr>
              <a:t>论文名称</a:t>
            </a:r>
            <a:endParaRPr b="1" lang="en-US" sz="5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779640" y="4508280"/>
            <a:ext cx="4895640" cy="15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导   师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答辩人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专    业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916360" y="19177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28640" y="765000"/>
            <a:ext cx="293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毕业答辩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66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论文框架</a:t>
            </a:r>
            <a:endParaRPr b="1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AutoShape 24"/>
          <p:cNvSpPr/>
          <p:nvPr/>
        </p:nvSpPr>
        <p:spPr>
          <a:xfrm>
            <a:off x="2438280" y="2014560"/>
            <a:ext cx="685800" cy="685800"/>
          </a:xfrm>
          <a:prstGeom prst="diamond">
            <a:avLst/>
          </a:prstGeom>
          <a:solidFill>
            <a:srgbClr val="6ca5d8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3276720" y="1773360"/>
            <a:ext cx="34290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0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2594160" y="21128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AutoShape 28"/>
          <p:cNvSpPr/>
          <p:nvPr/>
        </p:nvSpPr>
        <p:spPr>
          <a:xfrm>
            <a:off x="2438280" y="2852640"/>
            <a:ext cx="685800" cy="685800"/>
          </a:xfrm>
          <a:prstGeom prst="diamond">
            <a:avLst/>
          </a:prstGeom>
          <a:solidFill>
            <a:srgbClr val="cbb61d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2594160" y="2951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8" name="AutoShape 32"/>
          <p:cNvSpPr/>
          <p:nvPr/>
        </p:nvSpPr>
        <p:spPr>
          <a:xfrm>
            <a:off x="2438280" y="3691080"/>
            <a:ext cx="685800" cy="685800"/>
          </a:xfrm>
          <a:prstGeom prst="diamond">
            <a:avLst/>
          </a:prstGeom>
          <a:solidFill>
            <a:srgbClr val="5d4bc7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Text Box 34"/>
          <p:cNvSpPr/>
          <p:nvPr/>
        </p:nvSpPr>
        <p:spPr>
          <a:xfrm>
            <a:off x="2594160" y="37893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AutoShape 36"/>
          <p:cNvSpPr/>
          <p:nvPr/>
        </p:nvSpPr>
        <p:spPr>
          <a:xfrm>
            <a:off x="2438280" y="4605480"/>
            <a:ext cx="685800" cy="685800"/>
          </a:xfrm>
          <a:prstGeom prst="diamond">
            <a:avLst/>
          </a:prstGeom>
          <a:solidFill>
            <a:srgbClr val="878fa5"/>
          </a:solidFill>
          <a:ln w="25560">
            <a:solidFill>
              <a:srgbClr val="fefe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1" name="Text Box 38"/>
          <p:cNvSpPr/>
          <p:nvPr/>
        </p:nvSpPr>
        <p:spPr>
          <a:xfrm>
            <a:off x="2594160" y="4703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研究背景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80808"/>
                </a:solidFill>
                <a:latin typeface="Times New Roman"/>
              </a:rPr>
              <a:t>课题方向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2640" y="109440"/>
            <a:ext cx="7162920" cy="7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论文要点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8720" y="4581360"/>
            <a:ext cx="6111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4292640"/>
            <a:ext cx="7400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d4bc7"/>
                </a:solidFill>
                <a:uFillTx/>
                <a:latin typeface="Arial"/>
                <a:hlinkClick r:id="rId1"/>
              </a:rPr>
              <a:t>答辩ppt模板下载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http://www.eeppt.com/moban/dabian/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使用规范说明</a:t>
            </a:r>
            <a:endParaRPr b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1" lang="en-US" sz="15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 </a:t>
            </a:r>
            <a:r>
              <a:rPr b="1" lang="zh-CN" sz="14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1" lang="en-US" sz="14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1" lang="en-US" sz="15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1" lang="en-US" sz="15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1" lang="zh-CN" sz="1300" spc="-1" strike="noStrike" u="sng">
                <a:solidFill>
                  <a:srgbClr val="5d4bc7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3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5d4bc7"/>
              </a:solidFill>
              <a:latin typeface="Times New Roman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66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8152-8C46-4464-9EAE-FD174F03BE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43920"/>
            <a:ext cx="7162920" cy="7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0808"/>
                </a:solidFill>
                <a:latin typeface="Times New Roman"/>
              </a:rPr>
              <a:t>结论</a:t>
            </a:r>
            <a:endParaRPr b="1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968480" y="1306440"/>
            <a:ext cx="6593040" cy="48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d4bc7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WordArt 3"/>
          <p:cNvSpPr txBox="1"/>
          <p:nvPr/>
        </p:nvSpPr>
        <p:spPr>
          <a:xfrm>
            <a:off x="3205080" y="3079800"/>
            <a:ext cx="5399280" cy="114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28440">
                  <a:solidFill>
                    <a:srgbClr val="fefefe"/>
                  </a:solidFill>
                  <a:miter/>
                </a:ln>
                <a:gradFill rotWithShape="0">
                  <a:gsLst>
                    <a:gs pos="0">
                      <a:srgbClr val="cbb61d"/>
                    </a:gs>
                    <a:gs pos="100000">
                      <a:srgbClr val="6ca5d8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80808">
                      <a:alpha val="50000"/>
                    </a:srgbClr>
                  </a:outerShdw>
                </a:effectLst>
                <a:latin typeface="黑体"/>
              </a:rPr>
              <a:t>谢谢大家！</a:t>
            </a:r>
            <a:endParaRPr b="1" lang="en-US" sz="5400" spc="1" strike="noStrike">
              <a:ln w="28440">
                <a:solidFill>
                  <a:srgbClr val="fefefe"/>
                </a:solidFill>
                <a:miter/>
              </a:ln>
              <a:gradFill rotWithShape="0">
                <a:gsLst>
                  <a:gs pos="0">
                    <a:srgbClr val="cbb61d"/>
                  </a:gs>
                  <a:gs pos="100000">
                    <a:srgbClr val="6ca5d8"/>
                  </a:gs>
                </a:gsLst>
                <a:lin ang="10800000"/>
              </a:gradFill>
              <a:effectLst>
                <a:outerShdw dist="71785" dir="2700000" blurRad="0" rotWithShape="0">
                  <a:srgbClr val="080808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05:12:10Z</dcterms:created>
  <dc:creator/>
  <dc:description/>
  <cp:keywords>幻灯片之家 http:/www.eeppt.com</cp:keywords>
  <dc:language>en-US</dc:language>
  <cp:lastModifiedBy/>
  <dcterms:modified xsi:type="dcterms:W3CDTF">2015-07-06T02:16:56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