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B984-6498-4117-8FBA-21FB0483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365724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240" y="397584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9C1-0695-4D21-B500-B8747876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36572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2560" y="36572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240" y="3975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2560" y="3975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927F-84A4-408B-9AED-706CF775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36572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67400" y="36572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3560" y="36572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240" y="39758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67400" y="39758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3560" y="39758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39E5-DDDC-4709-97FA-C9DAF931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19A5-3EBD-4A7B-99AD-E4D9C0F8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3657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8786-7E94-43EF-A07F-2441205E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3657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35FF-B9AD-41A7-8F7F-4A2B0275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36572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2560" y="36572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E46B-21F9-4FF7-B7C8-8D0D13C1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EC5A-BD0C-47EF-BB78-B92119E7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29CE-EBA1-457D-B013-DE24A179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36572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2560" y="36572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3975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8512-F7D0-4495-9A79-AF8B42AE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240" y="3657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6D7-4074-495C-A2D1-46999155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36572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2560" y="36572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2560" y="3975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CC5D-6E27-4D66-8A66-C1B09688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36572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2560" y="36572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397584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448A-2A03-4FD2-8717-B265BB5E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365724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397584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146E-81D9-445E-892E-7131762B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36572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2560" y="36572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3975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2560" y="3975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37A2-EFE7-4783-B8B9-0184CFF4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36572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67400" y="36572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3560" y="36572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39758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67400" y="39758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3560" y="39758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2708-2D22-47A4-A708-06314EE6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240" y="3657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DA4-FDC8-40CD-9056-C3125E20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36572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2560" y="36572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381B-9911-43EA-8D21-000D19AE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C2F-664D-449D-B967-C5335D8D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A8B8-7FBF-4A3A-BAD5-6A0AB527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36572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2560" y="36572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240" y="3975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92EA-19D4-432A-9FFD-07993F84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36572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2560" y="36572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2560" y="3975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2FA-61F8-45EC-8A88-9A6D173C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36572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2560" y="36572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397584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601C-E96D-4EFD-8AC7-2CE3D364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ea5ba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7ea5ba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6413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138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464138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464138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138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464138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46413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138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464138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464138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138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464138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464138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138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464138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138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464138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138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464138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0CCD-C0BE-48D3-B965-EA2E10468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F46A-574E-4E15-89E4-F7C3582B0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138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138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464138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138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138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464138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138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64138"/>
              </a:solidFill>
              <a:latin typeface="Century Gothic"/>
            </a:endParaRPr>
          </a:p>
          <a:p>
            <a:pPr lvl="4" marL="1828800" algn="ctr">
              <a:spcBef>
                <a:spcPts val="451"/>
              </a:spcBef>
              <a:buClr>
                <a:srgbClr val="464138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138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64138"/>
              </a:solidFill>
              <a:latin typeface="Century Gothic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138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64138"/>
              </a:solidFill>
              <a:latin typeface="Century Gothic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138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64138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chuangyi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  <a:ea typeface="宋体"/>
              </a:rPr>
              <a:t>抽象人物</a:t>
            </a:r>
            <a:r>
              <a:rPr b="0" lang="zh-CN" sz="4400" spc="-1" strike="noStrike">
                <a:solidFill>
                  <a:srgbClr val="000000"/>
                </a:solidFill>
                <a:latin typeface="Century Gothic"/>
                <a:ea typeface="宋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entury Gothic"/>
                <a:ea typeface="宋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240" y="3657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entury Gothic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Century Gothic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ea5ba"/>
                </a:solidFill>
                <a:latin typeface="Century Gothic"/>
                <a:ea typeface="宋体"/>
              </a:rPr>
              <a:t>YOUR TOPIC GOES HERE</a:t>
            </a:r>
            <a:endParaRPr b="0" lang="en-US" sz="4400" spc="-1" strike="noStrike">
              <a:solidFill>
                <a:srgbClr val="7ea5ba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6413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138"/>
                </a:solidFill>
                <a:latin typeface="Century Gothic"/>
                <a:ea typeface="宋体"/>
              </a:rPr>
              <a:t>your subtopics go here</a:t>
            </a:r>
            <a:endParaRPr b="0" lang="en-US" sz="2800" spc="-1" strike="noStrike">
              <a:solidFill>
                <a:srgbClr val="46413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宋体"/>
              </a:rPr>
              <a:t>YOUR TOPIC GOES HERE</a:t>
            </a:r>
            <a:endParaRPr b="0" lang="en-US" sz="4400" spc="-1" strike="noStrike">
              <a:solidFill>
                <a:srgbClr val="7ea5ba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宋体"/>
              </a:rPr>
              <a:t>your subtopics go here</a:t>
            </a:r>
            <a:endParaRPr b="0" lang="en-US" sz="2800" spc="-1" strike="noStrike">
              <a:solidFill>
                <a:srgbClr val="464138"/>
              </a:solidFill>
              <a:latin typeface="Century Gothic"/>
            </a:endParaRPr>
          </a:p>
        </p:txBody>
      </p:sp>
      <p:sp>
        <p:nvSpPr>
          <p:cNvPr id="88" name=""/>
          <p:cNvSpPr/>
          <p:nvPr/>
        </p:nvSpPr>
        <p:spPr>
          <a:xfrm>
            <a:off x="920880" y="1693800"/>
            <a:ext cx="6819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创意设计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宋体"/>
              </a:rPr>
              <a:t>transitional pag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宋体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28440" y="7617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宋体"/>
              </a:rPr>
              <a:t>www.animationfactory.co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304812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057400" y="4114800"/>
            <a:ext cx="304812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15000" y="1295280"/>
            <a:ext cx="304812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715000" y="4114800"/>
            <a:ext cx="304812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19:05:07Z</dcterms:created>
  <dc:creator/>
  <dc:description/>
  <cp:keywords>幻灯片之家 http:/www.eeppt.com</cp:keywords>
  <dc:language>en-US</dc:language>
  <cp:lastModifiedBy/>
  <dcterms:modified xsi:type="dcterms:W3CDTF">2015-07-05T07:24:4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