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E9FC-27B6-465C-97AF-7C7FD4DA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146124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996-1112-4482-AB2D-206E2925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1461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1461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745-57D7-44F9-B1C0-6C729024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1426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1426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14612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14612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14612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7615-D1E9-4CA2-8ADB-0DF68D64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76FE-BDCB-48E5-A2F0-0E05E31B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23D4-E308-4E3A-9024-F764DAEF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6B1B-4CB5-467E-9F34-D0652E14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2692-F403-4938-9B7B-F6D0DB75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BFBF-311B-4BF8-93D9-CC573272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AB32-9AAB-4C2E-9A43-53659102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1461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B95C-2CC7-42DE-ABEB-C844A20E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9E71-92E1-44B3-A9E5-B5ABAB04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1461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D063-6BEF-4D30-9FC7-3F9D586D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146124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B818-E4CC-40F2-A15A-171D2A82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146124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3949-F734-4FF7-AE5D-82555414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1461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1461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4BB1-C63A-42D8-B1BE-66E50875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11426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11426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14612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14612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14612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83C2-EE37-42A5-8633-8FE2CCFE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863A-E114-4D80-A737-D017684B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BE1E-D08D-439F-BD6E-59D1F6DF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70B5-C75D-4006-972F-3172AE27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904A-C4D5-45DF-9957-D271EAB6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1461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1DCF-8B6D-463F-BA58-BB9559D0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1461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5DA-ED45-4386-AEB0-B966CA83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146124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A630-6F0A-4309-9C6E-49EF82AE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36EF-A50E-4F2C-B736-F102551E1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62BB-A700-4C08-979C-CF8D88BE2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chuangyi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抽象艺术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Add Title Her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d Text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Pag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520" y="15238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d Text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20880" y="1695600"/>
            <a:ext cx="732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创意设计ppt模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chuangyi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ubble_beauty_qx" descr=""/>
          <p:cNvPicPr/>
          <p:nvPr/>
        </p:nvPicPr>
        <p:blipFill>
          <a:blip r:embed="rId4"/>
          <a:stretch/>
        </p:blipFill>
        <p:spPr>
          <a:xfrm>
            <a:off x="2743200" y="13716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93" name="bubble_beauty_sld" descr=""/>
          <p:cNvPicPr/>
          <p:nvPr/>
        </p:nvPicPr>
        <p:blipFill>
          <a:blip r:embed="rId5"/>
          <a:stretch/>
        </p:blipFill>
        <p:spPr>
          <a:xfrm>
            <a:off x="5715000" y="14479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94" name="bubble_beauty_prt" descr=""/>
          <p:cNvPicPr/>
          <p:nvPr/>
        </p:nvPicPr>
        <p:blipFill>
          <a:blip r:embed="rId6"/>
          <a:stretch/>
        </p:blipFill>
        <p:spPr>
          <a:xfrm>
            <a:off x="2819520" y="38098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95" name="bubble_beauty_trs" descr=""/>
          <p:cNvPicPr/>
          <p:nvPr/>
        </p:nvPicPr>
        <p:blipFill>
          <a:blip r:embed="rId7"/>
          <a:stretch/>
        </p:blipFill>
        <p:spPr>
          <a:xfrm>
            <a:off x="5715000" y="3886200"/>
            <a:ext cx="2590920" cy="194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14:37:46Z</dcterms:created>
  <dc:creator/>
  <dc:description/>
  <cp:keywords>幻灯片之家 http:/www.eeppt.com</cp:keywords>
  <dc:language>en-US</dc:language>
  <cp:lastModifiedBy/>
  <dcterms:modified xsi:type="dcterms:W3CDTF">2015-07-05T07:24:1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