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141-2E10-4A05-B8E2-F123A6D1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73076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1D9-EF99-4FFC-BA20-5E55BAB2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564-321A-4BE9-BEF4-DF60CC9B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A92-181B-4078-9B06-9501AC62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E613-4A6F-4AF5-B840-02AF32C3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085-8F57-495C-A2C0-73A8B3DE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E046-4052-4621-BD32-3EEC3B27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D861-2376-4F75-8490-0BCCDCFF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7BAA-D8B5-439E-B740-A68D8583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0FEE-7558-491E-96C7-CA4AE0D1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6F7B-D656-4360-AA5A-441B408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679-0D18-4104-A8BF-3DB0BE2A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3C2F-E5EF-4173-A479-DB9BA6C3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A868-0F7C-407B-B8C7-B316AFB5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73076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7A77-413B-44E1-B73E-EC5306B2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62A0-6F12-4D28-ABED-3237F7A4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24DE-35F8-4A68-B18E-53D36C22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A6E-C2D1-4729-BE82-E42504F4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748-3A81-4041-A2DE-6AE8F0C1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8A0-2213-49DF-B817-EE73474B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DB0-4EF1-4306-A1A9-DCBA4C60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D86-AAF0-47CF-A8A6-1DBB207C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676-EA14-432F-877A-CD72B5A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AF2-3309-431D-8CB7-CD090992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1E7A-5E1A-416B-8B00-379EEDFCD7E1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507-0AAA-4FEA-BCF8-4BAA2EA9926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抽象艺术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创意设计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chuangy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4:47Z</dcterms:created>
  <dc:creator/>
  <dc:description/>
  <cp:keywords>幻灯片之家 http:/www.eeppt.com</cp:keywords>
  <dc:language>en-US</dc:language>
  <cp:lastModifiedBy/>
  <dcterms:modified xsi:type="dcterms:W3CDTF">2015-07-05T07:34:02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