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7A9-0537-4906-8D5B-3FA1176B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68F-14C6-4805-A29E-70B5733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97C-94D4-4874-9817-9E16E8EC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122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616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122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9616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26F-00EE-45AE-8C3B-5423EAE5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4EB7-6AE7-4A1C-A5CC-C395D5DA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95EF-F3FC-4916-8765-025788F7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7851-E034-4146-81ED-46E8E684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B639-DB09-447D-B5E7-B2505A38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8AFE-0D87-461C-83F2-93584781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5066-8960-4885-A951-0B6B816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1E82-8E1F-4567-9FE3-E898FF0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60F-7F7B-4CBD-BAFC-D3391305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DAAA-FC9D-4E45-8E82-43B0F9C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E1B9-54E1-4DC9-AB8C-2BB851E8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2FEE-0927-402F-9E81-628005E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D31E-5ED5-4235-9AB6-61182DB0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122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9616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122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9616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7BB-95F6-402A-A809-82C42E75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FF6-CC28-45C4-B367-A6A56145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825-820C-4C2C-A705-B534F85E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39F-76B8-48BB-937E-EB0297A1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939-ED20-4A13-A79E-3D476B4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1D7-A9E3-4307-8A12-79D4A74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E37-7298-40A6-91DA-95202ED5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670-6C9B-4903-AB2C-61DA8AA6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CD9A-D8E6-42EE-9A1D-4A6B4441C427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E101-89C9-4E30-BAB3-5466F0BBEBE3}" type="slidenum">
              <a:rPr b="0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86200"/>
            <a:ext cx="9144000" cy="1143000"/>
          </a:xfrm>
          <a:prstGeom prst="rect">
            <a:avLst/>
          </a:prstGeom>
          <a:solidFill>
            <a:srgbClr val="b2b2b2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3957480"/>
            <a:ext cx="1143000" cy="989280"/>
          </a:xfrm>
          <a:prstGeom prst="hexagon">
            <a:avLst>
              <a:gd name="adj" fmla="val 28885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抽象主义</a:t>
            </a: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Eurostile"/>
                <a:ea typeface="宋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Transitional Page</a:t>
            </a:r>
            <a:endParaRPr b="1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urostile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urostile"/>
                <a:ea typeface="宋体"/>
              </a:rPr>
              <a:t>Elements</a:t>
            </a:r>
            <a:endParaRPr b="1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www.animationfactory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89320" y="5108400"/>
            <a:ext cx="2128680" cy="159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26000" y="5108400"/>
            <a:ext cx="2128680" cy="1597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61240" y="5108400"/>
            <a:ext cx="2130480" cy="159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52280" y="5108400"/>
            <a:ext cx="2130480" cy="1597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Eurostile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Eurosti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502-55FC-490F-89E3-9888D06B4E37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/>
  <dc:description/>
  <cp:keywords>幻灯片之家 http:/www.eeppt.com</cp:keywords>
  <dc:language>en-US</dc:language>
  <cp:lastModifiedBy/>
  <dcterms:modified xsi:type="dcterms:W3CDTF">2015-07-12T09:33:09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