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44E-102F-4C91-B891-EDDD97CB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651-7A7E-497B-A8AB-D812FE19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14E-348F-4EC6-92BD-2870DB3A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646-14F6-4BB9-AC25-5B99FC7A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BAD-F49E-4027-A76D-5CB101A5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DEF-E5CD-4E44-81EB-4E311065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429-11F8-4DF9-9098-7B751BDD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31E-F1BA-4ED0-B5C4-E850A4AC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C84-B55F-481C-A4DA-6C757F61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312-DD4A-4F08-A3A5-71C52E53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1C8-0942-472B-A5E1-109FADB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EA4-2D6F-44F7-BCF7-F3BA0527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2AA7-E4AB-4F09-89F3-241A4B9B5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628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666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创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440" y="0"/>
            <a:ext cx="9033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2920" y="0"/>
            <a:ext cx="8858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08240" y="0"/>
            <a:ext cx="4726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0"/>
            <a:ext cx="4572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822240"/>
            <a:ext cx="9144000" cy="5211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00160" y="0"/>
            <a:ext cx="5143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3120" y="0"/>
            <a:ext cx="7997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5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31840" y="0"/>
            <a:ext cx="5080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90D-3BC5-4128-BB96-1D2637202C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1840" y="0"/>
            <a:ext cx="8680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20880" y="169380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1360" y="0"/>
            <a:ext cx="4121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5800" y="0"/>
            <a:ext cx="7230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4800"/>
            <a:ext cx="9144000" cy="6188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76640" y="0"/>
            <a:ext cx="45892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07:04:48Z</dcterms:created>
  <dc:creator/>
  <dc:description/>
  <cp:keywords>幻灯片之家 http:/www.eeppt.com</cp:keywords>
  <dc:language>en-US</dc:language>
  <cp:lastModifiedBy/>
  <dcterms:modified xsi:type="dcterms:W3CDTF">2015-07-06T02:32:4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